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3C0D-1B3E-4DB3-BEAD-DCA3BD74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E700-C0C7-42C9-993D-EC6CCD45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4793-8DA6-43B4-B912-A3F0CDAD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A186-C54E-4295-AF5A-E0456DAE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5D1D-DADD-4FB2-A6DE-4D98FD92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CD72-03DA-4431-B835-4ED2E534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7C21-6C6F-46DF-BB09-0A1358FC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8EC0-F252-403E-8FA4-F1E6BEA9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5FDD-E803-42F6-9178-A141189B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2A5F-6DEA-4C6D-A644-3AFF435D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9E6F-B1C7-444E-9650-F6DAD6A6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891D-525A-4CEF-9B23-FBD14589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471D-2E92-407A-9403-D8071AC2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9013-B9F2-4ACA-9489-F4E17084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5B8E-1304-4F34-B10D-DB37E3DC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DEDC-BEDE-460B-861E-D15124E9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260C-AFD2-4418-924D-E25FDF4C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DA7C-41F7-4DDD-958D-09628C5B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3E86-C48F-41EB-B391-AF909533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D41C-FF5B-4DC9-8ED4-E3CF6F48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26FC-F336-4910-A3B8-F16F821C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415D-7BE3-49DB-9A2A-DEDB9699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0913-25BA-46C5-9332-F604AED9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EC11-AA42-404B-8896-0528A598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FM底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图片 2" descr="FM底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5FE4-8AE1-43E0-BBA0-F4E3886A9290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" descr="FM底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16D4-1BAF-4A2F-967C-BB00F3FB6DFC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4191120" y="6303960"/>
            <a:ext cx="3924360" cy="557280"/>
            <a:chOff x="4191120" y="6303960"/>
            <a:chExt cx="3924360" cy="557280"/>
          </a:xfrm>
        </p:grpSpPr>
        <p:sp>
          <p:nvSpPr>
            <p:cNvPr id="84" name="Freeform 1205"/>
            <p:cNvSpPr/>
            <p:nvPr/>
          </p:nvSpPr>
          <p:spPr>
            <a:xfrm>
              <a:off x="5505120" y="6358320"/>
              <a:ext cx="1294200" cy="502920"/>
            </a:xfrm>
            <a:prstGeom prst="pie">
              <a:avLst/>
            </a:pr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207"/>
            <p:cNvSpPr/>
            <p:nvPr/>
          </p:nvSpPr>
          <p:spPr>
            <a:xfrm>
              <a:off x="5258520" y="6366960"/>
              <a:ext cx="1357560" cy="494280"/>
            </a:xfrm>
            <a:prstGeom prst="pie">
              <a:avLst/>
            </a:pr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208"/>
            <p:cNvSpPr/>
            <p:nvPr/>
          </p:nvSpPr>
          <p:spPr>
            <a:xfrm>
              <a:off x="4645800" y="6370560"/>
              <a:ext cx="1760040" cy="490680"/>
            </a:xfrm>
            <a:prstGeom prst="pie">
              <a:avLst/>
            </a:pr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211"/>
            <p:cNvSpPr/>
            <p:nvPr/>
          </p:nvSpPr>
          <p:spPr>
            <a:xfrm>
              <a:off x="4196160" y="6380280"/>
              <a:ext cx="1917360" cy="480960"/>
            </a:xfrm>
            <a:prstGeom prst="pie">
              <a:avLst/>
            </a:pr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212"/>
            <p:cNvSpPr/>
            <p:nvPr/>
          </p:nvSpPr>
          <p:spPr>
            <a:xfrm>
              <a:off x="4191120" y="6373800"/>
              <a:ext cx="1746360" cy="271440"/>
            </a:xfrm>
            <a:prstGeom prst="pie">
              <a:avLst/>
            </a:prstGeom>
            <a:gradFill rotWithShape="0">
              <a:gsLst>
                <a:gs pos="0">
                  <a:srgbClr val="a6a6a6">
                    <a:alpha val="5098"/>
                  </a:srgbClr>
                </a:gs>
                <a:gs pos="100000">
                  <a:srgbClr val="ffffff">
                    <a:alpha val="28235"/>
                  </a:srgbClr>
                </a:gs>
              </a:gsLst>
              <a:lin ang="4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213"/>
            <p:cNvSpPr/>
            <p:nvPr/>
          </p:nvSpPr>
          <p:spPr>
            <a:xfrm>
              <a:off x="4191120" y="6383160"/>
              <a:ext cx="1422360" cy="182520"/>
            </a:xfrm>
            <a:prstGeom prst="pie">
              <a:avLst/>
            </a:prstGeom>
            <a:gradFill rotWithShape="0">
              <a:gsLst>
                <a:gs pos="0">
                  <a:srgbClr val="a6a6a6">
                    <a:alpha val="0"/>
                  </a:srgbClr>
                </a:gs>
                <a:gs pos="100000">
                  <a:srgbClr val="ffffff">
                    <a:alpha val="28235"/>
                  </a:srgbClr>
                </a:gs>
              </a:gsLst>
              <a:lin ang="4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214"/>
            <p:cNvSpPr/>
            <p:nvPr/>
          </p:nvSpPr>
          <p:spPr>
            <a:xfrm>
              <a:off x="6059880" y="6303960"/>
              <a:ext cx="2055600" cy="557280"/>
            </a:xfrm>
            <a:prstGeom prst="pie">
              <a:avLst/>
            </a:pr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328840" y="165240"/>
            <a:ext cx="600120" cy="609480"/>
            <a:chOff x="2328840" y="165240"/>
            <a:chExt cx="600120" cy="609480"/>
          </a:xfrm>
        </p:grpSpPr>
        <p:sp>
          <p:nvSpPr>
            <p:cNvPr id="92" name="Freeform 1276"/>
            <p:cNvSpPr/>
            <p:nvPr/>
          </p:nvSpPr>
          <p:spPr>
            <a:xfrm>
              <a:off x="2328840" y="165240"/>
              <a:ext cx="600120" cy="448200"/>
            </a:xfrm>
            <a:prstGeom prst="pi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1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281"/>
            <p:cNvSpPr/>
            <p:nvPr/>
          </p:nvSpPr>
          <p:spPr>
            <a:xfrm>
              <a:off x="2529720" y="537480"/>
              <a:ext cx="268200" cy="23724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矩形 56"/>
          <p:cNvSpPr/>
          <p:nvPr/>
        </p:nvSpPr>
        <p:spPr>
          <a:xfrm flipV="1">
            <a:off x="0" y="839520"/>
            <a:ext cx="5160960" cy="46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00">
                  <a:alpha val="7137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7"/>
          <p:cNvSpPr/>
          <p:nvPr/>
        </p:nvSpPr>
        <p:spPr>
          <a:xfrm>
            <a:off x="0" y="920880"/>
            <a:ext cx="9144000" cy="63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00">
                  <a:alpha val="7137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1"/>
          <p:cNvSpPr/>
          <p:nvPr/>
        </p:nvSpPr>
        <p:spPr>
          <a:xfrm>
            <a:off x="165240" y="5742000"/>
            <a:ext cx="581040" cy="43812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d15001"/>
              </a:gs>
            </a:gsLst>
            <a:lin ang="5400000"/>
          </a:gradFill>
          <a:ln w="9360">
            <a:solidFill>
              <a:srgbClr val="927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2"/>
          <p:cNvSpPr/>
          <p:nvPr/>
        </p:nvSpPr>
        <p:spPr>
          <a:xfrm>
            <a:off x="0" y="6081840"/>
            <a:ext cx="766800" cy="3315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d15001"/>
              </a:gs>
            </a:gsLst>
            <a:lin ang="5400000"/>
          </a:gradFill>
          <a:ln w="9360">
            <a:solidFill>
              <a:srgbClr val="927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3"/>
          <p:cNvSpPr/>
          <p:nvPr/>
        </p:nvSpPr>
        <p:spPr>
          <a:xfrm>
            <a:off x="920880" y="5994360"/>
            <a:ext cx="777600" cy="37008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d15001"/>
              </a:gs>
            </a:gsLst>
            <a:lin ang="5400000"/>
          </a:gradFill>
          <a:ln w="9360">
            <a:solidFill>
              <a:srgbClr val="927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4"/>
          <p:cNvSpPr/>
          <p:nvPr/>
        </p:nvSpPr>
        <p:spPr>
          <a:xfrm>
            <a:off x="909720" y="5686560"/>
            <a:ext cx="515880" cy="438120"/>
          </a:xfrm>
          <a:prstGeom prst="pie">
            <a:avLst/>
          </a:prstGeom>
          <a:gradFill rotWithShape="0">
            <a:gsLst>
              <a:gs pos="0">
                <a:srgbClr val="d15001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927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5"/>
          <p:cNvSpPr/>
          <p:nvPr/>
        </p:nvSpPr>
        <p:spPr>
          <a:xfrm>
            <a:off x="598320" y="5530680"/>
            <a:ext cx="398520" cy="59400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d15001"/>
              </a:gs>
            </a:gsLst>
            <a:lin ang="5400000"/>
          </a:gradFill>
          <a:ln w="9360">
            <a:solidFill>
              <a:srgbClr val="927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6"/>
          <p:cNvSpPr/>
          <p:nvPr/>
        </p:nvSpPr>
        <p:spPr>
          <a:xfrm>
            <a:off x="915840" y="5354640"/>
            <a:ext cx="333360" cy="474840"/>
          </a:xfrm>
          <a:prstGeom prst="pie">
            <a:avLst/>
          </a:prstGeom>
          <a:gradFill rotWithShape="0">
            <a:gsLst>
              <a:gs pos="0">
                <a:srgbClr val="d15001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927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7"/>
          <p:cNvSpPr/>
          <p:nvPr/>
        </p:nvSpPr>
        <p:spPr>
          <a:xfrm>
            <a:off x="598320" y="5191200"/>
            <a:ext cx="344520" cy="38412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d15001"/>
              </a:gs>
            </a:gsLst>
            <a:lin ang="5400000"/>
          </a:gradFill>
          <a:ln w="9360">
            <a:solidFill>
              <a:srgbClr val="927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8"/>
          <p:cNvSpPr/>
          <p:nvPr/>
        </p:nvSpPr>
        <p:spPr>
          <a:xfrm>
            <a:off x="274680" y="5365800"/>
            <a:ext cx="404640" cy="48564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d15001"/>
              </a:gs>
            </a:gsLst>
            <a:lin ang="5400000"/>
          </a:gradFill>
          <a:ln w="9360">
            <a:solidFill>
              <a:srgbClr val="927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9"/>
          <p:cNvSpPr/>
          <p:nvPr/>
        </p:nvSpPr>
        <p:spPr>
          <a:xfrm>
            <a:off x="852480" y="6291360"/>
            <a:ext cx="417600" cy="58428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40"/>
          <p:cNvSpPr/>
          <p:nvPr/>
        </p:nvSpPr>
        <p:spPr>
          <a:xfrm>
            <a:off x="787320" y="6512040"/>
            <a:ext cx="185760" cy="1857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41"/>
          <p:cNvSpPr/>
          <p:nvPr/>
        </p:nvSpPr>
        <p:spPr>
          <a:xfrm>
            <a:off x="504720" y="6157800"/>
            <a:ext cx="438120" cy="6955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42"/>
          <p:cNvSpPr/>
          <p:nvPr/>
        </p:nvSpPr>
        <p:spPr>
          <a:xfrm>
            <a:off x="1006560" y="6302520"/>
            <a:ext cx="668160" cy="53964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87440" y="64404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97960" y="125892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红色背景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FC62-434E-4A65-B632-AB4E50BDD8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02:44:0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6Z</dcterms:modified>
  <cp:revision>3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