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7EB-82EF-44DE-96F5-18016B77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A7D-22A2-42B8-8015-5909CD1A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9DA10-43B3-4638-937E-374C4F13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474FC-1475-4ECA-9D13-95805BBF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94CFA-4C52-4CB0-AE43-4EB6A6CC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6A2CF-1C21-43A3-9856-110021F2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9CCD9-4F5D-47CE-BD76-EF5B6202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063BE-3F92-4670-96F9-5BFBF4F7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FAA6A-CD0C-4B3E-800F-539DAA1A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2EA31-31F4-4EDF-B940-1A28C4D3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C12C1-D28D-4B9F-9D0F-B6B52180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2416A-E59D-4053-88EE-944B71C4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2CA-F008-4BDE-B963-E3C32ED1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C8600-5547-4955-8806-14EF8232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9FD27-13EA-4CEC-BEDD-2F53D4B8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B09AE-5060-451D-83F4-A1093498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CDDCC-43F6-4E2A-8C63-15C0A717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263B9-6B20-4B6A-B6F3-3B1C8430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3CC59-D1D8-4B3E-AC0B-A4C6DFC2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F659D-4545-4BA3-A0E8-8DB1FBF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E477E-0F8F-49B5-A9F4-CFFB3FE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5AA9B-9D33-48F2-9080-CF6D89D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BDC7E-1811-455E-8907-827EC4F2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A53-C6C7-418D-ADC9-615D36E8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29AB4-FBE8-4B77-A733-CF8246FD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122BA-14C1-4D23-9EDA-07EFF3A4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D0CCE-EF1B-48AE-B34A-FB4DB622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3B5B5-38C8-4931-98B3-1F934807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5D1A5-2400-4976-BAC7-492BD7F0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BD3C2-529A-44F2-9DCC-ECE3C427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BEF6F-735F-4D2F-A7CF-DF17FE9A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5C36B-42EE-4611-A33A-51687455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5BC34-7E34-4218-937B-EAA4941B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DBA30-8AC1-4068-87B7-0D34178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1B85-5A87-477B-96E3-FDC4B219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CEB33-F978-4941-B3B4-0A845ED0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1192E-CE9E-4F45-B7D9-5FF1398F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DD146-423E-4B17-B7C1-C8DF0C6A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FC1B3-C60F-4FF7-AB83-B965C88E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52BB0-7E93-4331-B507-7D975E1E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E81B1-8C93-445A-B6DE-AE200ECB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8C810-9F76-4FFE-A5B1-13B3671F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77B14-3A6F-4E99-8378-460F50D3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65BB9-A566-46F3-978B-68C2D2F4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360A6-A697-4E76-B771-E150D33D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957E-4266-4C39-8AB1-A3D6A706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41929-E96B-48D2-B217-AE04CD05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DBCE7-7B60-440E-8A4A-42ABBF4A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BD2B7-4283-487C-9CED-4889AD6D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C0FEA-2703-4560-82F1-652E176E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A5159-F8FA-438D-A794-C6E32817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9E29-B280-4E8A-90A0-EDDA1C56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CA51-1C1A-4D3D-A1AC-5B78DCEB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3F11-ACB3-4B79-9D3E-760B7545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996B-8D2F-48A0-82A1-0DAD28B1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92CD-19C3-4FE8-9210-E2AF98B4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43A-1732-41DC-865B-801278BD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A787-D39C-4428-9608-9E280275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1111-9A74-4D7C-B2D8-53C1749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F7C3-0EE1-49CB-9964-2C5F3ECE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80AD-C423-4C1F-95EA-19B2E7CB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71F2-FE89-4D73-939C-C2397A82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390A6-1376-4C06-BA57-EC1BA431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1E1F-44AD-4130-A76B-AC9BD72E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CA6F-8786-4EF2-AA41-6FB6E384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C324-B309-4FA8-808E-EA9B53DD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43B0-3544-4F72-8ADB-D898F5D5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4EB-EBE6-4704-ABD8-43A40F56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A305-3DA8-4FFF-A31C-495527B4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0F80-440C-4A76-B4FE-C5335C69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409A-0E5E-438E-A2B9-85A04A44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424F-7E3E-48C3-B611-7DBA47F9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4C7FE-B8F9-474E-86D2-884E75F7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6AA1-2A20-4D61-BA12-04EA4EF5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8DDB-8528-4114-9D91-7F122925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68A3-4BFD-4E74-BA67-688EC59E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CAD2-3D2B-4BF1-B45B-E8152F01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1DF6-94BD-471F-B688-1C4539DF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770-26D5-439B-BC12-DEED9482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25DD6-4D88-4CED-A087-8E1FE7CB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D257A-BB2C-4649-94F4-5A5EDCFE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7A3D7-A5A5-4C3C-B873-B46CC247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C743F-40C5-466E-AF44-C4949454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B9105-8405-4C4F-9732-D0D53BC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1B8F-6191-4043-B9D7-EBEDD41D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098F7-0853-4789-A5CB-DD31E8C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BDE0-27C0-4DF8-962E-5FBD85FB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EBD26-AC2A-4B2F-9056-64EF7D22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D9784-2C83-489D-9E6F-3E117821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CFE-251F-40DB-A480-A2B29026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A4842-1A43-43FC-88F6-493C56F4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B4AFE-4AAF-4974-9AEF-BB64BE61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18D4F-36DC-438F-8A03-E1D9368B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FB1F1-81C1-4F55-A3BD-69930EAA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819F4-5460-4FE6-8853-242E3571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62718-76EA-461E-B5A1-6240B88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2B79C-88F2-4FA3-B8E1-96DEABC5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ED49E-E0B9-4A7C-9F76-0D7D2D63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40BF3-66F3-4A4D-991C-48B0087C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D9E9-76F2-42F6-810E-9E4D8AD0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EEA-99BE-456F-BA99-B3035F3E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6A9E-278F-40F4-BF2A-2513F815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898B2-6E2B-461A-8985-3B025338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27C42-3FF6-436F-ADF3-DF39E331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4A2F4-94C1-428E-9FA6-ADB1FF4F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A5BF9-3165-45E3-8777-899BE3E4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2D796-8833-4E9F-A697-B723442D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55750-1363-414C-8021-0FF67DD3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CF47B-0E28-47C0-8CC4-AC2E5959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62A2F-3A94-453F-8506-419FDA1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FFED9-A337-4B39-84DD-257CAFC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959-577A-4952-8486-9BB71B60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B0B22-B233-4B3D-BD01-ACCE8B19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6E7F7-A323-496C-9D36-7C0B6E75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DA375-5DCC-4B5B-BC58-9FACFF2A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1E49C-1B6E-48D8-82A3-B2A300E1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8E0EF-7876-425E-A9E4-790AAEE8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52FAC-6733-4E76-9C5D-DC567ECF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D84A9-32A2-4AF5-BA2C-10CAD136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91854-E0C0-424B-8CA2-BFDAB453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98016-F473-466E-AA8E-970EB755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D83EC-0BA0-4980-999C-3E38F475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D31-6CCD-4D88-B047-8A072993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2A259-F1FC-479C-976F-BD6F352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BCA8C-BDE7-44AB-98A5-9E5AA531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F1B0-C8F6-447F-BBFB-5F0F1080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760DB-C3F6-4B06-A268-9C4F8DE3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A496E-B39A-48BA-8CBA-431C28BE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D8E96-A6F0-4E6B-8362-1C8B006C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F76FA-9D1A-407B-8A81-C0D84B51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11B8E-B2F9-4A88-9B70-BB608D38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3EB38-CF57-4E1E-B49D-26003A0E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F1FEC-DEEF-45F0-A6A2-91B7E4C2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B88-99FC-4593-B206-9A3F075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87539-F881-4528-8F27-39FB916D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7BFEE-A317-4043-9995-EB1396D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5E970-8D32-4D14-9192-ECF9C73D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9A805-DEDD-4079-8A3E-8225B3D4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0730E-0A31-4A37-B6D7-0153F3ED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AB4F5-4093-47A8-87FA-B736158B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9B167-2F57-46A1-AF65-EE1B0393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3350F-6C25-47DF-B69D-747D195F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087C6-145A-4E9B-A682-604184CD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B3CDB-D231-4F6D-BCAE-6F91FAC4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ADA1-628F-4F77-9D37-0A8ECA04F74E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793F-8EDE-419F-8C10-B28025B448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A5A4-F6B0-44A0-9DBF-970072CE4275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BCD0-65B6-4D6A-9700-2B11845402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19F8-CDAB-4D14-B3A2-3B3891ACD48D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94C2-D4B6-48E8-AEBE-404B60139D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DD96-2EAD-4817-AB5B-6FA756792E14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818A-93BF-4781-B22E-AD5CF41685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BA2A-7127-475E-B207-341F1DCE9BD4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C855-C691-4D90-8B70-3AF5B50AAC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2087-5487-4865-99AB-32610083543E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E028-C3F7-442F-BBB1-A5E78D307E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0DE0-8CDA-4795-B7D4-5492757C79B4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8EDF-CB8C-4801-9FEE-64FE88DBF5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B0AA-B3D4-4CD8-A3FB-6B00F901F580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0B25-47BD-4CEA-A980-E9E2C20BB7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B390-2A89-46C7-BC9A-FC39AF398633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F028-F53D-414E-BBB8-B911B8E503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8F77-9720-4DD9-B837-E2F4663F66C6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B2C8-A702-4977-BFEC-E41B7C1425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36AB-2582-4AC2-AADB-7F59D33B498C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7080-A412-4F55-A569-D95A789816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4225-D846-4A40-8AFD-4FED38E76842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21A6-CEEF-4DDA-B540-6E7BA8918A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Box 6"/>
          <p:cNvSpPr/>
          <p:nvPr/>
        </p:nvSpPr>
        <p:spPr>
          <a:xfrm>
            <a:off x="4494240" y="5040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·</a:t>
            </a: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그림 4" descr=""/>
          <p:cNvPicPr/>
          <p:nvPr/>
        </p:nvPicPr>
        <p:blipFill>
          <a:blip r:embed="rId2"/>
          <a:stretch/>
        </p:blipFill>
        <p:spPr>
          <a:xfrm>
            <a:off x="2965320" y="2184480"/>
            <a:ext cx="3876840" cy="2781360"/>
          </a:xfrm>
          <a:prstGeom prst="rect">
            <a:avLst/>
          </a:prstGeom>
          <a:ln w="0">
            <a:noFill/>
          </a:ln>
        </p:spPr>
      </p:pic>
      <p:sp>
        <p:nvSpPr>
          <p:cNvPr id="495" name="矩形 1"/>
          <p:cNvSpPr/>
          <p:nvPr/>
        </p:nvSpPr>
        <p:spPr>
          <a:xfrm>
            <a:off x="2952720" y="83520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婚纱照相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CE46-48E7-4C21-A6A6-83134410D3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그림 5" descr=""/>
          <p:cNvPicPr/>
          <p:nvPr/>
        </p:nvPicPr>
        <p:blipFill>
          <a:blip r:embed="rId2"/>
          <a:stretch/>
        </p:blipFill>
        <p:spPr>
          <a:xfrm>
            <a:off x="2965320" y="2184480"/>
            <a:ext cx="3876840" cy="27813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6"/>
          <p:cNvSpPr/>
          <p:nvPr/>
        </p:nvSpPr>
        <p:spPr>
          <a:xfrm>
            <a:off x="4494240" y="5040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·</a:t>
            </a: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그림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2" name="그림 4" descr=""/>
          <p:cNvPicPr/>
          <p:nvPr/>
        </p:nvPicPr>
        <p:blipFill>
          <a:blip r:embed="rId2"/>
          <a:stretch/>
        </p:blipFill>
        <p:spPr>
          <a:xfrm>
            <a:off x="1698480" y="1592280"/>
            <a:ext cx="5734080" cy="3683160"/>
          </a:xfrm>
          <a:prstGeom prst="rect">
            <a:avLst/>
          </a:prstGeom>
          <a:ln cap="sq" w="1440">
            <a:solidFill>
              <a:srgbClr val="000000"/>
            </a:solidFill>
            <a:miter/>
          </a:ln>
        </p:spPr>
      </p:pic>
      <p:sp>
        <p:nvSpPr>
          <p:cNvPr id="503" name="TextBox 8"/>
          <p:cNvSpPr/>
          <p:nvPr/>
        </p:nvSpPr>
        <p:spPr>
          <a:xfrm>
            <a:off x="4302000" y="5353200"/>
            <a:ext cx="32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그림 4" descr=""/>
          <p:cNvPicPr/>
          <p:nvPr/>
        </p:nvPicPr>
        <p:blipFill>
          <a:blip r:embed="rId2"/>
          <a:stretch/>
        </p:blipFill>
        <p:spPr>
          <a:xfrm>
            <a:off x="749160" y="746280"/>
            <a:ext cx="3733920" cy="4457520"/>
          </a:xfrm>
          <a:prstGeom prst="rect">
            <a:avLst/>
          </a:prstGeom>
          <a:ln w="0">
            <a:noFill/>
          </a:ln>
        </p:spPr>
      </p:pic>
      <p:pic>
        <p:nvPicPr>
          <p:cNvPr id="506" name="그림 5" descr=""/>
          <p:cNvPicPr/>
          <p:nvPr/>
        </p:nvPicPr>
        <p:blipFill>
          <a:blip r:embed="rId3"/>
          <a:stretch/>
        </p:blipFill>
        <p:spPr>
          <a:xfrm>
            <a:off x="4657680" y="1554120"/>
            <a:ext cx="3733920" cy="4457880"/>
          </a:xfrm>
          <a:prstGeom prst="rect">
            <a:avLst/>
          </a:prstGeom>
          <a:ln w="0">
            <a:noFill/>
          </a:ln>
        </p:spPr>
      </p:pic>
      <p:sp>
        <p:nvSpPr>
          <p:cNvPr id="507" name="TextBox 6"/>
          <p:cNvSpPr/>
          <p:nvPr/>
        </p:nvSpPr>
        <p:spPr>
          <a:xfrm>
            <a:off x="5257800" y="6078600"/>
            <a:ext cx="324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9" name="그림 4" descr=""/>
          <p:cNvPicPr/>
          <p:nvPr/>
        </p:nvPicPr>
        <p:blipFill>
          <a:blip r:embed="rId2"/>
          <a:stretch/>
        </p:blipFill>
        <p:spPr>
          <a:xfrm>
            <a:off x="727200" y="563400"/>
            <a:ext cx="3352680" cy="2648160"/>
          </a:xfrm>
          <a:prstGeom prst="rect">
            <a:avLst/>
          </a:prstGeom>
          <a:ln w="0">
            <a:noFill/>
          </a:ln>
        </p:spPr>
      </p:pic>
      <p:pic>
        <p:nvPicPr>
          <p:cNvPr id="510" name="그림 5" descr=""/>
          <p:cNvPicPr/>
          <p:nvPr/>
        </p:nvPicPr>
        <p:blipFill>
          <a:blip r:embed="rId3"/>
          <a:stretch/>
        </p:blipFill>
        <p:spPr>
          <a:xfrm>
            <a:off x="4255920" y="577800"/>
            <a:ext cx="4305600" cy="5467320"/>
          </a:xfrm>
          <a:prstGeom prst="rect">
            <a:avLst/>
          </a:prstGeom>
          <a:ln w="0">
            <a:noFill/>
          </a:ln>
        </p:spPr>
      </p:pic>
      <p:pic>
        <p:nvPicPr>
          <p:cNvPr id="511" name="그림 6" descr=""/>
          <p:cNvPicPr/>
          <p:nvPr/>
        </p:nvPicPr>
        <p:blipFill>
          <a:blip r:embed="rId4"/>
          <a:stretch/>
        </p:blipFill>
        <p:spPr>
          <a:xfrm>
            <a:off x="723960" y="3390840"/>
            <a:ext cx="3352680" cy="2648160"/>
          </a:xfrm>
          <a:prstGeom prst="rect">
            <a:avLst/>
          </a:prstGeom>
          <a:ln w="0">
            <a:noFill/>
          </a:ln>
        </p:spPr>
      </p:pic>
      <p:sp>
        <p:nvSpPr>
          <p:cNvPr id="512" name="TextBox 11"/>
          <p:cNvSpPr/>
          <p:nvPr/>
        </p:nvSpPr>
        <p:spPr>
          <a:xfrm>
            <a:off x="5429160" y="6107040"/>
            <a:ext cx="324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그림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Box 4"/>
          <p:cNvSpPr/>
          <p:nvPr/>
        </p:nvSpPr>
        <p:spPr>
          <a:xfrm>
            <a:off x="2308320" y="2421000"/>
            <a:ext cx="4527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나눔명조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"/>
          <p:cNvSpPr/>
          <p:nvPr/>
        </p:nvSpPr>
        <p:spPr>
          <a:xfrm>
            <a:off x="2232000" y="3348000"/>
            <a:ext cx="468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e9e9e"/>
                </a:solidFill>
                <a:latin typeface="나눔명조"/>
              </a:rPr>
              <a:t>이 순간을 영원히 기억하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e9e9e"/>
                </a:solidFill>
                <a:latin typeface="나눔명조"/>
              </a:rPr>
              <a:t>아끼는 마음으로 행복하게 살겠습니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8"/>
          <p:cNvSpPr/>
          <p:nvPr/>
        </p:nvSpPr>
        <p:spPr>
          <a:xfrm>
            <a:off x="3348000" y="6324480"/>
            <a:ext cx="2448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e8e8e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8e8e8e"/>
                </a:solidFill>
                <a:latin typeface="나눔고딕"/>
                <a:ea typeface="나눔고딕"/>
              </a:rPr>
              <a:t>.  </a:t>
            </a:r>
            <a:r>
              <a:rPr b="0" lang="zh-CN" sz="800" spc="-1" strike="noStrike" u="sng">
                <a:solidFill>
                  <a:srgbClr val="7f7f7f"/>
                </a:solidFill>
                <a:uFillTx/>
                <a:latin typeface="나눔고딕"/>
                <a:ea typeface="나눔고딕"/>
                <a:hlinkClick r:id="rId2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e8e8"/>
                </a:solidFill>
                <a:latin typeface="나눔명조"/>
              </a:rPr>
              <a:t>使用规范说明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站点介绍：</a:t>
            </a: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特别说明：</a:t>
            </a: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栏目推荐：</a:t>
            </a: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4:2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29:00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