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82C-5304-42FA-BC81-5D586427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97E-2B8B-48F5-9CB1-0ADA934B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3A7-2F12-48B2-8F2C-222128AF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50C-B2C6-47D9-A99B-46AFB493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C41-CCA4-4866-BD25-04B025A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0EF-60EF-4C00-A4FA-9E1EAEA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3B7-7E58-4678-9AB3-F7575D5E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B33-B189-4EC0-BDD4-86DA5A1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081-3A4E-4FC5-B53E-D3A0FD07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BD9-C8BC-4A23-A31D-1A0959D6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EC0-9E14-4BD6-AFEE-9CA4A7C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0C6-E344-4BA9-932C-C455EE9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2FBC-8313-43BB-BE8E-15F474E8D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625480" y="111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建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803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3"/>
          <p:cNvGrpSpPr/>
          <p:nvPr/>
        </p:nvGrpSpPr>
        <p:grpSpPr>
          <a:xfrm>
            <a:off x="2556000" y="2201760"/>
            <a:ext cx="4895640" cy="684360"/>
            <a:chOff x="2556000" y="2201760"/>
            <a:chExt cx="4895640" cy="684360"/>
          </a:xfrm>
        </p:grpSpPr>
        <p:sp>
          <p:nvSpPr>
            <p:cNvPr id="45" name="任意多边形 5"/>
            <p:cNvSpPr/>
            <p:nvPr/>
          </p:nvSpPr>
          <p:spPr>
            <a:xfrm>
              <a:off x="2556000" y="220176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6"/>
            <p:cNvSpPr/>
            <p:nvPr/>
          </p:nvSpPr>
          <p:spPr>
            <a:xfrm>
              <a:off x="2603880" y="221832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6"/>
          <p:cNvGrpSpPr/>
          <p:nvPr/>
        </p:nvGrpSpPr>
        <p:grpSpPr>
          <a:xfrm>
            <a:off x="2556000" y="2968560"/>
            <a:ext cx="4895640" cy="682560"/>
            <a:chOff x="2556000" y="2968560"/>
            <a:chExt cx="4895640" cy="682560"/>
          </a:xfrm>
        </p:grpSpPr>
        <p:sp>
          <p:nvSpPr>
            <p:cNvPr id="48" name="任意多边形 8"/>
            <p:cNvSpPr/>
            <p:nvPr/>
          </p:nvSpPr>
          <p:spPr>
            <a:xfrm>
              <a:off x="2556000" y="296856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2603880" y="298512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9"/>
          <p:cNvGrpSpPr/>
          <p:nvPr/>
        </p:nvGrpSpPr>
        <p:grpSpPr>
          <a:xfrm>
            <a:off x="2556000" y="3733920"/>
            <a:ext cx="4895640" cy="684000"/>
            <a:chOff x="2556000" y="3733920"/>
            <a:chExt cx="4895640" cy="684000"/>
          </a:xfrm>
        </p:grpSpPr>
        <p:sp>
          <p:nvSpPr>
            <p:cNvPr id="51" name="任意多边形 11"/>
            <p:cNvSpPr/>
            <p:nvPr/>
          </p:nvSpPr>
          <p:spPr>
            <a:xfrm>
              <a:off x="2556000" y="3733920"/>
              <a:ext cx="489564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2603880" y="3750480"/>
              <a:ext cx="479952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2"/>
          <p:cNvGrpSpPr/>
          <p:nvPr/>
        </p:nvGrpSpPr>
        <p:grpSpPr>
          <a:xfrm>
            <a:off x="2556000" y="4500720"/>
            <a:ext cx="4895640" cy="682560"/>
            <a:chOff x="2556000" y="4500720"/>
            <a:chExt cx="4895640" cy="682560"/>
          </a:xfrm>
        </p:grpSpPr>
        <p:sp>
          <p:nvSpPr>
            <p:cNvPr id="54" name="任意多边形 14"/>
            <p:cNvSpPr/>
            <p:nvPr/>
          </p:nvSpPr>
          <p:spPr>
            <a:xfrm>
              <a:off x="2556000" y="4500720"/>
              <a:ext cx="489564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2603880" y="4517280"/>
              <a:ext cx="479952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2556000" y="5265720"/>
            <a:ext cx="4895640" cy="684360"/>
            <a:chOff x="2556000" y="5265720"/>
            <a:chExt cx="4895640" cy="684360"/>
          </a:xfrm>
        </p:grpSpPr>
        <p:sp>
          <p:nvSpPr>
            <p:cNvPr id="57" name="任意多边形 17"/>
            <p:cNvSpPr/>
            <p:nvPr/>
          </p:nvSpPr>
          <p:spPr>
            <a:xfrm>
              <a:off x="2556000" y="5265720"/>
              <a:ext cx="489564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53753" dir="2700000" blurRad="0" rotWithShape="0">
                <a:srgbClr val="000000">
                  <a:alpha val="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8"/>
            <p:cNvSpPr/>
            <p:nvPr/>
          </p:nvSpPr>
          <p:spPr>
            <a:xfrm>
              <a:off x="2603880" y="5282280"/>
              <a:ext cx="479952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1619280" y="1395360"/>
            <a:ext cx="5832360" cy="684360"/>
            <a:chOff x="1619280" y="1395360"/>
            <a:chExt cx="5832360" cy="684360"/>
          </a:xfrm>
        </p:grpSpPr>
        <p:sp>
          <p:nvSpPr>
            <p:cNvPr id="60" name="任意多边形 23"/>
            <p:cNvSpPr/>
            <p:nvPr/>
          </p:nvSpPr>
          <p:spPr>
            <a:xfrm>
              <a:off x="1619280" y="1395360"/>
              <a:ext cx="583236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round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1654560" y="1408680"/>
              <a:ext cx="5759640" cy="659160"/>
              <a:chOff x="1654560" y="1408680"/>
              <a:chExt cx="5759640" cy="659160"/>
            </a:xfrm>
          </p:grpSpPr>
          <p:pic>
            <p:nvPicPr>
              <p:cNvPr id="6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4560" y="1408680"/>
                <a:ext cx="575964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22"/>
              <p:cNvSpPr/>
              <p:nvPr/>
            </p:nvSpPr>
            <p:spPr>
              <a:xfrm>
                <a:off x="1666080" y="1411560"/>
                <a:ext cx="573804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23"/>
          <p:cNvGrpSpPr/>
          <p:nvPr/>
        </p:nvGrpSpPr>
        <p:grpSpPr>
          <a:xfrm>
            <a:off x="1620720" y="2201760"/>
            <a:ext cx="719280" cy="684360"/>
            <a:chOff x="1620720" y="2201760"/>
            <a:chExt cx="719280" cy="684360"/>
          </a:xfrm>
        </p:grpSpPr>
        <p:sp>
          <p:nvSpPr>
            <p:cNvPr id="65" name="圆角矩形 26"/>
            <p:cNvSpPr/>
            <p:nvPr/>
          </p:nvSpPr>
          <p:spPr>
            <a:xfrm>
              <a:off x="1620720" y="220176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1649880" y="2212920"/>
              <a:ext cx="659160" cy="665280"/>
              <a:chOff x="1649880" y="2212920"/>
              <a:chExt cx="659160" cy="665280"/>
            </a:xfrm>
          </p:grpSpPr>
          <p:pic>
            <p:nvPicPr>
              <p:cNvPr id="6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880" y="221292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 Box 27"/>
              <p:cNvSpPr/>
              <p:nvPr/>
            </p:nvSpPr>
            <p:spPr>
              <a:xfrm>
                <a:off x="1686960" y="22500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" name="Group 28"/>
          <p:cNvGrpSpPr/>
          <p:nvPr/>
        </p:nvGrpSpPr>
        <p:grpSpPr>
          <a:xfrm>
            <a:off x="1620720" y="2968560"/>
            <a:ext cx="719280" cy="682560"/>
            <a:chOff x="1620720" y="2968560"/>
            <a:chExt cx="719280" cy="682560"/>
          </a:xfrm>
        </p:grpSpPr>
        <p:sp>
          <p:nvSpPr>
            <p:cNvPr id="70" name="圆角矩形 29"/>
            <p:cNvSpPr/>
            <p:nvPr/>
          </p:nvSpPr>
          <p:spPr>
            <a:xfrm>
              <a:off x="1620720" y="296856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1649880" y="2981880"/>
              <a:ext cx="659160" cy="657360"/>
              <a:chOff x="1649880" y="2981880"/>
              <a:chExt cx="659160" cy="657360"/>
            </a:xfrm>
          </p:grpSpPr>
          <p:pic>
            <p:nvPicPr>
              <p:cNvPr id="7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649880" y="2981880"/>
                <a:ext cx="65916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32"/>
              <p:cNvSpPr/>
              <p:nvPr/>
            </p:nvSpPr>
            <p:spPr>
              <a:xfrm>
                <a:off x="1686960" y="30164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Group 33"/>
          <p:cNvGrpSpPr/>
          <p:nvPr/>
        </p:nvGrpSpPr>
        <p:grpSpPr>
          <a:xfrm>
            <a:off x="1620720" y="3733920"/>
            <a:ext cx="719280" cy="684000"/>
            <a:chOff x="1620720" y="3733920"/>
            <a:chExt cx="719280" cy="684000"/>
          </a:xfrm>
        </p:grpSpPr>
        <p:sp>
          <p:nvSpPr>
            <p:cNvPr id="75" name="圆角矩形 32"/>
            <p:cNvSpPr/>
            <p:nvPr/>
          </p:nvSpPr>
          <p:spPr>
            <a:xfrm>
              <a:off x="1620720" y="3733920"/>
              <a:ext cx="71928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5"/>
            <p:cNvGrpSpPr/>
            <p:nvPr/>
          </p:nvGrpSpPr>
          <p:grpSpPr>
            <a:xfrm>
              <a:off x="1649880" y="3743280"/>
              <a:ext cx="659160" cy="664920"/>
              <a:chOff x="1649880" y="3743280"/>
              <a:chExt cx="659160" cy="664920"/>
            </a:xfrm>
          </p:grpSpPr>
          <p:pic>
            <p:nvPicPr>
              <p:cNvPr id="7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649880" y="3743280"/>
                <a:ext cx="65916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Text Box 37"/>
              <p:cNvSpPr/>
              <p:nvPr/>
            </p:nvSpPr>
            <p:spPr>
              <a:xfrm>
                <a:off x="1686960" y="378216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Group 38"/>
          <p:cNvGrpSpPr/>
          <p:nvPr/>
        </p:nvGrpSpPr>
        <p:grpSpPr>
          <a:xfrm>
            <a:off x="1620720" y="4500720"/>
            <a:ext cx="719280" cy="682560"/>
            <a:chOff x="1620720" y="4500720"/>
            <a:chExt cx="719280" cy="682560"/>
          </a:xfrm>
        </p:grpSpPr>
        <p:sp>
          <p:nvSpPr>
            <p:cNvPr id="80" name="圆角矩形 35"/>
            <p:cNvSpPr/>
            <p:nvPr/>
          </p:nvSpPr>
          <p:spPr>
            <a:xfrm>
              <a:off x="1620720" y="4500720"/>
              <a:ext cx="71928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40"/>
            <p:cNvGrpSpPr/>
            <p:nvPr/>
          </p:nvGrpSpPr>
          <p:grpSpPr>
            <a:xfrm>
              <a:off x="1649880" y="4512240"/>
              <a:ext cx="659160" cy="663480"/>
              <a:chOff x="1649880" y="4512240"/>
              <a:chExt cx="659160" cy="663480"/>
            </a:xfrm>
          </p:grpSpPr>
          <p:pic>
            <p:nvPicPr>
              <p:cNvPr id="8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49880" y="4512240"/>
                <a:ext cx="659160" cy="66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42"/>
              <p:cNvSpPr/>
              <p:nvPr/>
            </p:nvSpPr>
            <p:spPr>
              <a:xfrm>
                <a:off x="1686960" y="454860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43"/>
          <p:cNvGrpSpPr/>
          <p:nvPr/>
        </p:nvGrpSpPr>
        <p:grpSpPr>
          <a:xfrm>
            <a:off x="1620720" y="5265720"/>
            <a:ext cx="719280" cy="684360"/>
            <a:chOff x="1620720" y="5265720"/>
            <a:chExt cx="719280" cy="684360"/>
          </a:xfrm>
        </p:grpSpPr>
        <p:sp>
          <p:nvSpPr>
            <p:cNvPr id="85" name="圆角矩形 38"/>
            <p:cNvSpPr/>
            <p:nvPr/>
          </p:nvSpPr>
          <p:spPr>
            <a:xfrm>
              <a:off x="1620720" y="5265720"/>
              <a:ext cx="71928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45"/>
            <p:cNvGrpSpPr/>
            <p:nvPr/>
          </p:nvGrpSpPr>
          <p:grpSpPr>
            <a:xfrm>
              <a:off x="1649880" y="5273280"/>
              <a:ext cx="659160" cy="665280"/>
              <a:chOff x="1649880" y="5273280"/>
              <a:chExt cx="659160" cy="665280"/>
            </a:xfrm>
          </p:grpSpPr>
          <p:pic>
            <p:nvPicPr>
              <p:cNvPr id="8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649880" y="5273280"/>
                <a:ext cx="65916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Text Box 47"/>
              <p:cNvSpPr/>
              <p:nvPr/>
            </p:nvSpPr>
            <p:spPr>
              <a:xfrm>
                <a:off x="1686960" y="5313600"/>
                <a:ext cx="5864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" descr=""/>
          <p:cNvPicPr/>
          <p:nvPr/>
        </p:nvPicPr>
        <p:blipFill>
          <a:blip r:embed="rId14"/>
          <a:stretch/>
        </p:blipFill>
        <p:spPr>
          <a:xfrm>
            <a:off x="11160" y="0"/>
            <a:ext cx="913284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1" descr=""/>
          <p:cNvPicPr/>
          <p:nvPr/>
        </p:nvPicPr>
        <p:blipFill>
          <a:blip r:embed="rId15"/>
          <a:stretch/>
        </p:blipFill>
        <p:spPr>
          <a:xfrm>
            <a:off x="1695600" y="1712880"/>
            <a:ext cx="63324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12:00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0:2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