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wmf" ContentType="image/x-wmf"/>
  <Override PartName="/ppt/media/image12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jpeg" ContentType="image/jpeg"/>
  <Override PartName="/ppt/media/image19.png" ContentType="image/png"/>
  <Override PartName="/ppt/media/image24.png" ContentType="image/png"/>
  <Override PartName="/ppt/media/image23.png" ContentType="image/png"/>
  <Override PartName="/ppt/media/image21.jpeg" ContentType="image/jpe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22.jpeg" ContentType="image/jpeg"/>
  <Override PartName="/ppt/media/image1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71F-8829-4D00-B6B0-10E40DC2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974-D061-4EA9-B74C-A6CE09D3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F756-65C3-4C9B-A212-680FF3FA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B974-1E4B-481B-8ED9-0190E098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CE9-C2BC-4BC0-B5BC-E6D18117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997-2BBA-4858-AB94-52030C5C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584-4B59-4380-AABE-0472ED92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F46-FECF-424C-8D2F-6A115BA9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6C06-E035-49E8-A7BB-4383F275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340F-07F7-42EE-ACA2-D68A86F2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1EA5-123C-4B0F-A162-FEB3B9A3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B3E5-90BF-4CD7-94DE-052B314D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4EC7-5163-4908-91BB-9808DDB7DD3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wmf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jpe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8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image" Target="../media/image8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笑脸 6"/>
          <p:cNvSpPr/>
          <p:nvPr/>
        </p:nvSpPr>
        <p:spPr>
          <a:xfrm>
            <a:off x="7543800" y="2819520"/>
            <a:ext cx="1371600" cy="1371600"/>
          </a:xfrm>
          <a:prstGeom prst="smileyFace">
            <a:avLst>
              <a:gd name="adj" fmla="val 9282"/>
            </a:avLst>
          </a:prstGeom>
          <a:solidFill>
            <a:srgbClr val="ff859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笑脸 5"/>
          <p:cNvSpPr/>
          <p:nvPr/>
        </p:nvSpPr>
        <p:spPr>
          <a:xfrm>
            <a:off x="304920" y="2819520"/>
            <a:ext cx="1371600" cy="1371600"/>
          </a:xfrm>
          <a:prstGeom prst="smileyFace">
            <a:avLst>
              <a:gd name="adj" fmla="val 9282"/>
            </a:avLst>
          </a:prstGeom>
          <a:solidFill>
            <a:srgbClr val="bbf2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"/>
          <p:cNvPicPr/>
          <p:nvPr/>
        </p:nvPicPr>
        <p:blipFill>
          <a:blip r:embed="rId2"/>
          <a:stretch/>
        </p:blipFill>
        <p:spPr>
          <a:xfrm>
            <a:off x="4638600" y="4648320"/>
            <a:ext cx="1457280" cy="53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0" descr=""/>
          <p:cNvPicPr/>
          <p:nvPr/>
        </p:nvPicPr>
        <p:blipFill>
          <a:blip r:embed="rId3"/>
          <a:stretch/>
        </p:blipFill>
        <p:spPr>
          <a:xfrm>
            <a:off x="2819520" y="5181480"/>
            <a:ext cx="1981080" cy="129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1" descr=""/>
          <p:cNvPicPr/>
          <p:nvPr/>
        </p:nvPicPr>
        <p:blipFill>
          <a:blip r:embed="rId4"/>
          <a:stretch/>
        </p:blipFill>
        <p:spPr>
          <a:xfrm>
            <a:off x="4800600" y="5181480"/>
            <a:ext cx="1287360" cy="1295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2" descr=""/>
          <p:cNvPicPr/>
          <p:nvPr/>
        </p:nvPicPr>
        <p:blipFill>
          <a:blip r:embed="rId5"/>
          <a:stretch/>
        </p:blipFill>
        <p:spPr>
          <a:xfrm>
            <a:off x="2819520" y="4648320"/>
            <a:ext cx="1828800" cy="533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01"/>
          <p:cNvPicPr/>
          <p:nvPr/>
        </p:nvPicPr>
        <p:blipFill>
          <a:blip r:embed="rId6"/>
          <a:stretch/>
        </p:blipFill>
        <p:spPr>
          <a:xfrm>
            <a:off x="3962520" y="3819600"/>
            <a:ext cx="1143000" cy="10573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7"/>
          <p:cNvSpPr/>
          <p:nvPr/>
        </p:nvSpPr>
        <p:spPr>
          <a:xfrm>
            <a:off x="1828800" y="40384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7cd2"/>
                </a:solidFill>
                <a:latin typeface="Arial"/>
                <a:ea typeface="华文彩云"/>
              </a:rPr>
              <a:t>新 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8"/>
          <p:cNvSpPr/>
          <p:nvPr/>
        </p:nvSpPr>
        <p:spPr>
          <a:xfrm>
            <a:off x="2895480" y="4048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7cd2"/>
                </a:solidFill>
                <a:latin typeface="Arial"/>
                <a:ea typeface="华文彩云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0"/>
          <p:cNvSpPr/>
          <p:nvPr/>
        </p:nvSpPr>
        <p:spPr>
          <a:xfrm>
            <a:off x="5105520" y="4048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7cd2"/>
                </a:solidFill>
                <a:latin typeface="Arial"/>
                <a:ea typeface="华文彩云"/>
              </a:rPr>
              <a:t>新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6019920" y="4038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e7cd2"/>
                </a:solidFill>
                <a:latin typeface="Arial"/>
                <a:ea typeface="华文彩云"/>
              </a:rPr>
              <a:t>姓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2" descr="MCj02389350000[1]"/>
          <p:cNvPicPr/>
          <p:nvPr/>
        </p:nvPicPr>
        <p:blipFill>
          <a:blip r:embed="rId7"/>
          <a:stretch/>
        </p:blipFill>
        <p:spPr>
          <a:xfrm rot="2433600">
            <a:off x="-1979280" y="1599840"/>
            <a:ext cx="1749600" cy="6429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4"/>
          <p:cNvSpPr/>
          <p:nvPr/>
        </p:nvSpPr>
        <p:spPr>
          <a:xfrm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5"/>
          <p:cNvSpPr/>
          <p:nvPr/>
        </p:nvSpPr>
        <p:spPr>
          <a:xfrm>
            <a:off x="0" y="56386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诚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见证我们的婚礼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9" descr=""/>
          <p:cNvPicPr/>
          <p:nvPr/>
        </p:nvPicPr>
        <p:blipFill>
          <a:blip r:embed="rId8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0" descr="图片2"/>
          <p:cNvPicPr/>
          <p:nvPr/>
        </p:nvPicPr>
        <p:blipFill>
          <a:blip r:embed="rId9"/>
          <a:stretch/>
        </p:blipFill>
        <p:spPr>
          <a:xfrm>
            <a:off x="0" y="0"/>
            <a:ext cx="9144000" cy="5737320"/>
          </a:xfrm>
          <a:prstGeom prst="rect">
            <a:avLst/>
          </a:prstGeom>
          <a:ln w="0">
            <a:noFill/>
          </a:ln>
        </p:spPr>
      </p:pic>
      <p:sp>
        <p:nvSpPr>
          <p:cNvPr id="5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0.325 -1.11111E-006 E">
                                      <p:cBhvr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11111E-006 L -0.33333 -1.11111E-006 E">
                                      <p:cBhvr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-1.11111E-006 L 0.39167 -1.11111E-006 E">
                                      <p:cBhvr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6667 -1.11111E-006 L -0.4 -1.11111E-006 E">
                                      <p:cBhvr>
                                        <p:cTn id="31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167 -1.11111E-006 L -0.00833 -0.37778 E">
                                      <p:cBhvr>
                                        <p:cTn id="44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 -1.11111E-006 L -0.675 -0.37778 E">
                                      <p:cBhvr>
                                        <p:cTn id="4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0.12579 C 0.18282 -0.037 0.36545 0.05317 0.57292 0.0289 C 0.78091 0.00485 1.13368 -0.21943 1.24601 -0.26868 E">
                                      <p:cBhvr>
                                        <p:cTn id="65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879880">
                                      <p:cBhvr>
                                        <p:cTn id="6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aeaea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2"/>
          <p:cNvSpPr/>
          <p:nvPr/>
        </p:nvSpPr>
        <p:spPr>
          <a:xfrm flipH="1" flipV="1">
            <a:off x="3886200" y="990720"/>
            <a:ext cx="129528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0" descr="图片12"/>
          <p:cNvPicPr/>
          <p:nvPr/>
        </p:nvPicPr>
        <p:blipFill>
          <a:blip r:embed="rId2"/>
          <a:stretch/>
        </p:blipFill>
        <p:spPr>
          <a:xfrm>
            <a:off x="838080" y="1065240"/>
            <a:ext cx="7348680" cy="481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5" descr="图片2"/>
          <p:cNvPicPr/>
          <p:nvPr/>
        </p:nvPicPr>
        <p:blipFill>
          <a:blip r:embed="rId3"/>
          <a:stretch/>
        </p:blipFill>
        <p:spPr>
          <a:xfrm>
            <a:off x="3657600" y="1066680"/>
            <a:ext cx="1447920" cy="48006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6"/>
          <p:cNvGrpSpPr/>
          <p:nvPr/>
        </p:nvGrpSpPr>
        <p:grpSpPr>
          <a:xfrm>
            <a:off x="3666960" y="990360"/>
            <a:ext cx="914400" cy="5028480"/>
            <a:chOff x="3666960" y="990360"/>
            <a:chExt cx="914400" cy="5028480"/>
          </a:xfrm>
        </p:grpSpPr>
        <p:grpSp>
          <p:nvGrpSpPr>
            <p:cNvPr id="64" name="Group 7"/>
            <p:cNvGrpSpPr/>
            <p:nvPr/>
          </p:nvGrpSpPr>
          <p:grpSpPr>
            <a:xfrm>
              <a:off x="3666960" y="995400"/>
              <a:ext cx="533520" cy="5023440"/>
              <a:chOff x="3666960" y="995400"/>
              <a:chExt cx="533520" cy="5023440"/>
            </a:xfrm>
          </p:grpSpPr>
          <p:sp>
            <p:nvSpPr>
              <p:cNvPr id="65" name="Rectangle 5"/>
              <p:cNvSpPr/>
              <p:nvPr/>
            </p:nvSpPr>
            <p:spPr>
              <a:xfrm flipV="1">
                <a:off x="3666960" y="995400"/>
                <a:ext cx="533520" cy="50155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4"/>
              <p:cNvSpPr/>
              <p:nvPr/>
            </p:nvSpPr>
            <p:spPr>
              <a:xfrm flipH="1" flipV="1">
                <a:off x="3894840" y="1002600"/>
                <a:ext cx="304920" cy="5016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>
                      <a:alpha val="0"/>
                    </a:srgbClr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Rectangle 25"/>
            <p:cNvSpPr/>
            <p:nvPr/>
          </p:nvSpPr>
          <p:spPr>
            <a:xfrm flipH="1" flipV="1">
              <a:off x="4200480" y="990000"/>
              <a:ext cx="380880" cy="501948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11"/>
          <p:cNvGrpSpPr/>
          <p:nvPr/>
        </p:nvGrpSpPr>
        <p:grpSpPr>
          <a:xfrm>
            <a:off x="4581360" y="985320"/>
            <a:ext cx="890640" cy="5028480"/>
            <a:chOff x="4581360" y="985320"/>
            <a:chExt cx="890640" cy="5028480"/>
          </a:xfrm>
        </p:grpSpPr>
        <p:sp>
          <p:nvSpPr>
            <p:cNvPr id="69" name="Rectangle 18"/>
            <p:cNvSpPr/>
            <p:nvPr/>
          </p:nvSpPr>
          <p:spPr>
            <a:xfrm flipH="1" flipV="1">
              <a:off x="4938480" y="984960"/>
              <a:ext cx="533520" cy="502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9"/>
            <p:cNvSpPr/>
            <p:nvPr/>
          </p:nvSpPr>
          <p:spPr>
            <a:xfrm flipV="1">
              <a:off x="4938480" y="989640"/>
              <a:ext cx="304920" cy="5023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26"/>
            <p:cNvSpPr/>
            <p:nvPr/>
          </p:nvSpPr>
          <p:spPr>
            <a:xfrm flipV="1">
              <a:off x="4581360" y="987120"/>
              <a:ext cx="380880" cy="5023800"/>
            </a:xfrm>
            <a:prstGeom prst="rect">
              <a:avLst/>
            </a:prstGeom>
            <a:gradFill rotWithShape="0">
              <a:gsLst>
                <a:gs pos="0">
                  <a:srgbClr val="3b3b3b">
                    <a:alpha val="0"/>
                  </a:srgbClr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" name="Picture 55" descr="图片4"/>
          <p:cNvPicPr/>
          <p:nvPr/>
        </p:nvPicPr>
        <p:blipFill>
          <a:blip r:embed="rId4"/>
          <a:stretch/>
        </p:blipFill>
        <p:spPr>
          <a:xfrm>
            <a:off x="6781680" y="2514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结婚证书"/>
          <p:cNvPicPr/>
          <p:nvPr/>
        </p:nvPicPr>
        <p:blipFill>
          <a:blip r:embed="rId5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7" descr=""/>
          <p:cNvPicPr/>
          <p:nvPr/>
        </p:nvPicPr>
        <p:blipFill>
          <a:blip r:embed="rId6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8" descr="图片2"/>
          <p:cNvPicPr/>
          <p:nvPr/>
        </p:nvPicPr>
        <p:blipFill>
          <a:blip r:embed="rId7"/>
          <a:stretch/>
        </p:blipFill>
        <p:spPr>
          <a:xfrm>
            <a:off x="9601200" y="2589120"/>
            <a:ext cx="1390680" cy="13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6" presetSubtype="21">
                                  <p:stCondLst>
                                    <p:cond delay="200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7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3000" fill="hold"/>
                                        <p:tgtEl>
                                          <p:spTgt spid="63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3000" fill="hold"/>
                                        <p:tgtEl>
                                          <p:spTgt spid="68"/>
                                        </p:tgtEl>
                                      </p:cBhvr>
                                      <p:to x="3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77778E-006 -1.15607E-006 L 0.36702 -0.00208 E">
                                      <p:cBhvr>
                                        <p:cTn id="181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3.00578E-006 L -0.375 3.00578E-006 E">
                                      <p:cBhvr>
                                        <p:cTn id="183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5" dur="3100" fill="hold"/>
                                        <p:tgtEl>
                                          <p:spTgt spid="60"/>
                                        </p:tgtEl>
                                      </p:cBhvr>
                                      <p:to x="6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29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200"/>
                            </p:stCondLst>
                            <p:childTnLst>
                              <p:par>
                                <p:cTn id="1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4624E-007 L -0.33437 0.16601 E">
                                      <p:cBhvr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4"/>
          <p:cNvSpPr/>
          <p:nvPr/>
        </p:nvSpPr>
        <p:spPr>
          <a:xfrm>
            <a:off x="0" y="0"/>
            <a:ext cx="7086600" cy="2819520"/>
          </a:xfrm>
          <a:prstGeom prst="rect">
            <a:avLst/>
          </a:prstGeom>
          <a:gradFill rotWithShape="0">
            <a:gsLst>
              <a:gs pos="0">
                <a:srgbClr val="819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6" descr="图片9"/>
          <p:cNvPicPr/>
          <p:nvPr/>
        </p:nvPicPr>
        <p:blipFill>
          <a:blip r:embed="rId1"/>
          <a:stretch/>
        </p:blipFill>
        <p:spPr>
          <a:xfrm>
            <a:off x="7924680" y="4724280"/>
            <a:ext cx="1548000" cy="2752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4" descr="图片8"/>
          <p:cNvPicPr/>
          <p:nvPr/>
        </p:nvPicPr>
        <p:blipFill>
          <a:blip r:embed="rId2"/>
          <a:stretch/>
        </p:blipFill>
        <p:spPr>
          <a:xfrm>
            <a:off x="3733920" y="4419720"/>
            <a:ext cx="2598480" cy="3049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"/>
          <p:cNvPicPr/>
          <p:nvPr/>
        </p:nvPicPr>
        <p:blipFill>
          <a:blip r:embed="rId3"/>
          <a:stretch/>
        </p:blipFill>
        <p:spPr>
          <a:xfrm>
            <a:off x="1143000" y="4348080"/>
            <a:ext cx="609480" cy="39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"/>
          <p:cNvPicPr/>
          <p:nvPr/>
        </p:nvPicPr>
        <p:blipFill>
          <a:blip r:embed="rId4"/>
          <a:stretch/>
        </p:blipFill>
        <p:spPr>
          <a:xfrm>
            <a:off x="6400800" y="4371840"/>
            <a:ext cx="409680" cy="228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5" descr=""/>
          <p:cNvPicPr/>
          <p:nvPr/>
        </p:nvPicPr>
        <p:blipFill>
          <a:blip r:embed="rId5"/>
          <a:stretch/>
        </p:blipFill>
        <p:spPr>
          <a:xfrm>
            <a:off x="6248520" y="4500720"/>
            <a:ext cx="409320" cy="228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1" descr=""/>
          <p:cNvPicPr/>
          <p:nvPr/>
        </p:nvPicPr>
        <p:blipFill>
          <a:blip r:embed="rId6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4" name="Picture 32" descr="图片6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16"/>
            <p:cNvSpPr/>
            <p:nvPr/>
          </p:nvSpPr>
          <p:spPr>
            <a:xfrm>
              <a:off x="990720" y="4114800"/>
              <a:ext cx="990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f5f5f"/>
                  </a:solidFill>
                  <a:latin typeface="Arial"/>
                  <a:ea typeface="华文行楷"/>
                </a:rPr>
                <a:t>老婆</a:t>
              </a:r>
              <a:r>
                <a:rPr b="0" lang="zh-CN" sz="2000" spc="-1" strike="noStrike">
                  <a:solidFill>
                    <a:srgbClr val="5f5f5f"/>
                  </a:solidFill>
                  <a:latin typeface="Arial"/>
                  <a:ea typeface="宋体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f5f5f"/>
                  </a:solidFill>
                  <a:latin typeface="Arial"/>
                  <a:ea typeface="华文行楷"/>
                </a:rPr>
                <a:t>我爱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7"/>
            <p:cNvSpPr/>
            <p:nvPr/>
          </p:nvSpPr>
          <p:spPr>
            <a:xfrm>
              <a:off x="6248520" y="3962520"/>
              <a:ext cx="990360" cy="13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f5f5f"/>
                  </a:solidFill>
                  <a:latin typeface="Arial"/>
                  <a:ea typeface="华文行楷"/>
                </a:rPr>
                <a:t>老公</a:t>
              </a:r>
              <a:r>
                <a:rPr b="0" lang="zh-CN" sz="2000" spc="-1" strike="noStrike">
                  <a:solidFill>
                    <a:srgbClr val="5f5f5f"/>
                  </a:solidFill>
                  <a:latin typeface="Arial"/>
                  <a:ea typeface="宋体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f5f5f"/>
                  </a:solidFill>
                  <a:latin typeface="Arial"/>
                  <a:ea typeface="华文行楷"/>
                </a:rPr>
                <a:t>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5f5f5f"/>
                  </a:solidFill>
                  <a:latin typeface="Arial"/>
                  <a:ea typeface="华文行楷"/>
                </a:rPr>
                <a:t>爱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 Box 29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我们宣誓：为了下一代，我们将共同努力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2" autoRev="1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1200000">
                                      <p:cBhvr>
                                        <p:cTn id="203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2.77778E-006 -4.73988E-006 L -0.30868 -0.5993 E">
                                      <p:cBhvr>
                                        <p:cTn id="20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autoRev="1" nodeType="withEffect" fill="hold" presetClass="emph" presetID="8" repeatCount="indefinite">
                                  <p:stCondLst>
                                    <p:cond delay="2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1199879">
                                      <p:cBhvr>
                                        <p:cTn id="20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72222E-006 -4.91329E-006 L -0.43455 -0.62219 E">
                                      <p:cBhvr>
                                        <p:cTn id="2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5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8" descr="图片13"/>
          <p:cNvPicPr/>
          <p:nvPr/>
        </p:nvPicPr>
        <p:blipFill>
          <a:blip r:embed="rId1"/>
          <a:stretch/>
        </p:blipFill>
        <p:spPr>
          <a:xfrm>
            <a:off x="0" y="4962600"/>
            <a:ext cx="5257800" cy="1895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5" descr="图片7"/>
          <p:cNvPicPr/>
          <p:nvPr/>
        </p:nvPicPr>
        <p:blipFill>
          <a:blip r:embed="rId2"/>
          <a:stretch/>
        </p:blipFill>
        <p:spPr>
          <a:xfrm>
            <a:off x="0" y="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6" descr="上午"/>
          <p:cNvPicPr/>
          <p:nvPr/>
        </p:nvPicPr>
        <p:blipFill>
          <a:blip r:embed="rId3"/>
          <a:stretch/>
        </p:blipFill>
        <p:spPr>
          <a:xfrm rot="21397800">
            <a:off x="2286000" y="3581280"/>
            <a:ext cx="1371600" cy="324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5" descr="20009年"/>
          <p:cNvPicPr/>
          <p:nvPr/>
        </p:nvPicPr>
        <p:blipFill>
          <a:blip r:embed="rId4"/>
          <a:stretch/>
        </p:blipFill>
        <p:spPr>
          <a:xfrm rot="21372000">
            <a:off x="1977840" y="3124080"/>
            <a:ext cx="1680840" cy="3794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4" descr="恭候您的光临"/>
          <p:cNvPicPr/>
          <p:nvPr/>
        </p:nvPicPr>
        <p:blipFill>
          <a:blip r:embed="rId5"/>
          <a:stretch/>
        </p:blipFill>
        <p:spPr>
          <a:xfrm rot="21343200">
            <a:off x="1143000" y="2285640"/>
            <a:ext cx="1600200" cy="3398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257800" y="5181480"/>
            <a:ext cx="3886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具体餐厅：亚运村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地址：朝阳区亚运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隶书"/>
                <a:ea typeface="隶书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3" descr="图片3"/>
          <p:cNvPicPr/>
          <p:nvPr/>
        </p:nvPicPr>
        <p:blipFill>
          <a:blip r:embed="rId6"/>
          <a:stretch/>
        </p:blipFill>
        <p:spPr>
          <a:xfrm rot="20940600">
            <a:off x="3780000" y="2895120"/>
            <a:ext cx="1096920" cy="3970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9"/>
          <p:cNvGrpSpPr/>
          <p:nvPr/>
        </p:nvGrpSpPr>
        <p:grpSpPr>
          <a:xfrm>
            <a:off x="696960" y="1851840"/>
            <a:ext cx="2423160" cy="1912320"/>
            <a:chOff x="696960" y="1851840"/>
            <a:chExt cx="2423160" cy="1912320"/>
          </a:xfrm>
        </p:grpSpPr>
        <p:sp>
          <p:nvSpPr>
            <p:cNvPr id="96" name="Freeform 29"/>
            <p:cNvSpPr/>
            <p:nvPr/>
          </p:nvSpPr>
          <p:spPr>
            <a:xfrm rot="6635400">
              <a:off x="1351080" y="1750320"/>
              <a:ext cx="1162080" cy="2087280"/>
            </a:xfrm>
            <a:custGeom>
              <a:avLst/>
              <a:gdLst>
                <a:gd name="textAreaLeft" fmla="*/ 0 w 1162080"/>
                <a:gd name="textAreaRight" fmla="*/ 1162440 w 1162080"/>
                <a:gd name="textAreaTop" fmla="*/ 0 h 2087280"/>
                <a:gd name="textAreaBottom" fmla="*/ 2087640 h 2087280"/>
              </a:gdLst>
              <a:ahLst/>
              <a:rect l="textAreaLeft" t="textAreaTop" r="textAreaRight" b="textAreaBottom"/>
              <a:pathLst>
                <a:path w="2903" h="3686">
                  <a:moveTo>
                    <a:pt x="2903" y="433"/>
                  </a:moveTo>
                  <a:lnTo>
                    <a:pt x="2565" y="80"/>
                  </a:lnTo>
                  <a:lnTo>
                    <a:pt x="2241" y="0"/>
                  </a:lnTo>
                  <a:lnTo>
                    <a:pt x="110" y="2811"/>
                  </a:lnTo>
                  <a:lnTo>
                    <a:pt x="110" y="3228"/>
                  </a:lnTo>
                  <a:lnTo>
                    <a:pt x="0" y="3631"/>
                  </a:lnTo>
                  <a:lnTo>
                    <a:pt x="72" y="3686"/>
                  </a:lnTo>
                  <a:lnTo>
                    <a:pt x="441" y="3355"/>
                  </a:lnTo>
                  <a:lnTo>
                    <a:pt x="740" y="3228"/>
                  </a:lnTo>
                  <a:lnTo>
                    <a:pt x="2903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0"/>
            <p:cNvSpPr/>
            <p:nvPr/>
          </p:nvSpPr>
          <p:spPr>
            <a:xfrm rot="6635400">
              <a:off x="1341720" y="1799280"/>
              <a:ext cx="1165320" cy="210024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2100240"/>
                <a:gd name="textAreaBottom" fmla="*/ 2100600 h 2100240"/>
              </a:gdLst>
              <a:ahLst/>
              <a:rect l="textAreaLeft" t="textAreaTop" r="textAreaRight" b="textAreaBottom"/>
              <a:pathLst>
                <a:path w="2911" h="3703">
                  <a:moveTo>
                    <a:pt x="2293" y="0"/>
                  </a:moveTo>
                  <a:lnTo>
                    <a:pt x="130" y="2835"/>
                  </a:lnTo>
                  <a:lnTo>
                    <a:pt x="131" y="3201"/>
                  </a:lnTo>
                  <a:lnTo>
                    <a:pt x="0" y="3633"/>
                  </a:lnTo>
                  <a:lnTo>
                    <a:pt x="50" y="3703"/>
                  </a:lnTo>
                  <a:lnTo>
                    <a:pt x="422" y="3352"/>
                  </a:lnTo>
                  <a:lnTo>
                    <a:pt x="763" y="3220"/>
                  </a:lnTo>
                  <a:lnTo>
                    <a:pt x="2911" y="428"/>
                  </a:lnTo>
                  <a:lnTo>
                    <a:pt x="2589" y="96"/>
                  </a:lnTo>
                  <a:lnTo>
                    <a:pt x="2293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1"/>
            <p:cNvSpPr/>
            <p:nvPr/>
          </p:nvSpPr>
          <p:spPr>
            <a:xfrm rot="6635400">
              <a:off x="1440360" y="2062440"/>
              <a:ext cx="1025640" cy="1573560"/>
            </a:xfrm>
            <a:custGeom>
              <a:avLst/>
              <a:gdLst>
                <a:gd name="textAreaLeft" fmla="*/ 0 w 1025640"/>
                <a:gd name="textAreaRight" fmla="*/ 1026000 w 1025640"/>
                <a:gd name="textAreaTop" fmla="*/ 0 h 1573560"/>
                <a:gd name="textAreaBottom" fmla="*/ 1573920 h 1573560"/>
              </a:gdLst>
              <a:ahLst/>
              <a:rect l="textAreaLeft" t="textAreaTop" r="textAreaRight" b="textAreaBottom"/>
              <a:pathLst>
                <a:path w="2561" h="2777">
                  <a:moveTo>
                    <a:pt x="0" y="2485"/>
                  </a:moveTo>
                  <a:lnTo>
                    <a:pt x="432" y="2553"/>
                  </a:lnTo>
                  <a:lnTo>
                    <a:pt x="736" y="2777"/>
                  </a:lnTo>
                  <a:lnTo>
                    <a:pt x="2561" y="399"/>
                  </a:lnTo>
                  <a:lnTo>
                    <a:pt x="2118" y="82"/>
                  </a:lnTo>
                  <a:lnTo>
                    <a:pt x="1898" y="0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3"/>
            <p:cNvGrpSpPr/>
            <p:nvPr/>
          </p:nvGrpSpPr>
          <p:grpSpPr>
            <a:xfrm>
              <a:off x="696960" y="1851840"/>
              <a:ext cx="2423160" cy="1879200"/>
              <a:chOff x="696960" y="1851840"/>
              <a:chExt cx="2423160" cy="1879200"/>
            </a:xfrm>
          </p:grpSpPr>
          <p:sp>
            <p:nvSpPr>
              <p:cNvPr id="100" name="Freeform 33"/>
              <p:cNvSpPr/>
              <p:nvPr/>
            </p:nvSpPr>
            <p:spPr>
              <a:xfrm rot="6634800">
                <a:off x="1325880" y="1767240"/>
                <a:ext cx="98280" cy="45756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0 h 457560"/>
                  <a:gd name="textAreaBottom" fmla="*/ 457920 h 45756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" name="Group 15"/>
              <p:cNvGrpSpPr/>
              <p:nvPr/>
            </p:nvGrpSpPr>
            <p:grpSpPr>
              <a:xfrm>
                <a:off x="696960" y="1851840"/>
                <a:ext cx="2423160" cy="1879200"/>
                <a:chOff x="696960" y="1851840"/>
                <a:chExt cx="2423160" cy="1879200"/>
              </a:xfrm>
            </p:grpSpPr>
            <p:sp>
              <p:nvSpPr>
                <p:cNvPr id="102" name="Freeform 35"/>
                <p:cNvSpPr/>
                <p:nvPr/>
              </p:nvSpPr>
              <p:spPr>
                <a:xfrm rot="6634800">
                  <a:off x="2390040" y="3374640"/>
                  <a:ext cx="243360" cy="198360"/>
                </a:xfrm>
                <a:custGeom>
                  <a:avLst/>
                  <a:gdLst>
                    <a:gd name="textAreaLeft" fmla="*/ 0 w 243360"/>
                    <a:gd name="textAreaRight" fmla="*/ 243360 w 243360"/>
                    <a:gd name="textAreaTop" fmla="*/ 0 h 198360"/>
                    <a:gd name="textAreaBottom" fmla="*/ 198720 h 19836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36"/>
                <p:cNvSpPr/>
                <p:nvPr/>
              </p:nvSpPr>
              <p:spPr>
                <a:xfrm rot="6634800">
                  <a:off x="1896120" y="2557080"/>
                  <a:ext cx="427680" cy="696240"/>
                </a:xfrm>
                <a:custGeom>
                  <a:avLst/>
                  <a:gdLst>
                    <a:gd name="textAreaLeft" fmla="*/ 0 w 427680"/>
                    <a:gd name="textAreaRight" fmla="*/ 428040 w 427680"/>
                    <a:gd name="textAreaTop" fmla="*/ 0 h 696240"/>
                    <a:gd name="textAreaBottom" fmla="*/ 696600 h 69624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37"/>
                <p:cNvSpPr/>
                <p:nvPr/>
              </p:nvSpPr>
              <p:spPr>
                <a:xfrm rot="6634800">
                  <a:off x="1781640" y="2037240"/>
                  <a:ext cx="803160" cy="1427040"/>
                </a:xfrm>
                <a:custGeom>
                  <a:avLst/>
                  <a:gdLst>
                    <a:gd name="textAreaLeft" fmla="*/ 0 w 803160"/>
                    <a:gd name="textAreaRight" fmla="*/ 803520 w 803160"/>
                    <a:gd name="textAreaTop" fmla="*/ 0 h 1427040"/>
                    <a:gd name="textAreaBottom" fmla="*/ 1427400 h 14270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38"/>
                <p:cNvSpPr/>
                <p:nvPr/>
              </p:nvSpPr>
              <p:spPr>
                <a:xfrm rot="6634800">
                  <a:off x="1305720" y="1723320"/>
                  <a:ext cx="1205280" cy="2135880"/>
                </a:xfrm>
                <a:custGeom>
                  <a:avLst/>
                  <a:gdLst>
                    <a:gd name="textAreaLeft" fmla="*/ 0 w 1205280"/>
                    <a:gd name="textAreaRight" fmla="*/ 1205640 w 1205280"/>
                    <a:gd name="textAreaTop" fmla="*/ 0 h 2135880"/>
                    <a:gd name="textAreaBottom" fmla="*/ 2136240 h 213588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39"/>
                <p:cNvSpPr/>
                <p:nvPr/>
              </p:nvSpPr>
              <p:spPr>
                <a:xfrm rot="6634800">
                  <a:off x="1488600" y="227700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0"/>
                <p:cNvSpPr/>
                <p:nvPr/>
              </p:nvSpPr>
              <p:spPr>
                <a:xfrm rot="6634800">
                  <a:off x="1572840" y="236484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1"/>
                <p:cNvSpPr/>
                <p:nvPr/>
              </p:nvSpPr>
              <p:spPr>
                <a:xfrm rot="6634800">
                  <a:off x="2250360" y="3147120"/>
                  <a:ext cx="287640" cy="23328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33280"/>
                    <a:gd name="textAreaBottom" fmla="*/ 233640 h 23328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2"/>
                <p:cNvSpPr/>
                <p:nvPr/>
              </p:nvSpPr>
              <p:spPr>
                <a:xfrm rot="6634800">
                  <a:off x="2342520" y="3248280"/>
                  <a:ext cx="284760" cy="219240"/>
                </a:xfrm>
                <a:custGeom>
                  <a:avLst/>
                  <a:gdLst>
                    <a:gd name="textAreaLeft" fmla="*/ 0 w 284760"/>
                    <a:gd name="textAreaRight" fmla="*/ 285120 w 2847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" name="Line 43"/>
            <p:cNvSpPr/>
            <p:nvPr/>
          </p:nvSpPr>
          <p:spPr>
            <a:xfrm flipH="1" flipV="1">
              <a:off x="2685240" y="3344400"/>
              <a:ext cx="107640" cy="12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64" descr=""/>
          <p:cNvPicPr/>
          <p:nvPr/>
        </p:nvPicPr>
        <p:blipFill>
          <a:blip r:embed="rId7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7" descr="图片11"/>
          <p:cNvPicPr/>
          <p:nvPr/>
        </p:nvPicPr>
        <p:blipFill>
          <a:blip r:embed="rId8"/>
          <a:stretch/>
        </p:blipFill>
        <p:spPr>
          <a:xfrm>
            <a:off x="1066680" y="1523880"/>
            <a:ext cx="2362320" cy="69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48148E-006 C 0.00052 0.00486 -0.00052 0.01042 0.00156 0.01458 C 0.00277 0.0169 0.00139 0.00787 0.00312 0.00625 C 0.00625 0.0037 0.01041 0.00486 0.01406 0.00417 C 0.01562 0.00278 0.01701 -0.0007 0.01875 1.48148E-006 C 0.02031 0.00046 0.02152 0.00463 0.02031 0.00625 C 0.0184 0.00879 0.0151 0.00764 0.0125 0.00833 C 0.01302 0.00625 0.01406 1.48148000000004E-006 0.01406 0.00208 C 0.01406 0.00972 0.01423 0.01782 0.0125 0.025 C 0.01198 0.02708 0.00937 0.02639 0.00781 0.02708 C 0.00468 0.01481 0.00902 0.01504 0.01562 0.02083 C 0.02118 0.01713 0.02691 0.01435 0.02968 0.00625 C 0.03107 0.00231 0.03281 -0.00625 0.03281 -0.00602 C 0.03333 -0.00417 0.03402 -0.00208 0.03437 1.48148E-006 C 0.03507 0.00486 0.03229 0.01458 0.03593 0.01458 C 0.03958 0.01458 0.03611 0.00463 0.0375 1.48148E-006 C 0.03889 -0.00463 0.04375 -0.0125 0.04375 -0.01227 C 0.04583 -0.01181 0.04826 -0.01227 0.05 -0.01042 C 0.05312 -0.00695 0.06736 0.04375 0.04843 0.02708 C 0.04739 0.025 0.0467 0.02268 0.04531 0.02083 C 0.04392 0.01898 0.04114 0.01898 0.04062 0.01667 C 0.03802 0.00463 0.0533 -0.00162 0.04218 0.00833 C 0.04271 0.01042 0.04218 0.01458 0.04375 0.01458 C 0.04531 0.01458 0.04531 0.00625 0.04531 0.00833 C 0.04531 0.0118 0.04236 0.01574 0.04375 0.01875 C 0.04479 0.02083 0.04843 0.01204 0.04843 0.01458 C 0.04843 0.01759 0.04566 0.01921 0.04375 0.02083 C 0.04236 0.02199 0.0375 0.02292 0.03906 0.02292 C 0.04375 0.02292 0.04843 0.02153 0.05312 0.02083 C 0.05642 0.01435 0.05677 0.00764 0.0625 0.00417 C 0.06545 0.00231 0.07187 1.48147999999999E-006 0.07187 0.00023 C 0.07812 -0.0125 0.08212 -0.02269 0.07343 0.02708 C 0.07309 0.02963 0.07135 0.02292 0.07031 0.02083 C 0.06823 0.02153 0.06597 0.02407 0.06406 0.02292 C 0.06093 0.02129 0.06302 0.01204 0.06406 0.01042 C 0.06684 0.00602 0.07517 0.00347 0.07812 0.00208 C 0.07968 0.00139 0.08281 1.48147999999999E-006 0.08281 0.00023 C 0.08437 -0.00208 0.08628 -0.00371 0.0875 -0.00625 C 0.08837 -0.0081 0.09062 -0.0125 0.08906 -0.0125 C 0.08715 -0.0125 0.08698 -0.00833 0.08593 -0.00625 C 0.08541 0.00486 0.08628 0.0162 0.08437 0.02708 C 0.08402 0.02963 0.08177 0.02315 0.08125 0.02083 C 0.08021 0.0169 0.08021 0.0125 0.07968 0.00833 C 0.07864 0.01042 0.07847 0.01458 0.07656 0.01458 C 0.075 0.01458 0.07673 0.00926 0.07812 0.00833 C 0.07951 0.00741 0.08125 0.00972 0.08281 0.01042 C 0.08906 0.00972 0.09566 0.01134 0.10156 0.00833 C 0.10364 0.00741 0.10191 0.00231 0.10312 1.48148E-006 C 0.10416 -0.00208 0.10625 -0.00278 0.10781 -0.00417 C 0.10989 -0.00347 0.11302 -0.00463 0.11406 -0.00208 C 0.11614 0.00324 0.10746 0.00579 0.10625 0.00625 C 0.10521 0.00833 0.10277 0.00995 0.10312 0.0125 C 0.10486 0.02454 0.11198 0.01111 0.1125 0.01042 C 0.11371 0.00856 0.11718 0.00555 0.11562 0.00417 C 0.11337 0.00231 0.11041 0.00555 0.10781 0.00625 C 0.10833 0.00903 0.10764 0.01296 0.10937 0.01458 C 0.11389 0.01898 0.11527 0.00741 0.11562 0.00625 C 0.11718 -0.01065 0.11493 -0.0169 0.12812 -0.0125 C 0.12899 -0.0088 0.13177 -0.00162 0.12812 0.00208 C 0.12673 0.00347 0.125 0.00069 0.12343 1.48148E-006 C 0.12396 0.00764 0.12205 0.01643 0.125 0.02292 C 0.1276 0.02847 0.12968 0.00417 0.12968 0.0044 C 0.13021 -0.00139 0.12847 -0.00833 0.13125 -0.0125 C 0.13368 -0.01621 0.13923 -0.01158 0.14218 -0.01458 C 0.146 -0.01875 0.1375 -0.02153 0.13437 -0.02292 C 0.13385 -0.01945 0.1335 -0.01597 0.13281 -0.0125 C 0.13194 -0.00833 0.12968 1.48147999999999E-006 0.12968 0.00023 C 0.13125 0.00069 0.13281 0.00301 0.13437 0.00208 C 0.13611 0.00116 0.13732 -0.00671 0.1375 -0.00417 C 0.13819 0.00417 0.13646 0.0125 0.13593 0.02083 C 0.13541 0.01967 0.13038 0.01088 0.13125 0.00833 C 0.13194 0.00648 0.13437 0.00694 0.13593 0.00625 C 0.13958 0.00694 0.1434 0.00995 0.14687 0.00833 C 0.15052 0.00671 0.14982 -0.00556 0.15156 -0.00833 C 0.1526 -0.00996 0.15486 -0.00949 0.15625 -0.01042 C 0.15798 -0.01158 0.15937 -0.0132 0.16093 -0.01458 C 0.1585 -0.00486 0.16128 0.0294 0.15625 0.00625 C 0.15573 0.00417 0.15521 0.00208 0.15468 1.48148E-006 C 0.15139 0.01319 0.15347 0.00301 0.15625 1.48148E-006 C 0.15746 -0.00139 0.15937 -0.00139 0.16093 -0.00208 C 0.16371 -0.01343 0.16007 -0.00463 0.16875 -0.01042 C 0.17205 -0.01273 0.17812 -0.01875 0.17812 -0.01852 C 0.17066 -0.02546 0.17396 -0.02523 0.17031 -0.01042 C 0.16962 -0.00764 0.16614 -0.00903 0.16406 -0.00833 C 0.16614 0.01111 0.16354 0.01042 0.17187 -0.00625 L 0.17187 -0.00602 C 0.17343 -0.00695 0.175 -0.00764 0.17656 -0.00833 C 0.17882 0.00046 0.18003 0.00278 0.17656 0.01458 C 0.17587 0.01667 0.17569 0.01018 0.175 0.00833 C 0.17413 0.00602 0.17291 0.00417 0.17187 0.00208 C 0.16771 0.01875 0.17083 -0.000699999999999999 0.175 0.01042 C 0.17569 0.01227 0.17187 0.01667 0.17343 0.01667 C 0.17812 0.01667 0.18489 1.48148000000004E-006 0.18593 -0.00208 C 0.18698 -0.00417 0.18906 -0.00833 0.18906 -0.0081 C 0.19253 -0.03148 0.18871 -0.01296 0.19218 -0.00833 C 0.1934 -0.00671 0.19236 -0.0132 0.19375 -0.01458 C 0.19635 -0.01713 0.20312 -0.01875 0.20312 -0.01852 C 0.21701 -0.01505 0.21562 -0.01898 0.20937 0.01458 C 0.20885 0.0169 0.20712 0.01065 0.20625 0.00833 C 0.2033 0.000229999999999999 0.20277 -0.00301 0.19687 -0.00833 C 0.20538 -0.02546 0.19496 -0.00255 0.19687 1.48148E-006 C 0.19826 0.00185 0.19982 -0.00301 0.20156 -0.00417 C 0.20295 -0.00509 0.20468 -0.00556 0.20625 -0.00625 C 0.20573 -0.00417 0.2059 -0.00162 0.20468 1.48148E-006 C 0.20347 0.00162 0.19843 0.00208 0.2 0.00208 C 0.2026 0.00208 0.20521 0.00069 0.20781 1.48148E-006 C 0.21128 -0.00463 0.21337 -0.00671 0.21562 -0.0125 C 0.21632 -0.01435 0.21614 -0.01713 0.21718 -0.01875 C 0.21996 -0.02315 0.2243 -0.02384 0.22812 -0.025 C 0.22864 -0.02292 0.22812 -0.01898 0.22968 -0.01875 C 0.23298 -0.01806 0.23906 -0.02292 0.23906 -0.02269 C 0.2335 -0.01181 0.23663 -0.01458 0.22031 -0.01458 C 0.21771 -0.01458 0.22552 -0.01574 0.22812 -0.01667 C 0.22968 -0.01713 0.23125 -0.01806 0.23281 -0.01875 C 0.23837 -0.01736 0.24896 -0.01806 0.23906 -0.00208 C 0.23767 0.00023 0.23073 -0.00417 0.23281 -0.00417 C 0.23646 -0.00417 0.2401 -0.00278 0.24375 -0.00208 C 0.24114 -0.00093 0.23611 0.00069 0.23437 0.00417 C 0.22812 0.01643 0.23802 0.01018 0.22812 0.01458 C 0.22656 0.01389 0.22465 0.01412 0.22343 0.0125 C 0.22274 0.01157 0.21996 0.00092 0.22343 1.48148E-006 C 0.23159 -0.00185 0.2401 1.48148E-006 0.24843 1.48148E-006 E">
                                      <p:cBhvr>
                                        <p:cTn id="225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816 1.48148E-006 C 0.23194 0.00231 0.20625 0.00787 0.18003 0.01042 C 0.17152 0.01273 0.16354 0.01504 0.15503 0.01667 C 0.14635 0.0206 0.13732 0.0206 0.12847 0.02292 C 0.11389 0.02685 0.10173 0.03287 0.08784 0.03958 C 0.08159 0.04259 0.07465 0.04305 0.06909 0.04792 C 0.05816 0.05764 0.04444 0.05833 0.03316 0.06667 C 0.02743 0.07083 0.02291 0.07917 0.01753 0.08333 C 0.01423 0.08588 0.01024 0.08588 0.00659 0.0875 C -0.00591 0.08194 0.00659 0.08889 0.00659 0.08333 C 0.00659 0.08079 0.00347 0.08055 0.00191 0.07917 C 0.00243 0.08264 0.00104 0.08796 0.00347 0.08958 C 0.00538 0.09097 0.00642 0.08518 0.00816 0.08333 C 0.00955 0.08171 0.01128 0.08055 0.01284 0.07917 C 0.01232 0.08194 0.01319 0.08634 0.01128 0.0875 C 0.00885 0.08889 0.00052 0.08472 -0.00278 0.08333 C 0.00399 0.06967 3.05555999999957E-006 0.07384 0.02222 0.07917 C 0.02378 0.07963 0.01909 0.08079 0.01753 0.08125 C 0.01337 0.08287 0.00503 0.08542 0.00503 0.08565 C 0.00104 0.09074 -0.00122 0.09167 -0.00122 0.1 C -0.00122 0.10208 -0.00087 0.09514 0.00034 0.09375 C 0.00208 0.0919 0.00451 0.09236 0.00659 0.09167 C 0.01406 0.08518 0.02205 0.08704 0.00816 0.08333 C 0.00764 0.09097 0.00798 0.09884 0.00659 0.10625 C 0.00625 0.10833 0.00364 0.10116 0.00503 0.1 C 0.00677 0.09838 0.0092 0.10139 0.01128 0.10208 C 0.01284 0.10069 0.01406 0.09838 0.01597 0.09792 C 0.01753 0.09745 0.01909 0.10069 0.02066 0.1 C 0.02274 0.09907 0.02361 0.0956 0.02534 0.09375 C 0.02864 0.09004 0.03246 0.08796 0.03628 0.08542 C 0.0375 0.08287 0.0434 0.07454 0.03784 0.07083 C 0.03611 0.06967 0.03455 0.07338 0.03316 0.075 C 0.03142 0.07685 0.02847 0.08125 0.02847 0.08148 C 0.02899 0.09167 0.02795 0.10254 0.03003 0.1125 C 0.03125 0.11782 0.0309 0.10139 0.03159 0.09583 C 0.03316 0.08379 0.03906 0.08287 0.04566 0.07708 C 0.04218 0.09074 0.04705 0.07731 0.03941 0.08542 C 0.03802 0.08704 0.03489 0.08981 0.03628 0.09167 C 0.03784 0.09375 0.04045 0.08958 0.04253 0.08958 C 0.04409 0.08958 0.03923 0.09051 0.03784 0.09167 C 0.03455 0.09421 0.03159 0.09722 0.02847 0.1 C 0.02621 0.10185 0.03368 0.09884 0.03628 0.09792 C 0.03784 0.09745 0.03941 0.09653 0.04097 0.09583 C 0.03541 0.10671 0.02604 0.10787 0.04253 0.10417 C 0.04149 0.10625 0.03854 0.1081 0.03941 0.11042 C 0.04045 0.11296 0.04392 0.11412 0.04566 0.1125 C 0.04878 0.10995 0.04982 0.10417 0.05191 0.1 C 0.05295 0.09792 0.05503 0.09722 0.05659 0.09583 C 0.06059 0.08009 0.05521 0.09954 0.06128 0.08333 C 0.06198 0.08148 0.06441 0.07708 0.06284 0.07708 C 0.06059 0.07708 0.05989 0.08148 0.05816 0.08333 C 0.05677 0.08495 0.05503 0.08611 0.05347 0.0875 C 0.05243 0.08958 0.05034 0.0912 0.05034 0.09375 C 0.05034 0.09629 0.05173 0.10116 0.05347 0.1 C 0.0585 0.09653 0.05972 0.0875 0.06284 0.08125 C 0.06371 0.0794 0.06614 0.08009 0.06753 0.07917 C 0.07968 0.07106 0.0651 0.07824 0.07691 0.07292 C 0.07517 0.08449 0.07534 0.09167 0.06597 0.08333 C 0.06545 0.08819 0.06441 0.09305 0.06441 0.09792 C 0.06441 0.1 0.06475 0.09305 0.06597 0.09167 C 0.06771 0.08981 0.07014 0.08958 0.07222 0.08958 C 0.07378 0.08958 0.06892 0.09051 0.06753 0.09167 C 0.05139 0.1037 0.06406 0.09745 0.05347 0.10208 C 0.05295 0.10555 0.04965 0.11065 0.05191 0.1125 C 0.05468 0.11481 0.06128 0.10833 0.06128 0.10856 C 0.06232 0.10625 0.06406 0.10463 0.06441 0.10208 C 0.06475 0.1 0.06284 0.09375 0.06284 0.09583 C 0.06284 0.09861 0.06389 0.10139 0.06441 0.10417 C 0.06597 0.10347 0.06788 0.1037 0.06909 0.10208 C 0.07291 0.09699 0.06771 0.09004 0.07378 0.10208 C 0.07934 0.09722 0.08281 0.09213 0.08472 0.08333 C 0.08524 0.08055 0.08819 0.07639 0.08628 0.075 C 0.08437 0.07361 0.08298 0.07893 0.08159 0.08125 C 0.08038 0.0831 0.07673 0.08634 0.07847 0.0875 C 0.08055 0.08889 0.08264 0.08449 0.08472 0.08333 C 0.08628 0.08241 0.08784 0.08194 0.08941 0.08125 C 0.0868 0.11227 0.09166 0.09676 0.08003 0.09167 C 0.08455 0.10949 0.08229 0.08264 0.08628 0.07917 C 0.08941 0.07639 0.09566 0.07083 0.09566 0.07106 C 0.09357 0.0794 0.08576 0.08796 0.09566 0.07917 C 0.10694 0.08287 0.10538 0.0794 0.10034 0.10625 C 0.09982 0.10903 0.0993 0.10069 0.09878 0.09792 C 0.09826 0.09583 0.09774 0.09375 0.09722 0.09167 C 0.10399 0.08264 0.11163 0.07268 0.12066 0.06875 C 0.12014 0.07292 0.11753 0.07754 0.11909 0.08125 C 0.1217 0.0868 0.13003 0.07106 0.13003 0.07708 C 0.13003 0.07963 0.12708 0.08032 0.12534 0.08125 C 0.12239 0.0831 0.11597 0.08542 0.11597 0.08565 C 0.11302 0.12454 0.11389 0.10208 0.11909 0.09167 C 0.12291 0.10694 0.12708 0.09722 0.13472 0.09375 C 0.13524 0.08958 0.13437 0.08472 0.13628 0.08125 C 0.1375 0.07893 0.14062 0.08032 0.14253 0.07917 C 0.14427 0.07824 0.14566 0.07639 0.14722 0.075 C 0.1467 0.07292 0.14531 0.06667 0.14566 0.06875 C 0.14652 0.0743 0.14583 0.08148 0.14878 0.08542 C 0.15069 0.08796 0.14982 0.07847 0.15034 0.075 C 0.15191 0.07569 0.15347 0.07754 0.15503 0.07708 C 0.15694 0.07662 0.16111 0.07477 0.15972 0.07292 C 0.15816 0.07083 0.15555 0.0743 0.15347 0.075 C 0.15225 0.08009 0.14878 0.08426 0.14878 0.08958 C 0.14878 0.09213 0.15052 0.08495 0.15191 0.08333 C 0.15312 0.08194 0.15503 0.08194 0.15659 0.08125 C 0.15816 0.08194 0.16059 0.08148 0.16128 0.08333 C 0.16198 0.08518 0.16111 0.08866 0.15972 0.08958 C 0.15833 0.09051 0.15659 0.08819 0.15503 0.0875 C 0.15451 0.09097 0.15538 0.09537 0.15347 0.09792 C 0.15225 0.09954 0.14757 0.09745 0.14878 0.09583 C 0.1526 0.09074 0.15972 0.09167 0.16441 0.09167 E">
                                      <p:cBhvr>
                                        <p:cTn id="231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021 0.08981 C 0.17291 0.1044 0.17708 0.09954 0.16927 0.10648 C 0.16632 0.11829 0.15816 0.13079 0.15052 0.13773 C 0.14826 0.14236 0.14705 0.14815 0.14427 0.15231 C 0.14253 0.15486 0.13993 0.15625 0.13802 0.15856 C 0.12847 0.16991 0.12691 0.17616 0.11614 0.18565 C 0.11111 0.19004 0.10781 0.19884 0.10364 0.2044 C 0.10677 0.20509 0.11128 0.20301 0.11302 0.20648 C 0.12795 0.23842 0.09982 0.21065 0.11614 0.22523 C 0.11666 0.22315 0.11701 0.22083 0.11771 0.21898 C 0.11857 0.21667 0.11979 0.21065 0.12083 0.21273 C 0.12291 0.21759 0.12187 0.22384 0.12239 0.2294 C 0.12951 0.22708 0.13246 0.22639 0.13489 0.2169 C 0.12587 0.20903 0.13125 0.21574 0.13802 0.21065 C 0.13958 0.20949 0.1401 0.20648 0.14114 0.2044 C 0.14166 0.21065 0.14027 0.21782 0.14271 0.22315 C 0.14392 0.22546 0.14791 0.22361 0.14896 0.22106 C 0.15277 0.21111 0.14635 0.21018 0.14271 0.20856 C 0.14045 0.21736 0.13767 0.22222 0.15364 0.21273 C 0.15521 0.2118 0.15468 0.20856 0.15521 0.20648 C 0.15573 0.20995 0.15434 0.21528 0.15677 0.2169 C 0.15868 0.21829 0.16076 0.21342 0.16146 0.21065 C 0.16198 0.20856 0.16041 0.20648 0.15989 0.2044 C 0.15937 0.20717 0.15902 0.20995 0.15833 0.21273 C 0.15746 0.2169 0.15625 0.22106 0.15521 0.22523 C 0.15468 0.22731 0.15625 0.22106 0.15677 0.21898 C 0.15729 0.2169 0.15781 0.21481 0.15833 0.21273 C 0.16059 0.20347 0.16024 0.1993 0.16771 0.19606 C 0.16718 0.19815 0.16545 0.20046 0.16614 0.20231 C 0.16684 0.20417 0.16927 0.20393 0.17083 0.2044 C 0.17343 0.20532 0.17604 0.20579 0.17864 0.20648 C 0.17639 0.20741 0.17048 0.20949 0.16927 0.21273 C 0.16788 0.21643 0.16996 0.22222 0.16771 0.22523 C 0.16545 0.22824 0.15521 0.22731 0.15833 0.22731 C 0.16302 0.22731 0.16771 0.22592 0.17239 0.22523 C 0.17396 0.22384 0.17691 0.22361 0.17708 0.22106 C 0.17743 0.21667 0.17396 0.20856 0.17396 0.20879 C 0.17326 0.21227 0.16909 0.23009 0.17396 0.23148 C 0.1776 0.23241 0.17812 0.22315 0.18021 0.21898 C 0.18212 0.21528 0.18333 0.20648 0.18333 0.20671 C 0.18767 0.20833 0.19635 0.21042 0.19114 0.21898 C 0.18993 0.22083 0.18802 0.22176 0.18646 0.22315 C 0.18489 0.22245 0.18212 0.22315 0.18177 0.22106 C 0.17882 0.20555 0.18611 0.20301 0.19427 0.20023 C 0.19583 0.19884 0.19722 0.19537 0.19896 0.19606 C 0.20052 0.19653 0.20017 0.20023 0.20052 0.20231 C 0.20121 0.20648 0.20156 0.21065 0.20208 0.21481 C 0.20399 0.19421 0.20156 0.19421 0.21614 0.19815 C 0.21441 0.23356 0.2158 0.23842 0.20989 0.21481 C 0.21041 0.21273 0.21284 0.20949 0.21146 0.20856 C 0.20972 0.20741 0.20538 0.21088 0.20677 0.21273 C 0.20833 0.21481 0.21093 0.21157 0.21302 0.21065 C 0.21614 0.20949 0.22239 0.20648 0.22239 0.20671 C 0.22396 0.2044 0.225 0.19954 0.22708 0.20023 C 0.22916 0.20092 0.22812 0.20579 0.22864 0.20856 C 0.22916 0.21204 0.22968 0.21551 0.23021 0.21898 C 0.23177 0.2162 0.23316 0.21319 0.23489 0.21065 C 0.23628 0.20833 0.23767 0.20278 0.23958 0.2044 C 0.24236 0.20671 0.24271 0.2169 0.24271 0.21713 C 0.24531 0.20648 0.24548 0.19977 0.25364 0.19606 C 0.25364 0.19629 0.25659 0.20995 0.25833 0.20856 C 0.25902 0.2081 0.25989 0.19398 0.26146 0.1919 C 0.26267 0.19028 0.26458 0.19051 0.26614 0.18981 C 0.27066 0.19861 0.27396 0.20254 0.26771 0.2169 C 0.26666 0.21944 0.26458 0.21273 0.26302 0.21065 C 0.26146 0.21713 0.26111 0.22106 0.26771 0.22106 E">
                                      <p:cBhvr>
                                        <p:cTn id="237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232 0.21759 C 0.25712 0.21921 0.25191 0.22014 0.2467 0.22176 C 0.23784 0.22477 0.23021 0.23055 0.2217 0.23426 C 0.21354 0.23796 0.19184 0.23819 0.18889 0.23842 C 0.17777 0.24051 0.17205 0.24491 0.16076 0.24676 C 0.15416 0.25254 0.15121 0.25023 0.1467 0.25926 C 0.14948 0.2706 0.15139 0.29467 0.15139 0.29491 C 0.15555 0.29398 0.16024 0.29537 0.16389 0.29259 C 0.1658 0.2912 0.1651 0.28704 0.16545 0.28426 C 0.16701 0.27268 0.16475 0.26504 0.17326 0.26134 C 0.1743 0.26342 0.17604 0.26504 0.17639 0.26759 C 0.17673 0.26967 0.17361 0.27222 0.17482 0.27384 C 0.17604 0.27546 0.18107 0.27129 0.17951 0.27176 C 0.17639 0.27245 0.17326 0.27315 0.17014 0.27384 C 0.17448 0.2912 0.18559 0.28032 0.19201 0.27176 C 0.19045 0.27106 0.18871 0.2706 0.18732 0.26967 C 0.18559 0.26852 0.18437 0.26481 0.18264 0.26551 C 0.18107 0.26597 0.18159 0.26967 0.18107 0.27176 C 0.18159 0.28217 0.18142 0.29282 0.18264 0.30301 C 0.18298 0.30509 0.18333 0.29861 0.1842 0.29676 C 0.1875 0.29028 0.19826 0.28217 0.19826 0.28241 C 0.2033 0.2618 0.20104 0.26528 0.20295 0.29467 C 0.20312 0.29421 0.2085 0.28194 0.21076 0.28426 C 0.21284 0.28634 0.2118 0.2912 0.21232 0.29467 C 0.21389 0.2919 0.2151 0.28889 0.21701 0.28634 C 0.2184 0.28449 0.22135 0.28472 0.2217 0.28217 C 0.22205 0.27963 0.21962 0.27801 0.21857 0.27592 C 0.21701 0.27662 0.21389 0.27592 0.21389 0.27801 C 0.21389 0.28055 0.21666 0.28264 0.21857 0.28217 C 0.22048 0.28171 0.22048 0.27778 0.2217 0.27592 C 0.22309 0.27361 0.22482 0.27176 0.22639 0.26967 C 0.22743 0.27176 0.22899 0.27361 0.22951 0.27592 C 0.23055 0.28055 0.22882 0.28657 0.23107 0.29051 C 0.23212 0.29259 0.23264 0.28565 0.2342 0.28426 C 0.23593 0.28264 0.23837 0.28287 0.24045 0.28217 C 0.24444 0.27407 0.25 0.27083 0.25607 0.26551 C 0.25555 0.26829 0.25416 0.27106 0.25451 0.27384 C 0.25486 0.27639 0.25729 0.27754 0.25764 0.28009 C 0.25833 0.28611 0.25416 0.28796 0.25139 0.29051 C 0.25885 0.27546 0.25503 0.28148 0.26232 0.27176 C 0.26284 0.27384 0.26354 0.27592 0.26389 0.27801 C 0.26458 0.28148 0.26284 0.28889 0.26545 0.28842 C 0.26979 0.2875 0.27482 0.27592 0.27482 0.27616 C 0.27378 0.27199 0.27326 0.26551 0.26857 0.26551 C 0.26666 0.26551 0.26389 0.26967 0.26389 0.26991 E">
                                      <p:cBhvr>
                                        <p:cTn id="243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1"/>
                            </p:stCondLst>
                            <p:childTnLst>
                              <p:par>
                                <p:cTn id="2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501"/>
                            </p:stCondLst>
                            <p:childTnLst>
                              <p:par>
                                <p:cTn id="25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2501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23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13:35Z</dcterms:modified>
  <cp:revision>5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