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27FD-9066-4B6D-916B-2A2304A9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02F-5691-4EA4-87A5-48BF639A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6A6F-CB8B-433F-962F-EAE982E0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7A3-96A2-43E5-BB71-F3589B1D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304-CA52-4AB2-B7DA-DA3092DF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AD3-05B9-482F-AA59-AF593CA6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BE2C-E99A-4891-9657-1845796A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A817-45A4-4D88-B927-D9AA01B8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71D5-3E50-4BB0-A829-63A3077C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18F7-D45B-4F4A-AB26-0ACDD67E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2E6B-A51A-4BA7-981B-3770F5DB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F4E6-2415-4875-B633-101DCD51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6b72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39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Century Gothic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825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825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Century Gothic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1825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1825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1825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32520" y="6370560"/>
            <a:ext cx="15480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B419-0687-4DDB-877C-983A4B47F673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4360" y="6370560"/>
            <a:ext cx="5954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61320" y="6370560"/>
            <a:ext cx="10670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A70E-EC2E-473D-8FE9-DA17AD7F2F2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2440" y="4724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18ab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522440" y="1599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5e5e5e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3733560" y="73980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胶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洁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5867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灯片编号占位符 5"/>
          <p:cNvSpPr/>
          <p:nvPr/>
        </p:nvSpPr>
        <p:spPr>
          <a:xfrm>
            <a:off x="8761320" y="637056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9816-C15E-4F9B-B1C6-BDFE570ACA3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39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1001"/>
              </a:spcBef>
              <a:buClr>
                <a:srgbClr val="fec306"/>
              </a:buClr>
              <a:buSzPct val="80000"/>
              <a:buFont typeface="Century Gothic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82520">
              <a:lnSpc>
                <a:spcPct val="90000"/>
              </a:lnSpc>
              <a:spcBef>
                <a:spcPts val="601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82520">
              <a:lnSpc>
                <a:spcPct val="90000"/>
              </a:lnSpc>
              <a:spcBef>
                <a:spcPts val="601"/>
              </a:spcBef>
              <a:buClr>
                <a:srgbClr val="fec306"/>
              </a:buClr>
              <a:buSzPct val="80000"/>
              <a:buFont typeface="Century Gothic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182520">
              <a:lnSpc>
                <a:spcPct val="90000"/>
              </a:lnSpc>
              <a:spcBef>
                <a:spcPts val="601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6b727"/>
                </a:solidFill>
                <a:latin typeface="Arial"/>
              </a:rPr>
              <a:t>Title and Content Layout with List</a:t>
            </a: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6b727"/>
                </a:solidFill>
                <a:latin typeface="Arial"/>
              </a:rPr>
              <a:t>Title and Content Layout with Chart</a:t>
            </a: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356000" y="6421320"/>
            <a:ext cx="426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59e00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5"/>
          <p:cNvSpPr/>
          <p:nvPr/>
        </p:nvSpPr>
        <p:spPr>
          <a:xfrm>
            <a:off x="8761320" y="637056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AA40-EBB8-400C-B8A6-52BB715C2FA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246360" y="18284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39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bullet poin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39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bullet poin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39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bullet poin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440" y="1828800"/>
          <a:ext cx="4419720" cy="2082960"/>
        </p:xfrm>
        <a:graphic>
          <a:graphicData uri="http://schemas.openxmlformats.org/drawingml/2006/table">
            <a:tbl>
              <a:tblPr/>
              <a:tblGrid>
                <a:gridCol w="1473120"/>
                <a:gridCol w="1473120"/>
                <a:gridCol w="1473480"/>
              </a:tblGrid>
              <a:tr h="520560">
                <a:tc>
                  <a:txBody>
                    <a:bodyPr lIns="84600" rIns="846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oup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oup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920">
                <a:tc>
                  <a:txBody>
                    <a:bodyPr lIns="84600" rIns="846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84600" rIns="846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920">
                <a:tc>
                  <a:txBody>
                    <a:bodyPr lIns="84600" rIns="846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6b727"/>
                </a:solidFill>
                <a:latin typeface="Arial"/>
              </a:rPr>
              <a:t>Two Content Layout with Table</a:t>
            </a: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5320" y="189000"/>
            <a:ext cx="1093968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6b727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016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f59e00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59e00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971244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6246720" y="1828800"/>
            <a:ext cx="4419720" cy="4419720"/>
            <a:chOff x="6246720" y="1828800"/>
            <a:chExt cx="4419720" cy="4419720"/>
          </a:xfrm>
        </p:grpSpPr>
        <p:sp>
          <p:nvSpPr>
            <p:cNvPr id="58" name="AutoShape 3"/>
            <p:cNvSpPr/>
            <p:nvPr/>
          </p:nvSpPr>
          <p:spPr>
            <a:xfrm>
              <a:off x="6246720" y="1828800"/>
              <a:ext cx="2811240" cy="4419720"/>
            </a:xfrm>
            <a:custGeom>
              <a:avLst/>
              <a:gdLst>
                <a:gd name="textAreaLeft" fmla="*/ 0 w 2811240"/>
                <a:gd name="textAreaRight" fmla="*/ 2811240 w 2811240"/>
                <a:gd name="textAreaTop" fmla="*/ 0 h 4419720"/>
                <a:gd name="textAreaBottom" fmla="*/ 160308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381" y="3218"/>
                  </a:moveTo>
                  <a:cubicBezTo>
                    <a:pt x="16370" y="1207"/>
                    <a:pt x="13643" y="78"/>
                    <a:pt x="10799" y="78"/>
                  </a:cubicBezTo>
                  <a:cubicBezTo>
                    <a:pt x="7956" y="78"/>
                    <a:pt x="5229" y="1207"/>
                    <a:pt x="3218" y="3218"/>
                  </a:cubicBezTo>
                  <a:lnTo>
                    <a:pt x="3163" y="3163"/>
                  </a:lnTo>
                  <a:cubicBezTo>
                    <a:pt x="5188" y="1137"/>
                    <a:pt x="7935" y="0"/>
                    <a:pt x="10800" y="0"/>
                  </a:cubicBezTo>
                  <a:cubicBezTo>
                    <a:pt x="13664" y="0"/>
                    <a:pt x="16411" y="1137"/>
                    <a:pt x="18436" y="3163"/>
                  </a:cubicBezTo>
                  <a:lnTo>
                    <a:pt x="18381" y="3218"/>
                  </a:lnTo>
                  <a:close/>
                </a:path>
              </a:pathLst>
            </a:custGeom>
            <a:noFill/>
            <a:ln w="12600">
              <a:solidFill>
                <a:srgbClr val="a6b7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4"/>
            <p:cNvSpPr/>
            <p:nvPr/>
          </p:nvSpPr>
          <p:spPr>
            <a:xfrm>
              <a:off x="8897040" y="2725560"/>
              <a:ext cx="1769400" cy="656280"/>
            </a:xfrm>
            <a:prstGeom prst="rect">
              <a:avLst/>
            </a:prstGeom>
            <a:solidFill>
              <a:srgbClr val="a6b7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>
              <a:off x="8897040" y="2725560"/>
              <a:ext cx="1769400" cy="6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1640" rIns="48240" tIns="48240" bIns="48240" anchor="t">
              <a:no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 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75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sk 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75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sk 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"/>
            <p:cNvSpPr/>
            <p:nvPr/>
          </p:nvSpPr>
          <p:spPr>
            <a:xfrm>
              <a:off x="8636040" y="2643480"/>
              <a:ext cx="522000" cy="820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a6b7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9048960" y="3710520"/>
              <a:ext cx="1617480" cy="656280"/>
            </a:xfrm>
            <a:prstGeom prst="rect">
              <a:avLst/>
            </a:prstGeom>
            <a:solidFill>
              <a:srgbClr val="f692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9048960" y="3710520"/>
              <a:ext cx="1617480" cy="6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1640" rIns="48240" tIns="48240" bIns="48240" anchor="t">
              <a:no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 B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75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sk 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75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sk 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8787960" y="3628440"/>
              <a:ext cx="522000" cy="820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69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0"/>
            <p:cNvSpPr/>
            <p:nvPr/>
          </p:nvSpPr>
          <p:spPr>
            <a:xfrm>
              <a:off x="8897040" y="4695120"/>
              <a:ext cx="1769400" cy="656280"/>
            </a:xfrm>
            <a:prstGeom prst="rect">
              <a:avLst/>
            </a:prstGeom>
            <a:solidFill>
              <a:srgbClr val="83838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>
              <a:off x="8897040" y="4695120"/>
              <a:ext cx="1769400" cy="6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1640" rIns="48240" tIns="48240" bIns="48240" anchor="t">
              <a:no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 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75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sk 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8636040" y="4613040"/>
              <a:ext cx="522000" cy="820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3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 txBox="1"/>
          <p:nvPr/>
        </p:nvSpPr>
        <p:spPr>
          <a:xfrm>
            <a:off x="1522080" y="18284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39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bullet poin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39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bullet poin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39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bullet poin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6b727"/>
                </a:solidFill>
                <a:latin typeface="Arial"/>
              </a:rPr>
              <a:t>Two Content Layout with SmartArt</a:t>
            </a: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1275480" y="4653000"/>
            <a:ext cx="250920" cy="3988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06:3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4:23:51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_TemplateID">
    <vt:lpwstr>TC034605389991</vt:lpwstr>
  </property>
</Properties>
</file>