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F64D6-064B-4339-BAA7-960CE8385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FC434-5422-4801-B199-E77E426FD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E86E6-D2A6-4F0F-A8CF-9F9E5D635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3DFBA-E161-4227-AB47-A2A6AFDF0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6E35D-702E-4149-B819-DC28EAA71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FC418-3726-491F-B162-F495A299E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3E38F-0B67-462E-9311-386914A09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59D6D-3C03-438D-A064-A2EE195A6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59449-C003-4AFA-8A4B-5EBCC0942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7A8AA-DC3D-4A72-95FE-780A5C1C4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BEA27-354C-4D1A-9042-8B071D100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9378B-1AC3-4C8D-B3BC-CEAA40518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0A97C-31DF-4618-BF69-0ED7E3CA18AF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88E34-6634-4483-91D9-1A21BDFB863F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矩形 39"/>
          <p:cNvGrpSpPr/>
          <p:nvPr/>
        </p:nvGrpSpPr>
        <p:grpSpPr>
          <a:xfrm>
            <a:off x="0" y="0"/>
            <a:ext cx="9156600" cy="6860880"/>
            <a:chOff x="0" y="0"/>
            <a:chExt cx="9156600" cy="6860880"/>
          </a:xfrm>
        </p:grpSpPr>
        <p:pic>
          <p:nvPicPr>
            <p:cNvPr id="42" name="矩形 39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56600" cy="686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Text Box 3"/>
            <p:cNvSpPr/>
            <p:nvPr/>
          </p:nvSpPr>
          <p:spPr>
            <a:xfrm>
              <a:off x="6480" y="5400"/>
              <a:ext cx="9144000" cy="684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4" name="图片 386" descr="图片1.png"/>
          <p:cNvPicPr/>
          <p:nvPr/>
        </p:nvPicPr>
        <p:blipFill>
          <a:blip r:embed="rId2"/>
          <a:stretch/>
        </p:blipFill>
        <p:spPr>
          <a:xfrm>
            <a:off x="7920" y="0"/>
            <a:ext cx="7012080" cy="3467160"/>
          </a:xfrm>
          <a:prstGeom prst="rect">
            <a:avLst/>
          </a:prstGeom>
          <a:ln w="0">
            <a:noFill/>
          </a:ln>
        </p:spPr>
      </p:pic>
      <p:pic>
        <p:nvPicPr>
          <p:cNvPr id="45" name="图片 80" descr="6.png"/>
          <p:cNvPicPr/>
          <p:nvPr/>
        </p:nvPicPr>
        <p:blipFill>
          <a:blip r:embed="rId3"/>
          <a:stretch/>
        </p:blipFill>
        <p:spPr>
          <a:xfrm>
            <a:off x="1355760" y="5313240"/>
            <a:ext cx="3786120" cy="1543320"/>
          </a:xfrm>
          <a:prstGeom prst="rect">
            <a:avLst/>
          </a:prstGeom>
          <a:ln w="0">
            <a:noFill/>
          </a:ln>
        </p:spPr>
      </p:pic>
      <p:pic>
        <p:nvPicPr>
          <p:cNvPr id="46" name="图片 81" descr="7.png"/>
          <p:cNvPicPr/>
          <p:nvPr/>
        </p:nvPicPr>
        <p:blipFill>
          <a:blip r:embed="rId4"/>
          <a:stretch/>
        </p:blipFill>
        <p:spPr>
          <a:xfrm>
            <a:off x="1246320" y="5742000"/>
            <a:ext cx="4000320" cy="1114560"/>
          </a:xfrm>
          <a:prstGeom prst="rect">
            <a:avLst/>
          </a:prstGeom>
          <a:ln w="0">
            <a:noFill/>
          </a:ln>
        </p:spPr>
      </p:pic>
      <p:pic>
        <p:nvPicPr>
          <p:cNvPr id="47" name="图片 82" descr="8.png"/>
          <p:cNvPicPr/>
          <p:nvPr/>
        </p:nvPicPr>
        <p:blipFill>
          <a:blip r:embed="rId5"/>
          <a:stretch/>
        </p:blipFill>
        <p:spPr>
          <a:xfrm>
            <a:off x="888840" y="6084720"/>
            <a:ext cx="642960" cy="771840"/>
          </a:xfrm>
          <a:prstGeom prst="rect">
            <a:avLst/>
          </a:prstGeom>
          <a:ln w="0">
            <a:noFill/>
          </a:ln>
        </p:spPr>
      </p:pic>
      <p:pic>
        <p:nvPicPr>
          <p:cNvPr id="48" name="图片 83" descr="9.png"/>
          <p:cNvPicPr/>
          <p:nvPr/>
        </p:nvPicPr>
        <p:blipFill>
          <a:blip r:embed="rId6"/>
          <a:stretch/>
        </p:blipFill>
        <p:spPr>
          <a:xfrm>
            <a:off x="4960800" y="5087880"/>
            <a:ext cx="928800" cy="1457280"/>
          </a:xfrm>
          <a:prstGeom prst="rect">
            <a:avLst/>
          </a:prstGeom>
          <a:ln w="0">
            <a:noFill/>
          </a:ln>
        </p:spPr>
      </p:pic>
      <p:pic>
        <p:nvPicPr>
          <p:cNvPr id="49" name="图片 84" descr="10.png"/>
          <p:cNvPicPr/>
          <p:nvPr/>
        </p:nvPicPr>
        <p:blipFill>
          <a:blip r:embed="rId7"/>
          <a:stretch/>
        </p:blipFill>
        <p:spPr>
          <a:xfrm>
            <a:off x="5746680" y="5087880"/>
            <a:ext cx="1428840" cy="1457280"/>
          </a:xfrm>
          <a:prstGeom prst="rect">
            <a:avLst/>
          </a:prstGeom>
          <a:ln w="0">
            <a:noFill/>
          </a:ln>
        </p:spPr>
      </p:pic>
      <p:pic>
        <p:nvPicPr>
          <p:cNvPr id="50" name="图片 85" descr="11.png"/>
          <p:cNvPicPr/>
          <p:nvPr/>
        </p:nvPicPr>
        <p:blipFill>
          <a:blip r:embed="rId8">
            <a:lum bright="20000"/>
          </a:blip>
          <a:stretch/>
        </p:blipFill>
        <p:spPr>
          <a:xfrm>
            <a:off x="6746760" y="2046240"/>
            <a:ext cx="1252800" cy="1001880"/>
          </a:xfrm>
          <a:prstGeom prst="rect">
            <a:avLst/>
          </a:prstGeom>
          <a:ln w="0">
            <a:noFill/>
          </a:ln>
        </p:spPr>
      </p:pic>
      <p:grpSp>
        <p:nvGrpSpPr>
          <p:cNvPr id="51" name="组合 86"/>
          <p:cNvGrpSpPr/>
          <p:nvPr/>
        </p:nvGrpSpPr>
        <p:grpSpPr>
          <a:xfrm>
            <a:off x="0" y="5416560"/>
            <a:ext cx="9144000" cy="1251000"/>
            <a:chOff x="0" y="5416560"/>
            <a:chExt cx="9144000" cy="1251000"/>
          </a:xfrm>
        </p:grpSpPr>
        <p:sp>
          <p:nvSpPr>
            <p:cNvPr id="52" name="矩形 76"/>
            <p:cNvSpPr/>
            <p:nvPr/>
          </p:nvSpPr>
          <p:spPr>
            <a:xfrm>
              <a:off x="0" y="5441040"/>
              <a:ext cx="9144000" cy="1060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377280" y="5416560"/>
              <a:ext cx="8736480" cy="24480"/>
              <a:chOff x="377280" y="5416560"/>
              <a:chExt cx="8736480" cy="24480"/>
            </a:xfrm>
          </p:grpSpPr>
          <p:sp>
            <p:nvSpPr>
              <p:cNvPr id="54" name="Line 9"/>
              <p:cNvSpPr/>
              <p:nvPr/>
            </p:nvSpPr>
            <p:spPr>
              <a:xfrm flipH="1">
                <a:off x="377280" y="5416560"/>
                <a:ext cx="8736120" cy="24480"/>
              </a:xfrm>
              <a:prstGeom prst="line">
                <a:avLst/>
              </a:prstGeom>
              <a:ln w="12600">
                <a:solidFill>
                  <a:srgbClr val="25221e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 txBox="1"/>
              <p:nvPr/>
            </p:nvSpPr>
            <p:spPr>
              <a:xfrm>
                <a:off x="377640" y="5416560"/>
                <a:ext cx="8736120" cy="24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22320" bIns="-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"/>
            <p:cNvGrpSpPr/>
            <p:nvPr/>
          </p:nvGrpSpPr>
          <p:grpSpPr>
            <a:xfrm>
              <a:off x="29520" y="5488920"/>
              <a:ext cx="277920" cy="308520"/>
              <a:chOff x="29520" y="5488920"/>
              <a:chExt cx="277920" cy="308520"/>
            </a:xfrm>
          </p:grpSpPr>
          <p:sp>
            <p:nvSpPr>
              <p:cNvPr id="57" name="Line 12"/>
              <p:cNvSpPr/>
              <p:nvPr/>
            </p:nvSpPr>
            <p:spPr>
              <a:xfrm flipH="1">
                <a:off x="29520" y="5488920"/>
                <a:ext cx="277560" cy="308520"/>
              </a:xfrm>
              <a:prstGeom prst="line">
                <a:avLst/>
              </a:prstGeom>
              <a:ln w="12600">
                <a:solidFill>
                  <a:srgbClr val="25221e">
                    <a:alpha val="19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 txBox="1"/>
              <p:nvPr/>
            </p:nvSpPr>
            <p:spPr>
              <a:xfrm>
                <a:off x="29880" y="5488920"/>
                <a:ext cx="277560" cy="308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" name=""/>
            <p:cNvGrpSpPr/>
            <p:nvPr/>
          </p:nvGrpSpPr>
          <p:grpSpPr>
            <a:xfrm>
              <a:off x="20520" y="5429880"/>
              <a:ext cx="544320" cy="666360"/>
              <a:chOff x="20520" y="5429880"/>
              <a:chExt cx="544320" cy="666360"/>
            </a:xfrm>
          </p:grpSpPr>
          <p:sp>
            <p:nvSpPr>
              <p:cNvPr id="60" name="Line 13"/>
              <p:cNvSpPr/>
              <p:nvPr/>
            </p:nvSpPr>
            <p:spPr>
              <a:xfrm flipH="1">
                <a:off x="20520" y="5429880"/>
                <a:ext cx="544320" cy="666360"/>
              </a:xfrm>
              <a:prstGeom prst="line">
                <a:avLst/>
              </a:prstGeom>
              <a:ln w="12600">
                <a:solidFill>
                  <a:srgbClr val="25221e">
                    <a:alpha val="19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 txBox="1"/>
              <p:nvPr/>
            </p:nvSpPr>
            <p:spPr>
              <a:xfrm>
                <a:off x="20520" y="5429880"/>
                <a:ext cx="544320" cy="666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" name=""/>
            <p:cNvGrpSpPr/>
            <p:nvPr/>
          </p:nvGrpSpPr>
          <p:grpSpPr>
            <a:xfrm>
              <a:off x="20520" y="5441040"/>
              <a:ext cx="753840" cy="940680"/>
              <a:chOff x="20520" y="5441040"/>
              <a:chExt cx="753840" cy="940680"/>
            </a:xfrm>
          </p:grpSpPr>
          <p:sp>
            <p:nvSpPr>
              <p:cNvPr id="63" name="Line 14"/>
              <p:cNvSpPr/>
              <p:nvPr/>
            </p:nvSpPr>
            <p:spPr>
              <a:xfrm flipH="1">
                <a:off x="20520" y="5441040"/>
                <a:ext cx="753840" cy="940680"/>
              </a:xfrm>
              <a:prstGeom prst="line">
                <a:avLst/>
              </a:prstGeom>
              <a:ln w="12600">
                <a:solidFill>
                  <a:srgbClr val="25221e">
                    <a:alpha val="19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 txBox="1"/>
              <p:nvPr/>
            </p:nvSpPr>
            <p:spPr>
              <a:xfrm>
                <a:off x="20520" y="5441040"/>
                <a:ext cx="753840" cy="940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78840" y="5441040"/>
              <a:ext cx="912960" cy="1226520"/>
              <a:chOff x="78840" y="5441040"/>
              <a:chExt cx="912960" cy="1226520"/>
            </a:xfrm>
          </p:grpSpPr>
          <p:sp>
            <p:nvSpPr>
              <p:cNvPr id="66" name="Line 15"/>
              <p:cNvSpPr/>
              <p:nvPr/>
            </p:nvSpPr>
            <p:spPr>
              <a:xfrm flipH="1">
                <a:off x="78840" y="5441040"/>
                <a:ext cx="912600" cy="1226520"/>
              </a:xfrm>
              <a:prstGeom prst="line">
                <a:avLst/>
              </a:prstGeom>
              <a:ln w="6480">
                <a:solidFill>
                  <a:srgbClr val="25221e">
                    <a:alpha val="19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 txBox="1"/>
              <p:nvPr/>
            </p:nvSpPr>
            <p:spPr>
              <a:xfrm>
                <a:off x="79200" y="5441040"/>
                <a:ext cx="912600" cy="1226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8" name=""/>
            <p:cNvGrpSpPr/>
            <p:nvPr/>
          </p:nvGrpSpPr>
          <p:grpSpPr>
            <a:xfrm>
              <a:off x="377280" y="5441040"/>
              <a:ext cx="833760" cy="1215000"/>
              <a:chOff x="377280" y="5441040"/>
              <a:chExt cx="833760" cy="1215000"/>
            </a:xfrm>
          </p:grpSpPr>
          <p:sp>
            <p:nvSpPr>
              <p:cNvPr id="69" name="Line 16"/>
              <p:cNvSpPr/>
              <p:nvPr/>
            </p:nvSpPr>
            <p:spPr>
              <a:xfrm flipH="1">
                <a:off x="377280" y="5441040"/>
                <a:ext cx="833400" cy="1215000"/>
              </a:xfrm>
              <a:prstGeom prst="line">
                <a:avLst/>
              </a:prstGeom>
              <a:ln w="12600">
                <a:solidFill>
                  <a:srgbClr val="25221e">
                    <a:alpha val="19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 txBox="1"/>
              <p:nvPr/>
            </p:nvSpPr>
            <p:spPr>
              <a:xfrm>
                <a:off x="377640" y="5441040"/>
                <a:ext cx="833400" cy="1215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" name=""/>
            <p:cNvGrpSpPr/>
            <p:nvPr/>
          </p:nvGrpSpPr>
          <p:grpSpPr>
            <a:xfrm>
              <a:off x="664560" y="5441040"/>
              <a:ext cx="765360" cy="1215000"/>
              <a:chOff x="664560" y="5441040"/>
              <a:chExt cx="765360" cy="1215000"/>
            </a:xfrm>
          </p:grpSpPr>
          <p:sp>
            <p:nvSpPr>
              <p:cNvPr id="72" name="Line 17"/>
              <p:cNvSpPr/>
              <p:nvPr/>
            </p:nvSpPr>
            <p:spPr>
              <a:xfrm flipH="1">
                <a:off x="664560" y="5441040"/>
                <a:ext cx="765000" cy="1215000"/>
              </a:xfrm>
              <a:prstGeom prst="line">
                <a:avLst/>
              </a:prstGeom>
              <a:ln w="12600">
                <a:solidFill>
                  <a:srgbClr val="25221e">
                    <a:alpha val="19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 txBox="1"/>
              <p:nvPr/>
            </p:nvSpPr>
            <p:spPr>
              <a:xfrm>
                <a:off x="664920" y="5441040"/>
                <a:ext cx="765000" cy="1215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" name=""/>
            <p:cNvGrpSpPr/>
            <p:nvPr/>
          </p:nvGrpSpPr>
          <p:grpSpPr>
            <a:xfrm>
              <a:off x="963000" y="5441040"/>
              <a:ext cx="665280" cy="1215000"/>
              <a:chOff x="963000" y="5441040"/>
              <a:chExt cx="665280" cy="1215000"/>
            </a:xfrm>
          </p:grpSpPr>
          <p:sp>
            <p:nvSpPr>
              <p:cNvPr id="75" name="Line 18"/>
              <p:cNvSpPr/>
              <p:nvPr/>
            </p:nvSpPr>
            <p:spPr>
              <a:xfrm flipH="1">
                <a:off x="963000" y="5441040"/>
                <a:ext cx="664920" cy="1215000"/>
              </a:xfrm>
              <a:prstGeom prst="line">
                <a:avLst/>
              </a:prstGeom>
              <a:ln w="12600">
                <a:solidFill>
                  <a:srgbClr val="25221e">
                    <a:alpha val="19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 txBox="1"/>
              <p:nvPr/>
            </p:nvSpPr>
            <p:spPr>
              <a:xfrm>
                <a:off x="963360" y="5441040"/>
                <a:ext cx="664920" cy="1215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" name=""/>
            <p:cNvGrpSpPr/>
            <p:nvPr/>
          </p:nvGrpSpPr>
          <p:grpSpPr>
            <a:xfrm>
              <a:off x="1260360" y="5441040"/>
              <a:ext cx="596880" cy="1215000"/>
              <a:chOff x="1260360" y="5441040"/>
              <a:chExt cx="596880" cy="1215000"/>
            </a:xfrm>
          </p:grpSpPr>
          <p:sp>
            <p:nvSpPr>
              <p:cNvPr id="78" name="Line 19"/>
              <p:cNvSpPr/>
              <p:nvPr/>
            </p:nvSpPr>
            <p:spPr>
              <a:xfrm flipH="1">
                <a:off x="1260360" y="5441040"/>
                <a:ext cx="596880" cy="1215000"/>
              </a:xfrm>
              <a:prstGeom prst="line">
                <a:avLst/>
              </a:prstGeom>
              <a:ln w="6480">
                <a:solidFill>
                  <a:srgbClr val="25221e">
                    <a:alpha val="19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 txBox="1"/>
              <p:nvPr/>
            </p:nvSpPr>
            <p:spPr>
              <a:xfrm>
                <a:off x="1260360" y="5441040"/>
                <a:ext cx="596880" cy="1215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1549080" y="5441040"/>
              <a:ext cx="516240" cy="1215000"/>
              <a:chOff x="1549080" y="5441040"/>
              <a:chExt cx="516240" cy="1215000"/>
            </a:xfrm>
          </p:grpSpPr>
          <p:sp>
            <p:nvSpPr>
              <p:cNvPr id="81" name="Line 20"/>
              <p:cNvSpPr/>
              <p:nvPr/>
            </p:nvSpPr>
            <p:spPr>
              <a:xfrm flipH="1">
                <a:off x="1549080" y="5441040"/>
                <a:ext cx="515880" cy="1215000"/>
              </a:xfrm>
              <a:prstGeom prst="line">
                <a:avLst/>
              </a:prstGeom>
              <a:ln w="12600">
                <a:solidFill>
                  <a:srgbClr val="25221e">
                    <a:alpha val="19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 txBox="1"/>
              <p:nvPr/>
            </p:nvSpPr>
            <p:spPr>
              <a:xfrm>
                <a:off x="1549440" y="5441040"/>
                <a:ext cx="515880" cy="1215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" name=""/>
            <p:cNvGrpSpPr/>
            <p:nvPr/>
          </p:nvGrpSpPr>
          <p:grpSpPr>
            <a:xfrm>
              <a:off x="1836360" y="5441040"/>
              <a:ext cx="446400" cy="1215000"/>
              <a:chOff x="1836360" y="5441040"/>
              <a:chExt cx="446400" cy="1215000"/>
            </a:xfrm>
          </p:grpSpPr>
          <p:sp>
            <p:nvSpPr>
              <p:cNvPr id="84" name="Line 21"/>
              <p:cNvSpPr/>
              <p:nvPr/>
            </p:nvSpPr>
            <p:spPr>
              <a:xfrm flipH="1">
                <a:off x="1836360" y="5441040"/>
                <a:ext cx="446040" cy="1215000"/>
              </a:xfrm>
              <a:prstGeom prst="line">
                <a:avLst/>
              </a:prstGeom>
              <a:ln w="12600">
                <a:solidFill>
                  <a:srgbClr val="25221e">
                    <a:alpha val="19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 txBox="1"/>
              <p:nvPr/>
            </p:nvSpPr>
            <p:spPr>
              <a:xfrm>
                <a:off x="1836720" y="5441040"/>
                <a:ext cx="446040" cy="1215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" name=""/>
            <p:cNvGrpSpPr/>
            <p:nvPr/>
          </p:nvGrpSpPr>
          <p:grpSpPr>
            <a:xfrm>
              <a:off x="2135160" y="5441040"/>
              <a:ext cx="366480" cy="1215000"/>
              <a:chOff x="2135160" y="5441040"/>
              <a:chExt cx="366480" cy="1215000"/>
            </a:xfrm>
          </p:grpSpPr>
          <p:sp>
            <p:nvSpPr>
              <p:cNvPr id="87" name="Line 22"/>
              <p:cNvSpPr/>
              <p:nvPr/>
            </p:nvSpPr>
            <p:spPr>
              <a:xfrm flipH="1">
                <a:off x="2135160" y="5441040"/>
                <a:ext cx="366480" cy="1215000"/>
              </a:xfrm>
              <a:prstGeom prst="line">
                <a:avLst/>
              </a:prstGeom>
              <a:ln w="6480">
                <a:solidFill>
                  <a:srgbClr val="25221e">
                    <a:alpha val="19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 txBox="1"/>
              <p:nvPr/>
            </p:nvSpPr>
            <p:spPr>
              <a:xfrm>
                <a:off x="2135160" y="5441040"/>
                <a:ext cx="366480" cy="1215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9" name=""/>
            <p:cNvGrpSpPr/>
            <p:nvPr/>
          </p:nvGrpSpPr>
          <p:grpSpPr>
            <a:xfrm>
              <a:off x="2431440" y="5441040"/>
              <a:ext cx="277920" cy="1215000"/>
              <a:chOff x="2431440" y="5441040"/>
              <a:chExt cx="277920" cy="1215000"/>
            </a:xfrm>
          </p:grpSpPr>
          <p:sp>
            <p:nvSpPr>
              <p:cNvPr id="90" name="Line 23"/>
              <p:cNvSpPr/>
              <p:nvPr/>
            </p:nvSpPr>
            <p:spPr>
              <a:xfrm flipH="1">
                <a:off x="2431440" y="5441040"/>
                <a:ext cx="277560" cy="1215000"/>
              </a:xfrm>
              <a:prstGeom prst="line">
                <a:avLst/>
              </a:prstGeom>
              <a:ln w="12600">
                <a:solidFill>
                  <a:srgbClr val="25221e">
                    <a:alpha val="19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 txBox="1"/>
              <p:nvPr/>
            </p:nvSpPr>
            <p:spPr>
              <a:xfrm>
                <a:off x="2431800" y="5441040"/>
                <a:ext cx="277560" cy="1215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2" name=""/>
            <p:cNvGrpSpPr/>
            <p:nvPr/>
          </p:nvGrpSpPr>
          <p:grpSpPr>
            <a:xfrm>
              <a:off x="2730240" y="5441040"/>
              <a:ext cx="198720" cy="1215000"/>
              <a:chOff x="2730240" y="5441040"/>
              <a:chExt cx="198720" cy="1215000"/>
            </a:xfrm>
          </p:grpSpPr>
          <p:sp>
            <p:nvSpPr>
              <p:cNvPr id="93" name="Line 24"/>
              <p:cNvSpPr/>
              <p:nvPr/>
            </p:nvSpPr>
            <p:spPr>
              <a:xfrm flipH="1">
                <a:off x="2730240" y="5441040"/>
                <a:ext cx="198360" cy="1215000"/>
              </a:xfrm>
              <a:prstGeom prst="line">
                <a:avLst/>
              </a:prstGeom>
              <a:ln w="6480">
                <a:solidFill>
                  <a:srgbClr val="25221e">
                    <a:alpha val="19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 txBox="1"/>
              <p:nvPr/>
            </p:nvSpPr>
            <p:spPr>
              <a:xfrm>
                <a:off x="2730600" y="5441040"/>
                <a:ext cx="198360" cy="1215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5" name=""/>
            <p:cNvGrpSpPr/>
            <p:nvPr/>
          </p:nvGrpSpPr>
          <p:grpSpPr>
            <a:xfrm>
              <a:off x="3029040" y="5441040"/>
              <a:ext cx="118800" cy="1215000"/>
              <a:chOff x="3029040" y="5441040"/>
              <a:chExt cx="118800" cy="1215000"/>
            </a:xfrm>
          </p:grpSpPr>
          <p:sp>
            <p:nvSpPr>
              <p:cNvPr id="96" name="Line 25"/>
              <p:cNvSpPr/>
              <p:nvPr/>
            </p:nvSpPr>
            <p:spPr>
              <a:xfrm flipH="1">
                <a:off x="3029040" y="5441040"/>
                <a:ext cx="118800" cy="1215000"/>
              </a:xfrm>
              <a:prstGeom prst="line">
                <a:avLst/>
              </a:prstGeom>
              <a:ln w="12600">
                <a:solidFill>
                  <a:srgbClr val="25221e">
                    <a:alpha val="19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 txBox="1"/>
              <p:nvPr/>
            </p:nvSpPr>
            <p:spPr>
              <a:xfrm>
                <a:off x="3029040" y="5441040"/>
                <a:ext cx="118800" cy="1215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8" name=""/>
            <p:cNvGrpSpPr/>
            <p:nvPr/>
          </p:nvGrpSpPr>
          <p:grpSpPr>
            <a:xfrm>
              <a:off x="3316320" y="5441040"/>
              <a:ext cx="48960" cy="1215000"/>
              <a:chOff x="3316320" y="5441040"/>
              <a:chExt cx="48960" cy="1215000"/>
            </a:xfrm>
          </p:grpSpPr>
          <p:sp>
            <p:nvSpPr>
              <p:cNvPr id="99" name="Line 26"/>
              <p:cNvSpPr/>
              <p:nvPr/>
            </p:nvSpPr>
            <p:spPr>
              <a:xfrm flipH="1">
                <a:off x="3316320" y="5441040"/>
                <a:ext cx="48960" cy="1215000"/>
              </a:xfrm>
              <a:prstGeom prst="line">
                <a:avLst/>
              </a:prstGeom>
              <a:ln w="12600">
                <a:solidFill>
                  <a:srgbClr val="25221e">
                    <a:alpha val="19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 txBox="1"/>
              <p:nvPr/>
            </p:nvSpPr>
            <p:spPr>
              <a:xfrm>
                <a:off x="3316320" y="5441040"/>
                <a:ext cx="48960" cy="1215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" name=""/>
            <p:cNvGrpSpPr/>
            <p:nvPr/>
          </p:nvGrpSpPr>
          <p:grpSpPr>
            <a:xfrm>
              <a:off x="3573360" y="5441040"/>
              <a:ext cx="41040" cy="1215000"/>
              <a:chOff x="3573360" y="5441040"/>
              <a:chExt cx="41040" cy="1215000"/>
            </a:xfrm>
          </p:grpSpPr>
          <p:sp>
            <p:nvSpPr>
              <p:cNvPr id="102" name="Line 27"/>
              <p:cNvSpPr/>
              <p:nvPr/>
            </p:nvSpPr>
            <p:spPr>
              <a:xfrm>
                <a:off x="3573360" y="5441040"/>
                <a:ext cx="41040" cy="1215000"/>
              </a:xfrm>
              <a:prstGeom prst="line">
                <a:avLst/>
              </a:prstGeom>
              <a:ln w="6480">
                <a:solidFill>
                  <a:srgbClr val="25221e">
                    <a:alpha val="19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 txBox="1"/>
              <p:nvPr/>
            </p:nvSpPr>
            <p:spPr>
              <a:xfrm>
                <a:off x="3573360" y="5441040"/>
                <a:ext cx="41040" cy="1215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" name=""/>
            <p:cNvGrpSpPr/>
            <p:nvPr/>
          </p:nvGrpSpPr>
          <p:grpSpPr>
            <a:xfrm>
              <a:off x="3792600" y="5441040"/>
              <a:ext cx="118800" cy="1215000"/>
              <a:chOff x="3792600" y="5441040"/>
              <a:chExt cx="118800" cy="1215000"/>
            </a:xfrm>
          </p:grpSpPr>
          <p:sp>
            <p:nvSpPr>
              <p:cNvPr id="105" name="Line 28"/>
              <p:cNvSpPr/>
              <p:nvPr/>
            </p:nvSpPr>
            <p:spPr>
              <a:xfrm>
                <a:off x="3792600" y="5441040"/>
                <a:ext cx="118800" cy="1215000"/>
              </a:xfrm>
              <a:prstGeom prst="line">
                <a:avLst/>
              </a:prstGeom>
              <a:ln w="12600">
                <a:solidFill>
                  <a:srgbClr val="25221e">
                    <a:alpha val="19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 txBox="1"/>
              <p:nvPr/>
            </p:nvSpPr>
            <p:spPr>
              <a:xfrm>
                <a:off x="3792600" y="5441040"/>
                <a:ext cx="118800" cy="1215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4011480" y="5441040"/>
              <a:ext cx="198360" cy="1215000"/>
              <a:chOff x="4011480" y="5441040"/>
              <a:chExt cx="198360" cy="1215000"/>
            </a:xfrm>
          </p:grpSpPr>
          <p:sp>
            <p:nvSpPr>
              <p:cNvPr id="108" name="Line 29"/>
              <p:cNvSpPr/>
              <p:nvPr/>
            </p:nvSpPr>
            <p:spPr>
              <a:xfrm>
                <a:off x="4011480" y="5441040"/>
                <a:ext cx="198360" cy="1215000"/>
              </a:xfrm>
              <a:prstGeom prst="line">
                <a:avLst/>
              </a:prstGeom>
              <a:ln w="12600">
                <a:solidFill>
                  <a:srgbClr val="25221e">
                    <a:alpha val="19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 txBox="1"/>
              <p:nvPr/>
            </p:nvSpPr>
            <p:spPr>
              <a:xfrm>
                <a:off x="4011480" y="5441040"/>
                <a:ext cx="198360" cy="1215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" name=""/>
            <p:cNvGrpSpPr/>
            <p:nvPr/>
          </p:nvGrpSpPr>
          <p:grpSpPr>
            <a:xfrm>
              <a:off x="4219560" y="5441040"/>
              <a:ext cx="287280" cy="1215000"/>
              <a:chOff x="4219560" y="5441040"/>
              <a:chExt cx="287280" cy="1215000"/>
            </a:xfrm>
          </p:grpSpPr>
          <p:sp>
            <p:nvSpPr>
              <p:cNvPr id="111" name="Line 30"/>
              <p:cNvSpPr/>
              <p:nvPr/>
            </p:nvSpPr>
            <p:spPr>
              <a:xfrm>
                <a:off x="4219560" y="5441040"/>
                <a:ext cx="287280" cy="1215000"/>
              </a:xfrm>
              <a:prstGeom prst="line">
                <a:avLst/>
              </a:prstGeom>
              <a:ln w="6480">
                <a:solidFill>
                  <a:srgbClr val="25221e">
                    <a:alpha val="19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 txBox="1"/>
              <p:nvPr/>
            </p:nvSpPr>
            <p:spPr>
              <a:xfrm>
                <a:off x="4219560" y="5441040"/>
                <a:ext cx="287280" cy="1215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" name=""/>
            <p:cNvGrpSpPr/>
            <p:nvPr/>
          </p:nvGrpSpPr>
          <p:grpSpPr>
            <a:xfrm>
              <a:off x="4438800" y="5441040"/>
              <a:ext cx="366480" cy="1215000"/>
              <a:chOff x="4438800" y="5441040"/>
              <a:chExt cx="366480" cy="1215000"/>
            </a:xfrm>
          </p:grpSpPr>
          <p:sp>
            <p:nvSpPr>
              <p:cNvPr id="114" name="Line 31"/>
              <p:cNvSpPr/>
              <p:nvPr/>
            </p:nvSpPr>
            <p:spPr>
              <a:xfrm>
                <a:off x="4438800" y="5441040"/>
                <a:ext cx="366480" cy="1215000"/>
              </a:xfrm>
              <a:prstGeom prst="line">
                <a:avLst/>
              </a:prstGeom>
              <a:ln w="12600">
                <a:solidFill>
                  <a:srgbClr val="25221e">
                    <a:alpha val="19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 txBox="1"/>
              <p:nvPr/>
            </p:nvSpPr>
            <p:spPr>
              <a:xfrm>
                <a:off x="4438800" y="5441040"/>
                <a:ext cx="366480" cy="1215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" name=""/>
            <p:cNvGrpSpPr/>
            <p:nvPr/>
          </p:nvGrpSpPr>
          <p:grpSpPr>
            <a:xfrm>
              <a:off x="4656240" y="5441040"/>
              <a:ext cx="447480" cy="1215000"/>
              <a:chOff x="4656240" y="5441040"/>
              <a:chExt cx="447480" cy="1215000"/>
            </a:xfrm>
          </p:grpSpPr>
          <p:sp>
            <p:nvSpPr>
              <p:cNvPr id="117" name="Line 32"/>
              <p:cNvSpPr/>
              <p:nvPr/>
            </p:nvSpPr>
            <p:spPr>
              <a:xfrm>
                <a:off x="4656240" y="5441040"/>
                <a:ext cx="447480" cy="1215000"/>
              </a:xfrm>
              <a:prstGeom prst="line">
                <a:avLst/>
              </a:prstGeom>
              <a:ln w="12600">
                <a:solidFill>
                  <a:srgbClr val="25221e">
                    <a:alpha val="19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 txBox="1"/>
              <p:nvPr/>
            </p:nvSpPr>
            <p:spPr>
              <a:xfrm>
                <a:off x="4656240" y="5441040"/>
                <a:ext cx="447480" cy="1215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9" name=""/>
            <p:cNvGrpSpPr/>
            <p:nvPr/>
          </p:nvGrpSpPr>
          <p:grpSpPr>
            <a:xfrm>
              <a:off x="4865760" y="5441040"/>
              <a:ext cx="534960" cy="1215000"/>
              <a:chOff x="4865760" y="5441040"/>
              <a:chExt cx="534960" cy="1215000"/>
            </a:xfrm>
          </p:grpSpPr>
          <p:sp>
            <p:nvSpPr>
              <p:cNvPr id="120" name="Line 33"/>
              <p:cNvSpPr/>
              <p:nvPr/>
            </p:nvSpPr>
            <p:spPr>
              <a:xfrm>
                <a:off x="4865760" y="5441040"/>
                <a:ext cx="534960" cy="1215000"/>
              </a:xfrm>
              <a:prstGeom prst="line">
                <a:avLst/>
              </a:prstGeom>
              <a:ln w="6480">
                <a:solidFill>
                  <a:srgbClr val="25221e">
                    <a:alpha val="19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 txBox="1"/>
              <p:nvPr/>
            </p:nvSpPr>
            <p:spPr>
              <a:xfrm>
                <a:off x="4865760" y="5441040"/>
                <a:ext cx="534960" cy="1215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2" name=""/>
            <p:cNvGrpSpPr/>
            <p:nvPr/>
          </p:nvGrpSpPr>
          <p:grpSpPr>
            <a:xfrm>
              <a:off x="5083200" y="5441040"/>
              <a:ext cx="615960" cy="1215000"/>
              <a:chOff x="5083200" y="5441040"/>
              <a:chExt cx="615960" cy="1215000"/>
            </a:xfrm>
          </p:grpSpPr>
          <p:sp>
            <p:nvSpPr>
              <p:cNvPr id="123" name="Line 34"/>
              <p:cNvSpPr/>
              <p:nvPr/>
            </p:nvSpPr>
            <p:spPr>
              <a:xfrm>
                <a:off x="5083200" y="5441040"/>
                <a:ext cx="615960" cy="1215000"/>
              </a:xfrm>
              <a:prstGeom prst="line">
                <a:avLst/>
              </a:prstGeom>
              <a:ln w="12600">
                <a:solidFill>
                  <a:srgbClr val="25221e">
                    <a:alpha val="19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 txBox="1"/>
              <p:nvPr/>
            </p:nvSpPr>
            <p:spPr>
              <a:xfrm>
                <a:off x="5083200" y="5441040"/>
                <a:ext cx="615960" cy="1215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" name=""/>
            <p:cNvGrpSpPr/>
            <p:nvPr/>
          </p:nvGrpSpPr>
          <p:grpSpPr>
            <a:xfrm>
              <a:off x="5291280" y="5441040"/>
              <a:ext cx="706320" cy="1215000"/>
              <a:chOff x="5291280" y="5441040"/>
              <a:chExt cx="706320" cy="1215000"/>
            </a:xfrm>
          </p:grpSpPr>
          <p:sp>
            <p:nvSpPr>
              <p:cNvPr id="126" name="Line 35"/>
              <p:cNvSpPr/>
              <p:nvPr/>
            </p:nvSpPr>
            <p:spPr>
              <a:xfrm>
                <a:off x="5291280" y="5441040"/>
                <a:ext cx="706320" cy="1215000"/>
              </a:xfrm>
              <a:prstGeom prst="line">
                <a:avLst/>
              </a:prstGeom>
              <a:ln w="6480">
                <a:solidFill>
                  <a:srgbClr val="25221e">
                    <a:alpha val="19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 txBox="1"/>
              <p:nvPr/>
            </p:nvSpPr>
            <p:spPr>
              <a:xfrm>
                <a:off x="5291280" y="5441040"/>
                <a:ext cx="706320" cy="1215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5510160" y="5441040"/>
              <a:ext cx="784080" cy="1215000"/>
              <a:chOff x="5510160" y="5441040"/>
              <a:chExt cx="784080" cy="1215000"/>
            </a:xfrm>
          </p:grpSpPr>
          <p:sp>
            <p:nvSpPr>
              <p:cNvPr id="129" name="Line 36"/>
              <p:cNvSpPr/>
              <p:nvPr/>
            </p:nvSpPr>
            <p:spPr>
              <a:xfrm>
                <a:off x="5510160" y="5441040"/>
                <a:ext cx="784080" cy="1215000"/>
              </a:xfrm>
              <a:prstGeom prst="line">
                <a:avLst/>
              </a:prstGeom>
              <a:ln w="12600">
                <a:solidFill>
                  <a:srgbClr val="25221e">
                    <a:alpha val="19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 txBox="1"/>
              <p:nvPr/>
            </p:nvSpPr>
            <p:spPr>
              <a:xfrm>
                <a:off x="5510160" y="5441040"/>
                <a:ext cx="784080" cy="1215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5729400" y="5441040"/>
              <a:ext cx="873000" cy="1215000"/>
              <a:chOff x="5729400" y="5441040"/>
              <a:chExt cx="873000" cy="1215000"/>
            </a:xfrm>
          </p:grpSpPr>
          <p:sp>
            <p:nvSpPr>
              <p:cNvPr id="132" name="Line 37"/>
              <p:cNvSpPr/>
              <p:nvPr/>
            </p:nvSpPr>
            <p:spPr>
              <a:xfrm>
                <a:off x="5729400" y="5441040"/>
                <a:ext cx="873000" cy="1215000"/>
              </a:xfrm>
              <a:prstGeom prst="line">
                <a:avLst/>
              </a:prstGeom>
              <a:ln w="12600">
                <a:solidFill>
                  <a:srgbClr val="25221e">
                    <a:alpha val="19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 txBox="1"/>
              <p:nvPr/>
            </p:nvSpPr>
            <p:spPr>
              <a:xfrm>
                <a:off x="5729400" y="5441040"/>
                <a:ext cx="873000" cy="1215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" name=""/>
            <p:cNvGrpSpPr/>
            <p:nvPr/>
          </p:nvGrpSpPr>
          <p:grpSpPr>
            <a:xfrm>
              <a:off x="5937480" y="5441040"/>
              <a:ext cx="952200" cy="1215000"/>
              <a:chOff x="5937480" y="5441040"/>
              <a:chExt cx="952200" cy="1215000"/>
            </a:xfrm>
          </p:grpSpPr>
          <p:sp>
            <p:nvSpPr>
              <p:cNvPr id="135" name="Line 38"/>
              <p:cNvSpPr/>
              <p:nvPr/>
            </p:nvSpPr>
            <p:spPr>
              <a:xfrm>
                <a:off x="5937480" y="5441040"/>
                <a:ext cx="952200" cy="1215000"/>
              </a:xfrm>
              <a:prstGeom prst="line">
                <a:avLst/>
              </a:prstGeom>
              <a:ln w="12600">
                <a:solidFill>
                  <a:srgbClr val="25221e">
                    <a:alpha val="19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 txBox="1"/>
              <p:nvPr/>
            </p:nvSpPr>
            <p:spPr>
              <a:xfrm>
                <a:off x="5937480" y="5441040"/>
                <a:ext cx="952200" cy="1215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" name=""/>
            <p:cNvGrpSpPr/>
            <p:nvPr/>
          </p:nvGrpSpPr>
          <p:grpSpPr>
            <a:xfrm>
              <a:off x="6156360" y="5441040"/>
              <a:ext cx="1041120" cy="1215000"/>
              <a:chOff x="6156360" y="5441040"/>
              <a:chExt cx="1041120" cy="1215000"/>
            </a:xfrm>
          </p:grpSpPr>
          <p:sp>
            <p:nvSpPr>
              <p:cNvPr id="138" name="Line 39"/>
              <p:cNvSpPr/>
              <p:nvPr/>
            </p:nvSpPr>
            <p:spPr>
              <a:xfrm>
                <a:off x="6156360" y="5441040"/>
                <a:ext cx="1041120" cy="1215000"/>
              </a:xfrm>
              <a:prstGeom prst="line">
                <a:avLst/>
              </a:prstGeom>
              <a:ln w="6480">
                <a:solidFill>
                  <a:srgbClr val="25221e">
                    <a:alpha val="19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 txBox="1"/>
              <p:nvPr/>
            </p:nvSpPr>
            <p:spPr>
              <a:xfrm>
                <a:off x="6156360" y="5441040"/>
                <a:ext cx="1041120" cy="1215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0" name=""/>
            <p:cNvGrpSpPr/>
            <p:nvPr/>
          </p:nvGrpSpPr>
          <p:grpSpPr>
            <a:xfrm>
              <a:off x="6373800" y="5441040"/>
              <a:ext cx="1122120" cy="1215000"/>
              <a:chOff x="6373800" y="5441040"/>
              <a:chExt cx="1122120" cy="1215000"/>
            </a:xfrm>
          </p:grpSpPr>
          <p:sp>
            <p:nvSpPr>
              <p:cNvPr id="141" name="Line 40"/>
              <p:cNvSpPr/>
              <p:nvPr/>
            </p:nvSpPr>
            <p:spPr>
              <a:xfrm>
                <a:off x="6373800" y="5441040"/>
                <a:ext cx="1122120" cy="1215000"/>
              </a:xfrm>
              <a:prstGeom prst="line">
                <a:avLst/>
              </a:prstGeom>
              <a:ln w="12600">
                <a:solidFill>
                  <a:srgbClr val="25221e">
                    <a:alpha val="19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 txBox="1"/>
              <p:nvPr/>
            </p:nvSpPr>
            <p:spPr>
              <a:xfrm>
                <a:off x="6373800" y="5441040"/>
                <a:ext cx="1122120" cy="1215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" name=""/>
            <p:cNvGrpSpPr/>
            <p:nvPr/>
          </p:nvGrpSpPr>
          <p:grpSpPr>
            <a:xfrm>
              <a:off x="6583320" y="5441040"/>
              <a:ext cx="1220760" cy="1215000"/>
              <a:chOff x="6583320" y="5441040"/>
              <a:chExt cx="1220760" cy="1215000"/>
            </a:xfrm>
          </p:grpSpPr>
          <p:sp>
            <p:nvSpPr>
              <p:cNvPr id="144" name="Line 41"/>
              <p:cNvSpPr/>
              <p:nvPr/>
            </p:nvSpPr>
            <p:spPr>
              <a:xfrm>
                <a:off x="6583320" y="5441040"/>
                <a:ext cx="1220760" cy="1215000"/>
              </a:xfrm>
              <a:prstGeom prst="line">
                <a:avLst/>
              </a:prstGeom>
              <a:ln w="6480">
                <a:solidFill>
                  <a:srgbClr val="25221e">
                    <a:alpha val="19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 txBox="1"/>
              <p:nvPr/>
            </p:nvSpPr>
            <p:spPr>
              <a:xfrm>
                <a:off x="6583320" y="5441040"/>
                <a:ext cx="1220760" cy="1215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" name=""/>
            <p:cNvGrpSpPr/>
            <p:nvPr/>
          </p:nvGrpSpPr>
          <p:grpSpPr>
            <a:xfrm>
              <a:off x="6791400" y="5441040"/>
              <a:ext cx="1320840" cy="1215000"/>
              <a:chOff x="6791400" y="5441040"/>
              <a:chExt cx="1320840" cy="1215000"/>
            </a:xfrm>
          </p:grpSpPr>
          <p:sp>
            <p:nvSpPr>
              <p:cNvPr id="147" name="Line 42"/>
              <p:cNvSpPr/>
              <p:nvPr/>
            </p:nvSpPr>
            <p:spPr>
              <a:xfrm>
                <a:off x="6791400" y="5441040"/>
                <a:ext cx="1320840" cy="1215000"/>
              </a:xfrm>
              <a:prstGeom prst="line">
                <a:avLst/>
              </a:prstGeom>
              <a:ln w="12600">
                <a:solidFill>
                  <a:srgbClr val="25221e">
                    <a:alpha val="19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 txBox="1"/>
              <p:nvPr/>
            </p:nvSpPr>
            <p:spPr>
              <a:xfrm>
                <a:off x="6791400" y="5441040"/>
                <a:ext cx="1320840" cy="1215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9" name=""/>
            <p:cNvGrpSpPr/>
            <p:nvPr/>
          </p:nvGrpSpPr>
          <p:grpSpPr>
            <a:xfrm>
              <a:off x="7020000" y="5441040"/>
              <a:ext cx="1369800" cy="1215000"/>
              <a:chOff x="7020000" y="5441040"/>
              <a:chExt cx="1369800" cy="1215000"/>
            </a:xfrm>
          </p:grpSpPr>
          <p:sp>
            <p:nvSpPr>
              <p:cNvPr id="150" name="Line 43"/>
              <p:cNvSpPr/>
              <p:nvPr/>
            </p:nvSpPr>
            <p:spPr>
              <a:xfrm>
                <a:off x="7020000" y="5441040"/>
                <a:ext cx="1369800" cy="1215000"/>
              </a:xfrm>
              <a:prstGeom prst="line">
                <a:avLst/>
              </a:prstGeom>
              <a:ln w="12600">
                <a:solidFill>
                  <a:srgbClr val="25221e">
                    <a:alpha val="19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 txBox="1"/>
              <p:nvPr/>
            </p:nvSpPr>
            <p:spPr>
              <a:xfrm>
                <a:off x="7020000" y="5441040"/>
                <a:ext cx="1369800" cy="1215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7228080" y="5441040"/>
              <a:ext cx="1469880" cy="1215000"/>
              <a:chOff x="7228080" y="5441040"/>
              <a:chExt cx="1469880" cy="1215000"/>
            </a:xfrm>
          </p:grpSpPr>
          <p:sp>
            <p:nvSpPr>
              <p:cNvPr id="153" name="Line 44"/>
              <p:cNvSpPr/>
              <p:nvPr/>
            </p:nvSpPr>
            <p:spPr>
              <a:xfrm>
                <a:off x="7228080" y="5441040"/>
                <a:ext cx="1469880" cy="1215000"/>
              </a:xfrm>
              <a:prstGeom prst="line">
                <a:avLst/>
              </a:prstGeom>
              <a:ln w="6480">
                <a:solidFill>
                  <a:srgbClr val="25221e">
                    <a:alpha val="19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 txBox="1"/>
              <p:nvPr/>
            </p:nvSpPr>
            <p:spPr>
              <a:xfrm>
                <a:off x="7228080" y="5441040"/>
                <a:ext cx="1469880" cy="1215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7446960" y="5441040"/>
              <a:ext cx="1547640" cy="1215000"/>
              <a:chOff x="7446960" y="5441040"/>
              <a:chExt cx="1547640" cy="1215000"/>
            </a:xfrm>
          </p:grpSpPr>
          <p:sp>
            <p:nvSpPr>
              <p:cNvPr id="156" name="Line 45"/>
              <p:cNvSpPr/>
              <p:nvPr/>
            </p:nvSpPr>
            <p:spPr>
              <a:xfrm>
                <a:off x="7446960" y="5441040"/>
                <a:ext cx="1547640" cy="1215000"/>
              </a:xfrm>
              <a:prstGeom prst="line">
                <a:avLst/>
              </a:prstGeom>
              <a:ln w="12600">
                <a:solidFill>
                  <a:srgbClr val="25221e">
                    <a:alpha val="19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 txBox="1"/>
              <p:nvPr/>
            </p:nvSpPr>
            <p:spPr>
              <a:xfrm>
                <a:off x="7446960" y="5441040"/>
                <a:ext cx="1547640" cy="1215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7674120" y="5441040"/>
              <a:ext cx="1430280" cy="1072080"/>
              <a:chOff x="7674120" y="5441040"/>
              <a:chExt cx="1430280" cy="1072080"/>
            </a:xfrm>
          </p:grpSpPr>
          <p:sp>
            <p:nvSpPr>
              <p:cNvPr id="159" name="Line 46"/>
              <p:cNvSpPr/>
              <p:nvPr/>
            </p:nvSpPr>
            <p:spPr>
              <a:xfrm>
                <a:off x="7674120" y="5441040"/>
                <a:ext cx="1430280" cy="1072080"/>
              </a:xfrm>
              <a:prstGeom prst="line">
                <a:avLst/>
              </a:prstGeom>
              <a:ln w="12600">
                <a:solidFill>
                  <a:srgbClr val="25221e">
                    <a:alpha val="19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 txBox="1"/>
              <p:nvPr/>
            </p:nvSpPr>
            <p:spPr>
              <a:xfrm>
                <a:off x="7674120" y="5441040"/>
                <a:ext cx="1430280" cy="10720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" name=""/>
            <p:cNvGrpSpPr/>
            <p:nvPr/>
          </p:nvGrpSpPr>
          <p:grpSpPr>
            <a:xfrm>
              <a:off x="7874280" y="5441040"/>
              <a:ext cx="1250640" cy="881640"/>
              <a:chOff x="7874280" y="5441040"/>
              <a:chExt cx="1250640" cy="881640"/>
            </a:xfrm>
          </p:grpSpPr>
          <p:sp>
            <p:nvSpPr>
              <p:cNvPr id="162" name="Line 47"/>
              <p:cNvSpPr/>
              <p:nvPr/>
            </p:nvSpPr>
            <p:spPr>
              <a:xfrm>
                <a:off x="7874280" y="5441040"/>
                <a:ext cx="1250640" cy="881640"/>
              </a:xfrm>
              <a:prstGeom prst="line">
                <a:avLst/>
              </a:prstGeom>
              <a:ln w="6480">
                <a:solidFill>
                  <a:srgbClr val="25221e">
                    <a:alpha val="19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 txBox="1"/>
              <p:nvPr/>
            </p:nvSpPr>
            <p:spPr>
              <a:xfrm>
                <a:off x="7874280" y="5441040"/>
                <a:ext cx="1250640" cy="881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4" name=""/>
            <p:cNvGrpSpPr/>
            <p:nvPr/>
          </p:nvGrpSpPr>
          <p:grpSpPr>
            <a:xfrm>
              <a:off x="8091720" y="5441040"/>
              <a:ext cx="1012680" cy="691200"/>
              <a:chOff x="8091720" y="5441040"/>
              <a:chExt cx="1012680" cy="691200"/>
            </a:xfrm>
          </p:grpSpPr>
          <p:sp>
            <p:nvSpPr>
              <p:cNvPr id="165" name="Line 48"/>
              <p:cNvSpPr/>
              <p:nvPr/>
            </p:nvSpPr>
            <p:spPr>
              <a:xfrm>
                <a:off x="8091720" y="5441040"/>
                <a:ext cx="1012680" cy="691200"/>
              </a:xfrm>
              <a:prstGeom prst="line">
                <a:avLst/>
              </a:prstGeom>
              <a:ln w="12600">
                <a:solidFill>
                  <a:srgbClr val="25221e">
                    <a:alpha val="19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 txBox="1"/>
              <p:nvPr/>
            </p:nvSpPr>
            <p:spPr>
              <a:xfrm>
                <a:off x="8091720" y="5441040"/>
                <a:ext cx="1012680" cy="691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7" name=""/>
            <p:cNvGrpSpPr/>
            <p:nvPr/>
          </p:nvGrpSpPr>
          <p:grpSpPr>
            <a:xfrm>
              <a:off x="8310600" y="5441040"/>
              <a:ext cx="793440" cy="512280"/>
              <a:chOff x="8310600" y="5441040"/>
              <a:chExt cx="793440" cy="512280"/>
            </a:xfrm>
          </p:grpSpPr>
          <p:sp>
            <p:nvSpPr>
              <p:cNvPr id="168" name="Line 49"/>
              <p:cNvSpPr/>
              <p:nvPr/>
            </p:nvSpPr>
            <p:spPr>
              <a:xfrm>
                <a:off x="8310600" y="5441040"/>
                <a:ext cx="793440" cy="512280"/>
              </a:xfrm>
              <a:prstGeom prst="line">
                <a:avLst/>
              </a:prstGeom>
              <a:ln w="12600">
                <a:solidFill>
                  <a:srgbClr val="25221e">
                    <a:alpha val="19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 txBox="1"/>
              <p:nvPr/>
            </p:nvSpPr>
            <p:spPr>
              <a:xfrm>
                <a:off x="8310600" y="5441040"/>
                <a:ext cx="793440" cy="51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0" name=""/>
            <p:cNvGrpSpPr/>
            <p:nvPr/>
          </p:nvGrpSpPr>
          <p:grpSpPr>
            <a:xfrm>
              <a:off x="8548920" y="5441040"/>
              <a:ext cx="546120" cy="344520"/>
              <a:chOff x="8548920" y="5441040"/>
              <a:chExt cx="546120" cy="344520"/>
            </a:xfrm>
          </p:grpSpPr>
          <p:sp>
            <p:nvSpPr>
              <p:cNvPr id="171" name="Line 50"/>
              <p:cNvSpPr/>
              <p:nvPr/>
            </p:nvSpPr>
            <p:spPr>
              <a:xfrm>
                <a:off x="8548920" y="5441040"/>
                <a:ext cx="546120" cy="344520"/>
              </a:xfrm>
              <a:prstGeom prst="line">
                <a:avLst/>
              </a:prstGeom>
              <a:ln w="6480">
                <a:solidFill>
                  <a:srgbClr val="25221e">
                    <a:alpha val="19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 txBox="1"/>
              <p:nvPr/>
            </p:nvSpPr>
            <p:spPr>
              <a:xfrm>
                <a:off x="8548920" y="5441040"/>
                <a:ext cx="546120" cy="344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" name=""/>
            <p:cNvGrpSpPr/>
            <p:nvPr/>
          </p:nvGrpSpPr>
          <p:grpSpPr>
            <a:xfrm>
              <a:off x="8756640" y="5441040"/>
              <a:ext cx="347400" cy="201600"/>
              <a:chOff x="8756640" y="5441040"/>
              <a:chExt cx="347400" cy="201600"/>
            </a:xfrm>
          </p:grpSpPr>
          <p:sp>
            <p:nvSpPr>
              <p:cNvPr id="174" name="Line 51"/>
              <p:cNvSpPr/>
              <p:nvPr/>
            </p:nvSpPr>
            <p:spPr>
              <a:xfrm>
                <a:off x="8756640" y="5441040"/>
                <a:ext cx="347400" cy="201600"/>
              </a:xfrm>
              <a:prstGeom prst="line">
                <a:avLst/>
              </a:prstGeom>
              <a:ln w="12600">
                <a:solidFill>
                  <a:srgbClr val="25221e">
                    <a:alpha val="19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 txBox="1"/>
              <p:nvPr/>
            </p:nvSpPr>
            <p:spPr>
              <a:xfrm>
                <a:off x="8756640" y="5441040"/>
                <a:ext cx="347400" cy="201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" name=""/>
            <p:cNvGrpSpPr/>
            <p:nvPr/>
          </p:nvGrpSpPr>
          <p:grpSpPr>
            <a:xfrm>
              <a:off x="8975880" y="5441040"/>
              <a:ext cx="128520" cy="70200"/>
              <a:chOff x="8975880" y="5441040"/>
              <a:chExt cx="128520" cy="70200"/>
            </a:xfrm>
          </p:grpSpPr>
          <p:sp>
            <p:nvSpPr>
              <p:cNvPr id="177" name="Line 52"/>
              <p:cNvSpPr/>
              <p:nvPr/>
            </p:nvSpPr>
            <p:spPr>
              <a:xfrm>
                <a:off x="8975880" y="5441040"/>
                <a:ext cx="128520" cy="70200"/>
              </a:xfrm>
              <a:prstGeom prst="line">
                <a:avLst/>
              </a:prstGeom>
              <a:ln w="12600">
                <a:solidFill>
                  <a:srgbClr val="25221e">
                    <a:alpha val="19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 txBox="1"/>
              <p:nvPr/>
            </p:nvSpPr>
            <p:spPr>
              <a:xfrm>
                <a:off x="8975880" y="5441040"/>
                <a:ext cx="128520" cy="70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23400" bIns="23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9" name="矩形 69"/>
          <p:cNvSpPr/>
          <p:nvPr/>
        </p:nvSpPr>
        <p:spPr>
          <a:xfrm>
            <a:off x="6075360" y="3193920"/>
            <a:ext cx="3067200" cy="1511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11"/>
          <p:cNvSpPr/>
          <p:nvPr/>
        </p:nvSpPr>
        <p:spPr>
          <a:xfrm>
            <a:off x="6075360" y="2927520"/>
            <a:ext cx="3067200" cy="16488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矩形 71"/>
          <p:cNvSpPr/>
          <p:nvPr/>
        </p:nvSpPr>
        <p:spPr>
          <a:xfrm>
            <a:off x="0" y="2305080"/>
            <a:ext cx="411120" cy="4552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6480">
            <a:solidFill>
              <a:srgbClr val="25221e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矩形 74"/>
          <p:cNvSpPr/>
          <p:nvPr/>
        </p:nvSpPr>
        <p:spPr>
          <a:xfrm>
            <a:off x="392040" y="3200400"/>
            <a:ext cx="8750520" cy="2416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矩形 72"/>
          <p:cNvSpPr/>
          <p:nvPr/>
        </p:nvSpPr>
        <p:spPr>
          <a:xfrm>
            <a:off x="6075360" y="3084480"/>
            <a:ext cx="3067200" cy="363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图片 19" descr="0.png"/>
          <p:cNvPicPr/>
          <p:nvPr/>
        </p:nvPicPr>
        <p:blipFill>
          <a:blip r:embed="rId9"/>
          <a:stretch/>
        </p:blipFill>
        <p:spPr>
          <a:xfrm>
            <a:off x="5762520" y="3602160"/>
            <a:ext cx="1293840" cy="2054160"/>
          </a:xfrm>
          <a:prstGeom prst="rect">
            <a:avLst/>
          </a:prstGeom>
          <a:ln w="0">
            <a:noFill/>
          </a:ln>
        </p:spPr>
      </p:pic>
      <p:pic>
        <p:nvPicPr>
          <p:cNvPr id="185" name="图片 20" descr="1.png"/>
          <p:cNvPicPr/>
          <p:nvPr/>
        </p:nvPicPr>
        <p:blipFill>
          <a:blip r:embed="rId10"/>
          <a:stretch/>
        </p:blipFill>
        <p:spPr>
          <a:xfrm>
            <a:off x="6948360" y="2305080"/>
            <a:ext cx="765360" cy="727200"/>
          </a:xfrm>
          <a:prstGeom prst="rect">
            <a:avLst/>
          </a:prstGeom>
          <a:ln w="0">
            <a:noFill/>
          </a:ln>
        </p:spPr>
      </p:pic>
      <p:pic>
        <p:nvPicPr>
          <p:cNvPr id="186" name="图片 21" descr="2.png"/>
          <p:cNvPicPr/>
          <p:nvPr/>
        </p:nvPicPr>
        <p:blipFill>
          <a:blip r:embed="rId11"/>
          <a:stretch/>
        </p:blipFill>
        <p:spPr>
          <a:xfrm>
            <a:off x="5146560" y="2219400"/>
            <a:ext cx="711360" cy="4114800"/>
          </a:xfrm>
          <a:prstGeom prst="rect">
            <a:avLst/>
          </a:prstGeom>
          <a:ln w="0">
            <a:noFill/>
          </a:ln>
        </p:spPr>
      </p:pic>
      <p:pic>
        <p:nvPicPr>
          <p:cNvPr id="187" name="图片 23" descr="4.png"/>
          <p:cNvPicPr/>
          <p:nvPr/>
        </p:nvPicPr>
        <p:blipFill>
          <a:blip r:embed="rId12"/>
          <a:stretch/>
        </p:blipFill>
        <p:spPr>
          <a:xfrm>
            <a:off x="1082520" y="3282840"/>
            <a:ext cx="4343400" cy="2859120"/>
          </a:xfrm>
          <a:prstGeom prst="rect">
            <a:avLst/>
          </a:prstGeom>
          <a:ln w="0">
            <a:noFill/>
          </a:ln>
        </p:spPr>
      </p:pic>
      <p:pic>
        <p:nvPicPr>
          <p:cNvPr id="188" name="图片 22" descr="3.png"/>
          <p:cNvPicPr/>
          <p:nvPr/>
        </p:nvPicPr>
        <p:blipFill>
          <a:blip r:embed="rId13"/>
          <a:stretch/>
        </p:blipFill>
        <p:spPr>
          <a:xfrm>
            <a:off x="674640" y="4456080"/>
            <a:ext cx="1000080" cy="1886040"/>
          </a:xfrm>
          <a:prstGeom prst="rect">
            <a:avLst/>
          </a:prstGeom>
          <a:ln w="0">
            <a:noFill/>
          </a:ln>
        </p:spPr>
      </p:pic>
      <p:sp>
        <p:nvSpPr>
          <p:cNvPr id="189" name="矩形 134"/>
          <p:cNvSpPr/>
          <p:nvPr/>
        </p:nvSpPr>
        <p:spPr>
          <a:xfrm flipV="1">
            <a:off x="-1080" y="-720"/>
            <a:ext cx="9144000" cy="2305080"/>
          </a:xfrm>
          <a:prstGeom prst="rect">
            <a:avLst/>
          </a:prstGeom>
          <a:solidFill>
            <a:srgbClr val="00000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" name="组合 520"/>
          <p:cNvGrpSpPr/>
          <p:nvPr/>
        </p:nvGrpSpPr>
        <p:grpSpPr>
          <a:xfrm>
            <a:off x="2097000" y="57240"/>
            <a:ext cx="2933640" cy="1593720"/>
            <a:chOff x="2097000" y="57240"/>
            <a:chExt cx="2933640" cy="1593720"/>
          </a:xfrm>
        </p:grpSpPr>
        <p:grpSp>
          <p:nvGrpSpPr>
            <p:cNvPr id="191" name="组合 510"/>
            <p:cNvGrpSpPr/>
            <p:nvPr/>
          </p:nvGrpSpPr>
          <p:grpSpPr>
            <a:xfrm>
              <a:off x="4930200" y="1532880"/>
              <a:ext cx="100440" cy="118080"/>
              <a:chOff x="4930200" y="1532880"/>
              <a:chExt cx="100440" cy="118080"/>
            </a:xfrm>
          </p:grpSpPr>
          <p:sp>
            <p:nvSpPr>
              <p:cNvPr id="192" name="Freeform 311"/>
              <p:cNvSpPr/>
              <p:nvPr/>
            </p:nvSpPr>
            <p:spPr>
              <a:xfrm rot="7914600">
                <a:off x="4956120" y="1544040"/>
                <a:ext cx="45360" cy="33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 rot="54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Freeform 312"/>
              <p:cNvSpPr/>
              <p:nvPr/>
            </p:nvSpPr>
            <p:spPr>
              <a:xfrm rot="7914600">
                <a:off x="4966200" y="1561320"/>
                <a:ext cx="12960" cy="26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 rot="54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Freeform 313"/>
              <p:cNvSpPr/>
              <p:nvPr/>
            </p:nvSpPr>
            <p:spPr>
              <a:xfrm rot="7914600">
                <a:off x="4969080" y="1569960"/>
                <a:ext cx="36000" cy="10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 rot="54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Freeform 314"/>
              <p:cNvSpPr/>
              <p:nvPr/>
            </p:nvSpPr>
            <p:spPr>
              <a:xfrm rot="7914600">
                <a:off x="4978080" y="1596600"/>
                <a:ext cx="16920" cy="26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 rot="54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Freeform 315"/>
              <p:cNvSpPr/>
              <p:nvPr/>
            </p:nvSpPr>
            <p:spPr>
              <a:xfrm rot="7914600">
                <a:off x="4944600" y="1555920"/>
                <a:ext cx="26280" cy="442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 rot="54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Freeform 316"/>
              <p:cNvSpPr/>
              <p:nvPr/>
            </p:nvSpPr>
            <p:spPr>
              <a:xfrm rot="7914600">
                <a:off x="4981320" y="1567800"/>
                <a:ext cx="48960" cy="21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 rot="54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Freeform 317"/>
              <p:cNvSpPr/>
              <p:nvPr/>
            </p:nvSpPr>
            <p:spPr>
              <a:xfrm rot="7914600">
                <a:off x="4960800" y="1607040"/>
                <a:ext cx="39600" cy="34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 rot="54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Freeform 318"/>
              <p:cNvSpPr/>
              <p:nvPr/>
            </p:nvSpPr>
            <p:spPr>
              <a:xfrm rot="7914600">
                <a:off x="4955760" y="1604160"/>
                <a:ext cx="32040" cy="10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 rot="54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Freeform 319"/>
              <p:cNvSpPr/>
              <p:nvPr/>
            </p:nvSpPr>
            <p:spPr>
              <a:xfrm rot="7914600">
                <a:off x="4929840" y="1591200"/>
                <a:ext cx="48960" cy="21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 rot="54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Freeform 320"/>
              <p:cNvSpPr/>
              <p:nvPr/>
            </p:nvSpPr>
            <p:spPr>
              <a:xfrm rot="7914600">
                <a:off x="4950000" y="1581840"/>
                <a:ext cx="22680" cy="21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 rot="54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Freeform 321"/>
              <p:cNvSpPr/>
              <p:nvPr/>
            </p:nvSpPr>
            <p:spPr>
              <a:xfrm rot="7914600">
                <a:off x="4987800" y="1584000"/>
                <a:ext cx="26280" cy="45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 rot="54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Freeform 322"/>
              <p:cNvSpPr/>
              <p:nvPr/>
            </p:nvSpPr>
            <p:spPr>
              <a:xfrm rot="7914600">
                <a:off x="4983840" y="1582200"/>
                <a:ext cx="22680" cy="21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 rot="54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Freeform 323"/>
              <p:cNvSpPr/>
              <p:nvPr/>
            </p:nvSpPr>
            <p:spPr>
              <a:xfrm rot="7914600">
                <a:off x="4973400" y="1587600"/>
                <a:ext cx="12960" cy="10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 rot="54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5" name="组合 508"/>
            <p:cNvGrpSpPr/>
            <p:nvPr/>
          </p:nvGrpSpPr>
          <p:grpSpPr>
            <a:xfrm>
              <a:off x="3547440" y="1061280"/>
              <a:ext cx="160920" cy="185760"/>
              <a:chOff x="3547440" y="1061280"/>
              <a:chExt cx="160920" cy="185760"/>
            </a:xfrm>
          </p:grpSpPr>
          <p:sp>
            <p:nvSpPr>
              <p:cNvPr id="206" name="Freeform 102"/>
              <p:cNvSpPr/>
              <p:nvPr/>
            </p:nvSpPr>
            <p:spPr>
              <a:xfrm rot="6580200">
                <a:off x="3566520" y="1103040"/>
                <a:ext cx="42120" cy="70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 rot="54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Freeform 103"/>
              <p:cNvSpPr/>
              <p:nvPr/>
            </p:nvSpPr>
            <p:spPr>
              <a:xfrm rot="6580200">
                <a:off x="3578760" y="1141560"/>
                <a:ext cx="36000" cy="40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 rot="54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Freeform 104"/>
              <p:cNvSpPr/>
              <p:nvPr/>
            </p:nvSpPr>
            <p:spPr>
              <a:xfrm rot="6580200">
                <a:off x="3588840" y="1107360"/>
                <a:ext cx="36000" cy="40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 rot="54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Freeform 105"/>
              <p:cNvSpPr/>
              <p:nvPr/>
            </p:nvSpPr>
            <p:spPr>
              <a:xfrm rot="6580200">
                <a:off x="3634200" y="1126800"/>
                <a:ext cx="36000" cy="40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 rot="54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Freeform 106"/>
              <p:cNvSpPr/>
              <p:nvPr/>
            </p:nvSpPr>
            <p:spPr>
              <a:xfrm rot="6580200">
                <a:off x="3553200" y="1164600"/>
                <a:ext cx="78120" cy="47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 rot="54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Freeform 107"/>
              <p:cNvSpPr/>
              <p:nvPr/>
            </p:nvSpPr>
            <p:spPr>
              <a:xfrm rot="6580200">
                <a:off x="3573720" y="1079280"/>
                <a:ext cx="72360" cy="47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 rot="54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Freeform 108"/>
              <p:cNvSpPr/>
              <p:nvPr/>
            </p:nvSpPr>
            <p:spPr>
              <a:xfrm rot="6580200">
                <a:off x="3642840" y="1134000"/>
                <a:ext cx="48240" cy="70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 rot="54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Freeform 109"/>
              <p:cNvSpPr/>
              <p:nvPr/>
            </p:nvSpPr>
            <p:spPr>
              <a:xfrm rot="6580200">
                <a:off x="3627720" y="1157760"/>
                <a:ext cx="29880" cy="40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 rot="54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Freeform 110"/>
              <p:cNvSpPr/>
              <p:nvPr/>
            </p:nvSpPr>
            <p:spPr>
              <a:xfrm rot="6580200">
                <a:off x="3602160" y="1180800"/>
                <a:ext cx="72360" cy="47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 rot="54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Freeform 111"/>
              <p:cNvSpPr/>
              <p:nvPr/>
            </p:nvSpPr>
            <p:spPr>
              <a:xfrm rot="6580200">
                <a:off x="3588120" y="1181160"/>
                <a:ext cx="57240" cy="12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 rot="54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Freeform 112"/>
              <p:cNvSpPr/>
              <p:nvPr/>
            </p:nvSpPr>
            <p:spPr>
              <a:xfrm rot="6580200">
                <a:off x="3624120" y="1098720"/>
                <a:ext cx="78120" cy="47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 rot="54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Freeform 113"/>
              <p:cNvSpPr/>
              <p:nvPr/>
            </p:nvSpPr>
            <p:spPr>
              <a:xfrm rot="6580200">
                <a:off x="3605040" y="1112760"/>
                <a:ext cx="57240" cy="1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 rot="54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Oval 114"/>
              <p:cNvSpPr/>
              <p:nvPr/>
            </p:nvSpPr>
            <p:spPr>
              <a:xfrm rot="6580200">
                <a:off x="3620160" y="1149120"/>
                <a:ext cx="11880" cy="126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 rot="54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19" name="组合 501" descr=""/>
            <p:cNvPicPr/>
            <p:nvPr/>
          </p:nvPicPr>
          <p:blipFill>
            <a:blip r:embed="rId14"/>
            <a:stretch/>
          </p:blipFill>
          <p:spPr>
            <a:xfrm>
              <a:off x="2097000" y="57240"/>
              <a:ext cx="261360" cy="311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20" name="组合 519"/>
          <p:cNvGrpSpPr/>
          <p:nvPr/>
        </p:nvGrpSpPr>
        <p:grpSpPr>
          <a:xfrm>
            <a:off x="2712960" y="255600"/>
            <a:ext cx="2577240" cy="1776600"/>
            <a:chOff x="2712960" y="255600"/>
            <a:chExt cx="2577240" cy="1776600"/>
          </a:xfrm>
        </p:grpSpPr>
        <p:grpSp>
          <p:nvGrpSpPr>
            <p:cNvPr id="221" name="组合 509"/>
            <p:cNvGrpSpPr/>
            <p:nvPr/>
          </p:nvGrpSpPr>
          <p:grpSpPr>
            <a:xfrm>
              <a:off x="5111640" y="1368720"/>
              <a:ext cx="178560" cy="187920"/>
              <a:chOff x="5111640" y="1368720"/>
              <a:chExt cx="178560" cy="187920"/>
            </a:xfrm>
          </p:grpSpPr>
          <p:sp>
            <p:nvSpPr>
              <p:cNvPr id="222" name="Freeform 180"/>
              <p:cNvSpPr/>
              <p:nvPr/>
            </p:nvSpPr>
            <p:spPr>
              <a:xfrm rot="7914600">
                <a:off x="5160600" y="1377720"/>
                <a:ext cx="55080" cy="68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 rot="54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Freeform 181"/>
              <p:cNvSpPr/>
              <p:nvPr/>
            </p:nvSpPr>
            <p:spPr>
              <a:xfrm rot="7914600">
                <a:off x="5168880" y="1418040"/>
                <a:ext cx="18720" cy="48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 rot="54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Freeform 182"/>
              <p:cNvSpPr/>
              <p:nvPr/>
            </p:nvSpPr>
            <p:spPr>
              <a:xfrm rot="7914600">
                <a:off x="5182920" y="1414440"/>
                <a:ext cx="43560" cy="29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 rot="54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Freeform 183"/>
              <p:cNvSpPr/>
              <p:nvPr/>
            </p:nvSpPr>
            <p:spPr>
              <a:xfrm rot="7914600">
                <a:off x="5212080" y="1457280"/>
                <a:ext cx="22680" cy="48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 rot="54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Freeform 184"/>
              <p:cNvSpPr/>
              <p:nvPr/>
            </p:nvSpPr>
            <p:spPr>
              <a:xfrm rot="7914600">
                <a:off x="5126040" y="1425600"/>
                <a:ext cx="58680" cy="65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 rot="54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Freeform 185"/>
              <p:cNvSpPr/>
              <p:nvPr/>
            </p:nvSpPr>
            <p:spPr>
              <a:xfrm rot="7914600">
                <a:off x="5181120" y="1403640"/>
                <a:ext cx="89280" cy="36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 rot="54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Freeform 186"/>
              <p:cNvSpPr/>
              <p:nvPr/>
            </p:nvSpPr>
            <p:spPr>
              <a:xfrm rot="7914600">
                <a:off x="5185080" y="1480320"/>
                <a:ext cx="52920" cy="68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 rot="54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Freeform 187"/>
              <p:cNvSpPr/>
              <p:nvPr/>
            </p:nvSpPr>
            <p:spPr>
              <a:xfrm rot="7914600">
                <a:off x="5171040" y="1480320"/>
                <a:ext cx="49320" cy="29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 rot="54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Freeform 188"/>
              <p:cNvSpPr/>
              <p:nvPr/>
            </p:nvSpPr>
            <p:spPr>
              <a:xfrm rot="7914600">
                <a:off x="5128200" y="1485360"/>
                <a:ext cx="91080" cy="38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 rot="54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Freeform 189"/>
              <p:cNvSpPr/>
              <p:nvPr/>
            </p:nvSpPr>
            <p:spPr>
              <a:xfrm rot="7914600">
                <a:off x="5146920" y="1460520"/>
                <a:ext cx="52920" cy="27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 rot="54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Freeform 190"/>
              <p:cNvSpPr/>
              <p:nvPr/>
            </p:nvSpPr>
            <p:spPr>
              <a:xfrm rot="7914600">
                <a:off x="5212800" y="1434600"/>
                <a:ext cx="64440" cy="63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 rot="54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Freeform 191"/>
              <p:cNvSpPr/>
              <p:nvPr/>
            </p:nvSpPr>
            <p:spPr>
              <a:xfrm rot="7914600">
                <a:off x="5202360" y="1437120"/>
                <a:ext cx="49320" cy="25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 rot="54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Freeform 192"/>
              <p:cNvSpPr/>
              <p:nvPr/>
            </p:nvSpPr>
            <p:spPr>
              <a:xfrm rot="7914600">
                <a:off x="5188680" y="1455840"/>
                <a:ext cx="22680" cy="15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 rot="54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5" name="组合 512"/>
            <p:cNvGrpSpPr/>
            <p:nvPr/>
          </p:nvGrpSpPr>
          <p:grpSpPr>
            <a:xfrm>
              <a:off x="4547520" y="1915920"/>
              <a:ext cx="102600" cy="116280"/>
              <a:chOff x="4547520" y="1915920"/>
              <a:chExt cx="102600" cy="116280"/>
            </a:xfrm>
          </p:grpSpPr>
          <p:sp>
            <p:nvSpPr>
              <p:cNvPr id="236" name="Freeform 285"/>
              <p:cNvSpPr/>
              <p:nvPr/>
            </p:nvSpPr>
            <p:spPr>
              <a:xfrm rot="7914600">
                <a:off x="4576680" y="1926720"/>
                <a:ext cx="43560" cy="29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 rot="54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Freeform 286"/>
              <p:cNvSpPr/>
              <p:nvPr/>
            </p:nvSpPr>
            <p:spPr>
              <a:xfrm rot="7914600">
                <a:off x="4584960" y="1940400"/>
                <a:ext cx="12960" cy="27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 rot="54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Freeform 287"/>
              <p:cNvSpPr/>
              <p:nvPr/>
            </p:nvSpPr>
            <p:spPr>
              <a:xfrm rot="7914600">
                <a:off x="4588200" y="1949400"/>
                <a:ext cx="36000" cy="10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 rot="54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Freeform 288"/>
              <p:cNvSpPr/>
              <p:nvPr/>
            </p:nvSpPr>
            <p:spPr>
              <a:xfrm rot="7914600">
                <a:off x="4595040" y="1976400"/>
                <a:ext cx="18720" cy="27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 rot="54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Freeform 289"/>
              <p:cNvSpPr/>
              <p:nvPr/>
            </p:nvSpPr>
            <p:spPr>
              <a:xfrm rot="7914600">
                <a:off x="4562280" y="1936800"/>
                <a:ext cx="26280" cy="442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 rot="54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Freeform 290"/>
              <p:cNvSpPr/>
              <p:nvPr/>
            </p:nvSpPr>
            <p:spPr>
              <a:xfrm rot="7914600">
                <a:off x="4600080" y="1948680"/>
                <a:ext cx="49320" cy="23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 rot="54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Freeform 291"/>
              <p:cNvSpPr/>
              <p:nvPr/>
            </p:nvSpPr>
            <p:spPr>
              <a:xfrm rot="7914600">
                <a:off x="4578480" y="1988280"/>
                <a:ext cx="39600" cy="34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 rot="54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Freeform 292"/>
              <p:cNvSpPr/>
              <p:nvPr/>
            </p:nvSpPr>
            <p:spPr>
              <a:xfrm rot="7914600">
                <a:off x="4574880" y="1984680"/>
                <a:ext cx="30240" cy="10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 rot="54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Freeform 293"/>
              <p:cNvSpPr/>
              <p:nvPr/>
            </p:nvSpPr>
            <p:spPr>
              <a:xfrm rot="7914600">
                <a:off x="4547520" y="1972800"/>
                <a:ext cx="49320" cy="21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 rot="54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Freeform 294"/>
              <p:cNvSpPr/>
              <p:nvPr/>
            </p:nvSpPr>
            <p:spPr>
              <a:xfrm rot="7914600">
                <a:off x="4569480" y="1962000"/>
                <a:ext cx="20880" cy="21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 rot="54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Freeform 295"/>
              <p:cNvSpPr/>
              <p:nvPr/>
            </p:nvSpPr>
            <p:spPr>
              <a:xfrm rot="7914600">
                <a:off x="4607640" y="1969560"/>
                <a:ext cx="26280" cy="41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 rot="54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Freeform 296"/>
              <p:cNvSpPr/>
              <p:nvPr/>
            </p:nvSpPr>
            <p:spPr>
              <a:xfrm rot="7914600">
                <a:off x="4603680" y="1961640"/>
                <a:ext cx="22680" cy="23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 rot="54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Freeform 297"/>
              <p:cNvSpPr/>
              <p:nvPr/>
            </p:nvSpPr>
            <p:spPr>
              <a:xfrm rot="7914600">
                <a:off x="4591080" y="1968840"/>
                <a:ext cx="12960" cy="10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 rot="54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9" name="组合 504"/>
            <p:cNvGrpSpPr/>
            <p:nvPr/>
          </p:nvGrpSpPr>
          <p:grpSpPr>
            <a:xfrm>
              <a:off x="3358440" y="1495080"/>
              <a:ext cx="218880" cy="251280"/>
              <a:chOff x="3358440" y="1495080"/>
              <a:chExt cx="218880" cy="251280"/>
            </a:xfrm>
          </p:grpSpPr>
          <p:sp>
            <p:nvSpPr>
              <p:cNvPr id="250" name="Freeform 115"/>
              <p:cNvSpPr/>
              <p:nvPr/>
            </p:nvSpPr>
            <p:spPr>
              <a:xfrm rot="6580200">
                <a:off x="3382560" y="1550880"/>
                <a:ext cx="63360" cy="9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54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Freeform 116"/>
              <p:cNvSpPr/>
              <p:nvPr/>
            </p:nvSpPr>
            <p:spPr>
              <a:xfrm rot="6580200">
                <a:off x="3412440" y="1606680"/>
                <a:ext cx="42120" cy="55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 rot="54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Freeform 117"/>
              <p:cNvSpPr/>
              <p:nvPr/>
            </p:nvSpPr>
            <p:spPr>
              <a:xfrm rot="6580200">
                <a:off x="3426840" y="1558080"/>
                <a:ext cx="42120" cy="55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 rot="54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Freeform 118"/>
              <p:cNvSpPr/>
              <p:nvPr/>
            </p:nvSpPr>
            <p:spPr>
              <a:xfrm rot="6580200">
                <a:off x="3488760" y="1584720"/>
                <a:ext cx="42120" cy="55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 rot="54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Freeform 119"/>
              <p:cNvSpPr/>
              <p:nvPr/>
            </p:nvSpPr>
            <p:spPr>
              <a:xfrm rot="6580200">
                <a:off x="3369240" y="1633320"/>
                <a:ext cx="105840" cy="60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 rot="54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Freeform 120"/>
              <p:cNvSpPr/>
              <p:nvPr/>
            </p:nvSpPr>
            <p:spPr>
              <a:xfrm rot="6580200">
                <a:off x="3405240" y="1522080"/>
                <a:ext cx="99720" cy="60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 rot="54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Freeform 121"/>
              <p:cNvSpPr/>
              <p:nvPr/>
            </p:nvSpPr>
            <p:spPr>
              <a:xfrm rot="6580200">
                <a:off x="3493800" y="1593720"/>
                <a:ext cx="57240" cy="9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54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Freeform 122"/>
              <p:cNvSpPr/>
              <p:nvPr/>
            </p:nvSpPr>
            <p:spPr>
              <a:xfrm rot="6580200">
                <a:off x="3477960" y="1630440"/>
                <a:ext cx="36000" cy="55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 rot="54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Freeform 123"/>
              <p:cNvSpPr/>
              <p:nvPr/>
            </p:nvSpPr>
            <p:spPr>
              <a:xfrm rot="6580200">
                <a:off x="3437280" y="1655280"/>
                <a:ext cx="99720" cy="65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 rot="54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Freeform 124"/>
              <p:cNvSpPr/>
              <p:nvPr/>
            </p:nvSpPr>
            <p:spPr>
              <a:xfrm rot="6580200">
                <a:off x="3420360" y="1652040"/>
                <a:ext cx="78480" cy="25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 rot="54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Freeform 125"/>
              <p:cNvSpPr/>
              <p:nvPr/>
            </p:nvSpPr>
            <p:spPr>
              <a:xfrm rot="6580200">
                <a:off x="3467520" y="1548360"/>
                <a:ext cx="99720" cy="60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 rot="54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Freeform 126"/>
              <p:cNvSpPr/>
              <p:nvPr/>
            </p:nvSpPr>
            <p:spPr>
              <a:xfrm rot="6580200">
                <a:off x="3448800" y="1566720"/>
                <a:ext cx="72360" cy="25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 rot="54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Oval 127"/>
              <p:cNvSpPr/>
              <p:nvPr/>
            </p:nvSpPr>
            <p:spPr>
              <a:xfrm rot="6580200">
                <a:off x="3457440" y="1613160"/>
                <a:ext cx="20880" cy="176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 rot="54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63" name="组合 499" descr=""/>
            <p:cNvPicPr/>
            <p:nvPr/>
          </p:nvPicPr>
          <p:blipFill>
            <a:blip r:embed="rId15"/>
            <a:stretch/>
          </p:blipFill>
          <p:spPr>
            <a:xfrm>
              <a:off x="2712960" y="255600"/>
              <a:ext cx="237600" cy="3207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64" name="组合 500" descr=""/>
          <p:cNvPicPr/>
          <p:nvPr/>
        </p:nvPicPr>
        <p:blipFill>
          <a:blip r:embed="rId16"/>
          <a:stretch/>
        </p:blipFill>
        <p:spPr>
          <a:xfrm>
            <a:off x="2998800" y="-166680"/>
            <a:ext cx="446040" cy="517680"/>
          </a:xfrm>
          <a:prstGeom prst="rect">
            <a:avLst/>
          </a:prstGeom>
          <a:ln w="0">
            <a:noFill/>
          </a:ln>
        </p:spPr>
      </p:pic>
      <p:grpSp>
        <p:nvGrpSpPr>
          <p:cNvPr id="265" name="组合 517"/>
          <p:cNvGrpSpPr/>
          <p:nvPr/>
        </p:nvGrpSpPr>
        <p:grpSpPr>
          <a:xfrm>
            <a:off x="1486080" y="767880"/>
            <a:ext cx="2568240" cy="1253160"/>
            <a:chOff x="1486080" y="767880"/>
            <a:chExt cx="2568240" cy="1253160"/>
          </a:xfrm>
        </p:grpSpPr>
        <p:pic>
          <p:nvPicPr>
            <p:cNvPr id="266" name="组合 494" descr=""/>
            <p:cNvPicPr/>
            <p:nvPr/>
          </p:nvPicPr>
          <p:blipFill>
            <a:blip r:embed="rId17"/>
            <a:stretch/>
          </p:blipFill>
          <p:spPr>
            <a:xfrm>
              <a:off x="3873240" y="1608480"/>
              <a:ext cx="181080" cy="21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7" name="组合 502" descr=""/>
            <p:cNvPicPr/>
            <p:nvPr/>
          </p:nvPicPr>
          <p:blipFill>
            <a:blip r:embed="rId18"/>
            <a:stretch/>
          </p:blipFill>
          <p:spPr>
            <a:xfrm>
              <a:off x="1486080" y="1695600"/>
              <a:ext cx="241560" cy="325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68" name="组合 513"/>
            <p:cNvGrpSpPr/>
            <p:nvPr/>
          </p:nvGrpSpPr>
          <p:grpSpPr>
            <a:xfrm>
              <a:off x="2888280" y="767880"/>
              <a:ext cx="243720" cy="267840"/>
              <a:chOff x="2888280" y="767880"/>
              <a:chExt cx="243720" cy="267840"/>
            </a:xfrm>
          </p:grpSpPr>
          <p:sp>
            <p:nvSpPr>
              <p:cNvPr id="269" name="Freeform 324"/>
              <p:cNvSpPr/>
              <p:nvPr/>
            </p:nvSpPr>
            <p:spPr>
              <a:xfrm rot="6580200">
                <a:off x="2933280" y="791640"/>
                <a:ext cx="105120" cy="77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 rot="54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Freeform 325"/>
              <p:cNvSpPr/>
              <p:nvPr/>
            </p:nvSpPr>
            <p:spPr>
              <a:xfrm rot="6580200">
                <a:off x="2959200" y="838080"/>
                <a:ext cx="41760" cy="65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 rot="54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Freeform 326"/>
              <p:cNvSpPr/>
              <p:nvPr/>
            </p:nvSpPr>
            <p:spPr>
              <a:xfrm rot="6580200">
                <a:off x="2974320" y="841320"/>
                <a:ext cx="78120" cy="29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 rot="54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Freeform 327"/>
              <p:cNvSpPr/>
              <p:nvPr/>
            </p:nvSpPr>
            <p:spPr>
              <a:xfrm rot="6580200">
                <a:off x="3021840" y="905400"/>
                <a:ext cx="36000" cy="65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 rot="54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Freeform 328"/>
              <p:cNvSpPr/>
              <p:nvPr/>
            </p:nvSpPr>
            <p:spPr>
              <a:xfrm rot="6580200">
                <a:off x="2915640" y="840960"/>
                <a:ext cx="69120" cy="10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54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Freeform 329"/>
              <p:cNvSpPr/>
              <p:nvPr/>
            </p:nvSpPr>
            <p:spPr>
              <a:xfrm rot="6580200">
                <a:off x="2997720" y="822240"/>
                <a:ext cx="114120" cy="52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 rot="54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Freeform 330"/>
              <p:cNvSpPr/>
              <p:nvPr/>
            </p:nvSpPr>
            <p:spPr>
              <a:xfrm rot="6580200">
                <a:off x="2986200" y="937080"/>
                <a:ext cx="99000" cy="77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 rot="54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Freeform 331"/>
              <p:cNvSpPr/>
              <p:nvPr/>
            </p:nvSpPr>
            <p:spPr>
              <a:xfrm rot="6580200">
                <a:off x="2966400" y="938160"/>
                <a:ext cx="78120" cy="27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 rot="54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Freeform 332"/>
              <p:cNvSpPr/>
              <p:nvPr/>
            </p:nvSpPr>
            <p:spPr>
              <a:xfrm rot="6580200">
                <a:off x="2906280" y="930960"/>
                <a:ext cx="120240" cy="52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 rot="54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Freeform 333"/>
              <p:cNvSpPr/>
              <p:nvPr/>
            </p:nvSpPr>
            <p:spPr>
              <a:xfrm rot="6580200">
                <a:off x="2942280" y="892080"/>
                <a:ext cx="56880" cy="5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 rot="54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Freeform 334"/>
              <p:cNvSpPr/>
              <p:nvPr/>
            </p:nvSpPr>
            <p:spPr>
              <a:xfrm rot="6580200">
                <a:off x="3036960" y="858600"/>
                <a:ext cx="65880" cy="10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54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Freeform 335"/>
              <p:cNvSpPr/>
              <p:nvPr/>
            </p:nvSpPr>
            <p:spPr>
              <a:xfrm rot="6580200">
                <a:off x="3025800" y="860040"/>
                <a:ext cx="47880" cy="5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 rot="54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Freeform 336"/>
              <p:cNvSpPr/>
              <p:nvPr/>
            </p:nvSpPr>
            <p:spPr>
              <a:xfrm rot="6580200">
                <a:off x="2994480" y="893160"/>
                <a:ext cx="29880" cy="24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 rot="54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82" name="组合 518"/>
          <p:cNvGrpSpPr/>
          <p:nvPr/>
        </p:nvGrpSpPr>
        <p:grpSpPr>
          <a:xfrm>
            <a:off x="1714680" y="772920"/>
            <a:ext cx="2678760" cy="1050120"/>
            <a:chOff x="1714680" y="772920"/>
            <a:chExt cx="2678760" cy="1050120"/>
          </a:xfrm>
        </p:grpSpPr>
        <p:grpSp>
          <p:nvGrpSpPr>
            <p:cNvPr id="283" name="组合 511"/>
            <p:cNvGrpSpPr/>
            <p:nvPr/>
          </p:nvGrpSpPr>
          <p:grpSpPr>
            <a:xfrm>
              <a:off x="4266360" y="1672560"/>
              <a:ext cx="127080" cy="150480"/>
              <a:chOff x="4266360" y="1672560"/>
              <a:chExt cx="127080" cy="150480"/>
            </a:xfrm>
          </p:grpSpPr>
          <p:sp>
            <p:nvSpPr>
              <p:cNvPr id="284" name="Freeform 272"/>
              <p:cNvSpPr/>
              <p:nvPr/>
            </p:nvSpPr>
            <p:spPr>
              <a:xfrm rot="7914600">
                <a:off x="4302360" y="1685880"/>
                <a:ext cx="55080" cy="41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 rot="54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Freeform 273"/>
              <p:cNvSpPr/>
              <p:nvPr/>
            </p:nvSpPr>
            <p:spPr>
              <a:xfrm rot="7914600">
                <a:off x="4309560" y="1706040"/>
                <a:ext cx="22680" cy="34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 rot="54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Freeform 274"/>
              <p:cNvSpPr/>
              <p:nvPr/>
            </p:nvSpPr>
            <p:spPr>
              <a:xfrm rot="7914600">
                <a:off x="4319640" y="1721160"/>
                <a:ext cx="39960" cy="10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 rot="54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Freeform 275"/>
              <p:cNvSpPr/>
              <p:nvPr/>
            </p:nvSpPr>
            <p:spPr>
              <a:xfrm rot="7914600">
                <a:off x="4327560" y="1756080"/>
                <a:ext cx="22680" cy="34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 rot="54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Freeform 276"/>
              <p:cNvSpPr/>
              <p:nvPr/>
            </p:nvSpPr>
            <p:spPr>
              <a:xfrm rot="7914600">
                <a:off x="4284000" y="1701360"/>
                <a:ext cx="36000" cy="56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 rot="54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Freeform 277"/>
              <p:cNvSpPr/>
              <p:nvPr/>
            </p:nvSpPr>
            <p:spPr>
              <a:xfrm rot="7914600">
                <a:off x="4330080" y="1719720"/>
                <a:ext cx="62640" cy="29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 rot="54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Freeform 278"/>
              <p:cNvSpPr/>
              <p:nvPr/>
            </p:nvSpPr>
            <p:spPr>
              <a:xfrm rot="7914600">
                <a:off x="4301280" y="1768680"/>
                <a:ext cx="53280" cy="41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 rot="54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Freeform 279"/>
              <p:cNvSpPr/>
              <p:nvPr/>
            </p:nvSpPr>
            <p:spPr>
              <a:xfrm rot="7914600">
                <a:off x="4298760" y="1764000"/>
                <a:ext cx="39960" cy="14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 rot="54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Freeform 280"/>
              <p:cNvSpPr/>
              <p:nvPr/>
            </p:nvSpPr>
            <p:spPr>
              <a:xfrm rot="7914600">
                <a:off x="4267080" y="1749240"/>
                <a:ext cx="62640" cy="29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 rot="54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Freeform 281"/>
              <p:cNvSpPr/>
              <p:nvPr/>
            </p:nvSpPr>
            <p:spPr>
              <a:xfrm rot="7914600">
                <a:off x="4293000" y="1733760"/>
                <a:ext cx="32400" cy="27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 rot="54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Freeform 282"/>
              <p:cNvSpPr/>
              <p:nvPr/>
            </p:nvSpPr>
            <p:spPr>
              <a:xfrm rot="7914600">
                <a:off x="4340880" y="1739520"/>
                <a:ext cx="36000" cy="56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 rot="54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Freeform 283"/>
              <p:cNvSpPr/>
              <p:nvPr/>
            </p:nvSpPr>
            <p:spPr>
              <a:xfrm rot="7914600">
                <a:off x="4337640" y="1733040"/>
                <a:ext cx="26640" cy="29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 rot="54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Freeform 284"/>
              <p:cNvSpPr/>
              <p:nvPr/>
            </p:nvSpPr>
            <p:spPr>
              <a:xfrm rot="7914600">
                <a:off x="4319640" y="1741680"/>
                <a:ext cx="18720" cy="10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 rot="54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7" name="组合 505"/>
            <p:cNvGrpSpPr/>
            <p:nvPr/>
          </p:nvGrpSpPr>
          <p:grpSpPr>
            <a:xfrm>
              <a:off x="2986560" y="1105560"/>
              <a:ext cx="176040" cy="200520"/>
              <a:chOff x="2986560" y="1105560"/>
              <a:chExt cx="176040" cy="200520"/>
            </a:xfrm>
          </p:grpSpPr>
          <p:sp>
            <p:nvSpPr>
              <p:cNvPr id="298" name="Freeform 89"/>
              <p:cNvSpPr/>
              <p:nvPr/>
            </p:nvSpPr>
            <p:spPr>
              <a:xfrm rot="6580200">
                <a:off x="3007440" y="1150560"/>
                <a:ext cx="48600" cy="78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 rot="54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Freeform 90"/>
              <p:cNvSpPr/>
              <p:nvPr/>
            </p:nvSpPr>
            <p:spPr>
              <a:xfrm rot="6580200">
                <a:off x="3027600" y="1188360"/>
                <a:ext cx="36360" cy="47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 rot="54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Freeform 91"/>
              <p:cNvSpPr/>
              <p:nvPr/>
            </p:nvSpPr>
            <p:spPr>
              <a:xfrm rot="6580200">
                <a:off x="3037680" y="1153800"/>
                <a:ext cx="36360" cy="47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 rot="54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Freeform 92"/>
              <p:cNvSpPr/>
              <p:nvPr/>
            </p:nvSpPr>
            <p:spPr>
              <a:xfrm rot="6580200">
                <a:off x="3087360" y="1178640"/>
                <a:ext cx="36360" cy="40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 rot="54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Freeform 93"/>
              <p:cNvSpPr/>
              <p:nvPr/>
            </p:nvSpPr>
            <p:spPr>
              <a:xfrm rot="6580200">
                <a:off x="2999160" y="1214280"/>
                <a:ext cx="78840" cy="47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 rot="54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Freeform 94"/>
              <p:cNvSpPr/>
              <p:nvPr/>
            </p:nvSpPr>
            <p:spPr>
              <a:xfrm rot="6580200">
                <a:off x="3021840" y="1124640"/>
                <a:ext cx="78840" cy="52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 rot="54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Freeform 95"/>
              <p:cNvSpPr/>
              <p:nvPr/>
            </p:nvSpPr>
            <p:spPr>
              <a:xfrm rot="6580200">
                <a:off x="3092400" y="1180800"/>
                <a:ext cx="51480" cy="75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 rot="54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Freeform 96"/>
              <p:cNvSpPr/>
              <p:nvPr/>
            </p:nvSpPr>
            <p:spPr>
              <a:xfrm rot="6580200">
                <a:off x="3080160" y="1210680"/>
                <a:ext cx="36360" cy="47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 rot="54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Freeform 97"/>
              <p:cNvSpPr/>
              <p:nvPr/>
            </p:nvSpPr>
            <p:spPr>
              <a:xfrm rot="6580200">
                <a:off x="3051360" y="1236960"/>
                <a:ext cx="78840" cy="47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 rot="54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Freeform 98"/>
              <p:cNvSpPr/>
              <p:nvPr/>
            </p:nvSpPr>
            <p:spPr>
              <a:xfrm rot="6580200">
                <a:off x="3039120" y="1230480"/>
                <a:ext cx="57600" cy="1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 rot="54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Freeform 99"/>
              <p:cNvSpPr/>
              <p:nvPr/>
            </p:nvSpPr>
            <p:spPr>
              <a:xfrm rot="6580200">
                <a:off x="3073320" y="1146240"/>
                <a:ext cx="88200" cy="47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 rot="54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Freeform 100"/>
              <p:cNvSpPr/>
              <p:nvPr/>
            </p:nvSpPr>
            <p:spPr>
              <a:xfrm rot="6580200">
                <a:off x="3058920" y="1164600"/>
                <a:ext cx="57600" cy="1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 rot="54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Oval 101"/>
              <p:cNvSpPr/>
              <p:nvPr/>
            </p:nvSpPr>
            <p:spPr>
              <a:xfrm rot="6580200">
                <a:off x="3071160" y="1197360"/>
                <a:ext cx="11880" cy="176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 rot="54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1" name="组合 514"/>
            <p:cNvGrpSpPr/>
            <p:nvPr/>
          </p:nvGrpSpPr>
          <p:grpSpPr>
            <a:xfrm>
              <a:off x="3754080" y="810000"/>
              <a:ext cx="161640" cy="173880"/>
              <a:chOff x="3754080" y="810000"/>
              <a:chExt cx="161640" cy="173880"/>
            </a:xfrm>
          </p:grpSpPr>
          <p:grpSp>
            <p:nvGrpSpPr>
              <p:cNvPr id="312" name="组合 507"/>
              <p:cNvGrpSpPr/>
              <p:nvPr/>
            </p:nvGrpSpPr>
            <p:grpSpPr>
              <a:xfrm>
                <a:off x="3780720" y="810000"/>
                <a:ext cx="135000" cy="173880"/>
                <a:chOff x="3780720" y="810000"/>
                <a:chExt cx="135000" cy="173880"/>
              </a:xfrm>
            </p:grpSpPr>
            <p:sp>
              <p:nvSpPr>
                <p:cNvPr id="313" name="Freeform 298"/>
                <p:cNvSpPr/>
                <p:nvPr/>
              </p:nvSpPr>
              <p:spPr>
                <a:xfrm rot="6580200">
                  <a:off x="3781440" y="826560"/>
                  <a:ext cx="72720" cy="532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 rot="5400000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4" name="Freeform 300"/>
                <p:cNvSpPr/>
                <p:nvPr/>
              </p:nvSpPr>
              <p:spPr>
                <a:xfrm rot="6580200">
                  <a:off x="3812760" y="859320"/>
                  <a:ext cx="48600" cy="100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 rot="5400000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5" name="Freeform 301"/>
                <p:cNvSpPr/>
                <p:nvPr/>
              </p:nvSpPr>
              <p:spPr>
                <a:xfrm rot="6580200">
                  <a:off x="3841200" y="901800"/>
                  <a:ext cx="27360" cy="4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 rot="5400000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6" name="Freeform 303"/>
                <p:cNvSpPr/>
                <p:nvPr/>
              </p:nvSpPr>
              <p:spPr>
                <a:xfrm rot="6580200">
                  <a:off x="3823200" y="841680"/>
                  <a:ext cx="78840" cy="352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 rot="5400000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7" name="Freeform 304"/>
                <p:cNvSpPr/>
                <p:nvPr/>
              </p:nvSpPr>
              <p:spPr>
                <a:xfrm rot="6580200">
                  <a:off x="3818160" y="923400"/>
                  <a:ext cx="63720" cy="45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 rot="5400000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8" name="Freeform 308"/>
                <p:cNvSpPr/>
                <p:nvPr/>
              </p:nvSpPr>
              <p:spPr>
                <a:xfrm rot="6580200">
                  <a:off x="3853800" y="871200"/>
                  <a:ext cx="42480" cy="709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 rot="5400000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9" name="Freeform 309"/>
                <p:cNvSpPr/>
                <p:nvPr/>
              </p:nvSpPr>
              <p:spPr>
                <a:xfrm rot="6580200">
                  <a:off x="3843000" y="873360"/>
                  <a:ext cx="36360" cy="352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 rot="5400000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20" name="Freeform 299"/>
              <p:cNvSpPr/>
              <p:nvPr/>
            </p:nvSpPr>
            <p:spPr>
              <a:xfrm rot="6580200">
                <a:off x="3799080" y="856080"/>
                <a:ext cx="21240" cy="42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 rot="54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Freeform 302"/>
              <p:cNvSpPr/>
              <p:nvPr/>
            </p:nvSpPr>
            <p:spPr>
              <a:xfrm rot="6580200">
                <a:off x="3769920" y="862560"/>
                <a:ext cx="45360" cy="65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 rot="54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Freeform 305"/>
              <p:cNvSpPr/>
              <p:nvPr/>
            </p:nvSpPr>
            <p:spPr>
              <a:xfrm rot="6580200">
                <a:off x="3805560" y="922680"/>
                <a:ext cx="51480" cy="1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 rot="54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Freeform 306"/>
              <p:cNvSpPr/>
              <p:nvPr/>
            </p:nvSpPr>
            <p:spPr>
              <a:xfrm rot="6580200">
                <a:off x="3763440" y="916200"/>
                <a:ext cx="78840" cy="352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 rot="54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Freeform 307"/>
              <p:cNvSpPr/>
              <p:nvPr/>
            </p:nvSpPr>
            <p:spPr>
              <a:xfrm rot="6580200">
                <a:off x="3790440" y="896040"/>
                <a:ext cx="36360" cy="352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 rot="54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Freeform 310"/>
              <p:cNvSpPr/>
              <p:nvPr/>
            </p:nvSpPr>
            <p:spPr>
              <a:xfrm rot="6580200">
                <a:off x="3822480" y="893520"/>
                <a:ext cx="21240" cy="12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 rot="54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6" name="组合 515"/>
            <p:cNvGrpSpPr/>
            <p:nvPr/>
          </p:nvGrpSpPr>
          <p:grpSpPr>
            <a:xfrm>
              <a:off x="1714680" y="772920"/>
              <a:ext cx="175320" cy="199440"/>
              <a:chOff x="1714680" y="772920"/>
              <a:chExt cx="175320" cy="199440"/>
            </a:xfrm>
          </p:grpSpPr>
          <p:sp>
            <p:nvSpPr>
              <p:cNvPr id="327" name="Freeform 337"/>
              <p:cNvSpPr/>
              <p:nvPr/>
            </p:nvSpPr>
            <p:spPr>
              <a:xfrm rot="6580200">
                <a:off x="1735560" y="817920"/>
                <a:ext cx="48600" cy="78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 rot="54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Freeform 338"/>
              <p:cNvSpPr/>
              <p:nvPr/>
            </p:nvSpPr>
            <p:spPr>
              <a:xfrm rot="6580200">
                <a:off x="1755720" y="855720"/>
                <a:ext cx="36360" cy="47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 rot="54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Freeform 339"/>
              <p:cNvSpPr/>
              <p:nvPr/>
            </p:nvSpPr>
            <p:spPr>
              <a:xfrm rot="6580200">
                <a:off x="1765800" y="821160"/>
                <a:ext cx="36360" cy="47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 rot="54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Freeform 340"/>
              <p:cNvSpPr/>
              <p:nvPr/>
            </p:nvSpPr>
            <p:spPr>
              <a:xfrm rot="6580200">
                <a:off x="1817640" y="841680"/>
                <a:ext cx="30240" cy="42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 rot="54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Freeform 341"/>
              <p:cNvSpPr/>
              <p:nvPr/>
            </p:nvSpPr>
            <p:spPr>
              <a:xfrm rot="6580200">
                <a:off x="1727280" y="881640"/>
                <a:ext cx="78840" cy="47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 rot="54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Freeform 342"/>
              <p:cNvSpPr/>
              <p:nvPr/>
            </p:nvSpPr>
            <p:spPr>
              <a:xfrm rot="6580200">
                <a:off x="1749960" y="792000"/>
                <a:ext cx="78840" cy="52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 rot="54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Freeform 343"/>
              <p:cNvSpPr/>
              <p:nvPr/>
            </p:nvSpPr>
            <p:spPr>
              <a:xfrm rot="6580200">
                <a:off x="1820520" y="848160"/>
                <a:ext cx="48600" cy="78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 rot="54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Freeform 344"/>
              <p:cNvSpPr/>
              <p:nvPr/>
            </p:nvSpPr>
            <p:spPr>
              <a:xfrm rot="6580200">
                <a:off x="1803600" y="878760"/>
                <a:ext cx="36360" cy="42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 rot="54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Freeform 345"/>
              <p:cNvSpPr/>
              <p:nvPr/>
            </p:nvSpPr>
            <p:spPr>
              <a:xfrm rot="6580200">
                <a:off x="1777320" y="903240"/>
                <a:ext cx="78840" cy="47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 rot="54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Freeform 346"/>
              <p:cNvSpPr/>
              <p:nvPr/>
            </p:nvSpPr>
            <p:spPr>
              <a:xfrm rot="6580200">
                <a:off x="1767240" y="897840"/>
                <a:ext cx="57600" cy="1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 rot="54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Freeform 347"/>
              <p:cNvSpPr/>
              <p:nvPr/>
            </p:nvSpPr>
            <p:spPr>
              <a:xfrm rot="6580200">
                <a:off x="1798920" y="812520"/>
                <a:ext cx="88200" cy="47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 rot="54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Freeform 348"/>
              <p:cNvSpPr/>
              <p:nvPr/>
            </p:nvSpPr>
            <p:spPr>
              <a:xfrm rot="6580200">
                <a:off x="1787040" y="831960"/>
                <a:ext cx="57600" cy="1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 rot="54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Freeform 349"/>
              <p:cNvSpPr/>
              <p:nvPr/>
            </p:nvSpPr>
            <p:spPr>
              <a:xfrm rot="6580200">
                <a:off x="1799280" y="864720"/>
                <a:ext cx="11880" cy="1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 rot="54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40" name="组合 516"/>
          <p:cNvGrpSpPr/>
          <p:nvPr/>
        </p:nvGrpSpPr>
        <p:grpSpPr>
          <a:xfrm>
            <a:off x="529920" y="-497880"/>
            <a:ext cx="5073480" cy="3246840"/>
            <a:chOff x="529920" y="-497880"/>
            <a:chExt cx="5073480" cy="3246840"/>
          </a:xfrm>
        </p:grpSpPr>
        <p:sp>
          <p:nvSpPr>
            <p:cNvPr id="341" name="Freeform 353"/>
            <p:cNvSpPr/>
            <p:nvPr/>
          </p:nvSpPr>
          <p:spPr>
            <a:xfrm rot="7914600">
              <a:off x="4780800" y="886680"/>
              <a:ext cx="626400" cy="546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54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Freeform 351"/>
            <p:cNvSpPr/>
            <p:nvPr/>
          </p:nvSpPr>
          <p:spPr>
            <a:xfrm rot="7914600">
              <a:off x="4120560" y="1190520"/>
              <a:ext cx="1178640" cy="1342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54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Freeform 350"/>
            <p:cNvSpPr/>
            <p:nvPr/>
          </p:nvSpPr>
          <p:spPr>
            <a:xfrm rot="7914600">
              <a:off x="4914720" y="1835280"/>
              <a:ext cx="386280" cy="510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54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Freeform 352"/>
            <p:cNvSpPr/>
            <p:nvPr/>
          </p:nvSpPr>
          <p:spPr>
            <a:xfrm rot="7914600">
              <a:off x="4894560" y="1520280"/>
              <a:ext cx="188280" cy="352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54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Freeform 355"/>
            <p:cNvSpPr/>
            <p:nvPr/>
          </p:nvSpPr>
          <p:spPr>
            <a:xfrm rot="7914600">
              <a:off x="4575240" y="891720"/>
              <a:ext cx="300600" cy="250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54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Freeform 357"/>
            <p:cNvSpPr/>
            <p:nvPr/>
          </p:nvSpPr>
          <p:spPr>
            <a:xfrm rot="7914600">
              <a:off x="4338360" y="1193760"/>
              <a:ext cx="306360" cy="261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54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Freeform 358"/>
            <p:cNvSpPr/>
            <p:nvPr/>
          </p:nvSpPr>
          <p:spPr>
            <a:xfrm rot="7914600">
              <a:off x="4186080" y="1752840"/>
              <a:ext cx="327240" cy="258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54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Freeform 359"/>
            <p:cNvSpPr/>
            <p:nvPr/>
          </p:nvSpPr>
          <p:spPr>
            <a:xfrm rot="7914600">
              <a:off x="4198680" y="1337040"/>
              <a:ext cx="333000" cy="280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54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Freeform 360"/>
            <p:cNvSpPr/>
            <p:nvPr/>
          </p:nvSpPr>
          <p:spPr>
            <a:xfrm rot="7914600">
              <a:off x="4105440" y="1533960"/>
              <a:ext cx="237960" cy="182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54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Freeform 365"/>
            <p:cNvSpPr/>
            <p:nvPr/>
          </p:nvSpPr>
          <p:spPr>
            <a:xfrm rot="7914600">
              <a:off x="4536000" y="1365840"/>
              <a:ext cx="264600" cy="206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54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Freeform 366"/>
            <p:cNvSpPr/>
            <p:nvPr/>
          </p:nvSpPr>
          <p:spPr>
            <a:xfrm rot="7914600">
              <a:off x="3528360" y="1040040"/>
              <a:ext cx="531360" cy="649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54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Freeform 369"/>
            <p:cNvSpPr/>
            <p:nvPr/>
          </p:nvSpPr>
          <p:spPr>
            <a:xfrm rot="7914600">
              <a:off x="4410000" y="439560"/>
              <a:ext cx="567360" cy="1092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54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354"/>
            <p:cNvSpPr/>
            <p:nvPr/>
          </p:nvSpPr>
          <p:spPr>
            <a:xfrm rot="6580200">
              <a:off x="3098880" y="969840"/>
              <a:ext cx="579960" cy="518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54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Freeform 356"/>
            <p:cNvSpPr/>
            <p:nvPr/>
          </p:nvSpPr>
          <p:spPr>
            <a:xfrm rot="6580200">
              <a:off x="1172160" y="418320"/>
              <a:ext cx="415800" cy="381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54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361"/>
            <p:cNvSpPr/>
            <p:nvPr/>
          </p:nvSpPr>
          <p:spPr>
            <a:xfrm rot="6580200">
              <a:off x="1389240" y="514800"/>
              <a:ext cx="506880" cy="432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54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362"/>
            <p:cNvSpPr/>
            <p:nvPr/>
          </p:nvSpPr>
          <p:spPr>
            <a:xfrm rot="6580200">
              <a:off x="2134080" y="1503360"/>
              <a:ext cx="352080" cy="341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54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Freeform 363"/>
            <p:cNvSpPr/>
            <p:nvPr/>
          </p:nvSpPr>
          <p:spPr>
            <a:xfrm rot="6580200">
              <a:off x="2305800" y="1469160"/>
              <a:ext cx="464400" cy="376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54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364"/>
            <p:cNvSpPr/>
            <p:nvPr/>
          </p:nvSpPr>
          <p:spPr>
            <a:xfrm rot="6580200">
              <a:off x="1240200" y="-246240"/>
              <a:ext cx="1090080" cy="789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54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367"/>
            <p:cNvSpPr/>
            <p:nvPr/>
          </p:nvSpPr>
          <p:spPr>
            <a:xfrm rot="6580200">
              <a:off x="1267920" y="990720"/>
              <a:ext cx="1056600" cy="938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54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368"/>
            <p:cNvSpPr/>
            <p:nvPr/>
          </p:nvSpPr>
          <p:spPr>
            <a:xfrm rot="6580200">
              <a:off x="2075040" y="204480"/>
              <a:ext cx="923040" cy="1166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54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370"/>
            <p:cNvSpPr/>
            <p:nvPr/>
          </p:nvSpPr>
          <p:spPr>
            <a:xfrm rot="6580200">
              <a:off x="2111760" y="-1250640"/>
              <a:ext cx="1305720" cy="4280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54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2" name="组合 521"/>
          <p:cNvGrpSpPr/>
          <p:nvPr/>
        </p:nvGrpSpPr>
        <p:grpSpPr>
          <a:xfrm>
            <a:off x="2157120" y="801720"/>
            <a:ext cx="2881440" cy="1349280"/>
            <a:chOff x="2157120" y="801720"/>
            <a:chExt cx="2881440" cy="1349280"/>
          </a:xfrm>
        </p:grpSpPr>
        <p:pic>
          <p:nvPicPr>
            <p:cNvPr id="363" name="组合 495" descr=""/>
            <p:cNvPicPr/>
            <p:nvPr/>
          </p:nvPicPr>
          <p:blipFill>
            <a:blip r:embed="rId19"/>
            <a:stretch/>
          </p:blipFill>
          <p:spPr>
            <a:xfrm>
              <a:off x="4850280" y="826560"/>
              <a:ext cx="188280" cy="2023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64" name="组合 506"/>
            <p:cNvGrpSpPr/>
            <p:nvPr/>
          </p:nvGrpSpPr>
          <p:grpSpPr>
            <a:xfrm>
              <a:off x="2157120" y="801720"/>
              <a:ext cx="173880" cy="205560"/>
              <a:chOff x="2157120" y="801720"/>
              <a:chExt cx="173880" cy="205560"/>
            </a:xfrm>
          </p:grpSpPr>
          <p:sp>
            <p:nvSpPr>
              <p:cNvPr id="365" name="Freeform 76"/>
              <p:cNvSpPr/>
              <p:nvPr/>
            </p:nvSpPr>
            <p:spPr>
              <a:xfrm rot="6580200">
                <a:off x="2175840" y="848160"/>
                <a:ext cx="51120" cy="75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 rot="54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Freeform 77"/>
              <p:cNvSpPr/>
              <p:nvPr/>
            </p:nvSpPr>
            <p:spPr>
              <a:xfrm rot="6580200">
                <a:off x="2196720" y="892080"/>
                <a:ext cx="36000" cy="47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 rot="54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Freeform 78"/>
              <p:cNvSpPr/>
              <p:nvPr/>
            </p:nvSpPr>
            <p:spPr>
              <a:xfrm rot="6580200">
                <a:off x="2212920" y="853560"/>
                <a:ext cx="27000" cy="47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 rot="54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Freeform 79"/>
              <p:cNvSpPr/>
              <p:nvPr/>
            </p:nvSpPr>
            <p:spPr>
              <a:xfrm rot="6580200">
                <a:off x="2258280" y="873720"/>
                <a:ext cx="32760" cy="42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 rot="54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Freeform 80"/>
              <p:cNvSpPr/>
              <p:nvPr/>
            </p:nvSpPr>
            <p:spPr>
              <a:xfrm rot="6580200">
                <a:off x="2165760" y="914400"/>
                <a:ext cx="83880" cy="47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 rot="54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Freeform 81"/>
              <p:cNvSpPr/>
              <p:nvPr/>
            </p:nvSpPr>
            <p:spPr>
              <a:xfrm rot="6580200">
                <a:off x="2189880" y="823320"/>
                <a:ext cx="83880" cy="52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 rot="54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Freeform 82"/>
              <p:cNvSpPr/>
              <p:nvPr/>
            </p:nvSpPr>
            <p:spPr>
              <a:xfrm rot="6580200">
                <a:off x="2259720" y="882720"/>
                <a:ext cx="51120" cy="78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 rot="54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Freeform 83"/>
              <p:cNvSpPr/>
              <p:nvPr/>
            </p:nvSpPr>
            <p:spPr>
              <a:xfrm rot="6580200">
                <a:off x="2249640" y="910440"/>
                <a:ext cx="27000" cy="42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 rot="54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Freeform 84"/>
              <p:cNvSpPr/>
              <p:nvPr/>
            </p:nvSpPr>
            <p:spPr>
              <a:xfrm rot="6580200">
                <a:off x="2213640" y="932400"/>
                <a:ext cx="83880" cy="52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 rot="54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Freeform 85"/>
              <p:cNvSpPr/>
              <p:nvPr/>
            </p:nvSpPr>
            <p:spPr>
              <a:xfrm rot="6580200">
                <a:off x="2204640" y="929160"/>
                <a:ext cx="63000" cy="20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 rot="54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Freeform 86"/>
              <p:cNvSpPr/>
              <p:nvPr/>
            </p:nvSpPr>
            <p:spPr>
              <a:xfrm rot="6580200">
                <a:off x="2239920" y="844560"/>
                <a:ext cx="83880" cy="52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 rot="54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Freeform 87"/>
              <p:cNvSpPr/>
              <p:nvPr/>
            </p:nvSpPr>
            <p:spPr>
              <a:xfrm rot="6580200">
                <a:off x="2222640" y="857880"/>
                <a:ext cx="63000" cy="25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 rot="54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Oval 88"/>
              <p:cNvSpPr/>
              <p:nvPr/>
            </p:nvSpPr>
            <p:spPr>
              <a:xfrm rot="6580200">
                <a:off x="2232000" y="897120"/>
                <a:ext cx="20880" cy="126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 rot="54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78" name="组合 503" descr=""/>
            <p:cNvPicPr/>
            <p:nvPr/>
          </p:nvPicPr>
          <p:blipFill>
            <a:blip r:embed="rId20"/>
            <a:stretch/>
          </p:blipFill>
          <p:spPr>
            <a:xfrm>
              <a:off x="3215160" y="1948680"/>
              <a:ext cx="163800" cy="202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9" name="矩形 141"/>
          <p:cNvSpPr/>
          <p:nvPr/>
        </p:nvSpPr>
        <p:spPr>
          <a:xfrm>
            <a:off x="-1440" y="2219400"/>
            <a:ext cx="9144000" cy="65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139"/>
          <p:cNvSpPr/>
          <p:nvPr/>
        </p:nvSpPr>
        <p:spPr>
          <a:xfrm flipH="1">
            <a:off x="5209560" y="1282680"/>
            <a:ext cx="34920" cy="1166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Box 12"/>
          <p:cNvSpPr/>
          <p:nvPr/>
        </p:nvSpPr>
        <p:spPr>
          <a:xfrm>
            <a:off x="5230800" y="1646280"/>
            <a:ext cx="299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适用于家居及相关类别演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262"/>
          <p:cNvSpPr/>
          <p:nvPr/>
        </p:nvSpPr>
        <p:spPr>
          <a:xfrm>
            <a:off x="9396360" y="5762520"/>
            <a:ext cx="21600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360" y="645336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19861 L 1.66667E-006 1.6763E-006 L 0.00035 -0.12162 L 1.66667E-006 1.6763E-006 E">
                                      <p:cBhvr>
                                        <p:cTn id="8" dur="600" fill="hold"/>
                                        <p:tgtEl>
                                          <p:spTgt spid="1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" dur="indefinite" nodeType="with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dur="indefinite" nodeType="withEffect" fill="hold" presetClass="path" presetID="0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6.11111E-006 -1 L 6.11111E-006 -2.22222E-006 L 6.11111E-006 -0.14166 L 6.11111E-006 -2.22222E-006 E">
                                      <p:cBhvr>
                                        <p:cTn id="12" dur="600" fill="hold"/>
                                        <p:tgtEl>
                                          <p:spTgt spid="1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" dur="indefinite" nodeType="with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dur="indefinite" nodeType="withEffect" fill="hold" presetClass="path" presetID="0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-0.00017 -0.98982 L -0.00017 -0.0037 L -0.00017 -0.1037 L -0.00017 -0.00093 E">
                                      <p:cBhvr>
                                        <p:cTn id="16" dur="600" fill="hold"/>
                                        <p:tgtEl>
                                          <p:spTgt spid="1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" dur="indefinite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dur="indefinite" nodeType="with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7.5E-006 -1.05278 L -7.5E-006 -7.77778E-006 L -7.5E-006 -0.08334 L -7.5E-006 -7.77778E-006 E">
                                      <p:cBhvr>
                                        <p:cTn id="20" dur="600" fill="hold"/>
                                        <p:tgtEl>
                                          <p:spTgt spid="1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" dur="indefinite" nodeType="withEffect" fill="hold" presetClass="entr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dur="indefinite" nodeType="withEffect" fill="hold" presetClass="path" presetID="0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-2.77778E-007 -0.57777 L -2.77778E-007 5.18519E-006 L -2.77778E-007 -0.05555 L -2.77778E-007 5.18519E-006 E">
                                      <p:cBhvr>
                                        <p:cTn id="24" dur="600" fill="hold"/>
                                        <p:tgtEl>
                                          <p:spTgt spid="1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100"/>
                            </p:stCondLst>
                            <p:childTnLst>
                              <p:par>
                                <p:cTn id="26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dur="indefinite" nodeType="withEffect" fill="hold" presetClass="entr" presetID="4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dur="indefinite" nodeType="withEffect" fill="hold" presetClass="entr" presetID="4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" dur="4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4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4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dur="indefinite" nodeType="withEffect" fill="hold" presetClass="entr" presetID="4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" dur="4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4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4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" dur="indefinite" nodeType="withEffect" fill="hold" presetClass="entr" presetID="4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" dur="3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dur="indefinite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" dur="3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700"/>
                            </p:stCondLst>
                            <p:childTnLst>
                              <p:par>
                                <p:cTn id="55" dur="indefinite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dur="indefinite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dur="indefinite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200"/>
                            </p:stCondLst>
                            <p:childTnLst>
                              <p:par>
                                <p:cTn id="74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2700"/>
                            </p:stCondLst>
                            <p:childTnLst>
                              <p:par>
                                <p:cTn id="78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3200"/>
                            </p:stCondLst>
                            <p:childTnLst>
                              <p:par>
                                <p:cTn id="8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dur="indefinite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" dur="4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dur="indefinite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" dur="4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dur="indefinite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dur="indefinite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" dur="4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dur="indefinite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6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dur="indefinite" nodeType="withEffect" fill="hold" presetClass="entr" presetID="2" presetSubtype="2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2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4200"/>
                            </p:stCondLst>
                            <p:childTnLst>
                              <p:par>
                                <p:cTn id="117" dur="indefinite" nodeType="afterEffect" fill="hold" presetClass="exit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5E1C8-8459-4991-BDC0-CCE39D87432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24T01:31:00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19T03:03:31Z</dcterms:modified>
  <cp:revision>1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