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803160"/>
            <a:ext cx="91440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PowerPoint can tailor your presentation so that all slides will look a certain way or fit a specific template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If you need to create a presentation for a specific company or have a logo or design that you would like to include on every page,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then you will need to custom tailor your presentation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WordArt 3"/>
          <p:cNvSpPr txBox="1"/>
          <p:nvPr/>
        </p:nvSpPr>
        <p:spPr>
          <a:xfrm>
            <a:off x="1908000" y="441360"/>
            <a:ext cx="532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ceb99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CLICK TO TYPE SLIDE TIT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ceb99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3851280" y="6129360"/>
            <a:ext cx="1441440" cy="360360"/>
            <a:chOff x="3851280" y="6129360"/>
            <a:chExt cx="1441440" cy="360360"/>
          </a:xfrm>
        </p:grpSpPr>
        <p:sp>
          <p:nvSpPr>
            <p:cNvPr id="79" name="WordArt 5"/>
            <p:cNvSpPr txBox="1"/>
            <p:nvPr/>
          </p:nvSpPr>
          <p:spPr>
            <a:xfrm>
              <a:off x="3851280" y="612936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ceb99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Impact"/>
                </a:rPr>
                <a:t>' LOGOTYPE '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ceb99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0" name="WordArt 6"/>
            <p:cNvSpPr txBox="1"/>
            <p:nvPr/>
          </p:nvSpPr>
          <p:spPr>
            <a:xfrm>
              <a:off x="3962520" y="6416640"/>
              <a:ext cx="122220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969696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969696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7"/>
          <p:cNvGrpSpPr/>
          <p:nvPr/>
        </p:nvGrpSpPr>
        <p:grpSpPr>
          <a:xfrm>
            <a:off x="1440000" y="2133720"/>
            <a:ext cx="6937200" cy="3058560"/>
            <a:chOff x="1440000" y="2133720"/>
            <a:chExt cx="6937200" cy="3058560"/>
          </a:xfrm>
        </p:grpSpPr>
        <p:grpSp>
          <p:nvGrpSpPr>
            <p:cNvPr id="82" name="Group 8"/>
            <p:cNvGrpSpPr/>
            <p:nvPr/>
          </p:nvGrpSpPr>
          <p:grpSpPr>
            <a:xfrm>
              <a:off x="4561200" y="3109680"/>
              <a:ext cx="2079360" cy="2079360"/>
              <a:chOff x="4561200" y="3109680"/>
              <a:chExt cx="2079360" cy="20793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4561200" y="3109680"/>
                <a:ext cx="2079360" cy="518760"/>
              </a:xfrm>
              <a:custGeom>
                <a:avLst/>
                <a:gdLst>
                  <a:gd name="textAreaLeft" fmla="*/ 0 w 2079360"/>
                  <a:gd name="textAreaRight" fmla="*/ 2079720 w 20793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2304" h="576">
                    <a:moveTo>
                      <a:pt x="1728" y="0"/>
                    </a:moveTo>
                    <a:lnTo>
                      <a:pt x="0" y="0"/>
                    </a:lnTo>
                    <a:lnTo>
                      <a:pt x="576" y="576"/>
                    </a:lnTo>
                    <a:lnTo>
                      <a:pt x="2304" y="576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b0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5079960" y="3628440"/>
                <a:ext cx="1560240" cy="1560240"/>
              </a:xfrm>
              <a:prstGeom prst="rect">
                <a:avLst/>
              </a:prstGeom>
              <a:solidFill>
                <a:srgbClr val="ff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561200" y="3109680"/>
                <a:ext cx="518760" cy="207936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0 h 2079360"/>
                  <a:gd name="textAreaBottom" fmla="*/ 2079720 h 20793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0" y="0"/>
                    </a:moveTo>
                    <a:lnTo>
                      <a:pt x="0" y="1728"/>
                    </a:lnTo>
                    <a:lnTo>
                      <a:pt x="576" y="2304"/>
                    </a:lnTo>
                    <a:lnTo>
                      <a:pt x="576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6" name="Group 12"/>
            <p:cNvGrpSpPr/>
            <p:nvPr/>
          </p:nvGrpSpPr>
          <p:grpSpPr>
            <a:xfrm>
              <a:off x="3000600" y="3628800"/>
              <a:ext cx="2079360" cy="1560240"/>
              <a:chOff x="3000600" y="3628800"/>
              <a:chExt cx="2079360" cy="1560240"/>
            </a:xfrm>
          </p:grpSpPr>
          <p:sp>
            <p:nvSpPr>
              <p:cNvPr id="87" name="Freeform 13"/>
              <p:cNvSpPr/>
              <p:nvPr/>
            </p:nvSpPr>
            <p:spPr>
              <a:xfrm>
                <a:off x="3000600" y="3628800"/>
                <a:ext cx="2079360" cy="520200"/>
              </a:xfrm>
              <a:custGeom>
                <a:avLst/>
                <a:gdLst>
                  <a:gd name="textAreaLeft" fmla="*/ 0 w 2079360"/>
                  <a:gd name="textAreaRight" fmla="*/ 2079720 w 2079360"/>
                  <a:gd name="textAreaTop" fmla="*/ 0 h 520200"/>
                  <a:gd name="textAreaBottom" fmla="*/ 520560 h 520200"/>
                </a:gdLst>
                <a:ahLst/>
                <a:rect l="textAreaLeft" t="textAreaTop" r="textAreaRight" b="textAreaBottom"/>
                <a:pathLst>
                  <a:path w="2304" h="576">
                    <a:moveTo>
                      <a:pt x="1728" y="0"/>
                    </a:moveTo>
                    <a:lnTo>
                      <a:pt x="0" y="0"/>
                    </a:lnTo>
                    <a:lnTo>
                      <a:pt x="576" y="576"/>
                    </a:lnTo>
                    <a:lnTo>
                      <a:pt x="2304" y="576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" name="Rectangle 14"/>
              <p:cNvSpPr/>
              <p:nvPr/>
            </p:nvSpPr>
            <p:spPr>
              <a:xfrm>
                <a:off x="3519360" y="4149000"/>
                <a:ext cx="1560240" cy="1039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" name="Freeform 15"/>
              <p:cNvSpPr/>
              <p:nvPr/>
            </p:nvSpPr>
            <p:spPr>
              <a:xfrm>
                <a:off x="3000600" y="3628800"/>
                <a:ext cx="518760" cy="156024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0 h 1560240"/>
                  <a:gd name="textAreaBottom" fmla="*/ 1560600 h 1560240"/>
                </a:gdLst>
                <a:ahLst/>
                <a:rect l="textAreaLeft" t="textAreaTop" r="textAreaRight" b="textAreaBottom"/>
                <a:pathLst>
                  <a:path w="576" h="1728">
                    <a:moveTo>
                      <a:pt x="0" y="0"/>
                    </a:moveTo>
                    <a:lnTo>
                      <a:pt x="0" y="1152"/>
                    </a:lnTo>
                    <a:lnTo>
                      <a:pt x="576" y="1728"/>
                    </a:lnTo>
                    <a:lnTo>
                      <a:pt x="576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0" name="Group 16"/>
            <p:cNvGrpSpPr/>
            <p:nvPr/>
          </p:nvGrpSpPr>
          <p:grpSpPr>
            <a:xfrm>
              <a:off x="1440000" y="4149360"/>
              <a:ext cx="2079720" cy="1039680"/>
              <a:chOff x="1440000" y="4149360"/>
              <a:chExt cx="2079720" cy="1039680"/>
            </a:xfrm>
          </p:grpSpPr>
          <p:sp>
            <p:nvSpPr>
              <p:cNvPr id="91" name="Freeform 17"/>
              <p:cNvSpPr/>
              <p:nvPr/>
            </p:nvSpPr>
            <p:spPr>
              <a:xfrm>
                <a:off x="1440000" y="4149360"/>
                <a:ext cx="2079720" cy="520560"/>
              </a:xfrm>
              <a:custGeom>
                <a:avLst/>
                <a:gdLst>
                  <a:gd name="textAreaLeft" fmla="*/ 0 w 2079720"/>
                  <a:gd name="textAreaRight" fmla="*/ 2080080 w 2079720"/>
                  <a:gd name="textAreaTop" fmla="*/ 0 h 520560"/>
                  <a:gd name="textAreaBottom" fmla="*/ 520920 h 520560"/>
                </a:gdLst>
                <a:ahLst/>
                <a:rect l="textAreaLeft" t="textAreaTop" r="textAreaRight" b="textAreaBottom"/>
                <a:pathLst>
                  <a:path w="2304" h="576">
                    <a:moveTo>
                      <a:pt x="1728" y="0"/>
                    </a:moveTo>
                    <a:lnTo>
                      <a:pt x="0" y="0"/>
                    </a:lnTo>
                    <a:lnTo>
                      <a:pt x="576" y="576"/>
                    </a:lnTo>
                    <a:lnTo>
                      <a:pt x="2304" y="576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2" name="Rectangle 18"/>
              <p:cNvSpPr/>
              <p:nvPr/>
            </p:nvSpPr>
            <p:spPr>
              <a:xfrm>
                <a:off x="1959120" y="4669920"/>
                <a:ext cx="1560600" cy="51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" name="Freeform 19"/>
              <p:cNvSpPr/>
              <p:nvPr/>
            </p:nvSpPr>
            <p:spPr>
              <a:xfrm>
                <a:off x="1440000" y="4149360"/>
                <a:ext cx="519120" cy="1039680"/>
              </a:xfrm>
              <a:custGeom>
                <a:avLst/>
                <a:gdLst>
                  <a:gd name="textAreaLeft" fmla="*/ 0 w 519120"/>
                  <a:gd name="textAreaRight" fmla="*/ 519480 w 519120"/>
                  <a:gd name="textAreaTop" fmla="*/ 0 h 1039680"/>
                  <a:gd name="textAreaBottom" fmla="*/ 1040040 h 1039680"/>
                </a:gdLst>
                <a:ahLst/>
                <a:rect l="textAreaLeft" t="textAreaTop" r="textAreaRight" b="textAreaBottom"/>
                <a:pathLst>
                  <a:path w="576" h="1152">
                    <a:moveTo>
                      <a:pt x="0" y="0"/>
                    </a:moveTo>
                    <a:lnTo>
                      <a:pt x="0" y="576"/>
                    </a:lnTo>
                    <a:lnTo>
                      <a:pt x="576" y="1152"/>
                    </a:lnTo>
                    <a:lnTo>
                      <a:pt x="576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4" name="Group 20"/>
            <p:cNvGrpSpPr/>
            <p:nvPr/>
          </p:nvGrpSpPr>
          <p:grpSpPr>
            <a:xfrm>
              <a:off x="1982880" y="2133720"/>
              <a:ext cx="952560" cy="2331360"/>
              <a:chOff x="1982880" y="2133720"/>
              <a:chExt cx="952560" cy="2331360"/>
            </a:xfrm>
          </p:grpSpPr>
          <p:sp>
            <p:nvSpPr>
              <p:cNvPr id="95" name="Freeform 21"/>
              <p:cNvSpPr/>
              <p:nvPr/>
            </p:nvSpPr>
            <p:spPr>
              <a:xfrm>
                <a:off x="1982880" y="2514240"/>
                <a:ext cx="952560" cy="1950840"/>
              </a:xfrm>
              <a:custGeom>
                <a:avLst/>
                <a:gdLst>
                  <a:gd name="textAreaLeft" fmla="*/ 0 w 952560"/>
                  <a:gd name="textAreaRight" fmla="*/ 952920 w 952560"/>
                  <a:gd name="textAreaTop" fmla="*/ 0 h 1950840"/>
                  <a:gd name="textAreaBottom" fmla="*/ 1951200 h 1950840"/>
                </a:gdLst>
                <a:ahLst/>
                <a:rect l="textAreaLeft" t="textAreaTop" r="textAreaRight" b="textAreaBottom"/>
                <a:pathLst>
                  <a:path w="1054" h="2160">
                    <a:moveTo>
                      <a:pt x="844" y="0"/>
                    </a:moveTo>
                    <a:lnTo>
                      <a:pt x="844" y="0"/>
                    </a:lnTo>
                    <a:lnTo>
                      <a:pt x="864" y="0"/>
                    </a:lnTo>
                    <a:lnTo>
                      <a:pt x="886" y="4"/>
                    </a:lnTo>
                    <a:lnTo>
                      <a:pt x="906" y="8"/>
                    </a:lnTo>
                    <a:lnTo>
                      <a:pt x="926" y="16"/>
                    </a:lnTo>
                    <a:lnTo>
                      <a:pt x="944" y="24"/>
                    </a:lnTo>
                    <a:lnTo>
                      <a:pt x="962" y="36"/>
                    </a:lnTo>
                    <a:lnTo>
                      <a:pt x="978" y="48"/>
                    </a:lnTo>
                    <a:lnTo>
                      <a:pt x="992" y="62"/>
                    </a:lnTo>
                    <a:lnTo>
                      <a:pt x="1006" y="76"/>
                    </a:lnTo>
                    <a:lnTo>
                      <a:pt x="1018" y="92"/>
                    </a:lnTo>
                    <a:lnTo>
                      <a:pt x="1028" y="110"/>
                    </a:lnTo>
                    <a:lnTo>
                      <a:pt x="1038" y="128"/>
                    </a:lnTo>
                    <a:lnTo>
                      <a:pt x="1044" y="148"/>
                    </a:lnTo>
                    <a:lnTo>
                      <a:pt x="1050" y="168"/>
                    </a:lnTo>
                    <a:lnTo>
                      <a:pt x="1052" y="188"/>
                    </a:lnTo>
                    <a:lnTo>
                      <a:pt x="1054" y="210"/>
                    </a:lnTo>
                    <a:lnTo>
                      <a:pt x="1054" y="894"/>
                    </a:lnTo>
                    <a:lnTo>
                      <a:pt x="1052" y="916"/>
                    </a:lnTo>
                    <a:lnTo>
                      <a:pt x="1046" y="936"/>
                    </a:lnTo>
                    <a:lnTo>
                      <a:pt x="1036" y="954"/>
                    </a:lnTo>
                    <a:lnTo>
                      <a:pt x="1024" y="970"/>
                    </a:lnTo>
                    <a:lnTo>
                      <a:pt x="1008" y="982"/>
                    </a:lnTo>
                    <a:lnTo>
                      <a:pt x="990" y="992"/>
                    </a:lnTo>
                    <a:lnTo>
                      <a:pt x="970" y="998"/>
                    </a:lnTo>
                    <a:lnTo>
                      <a:pt x="948" y="1000"/>
                    </a:lnTo>
                    <a:lnTo>
                      <a:pt x="928" y="998"/>
                    </a:lnTo>
                    <a:lnTo>
                      <a:pt x="908" y="992"/>
                    </a:lnTo>
                    <a:lnTo>
                      <a:pt x="890" y="982"/>
                    </a:lnTo>
                    <a:lnTo>
                      <a:pt x="874" y="970"/>
                    </a:lnTo>
                    <a:lnTo>
                      <a:pt x="862" y="954"/>
                    </a:lnTo>
                    <a:lnTo>
                      <a:pt x="852" y="936"/>
                    </a:lnTo>
                    <a:lnTo>
                      <a:pt x="846" y="916"/>
                    </a:lnTo>
                    <a:lnTo>
                      <a:pt x="844" y="894"/>
                    </a:lnTo>
                    <a:lnTo>
                      <a:pt x="844" y="262"/>
                    </a:lnTo>
                    <a:lnTo>
                      <a:pt x="790" y="262"/>
                    </a:lnTo>
                    <a:lnTo>
                      <a:pt x="790" y="2040"/>
                    </a:lnTo>
                    <a:lnTo>
                      <a:pt x="790" y="2052"/>
                    </a:lnTo>
                    <a:lnTo>
                      <a:pt x="788" y="2064"/>
                    </a:lnTo>
                    <a:lnTo>
                      <a:pt x="782" y="2086"/>
                    </a:lnTo>
                    <a:lnTo>
                      <a:pt x="770" y="2106"/>
                    </a:lnTo>
                    <a:lnTo>
                      <a:pt x="756" y="2124"/>
                    </a:lnTo>
                    <a:lnTo>
                      <a:pt x="738" y="2138"/>
                    </a:lnTo>
                    <a:lnTo>
                      <a:pt x="718" y="2150"/>
                    </a:lnTo>
                    <a:lnTo>
                      <a:pt x="696" y="2156"/>
                    </a:lnTo>
                    <a:lnTo>
                      <a:pt x="684" y="2158"/>
                    </a:lnTo>
                    <a:lnTo>
                      <a:pt x="672" y="2160"/>
                    </a:lnTo>
                    <a:lnTo>
                      <a:pt x="660" y="2158"/>
                    </a:lnTo>
                    <a:lnTo>
                      <a:pt x="648" y="2156"/>
                    </a:lnTo>
                    <a:lnTo>
                      <a:pt x="626" y="2150"/>
                    </a:lnTo>
                    <a:lnTo>
                      <a:pt x="606" y="2138"/>
                    </a:lnTo>
                    <a:lnTo>
                      <a:pt x="588" y="2124"/>
                    </a:lnTo>
                    <a:lnTo>
                      <a:pt x="574" y="2106"/>
                    </a:lnTo>
                    <a:lnTo>
                      <a:pt x="562" y="2086"/>
                    </a:lnTo>
                    <a:lnTo>
                      <a:pt x="556" y="2064"/>
                    </a:lnTo>
                    <a:lnTo>
                      <a:pt x="554" y="2052"/>
                    </a:lnTo>
                    <a:lnTo>
                      <a:pt x="554" y="2040"/>
                    </a:lnTo>
                    <a:lnTo>
                      <a:pt x="554" y="1000"/>
                    </a:lnTo>
                    <a:lnTo>
                      <a:pt x="500" y="1000"/>
                    </a:lnTo>
                    <a:lnTo>
                      <a:pt x="500" y="2040"/>
                    </a:lnTo>
                    <a:lnTo>
                      <a:pt x="500" y="2052"/>
                    </a:lnTo>
                    <a:lnTo>
                      <a:pt x="498" y="2064"/>
                    </a:lnTo>
                    <a:lnTo>
                      <a:pt x="492" y="2086"/>
                    </a:lnTo>
                    <a:lnTo>
                      <a:pt x="480" y="2106"/>
                    </a:lnTo>
                    <a:lnTo>
                      <a:pt x="466" y="2124"/>
                    </a:lnTo>
                    <a:lnTo>
                      <a:pt x="448" y="2138"/>
                    </a:lnTo>
                    <a:lnTo>
                      <a:pt x="428" y="2150"/>
                    </a:lnTo>
                    <a:lnTo>
                      <a:pt x="406" y="2156"/>
                    </a:lnTo>
                    <a:lnTo>
                      <a:pt x="394" y="2158"/>
                    </a:lnTo>
                    <a:lnTo>
                      <a:pt x="382" y="2160"/>
                    </a:lnTo>
                    <a:lnTo>
                      <a:pt x="370" y="2158"/>
                    </a:lnTo>
                    <a:lnTo>
                      <a:pt x="358" y="2156"/>
                    </a:lnTo>
                    <a:lnTo>
                      <a:pt x="336" y="2150"/>
                    </a:lnTo>
                    <a:lnTo>
                      <a:pt x="316" y="2138"/>
                    </a:lnTo>
                    <a:lnTo>
                      <a:pt x="298" y="2124"/>
                    </a:lnTo>
                    <a:lnTo>
                      <a:pt x="284" y="2106"/>
                    </a:lnTo>
                    <a:lnTo>
                      <a:pt x="274" y="2086"/>
                    </a:lnTo>
                    <a:lnTo>
                      <a:pt x="266" y="2064"/>
                    </a:lnTo>
                    <a:lnTo>
                      <a:pt x="264" y="2052"/>
                    </a:lnTo>
                    <a:lnTo>
                      <a:pt x="264" y="2040"/>
                    </a:lnTo>
                    <a:lnTo>
                      <a:pt x="264" y="262"/>
                    </a:lnTo>
                    <a:lnTo>
                      <a:pt x="212" y="262"/>
                    </a:lnTo>
                    <a:lnTo>
                      <a:pt x="212" y="894"/>
                    </a:lnTo>
                    <a:lnTo>
                      <a:pt x="210" y="916"/>
                    </a:lnTo>
                    <a:lnTo>
                      <a:pt x="202" y="936"/>
                    </a:lnTo>
                    <a:lnTo>
                      <a:pt x="194" y="954"/>
                    </a:lnTo>
                    <a:lnTo>
                      <a:pt x="180" y="970"/>
                    </a:lnTo>
                    <a:lnTo>
                      <a:pt x="164" y="982"/>
                    </a:lnTo>
                    <a:lnTo>
                      <a:pt x="146" y="992"/>
                    </a:lnTo>
                    <a:lnTo>
                      <a:pt x="128" y="998"/>
                    </a:lnTo>
                    <a:lnTo>
                      <a:pt x="106" y="1000"/>
                    </a:lnTo>
                    <a:lnTo>
                      <a:pt x="84" y="998"/>
                    </a:lnTo>
                    <a:lnTo>
                      <a:pt x="64" y="992"/>
                    </a:lnTo>
                    <a:lnTo>
                      <a:pt x="46" y="982"/>
                    </a:lnTo>
                    <a:lnTo>
                      <a:pt x="32" y="970"/>
                    </a:lnTo>
                    <a:lnTo>
                      <a:pt x="18" y="954"/>
                    </a:lnTo>
                    <a:lnTo>
                      <a:pt x="8" y="936"/>
                    </a:lnTo>
                    <a:lnTo>
                      <a:pt x="2" y="916"/>
                    </a:lnTo>
                    <a:lnTo>
                      <a:pt x="0" y="894"/>
                    </a:lnTo>
                    <a:lnTo>
                      <a:pt x="0" y="210"/>
                    </a:lnTo>
                    <a:lnTo>
                      <a:pt x="2" y="188"/>
                    </a:lnTo>
                    <a:lnTo>
                      <a:pt x="4" y="168"/>
                    </a:lnTo>
                    <a:lnTo>
                      <a:pt x="10" y="148"/>
                    </a:lnTo>
                    <a:lnTo>
                      <a:pt x="18" y="128"/>
                    </a:lnTo>
                    <a:lnTo>
                      <a:pt x="26" y="110"/>
                    </a:lnTo>
                    <a:lnTo>
                      <a:pt x="36" y="92"/>
                    </a:lnTo>
                    <a:lnTo>
                      <a:pt x="48" y="76"/>
                    </a:lnTo>
                    <a:lnTo>
                      <a:pt x="62" y="62"/>
                    </a:lnTo>
                    <a:lnTo>
                      <a:pt x="78" y="48"/>
                    </a:lnTo>
                    <a:lnTo>
                      <a:pt x="94" y="36"/>
                    </a:lnTo>
                    <a:lnTo>
                      <a:pt x="110" y="24"/>
                    </a:lnTo>
                    <a:lnTo>
                      <a:pt x="130" y="16"/>
                    </a:lnTo>
                    <a:lnTo>
                      <a:pt x="148" y="8"/>
                    </a:lnTo>
                    <a:lnTo>
                      <a:pt x="168" y="4"/>
                    </a:lnTo>
                    <a:lnTo>
                      <a:pt x="190" y="0"/>
                    </a:lnTo>
                    <a:lnTo>
                      <a:pt x="212" y="0"/>
                    </a:lnTo>
                    <a:lnTo>
                      <a:pt x="8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" name="Freeform 22"/>
              <p:cNvSpPr/>
              <p:nvPr/>
            </p:nvSpPr>
            <p:spPr>
              <a:xfrm>
                <a:off x="2292480" y="2133720"/>
                <a:ext cx="333360" cy="33300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333000"/>
                  <a:gd name="textAreaBottom" fmla="*/ 333360 h 333000"/>
                </a:gdLst>
                <a:ahLst/>
                <a:rect l="textAreaLeft" t="textAreaTop" r="textAreaRight" b="textAreaBottom"/>
                <a:pathLst>
                  <a:path w="370" h="368">
                    <a:moveTo>
                      <a:pt x="370" y="184"/>
                    </a:moveTo>
                    <a:lnTo>
                      <a:pt x="370" y="184"/>
                    </a:lnTo>
                    <a:lnTo>
                      <a:pt x="368" y="204"/>
                    </a:lnTo>
                    <a:lnTo>
                      <a:pt x="366" y="222"/>
                    </a:lnTo>
                    <a:lnTo>
                      <a:pt x="362" y="240"/>
                    </a:lnTo>
                    <a:lnTo>
                      <a:pt x="356" y="256"/>
                    </a:lnTo>
                    <a:lnTo>
                      <a:pt x="348" y="272"/>
                    </a:lnTo>
                    <a:lnTo>
                      <a:pt x="338" y="288"/>
                    </a:lnTo>
                    <a:lnTo>
                      <a:pt x="328" y="302"/>
                    </a:lnTo>
                    <a:lnTo>
                      <a:pt x="316" y="314"/>
                    </a:lnTo>
                    <a:lnTo>
                      <a:pt x="302" y="326"/>
                    </a:lnTo>
                    <a:lnTo>
                      <a:pt x="288" y="338"/>
                    </a:lnTo>
                    <a:lnTo>
                      <a:pt x="274" y="346"/>
                    </a:lnTo>
                    <a:lnTo>
                      <a:pt x="256" y="354"/>
                    </a:lnTo>
                    <a:lnTo>
                      <a:pt x="240" y="360"/>
                    </a:lnTo>
                    <a:lnTo>
                      <a:pt x="222" y="364"/>
                    </a:lnTo>
                    <a:lnTo>
                      <a:pt x="204" y="368"/>
                    </a:lnTo>
                    <a:lnTo>
                      <a:pt x="186" y="368"/>
                    </a:lnTo>
                    <a:lnTo>
                      <a:pt x="166" y="368"/>
                    </a:lnTo>
                    <a:lnTo>
                      <a:pt x="148" y="364"/>
                    </a:lnTo>
                    <a:lnTo>
                      <a:pt x="130" y="360"/>
                    </a:lnTo>
                    <a:lnTo>
                      <a:pt x="114" y="354"/>
                    </a:lnTo>
                    <a:lnTo>
                      <a:pt x="98" y="346"/>
                    </a:lnTo>
                    <a:lnTo>
                      <a:pt x="82" y="338"/>
                    </a:lnTo>
                    <a:lnTo>
                      <a:pt x="68" y="326"/>
                    </a:lnTo>
                    <a:lnTo>
                      <a:pt x="54" y="314"/>
                    </a:lnTo>
                    <a:lnTo>
                      <a:pt x="42" y="302"/>
                    </a:lnTo>
                    <a:lnTo>
                      <a:pt x="32" y="288"/>
                    </a:lnTo>
                    <a:lnTo>
                      <a:pt x="24" y="272"/>
                    </a:lnTo>
                    <a:lnTo>
                      <a:pt x="16" y="256"/>
                    </a:lnTo>
                    <a:lnTo>
                      <a:pt x="10" y="240"/>
                    </a:lnTo>
                    <a:lnTo>
                      <a:pt x="4" y="222"/>
                    </a:lnTo>
                    <a:lnTo>
                      <a:pt x="2" y="204"/>
                    </a:lnTo>
                    <a:lnTo>
                      <a:pt x="0" y="184"/>
                    </a:lnTo>
                    <a:lnTo>
                      <a:pt x="2" y="166"/>
                    </a:lnTo>
                    <a:lnTo>
                      <a:pt x="4" y="148"/>
                    </a:lnTo>
                    <a:lnTo>
                      <a:pt x="10" y="130"/>
                    </a:lnTo>
                    <a:lnTo>
                      <a:pt x="16" y="112"/>
                    </a:lnTo>
                    <a:lnTo>
                      <a:pt x="24" y="96"/>
                    </a:lnTo>
                    <a:lnTo>
                      <a:pt x="32" y="82"/>
                    </a:lnTo>
                    <a:lnTo>
                      <a:pt x="42" y="68"/>
                    </a:lnTo>
                    <a:lnTo>
                      <a:pt x="54" y="54"/>
                    </a:lnTo>
                    <a:lnTo>
                      <a:pt x="68" y="42"/>
                    </a:lnTo>
                    <a:lnTo>
                      <a:pt x="82" y="32"/>
                    </a:lnTo>
                    <a:lnTo>
                      <a:pt x="98" y="22"/>
                    </a:lnTo>
                    <a:lnTo>
                      <a:pt x="114" y="14"/>
                    </a:lnTo>
                    <a:lnTo>
                      <a:pt x="130" y="8"/>
                    </a:lnTo>
                    <a:lnTo>
                      <a:pt x="148" y="4"/>
                    </a:lnTo>
                    <a:lnTo>
                      <a:pt x="166" y="0"/>
                    </a:lnTo>
                    <a:lnTo>
                      <a:pt x="186" y="0"/>
                    </a:lnTo>
                    <a:lnTo>
                      <a:pt x="204" y="0"/>
                    </a:lnTo>
                    <a:lnTo>
                      <a:pt x="222" y="4"/>
                    </a:lnTo>
                    <a:lnTo>
                      <a:pt x="240" y="8"/>
                    </a:lnTo>
                    <a:lnTo>
                      <a:pt x="256" y="14"/>
                    </a:lnTo>
                    <a:lnTo>
                      <a:pt x="274" y="22"/>
                    </a:lnTo>
                    <a:lnTo>
                      <a:pt x="288" y="32"/>
                    </a:lnTo>
                    <a:lnTo>
                      <a:pt x="302" y="42"/>
                    </a:lnTo>
                    <a:lnTo>
                      <a:pt x="316" y="54"/>
                    </a:lnTo>
                    <a:lnTo>
                      <a:pt x="328" y="68"/>
                    </a:lnTo>
                    <a:lnTo>
                      <a:pt x="338" y="82"/>
                    </a:lnTo>
                    <a:lnTo>
                      <a:pt x="348" y="96"/>
                    </a:lnTo>
                    <a:lnTo>
                      <a:pt x="356" y="112"/>
                    </a:lnTo>
                    <a:lnTo>
                      <a:pt x="362" y="130"/>
                    </a:lnTo>
                    <a:lnTo>
                      <a:pt x="366" y="148"/>
                    </a:lnTo>
                    <a:lnTo>
                      <a:pt x="368" y="166"/>
                    </a:lnTo>
                    <a:lnTo>
                      <a:pt x="370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7" name="Arc 23"/>
            <p:cNvSpPr/>
            <p:nvPr/>
          </p:nvSpPr>
          <p:spPr>
            <a:xfrm>
              <a:off x="4057920" y="2744640"/>
              <a:ext cx="979200" cy="6105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610560"/>
                <a:gd name="textAreaBottom" fmla="*/ 610920 h 610560"/>
              </a:gdLst>
              <a:ahLst/>
              <a:rect l="textAreaLeft" t="textAreaTop" r="textAreaRight" b="textAreaBottom"/>
              <a:pathLst>
                <a:path fill="none" w="35703" h="22278">
                  <a:moveTo>
                    <a:pt x="10" y="22278"/>
                  </a:moveTo>
                  <a:cubicBezTo>
                    <a:pt x="3" y="22052"/>
                    <a:pt x="0" y="218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6777" y="-1"/>
                    <a:pt x="31781" y="1859"/>
                    <a:pt x="35703" y="5239"/>
                  </a:cubicBezTo>
                </a:path>
                <a:path stroke="0" w="35703" h="22278">
                  <a:moveTo>
                    <a:pt x="10" y="22278"/>
                  </a:moveTo>
                  <a:cubicBezTo>
                    <a:pt x="3" y="22052"/>
                    <a:pt x="0" y="218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6777" y="-1"/>
                    <a:pt x="31781" y="1859"/>
                    <a:pt x="35703" y="523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1680">
              <a:solidFill>
                <a:srgbClr val="ffcc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" name="Text Box 24"/>
            <p:cNvSpPr/>
            <p:nvPr/>
          </p:nvSpPr>
          <p:spPr>
            <a:xfrm>
              <a:off x="3554640" y="4833720"/>
              <a:ext cx="143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Subtle Touch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" name="Text Box 25"/>
            <p:cNvSpPr/>
            <p:nvPr/>
          </p:nvSpPr>
          <p:spPr>
            <a:xfrm>
              <a:off x="5318280" y="4833720"/>
              <a:ext cx="11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Simplicit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" name="Text Box 26"/>
            <p:cNvSpPr/>
            <p:nvPr/>
          </p:nvSpPr>
          <p:spPr>
            <a:xfrm>
              <a:off x="2078280" y="48337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Constructio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Text Box 27"/>
            <p:cNvSpPr/>
            <p:nvPr/>
          </p:nvSpPr>
          <p:spPr>
            <a:xfrm>
              <a:off x="5175360" y="2204640"/>
              <a:ext cx="2411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b400"/>
                  </a:solidFill>
                  <a:latin typeface="Arial Black"/>
                </a:rPr>
                <a:t>Easy Search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"/>
                </a:rPr>
                <a:t>Our easy to use and functional search engine helps you locate the right templates quickly saving you tim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" name="Arc 28"/>
            <p:cNvSpPr/>
            <p:nvPr/>
          </p:nvSpPr>
          <p:spPr>
            <a:xfrm>
              <a:off x="3176640" y="2744640"/>
              <a:ext cx="593640" cy="6361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636120"/>
                <a:gd name="textAreaBottom" fmla="*/ 636120 h 636120"/>
              </a:gdLst>
              <a:ahLst/>
              <a:rect l="textAreaLeft" t="textAreaTop" r="textAreaRight" b="textAreaBottom"/>
              <a:pathLst>
                <a:path fill="none" w="21600" h="23193">
                  <a:moveTo>
                    <a:pt x="608" y="-1"/>
                  </a:moveTo>
                  <a:cubicBezTo>
                    <a:pt x="12295" y="328"/>
                    <a:pt x="21600" y="9898"/>
                    <a:pt x="21600" y="21591"/>
                  </a:cubicBezTo>
                  <a:cubicBezTo>
                    <a:pt x="21600" y="22125"/>
                    <a:pt x="21580" y="22659"/>
                    <a:pt x="21540" y="23192"/>
                  </a:cubicBezTo>
                </a:path>
                <a:path stroke="0" w="21600" h="23193">
                  <a:moveTo>
                    <a:pt x="608" y="-1"/>
                  </a:moveTo>
                  <a:cubicBezTo>
                    <a:pt x="12295" y="328"/>
                    <a:pt x="21600" y="9898"/>
                    <a:pt x="21600" y="21591"/>
                  </a:cubicBezTo>
                  <a:cubicBezTo>
                    <a:pt x="21600" y="22125"/>
                    <a:pt x="21580" y="22659"/>
                    <a:pt x="21540" y="23192"/>
                  </a:cubicBezTo>
                  <a:lnTo>
                    <a:pt x="0" y="21591"/>
                  </a:lnTo>
                  <a:close/>
                </a:path>
              </a:pathLst>
            </a:custGeom>
            <a:noFill/>
            <a:ln cap="rnd" w="31680">
              <a:solidFill>
                <a:srgbClr val="fffff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03" name="Group 29"/>
            <p:cNvGrpSpPr/>
            <p:nvPr/>
          </p:nvGrpSpPr>
          <p:grpSpPr>
            <a:xfrm>
              <a:off x="6793200" y="3644640"/>
              <a:ext cx="1584000" cy="1547640"/>
              <a:chOff x="6793200" y="3644640"/>
              <a:chExt cx="1584000" cy="1547640"/>
            </a:xfrm>
          </p:grpSpPr>
          <p:sp>
            <p:nvSpPr>
              <p:cNvPr id="104" name="AutoShape 30"/>
              <p:cNvSpPr/>
              <p:nvPr/>
            </p:nvSpPr>
            <p:spPr>
              <a:xfrm>
                <a:off x="6793200" y="3644640"/>
                <a:ext cx="1584000" cy="1547640"/>
              </a:xfrm>
              <a:prstGeom prst="roundRect">
                <a:avLst>
                  <a:gd name="adj" fmla="val 5528"/>
                </a:avLst>
              </a:prstGeom>
              <a:solidFill>
                <a:srgbClr val="000000">
                  <a:alpha val="25000"/>
                </a:srgbClr>
              </a:solidFill>
              <a:ln cap="rnd" w="19080">
                <a:solidFill>
                  <a:srgbClr val="9e9e9e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5" name="Text Box 31"/>
              <p:cNvSpPr/>
              <p:nvPr/>
            </p:nvSpPr>
            <p:spPr>
              <a:xfrm>
                <a:off x="6864120" y="3679560"/>
                <a:ext cx="1476000" cy="14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e9e9e"/>
                    </a:solidFill>
                    <a:latin typeface="Arial Black"/>
                  </a:rPr>
                  <a:t>Visual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e9e9e"/>
                    </a:solidFill>
                    <a:latin typeface="Arial Black"/>
                  </a:rPr>
                  <a:t>Appealing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e9e9e"/>
                    </a:solidFill>
                    <a:latin typeface="Arial"/>
                  </a:rPr>
                  <a:t>Captivate your viewing audience - PowerPoint Templates &amp; Backgrounds, Sleek Diagram &amp; Charts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e9e9e"/>
                    </a:solidFill>
                    <a:latin typeface="Arial"/>
                  </a:rPr>
                  <a:t>For Your Presentation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"/>
          <p:cNvSpPr/>
          <p:nvPr/>
        </p:nvSpPr>
        <p:spPr>
          <a:xfrm>
            <a:off x="2076840" y="12700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楷体"/>
                <a:ea typeface="楷体"/>
              </a:rPr>
              <a:t>近期目标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ko-KR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803160"/>
            <a:ext cx="91440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PowerPoint can tailor your presentation so that all slides will look a certain way or fit a specific template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If you need to create a presentation for a specific company or have a logo or design that you would like to include on every page,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then you will need to custom tailor your presentation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WordArt 3"/>
          <p:cNvSpPr txBox="1"/>
          <p:nvPr/>
        </p:nvSpPr>
        <p:spPr>
          <a:xfrm>
            <a:off x="1908000" y="441360"/>
            <a:ext cx="532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957b59"/>
                </a:solidFill>
                <a:latin typeface="Times New Roman"/>
              </a:rPr>
              <a:t>CLICK TO TYPE SLIDE TITLE</a:t>
            </a:r>
            <a:endParaRPr b="1" lang="en-US" sz="1800" spc="-1" strike="noStrike">
              <a:ln w="0">
                <a:noFill/>
              </a:ln>
              <a:solidFill>
                <a:srgbClr val="957b59"/>
              </a:solidFill>
              <a:latin typeface="Times New Roman"/>
              <a:ea typeface="Times New Roman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3851280" y="6129360"/>
            <a:ext cx="1441440" cy="360360"/>
            <a:chOff x="3851280" y="6129360"/>
            <a:chExt cx="1441440" cy="360360"/>
          </a:xfrm>
        </p:grpSpPr>
        <p:sp>
          <p:nvSpPr>
            <p:cNvPr id="114" name="WordArt 5"/>
            <p:cNvSpPr txBox="1"/>
            <p:nvPr/>
          </p:nvSpPr>
          <p:spPr>
            <a:xfrm>
              <a:off x="3851280" y="6129360"/>
              <a:ext cx="14414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957b59"/>
                  </a:solidFill>
                  <a:latin typeface="Impact"/>
                </a:rPr>
                <a:t>' LOGOTYPE '</a:t>
              </a:r>
              <a:endParaRPr b="0" lang="en-US" sz="1800" spc="-1" strike="noStrike">
                <a:ln w="0">
                  <a:noFill/>
                </a:ln>
                <a:solidFill>
                  <a:srgbClr val="957b59"/>
                </a:solidFill>
                <a:latin typeface="Impact"/>
                <a:ea typeface="Impact"/>
              </a:endParaRPr>
            </a:p>
          </p:txBody>
        </p:sp>
        <p:sp>
          <p:nvSpPr>
            <p:cNvPr id="115" name="WordArt 6"/>
            <p:cNvSpPr txBox="1"/>
            <p:nvPr/>
          </p:nvSpPr>
          <p:spPr>
            <a:xfrm>
              <a:off x="3962520" y="6416640"/>
              <a:ext cx="122220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969696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969696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7"/>
          <p:cNvGrpSpPr/>
          <p:nvPr/>
        </p:nvGrpSpPr>
        <p:grpSpPr>
          <a:xfrm>
            <a:off x="1440000" y="2133720"/>
            <a:ext cx="6937200" cy="3058560"/>
            <a:chOff x="1440000" y="2133720"/>
            <a:chExt cx="6937200" cy="3058560"/>
          </a:xfrm>
        </p:grpSpPr>
        <p:grpSp>
          <p:nvGrpSpPr>
            <p:cNvPr id="117" name="Group 8"/>
            <p:cNvGrpSpPr/>
            <p:nvPr/>
          </p:nvGrpSpPr>
          <p:grpSpPr>
            <a:xfrm>
              <a:off x="4561200" y="3109680"/>
              <a:ext cx="2079360" cy="2079360"/>
              <a:chOff x="4561200" y="3109680"/>
              <a:chExt cx="2079360" cy="2079360"/>
            </a:xfrm>
          </p:grpSpPr>
          <p:sp>
            <p:nvSpPr>
              <p:cNvPr id="118" name="Freeform 9"/>
              <p:cNvSpPr/>
              <p:nvPr/>
            </p:nvSpPr>
            <p:spPr>
              <a:xfrm>
                <a:off x="4561200" y="3109680"/>
                <a:ext cx="2079360" cy="518760"/>
              </a:xfrm>
              <a:custGeom>
                <a:avLst/>
                <a:gdLst>
                  <a:gd name="textAreaLeft" fmla="*/ 0 w 2079360"/>
                  <a:gd name="textAreaRight" fmla="*/ 2079720 w 20793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2304" h="576">
                    <a:moveTo>
                      <a:pt x="1728" y="0"/>
                    </a:moveTo>
                    <a:lnTo>
                      <a:pt x="0" y="0"/>
                    </a:lnTo>
                    <a:lnTo>
                      <a:pt x="576" y="576"/>
                    </a:lnTo>
                    <a:lnTo>
                      <a:pt x="2304" y="576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4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5079960" y="3628440"/>
                <a:ext cx="1560240" cy="1560240"/>
              </a:xfrm>
              <a:prstGeom prst="rect">
                <a:avLst/>
              </a:pr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4561200" y="3109680"/>
                <a:ext cx="518760" cy="207936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0 h 2079360"/>
                  <a:gd name="textAreaBottom" fmla="*/ 2079720 h 20793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0" y="0"/>
                    </a:moveTo>
                    <a:lnTo>
                      <a:pt x="0" y="1728"/>
                    </a:lnTo>
                    <a:lnTo>
                      <a:pt x="576" y="2304"/>
                    </a:lnTo>
                    <a:lnTo>
                      <a:pt x="576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1" name="Group 12"/>
            <p:cNvGrpSpPr/>
            <p:nvPr/>
          </p:nvGrpSpPr>
          <p:grpSpPr>
            <a:xfrm>
              <a:off x="3000600" y="3628800"/>
              <a:ext cx="2079360" cy="1560240"/>
              <a:chOff x="3000600" y="3628800"/>
              <a:chExt cx="2079360" cy="1560240"/>
            </a:xfrm>
          </p:grpSpPr>
          <p:sp>
            <p:nvSpPr>
              <p:cNvPr id="122" name="Freeform 13"/>
              <p:cNvSpPr/>
              <p:nvPr/>
            </p:nvSpPr>
            <p:spPr>
              <a:xfrm>
                <a:off x="3000600" y="3628800"/>
                <a:ext cx="2079360" cy="520200"/>
              </a:xfrm>
              <a:custGeom>
                <a:avLst/>
                <a:gdLst>
                  <a:gd name="textAreaLeft" fmla="*/ 0 w 2079360"/>
                  <a:gd name="textAreaRight" fmla="*/ 2079720 w 2079360"/>
                  <a:gd name="textAreaTop" fmla="*/ 0 h 520200"/>
                  <a:gd name="textAreaBottom" fmla="*/ 520560 h 520200"/>
                </a:gdLst>
                <a:ahLst/>
                <a:rect l="textAreaLeft" t="textAreaTop" r="textAreaRight" b="textAreaBottom"/>
                <a:pathLst>
                  <a:path w="2304" h="576">
                    <a:moveTo>
                      <a:pt x="1728" y="0"/>
                    </a:moveTo>
                    <a:lnTo>
                      <a:pt x="0" y="0"/>
                    </a:lnTo>
                    <a:lnTo>
                      <a:pt x="576" y="576"/>
                    </a:lnTo>
                    <a:lnTo>
                      <a:pt x="2304" y="576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3519360" y="4149000"/>
                <a:ext cx="1560240" cy="1039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>
                <a:off x="3000600" y="3628800"/>
                <a:ext cx="518760" cy="156024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0 h 1560240"/>
                  <a:gd name="textAreaBottom" fmla="*/ 1560600 h 1560240"/>
                </a:gdLst>
                <a:ahLst/>
                <a:rect l="textAreaLeft" t="textAreaTop" r="textAreaRight" b="textAreaBottom"/>
                <a:pathLst>
                  <a:path w="576" h="1728">
                    <a:moveTo>
                      <a:pt x="0" y="0"/>
                    </a:moveTo>
                    <a:lnTo>
                      <a:pt x="0" y="1152"/>
                    </a:lnTo>
                    <a:lnTo>
                      <a:pt x="576" y="1728"/>
                    </a:lnTo>
                    <a:lnTo>
                      <a:pt x="576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5" name="Group 16"/>
            <p:cNvGrpSpPr/>
            <p:nvPr/>
          </p:nvGrpSpPr>
          <p:grpSpPr>
            <a:xfrm>
              <a:off x="1440000" y="4149360"/>
              <a:ext cx="2079720" cy="1039680"/>
              <a:chOff x="1440000" y="4149360"/>
              <a:chExt cx="2079720" cy="1039680"/>
            </a:xfrm>
          </p:grpSpPr>
          <p:sp>
            <p:nvSpPr>
              <p:cNvPr id="126" name="Freeform 17"/>
              <p:cNvSpPr/>
              <p:nvPr/>
            </p:nvSpPr>
            <p:spPr>
              <a:xfrm>
                <a:off x="1440000" y="4149360"/>
                <a:ext cx="2079720" cy="520560"/>
              </a:xfrm>
              <a:custGeom>
                <a:avLst/>
                <a:gdLst>
                  <a:gd name="textAreaLeft" fmla="*/ 0 w 2079720"/>
                  <a:gd name="textAreaRight" fmla="*/ 2080080 w 2079720"/>
                  <a:gd name="textAreaTop" fmla="*/ 0 h 520560"/>
                  <a:gd name="textAreaBottom" fmla="*/ 520920 h 520560"/>
                </a:gdLst>
                <a:ahLst/>
                <a:rect l="textAreaLeft" t="textAreaTop" r="textAreaRight" b="textAreaBottom"/>
                <a:pathLst>
                  <a:path w="2304" h="576">
                    <a:moveTo>
                      <a:pt x="1728" y="0"/>
                    </a:moveTo>
                    <a:lnTo>
                      <a:pt x="0" y="0"/>
                    </a:lnTo>
                    <a:lnTo>
                      <a:pt x="576" y="576"/>
                    </a:lnTo>
                    <a:lnTo>
                      <a:pt x="2304" y="576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" name="Rectangle 18"/>
              <p:cNvSpPr/>
              <p:nvPr/>
            </p:nvSpPr>
            <p:spPr>
              <a:xfrm>
                <a:off x="1959120" y="4669920"/>
                <a:ext cx="1560600" cy="51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" name="Freeform 19"/>
              <p:cNvSpPr/>
              <p:nvPr/>
            </p:nvSpPr>
            <p:spPr>
              <a:xfrm>
                <a:off x="1440000" y="4149360"/>
                <a:ext cx="519120" cy="1039680"/>
              </a:xfrm>
              <a:custGeom>
                <a:avLst/>
                <a:gdLst>
                  <a:gd name="textAreaLeft" fmla="*/ 0 w 519120"/>
                  <a:gd name="textAreaRight" fmla="*/ 519480 w 519120"/>
                  <a:gd name="textAreaTop" fmla="*/ 0 h 1039680"/>
                  <a:gd name="textAreaBottom" fmla="*/ 1040040 h 1039680"/>
                </a:gdLst>
                <a:ahLst/>
                <a:rect l="textAreaLeft" t="textAreaTop" r="textAreaRight" b="textAreaBottom"/>
                <a:pathLst>
                  <a:path w="576" h="1152">
                    <a:moveTo>
                      <a:pt x="0" y="0"/>
                    </a:moveTo>
                    <a:lnTo>
                      <a:pt x="0" y="576"/>
                    </a:lnTo>
                    <a:lnTo>
                      <a:pt x="576" y="1152"/>
                    </a:lnTo>
                    <a:lnTo>
                      <a:pt x="576" y="5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9" name="Group 20"/>
            <p:cNvGrpSpPr/>
            <p:nvPr/>
          </p:nvGrpSpPr>
          <p:grpSpPr>
            <a:xfrm>
              <a:off x="1982880" y="2133720"/>
              <a:ext cx="952560" cy="2331360"/>
              <a:chOff x="1982880" y="2133720"/>
              <a:chExt cx="952560" cy="2331360"/>
            </a:xfrm>
          </p:grpSpPr>
          <p:sp>
            <p:nvSpPr>
              <p:cNvPr id="130" name="Freeform 21"/>
              <p:cNvSpPr/>
              <p:nvPr/>
            </p:nvSpPr>
            <p:spPr>
              <a:xfrm>
                <a:off x="1982880" y="2514240"/>
                <a:ext cx="952560" cy="1950840"/>
              </a:xfrm>
              <a:custGeom>
                <a:avLst/>
                <a:gdLst>
                  <a:gd name="textAreaLeft" fmla="*/ 0 w 952560"/>
                  <a:gd name="textAreaRight" fmla="*/ 952920 w 952560"/>
                  <a:gd name="textAreaTop" fmla="*/ 0 h 1950840"/>
                  <a:gd name="textAreaBottom" fmla="*/ 1951200 h 1950840"/>
                </a:gdLst>
                <a:ahLst/>
                <a:rect l="textAreaLeft" t="textAreaTop" r="textAreaRight" b="textAreaBottom"/>
                <a:pathLst>
                  <a:path w="1054" h="2160">
                    <a:moveTo>
                      <a:pt x="844" y="0"/>
                    </a:moveTo>
                    <a:lnTo>
                      <a:pt x="844" y="0"/>
                    </a:lnTo>
                    <a:lnTo>
                      <a:pt x="864" y="0"/>
                    </a:lnTo>
                    <a:lnTo>
                      <a:pt x="886" y="4"/>
                    </a:lnTo>
                    <a:lnTo>
                      <a:pt x="906" y="8"/>
                    </a:lnTo>
                    <a:lnTo>
                      <a:pt x="926" y="16"/>
                    </a:lnTo>
                    <a:lnTo>
                      <a:pt x="944" y="24"/>
                    </a:lnTo>
                    <a:lnTo>
                      <a:pt x="962" y="36"/>
                    </a:lnTo>
                    <a:lnTo>
                      <a:pt x="978" y="48"/>
                    </a:lnTo>
                    <a:lnTo>
                      <a:pt x="992" y="62"/>
                    </a:lnTo>
                    <a:lnTo>
                      <a:pt x="1006" y="76"/>
                    </a:lnTo>
                    <a:lnTo>
                      <a:pt x="1018" y="92"/>
                    </a:lnTo>
                    <a:lnTo>
                      <a:pt x="1028" y="110"/>
                    </a:lnTo>
                    <a:lnTo>
                      <a:pt x="1038" y="128"/>
                    </a:lnTo>
                    <a:lnTo>
                      <a:pt x="1044" y="148"/>
                    </a:lnTo>
                    <a:lnTo>
                      <a:pt x="1050" y="168"/>
                    </a:lnTo>
                    <a:lnTo>
                      <a:pt x="1052" y="188"/>
                    </a:lnTo>
                    <a:lnTo>
                      <a:pt x="1054" y="210"/>
                    </a:lnTo>
                    <a:lnTo>
                      <a:pt x="1054" y="894"/>
                    </a:lnTo>
                    <a:lnTo>
                      <a:pt x="1052" y="916"/>
                    </a:lnTo>
                    <a:lnTo>
                      <a:pt x="1046" y="936"/>
                    </a:lnTo>
                    <a:lnTo>
                      <a:pt x="1036" y="954"/>
                    </a:lnTo>
                    <a:lnTo>
                      <a:pt x="1024" y="970"/>
                    </a:lnTo>
                    <a:lnTo>
                      <a:pt x="1008" y="982"/>
                    </a:lnTo>
                    <a:lnTo>
                      <a:pt x="990" y="992"/>
                    </a:lnTo>
                    <a:lnTo>
                      <a:pt x="970" y="998"/>
                    </a:lnTo>
                    <a:lnTo>
                      <a:pt x="948" y="1000"/>
                    </a:lnTo>
                    <a:lnTo>
                      <a:pt x="928" y="998"/>
                    </a:lnTo>
                    <a:lnTo>
                      <a:pt x="908" y="992"/>
                    </a:lnTo>
                    <a:lnTo>
                      <a:pt x="890" y="982"/>
                    </a:lnTo>
                    <a:lnTo>
                      <a:pt x="874" y="970"/>
                    </a:lnTo>
                    <a:lnTo>
                      <a:pt x="862" y="954"/>
                    </a:lnTo>
                    <a:lnTo>
                      <a:pt x="852" y="936"/>
                    </a:lnTo>
                    <a:lnTo>
                      <a:pt x="846" y="916"/>
                    </a:lnTo>
                    <a:lnTo>
                      <a:pt x="844" y="894"/>
                    </a:lnTo>
                    <a:lnTo>
                      <a:pt x="844" y="262"/>
                    </a:lnTo>
                    <a:lnTo>
                      <a:pt x="790" y="262"/>
                    </a:lnTo>
                    <a:lnTo>
                      <a:pt x="790" y="2040"/>
                    </a:lnTo>
                    <a:lnTo>
                      <a:pt x="790" y="2052"/>
                    </a:lnTo>
                    <a:lnTo>
                      <a:pt x="788" y="2064"/>
                    </a:lnTo>
                    <a:lnTo>
                      <a:pt x="782" y="2086"/>
                    </a:lnTo>
                    <a:lnTo>
                      <a:pt x="770" y="2106"/>
                    </a:lnTo>
                    <a:lnTo>
                      <a:pt x="756" y="2124"/>
                    </a:lnTo>
                    <a:lnTo>
                      <a:pt x="738" y="2138"/>
                    </a:lnTo>
                    <a:lnTo>
                      <a:pt x="718" y="2150"/>
                    </a:lnTo>
                    <a:lnTo>
                      <a:pt x="696" y="2156"/>
                    </a:lnTo>
                    <a:lnTo>
                      <a:pt x="684" y="2158"/>
                    </a:lnTo>
                    <a:lnTo>
                      <a:pt x="672" y="2160"/>
                    </a:lnTo>
                    <a:lnTo>
                      <a:pt x="660" y="2158"/>
                    </a:lnTo>
                    <a:lnTo>
                      <a:pt x="648" y="2156"/>
                    </a:lnTo>
                    <a:lnTo>
                      <a:pt x="626" y="2150"/>
                    </a:lnTo>
                    <a:lnTo>
                      <a:pt x="606" y="2138"/>
                    </a:lnTo>
                    <a:lnTo>
                      <a:pt x="588" y="2124"/>
                    </a:lnTo>
                    <a:lnTo>
                      <a:pt x="574" y="2106"/>
                    </a:lnTo>
                    <a:lnTo>
                      <a:pt x="562" y="2086"/>
                    </a:lnTo>
                    <a:lnTo>
                      <a:pt x="556" y="2064"/>
                    </a:lnTo>
                    <a:lnTo>
                      <a:pt x="554" y="2052"/>
                    </a:lnTo>
                    <a:lnTo>
                      <a:pt x="554" y="2040"/>
                    </a:lnTo>
                    <a:lnTo>
                      <a:pt x="554" y="1000"/>
                    </a:lnTo>
                    <a:lnTo>
                      <a:pt x="500" y="1000"/>
                    </a:lnTo>
                    <a:lnTo>
                      <a:pt x="500" y="2040"/>
                    </a:lnTo>
                    <a:lnTo>
                      <a:pt x="500" y="2052"/>
                    </a:lnTo>
                    <a:lnTo>
                      <a:pt x="498" y="2064"/>
                    </a:lnTo>
                    <a:lnTo>
                      <a:pt x="492" y="2086"/>
                    </a:lnTo>
                    <a:lnTo>
                      <a:pt x="480" y="2106"/>
                    </a:lnTo>
                    <a:lnTo>
                      <a:pt x="466" y="2124"/>
                    </a:lnTo>
                    <a:lnTo>
                      <a:pt x="448" y="2138"/>
                    </a:lnTo>
                    <a:lnTo>
                      <a:pt x="428" y="2150"/>
                    </a:lnTo>
                    <a:lnTo>
                      <a:pt x="406" y="2156"/>
                    </a:lnTo>
                    <a:lnTo>
                      <a:pt x="394" y="2158"/>
                    </a:lnTo>
                    <a:lnTo>
                      <a:pt x="382" y="2160"/>
                    </a:lnTo>
                    <a:lnTo>
                      <a:pt x="370" y="2158"/>
                    </a:lnTo>
                    <a:lnTo>
                      <a:pt x="358" y="2156"/>
                    </a:lnTo>
                    <a:lnTo>
                      <a:pt x="336" y="2150"/>
                    </a:lnTo>
                    <a:lnTo>
                      <a:pt x="316" y="2138"/>
                    </a:lnTo>
                    <a:lnTo>
                      <a:pt x="298" y="2124"/>
                    </a:lnTo>
                    <a:lnTo>
                      <a:pt x="284" y="2106"/>
                    </a:lnTo>
                    <a:lnTo>
                      <a:pt x="274" y="2086"/>
                    </a:lnTo>
                    <a:lnTo>
                      <a:pt x="266" y="2064"/>
                    </a:lnTo>
                    <a:lnTo>
                      <a:pt x="264" y="2052"/>
                    </a:lnTo>
                    <a:lnTo>
                      <a:pt x="264" y="2040"/>
                    </a:lnTo>
                    <a:lnTo>
                      <a:pt x="264" y="262"/>
                    </a:lnTo>
                    <a:lnTo>
                      <a:pt x="212" y="262"/>
                    </a:lnTo>
                    <a:lnTo>
                      <a:pt x="212" y="894"/>
                    </a:lnTo>
                    <a:lnTo>
                      <a:pt x="210" y="916"/>
                    </a:lnTo>
                    <a:lnTo>
                      <a:pt x="202" y="936"/>
                    </a:lnTo>
                    <a:lnTo>
                      <a:pt x="194" y="954"/>
                    </a:lnTo>
                    <a:lnTo>
                      <a:pt x="180" y="970"/>
                    </a:lnTo>
                    <a:lnTo>
                      <a:pt x="164" y="982"/>
                    </a:lnTo>
                    <a:lnTo>
                      <a:pt x="146" y="992"/>
                    </a:lnTo>
                    <a:lnTo>
                      <a:pt x="128" y="998"/>
                    </a:lnTo>
                    <a:lnTo>
                      <a:pt x="106" y="1000"/>
                    </a:lnTo>
                    <a:lnTo>
                      <a:pt x="84" y="998"/>
                    </a:lnTo>
                    <a:lnTo>
                      <a:pt x="64" y="992"/>
                    </a:lnTo>
                    <a:lnTo>
                      <a:pt x="46" y="982"/>
                    </a:lnTo>
                    <a:lnTo>
                      <a:pt x="32" y="970"/>
                    </a:lnTo>
                    <a:lnTo>
                      <a:pt x="18" y="954"/>
                    </a:lnTo>
                    <a:lnTo>
                      <a:pt x="8" y="936"/>
                    </a:lnTo>
                    <a:lnTo>
                      <a:pt x="2" y="916"/>
                    </a:lnTo>
                    <a:lnTo>
                      <a:pt x="0" y="894"/>
                    </a:lnTo>
                    <a:lnTo>
                      <a:pt x="0" y="210"/>
                    </a:lnTo>
                    <a:lnTo>
                      <a:pt x="2" y="188"/>
                    </a:lnTo>
                    <a:lnTo>
                      <a:pt x="4" y="168"/>
                    </a:lnTo>
                    <a:lnTo>
                      <a:pt x="10" y="148"/>
                    </a:lnTo>
                    <a:lnTo>
                      <a:pt x="18" y="128"/>
                    </a:lnTo>
                    <a:lnTo>
                      <a:pt x="26" y="110"/>
                    </a:lnTo>
                    <a:lnTo>
                      <a:pt x="36" y="92"/>
                    </a:lnTo>
                    <a:lnTo>
                      <a:pt x="48" y="76"/>
                    </a:lnTo>
                    <a:lnTo>
                      <a:pt x="62" y="62"/>
                    </a:lnTo>
                    <a:lnTo>
                      <a:pt x="78" y="48"/>
                    </a:lnTo>
                    <a:lnTo>
                      <a:pt x="94" y="36"/>
                    </a:lnTo>
                    <a:lnTo>
                      <a:pt x="110" y="24"/>
                    </a:lnTo>
                    <a:lnTo>
                      <a:pt x="130" y="16"/>
                    </a:lnTo>
                    <a:lnTo>
                      <a:pt x="148" y="8"/>
                    </a:lnTo>
                    <a:lnTo>
                      <a:pt x="168" y="4"/>
                    </a:lnTo>
                    <a:lnTo>
                      <a:pt x="190" y="0"/>
                    </a:lnTo>
                    <a:lnTo>
                      <a:pt x="212" y="0"/>
                    </a:lnTo>
                    <a:lnTo>
                      <a:pt x="844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" name="Freeform 22"/>
              <p:cNvSpPr/>
              <p:nvPr/>
            </p:nvSpPr>
            <p:spPr>
              <a:xfrm>
                <a:off x="2292480" y="2133720"/>
                <a:ext cx="333360" cy="33300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333000"/>
                  <a:gd name="textAreaBottom" fmla="*/ 333360 h 333000"/>
                </a:gdLst>
                <a:ahLst/>
                <a:rect l="textAreaLeft" t="textAreaTop" r="textAreaRight" b="textAreaBottom"/>
                <a:pathLst>
                  <a:path w="370" h="368">
                    <a:moveTo>
                      <a:pt x="370" y="184"/>
                    </a:moveTo>
                    <a:lnTo>
                      <a:pt x="370" y="184"/>
                    </a:lnTo>
                    <a:lnTo>
                      <a:pt x="368" y="204"/>
                    </a:lnTo>
                    <a:lnTo>
                      <a:pt x="366" y="222"/>
                    </a:lnTo>
                    <a:lnTo>
                      <a:pt x="362" y="240"/>
                    </a:lnTo>
                    <a:lnTo>
                      <a:pt x="356" y="256"/>
                    </a:lnTo>
                    <a:lnTo>
                      <a:pt x="348" y="272"/>
                    </a:lnTo>
                    <a:lnTo>
                      <a:pt x="338" y="288"/>
                    </a:lnTo>
                    <a:lnTo>
                      <a:pt x="328" y="302"/>
                    </a:lnTo>
                    <a:lnTo>
                      <a:pt x="316" y="314"/>
                    </a:lnTo>
                    <a:lnTo>
                      <a:pt x="302" y="326"/>
                    </a:lnTo>
                    <a:lnTo>
                      <a:pt x="288" y="338"/>
                    </a:lnTo>
                    <a:lnTo>
                      <a:pt x="274" y="346"/>
                    </a:lnTo>
                    <a:lnTo>
                      <a:pt x="256" y="354"/>
                    </a:lnTo>
                    <a:lnTo>
                      <a:pt x="240" y="360"/>
                    </a:lnTo>
                    <a:lnTo>
                      <a:pt x="222" y="364"/>
                    </a:lnTo>
                    <a:lnTo>
                      <a:pt x="204" y="368"/>
                    </a:lnTo>
                    <a:lnTo>
                      <a:pt x="186" y="368"/>
                    </a:lnTo>
                    <a:lnTo>
                      <a:pt x="166" y="368"/>
                    </a:lnTo>
                    <a:lnTo>
                      <a:pt x="148" y="364"/>
                    </a:lnTo>
                    <a:lnTo>
                      <a:pt x="130" y="360"/>
                    </a:lnTo>
                    <a:lnTo>
                      <a:pt x="114" y="354"/>
                    </a:lnTo>
                    <a:lnTo>
                      <a:pt x="98" y="346"/>
                    </a:lnTo>
                    <a:lnTo>
                      <a:pt x="82" y="338"/>
                    </a:lnTo>
                    <a:lnTo>
                      <a:pt x="68" y="326"/>
                    </a:lnTo>
                    <a:lnTo>
                      <a:pt x="54" y="314"/>
                    </a:lnTo>
                    <a:lnTo>
                      <a:pt x="42" y="302"/>
                    </a:lnTo>
                    <a:lnTo>
                      <a:pt x="32" y="288"/>
                    </a:lnTo>
                    <a:lnTo>
                      <a:pt x="24" y="272"/>
                    </a:lnTo>
                    <a:lnTo>
                      <a:pt x="16" y="256"/>
                    </a:lnTo>
                    <a:lnTo>
                      <a:pt x="10" y="240"/>
                    </a:lnTo>
                    <a:lnTo>
                      <a:pt x="4" y="222"/>
                    </a:lnTo>
                    <a:lnTo>
                      <a:pt x="2" y="204"/>
                    </a:lnTo>
                    <a:lnTo>
                      <a:pt x="0" y="184"/>
                    </a:lnTo>
                    <a:lnTo>
                      <a:pt x="2" y="166"/>
                    </a:lnTo>
                    <a:lnTo>
                      <a:pt x="4" y="148"/>
                    </a:lnTo>
                    <a:lnTo>
                      <a:pt x="10" y="130"/>
                    </a:lnTo>
                    <a:lnTo>
                      <a:pt x="16" y="112"/>
                    </a:lnTo>
                    <a:lnTo>
                      <a:pt x="24" y="96"/>
                    </a:lnTo>
                    <a:lnTo>
                      <a:pt x="32" y="82"/>
                    </a:lnTo>
                    <a:lnTo>
                      <a:pt x="42" y="68"/>
                    </a:lnTo>
                    <a:lnTo>
                      <a:pt x="54" y="54"/>
                    </a:lnTo>
                    <a:lnTo>
                      <a:pt x="68" y="42"/>
                    </a:lnTo>
                    <a:lnTo>
                      <a:pt x="82" y="32"/>
                    </a:lnTo>
                    <a:lnTo>
                      <a:pt x="98" y="22"/>
                    </a:lnTo>
                    <a:lnTo>
                      <a:pt x="114" y="14"/>
                    </a:lnTo>
                    <a:lnTo>
                      <a:pt x="130" y="8"/>
                    </a:lnTo>
                    <a:lnTo>
                      <a:pt x="148" y="4"/>
                    </a:lnTo>
                    <a:lnTo>
                      <a:pt x="166" y="0"/>
                    </a:lnTo>
                    <a:lnTo>
                      <a:pt x="186" y="0"/>
                    </a:lnTo>
                    <a:lnTo>
                      <a:pt x="204" y="0"/>
                    </a:lnTo>
                    <a:lnTo>
                      <a:pt x="222" y="4"/>
                    </a:lnTo>
                    <a:lnTo>
                      <a:pt x="240" y="8"/>
                    </a:lnTo>
                    <a:lnTo>
                      <a:pt x="256" y="14"/>
                    </a:lnTo>
                    <a:lnTo>
                      <a:pt x="274" y="22"/>
                    </a:lnTo>
                    <a:lnTo>
                      <a:pt x="288" y="32"/>
                    </a:lnTo>
                    <a:lnTo>
                      <a:pt x="302" y="42"/>
                    </a:lnTo>
                    <a:lnTo>
                      <a:pt x="316" y="54"/>
                    </a:lnTo>
                    <a:lnTo>
                      <a:pt x="328" y="68"/>
                    </a:lnTo>
                    <a:lnTo>
                      <a:pt x="338" y="82"/>
                    </a:lnTo>
                    <a:lnTo>
                      <a:pt x="348" y="96"/>
                    </a:lnTo>
                    <a:lnTo>
                      <a:pt x="356" y="112"/>
                    </a:lnTo>
                    <a:lnTo>
                      <a:pt x="362" y="130"/>
                    </a:lnTo>
                    <a:lnTo>
                      <a:pt x="366" y="148"/>
                    </a:lnTo>
                    <a:lnTo>
                      <a:pt x="368" y="166"/>
                    </a:lnTo>
                    <a:lnTo>
                      <a:pt x="370" y="18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32" name="Arc 23"/>
            <p:cNvSpPr/>
            <p:nvPr/>
          </p:nvSpPr>
          <p:spPr>
            <a:xfrm>
              <a:off x="4057920" y="2744640"/>
              <a:ext cx="979200" cy="6105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610560"/>
                <a:gd name="textAreaBottom" fmla="*/ 610920 h 610560"/>
              </a:gdLst>
              <a:ahLst/>
              <a:rect l="textAreaLeft" t="textAreaTop" r="textAreaRight" b="textAreaBottom"/>
              <a:pathLst>
                <a:path fill="none" w="35703" h="22278">
                  <a:moveTo>
                    <a:pt x="10" y="22278"/>
                  </a:moveTo>
                  <a:cubicBezTo>
                    <a:pt x="3" y="22052"/>
                    <a:pt x="0" y="218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6777" y="-1"/>
                    <a:pt x="31781" y="1859"/>
                    <a:pt x="35703" y="5239"/>
                  </a:cubicBezTo>
                </a:path>
                <a:path stroke="0" w="35703" h="22278">
                  <a:moveTo>
                    <a:pt x="10" y="22278"/>
                  </a:moveTo>
                  <a:cubicBezTo>
                    <a:pt x="3" y="22052"/>
                    <a:pt x="0" y="218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6777" y="-1"/>
                    <a:pt x="31781" y="1859"/>
                    <a:pt x="35703" y="523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1680">
              <a:solidFill>
                <a:srgbClr val="0064f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Text Box 24"/>
            <p:cNvSpPr/>
            <p:nvPr/>
          </p:nvSpPr>
          <p:spPr>
            <a:xfrm>
              <a:off x="3554640" y="4833720"/>
              <a:ext cx="143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 Black"/>
                </a:rPr>
                <a:t>Subtle Touch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" name="Text Box 25"/>
            <p:cNvSpPr/>
            <p:nvPr/>
          </p:nvSpPr>
          <p:spPr>
            <a:xfrm>
              <a:off x="5318280" y="4833720"/>
              <a:ext cx="11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Simplicity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" name="Text Box 26"/>
            <p:cNvSpPr/>
            <p:nvPr/>
          </p:nvSpPr>
          <p:spPr>
            <a:xfrm>
              <a:off x="2078280" y="48337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 Black"/>
                </a:rPr>
                <a:t>Constructio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5175360" y="2204640"/>
              <a:ext cx="2411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4ff"/>
                  </a:solidFill>
                  <a:latin typeface="Arial Black"/>
                </a:rPr>
                <a:t>Easy Search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e9e9e"/>
                  </a:solidFill>
                  <a:latin typeface="Arial"/>
                </a:rPr>
                <a:t>Our easy to use and functional search engine helps you locate the right templates quickly saving you time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Arc 28"/>
            <p:cNvSpPr/>
            <p:nvPr/>
          </p:nvSpPr>
          <p:spPr>
            <a:xfrm>
              <a:off x="3176640" y="2744640"/>
              <a:ext cx="593640" cy="6361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636120"/>
                <a:gd name="textAreaBottom" fmla="*/ 636120 h 636120"/>
              </a:gdLst>
              <a:ahLst/>
              <a:rect l="textAreaLeft" t="textAreaTop" r="textAreaRight" b="textAreaBottom"/>
              <a:pathLst>
                <a:path fill="none" w="21600" h="23193">
                  <a:moveTo>
                    <a:pt x="608" y="-1"/>
                  </a:moveTo>
                  <a:cubicBezTo>
                    <a:pt x="12295" y="328"/>
                    <a:pt x="21600" y="9898"/>
                    <a:pt x="21600" y="21591"/>
                  </a:cubicBezTo>
                  <a:cubicBezTo>
                    <a:pt x="21600" y="22125"/>
                    <a:pt x="21580" y="22659"/>
                    <a:pt x="21540" y="23192"/>
                  </a:cubicBezTo>
                </a:path>
                <a:path stroke="0" w="21600" h="23193">
                  <a:moveTo>
                    <a:pt x="608" y="-1"/>
                  </a:moveTo>
                  <a:cubicBezTo>
                    <a:pt x="12295" y="328"/>
                    <a:pt x="21600" y="9898"/>
                    <a:pt x="21600" y="21591"/>
                  </a:cubicBezTo>
                  <a:cubicBezTo>
                    <a:pt x="21600" y="22125"/>
                    <a:pt x="21580" y="22659"/>
                    <a:pt x="21540" y="23192"/>
                  </a:cubicBezTo>
                  <a:lnTo>
                    <a:pt x="0" y="21591"/>
                  </a:lnTo>
                  <a:close/>
                </a:path>
              </a:pathLst>
            </a:custGeom>
            <a:noFill/>
            <a:ln cap="rnd" w="31680">
              <a:solidFill>
                <a:srgbClr val="969696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38" name="Group 29"/>
            <p:cNvGrpSpPr/>
            <p:nvPr/>
          </p:nvGrpSpPr>
          <p:grpSpPr>
            <a:xfrm>
              <a:off x="6793200" y="3644640"/>
              <a:ext cx="1584000" cy="1547640"/>
              <a:chOff x="6793200" y="3644640"/>
              <a:chExt cx="1584000" cy="1547640"/>
            </a:xfrm>
          </p:grpSpPr>
          <p:sp>
            <p:nvSpPr>
              <p:cNvPr id="139" name="AutoShape 30"/>
              <p:cNvSpPr/>
              <p:nvPr/>
            </p:nvSpPr>
            <p:spPr>
              <a:xfrm>
                <a:off x="6793200" y="3644640"/>
                <a:ext cx="1584000" cy="1547640"/>
              </a:xfrm>
              <a:prstGeom prst="roundRect">
                <a:avLst>
                  <a:gd name="adj" fmla="val 5528"/>
                </a:avLst>
              </a:prstGeom>
              <a:solidFill>
                <a:srgbClr val="000000">
                  <a:alpha val="10000"/>
                </a:srgbClr>
              </a:solidFill>
              <a:ln cap="rnd" w="19080">
                <a:solidFill>
                  <a:srgbClr val="9e9e9e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0" name="Text Box 31"/>
              <p:cNvSpPr/>
              <p:nvPr/>
            </p:nvSpPr>
            <p:spPr>
              <a:xfrm>
                <a:off x="6864120" y="3679560"/>
                <a:ext cx="1476000" cy="14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e9e9e"/>
                    </a:solidFill>
                    <a:latin typeface="Arial Black"/>
                  </a:rPr>
                  <a:t>Visual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e9e9e"/>
                    </a:solidFill>
                    <a:latin typeface="Arial Black"/>
                  </a:rPr>
                  <a:t>Appealing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e9e9e"/>
                    </a:solidFill>
                    <a:latin typeface="Arial"/>
                  </a:rPr>
                  <a:t>Captivate your viewing audience - PowerPoint Templates &amp; Backgrounds, Sleek Diagram &amp; Charts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e9e9e"/>
                    </a:solidFill>
                    <a:latin typeface="Arial"/>
                  </a:rPr>
                  <a:t>For Your Presentation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7:05:3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5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