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F0C-7DD4-463F-B267-333B13B6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7FD-5BA7-429E-ACD5-2392821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6C0-5231-4F1C-845A-8BD6EA36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8B6-02D8-42A8-9A33-D535486A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AAA-8426-4A46-A298-7A5C56DC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3F0-C1E1-41DC-A6B8-B18AE1CC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B68-BD9D-4300-BA45-73BF6D5D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4AC-5515-4BF8-AC75-9C5313FC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532-A9BB-472D-A41D-145E810A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A9F0-6EF9-4541-BDE5-8B20DA00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A30-98AA-421D-8015-4AC22A4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2FA-BEDA-4287-BD3E-1153C69C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BCF0-85DF-4BB8-84DC-40CC86F4F71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C0E0-C808-4B06-879A-6418C5F3D1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lidan\Desktop\wrrrr.png"/>
          <p:cNvPicPr/>
          <p:nvPr/>
        </p:nvPicPr>
        <p:blipFill>
          <a:blip r:embed="rId2"/>
          <a:stretch/>
        </p:blipFill>
        <p:spPr>
          <a:xfrm rot="21302400">
            <a:off x="919080" y="579240"/>
            <a:ext cx="6873840" cy="1725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 rot="20692800">
            <a:off x="3245400" y="195696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8d8d8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0532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11200" y="507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教师常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-313920" y="4572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2"/>
          <p:cNvSpPr/>
          <p:nvPr/>
        </p:nvSpPr>
        <p:spPr>
          <a:xfrm>
            <a:off x="2714760" y="17114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962440" y="18543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1875960" y="17114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6"/>
          <p:cNvSpPr/>
          <p:nvPr/>
        </p:nvSpPr>
        <p:spPr>
          <a:xfrm>
            <a:off x="2714760" y="249408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2962440" y="26370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1875960" y="249408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9"/>
          <p:cNvSpPr/>
          <p:nvPr/>
        </p:nvSpPr>
        <p:spPr>
          <a:xfrm>
            <a:off x="2714760" y="3282840"/>
            <a:ext cx="3429000" cy="642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2962440" y="34257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1875960" y="3282840"/>
            <a:ext cx="24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-313920" y="4572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-313920" y="4572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-313920" y="45720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弧形箭头 4"/>
          <p:cNvSpPr/>
          <p:nvPr/>
        </p:nvSpPr>
        <p:spPr>
          <a:xfrm>
            <a:off x="973080" y="1406520"/>
            <a:ext cx="2513160" cy="1511280"/>
          </a:xfrm>
          <a:custGeom>
            <a:avLst/>
            <a:gdLst>
              <a:gd name="textAreaLeft" fmla="*/ 383040 w 2513160"/>
              <a:gd name="textAreaRight" fmla="*/ 1853280 w 2513160"/>
              <a:gd name="textAreaTop" fmla="*/ 202320 h 1511280"/>
              <a:gd name="textAreaBottom" fmla="*/ 130896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589" hR="21600" stAng="10800000" swAng="5400000"/>
                <a:lnTo>
                  <a:pt x="12633" y="0"/>
                </a:lnTo>
                <a:arcTo wR="6589" hR="21600" stAng="-5400000" swAng="3239919"/>
                <a:lnTo>
                  <a:pt x="21444" y="16926"/>
                </a:lnTo>
                <a:lnTo>
                  <a:pt x="16200" y="21600"/>
                </a:lnTo>
                <a:lnTo>
                  <a:pt x="10644" y="16926"/>
                </a:lnTo>
                <a:lnTo>
                  <a:pt x="13022" y="16926"/>
                </a:lnTo>
                <a:arcTo wR="6589" hR="21600" stAng="-2160081" swAng="-2703075"/>
                <a:lnTo>
                  <a:pt x="9611" y="2406"/>
                </a:lnTo>
                <a:arcTo wR="6589" hR="21600" stAng="-5936844" swAng="-4863156"/>
                <a:close/>
              </a:path>
              <a:path fill="darkenLess" w="21600" h="21600">
                <a:moveTo>
                  <a:pt x="0" y="21600"/>
                </a:moveTo>
                <a:arcTo wR="6589" hR="21600" stAng="10800000" swAng="5400000"/>
                <a:lnTo>
                  <a:pt x="6589" y="0"/>
                </a:lnTo>
                <a:arcTo wR="6589" hR="21600" stAng="-5400000" swAng="536844"/>
                <a:lnTo>
                  <a:pt x="9611" y="2406"/>
                </a:lnTo>
                <a:arcTo wR="6589" hR="21600" stAng="-5936844" swAng="-4863156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上弧形箭头 5"/>
          <p:cNvSpPr/>
          <p:nvPr/>
        </p:nvSpPr>
        <p:spPr>
          <a:xfrm flipH="1" flipV="1">
            <a:off x="848880" y="2952000"/>
            <a:ext cx="2260800" cy="1360440"/>
          </a:xfrm>
          <a:custGeom>
            <a:avLst/>
            <a:gdLst>
              <a:gd name="textAreaLeft" fmla="*/ 345240 w 2260800"/>
              <a:gd name="textAreaRight" fmla="*/ 1667520 w 2260800"/>
              <a:gd name="textAreaTop" fmla="*/ 182160 h 1360440"/>
              <a:gd name="textAreaBottom" fmla="*/ 1178280 h 13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591" hR="21600" stAng="10800000" swAng="5400000"/>
                <a:lnTo>
                  <a:pt x="12633" y="0"/>
                </a:lnTo>
                <a:arcTo wR="6591" hR="21600" stAng="-5400000" swAng="3240291"/>
                <a:lnTo>
                  <a:pt x="21444" y="16926"/>
                </a:lnTo>
                <a:lnTo>
                  <a:pt x="16202" y="21600"/>
                </a:lnTo>
                <a:lnTo>
                  <a:pt x="10648" y="16926"/>
                </a:lnTo>
                <a:lnTo>
                  <a:pt x="13025" y="16926"/>
                </a:lnTo>
                <a:arcTo wR="6591" hR="21600" stAng="-2159709" swAng="-2703700"/>
                <a:lnTo>
                  <a:pt x="9612" y="2403"/>
                </a:lnTo>
                <a:arcTo wR="6591" hR="21600" stAng="-5936590" swAng="-4863410"/>
                <a:close/>
              </a:path>
              <a:path fill="darkenLess" w="21600" h="21600">
                <a:moveTo>
                  <a:pt x="0" y="21600"/>
                </a:moveTo>
                <a:arcTo wR="6591" hR="21600" stAng="10800000" swAng="5400000"/>
                <a:lnTo>
                  <a:pt x="6591" y="0"/>
                </a:lnTo>
                <a:arcTo wR="6591" hR="21600" stAng="-5400000" swAng="536590"/>
                <a:lnTo>
                  <a:pt x="9612" y="2403"/>
                </a:lnTo>
                <a:arcTo wR="6591" hR="21600" stAng="-5936590" swAng="-486341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​​ 14"/>
          <p:cNvSpPr/>
          <p:nvPr/>
        </p:nvSpPr>
        <p:spPr>
          <a:xfrm>
            <a:off x="2700360" y="1944720"/>
            <a:ext cx="5400720" cy="144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​​ 15"/>
          <p:cNvSpPr/>
          <p:nvPr/>
        </p:nvSpPr>
        <p:spPr>
          <a:xfrm>
            <a:off x="2700360" y="3960720"/>
            <a:ext cx="5400720" cy="1800"/>
          </a:xfrm>
          <a:prstGeom prst="line">
            <a:avLst/>
          </a:prstGeom>
          <a:ln w="648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5885280" y="135720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885280" y="324324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5C0-8E83-40D2-AEB6-6D925124EC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07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40:40Z</dcterms:modified>
  <cp:revision>1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