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21C-07C2-4C57-9580-A4ABF1FA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24B-9192-42DA-BECE-E9A68A99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CC8-1193-4C99-99E4-28E706AF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975-A1A8-4D1B-B623-99EEDD30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EC0-05E4-412C-B234-BDDEFB0E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D89-5725-481F-AC2D-5F2DD21D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681-49CB-4EF6-901B-171A0CB8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3F0-91C2-4718-A1CB-2D2A9798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0FB-B184-4231-839D-B824C902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F1A-1EEF-4FBF-9068-D0328A4D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486-10D7-485F-8959-8CB8F183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DAE-0091-44DE-828F-3090069E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2881-C6FD-4486-89DD-16F3CD24CBE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E719-51B3-4F5C-99FA-CD11AF4ADAF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314440" y="3278160"/>
            <a:ext cx="3418200" cy="1501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 rot="10800000">
            <a:off x="3427560" y="2644200"/>
            <a:ext cx="3417840" cy="1501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1"/>
          <p:cNvSpPr/>
          <p:nvPr/>
        </p:nvSpPr>
        <p:spPr>
          <a:xfrm flipH="1">
            <a:off x="4869720" y="2855880"/>
            <a:ext cx="15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5"/>
          <p:cNvSpPr/>
          <p:nvPr/>
        </p:nvSpPr>
        <p:spPr>
          <a:xfrm flipH="1">
            <a:off x="2722680" y="418464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26"/>
          <p:cNvSpPr/>
          <p:nvPr/>
        </p:nvSpPr>
        <p:spPr>
          <a:xfrm>
            <a:off x="2789280" y="2054160"/>
            <a:ext cx="807840" cy="949320"/>
          </a:xfrm>
          <a:prstGeom prst="pie">
            <a:avLst/>
          </a:prstGeom>
          <a:noFill/>
          <a:ln w="19080">
            <a:solidFill>
              <a:srgbClr val="7f7f7f"/>
            </a:solidFill>
            <a:prstDash val="sysDot"/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27"/>
          <p:cNvSpPr/>
          <p:nvPr/>
        </p:nvSpPr>
        <p:spPr>
          <a:xfrm>
            <a:off x="2789280" y="1628640"/>
            <a:ext cx="1440" cy="1800360"/>
          </a:xfrm>
          <a:prstGeom prst="line">
            <a:avLst/>
          </a:prstGeom>
          <a:ln w="12600">
            <a:solidFill>
              <a:srgbClr val="7f7f7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 flipH="1">
            <a:off x="1643040" y="16430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9"/>
          <p:cNvSpPr/>
          <p:nvPr/>
        </p:nvSpPr>
        <p:spPr>
          <a:xfrm flipH="1">
            <a:off x="1643040" y="21286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30"/>
          <p:cNvSpPr/>
          <p:nvPr/>
        </p:nvSpPr>
        <p:spPr>
          <a:xfrm flipH="1" flipV="1">
            <a:off x="5544360" y="4503600"/>
            <a:ext cx="916200" cy="782640"/>
          </a:xfrm>
          <a:prstGeom prst="pie">
            <a:avLst/>
          </a:prstGeom>
          <a:noFill/>
          <a:ln w="19080">
            <a:solidFill>
              <a:srgbClr val="7f7f7f"/>
            </a:solidFill>
            <a:prstDash val="sysDot"/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31"/>
          <p:cNvSpPr/>
          <p:nvPr/>
        </p:nvSpPr>
        <p:spPr>
          <a:xfrm>
            <a:off x="6450120" y="3927600"/>
            <a:ext cx="1440" cy="1800000"/>
          </a:xfrm>
          <a:prstGeom prst="line">
            <a:avLst/>
          </a:prstGeom>
          <a:ln w="12600">
            <a:solidFill>
              <a:srgbClr val="7f7f7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 flipH="1">
            <a:off x="6450120" y="48196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 flipH="1">
            <a:off x="6450120" y="53053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34680" y="693720"/>
            <a:ext cx="61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箭头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图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A6A-0DEB-44A8-BD6F-0B1D430AF9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4Z</dcterms:modified>
  <cp:revision>88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