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gif" ContentType="image/gif"/>
  <Override PartName="/ppt/media/projctor.wav" ContentType="audio/x-wav"/>
  <Override PartName="/ppt/media/image12.jpeg" ContentType="image/jpeg"/>
  <Override PartName="/ppt/media/image10.gif" ContentType="image/gif"/>
  <Override PartName="/ppt/media/image16.gif" ContentType="image/gif"/>
  <Override PartName="/ppt/media/image2.png" ContentType="image/png"/>
  <Override PartName="/ppt/media/image5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gif" ContentType="image/gi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3CF8-3485-45BB-8DAF-663F46C0E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714960"/>
            <a:ext cx="73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8080"/>
              </a:solidFill>
              <a:latin typeface="Franklin Gothic Heavy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077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1920" y="4077720"/>
            <a:ext cx="8077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0869-713E-4928-AE46-F012ED4B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714960"/>
            <a:ext cx="73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8080"/>
              </a:solidFill>
              <a:latin typeface="Franklin Gothic Heavy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91200" y="137124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1920" y="407772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91200" y="407772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0116-642A-4396-8712-BF6662E2E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714960"/>
            <a:ext cx="73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8080"/>
              </a:solidFill>
              <a:latin typeface="Franklin Gothic Heavy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82880" y="137124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14200" y="137124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1920" y="407772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82880" y="407772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14200" y="407772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B490-C611-410C-A238-4229B3EDA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DA1C-2128-40BF-B6BF-E11E5CDC5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714960"/>
            <a:ext cx="73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8080"/>
              </a:solidFill>
              <a:latin typeface="Franklin Gothic Heav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192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A3C6-9DF6-4BCA-8EFE-141A078A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714960"/>
            <a:ext cx="73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8080"/>
              </a:solidFill>
              <a:latin typeface="Franklin Gothic Heav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AAA1-7E43-4148-B425-9EC4CC3C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714960"/>
            <a:ext cx="73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8080"/>
              </a:solidFill>
              <a:latin typeface="Franklin Gothic Heavy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3941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291200" y="1371240"/>
            <a:ext cx="3941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1EA9-9D2A-4BB5-9953-DF9ED6B4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714960"/>
            <a:ext cx="73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8080"/>
              </a:solidFill>
              <a:latin typeface="Franklin Gothic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C09B-3E5A-4BAF-A052-08AA51C6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761760"/>
            <a:ext cx="7391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7E4E-A9FF-4E01-8942-3B30A072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714960"/>
            <a:ext cx="73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8080"/>
              </a:solidFill>
              <a:latin typeface="Franklin Gothic Heavy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91200" y="1371240"/>
            <a:ext cx="3941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51920" y="407772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E8E3-5C47-4658-B1E1-97C09695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714960"/>
            <a:ext cx="73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8080"/>
              </a:solidFill>
              <a:latin typeface="Franklin Gothic Heavy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192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98A1-EBC4-4547-B431-F7280C9C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714960"/>
            <a:ext cx="73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8080"/>
              </a:solidFill>
              <a:latin typeface="Franklin Gothic Heavy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3941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91200" y="137124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91200" y="407772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444A-7EE1-48BF-8543-16A791E7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714960"/>
            <a:ext cx="73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8080"/>
              </a:solidFill>
              <a:latin typeface="Franklin Gothic Heavy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91200" y="137124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51920" y="4077720"/>
            <a:ext cx="8077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0A4D-FFF6-4D52-917D-9F8DFA5C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714960"/>
            <a:ext cx="73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8080"/>
              </a:solidFill>
              <a:latin typeface="Franklin Gothic Heavy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077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51920" y="4077720"/>
            <a:ext cx="8077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DBA2-12A7-44EB-BAA6-96634CD1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714960"/>
            <a:ext cx="73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8080"/>
              </a:solidFill>
              <a:latin typeface="Franklin Gothic Heavy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91200" y="137124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51920" y="407772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291200" y="407772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3F8C-29AF-4531-A38A-5BE12F2EE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714960"/>
            <a:ext cx="73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8080"/>
              </a:solidFill>
              <a:latin typeface="Franklin Gothic Heavy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882880" y="137124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14200" y="137124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51920" y="407772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882880" y="407772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14200" y="407772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052C-6A93-4C95-ADF7-10B6DCFF4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714960"/>
            <a:ext cx="73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8080"/>
              </a:solidFill>
              <a:latin typeface="Franklin Gothic Heavy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E2DA-B8F7-49B4-9CCD-B101D8DD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714960"/>
            <a:ext cx="73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8080"/>
              </a:solidFill>
              <a:latin typeface="Franklin Gothic Heavy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3941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91200" y="1371240"/>
            <a:ext cx="3941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D35B-12E3-4739-B9B3-6A80D7CF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714960"/>
            <a:ext cx="73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8080"/>
              </a:solidFill>
              <a:latin typeface="Franklin Gothic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442E-E451-4436-8A80-54947DA6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761760"/>
            <a:ext cx="7391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09BE-4EF5-4D44-A00A-1A789546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714960"/>
            <a:ext cx="73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8080"/>
              </a:solidFill>
              <a:latin typeface="Franklin Gothic Heavy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91200" y="1371240"/>
            <a:ext cx="3941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1920" y="407772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2F94-32C3-4C9E-B5F5-B8002D10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714960"/>
            <a:ext cx="73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8080"/>
              </a:solidFill>
              <a:latin typeface="Franklin Gothic Heavy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3941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91200" y="137124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91200" y="407772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1EA8-2470-43A9-9B2B-C0795973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714960"/>
            <a:ext cx="73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8080"/>
              </a:solidFill>
              <a:latin typeface="Franklin Gothic Heavy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91200" y="137124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1920" y="4077720"/>
            <a:ext cx="8077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3E99-E746-4F81-95C4-553DD54A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Franklin Gothic Heavy"/>
              </a:rPr>
              <a:t>Click to edit the title text format</a:t>
            </a:r>
            <a:endParaRPr b="1" lang="en-US" sz="4000" spc="-1" strike="noStrike">
              <a:solidFill>
                <a:srgbClr val="808080"/>
              </a:solidFill>
              <a:latin typeface="Franklin Gothic Heav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Heavy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Franklin Gothic Heavy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Heavy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Franklin Gothic Heavy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Heavy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Franklin Gothic Heavy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Heavy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Franklin Gothic Heavy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Heavy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Franklin Gothic Heavy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Heavy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Franklin Gothic Heavy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Heavy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3657-917F-4739-B148-7221CD70B331}" type="slidenum">
              <a:rPr b="0" lang="en-US" sz="12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4" descr="Z:\newtek\_backgrounds_1.02\Tim\powerpoint templates\61-80\business_as_usual\elements\crop_circle_looking_thing.png"/>
          <p:cNvPicPr/>
          <p:nvPr/>
        </p:nvPicPr>
        <p:blipFill>
          <a:blip r:embed="rId3"/>
          <a:stretch/>
        </p:blipFill>
        <p:spPr>
          <a:xfrm>
            <a:off x="6858000" y="533520"/>
            <a:ext cx="2709720" cy="594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Z:\newtek\_backgrounds_1.02\Tim\powerpoint templates\61-80\business_as_usual\elements\crop_circle_looking_thing.png"/>
          <p:cNvPicPr/>
          <p:nvPr/>
        </p:nvPicPr>
        <p:blipFill>
          <a:blip r:embed="rId3"/>
          <a:stretch/>
        </p:blipFill>
        <p:spPr>
          <a:xfrm>
            <a:off x="609480" y="2514600"/>
            <a:ext cx="763560" cy="1676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Franklin Gothic Heavy"/>
              </a:rPr>
              <a:t>Click to edit the title text format</a:t>
            </a:r>
            <a:endParaRPr b="1" lang="en-US" sz="4000" spc="-1" strike="noStrike">
              <a:solidFill>
                <a:srgbClr val="808080"/>
              </a:solidFill>
              <a:latin typeface="Franklin Gothic Heavy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5192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Heavy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Franklin Gothic Heavy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Heavy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Franklin Gothic Heavy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Heavy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Franklin Gothic Heavy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Heavy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Franklin Gothic Heavy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Heavy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Franklin Gothic Heavy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Heavy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Franklin Gothic Heavy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Heavy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4EA5-036E-4AE2-A7F7-B4E408717C5B}" type="slidenum">
              <a:rPr b="0" lang="en-US" sz="12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6.gif"/><Relationship Id="rId6" Type="http://schemas.openxmlformats.org/officeDocument/2006/relationships/image" Target="../media/image10.gif"/><Relationship Id="rId7" Type="http://schemas.openxmlformats.org/officeDocument/2006/relationships/image" Target="../media/image5.gif"/><Relationship Id="rId8" Type="http://schemas.openxmlformats.org/officeDocument/2006/relationships/image" Target="../media/image8.gif"/><Relationship Id="rId9" Type="http://schemas.openxmlformats.org/officeDocument/2006/relationships/image" Target="../media/image16.gif"/><Relationship Id="rId10" Type="http://schemas.openxmlformats.org/officeDocument/2006/relationships/audio" Target="../media/projctor.wav"/><Relationship Id="rId1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33440" y="206028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Franklin Gothic Heavy"/>
                <a:ea typeface="宋体"/>
              </a:rPr>
              <a:t>教学卡通课件</a:t>
            </a:r>
            <a:r>
              <a:rPr b="1" lang="en-US" sz="4000" spc="-1" strike="noStrike">
                <a:solidFill>
                  <a:srgbClr val="000000"/>
                </a:solidFill>
                <a:latin typeface="Franklin Gothic Heavy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Franklin Gothic Heavy"/>
                <a:ea typeface="宋体"/>
              </a:rPr>
              <a:t>模板下载</a:t>
            </a:r>
            <a:endParaRPr b="1" lang="en-US" sz="4000" spc="-1" strike="noStrike">
              <a:solidFill>
                <a:srgbClr val="808080"/>
              </a:solidFill>
              <a:latin typeface="Franklin Gothic Heavy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523880" y="3276360"/>
            <a:ext cx="74678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Heavy"/>
                <a:ea typeface="宋体"/>
              </a:rPr>
              <a:t>Your Subtitle Goes Here</a:t>
            </a: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pic>
        <p:nvPicPr>
          <p:cNvPr id="86" name="Picture 12" descr="Z:\newtek\_backgrounds_1.02\Tim\powerpoint templates\61-80\business_as_usual\elements\man_desk_working_hg_clr.gif"/>
          <p:cNvPicPr/>
          <p:nvPr/>
        </p:nvPicPr>
        <p:blipFill>
          <a:blip r:embed="rId1"/>
          <a:stretch/>
        </p:blipFill>
        <p:spPr>
          <a:xfrm>
            <a:off x="3720960" y="3733920"/>
            <a:ext cx="1702080" cy="1885680"/>
          </a:xfrm>
          <a:prstGeom prst="rect">
            <a:avLst/>
          </a:prstGeom>
          <a:ln w="0">
            <a:noFill/>
          </a:ln>
        </p:spPr>
      </p:pic>
      <p:sp>
        <p:nvSpPr>
          <p:cNvPr id="8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Franklin Gothic Heavy"/>
                <a:ea typeface="宋体"/>
              </a:rPr>
              <a:t>Your Topic Goes Here</a:t>
            </a:r>
            <a:endParaRPr b="1" lang="en-US" sz="4000" spc="-1" strike="noStrike">
              <a:solidFill>
                <a:srgbClr val="808080"/>
              </a:solidFill>
              <a:latin typeface="Franklin Gothic Heavy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Heavy"/>
                <a:ea typeface="宋体"/>
              </a:rPr>
              <a:t>Your subtopics go here</a:t>
            </a: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pic>
        <p:nvPicPr>
          <p:cNvPr id="90" name="Picture 12" descr="Z:\newtek\_backgrounds_1.02\Tim\powerpoint templates\61-80\business_as_usual\elements\man_bored_desk_hg_clr.gif"/>
          <p:cNvPicPr/>
          <p:nvPr/>
        </p:nvPicPr>
        <p:blipFill>
          <a:blip r:embed="rId1"/>
          <a:stretch/>
        </p:blipFill>
        <p:spPr>
          <a:xfrm>
            <a:off x="7356600" y="4038480"/>
            <a:ext cx="1736640" cy="19242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2124000" y="645336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模板素材 </a:t>
            </a:r>
            <a:r>
              <a:rPr b="0" lang="zh-CN" sz="20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http://www.eeppt.com/suca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266688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Franklin Gothic Heavy"/>
                <a:ea typeface="宋体"/>
              </a:rPr>
              <a:t>Transitional Page</a:t>
            </a:r>
            <a:endParaRPr b="1" lang="en-US" sz="6000" spc="-1" strike="noStrike">
              <a:solidFill>
                <a:srgbClr val="808080"/>
              </a:solidFill>
              <a:latin typeface="Franklin Gothic Heavy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523880" y="3276360"/>
            <a:ext cx="746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Franklin Gothic Heavy"/>
              <a:ea typeface="宋体"/>
            </a:endParaRPr>
          </a:p>
        </p:txBody>
      </p:sp>
      <p:pic>
        <p:nvPicPr>
          <p:cNvPr id="94" name="Picture 5" descr="Z:\newtek\_backgrounds_1.02\Tim\powerpoint templates\61-80\business_as_usual\elements\man_over_worked_hg_clr.gif"/>
          <p:cNvPicPr/>
          <p:nvPr/>
        </p:nvPicPr>
        <p:blipFill>
          <a:blip r:embed="rId2"/>
          <a:stretch/>
        </p:blipFill>
        <p:spPr>
          <a:xfrm>
            <a:off x="3652920" y="3581280"/>
            <a:ext cx="18381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Franklin Gothic Heavy"/>
                <a:ea typeface="宋体"/>
              </a:rPr>
              <a:t>Your Topic Goes Here</a:t>
            </a:r>
            <a:endParaRPr b="1" lang="en-US" sz="4000" spc="-1" strike="noStrike">
              <a:solidFill>
                <a:srgbClr val="808080"/>
              </a:solidFill>
              <a:latin typeface="Franklin Gothic Heavy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Heavy"/>
                <a:ea typeface="宋体"/>
              </a:rPr>
              <a:t>Your subtopics go here</a:t>
            </a: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pic>
        <p:nvPicPr>
          <p:cNvPr id="97" name="Picture 5" descr="Z:\newtek\_backgrounds_1.02\Tim\powerpoint templates\61-80\business_as_usual\elements\man_desk_tired_hg_clr.gif"/>
          <p:cNvPicPr/>
          <p:nvPr/>
        </p:nvPicPr>
        <p:blipFill>
          <a:blip r:embed="rId2"/>
          <a:stretch/>
        </p:blipFill>
        <p:spPr>
          <a:xfrm>
            <a:off x="7286760" y="3981600"/>
            <a:ext cx="1838160" cy="2038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2124000" y="645336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模板素材 </a:t>
            </a:r>
            <a:r>
              <a:rPr b="0" lang="zh-CN" sz="20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http://www.eeppt.com/suca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80"/>
                </a:solidFill>
                <a:latin typeface="Franklin Gothic Heavy"/>
                <a:ea typeface="宋体"/>
              </a:rPr>
              <a:t>使用规范说明</a:t>
            </a:r>
            <a:endParaRPr b="1" lang="en-US" sz="4000" spc="-1" strike="noStrike">
              <a:solidFill>
                <a:srgbClr val="808080"/>
              </a:solidFill>
              <a:latin typeface="Franklin Gothic Heavy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Heavy"/>
                <a:ea typeface="宋体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Franklin Gothic Heavy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Heavy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Heavy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Heavy"/>
                <a:ea typeface="宋体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Franklin Gothic Heavy"/>
                <a:ea typeface="宋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Franklin Gothic Heavy"/>
                <a:ea typeface="宋体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Franklin Gothic Heavy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Heavy"/>
                <a:ea typeface="宋体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Franklin Gothic Heavy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Heavy"/>
                <a:ea typeface="宋体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Heavy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Heavy"/>
                <a:ea typeface="宋体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Heavy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Heavy"/>
                <a:ea typeface="宋体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Heavy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Heavy"/>
                <a:ea typeface="宋体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Franklin Gothic Heavy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Heavy"/>
                <a:ea typeface="宋体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Heavy"/>
                <a:ea typeface="宋体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Franklin Gothic Heavy"/>
                <a:ea typeface="宋体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Franklin Gothic Heavy"/>
                <a:ea typeface="宋体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Franklin Gothic Heavy"/>
                <a:ea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Heavy"/>
                <a:ea typeface="宋体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Franklin Gothic Heavy"/>
                <a:ea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Heavy"/>
                <a:ea typeface="宋体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Franklin Gothic Heavy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Heavy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Heavy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Heavy"/>
                <a:ea typeface="宋体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Franklin Gothic Heavy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Heavy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Heavy"/>
                <a:ea typeface="宋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Franklin Gothic Heavy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Heavy"/>
                <a:ea typeface="宋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Franklin Gothic Heavy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Heavy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Heavy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Heavy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Heavy"/>
                <a:ea typeface="宋体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Franklin Gothic Heavy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Franklin Gothic Heavy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Franklin Gothic Heavy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Franklin Gothic Heavy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Franklin Gothic Heavy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Franklin Gothic Heavy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Franklin Gothic Heavy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Franklin Gothic Heavy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Franklin Gothic Heavy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Franklin Gothic Heavy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Franklin Gothic Heavy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Franklin Gothic Heavy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Heavy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Heavy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Heavy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Heavy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Heavy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9" descr="Z:\newtek\_backgrounds_1.02\Tim\powerpoint templates\61-80\business_as_usual\business_as_usual_prt.jpg"/>
          <p:cNvPicPr/>
          <p:nvPr/>
        </p:nvPicPr>
        <p:blipFill>
          <a:blip r:embed="rId1"/>
          <a:stretch/>
        </p:blipFill>
        <p:spPr>
          <a:xfrm>
            <a:off x="6858000" y="1522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0" descr="Z:\newtek\_backgrounds_1.02\Tim\powerpoint templates\61-80\business_as_usual\business_as_usual_qx.jpg"/>
          <p:cNvPicPr/>
          <p:nvPr/>
        </p:nvPicPr>
        <p:blipFill>
          <a:blip r:embed="rId2"/>
          <a:stretch/>
        </p:blipFill>
        <p:spPr>
          <a:xfrm>
            <a:off x="228600" y="1522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1" descr="Z:\newtek\_backgrounds_1.02\Tim\powerpoint templates\61-80\business_as_usual\business_as_usual_sld.jpg"/>
          <p:cNvPicPr/>
          <p:nvPr/>
        </p:nvPicPr>
        <p:blipFill>
          <a:blip r:embed="rId3"/>
          <a:stretch/>
        </p:blipFill>
        <p:spPr>
          <a:xfrm>
            <a:off x="2438280" y="1522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2" descr="Z:\newtek\_backgrounds_1.02\Tim\powerpoint templates\61-80\business_as_usual\business_as_usual_trs.jpg"/>
          <p:cNvPicPr/>
          <p:nvPr/>
        </p:nvPicPr>
        <p:blipFill>
          <a:blip r:embed="rId4"/>
          <a:stretch/>
        </p:blipFill>
        <p:spPr>
          <a:xfrm>
            <a:off x="4648320" y="152280"/>
            <a:ext cx="2057400" cy="154332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43"/>
          <p:cNvSpPr/>
          <p:nvPr/>
        </p:nvSpPr>
        <p:spPr>
          <a:xfrm>
            <a:off x="5867280" y="3657600"/>
            <a:ext cx="3124440" cy="762120"/>
          </a:xfrm>
          <a:prstGeom prst="wedgeRectCallout">
            <a:avLst>
              <a:gd name="adj1" fmla="val -81148"/>
              <a:gd name="adj2" fmla="val 1737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4"/>
          <p:cNvSpPr/>
          <p:nvPr/>
        </p:nvSpPr>
        <p:spPr>
          <a:xfrm>
            <a:off x="5943600" y="3657600"/>
            <a:ext cx="295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More fun business graphics like these are available on the Platinum Site! Search for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5" descr="Z:\newtek\_backgrounds_1.02\Tim\powerpoint templates\61-80\business_as_usual\elements\man_bored_desk_hg_clr.gif"/>
          <p:cNvPicPr/>
          <p:nvPr/>
        </p:nvPicPr>
        <p:blipFill>
          <a:blip r:embed="rId5"/>
          <a:stretch/>
        </p:blipFill>
        <p:spPr>
          <a:xfrm>
            <a:off x="152280" y="5238720"/>
            <a:ext cx="1324080" cy="1467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6" descr="Z:\newtek\_backgrounds_1.02\Tim\powerpoint templates\61-80\business_as_usual\elements\man_desk_tired_hg_clr.gif"/>
          <p:cNvPicPr/>
          <p:nvPr/>
        </p:nvPicPr>
        <p:blipFill>
          <a:blip r:embed="rId6"/>
          <a:stretch/>
        </p:blipFill>
        <p:spPr>
          <a:xfrm>
            <a:off x="5753160" y="5238720"/>
            <a:ext cx="1324080" cy="1467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7" descr="Z:\newtek\_backgrounds_1.02\Tim\powerpoint templates\61-80\business_as_usual\elements\man_desk_working_hg_clr.gif"/>
          <p:cNvPicPr/>
          <p:nvPr/>
        </p:nvPicPr>
        <p:blipFill>
          <a:blip r:embed="rId7"/>
          <a:stretch/>
        </p:blipFill>
        <p:spPr>
          <a:xfrm>
            <a:off x="2019240" y="5238720"/>
            <a:ext cx="1324080" cy="1467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8" descr="Z:\newtek\_backgrounds_1.02\Tim\powerpoint templates\61-80\business_as_usual\elements\man_over_worked_hg_clr.gif"/>
          <p:cNvPicPr/>
          <p:nvPr/>
        </p:nvPicPr>
        <p:blipFill>
          <a:blip r:embed="rId8"/>
          <a:stretch/>
        </p:blipFill>
        <p:spPr>
          <a:xfrm>
            <a:off x="3886200" y="5238720"/>
            <a:ext cx="1324080" cy="1467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9" descr="Z:\newtek\_backgrounds_1.02\Tim\powerpoint templates\61-80\business_as_usual\elements\man_woman_talking_desk_hg_clr.gif"/>
          <p:cNvPicPr/>
          <p:nvPr/>
        </p:nvPicPr>
        <p:blipFill>
          <a:blip r:embed="rId9"/>
          <a:stretch/>
        </p:blipFill>
        <p:spPr>
          <a:xfrm>
            <a:off x="7620120" y="5238720"/>
            <a:ext cx="132372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4:24:28Z</dcterms:modified>
  <cp:revision>2</cp:revision>
  <dc:subject>幻灯片之家 http://www.eeppt.com</dc:subject>
  <dc:title>幻灯片之家 http://www.eeppt.com</dc:title>
</cp:coreProperties>
</file>