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57578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386160" y="3675240"/>
            <a:ext cx="57578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33672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386160" y="367524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336720" y="367524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3040" y="249192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279560" y="249192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386160" y="367524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5333040" y="367524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7279560" y="367524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386160" y="2491920"/>
            <a:ext cx="5757840" cy="22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575784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2809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336720" y="2491920"/>
            <a:ext cx="2809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336720" y="2491920"/>
            <a:ext cx="2809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386160" y="367524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386160" y="2491920"/>
            <a:ext cx="5757840" cy="22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2809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33672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336720" y="367524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33672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386160" y="3675240"/>
            <a:ext cx="57578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57578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386160" y="3675240"/>
            <a:ext cx="57578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33672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386160" y="367524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336720" y="367524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3040" y="249192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279560" y="249192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386160" y="367524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5333040" y="367524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7279560" y="367524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386160" y="2491920"/>
            <a:ext cx="5757840" cy="22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575784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2809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336720" y="2491920"/>
            <a:ext cx="2809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575784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336720" y="2491920"/>
            <a:ext cx="2809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386160" y="367524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2809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33672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36720" y="367524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33672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386160" y="3675240"/>
            <a:ext cx="57578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57578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86160" y="3675240"/>
            <a:ext cx="57578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33672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386160" y="367524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336720" y="367524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33040" y="249192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279560" y="249192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3386160" y="367524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5333040" y="367524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279560" y="367524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386160" y="2491920"/>
            <a:ext cx="5757840" cy="22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575784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2809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336720" y="2491920"/>
            <a:ext cx="2809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2809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336720" y="2491920"/>
            <a:ext cx="2809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336720" y="2491920"/>
            <a:ext cx="2809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386160" y="367524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2809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33672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336720" y="367524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33672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386160" y="3675240"/>
            <a:ext cx="57578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57578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86160" y="3675240"/>
            <a:ext cx="57578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33672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386160" y="367524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336720" y="367524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33040" y="249192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279560" y="249192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3386160" y="367524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5333040" y="367524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7279560" y="367524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3386160" y="2491920"/>
            <a:ext cx="5757840" cy="22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575784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2809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336720" y="2491920"/>
            <a:ext cx="2809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336720" y="2491920"/>
            <a:ext cx="2809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386160" y="367524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2809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33672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336720" y="367524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33672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386160" y="3675240"/>
            <a:ext cx="57578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57578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386160" y="3675240"/>
            <a:ext cx="57578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3672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386160" y="367524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336720" y="367524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33040" y="249192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279560" y="249192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3386160" y="367524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5333040" y="367524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7279560" y="3675240"/>
            <a:ext cx="18536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336720" y="2491920"/>
            <a:ext cx="2809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386160" y="367524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28098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33672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336720" y="367524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38616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336720" y="2491920"/>
            <a:ext cx="280980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386160" y="3675240"/>
            <a:ext cx="5757840" cy="10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189920" y="6381360"/>
            <a:ext cx="1954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7264080" y="6244920"/>
            <a:ext cx="187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过度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3"/>
          </p:nvPr>
        </p:nvSpPr>
        <p:spPr>
          <a:xfrm>
            <a:off x="7048080" y="6244920"/>
            <a:ext cx="2095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3386160" y="2491920"/>
            <a:ext cx="575784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8000"/>
          </a:bodyPr>
          <a:p>
            <a:pPr marL="95760" indent="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1" marL="95760" indent="-9576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2" marL="95760" indent="-95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3" marL="95760" indent="-9576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4" marL="95760" indent="-9576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5" marL="95760" indent="-9576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6" marL="95760" indent="-9576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4"/>
          </p:nvPr>
        </p:nvSpPr>
        <p:spPr>
          <a:xfrm>
            <a:off x="7048080" y="6381360"/>
            <a:ext cx="2095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底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矩形 1"/>
          <p:cNvSpPr/>
          <p:nvPr/>
        </p:nvSpPr>
        <p:spPr>
          <a:xfrm>
            <a:off x="1937880" y="18900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教育类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3"/>
          <p:cNvSpPr/>
          <p:nvPr/>
        </p:nvSpPr>
        <p:spPr>
          <a:xfrm>
            <a:off x="3851280" y="655560"/>
            <a:ext cx="507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时尚中黑简体"/>
                <a:ea typeface="时尚中黑简体"/>
              </a:rPr>
              <a:t>第一、如何快乐学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时尚中黑简体"/>
                <a:ea typeface="时尚中黑简体"/>
              </a:rPr>
              <a:t>第二、怎么做到轻松学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时尚中黑简体"/>
                <a:ea typeface="时尚中黑简体"/>
              </a:rPr>
              <a:t>第三、轻松学习每一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2738880" y="836640"/>
            <a:ext cx="1428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时尚中黑简体"/>
                <a:ea typeface="时尚中黑简体"/>
              </a:rPr>
              <a:t>轻松每一刻、快乐每一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时尚中黑简体"/>
                <a:ea typeface="时尚中黑简体"/>
              </a:rPr>
              <a:t>轻松快乐做好每一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4303800" y="6922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0c0"/>
                </a:solidFill>
                <a:latin typeface="时尚中黑简体"/>
                <a:ea typeface="时尚中黑简体"/>
              </a:rPr>
              <a:t>轻松快乐做好每一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1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4551480" y="29242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70c0"/>
                </a:solidFill>
                <a:latin typeface="方正正大黑简体"/>
                <a:ea typeface="方正正大黑简体"/>
              </a:rPr>
              <a:t>谢谢聆听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4"/>
          <p:cNvSpPr/>
          <p:nvPr/>
        </p:nvSpPr>
        <p:spPr>
          <a:xfrm>
            <a:off x="23760" y="660240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daede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daede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daede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daede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daede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daede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daede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daede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daede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daede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daede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daede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daede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daede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daede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daede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daede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daede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daede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daede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daede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daede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daede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daede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daede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daede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daede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daede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daede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daede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daede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daede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daede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daede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daede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daede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daede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daede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daede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daede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332000" y="609300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模板素材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suca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4:24:55Z</dcterms:modified>
  <cp:revision>2</cp:revision>
  <dc:subject>幻灯片之家 http://www.eeppt.com</dc:subject>
  <dc:title>幻灯片之家 http://www.eeppt.com</dc:title>
</cp:coreProperties>
</file>