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D9A1-F8F3-4E1F-9D3A-5BEBEDCFD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D8C1-3C7E-44BA-878D-D10EE714A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7077-9A3D-461F-90B9-0A918A00C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B0F5-550E-4345-B3FA-07F14949F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1ADEB-96B2-4CB8-9ECD-644A0302E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1A69F-7E38-4303-B610-B45C955A1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1353B-57DD-4BF9-B9BB-45D256A44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A547B-13A6-4381-BDCA-28CBCCA29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E412E-1646-4240-9E01-D11D20112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66760" y="132840"/>
            <a:ext cx="734544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B762D-1EDA-446F-A114-AE32FDFF1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A4C7B-79B8-4880-81E9-05B104AD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16B9-0128-49B0-9004-801027C7F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8A3B6-9759-4DB1-9BFF-073F7018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7D251-B6A8-4EDD-BCEA-E0769AEF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8F4F2-2D63-4084-9616-9E8BB1AF6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E12BC-0E70-4D31-A835-90A36E52B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CCAA5-A334-490E-8B69-C2E0C0C07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442C-613B-4847-B415-A1513589E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30AC-918E-4D97-B139-039C84450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B58B-E3B6-4779-B86B-BAC984F23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6760" y="132840"/>
            <a:ext cx="734544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C337-D76C-4006-9F88-D8918C5F0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C542-4F22-4575-BCC3-400F1DE1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7AD7-DB52-4AAD-B87C-3A1C707A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68B9-98AB-439B-BADE-9532A0C5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0c0c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Click to edit the outline text format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1" marL="743040" indent="-285840">
              <a:spcBef>
                <a:spcPts val="499"/>
              </a:spcBef>
              <a:buClr>
                <a:srgbClr val="0c0c0c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econd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2" marL="11430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Third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3" marL="16002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Four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4" marL="20574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Fif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5" marL="20574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ix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6" marL="20574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even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2000" y="6308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AEA42-10BC-4DAD-ABDC-D4F5AD6F0BE6}" type="slidenum"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0c0c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Click to edit the outline text format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1" marL="743040" indent="-285840">
              <a:spcBef>
                <a:spcPts val="499"/>
              </a:spcBef>
              <a:buClr>
                <a:srgbClr val="0c0c0c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econd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2" marL="11430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Third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3" marL="16002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Four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4" marL="20574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Fif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5" marL="20574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ix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6" marL="20574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even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D75D9-F097-4A12-B9CD-9038B95D6207}" type="slidenum"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WordArt 10" descr=""/>
          <p:cNvPicPr/>
          <p:nvPr/>
        </p:nvPicPr>
        <p:blipFill>
          <a:blip r:embed="rId2"/>
          <a:stretch/>
        </p:blipFill>
        <p:spPr>
          <a:xfrm>
            <a:off x="682560" y="1878120"/>
            <a:ext cx="4108680" cy="5112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0800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c0c0c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c0c0c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c0c0c"/>
                </a:solidFill>
                <a:latin typeface="黑体"/>
              </a:rPr>
              <a:t>模板的使用</a:t>
            </a: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49544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c0c0c"/>
                </a:solidFill>
                <a:latin typeface="黑体"/>
              </a:rPr>
              <a:t>配色方案修改：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1" marL="743040" indent="-285840">
              <a:spcBef>
                <a:spcPts val="451"/>
              </a:spcBef>
              <a:buClr>
                <a:srgbClr val="0c0c0c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配色方案在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格式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--&gt;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幻灯片设计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--&gt;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配色方案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--&gt;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编辑配色方案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下调整。</a:t>
            </a:r>
            <a:endParaRPr b="0" lang="en-US" sz="18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marL="343080" indent="-343080"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LOGO</a:t>
            </a:r>
            <a:r>
              <a:rPr b="0" lang="zh-CN" sz="2000" spc="-1" strike="noStrike">
                <a:solidFill>
                  <a:srgbClr val="0c0c0c"/>
                </a:solidFill>
                <a:latin typeface="黑体"/>
              </a:rPr>
              <a:t>的添加：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1" marL="743040" indent="-285840">
              <a:spcBef>
                <a:spcPts val="451"/>
              </a:spcBef>
              <a:buClr>
                <a:srgbClr val="0c0c0c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Logo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添加修改在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视图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--&gt;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母版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--&gt;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幻灯片母版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下调整。直接选择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logo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图片删除或修改。</a:t>
            </a:r>
            <a:endParaRPr b="0" lang="en-US" sz="18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marL="343080" indent="-343080"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c0c0c"/>
                </a:solidFill>
                <a:latin typeface="黑体"/>
              </a:rPr>
              <a:t>字体格式的设置：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1" marL="743040" indent="-285840">
              <a:spcBef>
                <a:spcPts val="451"/>
              </a:spcBef>
              <a:buClr>
                <a:srgbClr val="0c0c0c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括标题和文本格式的设置在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视图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--&gt;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母版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--&gt;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幻灯片母版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下调整。</a:t>
            </a:r>
            <a:endParaRPr b="0" lang="en-US" sz="18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6" name="矩形 4"/>
          <p:cNvSpPr/>
          <p:nvPr/>
        </p:nvSpPr>
        <p:spPr>
          <a:xfrm>
            <a:off x="7451640" y="0"/>
            <a:ext cx="108108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2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2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2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2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2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www.1ppt.com/ziliao/             PPT</a:t>
            </a: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2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www.1ppt.com/fanwen/           </a:t>
            </a:r>
            <a:endParaRPr b="0" lang="en-US" sz="2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c0c0c"/>
                </a:solidFill>
                <a:latin typeface="黑体"/>
              </a:rPr>
              <a:t>使用规范说明</a:t>
            </a: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黑体"/>
              </a:rPr>
              <a:t>站点介绍：</a:t>
            </a:r>
            <a:endParaRPr b="0" lang="en-US" sz="15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黑体"/>
              </a:rPr>
              <a:t>特别说明：</a:t>
            </a:r>
            <a:endParaRPr b="0" lang="en-US" sz="15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黑体"/>
              </a:rPr>
              <a:t>栏目推荐：</a:t>
            </a:r>
            <a:endParaRPr b="0" lang="en-US" sz="15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CECF-1240-4379-82E6-FDD839B56F0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4"/>
          <p:cNvSpPr txBox="1"/>
          <p:nvPr/>
        </p:nvSpPr>
        <p:spPr>
          <a:xfrm>
            <a:off x="971640" y="2781360"/>
            <a:ext cx="2793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c0c0c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谢谢观赏！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c0c0c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91" name="WordArt 5"/>
          <p:cNvSpPr txBox="1"/>
          <p:nvPr/>
        </p:nvSpPr>
        <p:spPr>
          <a:xfrm>
            <a:off x="1449360" y="3495600"/>
            <a:ext cx="1728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c0c0c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Arial"/>
              </a:rPr>
              <a:t>Thanks!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c0c0c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6T13:54:09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9T02:52:00Z</dcterms:modified>
  <cp:revision>146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