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그림 6" descr="main02.jpg"/>
          <p:cNvPicPr/>
          <p:nvPr/>
        </p:nvPicPr>
        <p:blipFill>
          <a:blip r:embed="rId2">
            <a:lum contrast="4000"/>
          </a:blip>
          <a:srcRect l="3975" t="303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그림 2" descr="브라운체크.jpg"/>
          <p:cNvPicPr/>
          <p:nvPr/>
        </p:nvPicPr>
        <p:blipFill>
          <a:blip r:embed="rId2"/>
          <a:srcRect l="0" t="0" r="8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" name="그림 4" descr="레이아웃_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7334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5" descr="C:\Users\C201\Desktop\배경\컴퓨터\이미지\레이아웃_2.png"/>
          <p:cNvPicPr/>
          <p:nvPr/>
        </p:nvPicPr>
        <p:blipFill>
          <a:blip r:embed="rId4"/>
          <a:srcRect l="1540" t="0" r="0" b="0"/>
          <a:stretch/>
        </p:blipFill>
        <p:spPr>
          <a:xfrm>
            <a:off x="0" y="666720"/>
            <a:ext cx="9144000" cy="154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2"/>
          <p:cNvSpPr/>
          <p:nvPr/>
        </p:nvSpPr>
        <p:spPr>
          <a:xfrm>
            <a:off x="2444400" y="333360"/>
            <a:ext cx="34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咖啡色</a:t>
            </a:r>
            <a:r>
              <a:rPr b="0" i="1" lang="en-US" sz="40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PPT</a:t>
            </a:r>
            <a:r>
              <a:rPr b="0" i="1" lang="zh-CN" sz="40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0" y="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0" name="타원 2"/>
          <p:cNvSpPr/>
          <p:nvPr/>
        </p:nvSpPr>
        <p:spPr>
          <a:xfrm>
            <a:off x="2482920" y="1928880"/>
            <a:ext cx="3951360" cy="3951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1" name="모서리가 둥근 직사각형 4"/>
          <p:cNvSpPr/>
          <p:nvPr/>
        </p:nvSpPr>
        <p:spPr>
          <a:xfrm flipV="1" rot="10800000">
            <a:off x="1992240" y="2399400"/>
            <a:ext cx="960480" cy="981000"/>
          </a:xfrm>
          <a:custGeom>
            <a:avLst/>
            <a:gdLst>
              <a:gd name="textAreaLeft" fmla="*/ 140400 w 960480"/>
              <a:gd name="textAreaRight" fmla="*/ 820080 w 960480"/>
              <a:gd name="textAreaTop" fmla="*/ 140400 h 981000"/>
              <a:gd name="textAreaBottom" fmla="*/ 840600 h 981000"/>
            </a:gdLst>
            <a:ahLst/>
            <a:rect l="textAreaLeft" t="textAreaTop" r="textAreaRight" b="textAreaBottom"/>
            <a:pathLst>
              <a:path w="21600" h="22061">
                <a:moveTo>
                  <a:pt x="10800" y="0"/>
                </a:moveTo>
                <a:arcTo wR="10800" hR="10800" stAng="16200000" swAng="-5400000"/>
                <a:lnTo>
                  <a:pt x="0" y="11261"/>
                </a:lnTo>
                <a:arcTo wR="10800" hR="10800" stAng="10800000" swAng="-5400000"/>
                <a:lnTo>
                  <a:pt x="10800" y="2206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2057400" y="2625840"/>
            <a:ext cx="8254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13" name="Group 7"/>
          <p:cNvGrpSpPr/>
          <p:nvPr/>
        </p:nvGrpSpPr>
        <p:grpSpPr>
          <a:xfrm>
            <a:off x="3719160" y="3090600"/>
            <a:ext cx="1590840" cy="1623960"/>
            <a:chOff x="3719160" y="3090600"/>
            <a:chExt cx="1590840" cy="1623960"/>
          </a:xfrm>
        </p:grpSpPr>
        <p:sp>
          <p:nvSpPr>
            <p:cNvPr id="314" name="모서리가 둥근 직사각형 9"/>
            <p:cNvSpPr/>
            <p:nvPr/>
          </p:nvSpPr>
          <p:spPr>
            <a:xfrm rot="10800000">
              <a:off x="3719160" y="3090600"/>
              <a:ext cx="1590840" cy="1623960"/>
            </a:xfrm>
            <a:custGeom>
              <a:avLst/>
              <a:gdLst>
                <a:gd name="textAreaLeft" fmla="*/ 232920 w 1590840"/>
                <a:gd name="textAreaRight" fmla="*/ 1357920 w 1590840"/>
                <a:gd name="textAreaTop" fmla="*/ 232920 h 1623960"/>
                <a:gd name="textAreaBottom" fmla="*/ 1391040 h 1623960"/>
              </a:gdLst>
              <a:ahLst/>
              <a:rect l="textAreaLeft" t="textAreaTop" r="textAreaRight" b="textAreaBottom"/>
              <a:pathLst>
                <a:path w="21600" h="22050">
                  <a:moveTo>
                    <a:pt x="10800" y="0"/>
                  </a:moveTo>
                  <a:arcTo wR="10800" hR="10800" stAng="16200000" swAng="-5400000"/>
                  <a:lnTo>
                    <a:pt x="0" y="11250"/>
                  </a:lnTo>
                  <a:arcTo wR="10800" hR="10800" stAng="10800000" swAng="-5400000"/>
                  <a:lnTo>
                    <a:pt x="10800" y="220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5" name="Freeform 81"/>
            <p:cNvSpPr/>
            <p:nvPr/>
          </p:nvSpPr>
          <p:spPr>
            <a:xfrm>
              <a:off x="3863520" y="3092400"/>
              <a:ext cx="1269360" cy="559800"/>
            </a:xfrm>
            <a:custGeom>
              <a:avLst/>
              <a:gdLst>
                <a:gd name="textAreaLeft" fmla="*/ 0 w 1269360"/>
                <a:gd name="textAreaRight" fmla="*/ 1269720 w 1269360"/>
                <a:gd name="textAreaTop" fmla="*/ 0 h 559800"/>
                <a:gd name="textAreaBottom" fmla="*/ 560160 h 559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16" name="Text Box 4"/>
          <p:cNvSpPr/>
          <p:nvPr/>
        </p:nvSpPr>
        <p:spPr>
          <a:xfrm>
            <a:off x="3878280" y="3529080"/>
            <a:ext cx="1212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7" name="모서리가 둥근 직사각형 12"/>
          <p:cNvSpPr/>
          <p:nvPr/>
        </p:nvSpPr>
        <p:spPr>
          <a:xfrm flipV="1" rot="10800000">
            <a:off x="3120840" y="3161160"/>
            <a:ext cx="185400" cy="187560"/>
          </a:xfrm>
          <a:custGeom>
            <a:avLst/>
            <a:gdLst>
              <a:gd name="textAreaLeft" fmla="*/ 27000 w 185400"/>
              <a:gd name="textAreaRight" fmla="*/ 158400 w 185400"/>
              <a:gd name="textAreaTop" fmla="*/ 27000 h 187560"/>
              <a:gd name="textAreaBottom" fmla="*/ 160560 h 187560"/>
            </a:gdLst>
            <a:ahLst/>
            <a:rect l="textAreaLeft" t="textAreaTop" r="textAreaRight" b="textAreaBottom"/>
            <a:pathLst>
              <a:path w="21600" h="21851">
                <a:moveTo>
                  <a:pt x="10800" y="0"/>
                </a:moveTo>
                <a:arcTo wR="10800" hR="10800" stAng="16200000" swAng="-5400000"/>
                <a:lnTo>
                  <a:pt x="0" y="11051"/>
                </a:lnTo>
                <a:arcTo wR="10800" hR="10800" stAng="10800000" swAng="-5400000"/>
                <a:lnTo>
                  <a:pt x="10800" y="2185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모서리가 둥근 직사각형 13"/>
          <p:cNvSpPr/>
          <p:nvPr/>
        </p:nvSpPr>
        <p:spPr>
          <a:xfrm flipV="1" rot="10800000">
            <a:off x="3441600" y="3348720"/>
            <a:ext cx="185760" cy="185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모서리가 둥근 직사각형 15"/>
          <p:cNvSpPr/>
          <p:nvPr/>
        </p:nvSpPr>
        <p:spPr>
          <a:xfrm flipH="1" flipV="1" rot="10800000">
            <a:off x="5688000" y="3161160"/>
            <a:ext cx="185760" cy="1875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187560"/>
              <a:gd name="textAreaBottom" fmla="*/ 160560 h 187560"/>
            </a:gdLst>
            <a:ahLst/>
            <a:rect l="textAreaLeft" t="textAreaTop" r="textAreaRight" b="textAreaBottom"/>
            <a:pathLst>
              <a:path w="21600" h="21809">
                <a:moveTo>
                  <a:pt x="10800" y="0"/>
                </a:moveTo>
                <a:arcTo wR="10800" hR="10800" stAng="16200000" swAng="-5400000"/>
                <a:lnTo>
                  <a:pt x="0" y="11009"/>
                </a:lnTo>
                <a:arcTo wR="10800" hR="10800" stAng="10800000" swAng="-5400000"/>
                <a:lnTo>
                  <a:pt x="10800" y="2180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0" name="모서리가 둥근 직사각형 16"/>
          <p:cNvSpPr/>
          <p:nvPr/>
        </p:nvSpPr>
        <p:spPr>
          <a:xfrm flipH="1" flipV="1" rot="10800000">
            <a:off x="5367240" y="3348720"/>
            <a:ext cx="185760" cy="185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모서리가 둥근 직사각형 18"/>
          <p:cNvSpPr/>
          <p:nvPr/>
        </p:nvSpPr>
        <p:spPr>
          <a:xfrm flipH="1" flipV="1" rot="7213200">
            <a:off x="4381560" y="2362680"/>
            <a:ext cx="185760" cy="18720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187200"/>
              <a:gd name="textAreaBottom" fmla="*/ 160200 h 187200"/>
            </a:gdLst>
            <a:ahLst/>
            <a:rect l="textAreaLeft" t="textAreaTop" r="textAreaRight" b="textAreaBottom"/>
            <a:pathLst>
              <a:path w="21600" h="21767">
                <a:moveTo>
                  <a:pt x="10800" y="0"/>
                </a:moveTo>
                <a:arcTo wR="10800" hR="10800" stAng="16200000" swAng="-5400000"/>
                <a:lnTo>
                  <a:pt x="0" y="10967"/>
                </a:lnTo>
                <a:arcTo wR="10800" hR="10800" stAng="10800000" swAng="-5400000"/>
                <a:lnTo>
                  <a:pt x="10800" y="2176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11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모서리가 둥근 직사각형 19"/>
          <p:cNvSpPr/>
          <p:nvPr/>
        </p:nvSpPr>
        <p:spPr>
          <a:xfrm flipH="1" flipV="1" rot="7213200">
            <a:off x="4380840" y="2733480"/>
            <a:ext cx="187200" cy="185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11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3" name="모서리가 둥근 직사각형 21"/>
          <p:cNvSpPr/>
          <p:nvPr/>
        </p:nvSpPr>
        <p:spPr>
          <a:xfrm flipH="1" flipV="1" rot="7213200">
            <a:off x="4381560" y="4837680"/>
            <a:ext cx="185760" cy="18720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187200"/>
              <a:gd name="textAreaBottom" fmla="*/ 160200 h 187200"/>
            </a:gdLst>
            <a:ahLst/>
            <a:rect l="textAreaLeft" t="textAreaTop" r="textAreaRight" b="textAreaBottom"/>
            <a:pathLst>
              <a:path w="21600" h="21767">
                <a:moveTo>
                  <a:pt x="10800" y="0"/>
                </a:moveTo>
                <a:arcTo wR="10800" hR="10800" stAng="16200000" swAng="-5400000"/>
                <a:lnTo>
                  <a:pt x="0" y="10967"/>
                </a:lnTo>
                <a:arcTo wR="10800" hR="10800" stAng="10800000" swAng="-5400000"/>
                <a:lnTo>
                  <a:pt x="10800" y="2176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11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모서리가 둥근 직사각형 22"/>
          <p:cNvSpPr/>
          <p:nvPr/>
        </p:nvSpPr>
        <p:spPr>
          <a:xfrm flipH="1" flipV="1" rot="7213200">
            <a:off x="4381560" y="5209920"/>
            <a:ext cx="185760" cy="185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11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5" name="모서리가 둥근 직사각형 24"/>
          <p:cNvSpPr/>
          <p:nvPr/>
        </p:nvSpPr>
        <p:spPr>
          <a:xfrm rot="10800000">
            <a:off x="3120840" y="4711680"/>
            <a:ext cx="185400" cy="185760"/>
          </a:xfrm>
          <a:custGeom>
            <a:avLst/>
            <a:gdLst>
              <a:gd name="textAreaLeft" fmla="*/ 27000 w 185400"/>
              <a:gd name="textAreaRight" fmla="*/ 158400 w 185400"/>
              <a:gd name="textAreaTop" fmla="*/ 27000 h 185760"/>
              <a:gd name="textAreaBottom" fmla="*/ 158760 h 185760"/>
            </a:gdLst>
            <a:ahLst/>
            <a:rect l="textAreaLeft" t="textAreaTop" r="textAreaRight" b="textAreaBottom"/>
            <a:pathLst>
              <a:path w="21600" h="21642">
                <a:moveTo>
                  <a:pt x="10800" y="0"/>
                </a:moveTo>
                <a:arcTo wR="10800" hR="10800" stAng="16200000" swAng="-5400000"/>
                <a:lnTo>
                  <a:pt x="0" y="10842"/>
                </a:lnTo>
                <a:arcTo wR="10800" hR="10800" stAng="10800000" swAng="-5400000"/>
                <a:lnTo>
                  <a:pt x="10800" y="2164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모서리가 둥근 직사각형 25"/>
          <p:cNvSpPr/>
          <p:nvPr/>
        </p:nvSpPr>
        <p:spPr>
          <a:xfrm rot="10800000">
            <a:off x="3441600" y="4525920"/>
            <a:ext cx="185760" cy="185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7" name="모서리가 둥근 직사각형 27"/>
          <p:cNvSpPr/>
          <p:nvPr/>
        </p:nvSpPr>
        <p:spPr>
          <a:xfrm flipH="1" rot="10800000">
            <a:off x="5688000" y="4711680"/>
            <a:ext cx="185760" cy="185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8" name="모서리가 둥근 직사각형 28"/>
          <p:cNvSpPr/>
          <p:nvPr/>
        </p:nvSpPr>
        <p:spPr>
          <a:xfrm flipH="1" rot="10800000">
            <a:off x="5367240" y="4525920"/>
            <a:ext cx="185760" cy="185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9" name="모서리가 둥근 직사각형 30"/>
          <p:cNvSpPr/>
          <p:nvPr/>
        </p:nvSpPr>
        <p:spPr>
          <a:xfrm flipV="1" rot="10800000">
            <a:off x="5981760" y="2399400"/>
            <a:ext cx="960480" cy="981000"/>
          </a:xfrm>
          <a:custGeom>
            <a:avLst/>
            <a:gdLst>
              <a:gd name="textAreaLeft" fmla="*/ 140400 w 960480"/>
              <a:gd name="textAreaRight" fmla="*/ 820080 w 960480"/>
              <a:gd name="textAreaTop" fmla="*/ 140400 h 981000"/>
              <a:gd name="textAreaBottom" fmla="*/ 840600 h 981000"/>
            </a:gdLst>
            <a:ahLst/>
            <a:rect l="textAreaLeft" t="textAreaTop" r="textAreaRight" b="textAreaBottom"/>
            <a:pathLst>
              <a:path w="21600" h="22061">
                <a:moveTo>
                  <a:pt x="10800" y="0"/>
                </a:moveTo>
                <a:arcTo wR="10800" hR="10800" stAng="16200000" swAng="-5400000"/>
                <a:lnTo>
                  <a:pt x="0" y="11261"/>
                </a:lnTo>
                <a:arcTo wR="10800" hR="10800" stAng="10800000" swAng="-5400000"/>
                <a:lnTo>
                  <a:pt x="10800" y="2206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6046920" y="2625840"/>
            <a:ext cx="8254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모서리가 둥근 직사각형 33"/>
          <p:cNvSpPr/>
          <p:nvPr/>
        </p:nvSpPr>
        <p:spPr>
          <a:xfrm flipV="1" rot="10800000">
            <a:off x="1992240" y="4723200"/>
            <a:ext cx="960480" cy="979560"/>
          </a:xfrm>
          <a:custGeom>
            <a:avLst/>
            <a:gdLst>
              <a:gd name="textAreaLeft" fmla="*/ 140400 w 960480"/>
              <a:gd name="textAreaRight" fmla="*/ 820080 w 960480"/>
              <a:gd name="textAreaTop" fmla="*/ 140400 h 979560"/>
              <a:gd name="textAreaBottom" fmla="*/ 839160 h 979560"/>
            </a:gdLst>
            <a:ahLst/>
            <a:rect l="textAreaLeft" t="textAreaTop" r="textAreaRight" b="textAreaBottom"/>
            <a:pathLst>
              <a:path w="21600" h="22029">
                <a:moveTo>
                  <a:pt x="10800" y="0"/>
                </a:moveTo>
                <a:arcTo wR="10800" hR="10800" stAng="16200000" swAng="-5400000"/>
                <a:lnTo>
                  <a:pt x="0" y="11229"/>
                </a:lnTo>
                <a:arcTo wR="10800" hR="10800" stAng="10800000" swAng="-5400000"/>
                <a:lnTo>
                  <a:pt x="10800" y="2202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2057400" y="4948200"/>
            <a:ext cx="825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모서리가 둥근 직사각형 36"/>
          <p:cNvSpPr/>
          <p:nvPr/>
        </p:nvSpPr>
        <p:spPr>
          <a:xfrm flipV="1" rot="10800000">
            <a:off x="5981760" y="4723200"/>
            <a:ext cx="960480" cy="979560"/>
          </a:xfrm>
          <a:custGeom>
            <a:avLst/>
            <a:gdLst>
              <a:gd name="textAreaLeft" fmla="*/ 140400 w 960480"/>
              <a:gd name="textAreaRight" fmla="*/ 820080 w 960480"/>
              <a:gd name="textAreaTop" fmla="*/ 140400 h 979560"/>
              <a:gd name="textAreaBottom" fmla="*/ 839160 h 979560"/>
            </a:gdLst>
            <a:ahLst/>
            <a:rect l="textAreaLeft" t="textAreaTop" r="textAreaRight" b="textAreaBottom"/>
            <a:pathLst>
              <a:path w="21600" h="22029">
                <a:moveTo>
                  <a:pt x="10800" y="0"/>
                </a:moveTo>
                <a:arcTo wR="10800" hR="10800" stAng="16200000" swAng="-5400000"/>
                <a:lnTo>
                  <a:pt x="0" y="11229"/>
                </a:lnTo>
                <a:arcTo wR="10800" hR="10800" stAng="10800000" swAng="-5400000"/>
                <a:lnTo>
                  <a:pt x="10800" y="2202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6046920" y="4948200"/>
            <a:ext cx="825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모서리가 둥근 직사각형 39"/>
          <p:cNvSpPr/>
          <p:nvPr/>
        </p:nvSpPr>
        <p:spPr>
          <a:xfrm flipV="1" rot="10800000">
            <a:off x="4010040" y="5608800"/>
            <a:ext cx="961920" cy="979200"/>
          </a:xfrm>
          <a:custGeom>
            <a:avLst/>
            <a:gdLst>
              <a:gd name="textAreaLeft" fmla="*/ 140760 w 961920"/>
              <a:gd name="textAreaRight" fmla="*/ 821160 w 961920"/>
              <a:gd name="textAreaTop" fmla="*/ 140760 h 979200"/>
              <a:gd name="textAreaBottom" fmla="*/ 838440 h 979200"/>
            </a:gdLst>
            <a:ahLst/>
            <a:rect l="textAreaLeft" t="textAreaTop" r="textAreaRight" b="textAreaBottom"/>
            <a:pathLst>
              <a:path w="21600" h="21988">
                <a:moveTo>
                  <a:pt x="10800" y="0"/>
                </a:moveTo>
                <a:arcTo wR="10800" hR="10800" stAng="16200000" swAng="-5400000"/>
                <a:lnTo>
                  <a:pt x="0" y="11188"/>
                </a:lnTo>
                <a:arcTo wR="10800" hR="10800" stAng="10800000" swAng="-5400000"/>
                <a:lnTo>
                  <a:pt x="10800" y="2198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4075200" y="5834160"/>
            <a:ext cx="8254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7" name="모서리가 둥근 직사각형 42"/>
          <p:cNvSpPr/>
          <p:nvPr/>
        </p:nvSpPr>
        <p:spPr>
          <a:xfrm flipV="1" rot="10800000">
            <a:off x="4010040" y="1129320"/>
            <a:ext cx="961920" cy="979560"/>
          </a:xfrm>
          <a:custGeom>
            <a:avLst/>
            <a:gdLst>
              <a:gd name="textAreaLeft" fmla="*/ 140760 w 961920"/>
              <a:gd name="textAreaRight" fmla="*/ 821160 w 961920"/>
              <a:gd name="textAreaTop" fmla="*/ 140760 h 979560"/>
              <a:gd name="textAreaBottom" fmla="*/ 838800 h 979560"/>
            </a:gdLst>
            <a:ahLst/>
            <a:rect l="textAreaLeft" t="textAreaTop" r="textAreaRight" b="textAreaBottom"/>
            <a:pathLst>
              <a:path w="21600" h="21996">
                <a:moveTo>
                  <a:pt x="10800" y="0"/>
                </a:moveTo>
                <a:arcTo wR="10800" hR="10800" stAng="16200000" swAng="-5400000"/>
                <a:lnTo>
                  <a:pt x="0" y="11196"/>
                </a:lnTo>
                <a:arcTo wR="10800" hR="10800" stAng="10800000" swAng="-5400000"/>
                <a:lnTo>
                  <a:pt x="10800" y="219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4075200" y="1355760"/>
            <a:ext cx="825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1" name="모서리가 둥근 직사각형 2"/>
          <p:cNvSpPr/>
          <p:nvPr/>
        </p:nvSpPr>
        <p:spPr>
          <a:xfrm flipH="1">
            <a:off x="6143760" y="1857240"/>
            <a:ext cx="2355840" cy="4500720"/>
          </a:xfrm>
          <a:custGeom>
            <a:avLst/>
            <a:gdLst>
              <a:gd name="textAreaLeft" fmla="*/ 28080 w 2355840"/>
              <a:gd name="textAreaRight" fmla="*/ 2327760 w 2355840"/>
              <a:gd name="textAreaTop" fmla="*/ 28080 h 4500720"/>
              <a:gd name="textAreaBottom" fmla="*/ 4472640 h 4500720"/>
            </a:gdLst>
            <a:ahLst/>
            <a:rect l="textAreaLeft" t="textAreaTop" r="textAreaRight" b="textAreaBottom"/>
            <a:pathLst>
              <a:path w="21600" h="41263">
                <a:moveTo>
                  <a:pt x="889" y="0"/>
                </a:moveTo>
                <a:arcTo wR="889" hR="889" stAng="16200000" swAng="-5400000"/>
                <a:lnTo>
                  <a:pt x="0" y="40374"/>
                </a:lnTo>
                <a:arcTo wR="889" hR="889" stAng="10800000" swAng="-5400000"/>
                <a:lnTo>
                  <a:pt x="20711" y="41263"/>
                </a:lnTo>
                <a:arcTo wR="889" hR="889" stAng="5400000" swAng="-5400000"/>
                <a:lnTo>
                  <a:pt x="21600" y="889"/>
                </a:lnTo>
                <a:arcTo wR="889" hR="889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2" name="Freeform 2"/>
          <p:cNvSpPr/>
          <p:nvPr/>
        </p:nvSpPr>
        <p:spPr>
          <a:xfrm>
            <a:off x="552600" y="2257560"/>
            <a:ext cx="6467400" cy="4146480"/>
          </a:xfrm>
          <a:custGeom>
            <a:avLst/>
            <a:gdLst>
              <a:gd name="textAreaLeft" fmla="*/ 0 w 6467400"/>
              <a:gd name="textAreaRight" fmla="*/ 6467760 w 6467400"/>
              <a:gd name="textAreaTop" fmla="*/ 0 h 4146480"/>
              <a:gd name="textAreaBottom" fmla="*/ 4146840 h 414648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43" name="Group 6"/>
          <p:cNvGrpSpPr/>
          <p:nvPr/>
        </p:nvGrpSpPr>
        <p:grpSpPr>
          <a:xfrm>
            <a:off x="2125440" y="2000160"/>
            <a:ext cx="696600" cy="711360"/>
            <a:chOff x="2125440" y="2000160"/>
            <a:chExt cx="696600" cy="711360"/>
          </a:xfrm>
        </p:grpSpPr>
        <p:sp>
          <p:nvSpPr>
            <p:cNvPr id="344" name="모서리가 둥근 직사각형 5"/>
            <p:cNvSpPr/>
            <p:nvPr/>
          </p:nvSpPr>
          <p:spPr>
            <a:xfrm rot="10800000">
              <a:off x="2125440" y="2000160"/>
              <a:ext cx="696600" cy="711360"/>
            </a:xfrm>
            <a:custGeom>
              <a:avLst/>
              <a:gdLst>
                <a:gd name="textAreaLeft" fmla="*/ 101880 w 696600"/>
                <a:gd name="textAreaRight" fmla="*/ 594720 w 696600"/>
                <a:gd name="textAreaTop" fmla="*/ 101880 h 711360"/>
                <a:gd name="textAreaBottom" fmla="*/ 609480 h 711360"/>
              </a:gdLst>
              <a:ahLst/>
              <a:rect l="textAreaLeft" t="textAreaTop" r="textAreaRight" b="textAreaBottom"/>
              <a:pathLst>
                <a:path w="21600" h="22057">
                  <a:moveTo>
                    <a:pt x="10800" y="0"/>
                  </a:moveTo>
                  <a:arcTo wR="10800" hR="10800" stAng="16200000" swAng="-5400000"/>
                  <a:lnTo>
                    <a:pt x="0" y="11257"/>
                  </a:lnTo>
                  <a:arcTo wR="10800" hR="10800" stAng="10800000" swAng="-5400000"/>
                  <a:lnTo>
                    <a:pt x="10800" y="2205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5" name="Freeform 81"/>
            <p:cNvSpPr/>
            <p:nvPr/>
          </p:nvSpPr>
          <p:spPr>
            <a:xfrm>
              <a:off x="2188800" y="2000520"/>
              <a:ext cx="555840" cy="24516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46" name="Text Box 4"/>
          <p:cNvSpPr/>
          <p:nvPr/>
        </p:nvSpPr>
        <p:spPr>
          <a:xfrm>
            <a:off x="2195640" y="2192400"/>
            <a:ext cx="531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47" name="Group 10"/>
          <p:cNvGrpSpPr/>
          <p:nvPr/>
        </p:nvGrpSpPr>
        <p:grpSpPr>
          <a:xfrm>
            <a:off x="620280" y="2687760"/>
            <a:ext cx="1058760" cy="1079280"/>
            <a:chOff x="620280" y="2687760"/>
            <a:chExt cx="1058760" cy="1079280"/>
          </a:xfrm>
        </p:grpSpPr>
        <p:sp>
          <p:nvSpPr>
            <p:cNvPr id="348" name="모서리가 둥근 직사각형 9"/>
            <p:cNvSpPr/>
            <p:nvPr/>
          </p:nvSpPr>
          <p:spPr>
            <a:xfrm rot="10800000">
              <a:off x="620280" y="2687760"/>
              <a:ext cx="1058760" cy="1079280"/>
            </a:xfrm>
            <a:custGeom>
              <a:avLst/>
              <a:gdLst>
                <a:gd name="textAreaLeft" fmla="*/ 154800 w 1058760"/>
                <a:gd name="textAreaRight" fmla="*/ 903960 w 1058760"/>
                <a:gd name="textAreaTop" fmla="*/ 154800 h 1079280"/>
                <a:gd name="textAreaBottom" fmla="*/ 924480 h 1079280"/>
              </a:gdLst>
              <a:ahLst/>
              <a:rect l="textAreaLeft" t="textAreaTop" r="textAreaRight" b="textAreaBottom"/>
              <a:pathLst>
                <a:path w="21600" h="22018">
                  <a:moveTo>
                    <a:pt x="10800" y="0"/>
                  </a:moveTo>
                  <a:arcTo wR="10800" hR="10800" stAng="16200000" swAng="-5400000"/>
                  <a:lnTo>
                    <a:pt x="0" y="11218"/>
                  </a:lnTo>
                  <a:arcTo wR="10800" hR="10800" stAng="10800000" swAng="-5400000"/>
                  <a:lnTo>
                    <a:pt x="10800" y="2201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9" name="Freeform 81"/>
            <p:cNvSpPr/>
            <p:nvPr/>
          </p:nvSpPr>
          <p:spPr>
            <a:xfrm>
              <a:off x="716400" y="2688840"/>
              <a:ext cx="844920" cy="37188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50" name="Text Box 4"/>
          <p:cNvSpPr/>
          <p:nvPr/>
        </p:nvSpPr>
        <p:spPr>
          <a:xfrm>
            <a:off x="727200" y="2979720"/>
            <a:ext cx="806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1103040" y="3789360"/>
            <a:ext cx="1292040" cy="1317600"/>
            <a:chOff x="1103040" y="3789360"/>
            <a:chExt cx="1292040" cy="1317600"/>
          </a:xfrm>
        </p:grpSpPr>
        <p:sp>
          <p:nvSpPr>
            <p:cNvPr id="352" name="모서리가 둥근 직사각형 13"/>
            <p:cNvSpPr/>
            <p:nvPr/>
          </p:nvSpPr>
          <p:spPr>
            <a:xfrm rot="10800000">
              <a:off x="1103040" y="3789360"/>
              <a:ext cx="1292040" cy="1317600"/>
            </a:xfrm>
            <a:custGeom>
              <a:avLst/>
              <a:gdLst>
                <a:gd name="textAreaLeft" fmla="*/ 189000 w 1292040"/>
                <a:gd name="textAreaRight" fmla="*/ 1103040 w 1292040"/>
                <a:gd name="textAreaTop" fmla="*/ 189000 h 1317600"/>
                <a:gd name="textAreaBottom" fmla="*/ 1128600 h 1317600"/>
              </a:gdLst>
              <a:ahLst/>
              <a:rect l="textAreaLeft" t="textAreaTop" r="textAreaRight" b="textAreaBottom"/>
              <a:pathLst>
                <a:path w="21600" h="22027">
                  <a:moveTo>
                    <a:pt x="10800" y="0"/>
                  </a:moveTo>
                  <a:arcTo wR="10800" hR="10800" stAng="16200000" swAng="-5400000"/>
                  <a:lnTo>
                    <a:pt x="0" y="11227"/>
                  </a:lnTo>
                  <a:arcTo wR="10800" hR="10800" stAng="10800000" swAng="-5400000"/>
                  <a:lnTo>
                    <a:pt x="10800" y="2202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3" name="Freeform 81"/>
            <p:cNvSpPr/>
            <p:nvPr/>
          </p:nvSpPr>
          <p:spPr>
            <a:xfrm>
              <a:off x="1220400" y="3790440"/>
              <a:ext cx="1031040" cy="454320"/>
            </a:xfrm>
            <a:custGeom>
              <a:avLst/>
              <a:gdLst>
                <a:gd name="textAreaLeft" fmla="*/ 0 w 1031040"/>
                <a:gd name="textAreaRight" fmla="*/ 1031400 w 103104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54" name="Text Box 4"/>
          <p:cNvSpPr/>
          <p:nvPr/>
        </p:nvSpPr>
        <p:spPr>
          <a:xfrm>
            <a:off x="1231920" y="4145040"/>
            <a:ext cx="9856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5" name="Group 18"/>
          <p:cNvGrpSpPr/>
          <p:nvPr/>
        </p:nvGrpSpPr>
        <p:grpSpPr>
          <a:xfrm>
            <a:off x="3098520" y="4063680"/>
            <a:ext cx="1508040" cy="1538280"/>
            <a:chOff x="3098520" y="4063680"/>
            <a:chExt cx="1508040" cy="1538280"/>
          </a:xfrm>
        </p:grpSpPr>
        <p:sp>
          <p:nvSpPr>
            <p:cNvPr id="356" name="모서리가 둥근 직사각형 17"/>
            <p:cNvSpPr/>
            <p:nvPr/>
          </p:nvSpPr>
          <p:spPr>
            <a:xfrm rot="10800000">
              <a:off x="3098520" y="4063680"/>
              <a:ext cx="1508040" cy="1538280"/>
            </a:xfrm>
            <a:custGeom>
              <a:avLst/>
              <a:gdLst>
                <a:gd name="textAreaLeft" fmla="*/ 220680 w 1508040"/>
                <a:gd name="textAreaRight" fmla="*/ 1287360 w 1508040"/>
                <a:gd name="textAreaTop" fmla="*/ 220680 h 1538280"/>
                <a:gd name="textAreaBottom" fmla="*/ 1317600 h 1538280"/>
              </a:gdLst>
              <a:ahLst/>
              <a:rect l="textAreaLeft" t="textAreaTop" r="textAreaRight" b="textAreaBottom"/>
              <a:pathLst>
                <a:path w="21600" h="22033">
                  <a:moveTo>
                    <a:pt x="10800" y="0"/>
                  </a:moveTo>
                  <a:arcTo wR="10800" hR="10800" stAng="16200000" swAng="-5400000"/>
                  <a:lnTo>
                    <a:pt x="0" y="11233"/>
                  </a:lnTo>
                  <a:arcTo wR="10800" hR="10800" stAng="10800000" swAng="-5400000"/>
                  <a:lnTo>
                    <a:pt x="10800" y="2203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7" name="Freeform 81"/>
            <p:cNvSpPr/>
            <p:nvPr/>
          </p:nvSpPr>
          <p:spPr>
            <a:xfrm>
              <a:off x="3235320" y="4065480"/>
              <a:ext cx="1203120" cy="530280"/>
            </a:xfrm>
            <a:custGeom>
              <a:avLst/>
              <a:gdLst>
                <a:gd name="textAreaLeft" fmla="*/ 0 w 1203120"/>
                <a:gd name="textAreaRight" fmla="*/ 1203480 w 120312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58" name="Text Box 4"/>
          <p:cNvSpPr/>
          <p:nvPr/>
        </p:nvSpPr>
        <p:spPr>
          <a:xfrm>
            <a:off x="3249720" y="4479840"/>
            <a:ext cx="11491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9" name="모서리가 둥근 직사각형 21"/>
          <p:cNvSpPr/>
          <p:nvPr/>
        </p:nvSpPr>
        <p:spPr>
          <a:xfrm>
            <a:off x="6299280" y="2071800"/>
            <a:ext cx="20350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6531120" y="2076480"/>
            <a:ext cx="1563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1" name="Text Box 4"/>
          <p:cNvSpPr/>
          <p:nvPr/>
        </p:nvSpPr>
        <p:spPr>
          <a:xfrm flipH="1">
            <a:off x="6357240" y="2786040"/>
            <a:ext cx="188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4" name="원통 30"/>
          <p:cNvSpPr/>
          <p:nvPr/>
        </p:nvSpPr>
        <p:spPr>
          <a:xfrm>
            <a:off x="2736720" y="4929120"/>
            <a:ext cx="3600720" cy="1344600"/>
          </a:xfrm>
          <a:prstGeom prst="ellipse">
            <a:avLst/>
          </a:prstGeom>
          <a:gradFill rotWithShape="0">
            <a:gsLst>
              <a:gs pos="0">
                <a:srgbClr val="f79646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3351240" y="5424480"/>
            <a:ext cx="234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6" name="이등변 삼각형 5"/>
          <p:cNvSpPr/>
          <p:nvPr/>
        </p:nvSpPr>
        <p:spPr>
          <a:xfrm flipV="1">
            <a:off x="4627440" y="3175920"/>
            <a:ext cx="1757520" cy="102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이등변 삼각형 6"/>
          <p:cNvSpPr/>
          <p:nvPr/>
        </p:nvSpPr>
        <p:spPr>
          <a:xfrm>
            <a:off x="3664080" y="3197160"/>
            <a:ext cx="1755720" cy="102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이등변 삼각형 7"/>
          <p:cNvSpPr/>
          <p:nvPr/>
        </p:nvSpPr>
        <p:spPr>
          <a:xfrm flipV="1">
            <a:off x="3654360" y="4284000"/>
            <a:ext cx="1755720" cy="102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4037040" y="4365720"/>
            <a:ext cx="9316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0" name="이등변 삼각형 9"/>
          <p:cNvSpPr/>
          <p:nvPr/>
        </p:nvSpPr>
        <p:spPr>
          <a:xfrm flipV="1">
            <a:off x="2693880" y="3187800"/>
            <a:ext cx="1755720" cy="102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1" name="이등변 삼각형 11"/>
          <p:cNvSpPr/>
          <p:nvPr/>
        </p:nvSpPr>
        <p:spPr>
          <a:xfrm flipV="1">
            <a:off x="3654360" y="2061360"/>
            <a:ext cx="1755720" cy="102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이등변 삼각형 12"/>
          <p:cNvSpPr/>
          <p:nvPr/>
        </p:nvSpPr>
        <p:spPr>
          <a:xfrm flipV="1">
            <a:off x="1744560" y="2061360"/>
            <a:ext cx="1755720" cy="102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이등변 삼각형 13"/>
          <p:cNvSpPr/>
          <p:nvPr/>
        </p:nvSpPr>
        <p:spPr>
          <a:xfrm flipV="1">
            <a:off x="5614920" y="2061360"/>
            <a:ext cx="1755720" cy="102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이등변 삼각형 14"/>
          <p:cNvSpPr/>
          <p:nvPr/>
        </p:nvSpPr>
        <p:spPr>
          <a:xfrm>
            <a:off x="4627440" y="2071800"/>
            <a:ext cx="1757520" cy="102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이등변 삼각형 15"/>
          <p:cNvSpPr/>
          <p:nvPr/>
        </p:nvSpPr>
        <p:spPr>
          <a:xfrm>
            <a:off x="2693880" y="2093760"/>
            <a:ext cx="1755720" cy="102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6" name="TextBox 16"/>
          <p:cNvSpPr/>
          <p:nvPr/>
        </p:nvSpPr>
        <p:spPr>
          <a:xfrm>
            <a:off x="4037040" y="3622680"/>
            <a:ext cx="9316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7" name="TextBox 17"/>
          <p:cNvSpPr/>
          <p:nvPr/>
        </p:nvSpPr>
        <p:spPr>
          <a:xfrm>
            <a:off x="3124080" y="3322800"/>
            <a:ext cx="930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8" name="TextBox 18"/>
          <p:cNvSpPr/>
          <p:nvPr/>
        </p:nvSpPr>
        <p:spPr>
          <a:xfrm>
            <a:off x="5048280" y="3322800"/>
            <a:ext cx="930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9" name="TextBox 19"/>
          <p:cNvSpPr/>
          <p:nvPr/>
        </p:nvSpPr>
        <p:spPr>
          <a:xfrm>
            <a:off x="3124080" y="2543040"/>
            <a:ext cx="9302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TextBox 20"/>
          <p:cNvSpPr/>
          <p:nvPr/>
        </p:nvSpPr>
        <p:spPr>
          <a:xfrm>
            <a:off x="5048280" y="2543040"/>
            <a:ext cx="9302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1" name="TextBox 21"/>
          <p:cNvSpPr/>
          <p:nvPr/>
        </p:nvSpPr>
        <p:spPr>
          <a:xfrm>
            <a:off x="2138400" y="2157480"/>
            <a:ext cx="9302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2" name="TextBox 22"/>
          <p:cNvSpPr/>
          <p:nvPr/>
        </p:nvSpPr>
        <p:spPr>
          <a:xfrm>
            <a:off x="4068720" y="2157480"/>
            <a:ext cx="9302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TextBox 23"/>
          <p:cNvSpPr/>
          <p:nvPr/>
        </p:nvSpPr>
        <p:spPr>
          <a:xfrm>
            <a:off x="6022800" y="2157480"/>
            <a:ext cx="930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384" name="직선 화살표 연결선 24"/>
          <p:cNvCxnSpPr/>
          <p:nvPr/>
        </p:nvCxnSpPr>
        <p:spPr>
          <a:xfrm>
            <a:off x="1666800" y="2428560"/>
            <a:ext cx="2161080" cy="2561400"/>
          </a:xfrm>
          <a:prstGeom prst="straightConnector1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385" name="TextBox 25"/>
          <p:cNvSpPr/>
          <p:nvPr/>
        </p:nvSpPr>
        <p:spPr>
          <a:xfrm rot="2969400">
            <a:off x="2049840" y="3567960"/>
            <a:ext cx="932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386" name="직선 화살표 연결선 26"/>
          <p:cNvCxnSpPr/>
          <p:nvPr/>
        </p:nvCxnSpPr>
        <p:spPr>
          <a:xfrm flipH="1">
            <a:off x="5244480" y="2428560"/>
            <a:ext cx="2161080" cy="2561400"/>
          </a:xfrm>
          <a:prstGeom prst="straightConnector1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387" name="TextBox 27"/>
          <p:cNvSpPr/>
          <p:nvPr/>
        </p:nvSpPr>
        <p:spPr>
          <a:xfrm flipH="1" rot="18630600">
            <a:off x="6087960" y="3567960"/>
            <a:ext cx="932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389" name="모서리가 둥근 직사각형 2"/>
          <p:cNvSpPr/>
          <p:nvPr/>
        </p:nvSpPr>
        <p:spPr>
          <a:xfrm flipH="1">
            <a:off x="6120720" y="2557440"/>
            <a:ext cx="2236680" cy="2382840"/>
          </a:xfrm>
          <a:custGeom>
            <a:avLst/>
            <a:gdLst>
              <a:gd name="textAreaLeft" fmla="*/ 26640 w 2236680"/>
              <a:gd name="textAreaRight" fmla="*/ 2210040 w 2236680"/>
              <a:gd name="textAreaTop" fmla="*/ 26640 h 2382840"/>
              <a:gd name="textAreaBottom" fmla="*/ 2356200 h 2382840"/>
            </a:gdLst>
            <a:ahLst/>
            <a:rect l="textAreaLeft" t="textAreaTop" r="textAreaRight" b="textAreaBottom"/>
            <a:pathLst>
              <a:path w="21600" h="23011">
                <a:moveTo>
                  <a:pt x="889" y="0"/>
                </a:moveTo>
                <a:arcTo wR="889" hR="889" stAng="16200000" swAng="-5400000"/>
                <a:lnTo>
                  <a:pt x="0" y="22122"/>
                </a:lnTo>
                <a:arcTo wR="889" hR="889" stAng="10800000" swAng="-5400000"/>
                <a:lnTo>
                  <a:pt x="20711" y="23011"/>
                </a:lnTo>
                <a:arcTo wR="889" hR="889" stAng="5400000" swAng="-5400000"/>
                <a:lnTo>
                  <a:pt x="21600" y="889"/>
                </a:lnTo>
                <a:arcTo wR="889" hR="889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90" name="Group 4"/>
          <p:cNvGrpSpPr/>
          <p:nvPr/>
        </p:nvGrpSpPr>
        <p:grpSpPr>
          <a:xfrm>
            <a:off x="3462120" y="2573280"/>
            <a:ext cx="2665800" cy="3160800"/>
            <a:chOff x="3462120" y="2573280"/>
            <a:chExt cx="2665800" cy="3160800"/>
          </a:xfrm>
        </p:grpSpPr>
        <p:sp>
          <p:nvSpPr>
            <p:cNvPr id="391" name="모서리가 둥근 직사각형 4"/>
            <p:cNvSpPr/>
            <p:nvPr/>
          </p:nvSpPr>
          <p:spPr>
            <a:xfrm flipH="1">
              <a:off x="3461760" y="3351240"/>
              <a:ext cx="2238120" cy="2382840"/>
            </a:xfrm>
            <a:custGeom>
              <a:avLst/>
              <a:gdLst>
                <a:gd name="textAreaLeft" fmla="*/ 26640 w 2238120"/>
                <a:gd name="textAreaRight" fmla="*/ 2211480 w 2238120"/>
                <a:gd name="textAreaTop" fmla="*/ 26640 h 2382840"/>
                <a:gd name="textAreaBottom" fmla="*/ 2356200 h 2382840"/>
              </a:gdLst>
              <a:ahLst/>
              <a:rect l="textAreaLeft" t="textAreaTop" r="textAreaRight" b="textAreaBottom"/>
              <a:pathLst>
                <a:path w="21600" h="22996">
                  <a:moveTo>
                    <a:pt x="889" y="0"/>
                  </a:moveTo>
                  <a:arcTo wR="889" hR="889" stAng="16200000" swAng="-5400000"/>
                  <a:lnTo>
                    <a:pt x="0" y="22107"/>
                  </a:lnTo>
                  <a:arcTo wR="889" hR="889" stAng="10800000" swAng="-5400000"/>
                  <a:lnTo>
                    <a:pt x="20711" y="22996"/>
                  </a:lnTo>
                  <a:arcTo wR="889" hR="889" stAng="5400000" swAng="-5400000"/>
                  <a:lnTo>
                    <a:pt x="21600" y="889"/>
                  </a:lnTo>
                  <a:arcTo wR="889" hR="889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2" name="자유형 8"/>
            <p:cNvSpPr/>
            <p:nvPr/>
          </p:nvSpPr>
          <p:spPr>
            <a:xfrm flipH="1" flipV="1" rot="5400000">
              <a:off x="4344120" y="3910680"/>
              <a:ext cx="3121200" cy="446400"/>
            </a:xfrm>
            <a:custGeom>
              <a:avLst/>
              <a:gdLst>
                <a:gd name="textAreaLeft" fmla="*/ 360 w 3121200"/>
                <a:gd name="textAreaRight" fmla="*/ 3121920 w 3121200"/>
                <a:gd name="textAreaTop" fmla="*/ 360 h 446400"/>
                <a:gd name="textAreaBottom" fmla="*/ 447120 h 446400"/>
              </a:gdLst>
              <a:ahLst/>
              <a:rect l="textAreaLeft" t="textAreaTop" r="textAreaRight" b="textAreaBottom"/>
              <a:pathLst>
                <a:path w="2611444" h="469900">
                  <a:moveTo>
                    <a:pt x="716756" y="469900"/>
                  </a:moveTo>
                  <a:lnTo>
                    <a:pt x="0" y="0"/>
                  </a:lnTo>
                  <a:lnTo>
                    <a:pt x="1974056" y="12700"/>
                  </a:lnTo>
                  <a:lnTo>
                    <a:pt x="2611444" y="461974"/>
                  </a:lnTo>
                  <a:lnTo>
                    <a:pt x="716756" y="4699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93" name="Group 7"/>
          <p:cNvGrpSpPr/>
          <p:nvPr/>
        </p:nvGrpSpPr>
        <p:grpSpPr>
          <a:xfrm>
            <a:off x="798480" y="3348000"/>
            <a:ext cx="2658240" cy="3152880"/>
            <a:chOff x="798480" y="3348000"/>
            <a:chExt cx="2658240" cy="3152880"/>
          </a:xfrm>
        </p:grpSpPr>
        <p:sp>
          <p:nvSpPr>
            <p:cNvPr id="394" name="모서리가 둥근 직사각형 6"/>
            <p:cNvSpPr/>
            <p:nvPr/>
          </p:nvSpPr>
          <p:spPr>
            <a:xfrm flipH="1">
              <a:off x="798480" y="4118040"/>
              <a:ext cx="2237040" cy="2382840"/>
            </a:xfrm>
            <a:custGeom>
              <a:avLst/>
              <a:gdLst>
                <a:gd name="textAreaLeft" fmla="*/ 26640 w 2237040"/>
                <a:gd name="textAreaRight" fmla="*/ 2210400 w 2237040"/>
                <a:gd name="textAreaTop" fmla="*/ 26640 h 2382840"/>
                <a:gd name="textAreaBottom" fmla="*/ 2356200 h 2382840"/>
              </a:gdLst>
              <a:ahLst/>
              <a:rect l="textAreaLeft" t="textAreaTop" r="textAreaRight" b="textAreaBottom"/>
              <a:pathLst>
                <a:path w="21600" h="23008">
                  <a:moveTo>
                    <a:pt x="889" y="0"/>
                  </a:moveTo>
                  <a:arcTo wR="889" hR="889" stAng="16200000" swAng="-5400000"/>
                  <a:lnTo>
                    <a:pt x="0" y="22119"/>
                  </a:lnTo>
                  <a:arcTo wR="889" hR="889" stAng="10800000" swAng="-5400000"/>
                  <a:lnTo>
                    <a:pt x="20711" y="23008"/>
                  </a:lnTo>
                  <a:arcTo wR="889" hR="889" stAng="5400000" swAng="-5400000"/>
                  <a:lnTo>
                    <a:pt x="21600" y="889"/>
                  </a:lnTo>
                  <a:arcTo wR="889" hR="889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5" name="자유형 9"/>
            <p:cNvSpPr/>
            <p:nvPr/>
          </p:nvSpPr>
          <p:spPr>
            <a:xfrm flipH="1" flipV="1" rot="5400000">
              <a:off x="1672560" y="4685400"/>
              <a:ext cx="3121200" cy="446040"/>
            </a:xfrm>
            <a:custGeom>
              <a:avLst/>
              <a:gdLst>
                <a:gd name="textAreaLeft" fmla="*/ 360 w 3121200"/>
                <a:gd name="textAreaRight" fmla="*/ 3121920 w 3121200"/>
                <a:gd name="textAreaTop" fmla="*/ -360 h 446040"/>
                <a:gd name="textAreaBottom" fmla="*/ 446040 h 446040"/>
              </a:gdLst>
              <a:ahLst/>
              <a:rect l="textAreaLeft" t="textAreaTop" r="textAreaRight" b="textAreaBottom"/>
              <a:pathLst>
                <a:path w="2611444" h="469900">
                  <a:moveTo>
                    <a:pt x="716756" y="469900"/>
                  </a:moveTo>
                  <a:lnTo>
                    <a:pt x="0" y="0"/>
                  </a:lnTo>
                  <a:lnTo>
                    <a:pt x="1974056" y="12700"/>
                  </a:lnTo>
                  <a:lnTo>
                    <a:pt x="2611444" y="461974"/>
                  </a:lnTo>
                  <a:lnTo>
                    <a:pt x="716756" y="4699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7" name="Text Box 4"/>
          <p:cNvSpPr/>
          <p:nvPr/>
        </p:nvSpPr>
        <p:spPr>
          <a:xfrm flipH="1">
            <a:off x="6280920" y="2946240"/>
            <a:ext cx="195444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8" name="Text Box 4"/>
          <p:cNvSpPr/>
          <p:nvPr/>
        </p:nvSpPr>
        <p:spPr>
          <a:xfrm flipH="1">
            <a:off x="3622680" y="3740040"/>
            <a:ext cx="195408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9" name="Text Box 4"/>
          <p:cNvSpPr/>
          <p:nvPr/>
        </p:nvSpPr>
        <p:spPr>
          <a:xfrm flipH="1">
            <a:off x="957960" y="4506840"/>
            <a:ext cx="195444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0" name="모서리가 둥근 직사각형 11"/>
          <p:cNvSpPr/>
          <p:nvPr/>
        </p:nvSpPr>
        <p:spPr>
          <a:xfrm>
            <a:off x="811080" y="3600360"/>
            <a:ext cx="2198880" cy="40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1066680" y="3605040"/>
            <a:ext cx="1690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2" name="모서리가 둥근 직사각형 14"/>
          <p:cNvSpPr/>
          <p:nvPr/>
        </p:nvSpPr>
        <p:spPr>
          <a:xfrm>
            <a:off x="3451320" y="2840040"/>
            <a:ext cx="2200320" cy="40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3708360" y="2844720"/>
            <a:ext cx="1689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4" name="모서리가 둥근 직사각형 17"/>
          <p:cNvSpPr/>
          <p:nvPr/>
        </p:nvSpPr>
        <p:spPr>
          <a:xfrm>
            <a:off x="6145200" y="2046240"/>
            <a:ext cx="2198880" cy="40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6400800" y="2050920"/>
            <a:ext cx="1690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6" name="Freeform 7"/>
          <p:cNvSpPr/>
          <p:nvPr/>
        </p:nvSpPr>
        <p:spPr>
          <a:xfrm rot="20410800">
            <a:off x="2287440" y="2527200"/>
            <a:ext cx="1144800" cy="771480"/>
          </a:xfrm>
          <a:custGeom>
            <a:avLst/>
            <a:gdLst>
              <a:gd name="textAreaLeft" fmla="*/ 0 w 1144800"/>
              <a:gd name="textAreaRight" fmla="*/ 1145160 w 114480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c000"/>
              </a:gs>
            </a:gsLst>
            <a:lin ang="1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" name="Freeform 7"/>
          <p:cNvSpPr/>
          <p:nvPr/>
        </p:nvSpPr>
        <p:spPr>
          <a:xfrm rot="20410800">
            <a:off x="4975200" y="1714680"/>
            <a:ext cx="1144440" cy="771480"/>
          </a:xfrm>
          <a:custGeom>
            <a:avLst/>
            <a:gdLst>
              <a:gd name="textAreaLeft" fmla="*/ 0 w 1144440"/>
              <a:gd name="textAreaRight" fmla="*/ 1144800 w 114444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c000"/>
              </a:gs>
            </a:gsLst>
            <a:lin ang="1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grpSp>
        <p:nvGrpSpPr>
          <p:cNvPr id="409" name="Group 3"/>
          <p:cNvGrpSpPr/>
          <p:nvPr/>
        </p:nvGrpSpPr>
        <p:grpSpPr>
          <a:xfrm>
            <a:off x="1278000" y="2257560"/>
            <a:ext cx="7508880" cy="4314600"/>
            <a:chOff x="1278000" y="2257560"/>
            <a:chExt cx="7508880" cy="4314600"/>
          </a:xfrm>
        </p:grpSpPr>
        <p:sp>
          <p:nvSpPr>
            <p:cNvPr id="410" name="모서리가 둥근 직사각형 3"/>
            <p:cNvSpPr/>
            <p:nvPr/>
          </p:nvSpPr>
          <p:spPr>
            <a:xfrm flipH="1">
              <a:off x="1278000" y="2257560"/>
              <a:ext cx="7508880" cy="4314600"/>
            </a:xfrm>
            <a:prstGeom prst="roundRect">
              <a:avLst>
                <a:gd name="adj" fmla="val 411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1" name="직선 연결선 4"/>
            <p:cNvSpPr/>
            <p:nvPr/>
          </p:nvSpPr>
          <p:spPr>
            <a:xfrm flipH="1">
              <a:off x="317196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2" name="직선 연결선 5"/>
            <p:cNvSpPr/>
            <p:nvPr/>
          </p:nvSpPr>
          <p:spPr>
            <a:xfrm flipH="1">
              <a:off x="501336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3" name="직선 연결선 6"/>
            <p:cNvSpPr/>
            <p:nvPr/>
          </p:nvSpPr>
          <p:spPr>
            <a:xfrm flipH="1">
              <a:off x="689940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4" name="직선 연결선 7"/>
            <p:cNvSpPr/>
            <p:nvPr/>
          </p:nvSpPr>
          <p:spPr>
            <a:xfrm flipH="1">
              <a:off x="165096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5" name="직선 연결선 8"/>
            <p:cNvSpPr/>
            <p:nvPr/>
          </p:nvSpPr>
          <p:spPr>
            <a:xfrm flipH="1">
              <a:off x="201924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6" name="직선 연결선 9"/>
            <p:cNvSpPr/>
            <p:nvPr/>
          </p:nvSpPr>
          <p:spPr>
            <a:xfrm flipH="1">
              <a:off x="238608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7" name="직선 연결선 10"/>
            <p:cNvSpPr/>
            <p:nvPr/>
          </p:nvSpPr>
          <p:spPr>
            <a:xfrm flipH="1">
              <a:off x="277632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8" name="직선 연결선 11"/>
            <p:cNvSpPr/>
            <p:nvPr/>
          </p:nvSpPr>
          <p:spPr>
            <a:xfrm flipH="1">
              <a:off x="353052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9" name="직선 연결선 12"/>
            <p:cNvSpPr/>
            <p:nvPr/>
          </p:nvSpPr>
          <p:spPr>
            <a:xfrm flipH="1">
              <a:off x="389880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0" name="직선 연결선 13"/>
            <p:cNvSpPr/>
            <p:nvPr/>
          </p:nvSpPr>
          <p:spPr>
            <a:xfrm flipH="1">
              <a:off x="426564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1" name="직선 연결선 14"/>
            <p:cNvSpPr/>
            <p:nvPr/>
          </p:nvSpPr>
          <p:spPr>
            <a:xfrm flipH="1">
              <a:off x="465624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2" name="직선 연결선 15"/>
            <p:cNvSpPr/>
            <p:nvPr/>
          </p:nvSpPr>
          <p:spPr>
            <a:xfrm flipH="1">
              <a:off x="539928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3" name="직선 연결선 16"/>
            <p:cNvSpPr/>
            <p:nvPr/>
          </p:nvSpPr>
          <p:spPr>
            <a:xfrm flipH="1">
              <a:off x="576756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4" name="직선 연결선 17"/>
            <p:cNvSpPr/>
            <p:nvPr/>
          </p:nvSpPr>
          <p:spPr>
            <a:xfrm flipH="1">
              <a:off x="613404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5" name="직선 연결선 18"/>
            <p:cNvSpPr/>
            <p:nvPr/>
          </p:nvSpPr>
          <p:spPr>
            <a:xfrm flipH="1">
              <a:off x="652464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6" name="직선 연결선 19"/>
            <p:cNvSpPr/>
            <p:nvPr/>
          </p:nvSpPr>
          <p:spPr>
            <a:xfrm flipH="1">
              <a:off x="730260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7" name="직선 연결선 20"/>
            <p:cNvSpPr/>
            <p:nvPr/>
          </p:nvSpPr>
          <p:spPr>
            <a:xfrm flipH="1">
              <a:off x="767088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8" name="직선 연결선 21"/>
            <p:cNvSpPr/>
            <p:nvPr/>
          </p:nvSpPr>
          <p:spPr>
            <a:xfrm flipH="1">
              <a:off x="803772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9" name="직선 연결선 22"/>
            <p:cNvSpPr/>
            <p:nvPr/>
          </p:nvSpPr>
          <p:spPr>
            <a:xfrm flipH="1">
              <a:off x="842832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1519200" y="1911240"/>
            <a:ext cx="1393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1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步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3394080" y="1911240"/>
            <a:ext cx="1393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2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步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5264280" y="1911240"/>
            <a:ext cx="1395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3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步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7139160" y="1911240"/>
            <a:ext cx="1393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4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步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5" name="AutoShape 18"/>
          <p:cNvSpPr/>
          <p:nvPr/>
        </p:nvSpPr>
        <p:spPr>
          <a:xfrm>
            <a:off x="1300320" y="3586320"/>
            <a:ext cx="4101840" cy="341280"/>
          </a:xfrm>
          <a:custGeom>
            <a:avLst/>
            <a:gdLst>
              <a:gd name="textAreaLeft" fmla="*/ 0 w 4101840"/>
              <a:gd name="textAreaRight" fmla="*/ 4102200 w 410184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2f2f2"/>
              </a:gs>
            </a:gsLst>
            <a:lin ang="54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2016000" y="3624120"/>
            <a:ext cx="2486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7" name="AutoShape 18"/>
          <p:cNvSpPr/>
          <p:nvPr/>
        </p:nvSpPr>
        <p:spPr>
          <a:xfrm>
            <a:off x="1300320" y="4292640"/>
            <a:ext cx="2887560" cy="341280"/>
          </a:xfrm>
          <a:custGeom>
            <a:avLst/>
            <a:gdLst>
              <a:gd name="textAreaLeft" fmla="*/ 0 w 2887560"/>
              <a:gd name="textAreaRight" fmla="*/ 2887920 w 28875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2f2f2"/>
              </a:gs>
            </a:gsLst>
            <a:lin ang="54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1805040" y="4330800"/>
            <a:ext cx="174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9" name="AutoShape 18"/>
          <p:cNvSpPr/>
          <p:nvPr/>
        </p:nvSpPr>
        <p:spPr>
          <a:xfrm>
            <a:off x="1300320" y="4983120"/>
            <a:ext cx="6030720" cy="341280"/>
          </a:xfrm>
          <a:custGeom>
            <a:avLst/>
            <a:gdLst>
              <a:gd name="textAreaLeft" fmla="*/ 0 w 6030720"/>
              <a:gd name="textAreaRight" fmla="*/ 6031080 w 60307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2352600" y="5025960"/>
            <a:ext cx="3654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1" name="AutoShape 18"/>
          <p:cNvSpPr/>
          <p:nvPr/>
        </p:nvSpPr>
        <p:spPr>
          <a:xfrm>
            <a:off x="1300320" y="5664240"/>
            <a:ext cx="3315960" cy="341280"/>
          </a:xfrm>
          <a:custGeom>
            <a:avLst/>
            <a:gdLst>
              <a:gd name="textAreaLeft" fmla="*/ 0 w 3315960"/>
              <a:gd name="textAreaRight" fmla="*/ 3316320 w 3315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2f2f2"/>
              </a:gs>
            </a:gsLst>
            <a:lin ang="54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1879560" y="5702400"/>
            <a:ext cx="2008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258840" y="2867040"/>
            <a:ext cx="884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258840" y="3586320"/>
            <a:ext cx="884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258840" y="4265640"/>
            <a:ext cx="884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258840" y="4978440"/>
            <a:ext cx="884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258840" y="5613480"/>
            <a:ext cx="884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8" name="AutoShape 18"/>
          <p:cNvSpPr/>
          <p:nvPr/>
        </p:nvSpPr>
        <p:spPr>
          <a:xfrm>
            <a:off x="1300320" y="2884320"/>
            <a:ext cx="1458720" cy="341640"/>
          </a:xfrm>
          <a:custGeom>
            <a:avLst/>
            <a:gdLst>
              <a:gd name="textAreaLeft" fmla="*/ 0 w 1458720"/>
              <a:gd name="textAreaRight" fmla="*/ 1459080 w 1458720"/>
              <a:gd name="textAreaTop" fmla="*/ 0 h 341640"/>
              <a:gd name="textAreaBottom" fmla="*/ 342000 h 34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2f2f2"/>
              </a:gs>
            </a:gsLst>
            <a:lin ang="54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1555920" y="2922480"/>
            <a:ext cx="882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2" name="직사각형 2"/>
          <p:cNvSpPr/>
          <p:nvPr/>
        </p:nvSpPr>
        <p:spPr>
          <a:xfrm>
            <a:off x="6251400" y="3182760"/>
            <a:ext cx="1762200" cy="1319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3" name="직사각형 3"/>
          <p:cNvSpPr/>
          <p:nvPr/>
        </p:nvSpPr>
        <p:spPr>
          <a:xfrm>
            <a:off x="1101600" y="3182760"/>
            <a:ext cx="1762200" cy="1319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직사각형 4"/>
          <p:cNvSpPr/>
          <p:nvPr/>
        </p:nvSpPr>
        <p:spPr>
          <a:xfrm>
            <a:off x="3630600" y="2741760"/>
            <a:ext cx="1760400" cy="1760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모서리가 둥근 직사각형 5"/>
          <p:cNvSpPr/>
          <p:nvPr/>
        </p:nvSpPr>
        <p:spPr>
          <a:xfrm flipH="1">
            <a:off x="6017400" y="4376880"/>
            <a:ext cx="2328840" cy="2338200"/>
          </a:xfrm>
          <a:custGeom>
            <a:avLst/>
            <a:gdLst>
              <a:gd name="textAreaLeft" fmla="*/ 27720 w 2328840"/>
              <a:gd name="textAreaRight" fmla="*/ 2301120 w 2328840"/>
              <a:gd name="textAreaTop" fmla="*/ 27720 h 2338200"/>
              <a:gd name="textAreaBottom" fmla="*/ 2310480 h 2338200"/>
            </a:gdLst>
            <a:ahLst/>
            <a:rect l="textAreaLeft" t="textAreaTop" r="textAreaRight" b="textAreaBottom"/>
            <a:pathLst>
              <a:path w="21600" h="21687">
                <a:moveTo>
                  <a:pt x="889" y="0"/>
                </a:moveTo>
                <a:arcTo wR="889" hR="889" stAng="16200000" swAng="-5400000"/>
                <a:lnTo>
                  <a:pt x="0" y="20798"/>
                </a:lnTo>
                <a:arcTo wR="889" hR="889" stAng="10800000" swAng="-5400000"/>
                <a:lnTo>
                  <a:pt x="20711" y="21687"/>
                </a:lnTo>
                <a:arcTo wR="889" hR="889" stAng="5400000" swAng="-5400000"/>
                <a:lnTo>
                  <a:pt x="21600" y="889"/>
                </a:lnTo>
                <a:arcTo wR="889" hR="889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모서리가 둥근 직사각형 7"/>
          <p:cNvSpPr/>
          <p:nvPr/>
        </p:nvSpPr>
        <p:spPr>
          <a:xfrm>
            <a:off x="6162840" y="4513320"/>
            <a:ext cx="19825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6388200" y="4519440"/>
            <a:ext cx="1523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8" name="Text Box 4"/>
          <p:cNvSpPr/>
          <p:nvPr/>
        </p:nvSpPr>
        <p:spPr>
          <a:xfrm flipH="1">
            <a:off x="6251400" y="5205240"/>
            <a:ext cx="181296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9" name="모서리가 둥근 직사각형 10"/>
          <p:cNvSpPr/>
          <p:nvPr/>
        </p:nvSpPr>
        <p:spPr>
          <a:xfrm flipH="1">
            <a:off x="3412440" y="4376880"/>
            <a:ext cx="2327400" cy="2338200"/>
          </a:xfrm>
          <a:custGeom>
            <a:avLst/>
            <a:gdLst>
              <a:gd name="textAreaLeft" fmla="*/ 27720 w 2327400"/>
              <a:gd name="textAreaRight" fmla="*/ 2299680 w 2327400"/>
              <a:gd name="textAreaTop" fmla="*/ 27720 h 2338200"/>
              <a:gd name="textAreaBottom" fmla="*/ 2310480 h 2338200"/>
            </a:gdLst>
            <a:ahLst/>
            <a:rect l="textAreaLeft" t="textAreaTop" r="textAreaRight" b="textAreaBottom"/>
            <a:pathLst>
              <a:path w="21600" h="21700">
                <a:moveTo>
                  <a:pt x="889" y="0"/>
                </a:moveTo>
                <a:arcTo wR="889" hR="889" stAng="16200000" swAng="-5400000"/>
                <a:lnTo>
                  <a:pt x="0" y="20811"/>
                </a:lnTo>
                <a:arcTo wR="889" hR="889" stAng="10800000" swAng="-5400000"/>
                <a:lnTo>
                  <a:pt x="20711" y="21700"/>
                </a:lnTo>
                <a:arcTo wR="889" hR="889" stAng="5400000" swAng="-5400000"/>
                <a:lnTo>
                  <a:pt x="21600" y="889"/>
                </a:lnTo>
                <a:arcTo wR="889" hR="889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0" name="모서리가 둥근 직사각형 12"/>
          <p:cNvSpPr/>
          <p:nvPr/>
        </p:nvSpPr>
        <p:spPr>
          <a:xfrm>
            <a:off x="3556080" y="4513320"/>
            <a:ext cx="19828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3782880" y="4519440"/>
            <a:ext cx="15242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2" name="Text Box 4"/>
          <p:cNvSpPr/>
          <p:nvPr/>
        </p:nvSpPr>
        <p:spPr>
          <a:xfrm flipH="1">
            <a:off x="3646440" y="5205240"/>
            <a:ext cx="181152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3" name="모서리가 둥근 직사각형 15"/>
          <p:cNvSpPr/>
          <p:nvPr/>
        </p:nvSpPr>
        <p:spPr>
          <a:xfrm flipH="1">
            <a:off x="824760" y="4376880"/>
            <a:ext cx="2328840" cy="2338200"/>
          </a:xfrm>
          <a:custGeom>
            <a:avLst/>
            <a:gdLst>
              <a:gd name="textAreaLeft" fmla="*/ 27720 w 2328840"/>
              <a:gd name="textAreaRight" fmla="*/ 2301120 w 2328840"/>
              <a:gd name="textAreaTop" fmla="*/ 27720 h 2338200"/>
              <a:gd name="textAreaBottom" fmla="*/ 2310480 h 2338200"/>
            </a:gdLst>
            <a:ahLst/>
            <a:rect l="textAreaLeft" t="textAreaTop" r="textAreaRight" b="textAreaBottom"/>
            <a:pathLst>
              <a:path w="21600" h="21687">
                <a:moveTo>
                  <a:pt x="889" y="0"/>
                </a:moveTo>
                <a:arcTo wR="889" hR="889" stAng="16200000" swAng="-5400000"/>
                <a:lnTo>
                  <a:pt x="0" y="20798"/>
                </a:lnTo>
                <a:arcTo wR="889" hR="889" stAng="10800000" swAng="-5400000"/>
                <a:lnTo>
                  <a:pt x="20711" y="21687"/>
                </a:lnTo>
                <a:arcTo wR="889" hR="889" stAng="5400000" swAng="-5400000"/>
                <a:lnTo>
                  <a:pt x="21600" y="889"/>
                </a:lnTo>
                <a:arcTo wR="889" hR="889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4" name="모서리가 둥근 직사각형 17"/>
          <p:cNvSpPr/>
          <p:nvPr/>
        </p:nvSpPr>
        <p:spPr>
          <a:xfrm>
            <a:off x="969840" y="4513320"/>
            <a:ext cx="19828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1195560" y="4519440"/>
            <a:ext cx="1523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6" name="Text Box 4"/>
          <p:cNvSpPr/>
          <p:nvPr/>
        </p:nvSpPr>
        <p:spPr>
          <a:xfrm flipH="1">
            <a:off x="1058760" y="5205240"/>
            <a:ext cx="181152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67" name="Group 19"/>
          <p:cNvGrpSpPr/>
          <p:nvPr/>
        </p:nvGrpSpPr>
        <p:grpSpPr>
          <a:xfrm>
            <a:off x="3633480" y="1798560"/>
            <a:ext cx="1763640" cy="1798560"/>
            <a:chOff x="3633480" y="1798560"/>
            <a:chExt cx="1763640" cy="1798560"/>
          </a:xfrm>
        </p:grpSpPr>
        <p:sp>
          <p:nvSpPr>
            <p:cNvPr id="468" name="모서리가 둥근 직사각형 20"/>
            <p:cNvSpPr/>
            <p:nvPr/>
          </p:nvSpPr>
          <p:spPr>
            <a:xfrm rot="10800000">
              <a:off x="3633480" y="1798560"/>
              <a:ext cx="1763640" cy="1798560"/>
            </a:xfrm>
            <a:custGeom>
              <a:avLst/>
              <a:gdLst>
                <a:gd name="textAreaLeft" fmla="*/ 258120 w 1763640"/>
                <a:gd name="textAreaRight" fmla="*/ 1505520 w 1763640"/>
                <a:gd name="textAreaTop" fmla="*/ 258120 h 1798560"/>
                <a:gd name="textAreaBottom" fmla="*/ 1540440 h 1798560"/>
              </a:gdLst>
              <a:ahLst/>
              <a:rect l="textAreaLeft" t="textAreaTop" r="textAreaRight" b="textAreaBottom"/>
              <a:pathLst>
                <a:path w="21600" h="22028">
                  <a:moveTo>
                    <a:pt x="10800" y="0"/>
                  </a:moveTo>
                  <a:arcTo wR="10800" hR="10800" stAng="16200000" swAng="-5400000"/>
                  <a:lnTo>
                    <a:pt x="0" y="11228"/>
                  </a:lnTo>
                  <a:arcTo wR="10800" hR="10800" stAng="10800000" swAng="-5400000"/>
                  <a:lnTo>
                    <a:pt x="10800" y="2202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9" name="Freeform 81"/>
            <p:cNvSpPr/>
            <p:nvPr/>
          </p:nvSpPr>
          <p:spPr>
            <a:xfrm>
              <a:off x="3793680" y="1800360"/>
              <a:ext cx="1407240" cy="619920"/>
            </a:xfrm>
            <a:custGeom>
              <a:avLst/>
              <a:gdLst>
                <a:gd name="textAreaLeft" fmla="*/ 0 w 1407240"/>
                <a:gd name="textAreaRight" fmla="*/ 1407600 w 1407240"/>
                <a:gd name="textAreaTop" fmla="*/ 0 h 619920"/>
                <a:gd name="textAreaBottom" fmla="*/ 620280 h 6199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70" name="Text Box 4"/>
          <p:cNvSpPr/>
          <p:nvPr/>
        </p:nvSpPr>
        <p:spPr>
          <a:xfrm>
            <a:off x="3811680" y="2284560"/>
            <a:ext cx="1342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1" name="모서리가 둥근 직사각형 26"/>
          <p:cNvSpPr/>
          <p:nvPr/>
        </p:nvSpPr>
        <p:spPr>
          <a:xfrm flipV="1" rot="10800000">
            <a:off x="1117080" y="2236680"/>
            <a:ext cx="1746360" cy="1781280"/>
          </a:xfrm>
          <a:custGeom>
            <a:avLst/>
            <a:gdLst>
              <a:gd name="textAreaLeft" fmla="*/ 255600 w 1746360"/>
              <a:gd name="textAreaRight" fmla="*/ 1490760 w 1746360"/>
              <a:gd name="textAreaTop" fmla="*/ 255600 h 1781280"/>
              <a:gd name="textAreaBottom" fmla="*/ 1525680 h 1781280"/>
            </a:gdLst>
            <a:ahLst/>
            <a:rect l="textAreaLeft" t="textAreaTop" r="textAreaRight" b="textAreaBottom"/>
            <a:pathLst>
              <a:path w="21600" h="22032">
                <a:moveTo>
                  <a:pt x="10800" y="0"/>
                </a:moveTo>
                <a:arcTo wR="10800" hR="10800" stAng="16200000" swAng="-5400000"/>
                <a:lnTo>
                  <a:pt x="0" y="11232"/>
                </a:lnTo>
                <a:arcTo wR="10800" hR="10800" stAng="10800000" swAng="-5400000"/>
                <a:lnTo>
                  <a:pt x="10800" y="2203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1236600" y="2646360"/>
            <a:ext cx="15001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3" name="모서리가 둥근 직사각형 29"/>
          <p:cNvSpPr/>
          <p:nvPr/>
        </p:nvSpPr>
        <p:spPr>
          <a:xfrm flipV="1" rot="10800000">
            <a:off x="6265440" y="2236680"/>
            <a:ext cx="1746360" cy="1781280"/>
          </a:xfrm>
          <a:custGeom>
            <a:avLst/>
            <a:gdLst>
              <a:gd name="textAreaLeft" fmla="*/ 255600 w 1746360"/>
              <a:gd name="textAreaRight" fmla="*/ 1490760 w 1746360"/>
              <a:gd name="textAreaTop" fmla="*/ 255600 h 1781280"/>
              <a:gd name="textAreaBottom" fmla="*/ 1525680 h 1781280"/>
            </a:gdLst>
            <a:ahLst/>
            <a:rect l="textAreaLeft" t="textAreaTop" r="textAreaRight" b="textAreaBottom"/>
            <a:pathLst>
              <a:path w="21600" h="22032">
                <a:moveTo>
                  <a:pt x="10800" y="0"/>
                </a:moveTo>
                <a:arcTo wR="10800" hR="10800" stAng="16200000" swAng="-5400000"/>
                <a:lnTo>
                  <a:pt x="0" y="11232"/>
                </a:lnTo>
                <a:arcTo wR="10800" hR="10800" stAng="10800000" swAng="-5400000"/>
                <a:lnTo>
                  <a:pt x="10800" y="2203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6383160" y="2646360"/>
            <a:ext cx="15019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cxnSp>
        <p:nvCxnSpPr>
          <p:cNvPr id="477" name="꺾인 연결선 2"/>
          <p:cNvCxnSpPr/>
          <p:nvPr/>
        </p:nvCxnSpPr>
        <p:spPr>
          <a:xfrm rot="10800000">
            <a:off x="1891440" y="3539520"/>
            <a:ext cx="707400" cy="977040"/>
          </a:xfrm>
          <a:prstGeom prst="bentConnector3">
            <a:avLst>
              <a:gd name="adj1" fmla="val 101221"/>
            </a:avLst>
          </a:prstGeom>
          <a:ln w="28440">
            <a:solidFill>
              <a:srgbClr val="ffffff"/>
            </a:solidFill>
            <a:prstDash val="sysDot"/>
            <a:miter/>
          </a:ln>
        </p:spPr>
      </p:cxnSp>
      <p:cxnSp>
        <p:nvCxnSpPr>
          <p:cNvPr id="478" name="꺾인 연결선 3"/>
          <p:cNvCxnSpPr/>
          <p:nvPr/>
        </p:nvCxnSpPr>
        <p:spPr>
          <a:xfrm>
            <a:off x="6504480" y="3037320"/>
            <a:ext cx="739080" cy="1723320"/>
          </a:xfrm>
          <a:prstGeom prst="bentConnector3">
            <a:avLst>
              <a:gd name="adj1" fmla="val 101218"/>
            </a:avLst>
          </a:prstGeom>
          <a:ln w="28440">
            <a:solidFill>
              <a:srgbClr val="ffffff"/>
            </a:solidFill>
            <a:prstDash val="sysDot"/>
            <a:miter/>
          </a:ln>
        </p:spPr>
      </p:cxnSp>
      <p:sp>
        <p:nvSpPr>
          <p:cNvPr id="479" name="모서리가 둥근 직사각형 4"/>
          <p:cNvSpPr/>
          <p:nvPr/>
        </p:nvSpPr>
        <p:spPr>
          <a:xfrm flipH="1">
            <a:off x="6242760" y="4809960"/>
            <a:ext cx="2054520" cy="137808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0" name="모서리가 둥근 직사각형 5"/>
          <p:cNvSpPr/>
          <p:nvPr/>
        </p:nvSpPr>
        <p:spPr>
          <a:xfrm flipH="1">
            <a:off x="914400" y="2135160"/>
            <a:ext cx="2054160" cy="137808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1" name="Freeform 2"/>
          <p:cNvSpPr/>
          <p:nvPr/>
        </p:nvSpPr>
        <p:spPr>
          <a:xfrm rot="20954400">
            <a:off x="2615760" y="3222360"/>
            <a:ext cx="3060720" cy="306396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79646"/>
              </a:gs>
            </a:gsLst>
            <a:lin ang="195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2" name="Freeform 3"/>
          <p:cNvSpPr/>
          <p:nvPr/>
        </p:nvSpPr>
        <p:spPr>
          <a:xfrm rot="10552800">
            <a:off x="3946320" y="2099520"/>
            <a:ext cx="3170160" cy="2924280"/>
          </a:xfrm>
          <a:custGeom>
            <a:avLst/>
            <a:gdLst>
              <a:gd name="textAreaLeft" fmla="*/ 0 w 3170160"/>
              <a:gd name="textAreaRight" fmla="*/ 3170520 w 3170160"/>
              <a:gd name="textAreaTop" fmla="*/ 0 h 2924280"/>
              <a:gd name="textAreaBottom" fmla="*/ 2924640 h 292428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fbfbf"/>
              </a:gs>
            </a:gsLst>
            <a:lin ang="83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130560" y="5132520"/>
            <a:ext cx="13413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5035680" y="2484360"/>
            <a:ext cx="13413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5" name="모서리가 둥근 직사각형 12"/>
          <p:cNvSpPr/>
          <p:nvPr/>
        </p:nvSpPr>
        <p:spPr>
          <a:xfrm>
            <a:off x="1073160" y="2279520"/>
            <a:ext cx="1770120" cy="42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1189080" y="2284560"/>
            <a:ext cx="15318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7" name="모서리가 둥근 직사각형 15"/>
          <p:cNvSpPr/>
          <p:nvPr/>
        </p:nvSpPr>
        <p:spPr>
          <a:xfrm>
            <a:off x="1073160" y="2894040"/>
            <a:ext cx="1770120" cy="42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1189080" y="2898720"/>
            <a:ext cx="1531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9" name="모서리가 둥근 직사각형 18"/>
          <p:cNvSpPr/>
          <p:nvPr/>
        </p:nvSpPr>
        <p:spPr>
          <a:xfrm>
            <a:off x="6383160" y="4943520"/>
            <a:ext cx="1770120" cy="42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6500880" y="4948200"/>
            <a:ext cx="1530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1" name="모서리가 둥근 직사각형 21"/>
          <p:cNvSpPr/>
          <p:nvPr/>
        </p:nvSpPr>
        <p:spPr>
          <a:xfrm>
            <a:off x="6383160" y="5557680"/>
            <a:ext cx="1770120" cy="42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6500880" y="5562720"/>
            <a:ext cx="1530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5" name="Line 12"/>
          <p:cNvSpPr/>
          <p:nvPr/>
        </p:nvSpPr>
        <p:spPr>
          <a:xfrm>
            <a:off x="2398680" y="3497400"/>
            <a:ext cx="700200" cy="97920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Line 13"/>
          <p:cNvSpPr/>
          <p:nvPr/>
        </p:nvSpPr>
        <p:spPr>
          <a:xfrm flipV="1">
            <a:off x="3868560" y="3986280"/>
            <a:ext cx="982800" cy="56016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Line 14"/>
          <p:cNvSpPr/>
          <p:nvPr/>
        </p:nvSpPr>
        <p:spPr>
          <a:xfrm flipV="1">
            <a:off x="5830920" y="2714400"/>
            <a:ext cx="1190520" cy="71100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Rectangle 4"/>
          <p:cNvSpPr/>
          <p:nvPr/>
        </p:nvSpPr>
        <p:spPr>
          <a:xfrm rot="3418800">
            <a:off x="1605600" y="2523240"/>
            <a:ext cx="993600" cy="1058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000"/>
              </a:gs>
            </a:gsLst>
            <a:lin ang="1980000"/>
          </a:gra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1814760" y="2886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0" name="Rectangle 6"/>
          <p:cNvSpPr/>
          <p:nvPr/>
        </p:nvSpPr>
        <p:spPr>
          <a:xfrm rot="3418800">
            <a:off x="2944440" y="4194000"/>
            <a:ext cx="992160" cy="105912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198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1" name="Rectangle 8"/>
          <p:cNvSpPr/>
          <p:nvPr/>
        </p:nvSpPr>
        <p:spPr>
          <a:xfrm rot="3418800">
            <a:off x="4796280" y="3339360"/>
            <a:ext cx="993960" cy="105876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198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2" name="Rectangle 10"/>
          <p:cNvSpPr/>
          <p:nvPr/>
        </p:nvSpPr>
        <p:spPr>
          <a:xfrm rot="3418800">
            <a:off x="6955920" y="1997280"/>
            <a:ext cx="992160" cy="105876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198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2678040" y="2109960"/>
            <a:ext cx="37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Arial"/>
                <a:ea typeface="Gulim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4" name="Text Box 19"/>
          <p:cNvSpPr/>
          <p:nvPr/>
        </p:nvSpPr>
        <p:spPr>
          <a:xfrm>
            <a:off x="647640" y="3835440"/>
            <a:ext cx="162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Text Box 19"/>
          <p:cNvSpPr/>
          <p:nvPr/>
        </p:nvSpPr>
        <p:spPr>
          <a:xfrm>
            <a:off x="2862360" y="5634000"/>
            <a:ext cx="162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6" name="Text Box 19"/>
          <p:cNvSpPr/>
          <p:nvPr/>
        </p:nvSpPr>
        <p:spPr>
          <a:xfrm>
            <a:off x="4962600" y="4780080"/>
            <a:ext cx="162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6800760" y="3467160"/>
            <a:ext cx="162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3146400" y="457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4984920" y="3686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7147080" y="2362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3" name="자유형 66"/>
          <p:cNvSpPr/>
          <p:nvPr/>
        </p:nvSpPr>
        <p:spPr>
          <a:xfrm>
            <a:off x="1290600" y="2948040"/>
            <a:ext cx="6548400" cy="3421080"/>
          </a:xfrm>
          <a:custGeom>
            <a:avLst/>
            <a:gdLst>
              <a:gd name="textAreaLeft" fmla="*/ 0 w 6548400"/>
              <a:gd name="textAreaRight" fmla="*/ 6548760 w 6548400"/>
              <a:gd name="textAreaTop" fmla="*/ 0 h 3421080"/>
              <a:gd name="textAreaBottom" fmla="*/ 3421440 h 3421080"/>
            </a:gdLst>
            <a:ahLst/>
            <a:rect l="textAreaLeft" t="textAreaTop" r="textAreaRight" b="textAreaBottom"/>
            <a:pathLst>
              <a:path w="6143670" h="3209024">
                <a:moveTo>
                  <a:pt x="0" y="3209014"/>
                </a:moveTo>
                <a:cubicBezTo>
                  <a:pt x="1" y="2111553"/>
                  <a:pt x="585491" y="1097458"/>
                  <a:pt x="1535921" y="548729"/>
                </a:cubicBezTo>
                <a:cubicBezTo>
                  <a:pt x="2486351" y="0"/>
                  <a:pt x="3657328" y="2"/>
                  <a:pt x="4607756" y="548734"/>
                </a:cubicBezTo>
                <a:cubicBezTo>
                  <a:pt x="5558184" y="1097466"/>
                  <a:pt x="6143670" y="2111563"/>
                  <a:pt x="6143668" y="3209024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4" name="자유형 67"/>
          <p:cNvSpPr/>
          <p:nvPr/>
        </p:nvSpPr>
        <p:spPr>
          <a:xfrm>
            <a:off x="1290600" y="4699080"/>
            <a:ext cx="6548400" cy="1711080"/>
          </a:xfrm>
          <a:custGeom>
            <a:avLst/>
            <a:gdLst>
              <a:gd name="textAreaLeft" fmla="*/ 0 w 6548400"/>
              <a:gd name="textAreaRight" fmla="*/ 6548760 w 654840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6143668" h="1604514">
                <a:moveTo>
                  <a:pt x="6143668" y="1604514"/>
                </a:moveTo>
                <a:lnTo>
                  <a:pt x="4607751" y="1604508"/>
                </a:lnTo>
                <a:cubicBezTo>
                  <a:pt x="4607751" y="1055778"/>
                  <a:pt x="4315007" y="548730"/>
                  <a:pt x="3839792" y="274365"/>
                </a:cubicBezTo>
                <a:cubicBezTo>
                  <a:pt x="3364577" y="0"/>
                  <a:pt x="2779089" y="0"/>
                  <a:pt x="2303875" y="274366"/>
                </a:cubicBezTo>
                <a:cubicBezTo>
                  <a:pt x="1828661" y="548732"/>
                  <a:pt x="1535917" y="1055780"/>
                  <a:pt x="1535918" y="1604510"/>
                </a:cubicBezTo>
                <a:lnTo>
                  <a:pt x="0" y="1604504"/>
                </a:lnTo>
              </a:path>
            </a:pathLst>
          </a:custGeom>
          <a:noFill/>
          <a:ln w="414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515" name="직선 화살표 연결선 68"/>
          <p:cNvCxnSpPr>
            <a:stCxn id="514" idx="3"/>
            <a:endCxn id="513" idx="1"/>
          </p:cNvCxnSpPr>
          <p:nvPr/>
        </p:nvCxnSpPr>
        <p:spPr>
          <a:xfrm flipH="1" flipV="1">
            <a:off x="2926800" y="3533040"/>
            <a:ext cx="819720" cy="1459800"/>
          </a:xfrm>
          <a:prstGeom prst="straightConnector1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516" name="직선 화살표 연결선 69"/>
          <p:cNvCxnSpPr>
            <a:stCxn id="514" idx="2"/>
            <a:endCxn id="513" idx="2"/>
          </p:cNvCxnSpPr>
          <p:nvPr/>
        </p:nvCxnSpPr>
        <p:spPr>
          <a:xfrm flipV="1">
            <a:off x="5383080" y="3533040"/>
            <a:ext cx="820080" cy="1459800"/>
          </a:xfrm>
          <a:prstGeom prst="straightConnector1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</p:cxnSp>
      <p:grpSp>
        <p:nvGrpSpPr>
          <p:cNvPr id="517" name="Group 8"/>
          <p:cNvGrpSpPr/>
          <p:nvPr/>
        </p:nvGrpSpPr>
        <p:grpSpPr>
          <a:xfrm>
            <a:off x="1519200" y="2682720"/>
            <a:ext cx="1674720" cy="673200"/>
            <a:chOff x="1519200" y="2682720"/>
            <a:chExt cx="1674720" cy="673200"/>
          </a:xfrm>
        </p:grpSpPr>
        <p:sp>
          <p:nvSpPr>
            <p:cNvPr id="518" name="모서리가 둥근 직사각형 76"/>
            <p:cNvSpPr/>
            <p:nvPr/>
          </p:nvSpPr>
          <p:spPr>
            <a:xfrm>
              <a:off x="1519200" y="2682720"/>
              <a:ext cx="1674720" cy="673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9" name="모서리가 둥근 직사각형 77"/>
            <p:cNvSpPr/>
            <p:nvPr/>
          </p:nvSpPr>
          <p:spPr>
            <a:xfrm>
              <a:off x="1564920" y="2733840"/>
              <a:ext cx="1613160" cy="572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20" name="Text Box 4"/>
          <p:cNvSpPr/>
          <p:nvPr/>
        </p:nvSpPr>
        <p:spPr>
          <a:xfrm>
            <a:off x="1727280" y="2763720"/>
            <a:ext cx="12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21" name="Group 12"/>
          <p:cNvGrpSpPr/>
          <p:nvPr/>
        </p:nvGrpSpPr>
        <p:grpSpPr>
          <a:xfrm>
            <a:off x="3578400" y="1447920"/>
            <a:ext cx="1931760" cy="1969920"/>
            <a:chOff x="3578400" y="1447920"/>
            <a:chExt cx="1931760" cy="1969920"/>
          </a:xfrm>
        </p:grpSpPr>
        <p:sp>
          <p:nvSpPr>
            <p:cNvPr id="522" name="모서리가 둥근 직사각형 84"/>
            <p:cNvSpPr/>
            <p:nvPr/>
          </p:nvSpPr>
          <p:spPr>
            <a:xfrm rot="10800000">
              <a:off x="3578400" y="1447920"/>
              <a:ext cx="1931760" cy="1969920"/>
            </a:xfrm>
            <a:custGeom>
              <a:avLst/>
              <a:gdLst>
                <a:gd name="textAreaLeft" fmla="*/ 282600 w 1931760"/>
                <a:gd name="textAreaRight" fmla="*/ 1649160 w 1931760"/>
                <a:gd name="textAreaTop" fmla="*/ 282600 h 1969920"/>
                <a:gd name="textAreaBottom" fmla="*/ 1687320 h 1969920"/>
              </a:gdLst>
              <a:ahLst/>
              <a:rect l="textAreaLeft" t="textAreaTop" r="textAreaRight" b="textAreaBottom"/>
              <a:pathLst>
                <a:path w="21600" h="22027">
                  <a:moveTo>
                    <a:pt x="10800" y="0"/>
                  </a:moveTo>
                  <a:arcTo wR="10800" hR="10800" stAng="16200000" swAng="-5400000"/>
                  <a:lnTo>
                    <a:pt x="0" y="11227"/>
                  </a:lnTo>
                  <a:arcTo wR="10800" hR="10800" stAng="10800000" swAng="-5400000"/>
                  <a:lnTo>
                    <a:pt x="10800" y="2202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3" name="Freeform 81"/>
            <p:cNvSpPr/>
            <p:nvPr/>
          </p:nvSpPr>
          <p:spPr>
            <a:xfrm>
              <a:off x="3753360" y="1449720"/>
              <a:ext cx="1541160" cy="678960"/>
            </a:xfrm>
            <a:custGeom>
              <a:avLst/>
              <a:gdLst>
                <a:gd name="textAreaLeft" fmla="*/ 0 w 1541160"/>
                <a:gd name="textAreaRight" fmla="*/ 1541520 w 1541160"/>
                <a:gd name="textAreaTop" fmla="*/ 0 h 678960"/>
                <a:gd name="textAreaBottom" fmla="*/ 679320 h 6789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24" name="Text Box 4"/>
          <p:cNvSpPr/>
          <p:nvPr/>
        </p:nvSpPr>
        <p:spPr>
          <a:xfrm>
            <a:off x="3772080" y="1979640"/>
            <a:ext cx="147312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5" name="모서리가 둥근 직사각형 87"/>
          <p:cNvSpPr/>
          <p:nvPr/>
        </p:nvSpPr>
        <p:spPr>
          <a:xfrm flipV="1" rot="10800000">
            <a:off x="723600" y="3491280"/>
            <a:ext cx="1685880" cy="1721160"/>
          </a:xfrm>
          <a:custGeom>
            <a:avLst/>
            <a:gdLst>
              <a:gd name="textAreaLeft" fmla="*/ 246600 w 1685880"/>
              <a:gd name="textAreaRight" fmla="*/ 1439280 w 1685880"/>
              <a:gd name="textAreaTop" fmla="*/ 246600 h 1721160"/>
              <a:gd name="textAreaBottom" fmla="*/ 1474560 h 1721160"/>
            </a:gdLst>
            <a:ahLst/>
            <a:rect l="textAreaLeft" t="textAreaTop" r="textAreaRight" b="textAreaBottom"/>
            <a:pathLst>
              <a:path w="21600" h="22052">
                <a:moveTo>
                  <a:pt x="10800" y="0"/>
                </a:moveTo>
                <a:arcTo wR="10800" hR="10800" stAng="16200000" swAng="-5400000"/>
                <a:lnTo>
                  <a:pt x="0" y="11252"/>
                </a:lnTo>
                <a:arcTo wR="10800" hR="10800" stAng="10800000" swAng="-5400000"/>
                <a:lnTo>
                  <a:pt x="10800" y="2205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838080" y="3887640"/>
            <a:ext cx="14493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7" name="모서리가 둥근 직사각형 90"/>
          <p:cNvSpPr/>
          <p:nvPr/>
        </p:nvSpPr>
        <p:spPr>
          <a:xfrm flipV="1" rot="10800000">
            <a:off x="6534000" y="3491280"/>
            <a:ext cx="1686240" cy="1721160"/>
          </a:xfrm>
          <a:custGeom>
            <a:avLst/>
            <a:gdLst>
              <a:gd name="textAreaLeft" fmla="*/ 246960 w 1686240"/>
              <a:gd name="textAreaRight" fmla="*/ 1439280 w 1686240"/>
              <a:gd name="textAreaTop" fmla="*/ 246960 h 1721160"/>
              <a:gd name="textAreaBottom" fmla="*/ 1474200 h 1721160"/>
            </a:gdLst>
            <a:ahLst/>
            <a:rect l="textAreaLeft" t="textAreaTop" r="textAreaRight" b="textAreaBottom"/>
            <a:pathLst>
              <a:path w="21600" h="22047">
                <a:moveTo>
                  <a:pt x="10800" y="0"/>
                </a:moveTo>
                <a:arcTo wR="10800" hR="10800" stAng="16200000" swAng="-5400000"/>
                <a:lnTo>
                  <a:pt x="0" y="11247"/>
                </a:lnTo>
                <a:arcTo wR="10800" hR="10800" stAng="10800000" swAng="-5400000"/>
                <a:lnTo>
                  <a:pt x="10800" y="2204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6648480" y="3887640"/>
            <a:ext cx="14493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29" name="Group 20"/>
          <p:cNvGrpSpPr/>
          <p:nvPr/>
        </p:nvGrpSpPr>
        <p:grpSpPr>
          <a:xfrm>
            <a:off x="5986440" y="2682720"/>
            <a:ext cx="1674720" cy="673200"/>
            <a:chOff x="5986440" y="2682720"/>
            <a:chExt cx="1674720" cy="673200"/>
          </a:xfrm>
        </p:grpSpPr>
        <p:sp>
          <p:nvSpPr>
            <p:cNvPr id="530" name="모서리가 둥근 직사각형 96"/>
            <p:cNvSpPr/>
            <p:nvPr/>
          </p:nvSpPr>
          <p:spPr>
            <a:xfrm>
              <a:off x="5986440" y="2682720"/>
              <a:ext cx="1674720" cy="673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1" name="모서리가 둥근 직사각형 97"/>
            <p:cNvSpPr/>
            <p:nvPr/>
          </p:nvSpPr>
          <p:spPr>
            <a:xfrm>
              <a:off x="6032160" y="2733840"/>
              <a:ext cx="1613160" cy="572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32" name="Text Box 4"/>
          <p:cNvSpPr/>
          <p:nvPr/>
        </p:nvSpPr>
        <p:spPr>
          <a:xfrm>
            <a:off x="6194520" y="2763720"/>
            <a:ext cx="12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3" name="TextBox 70"/>
          <p:cNvSpPr/>
          <p:nvPr/>
        </p:nvSpPr>
        <p:spPr>
          <a:xfrm>
            <a:off x="3508200" y="3633840"/>
            <a:ext cx="208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4" name="TextBox 79"/>
          <p:cNvSpPr/>
          <p:nvPr/>
        </p:nvSpPr>
        <p:spPr>
          <a:xfrm>
            <a:off x="1504800" y="5384880"/>
            <a:ext cx="14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5" name="TextBox 80"/>
          <p:cNvSpPr/>
          <p:nvPr/>
        </p:nvSpPr>
        <p:spPr>
          <a:xfrm>
            <a:off x="6302520" y="5384880"/>
            <a:ext cx="143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8" name="모서리가 둥근 직사각형 2"/>
          <p:cNvSpPr/>
          <p:nvPr/>
        </p:nvSpPr>
        <p:spPr>
          <a:xfrm flipH="1">
            <a:off x="285840" y="2260440"/>
            <a:ext cx="2660400" cy="1801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모서리가 둥근 직사각형 4"/>
          <p:cNvSpPr/>
          <p:nvPr/>
        </p:nvSpPr>
        <p:spPr>
          <a:xfrm>
            <a:off x="455760" y="2414520"/>
            <a:ext cx="231120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719280" y="2421000"/>
            <a:ext cx="1776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1" name="Text Box 4"/>
          <p:cNvSpPr/>
          <p:nvPr/>
        </p:nvSpPr>
        <p:spPr>
          <a:xfrm flipH="1">
            <a:off x="519840" y="3079800"/>
            <a:ext cx="2057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2" name="오른쪽 화살표 7"/>
          <p:cNvSpPr/>
          <p:nvPr/>
        </p:nvSpPr>
        <p:spPr>
          <a:xfrm rot="5400000">
            <a:off x="1222920" y="3715560"/>
            <a:ext cx="617760" cy="114624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3" name="모서리가 둥근 직사각형 8"/>
          <p:cNvSpPr/>
          <p:nvPr/>
        </p:nvSpPr>
        <p:spPr>
          <a:xfrm flipH="1">
            <a:off x="285840" y="4686480"/>
            <a:ext cx="2660400" cy="1801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4" name="모서리가 둥근 직사각형 10"/>
          <p:cNvSpPr/>
          <p:nvPr/>
        </p:nvSpPr>
        <p:spPr>
          <a:xfrm>
            <a:off x="455760" y="4842000"/>
            <a:ext cx="2311200" cy="57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719280" y="4846680"/>
            <a:ext cx="1776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6" name="Text Box 4"/>
          <p:cNvSpPr/>
          <p:nvPr/>
        </p:nvSpPr>
        <p:spPr>
          <a:xfrm flipH="1">
            <a:off x="519840" y="5505480"/>
            <a:ext cx="20574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모서리가 둥근 직사각형 13"/>
          <p:cNvSpPr/>
          <p:nvPr/>
        </p:nvSpPr>
        <p:spPr>
          <a:xfrm flipH="1">
            <a:off x="3214800" y="2260440"/>
            <a:ext cx="2658960" cy="1801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모서리가 둥근 직사각형 15"/>
          <p:cNvSpPr/>
          <p:nvPr/>
        </p:nvSpPr>
        <p:spPr>
          <a:xfrm>
            <a:off x="3384720" y="2414520"/>
            <a:ext cx="231120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3648240" y="2421000"/>
            <a:ext cx="1776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Text Box 4"/>
          <p:cNvSpPr/>
          <p:nvPr/>
        </p:nvSpPr>
        <p:spPr>
          <a:xfrm flipH="1">
            <a:off x="3448800" y="3079800"/>
            <a:ext cx="2057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오른쪽 화살표 18"/>
          <p:cNvSpPr/>
          <p:nvPr/>
        </p:nvSpPr>
        <p:spPr>
          <a:xfrm rot="5400000">
            <a:off x="4151880" y="3715560"/>
            <a:ext cx="617760" cy="114624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모서리가 둥근 직사각형 19"/>
          <p:cNvSpPr/>
          <p:nvPr/>
        </p:nvSpPr>
        <p:spPr>
          <a:xfrm flipH="1">
            <a:off x="3214800" y="4686480"/>
            <a:ext cx="2658960" cy="1801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모서리가 둥근 직사각형 20"/>
          <p:cNvSpPr/>
          <p:nvPr/>
        </p:nvSpPr>
        <p:spPr>
          <a:xfrm>
            <a:off x="3384720" y="4842000"/>
            <a:ext cx="2311200" cy="57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648240" y="4846680"/>
            <a:ext cx="1776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5" name="Text Box 4"/>
          <p:cNvSpPr/>
          <p:nvPr/>
        </p:nvSpPr>
        <p:spPr>
          <a:xfrm flipH="1">
            <a:off x="3448800" y="5505480"/>
            <a:ext cx="20574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6" name="모서리가 둥근 직사각형 23"/>
          <p:cNvSpPr/>
          <p:nvPr/>
        </p:nvSpPr>
        <p:spPr>
          <a:xfrm flipH="1">
            <a:off x="6199200" y="2260440"/>
            <a:ext cx="2658960" cy="1801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모서리가 둥근 직사각형 25"/>
          <p:cNvSpPr/>
          <p:nvPr/>
        </p:nvSpPr>
        <p:spPr>
          <a:xfrm>
            <a:off x="6369120" y="2414520"/>
            <a:ext cx="231120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632640" y="2421000"/>
            <a:ext cx="1776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9" name="Text Box 4"/>
          <p:cNvSpPr/>
          <p:nvPr/>
        </p:nvSpPr>
        <p:spPr>
          <a:xfrm flipH="1">
            <a:off x="6433560" y="3079800"/>
            <a:ext cx="2057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0" name="오른쪽 화살표 28"/>
          <p:cNvSpPr/>
          <p:nvPr/>
        </p:nvSpPr>
        <p:spPr>
          <a:xfrm rot="5400000">
            <a:off x="7136640" y="3715560"/>
            <a:ext cx="617760" cy="114624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모서리가 둥근 직사각형 29"/>
          <p:cNvSpPr/>
          <p:nvPr/>
        </p:nvSpPr>
        <p:spPr>
          <a:xfrm flipH="1">
            <a:off x="6199200" y="4686480"/>
            <a:ext cx="2658960" cy="1801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모서리가 둥근 직사각형 30"/>
          <p:cNvSpPr/>
          <p:nvPr/>
        </p:nvSpPr>
        <p:spPr>
          <a:xfrm>
            <a:off x="6369120" y="4842000"/>
            <a:ext cx="2311200" cy="57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6632640" y="4846680"/>
            <a:ext cx="1776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4" name="Text Box 4"/>
          <p:cNvSpPr/>
          <p:nvPr/>
        </p:nvSpPr>
        <p:spPr>
          <a:xfrm flipH="1">
            <a:off x="6433560" y="5505480"/>
            <a:ext cx="20574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目 录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81" name="그림 40" descr="지구_골드.png"/>
          <p:cNvPicPr/>
          <p:nvPr/>
        </p:nvPicPr>
        <p:blipFill>
          <a:blip r:embed="rId2"/>
          <a:srcRect l="4934" t="0" r="6312" b="3179"/>
          <a:stretch/>
        </p:blipFill>
        <p:spPr>
          <a:xfrm>
            <a:off x="617400" y="3659040"/>
            <a:ext cx="2597400" cy="2830680"/>
          </a:xfrm>
          <a:prstGeom prst="rect">
            <a:avLst/>
          </a:prstGeom>
          <a:ln w="0">
            <a:noFill/>
          </a:ln>
        </p:spPr>
      </p:pic>
      <p:sp>
        <p:nvSpPr>
          <p:cNvPr id="82" name="모서리가 둥근 직사각형 48"/>
          <p:cNvSpPr/>
          <p:nvPr/>
        </p:nvSpPr>
        <p:spPr>
          <a:xfrm flipH="1">
            <a:off x="4822920" y="2143080"/>
            <a:ext cx="3571920" cy="604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262626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Text Box 4"/>
          <p:cNvSpPr/>
          <p:nvPr/>
        </p:nvSpPr>
        <p:spPr>
          <a:xfrm flipH="1">
            <a:off x="4978440" y="2212920"/>
            <a:ext cx="30938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모서리가 둥근 직사각형 53"/>
          <p:cNvSpPr/>
          <p:nvPr/>
        </p:nvSpPr>
        <p:spPr>
          <a:xfrm flipH="1">
            <a:off x="4822920" y="3054240"/>
            <a:ext cx="3571920" cy="604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262626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Text Box 4"/>
          <p:cNvSpPr/>
          <p:nvPr/>
        </p:nvSpPr>
        <p:spPr>
          <a:xfrm flipH="1">
            <a:off x="4978440" y="3124080"/>
            <a:ext cx="30938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모서리가 둥근 직사각형 58"/>
          <p:cNvSpPr/>
          <p:nvPr/>
        </p:nvSpPr>
        <p:spPr>
          <a:xfrm flipH="1">
            <a:off x="4822920" y="3979800"/>
            <a:ext cx="3571920" cy="604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262626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Text Box 4"/>
          <p:cNvSpPr/>
          <p:nvPr/>
        </p:nvSpPr>
        <p:spPr>
          <a:xfrm flipH="1">
            <a:off x="4978440" y="4049640"/>
            <a:ext cx="30938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모서리가 둥근 직사각형 63"/>
          <p:cNvSpPr/>
          <p:nvPr/>
        </p:nvSpPr>
        <p:spPr>
          <a:xfrm flipH="1">
            <a:off x="4822920" y="4889520"/>
            <a:ext cx="3571920" cy="60624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262626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Text Box 4"/>
          <p:cNvSpPr/>
          <p:nvPr/>
        </p:nvSpPr>
        <p:spPr>
          <a:xfrm flipH="1">
            <a:off x="4978440" y="4960800"/>
            <a:ext cx="30938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모서리가 둥근 직사각형 68"/>
          <p:cNvSpPr/>
          <p:nvPr/>
        </p:nvSpPr>
        <p:spPr>
          <a:xfrm flipH="1">
            <a:off x="4822920" y="5688000"/>
            <a:ext cx="3571920" cy="604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262626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Text Box 4"/>
          <p:cNvSpPr/>
          <p:nvPr/>
        </p:nvSpPr>
        <p:spPr>
          <a:xfrm flipH="1">
            <a:off x="4978440" y="5759280"/>
            <a:ext cx="30938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모서리가 둥근 직사각형 50"/>
          <p:cNvSpPr/>
          <p:nvPr/>
        </p:nvSpPr>
        <p:spPr>
          <a:xfrm>
            <a:off x="3929040" y="2154240"/>
            <a:ext cx="9111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032360" y="2160720"/>
            <a:ext cx="6998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Ⅰ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모서리가 둥근 직사각형 55"/>
          <p:cNvSpPr/>
          <p:nvPr/>
        </p:nvSpPr>
        <p:spPr>
          <a:xfrm>
            <a:off x="3929040" y="3065400"/>
            <a:ext cx="9111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032360" y="3071880"/>
            <a:ext cx="6998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Ⅱ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모서리가 둥근 직사각형 60"/>
          <p:cNvSpPr/>
          <p:nvPr/>
        </p:nvSpPr>
        <p:spPr>
          <a:xfrm>
            <a:off x="3929040" y="3990960"/>
            <a:ext cx="9111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032360" y="3997440"/>
            <a:ext cx="6998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Ⅲ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모서리가 둥근 직사각형 65"/>
          <p:cNvSpPr/>
          <p:nvPr/>
        </p:nvSpPr>
        <p:spPr>
          <a:xfrm>
            <a:off x="3929040" y="4902120"/>
            <a:ext cx="9111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032360" y="4906800"/>
            <a:ext cx="6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Ⅵ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모서리가 둥근 직사각형 70"/>
          <p:cNvSpPr/>
          <p:nvPr/>
        </p:nvSpPr>
        <p:spPr>
          <a:xfrm>
            <a:off x="3929040" y="5699160"/>
            <a:ext cx="911160" cy="56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032360" y="5705640"/>
            <a:ext cx="6998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Ⅴ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2" name="그림 79" descr="바람.png"/>
          <p:cNvPicPr/>
          <p:nvPr/>
        </p:nvPicPr>
        <p:blipFill>
          <a:blip r:embed="rId3"/>
          <a:srcRect l="2370" t="15211" r="45976" b="22459"/>
          <a:stretch/>
        </p:blipFill>
        <p:spPr>
          <a:xfrm>
            <a:off x="0" y="4143240"/>
            <a:ext cx="33400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7" name="오른쪽 화살표 2"/>
          <p:cNvSpPr/>
          <p:nvPr/>
        </p:nvSpPr>
        <p:spPr>
          <a:xfrm>
            <a:off x="4656240" y="4578480"/>
            <a:ext cx="539640" cy="60624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오른쪽 화살표 3"/>
          <p:cNvSpPr/>
          <p:nvPr/>
        </p:nvSpPr>
        <p:spPr>
          <a:xfrm>
            <a:off x="6483240" y="4578480"/>
            <a:ext cx="540000" cy="60624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9" name="오른쪽 화살표 4"/>
          <p:cNvSpPr/>
          <p:nvPr/>
        </p:nvSpPr>
        <p:spPr>
          <a:xfrm>
            <a:off x="4656240" y="2816280"/>
            <a:ext cx="539640" cy="60624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0" name="오른쪽 화살표 5"/>
          <p:cNvSpPr/>
          <p:nvPr/>
        </p:nvSpPr>
        <p:spPr>
          <a:xfrm>
            <a:off x="6483240" y="2816280"/>
            <a:ext cx="540000" cy="60624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1" name="모서리가 둥근 직사각형 7"/>
          <p:cNvSpPr/>
          <p:nvPr/>
        </p:nvSpPr>
        <p:spPr>
          <a:xfrm flipV="1" rot="10800000">
            <a:off x="3422160" y="2389320"/>
            <a:ext cx="1405080" cy="1433520"/>
          </a:xfrm>
          <a:custGeom>
            <a:avLst/>
            <a:gdLst>
              <a:gd name="textAreaLeft" fmla="*/ 205560 w 1405080"/>
              <a:gd name="textAreaRight" fmla="*/ 1199520 w 1405080"/>
              <a:gd name="textAreaTop" fmla="*/ 205560 h 1433520"/>
              <a:gd name="textAreaBottom" fmla="*/ 1227960 h 1433520"/>
            </a:gdLst>
            <a:ahLst/>
            <a:rect l="textAreaLeft" t="textAreaTop" r="textAreaRight" b="textAreaBottom"/>
            <a:pathLst>
              <a:path w="21600" h="22037">
                <a:moveTo>
                  <a:pt x="10800" y="0"/>
                </a:moveTo>
                <a:arcTo wR="10800" hR="10800" stAng="16200000" swAng="-5400000"/>
                <a:lnTo>
                  <a:pt x="0" y="11237"/>
                </a:lnTo>
                <a:arcTo wR="10800" hR="10800" stAng="10800000" swAng="-5400000"/>
                <a:lnTo>
                  <a:pt x="10800" y="220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3517920" y="2717640"/>
            <a:ext cx="12081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73" name="Group 10"/>
          <p:cNvGrpSpPr/>
          <p:nvPr/>
        </p:nvGrpSpPr>
        <p:grpSpPr>
          <a:xfrm>
            <a:off x="583920" y="2798280"/>
            <a:ext cx="2305080" cy="2351160"/>
            <a:chOff x="583920" y="2798280"/>
            <a:chExt cx="2305080" cy="2351160"/>
          </a:xfrm>
        </p:grpSpPr>
        <p:sp>
          <p:nvSpPr>
            <p:cNvPr id="574" name="모서리가 둥근 직사각형 12"/>
            <p:cNvSpPr/>
            <p:nvPr/>
          </p:nvSpPr>
          <p:spPr>
            <a:xfrm rot="10800000">
              <a:off x="583920" y="2798280"/>
              <a:ext cx="2305080" cy="2351160"/>
            </a:xfrm>
            <a:custGeom>
              <a:avLst/>
              <a:gdLst>
                <a:gd name="textAreaLeft" fmla="*/ 337320 w 2305080"/>
                <a:gd name="textAreaRight" fmla="*/ 1967760 w 2305080"/>
                <a:gd name="textAreaTop" fmla="*/ 337320 h 2351160"/>
                <a:gd name="textAreaBottom" fmla="*/ 2013840 h 2351160"/>
              </a:gdLst>
              <a:ahLst/>
              <a:rect l="textAreaLeft" t="textAreaTop" r="textAreaRight" b="textAreaBottom"/>
              <a:pathLst>
                <a:path w="21600" h="22032">
                  <a:moveTo>
                    <a:pt x="10800" y="0"/>
                  </a:moveTo>
                  <a:arcTo wR="10800" hR="10800" stAng="16200000" swAng="-5400000"/>
                  <a:lnTo>
                    <a:pt x="0" y="11232"/>
                  </a:lnTo>
                  <a:arcTo wR="10800" hR="10800" stAng="10800000" swAng="-5400000"/>
                  <a:lnTo>
                    <a:pt x="10800" y="2203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5" name="Freeform 81"/>
            <p:cNvSpPr/>
            <p:nvPr/>
          </p:nvSpPr>
          <p:spPr>
            <a:xfrm>
              <a:off x="793080" y="2800800"/>
              <a:ext cx="1839240" cy="810360"/>
            </a:xfrm>
            <a:custGeom>
              <a:avLst/>
              <a:gdLst>
                <a:gd name="textAreaLeft" fmla="*/ 0 w 1839240"/>
                <a:gd name="textAreaRight" fmla="*/ 1839600 w 1839240"/>
                <a:gd name="textAreaTop" fmla="*/ 0 h 810360"/>
                <a:gd name="textAreaBottom" fmla="*/ 810720 h 8103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76" name="Text Box 4"/>
          <p:cNvSpPr/>
          <p:nvPr/>
        </p:nvSpPr>
        <p:spPr>
          <a:xfrm>
            <a:off x="816120" y="3432240"/>
            <a:ext cx="175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7" name="모서리가 둥근 직사각형 15"/>
          <p:cNvSpPr/>
          <p:nvPr/>
        </p:nvSpPr>
        <p:spPr>
          <a:xfrm flipV="1" rot="10800000">
            <a:off x="5235120" y="2389320"/>
            <a:ext cx="1405080" cy="1433520"/>
          </a:xfrm>
          <a:custGeom>
            <a:avLst/>
            <a:gdLst>
              <a:gd name="textAreaLeft" fmla="*/ 205560 w 1405080"/>
              <a:gd name="textAreaRight" fmla="*/ 1199520 w 1405080"/>
              <a:gd name="textAreaTop" fmla="*/ 205560 h 1433520"/>
              <a:gd name="textAreaBottom" fmla="*/ 1227960 h 1433520"/>
            </a:gdLst>
            <a:ahLst/>
            <a:rect l="textAreaLeft" t="textAreaTop" r="textAreaRight" b="textAreaBottom"/>
            <a:pathLst>
              <a:path w="21600" h="22037">
                <a:moveTo>
                  <a:pt x="10800" y="0"/>
                </a:moveTo>
                <a:arcTo wR="10800" hR="10800" stAng="16200000" swAng="-5400000"/>
                <a:lnTo>
                  <a:pt x="0" y="11237"/>
                </a:lnTo>
                <a:arcTo wR="10800" hR="10800" stAng="10800000" swAng="-5400000"/>
                <a:lnTo>
                  <a:pt x="10800" y="220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5330880" y="2717640"/>
            <a:ext cx="12081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9" name="모서리가 둥근 직사각형 18"/>
          <p:cNvSpPr/>
          <p:nvPr/>
        </p:nvSpPr>
        <p:spPr>
          <a:xfrm flipV="1" rot="10800000">
            <a:off x="5235120" y="4151160"/>
            <a:ext cx="1405080" cy="1433520"/>
          </a:xfrm>
          <a:custGeom>
            <a:avLst/>
            <a:gdLst>
              <a:gd name="textAreaLeft" fmla="*/ 205560 w 1405080"/>
              <a:gd name="textAreaRight" fmla="*/ 1199520 w 1405080"/>
              <a:gd name="textAreaTop" fmla="*/ 205560 h 1433520"/>
              <a:gd name="textAreaBottom" fmla="*/ 1227960 h 1433520"/>
            </a:gdLst>
            <a:ahLst/>
            <a:rect l="textAreaLeft" t="textAreaTop" r="textAreaRight" b="textAreaBottom"/>
            <a:pathLst>
              <a:path w="21600" h="22037">
                <a:moveTo>
                  <a:pt x="10800" y="0"/>
                </a:moveTo>
                <a:arcTo wR="10800" hR="10800" stAng="16200000" swAng="-5400000"/>
                <a:lnTo>
                  <a:pt x="0" y="11237"/>
                </a:lnTo>
                <a:arcTo wR="10800" hR="10800" stAng="10800000" swAng="-5400000"/>
                <a:lnTo>
                  <a:pt x="10800" y="220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330880" y="4481640"/>
            <a:ext cx="12081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1" name="모서리가 둥근 직사각형 21"/>
          <p:cNvSpPr/>
          <p:nvPr/>
        </p:nvSpPr>
        <p:spPr>
          <a:xfrm flipV="1" rot="10800000">
            <a:off x="3422160" y="4151160"/>
            <a:ext cx="1405080" cy="1433520"/>
          </a:xfrm>
          <a:custGeom>
            <a:avLst/>
            <a:gdLst>
              <a:gd name="textAreaLeft" fmla="*/ 205560 w 1405080"/>
              <a:gd name="textAreaRight" fmla="*/ 1199520 w 1405080"/>
              <a:gd name="textAreaTop" fmla="*/ 205560 h 1433520"/>
              <a:gd name="textAreaBottom" fmla="*/ 1227960 h 1433520"/>
            </a:gdLst>
            <a:ahLst/>
            <a:rect l="textAreaLeft" t="textAreaTop" r="textAreaRight" b="textAreaBottom"/>
            <a:pathLst>
              <a:path w="21600" h="22037">
                <a:moveTo>
                  <a:pt x="10800" y="0"/>
                </a:moveTo>
                <a:arcTo wR="10800" hR="10800" stAng="16200000" swAng="-5400000"/>
                <a:lnTo>
                  <a:pt x="0" y="11237"/>
                </a:lnTo>
                <a:arcTo wR="10800" hR="10800" stAng="10800000" swAng="-5400000"/>
                <a:lnTo>
                  <a:pt x="10800" y="220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3517920" y="4481640"/>
            <a:ext cx="12081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모서리가 둥근 직사각형 24"/>
          <p:cNvSpPr/>
          <p:nvPr/>
        </p:nvSpPr>
        <p:spPr>
          <a:xfrm flipV="1" rot="10800000">
            <a:off x="7056000" y="2389320"/>
            <a:ext cx="1405080" cy="1433520"/>
          </a:xfrm>
          <a:custGeom>
            <a:avLst/>
            <a:gdLst>
              <a:gd name="textAreaLeft" fmla="*/ 205560 w 1405080"/>
              <a:gd name="textAreaRight" fmla="*/ 1199520 w 1405080"/>
              <a:gd name="textAreaTop" fmla="*/ 205560 h 1433520"/>
              <a:gd name="textAreaBottom" fmla="*/ 1227960 h 1433520"/>
            </a:gdLst>
            <a:ahLst/>
            <a:rect l="textAreaLeft" t="textAreaTop" r="textAreaRight" b="textAreaBottom"/>
            <a:pathLst>
              <a:path w="21600" h="22037">
                <a:moveTo>
                  <a:pt x="10800" y="0"/>
                </a:moveTo>
                <a:arcTo wR="10800" hR="10800" stAng="16200000" swAng="-5400000"/>
                <a:lnTo>
                  <a:pt x="0" y="11237"/>
                </a:lnTo>
                <a:arcTo wR="10800" hR="10800" stAng="10800000" swAng="-5400000"/>
                <a:lnTo>
                  <a:pt x="10800" y="220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7151760" y="2717640"/>
            <a:ext cx="12081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5" name="모서리가 둥근 직사각형 27"/>
          <p:cNvSpPr/>
          <p:nvPr/>
        </p:nvSpPr>
        <p:spPr>
          <a:xfrm flipV="1" rot="10800000">
            <a:off x="7056000" y="4151160"/>
            <a:ext cx="1405080" cy="1433520"/>
          </a:xfrm>
          <a:custGeom>
            <a:avLst/>
            <a:gdLst>
              <a:gd name="textAreaLeft" fmla="*/ 205560 w 1405080"/>
              <a:gd name="textAreaRight" fmla="*/ 1199520 w 1405080"/>
              <a:gd name="textAreaTop" fmla="*/ 205560 h 1433520"/>
              <a:gd name="textAreaBottom" fmla="*/ 1227960 h 1433520"/>
            </a:gdLst>
            <a:ahLst/>
            <a:rect l="textAreaLeft" t="textAreaTop" r="textAreaRight" b="textAreaBottom"/>
            <a:pathLst>
              <a:path w="21600" h="22037">
                <a:moveTo>
                  <a:pt x="10800" y="0"/>
                </a:moveTo>
                <a:arcTo wR="10800" hR="10800" stAng="16200000" swAng="-5400000"/>
                <a:lnTo>
                  <a:pt x="0" y="11237"/>
                </a:lnTo>
                <a:arcTo wR="10800" hR="10800" stAng="10800000" swAng="-5400000"/>
                <a:lnTo>
                  <a:pt x="10800" y="220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7151760" y="4481640"/>
            <a:ext cx="12081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7" name="오른쪽 화살표 29"/>
          <p:cNvSpPr/>
          <p:nvPr/>
        </p:nvSpPr>
        <p:spPr>
          <a:xfrm rot="20205000">
            <a:off x="2785680" y="2972880"/>
            <a:ext cx="538200" cy="60660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8" name="오른쪽 화살표 30"/>
          <p:cNvSpPr/>
          <p:nvPr/>
        </p:nvSpPr>
        <p:spPr>
          <a:xfrm flipV="1" rot="1395000">
            <a:off x="2785680" y="4444560"/>
            <a:ext cx="538200" cy="60660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9" name="Text Box 26"/>
          <p:cNvSpPr/>
          <p:nvPr/>
        </p:nvSpPr>
        <p:spPr>
          <a:xfrm>
            <a:off x="2587680" y="6267600"/>
            <a:ext cx="5184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Gulim"/>
                <a:ea typeface="Gulim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2" name="모서리가 둥근 직사각형 3"/>
          <p:cNvSpPr/>
          <p:nvPr/>
        </p:nvSpPr>
        <p:spPr>
          <a:xfrm>
            <a:off x="642960" y="2535120"/>
            <a:ext cx="469800" cy="1251000"/>
          </a:xfrm>
          <a:custGeom>
            <a:avLst/>
            <a:gdLst>
              <a:gd name="textAreaLeft" fmla="*/ 22680 w 469800"/>
              <a:gd name="textAreaRight" fmla="*/ 447120 w 469800"/>
              <a:gd name="textAreaTop" fmla="*/ 22680 h 1251000"/>
              <a:gd name="textAreaBottom" fmla="*/ 1228320 h 1251000"/>
            </a:gdLst>
            <a:ahLst/>
            <a:rect l="textAreaLeft" t="textAreaTop" r="textAreaRight" b="textAreaBottom"/>
            <a:pathLst>
              <a:path w="21600" h="57490">
                <a:moveTo>
                  <a:pt x="3600" y="0"/>
                </a:moveTo>
                <a:arcTo wR="3600" hR="3600" stAng="16200000" swAng="-5400000"/>
                <a:lnTo>
                  <a:pt x="0" y="53890"/>
                </a:lnTo>
                <a:arcTo wR="3600" hR="3600" stAng="10800000" swAng="-5400000"/>
                <a:lnTo>
                  <a:pt x="18000" y="574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696960" y="2549520"/>
            <a:ext cx="36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4" name="모서리가 둥근 직사각형 6"/>
          <p:cNvSpPr/>
          <p:nvPr/>
        </p:nvSpPr>
        <p:spPr>
          <a:xfrm>
            <a:off x="642960" y="3863880"/>
            <a:ext cx="469800" cy="1249560"/>
          </a:xfrm>
          <a:custGeom>
            <a:avLst/>
            <a:gdLst>
              <a:gd name="textAreaLeft" fmla="*/ 22680 w 469800"/>
              <a:gd name="textAreaRight" fmla="*/ 447120 w 469800"/>
              <a:gd name="textAreaTop" fmla="*/ 22680 h 1249560"/>
              <a:gd name="textAreaBottom" fmla="*/ 1226880 h 1249560"/>
            </a:gdLst>
            <a:ahLst/>
            <a:rect l="textAreaLeft" t="textAreaTop" r="textAreaRight" b="textAreaBottom"/>
            <a:pathLst>
              <a:path w="21600" h="57424">
                <a:moveTo>
                  <a:pt x="3600" y="0"/>
                </a:moveTo>
                <a:arcTo wR="3600" hR="3600" stAng="16200000" swAng="-5400000"/>
                <a:lnTo>
                  <a:pt x="0" y="53824"/>
                </a:lnTo>
                <a:arcTo wR="3600" hR="3600" stAng="10800000" swAng="-5400000"/>
                <a:lnTo>
                  <a:pt x="18000" y="57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696960" y="3876840"/>
            <a:ext cx="36036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6" name="모서리가 둥근 직사각형 9"/>
          <p:cNvSpPr/>
          <p:nvPr/>
        </p:nvSpPr>
        <p:spPr>
          <a:xfrm>
            <a:off x="642960" y="5183280"/>
            <a:ext cx="469800" cy="1249200"/>
          </a:xfrm>
          <a:custGeom>
            <a:avLst/>
            <a:gdLst>
              <a:gd name="textAreaLeft" fmla="*/ 22680 w 469800"/>
              <a:gd name="textAreaRight" fmla="*/ 447120 w 469800"/>
              <a:gd name="textAreaTop" fmla="*/ 22680 h 1249200"/>
              <a:gd name="textAreaBottom" fmla="*/ 1226520 h 1249200"/>
            </a:gdLst>
            <a:ahLst/>
            <a:rect l="textAreaLeft" t="textAreaTop" r="textAreaRight" b="textAreaBottom"/>
            <a:pathLst>
              <a:path w="21600" h="57407">
                <a:moveTo>
                  <a:pt x="3600" y="0"/>
                </a:moveTo>
                <a:arcTo wR="3600" hR="3600" stAng="16200000" swAng="-5400000"/>
                <a:lnTo>
                  <a:pt x="0" y="53807"/>
                </a:lnTo>
                <a:arcTo wR="3600" hR="3600" stAng="10800000" swAng="-5400000"/>
                <a:lnTo>
                  <a:pt x="18000" y="57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696960" y="5195880"/>
            <a:ext cx="3603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8" name="모서리가 둥근 직사각형 12"/>
          <p:cNvSpPr/>
          <p:nvPr/>
        </p:nvSpPr>
        <p:spPr>
          <a:xfrm flipH="1">
            <a:off x="1146960" y="2535120"/>
            <a:ext cx="2019240" cy="1306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9" name="모서리가 둥근 직사각형 13"/>
          <p:cNvSpPr/>
          <p:nvPr/>
        </p:nvSpPr>
        <p:spPr>
          <a:xfrm flipH="1">
            <a:off x="1146960" y="3841920"/>
            <a:ext cx="2019240" cy="130788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0" name="모서리가 둥근 직사각형 14"/>
          <p:cNvSpPr/>
          <p:nvPr/>
        </p:nvSpPr>
        <p:spPr>
          <a:xfrm flipH="1">
            <a:off x="1146960" y="5181480"/>
            <a:ext cx="2019240" cy="1306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1" name="모서리가 둥근 직사각형 19"/>
          <p:cNvSpPr/>
          <p:nvPr/>
        </p:nvSpPr>
        <p:spPr>
          <a:xfrm>
            <a:off x="1162080" y="2017800"/>
            <a:ext cx="1981080" cy="48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387440" y="2022480"/>
            <a:ext cx="1523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3" name="Text Box 4"/>
          <p:cNvSpPr/>
          <p:nvPr/>
        </p:nvSpPr>
        <p:spPr>
          <a:xfrm flipH="1">
            <a:off x="1217520" y="2798640"/>
            <a:ext cx="17654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4" name="Text Box 4"/>
          <p:cNvSpPr/>
          <p:nvPr/>
        </p:nvSpPr>
        <p:spPr>
          <a:xfrm flipH="1">
            <a:off x="1217520" y="4119480"/>
            <a:ext cx="17654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5" name="Text Box 4"/>
          <p:cNvSpPr/>
          <p:nvPr/>
        </p:nvSpPr>
        <p:spPr>
          <a:xfrm flipH="1">
            <a:off x="1217520" y="5443560"/>
            <a:ext cx="17654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6" name="모서리가 둥근 직사각형 22"/>
          <p:cNvSpPr/>
          <p:nvPr/>
        </p:nvSpPr>
        <p:spPr>
          <a:xfrm flipH="1">
            <a:off x="3200400" y="2535120"/>
            <a:ext cx="2509920" cy="1306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7" name="모서리가 둥근 직사각형 23"/>
          <p:cNvSpPr/>
          <p:nvPr/>
        </p:nvSpPr>
        <p:spPr>
          <a:xfrm flipH="1">
            <a:off x="3200400" y="3841920"/>
            <a:ext cx="2509920" cy="130788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8" name="모서리가 둥근 직사각형 24"/>
          <p:cNvSpPr/>
          <p:nvPr/>
        </p:nvSpPr>
        <p:spPr>
          <a:xfrm flipH="1">
            <a:off x="3200400" y="5181480"/>
            <a:ext cx="2509920" cy="1306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9" name="모서리가 둥근 직사각형 29"/>
          <p:cNvSpPr/>
          <p:nvPr/>
        </p:nvSpPr>
        <p:spPr>
          <a:xfrm>
            <a:off x="3203640" y="2017800"/>
            <a:ext cx="2462040" cy="48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3484440" y="2022480"/>
            <a:ext cx="18925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1" name="Text Box 4"/>
          <p:cNvSpPr/>
          <p:nvPr/>
        </p:nvSpPr>
        <p:spPr>
          <a:xfrm flipH="1">
            <a:off x="3368520" y="2798640"/>
            <a:ext cx="21924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2" name="Text Box 4"/>
          <p:cNvSpPr/>
          <p:nvPr/>
        </p:nvSpPr>
        <p:spPr>
          <a:xfrm flipH="1">
            <a:off x="3368520" y="4119480"/>
            <a:ext cx="21924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3" name="Text Box 4"/>
          <p:cNvSpPr/>
          <p:nvPr/>
        </p:nvSpPr>
        <p:spPr>
          <a:xfrm flipH="1">
            <a:off x="3368520" y="5443560"/>
            <a:ext cx="21924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4" name="모서리가 둥근 직사각형 32"/>
          <p:cNvSpPr/>
          <p:nvPr/>
        </p:nvSpPr>
        <p:spPr>
          <a:xfrm flipH="1">
            <a:off x="5740560" y="2535120"/>
            <a:ext cx="2751120" cy="1306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5" name="모서리가 둥근 직사각형 33"/>
          <p:cNvSpPr/>
          <p:nvPr/>
        </p:nvSpPr>
        <p:spPr>
          <a:xfrm flipH="1">
            <a:off x="5740560" y="3841920"/>
            <a:ext cx="2751120" cy="130788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6" name="모서리가 둥근 직사각형 34"/>
          <p:cNvSpPr/>
          <p:nvPr/>
        </p:nvSpPr>
        <p:spPr>
          <a:xfrm flipH="1">
            <a:off x="5740560" y="5181480"/>
            <a:ext cx="2751120" cy="1306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7" name="모서리가 둥근 직사각형 39"/>
          <p:cNvSpPr/>
          <p:nvPr/>
        </p:nvSpPr>
        <p:spPr>
          <a:xfrm>
            <a:off x="5730840" y="2017800"/>
            <a:ext cx="2698920" cy="48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6039000" y="2022480"/>
            <a:ext cx="2073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9" name="Text Box 4"/>
          <p:cNvSpPr/>
          <p:nvPr/>
        </p:nvSpPr>
        <p:spPr>
          <a:xfrm flipH="1">
            <a:off x="5909400" y="2798640"/>
            <a:ext cx="2403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0" name="Text Box 4"/>
          <p:cNvSpPr/>
          <p:nvPr/>
        </p:nvSpPr>
        <p:spPr>
          <a:xfrm flipH="1">
            <a:off x="5909400" y="4119480"/>
            <a:ext cx="2403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1" name="Text Box 4"/>
          <p:cNvSpPr/>
          <p:nvPr/>
        </p:nvSpPr>
        <p:spPr>
          <a:xfrm flipH="1">
            <a:off x="5909400" y="5443560"/>
            <a:ext cx="2403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24" name="사다리꼴 2"/>
          <p:cNvSpPr/>
          <p:nvPr/>
        </p:nvSpPr>
        <p:spPr>
          <a:xfrm flipV="1">
            <a:off x="638280" y="5509080"/>
            <a:ext cx="8156520" cy="652680"/>
          </a:xfrm>
          <a:custGeom>
            <a:avLst/>
            <a:gdLst>
              <a:gd name="textAreaLeft" fmla="*/ 887400 w 8156520"/>
              <a:gd name="textAreaRight" fmla="*/ 7269120 w 8156520"/>
              <a:gd name="textAreaTop" fmla="*/ 70920 h 652680"/>
              <a:gd name="textAreaBottom" fmla="*/ 581760 h 6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0" y="21600"/>
                </a:lnTo>
                <a:lnTo>
                  <a:pt x="205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1139760" y="2340000"/>
            <a:ext cx="7221600" cy="3411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26" name="Group 6"/>
          <p:cNvGrpSpPr/>
          <p:nvPr/>
        </p:nvGrpSpPr>
        <p:grpSpPr>
          <a:xfrm>
            <a:off x="996840" y="2536920"/>
            <a:ext cx="7364520" cy="3000240"/>
            <a:chOff x="996840" y="2536920"/>
            <a:chExt cx="7364520" cy="3000240"/>
          </a:xfrm>
        </p:grpSpPr>
        <p:sp>
          <p:nvSpPr>
            <p:cNvPr id="627" name="직선 연결선 4"/>
            <p:cNvSpPr/>
            <p:nvPr/>
          </p:nvSpPr>
          <p:spPr>
            <a:xfrm>
              <a:off x="996840" y="4970520"/>
              <a:ext cx="736452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8" name="직선 연결선 25"/>
            <p:cNvSpPr/>
            <p:nvPr/>
          </p:nvSpPr>
          <p:spPr>
            <a:xfrm>
              <a:off x="996840" y="4357800"/>
              <a:ext cx="736452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9" name="직선 연결선 26"/>
            <p:cNvSpPr/>
            <p:nvPr/>
          </p:nvSpPr>
          <p:spPr>
            <a:xfrm>
              <a:off x="996840" y="3809880"/>
              <a:ext cx="736452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0" name="직선 연결선 27"/>
            <p:cNvSpPr/>
            <p:nvPr/>
          </p:nvSpPr>
          <p:spPr>
            <a:xfrm>
              <a:off x="996840" y="3197160"/>
              <a:ext cx="736452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1" name="직선 연결선 28"/>
            <p:cNvSpPr/>
            <p:nvPr/>
          </p:nvSpPr>
          <p:spPr>
            <a:xfrm>
              <a:off x="996840" y="2536920"/>
              <a:ext cx="736452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2" name="직선 연결선 29"/>
            <p:cNvSpPr/>
            <p:nvPr/>
          </p:nvSpPr>
          <p:spPr>
            <a:xfrm>
              <a:off x="996840" y="5535720"/>
              <a:ext cx="736452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33" name="Text Box 4"/>
          <p:cNvSpPr/>
          <p:nvPr/>
        </p:nvSpPr>
        <p:spPr>
          <a:xfrm>
            <a:off x="355680" y="2351160"/>
            <a:ext cx="652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355680" y="2970360"/>
            <a:ext cx="652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355680" y="3597120"/>
            <a:ext cx="652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355680" y="4145040"/>
            <a:ext cx="652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355680" y="4732200"/>
            <a:ext cx="652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355680" y="5281560"/>
            <a:ext cx="652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9" name="타원 6"/>
          <p:cNvSpPr/>
          <p:nvPr/>
        </p:nvSpPr>
        <p:spPr>
          <a:xfrm>
            <a:off x="3324240" y="3803760"/>
            <a:ext cx="487440" cy="5540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0" name="타원 7"/>
          <p:cNvSpPr/>
          <p:nvPr/>
        </p:nvSpPr>
        <p:spPr>
          <a:xfrm>
            <a:off x="1884240" y="3247920"/>
            <a:ext cx="487440" cy="555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1" name="타원 8"/>
          <p:cNvSpPr/>
          <p:nvPr/>
        </p:nvSpPr>
        <p:spPr>
          <a:xfrm>
            <a:off x="4748040" y="3232080"/>
            <a:ext cx="487440" cy="5540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2" name="타원 9"/>
          <p:cNvSpPr/>
          <p:nvPr/>
        </p:nvSpPr>
        <p:spPr>
          <a:xfrm>
            <a:off x="7099200" y="2654280"/>
            <a:ext cx="487440" cy="5554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3" name="타원 10"/>
          <p:cNvSpPr/>
          <p:nvPr/>
        </p:nvSpPr>
        <p:spPr>
          <a:xfrm>
            <a:off x="6232680" y="4349880"/>
            <a:ext cx="487080" cy="5540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4" name="타원 11"/>
          <p:cNvSpPr/>
          <p:nvPr/>
        </p:nvSpPr>
        <p:spPr>
          <a:xfrm>
            <a:off x="1293840" y="4340160"/>
            <a:ext cx="487440" cy="555840"/>
          </a:xfrm>
          <a:prstGeom prst="ellipse">
            <a:avLst/>
          </a:prstGeom>
          <a:gradFill rotWithShape="0">
            <a:gsLst>
              <a:gs pos="0">
                <a:srgbClr val="f79646"/>
              </a:gs>
              <a:gs pos="100000">
                <a:srgbClr val="e36c0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5" name="타원 12"/>
          <p:cNvSpPr/>
          <p:nvPr/>
        </p:nvSpPr>
        <p:spPr>
          <a:xfrm>
            <a:off x="4159080" y="5159520"/>
            <a:ext cx="489240" cy="555480"/>
          </a:xfrm>
          <a:prstGeom prst="ellipse">
            <a:avLst/>
          </a:prstGeom>
          <a:gradFill rotWithShape="0">
            <a:gsLst>
              <a:gs pos="0">
                <a:srgbClr val="f79646"/>
              </a:gs>
              <a:gs pos="100000">
                <a:srgbClr val="e36c0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6" name="타원 13"/>
          <p:cNvSpPr/>
          <p:nvPr/>
        </p:nvSpPr>
        <p:spPr>
          <a:xfrm>
            <a:off x="5635800" y="4916520"/>
            <a:ext cx="488880" cy="555480"/>
          </a:xfrm>
          <a:prstGeom prst="ellipse">
            <a:avLst/>
          </a:prstGeom>
          <a:gradFill rotWithShape="0">
            <a:gsLst>
              <a:gs pos="0">
                <a:srgbClr val="f79646"/>
              </a:gs>
              <a:gs pos="100000">
                <a:srgbClr val="e36c0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7" name="타원 14"/>
          <p:cNvSpPr/>
          <p:nvPr/>
        </p:nvSpPr>
        <p:spPr>
          <a:xfrm>
            <a:off x="7658280" y="4680000"/>
            <a:ext cx="487080" cy="555480"/>
          </a:xfrm>
          <a:prstGeom prst="ellipse">
            <a:avLst/>
          </a:prstGeom>
          <a:gradFill rotWithShape="0">
            <a:gsLst>
              <a:gs pos="0">
                <a:srgbClr val="f79646"/>
              </a:gs>
              <a:gs pos="100000">
                <a:srgbClr val="e36c0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8" name="타원 15"/>
          <p:cNvSpPr/>
          <p:nvPr/>
        </p:nvSpPr>
        <p:spPr>
          <a:xfrm>
            <a:off x="2733840" y="5276880"/>
            <a:ext cx="487080" cy="555480"/>
          </a:xfrm>
          <a:prstGeom prst="ellipse">
            <a:avLst/>
          </a:prstGeom>
          <a:gradFill rotWithShape="0">
            <a:gsLst>
              <a:gs pos="0">
                <a:srgbClr val="f79646"/>
              </a:gs>
              <a:gs pos="100000">
                <a:srgbClr val="e36c0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1155600" y="6197760"/>
            <a:ext cx="1040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0" name="타원 47"/>
          <p:cNvSpPr/>
          <p:nvPr/>
        </p:nvSpPr>
        <p:spPr>
          <a:xfrm>
            <a:off x="5311800" y="1357200"/>
            <a:ext cx="441360" cy="441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1" name="타원 48"/>
          <p:cNvSpPr/>
          <p:nvPr/>
        </p:nvSpPr>
        <p:spPr>
          <a:xfrm>
            <a:off x="5318280" y="1728720"/>
            <a:ext cx="441000" cy="441360"/>
          </a:xfrm>
          <a:prstGeom prst="ellipse">
            <a:avLst/>
          </a:prstGeom>
          <a:gradFill rotWithShape="0">
            <a:gsLst>
              <a:gs pos="0">
                <a:srgbClr val="f79646"/>
              </a:gs>
              <a:gs pos="100000">
                <a:srgbClr val="e36c0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5815080" y="1500120"/>
            <a:ext cx="1257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5815080" y="1849320"/>
            <a:ext cx="1257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2658960" y="6197760"/>
            <a:ext cx="1038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4156200" y="6197760"/>
            <a:ext cx="1038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5670720" y="6197760"/>
            <a:ext cx="10378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7165800" y="6197760"/>
            <a:ext cx="1038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60" name="Line 35"/>
          <p:cNvSpPr/>
          <p:nvPr/>
        </p:nvSpPr>
        <p:spPr>
          <a:xfrm flipV="1">
            <a:off x="5456160" y="3989520"/>
            <a:ext cx="1059120" cy="4744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1" name="Line 39"/>
          <p:cNvSpPr/>
          <p:nvPr/>
        </p:nvSpPr>
        <p:spPr>
          <a:xfrm>
            <a:off x="5456160" y="4680000"/>
            <a:ext cx="1147680" cy="14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2" name="Line 40"/>
          <p:cNvSpPr/>
          <p:nvPr/>
        </p:nvSpPr>
        <p:spPr>
          <a:xfrm>
            <a:off x="5456160" y="4897440"/>
            <a:ext cx="1067040" cy="5032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3" name="Line 34"/>
          <p:cNvSpPr/>
          <p:nvPr/>
        </p:nvSpPr>
        <p:spPr>
          <a:xfrm flipV="1">
            <a:off x="2717640" y="4824360"/>
            <a:ext cx="938520" cy="5047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4" name="Line 38"/>
          <p:cNvSpPr/>
          <p:nvPr/>
        </p:nvSpPr>
        <p:spPr>
          <a:xfrm flipV="1">
            <a:off x="2717640" y="4680000"/>
            <a:ext cx="938520" cy="14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5" name="Line 41"/>
          <p:cNvSpPr/>
          <p:nvPr/>
        </p:nvSpPr>
        <p:spPr>
          <a:xfrm>
            <a:off x="2717640" y="4032360"/>
            <a:ext cx="938520" cy="5047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66" name="Group 10"/>
          <p:cNvGrpSpPr/>
          <p:nvPr/>
        </p:nvGrpSpPr>
        <p:grpSpPr>
          <a:xfrm>
            <a:off x="2957400" y="3262320"/>
            <a:ext cx="3313080" cy="3024360"/>
            <a:chOff x="2957400" y="3262320"/>
            <a:chExt cx="3313080" cy="3024360"/>
          </a:xfrm>
        </p:grpSpPr>
        <p:sp>
          <p:nvSpPr>
            <p:cNvPr id="667" name="AutoShape 29"/>
            <p:cNvSpPr/>
            <p:nvPr/>
          </p:nvSpPr>
          <p:spPr>
            <a:xfrm>
              <a:off x="2974680" y="5793120"/>
              <a:ext cx="3292560" cy="493560"/>
            </a:xfrm>
            <a:prstGeom prst="diamond">
              <a:avLst/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8" name="AutoShape 30"/>
            <p:cNvSpPr/>
            <p:nvPr/>
          </p:nvSpPr>
          <p:spPr>
            <a:xfrm>
              <a:off x="2957400" y="3262320"/>
              <a:ext cx="3292560" cy="39204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cxnSp>
          <p:nvCxnSpPr>
            <p:cNvPr id="669" name="AutoShape 31"/>
            <p:cNvCxnSpPr/>
            <p:nvPr/>
          </p:nvCxnSpPr>
          <p:spPr>
            <a:xfrm>
              <a:off x="6266880" y="3486240"/>
              <a:ext cx="3960" cy="25462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670" name="AutoShape 32"/>
            <p:cNvCxnSpPr>
              <a:stCxn id="668" idx="0"/>
              <a:endCxn id="667" idx="0"/>
            </p:cNvCxnSpPr>
            <p:nvPr/>
          </p:nvCxnSpPr>
          <p:spPr>
            <a:xfrm>
              <a:off x="4603680" y="3262320"/>
              <a:ext cx="17280" cy="2531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671" name="AutoShape 43"/>
            <p:cNvCxnSpPr/>
            <p:nvPr/>
          </p:nvCxnSpPr>
          <p:spPr>
            <a:xfrm>
              <a:off x="2961000" y="3486240"/>
              <a:ext cx="3960" cy="25462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grpSp>
        <p:nvGrpSpPr>
          <p:cNvPr id="672" name="Group 16"/>
          <p:cNvGrpSpPr/>
          <p:nvPr/>
        </p:nvGrpSpPr>
        <p:grpSpPr>
          <a:xfrm>
            <a:off x="3822840" y="3892320"/>
            <a:ext cx="1682640" cy="1716120"/>
            <a:chOff x="3822840" y="3892320"/>
            <a:chExt cx="1682640" cy="1716120"/>
          </a:xfrm>
        </p:grpSpPr>
        <p:sp>
          <p:nvSpPr>
            <p:cNvPr id="673" name="모서리가 둥근 직사각형 19"/>
            <p:cNvSpPr/>
            <p:nvPr/>
          </p:nvSpPr>
          <p:spPr>
            <a:xfrm rot="10800000">
              <a:off x="3822840" y="3892320"/>
              <a:ext cx="1682640" cy="1716120"/>
            </a:xfrm>
            <a:custGeom>
              <a:avLst/>
              <a:gdLst>
                <a:gd name="textAreaLeft" fmla="*/ 246240 w 1682640"/>
                <a:gd name="textAreaRight" fmla="*/ 1436400 w 1682640"/>
                <a:gd name="textAreaTop" fmla="*/ 246240 h 1716120"/>
                <a:gd name="textAreaBottom" fmla="*/ 1469880 h 1716120"/>
              </a:gdLst>
              <a:ahLst/>
              <a:rect l="textAreaLeft" t="textAreaTop" r="textAreaRight" b="textAreaBottom"/>
              <a:pathLst>
                <a:path w="21600" h="22030">
                  <a:moveTo>
                    <a:pt x="10800" y="0"/>
                  </a:moveTo>
                  <a:arcTo wR="10800" hR="10800" stAng="16200000" swAng="-5400000"/>
                  <a:lnTo>
                    <a:pt x="0" y="11230"/>
                  </a:lnTo>
                  <a:arcTo wR="10800" hR="10800" stAng="10800000" swAng="-5400000"/>
                  <a:lnTo>
                    <a:pt x="10800" y="2203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4" name="Freeform 81"/>
            <p:cNvSpPr/>
            <p:nvPr/>
          </p:nvSpPr>
          <p:spPr>
            <a:xfrm>
              <a:off x="3975120" y="3894120"/>
              <a:ext cx="1342440" cy="591480"/>
            </a:xfrm>
            <a:custGeom>
              <a:avLst/>
              <a:gdLst>
                <a:gd name="textAreaLeft" fmla="*/ 0 w 1342440"/>
                <a:gd name="textAreaRight" fmla="*/ 1342800 w 1342440"/>
                <a:gd name="textAreaTop" fmla="*/ 0 h 591480"/>
                <a:gd name="textAreaBottom" fmla="*/ 591840 h 59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75" name="Text Box 4"/>
          <p:cNvSpPr/>
          <p:nvPr/>
        </p:nvSpPr>
        <p:spPr>
          <a:xfrm>
            <a:off x="3990960" y="4354560"/>
            <a:ext cx="1282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6" name="모서리가 둥근 직사각형 22"/>
          <p:cNvSpPr/>
          <p:nvPr/>
        </p:nvSpPr>
        <p:spPr>
          <a:xfrm rot="10800000">
            <a:off x="676440" y="3357720"/>
            <a:ext cx="846000" cy="861840"/>
          </a:xfrm>
          <a:custGeom>
            <a:avLst/>
            <a:gdLst>
              <a:gd name="textAreaLeft" fmla="*/ 123840 w 846000"/>
              <a:gd name="textAreaRight" fmla="*/ 722160 w 846000"/>
              <a:gd name="textAreaTop" fmla="*/ 123840 h 861840"/>
              <a:gd name="textAreaBottom" fmla="*/ 738000 h 861840"/>
            </a:gdLst>
            <a:ahLst/>
            <a:rect l="textAreaLeft" t="textAreaTop" r="textAreaRight" b="textAreaBottom"/>
            <a:pathLst>
              <a:path w="21600" h="22004">
                <a:moveTo>
                  <a:pt x="10800" y="0"/>
                </a:moveTo>
                <a:arcTo wR="10800" hR="10800" stAng="16200000" swAng="-5400000"/>
                <a:lnTo>
                  <a:pt x="0" y="11204"/>
                </a:lnTo>
                <a:arcTo wR="10800" hR="10800" stAng="10800000" swAng="-5400000"/>
                <a:lnTo>
                  <a:pt x="10800" y="220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723960" y="3568680"/>
            <a:ext cx="7160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8" name="모서리가 둥근 직사각형 25"/>
          <p:cNvSpPr/>
          <p:nvPr/>
        </p:nvSpPr>
        <p:spPr>
          <a:xfrm rot="10800000">
            <a:off x="1665360" y="3357720"/>
            <a:ext cx="846000" cy="861840"/>
          </a:xfrm>
          <a:custGeom>
            <a:avLst/>
            <a:gdLst>
              <a:gd name="textAreaLeft" fmla="*/ 123840 w 846000"/>
              <a:gd name="textAreaRight" fmla="*/ 722160 w 846000"/>
              <a:gd name="textAreaTop" fmla="*/ 123840 h 861840"/>
              <a:gd name="textAreaBottom" fmla="*/ 738000 h 861840"/>
            </a:gdLst>
            <a:ahLst/>
            <a:rect l="textAreaLeft" t="textAreaTop" r="textAreaRight" b="textAreaBottom"/>
            <a:pathLst>
              <a:path w="21600" h="22004">
                <a:moveTo>
                  <a:pt x="10800" y="0"/>
                </a:moveTo>
                <a:arcTo wR="10800" hR="10800" stAng="16200000" swAng="-5400000"/>
                <a:lnTo>
                  <a:pt x="0" y="11204"/>
                </a:lnTo>
                <a:arcTo wR="10800" hR="10800" stAng="10800000" swAng="-5400000"/>
                <a:lnTo>
                  <a:pt x="10800" y="220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1712880" y="3568680"/>
            <a:ext cx="7160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0" name="모서리가 둥근 직사각형 28"/>
          <p:cNvSpPr/>
          <p:nvPr/>
        </p:nvSpPr>
        <p:spPr>
          <a:xfrm rot="10800000">
            <a:off x="676440" y="4260600"/>
            <a:ext cx="846000" cy="863640"/>
          </a:xfrm>
          <a:custGeom>
            <a:avLst/>
            <a:gdLst>
              <a:gd name="textAreaLeft" fmla="*/ 123840 w 846000"/>
              <a:gd name="textAreaRight" fmla="*/ 722160 w 846000"/>
              <a:gd name="textAreaTop" fmla="*/ 123840 h 863640"/>
              <a:gd name="textAreaBottom" fmla="*/ 739800 h 863640"/>
            </a:gdLst>
            <a:ahLst/>
            <a:rect l="textAreaLeft" t="textAreaTop" r="textAreaRight" b="textAreaBottom"/>
            <a:pathLst>
              <a:path w="21600" h="22050">
                <a:moveTo>
                  <a:pt x="10800" y="0"/>
                </a:moveTo>
                <a:arcTo wR="10800" hR="10800" stAng="16200000" swAng="-5400000"/>
                <a:lnTo>
                  <a:pt x="0" y="11250"/>
                </a:lnTo>
                <a:arcTo wR="10800" hR="10800" stAng="10800000" swAng="-5400000"/>
                <a:lnTo>
                  <a:pt x="10800" y="220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23960" y="4471920"/>
            <a:ext cx="7160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2" name="모서리가 둥근 직사각형 31"/>
          <p:cNvSpPr/>
          <p:nvPr/>
        </p:nvSpPr>
        <p:spPr>
          <a:xfrm rot="10800000">
            <a:off x="1665360" y="4260600"/>
            <a:ext cx="846000" cy="863640"/>
          </a:xfrm>
          <a:custGeom>
            <a:avLst/>
            <a:gdLst>
              <a:gd name="textAreaLeft" fmla="*/ 123840 w 846000"/>
              <a:gd name="textAreaRight" fmla="*/ 722160 w 846000"/>
              <a:gd name="textAreaTop" fmla="*/ 123840 h 863640"/>
              <a:gd name="textAreaBottom" fmla="*/ 739800 h 863640"/>
            </a:gdLst>
            <a:ahLst/>
            <a:rect l="textAreaLeft" t="textAreaTop" r="textAreaRight" b="textAreaBottom"/>
            <a:pathLst>
              <a:path w="21600" h="22050">
                <a:moveTo>
                  <a:pt x="10800" y="0"/>
                </a:moveTo>
                <a:arcTo wR="10800" hR="10800" stAng="16200000" swAng="-5400000"/>
                <a:lnTo>
                  <a:pt x="0" y="11250"/>
                </a:lnTo>
                <a:arcTo wR="10800" hR="10800" stAng="10800000" swAng="-5400000"/>
                <a:lnTo>
                  <a:pt x="10800" y="220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1712880" y="4471920"/>
            <a:ext cx="7160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4" name="모서리가 둥근 직사각형 34"/>
          <p:cNvSpPr/>
          <p:nvPr/>
        </p:nvSpPr>
        <p:spPr>
          <a:xfrm rot="10800000">
            <a:off x="676440" y="5167440"/>
            <a:ext cx="846000" cy="861840"/>
          </a:xfrm>
          <a:custGeom>
            <a:avLst/>
            <a:gdLst>
              <a:gd name="textAreaLeft" fmla="*/ 123840 w 846000"/>
              <a:gd name="textAreaRight" fmla="*/ 722160 w 846000"/>
              <a:gd name="textAreaTop" fmla="*/ 123840 h 861840"/>
              <a:gd name="textAreaBottom" fmla="*/ 738000 h 861840"/>
            </a:gdLst>
            <a:ahLst/>
            <a:rect l="textAreaLeft" t="textAreaTop" r="textAreaRight" b="textAreaBottom"/>
            <a:pathLst>
              <a:path w="21600" h="22004">
                <a:moveTo>
                  <a:pt x="10800" y="0"/>
                </a:moveTo>
                <a:arcTo wR="10800" hR="10800" stAng="16200000" swAng="-5400000"/>
                <a:lnTo>
                  <a:pt x="0" y="11204"/>
                </a:lnTo>
                <a:arcTo wR="10800" hR="10800" stAng="10800000" swAng="-5400000"/>
                <a:lnTo>
                  <a:pt x="10800" y="220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723960" y="5376960"/>
            <a:ext cx="716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6" name="모서리가 둥근 직사각형 37"/>
          <p:cNvSpPr/>
          <p:nvPr/>
        </p:nvSpPr>
        <p:spPr>
          <a:xfrm rot="10800000">
            <a:off x="1665360" y="5167440"/>
            <a:ext cx="846000" cy="861840"/>
          </a:xfrm>
          <a:custGeom>
            <a:avLst/>
            <a:gdLst>
              <a:gd name="textAreaLeft" fmla="*/ 123840 w 846000"/>
              <a:gd name="textAreaRight" fmla="*/ 722160 w 846000"/>
              <a:gd name="textAreaTop" fmla="*/ 123840 h 861840"/>
              <a:gd name="textAreaBottom" fmla="*/ 738000 h 861840"/>
            </a:gdLst>
            <a:ahLst/>
            <a:rect l="textAreaLeft" t="textAreaTop" r="textAreaRight" b="textAreaBottom"/>
            <a:pathLst>
              <a:path w="21600" h="22004">
                <a:moveTo>
                  <a:pt x="10800" y="0"/>
                </a:moveTo>
                <a:arcTo wR="10800" hR="10800" stAng="16200000" swAng="-5400000"/>
                <a:lnTo>
                  <a:pt x="0" y="11204"/>
                </a:lnTo>
                <a:arcTo wR="10800" hR="10800" stAng="10800000" swAng="-5400000"/>
                <a:lnTo>
                  <a:pt x="10800" y="220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1712880" y="5376960"/>
            <a:ext cx="716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8" name="모서리가 둥근 직사각형 40"/>
          <p:cNvSpPr/>
          <p:nvPr/>
        </p:nvSpPr>
        <p:spPr>
          <a:xfrm rot="10800000">
            <a:off x="6714720" y="3357720"/>
            <a:ext cx="846360" cy="861840"/>
          </a:xfrm>
          <a:custGeom>
            <a:avLst/>
            <a:gdLst>
              <a:gd name="textAreaLeft" fmla="*/ 123840 w 846360"/>
              <a:gd name="textAreaRight" fmla="*/ 722520 w 846360"/>
              <a:gd name="textAreaTop" fmla="*/ 123840 h 861840"/>
              <a:gd name="textAreaBottom" fmla="*/ 738000 h 861840"/>
            </a:gdLst>
            <a:ahLst/>
            <a:rect l="textAreaLeft" t="textAreaTop" r="textAreaRight" b="textAreaBottom"/>
            <a:pathLst>
              <a:path w="21600" h="21995">
                <a:moveTo>
                  <a:pt x="10800" y="0"/>
                </a:moveTo>
                <a:arcTo wR="10800" hR="10800" stAng="16200000" swAng="-5400000"/>
                <a:lnTo>
                  <a:pt x="0" y="11195"/>
                </a:lnTo>
                <a:arcTo wR="10800" hR="10800" stAng="10800000" swAng="-5400000"/>
                <a:lnTo>
                  <a:pt x="10800" y="219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6762600" y="3568680"/>
            <a:ext cx="7160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0" name="모서리가 둥근 직사각형 43"/>
          <p:cNvSpPr/>
          <p:nvPr/>
        </p:nvSpPr>
        <p:spPr>
          <a:xfrm rot="10800000">
            <a:off x="7703640" y="3357720"/>
            <a:ext cx="846360" cy="861840"/>
          </a:xfrm>
          <a:custGeom>
            <a:avLst/>
            <a:gdLst>
              <a:gd name="textAreaLeft" fmla="*/ 123840 w 846360"/>
              <a:gd name="textAreaRight" fmla="*/ 722520 w 846360"/>
              <a:gd name="textAreaTop" fmla="*/ 123840 h 861840"/>
              <a:gd name="textAreaBottom" fmla="*/ 738000 h 861840"/>
            </a:gdLst>
            <a:ahLst/>
            <a:rect l="textAreaLeft" t="textAreaTop" r="textAreaRight" b="textAreaBottom"/>
            <a:pathLst>
              <a:path w="21600" h="21995">
                <a:moveTo>
                  <a:pt x="10800" y="0"/>
                </a:moveTo>
                <a:arcTo wR="10800" hR="10800" stAng="16200000" swAng="-5400000"/>
                <a:lnTo>
                  <a:pt x="0" y="11195"/>
                </a:lnTo>
                <a:arcTo wR="10800" hR="10800" stAng="10800000" swAng="-5400000"/>
                <a:lnTo>
                  <a:pt x="10800" y="219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7751880" y="3568680"/>
            <a:ext cx="71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2" name="모서리가 둥근 직사각형 46"/>
          <p:cNvSpPr/>
          <p:nvPr/>
        </p:nvSpPr>
        <p:spPr>
          <a:xfrm rot="10800000">
            <a:off x="6714720" y="4260600"/>
            <a:ext cx="846360" cy="863640"/>
          </a:xfrm>
          <a:custGeom>
            <a:avLst/>
            <a:gdLst>
              <a:gd name="textAreaLeft" fmla="*/ 123840 w 846360"/>
              <a:gd name="textAreaRight" fmla="*/ 722520 w 846360"/>
              <a:gd name="textAreaTop" fmla="*/ 123840 h 863640"/>
              <a:gd name="textAreaBottom" fmla="*/ 739800 h 863640"/>
            </a:gdLst>
            <a:ahLst/>
            <a:rect l="textAreaLeft" t="textAreaTop" r="textAreaRight" b="textAreaBottom"/>
            <a:pathLst>
              <a:path w="21600" h="22041">
                <a:moveTo>
                  <a:pt x="10800" y="0"/>
                </a:moveTo>
                <a:arcTo wR="10800" hR="10800" stAng="16200000" swAng="-5400000"/>
                <a:lnTo>
                  <a:pt x="0" y="11241"/>
                </a:lnTo>
                <a:arcTo wR="10800" hR="10800" stAng="10800000" swAng="-5400000"/>
                <a:lnTo>
                  <a:pt x="10800" y="2204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3" name="Text Box 4"/>
          <p:cNvSpPr/>
          <p:nvPr/>
        </p:nvSpPr>
        <p:spPr>
          <a:xfrm>
            <a:off x="6762600" y="4471920"/>
            <a:ext cx="7160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4" name="모서리가 둥근 직사각형 49"/>
          <p:cNvSpPr/>
          <p:nvPr/>
        </p:nvSpPr>
        <p:spPr>
          <a:xfrm rot="10800000">
            <a:off x="7703640" y="4260600"/>
            <a:ext cx="846360" cy="863640"/>
          </a:xfrm>
          <a:custGeom>
            <a:avLst/>
            <a:gdLst>
              <a:gd name="textAreaLeft" fmla="*/ 123840 w 846360"/>
              <a:gd name="textAreaRight" fmla="*/ 722520 w 846360"/>
              <a:gd name="textAreaTop" fmla="*/ 123840 h 863640"/>
              <a:gd name="textAreaBottom" fmla="*/ 739800 h 863640"/>
            </a:gdLst>
            <a:ahLst/>
            <a:rect l="textAreaLeft" t="textAreaTop" r="textAreaRight" b="textAreaBottom"/>
            <a:pathLst>
              <a:path w="21600" h="22041">
                <a:moveTo>
                  <a:pt x="10800" y="0"/>
                </a:moveTo>
                <a:arcTo wR="10800" hR="10800" stAng="16200000" swAng="-5400000"/>
                <a:lnTo>
                  <a:pt x="0" y="11241"/>
                </a:lnTo>
                <a:arcTo wR="10800" hR="10800" stAng="10800000" swAng="-5400000"/>
                <a:lnTo>
                  <a:pt x="10800" y="2204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7751880" y="4471920"/>
            <a:ext cx="71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6" name="모서리가 둥근 직사각형 52"/>
          <p:cNvSpPr/>
          <p:nvPr/>
        </p:nvSpPr>
        <p:spPr>
          <a:xfrm rot="10800000">
            <a:off x="6714720" y="5167440"/>
            <a:ext cx="846360" cy="861840"/>
          </a:xfrm>
          <a:custGeom>
            <a:avLst/>
            <a:gdLst>
              <a:gd name="textAreaLeft" fmla="*/ 123840 w 846360"/>
              <a:gd name="textAreaRight" fmla="*/ 722520 w 846360"/>
              <a:gd name="textAreaTop" fmla="*/ 123840 h 861840"/>
              <a:gd name="textAreaBottom" fmla="*/ 738000 h 861840"/>
            </a:gdLst>
            <a:ahLst/>
            <a:rect l="textAreaLeft" t="textAreaTop" r="textAreaRight" b="textAreaBottom"/>
            <a:pathLst>
              <a:path w="21600" h="21995">
                <a:moveTo>
                  <a:pt x="10800" y="0"/>
                </a:moveTo>
                <a:arcTo wR="10800" hR="10800" stAng="16200000" swAng="-5400000"/>
                <a:lnTo>
                  <a:pt x="0" y="11195"/>
                </a:lnTo>
                <a:arcTo wR="10800" hR="10800" stAng="10800000" swAng="-5400000"/>
                <a:lnTo>
                  <a:pt x="10800" y="219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6762600" y="5376960"/>
            <a:ext cx="716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8" name="모서리가 둥근 직사각형 55"/>
          <p:cNvSpPr/>
          <p:nvPr/>
        </p:nvSpPr>
        <p:spPr>
          <a:xfrm rot="10800000">
            <a:off x="7703640" y="5167440"/>
            <a:ext cx="846360" cy="861840"/>
          </a:xfrm>
          <a:custGeom>
            <a:avLst/>
            <a:gdLst>
              <a:gd name="textAreaLeft" fmla="*/ 123840 w 846360"/>
              <a:gd name="textAreaRight" fmla="*/ 722520 w 846360"/>
              <a:gd name="textAreaTop" fmla="*/ 123840 h 861840"/>
              <a:gd name="textAreaBottom" fmla="*/ 738000 h 861840"/>
            </a:gdLst>
            <a:ahLst/>
            <a:rect l="textAreaLeft" t="textAreaTop" r="textAreaRight" b="textAreaBottom"/>
            <a:pathLst>
              <a:path w="21600" h="21995">
                <a:moveTo>
                  <a:pt x="10800" y="0"/>
                </a:moveTo>
                <a:arcTo wR="10800" hR="10800" stAng="16200000" swAng="-5400000"/>
                <a:lnTo>
                  <a:pt x="0" y="11195"/>
                </a:lnTo>
                <a:arcTo wR="10800" hR="10800" stAng="10800000" swAng="-5400000"/>
                <a:lnTo>
                  <a:pt x="10800" y="219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7751880" y="5376960"/>
            <a:ext cx="71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0" name="모서리가 둥근 직사각형 58"/>
          <p:cNvSpPr/>
          <p:nvPr/>
        </p:nvSpPr>
        <p:spPr>
          <a:xfrm>
            <a:off x="642960" y="2324160"/>
            <a:ext cx="2006640" cy="46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871560" y="2328840"/>
            <a:ext cx="15415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2" name="모서리가 둥근 직사각형 61"/>
          <p:cNvSpPr/>
          <p:nvPr/>
        </p:nvSpPr>
        <p:spPr>
          <a:xfrm>
            <a:off x="6708600" y="2324160"/>
            <a:ext cx="2006640" cy="46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6937200" y="2328840"/>
            <a:ext cx="15415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4" name="모서리가 둥근 직사각형 64"/>
          <p:cNvSpPr/>
          <p:nvPr/>
        </p:nvSpPr>
        <p:spPr>
          <a:xfrm>
            <a:off x="3030480" y="2324160"/>
            <a:ext cx="3268800" cy="46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5" name="Text Box 4"/>
          <p:cNvSpPr/>
          <p:nvPr/>
        </p:nvSpPr>
        <p:spPr>
          <a:xfrm>
            <a:off x="3403440" y="2328840"/>
            <a:ext cx="2511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08" name="Rectangle 3"/>
          <p:cNvSpPr/>
          <p:nvPr/>
        </p:nvSpPr>
        <p:spPr>
          <a:xfrm flipH="1">
            <a:off x="4286160" y="5643720"/>
            <a:ext cx="4819680" cy="78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9" name="Rectangle 3"/>
          <p:cNvSpPr/>
          <p:nvPr/>
        </p:nvSpPr>
        <p:spPr>
          <a:xfrm flipH="1">
            <a:off x="3714120" y="4417920"/>
            <a:ext cx="5391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0" name="Rectangle 3"/>
          <p:cNvSpPr/>
          <p:nvPr/>
        </p:nvSpPr>
        <p:spPr>
          <a:xfrm flipH="1">
            <a:off x="2975040" y="3181320"/>
            <a:ext cx="616896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1" name="Rectangle 3"/>
          <p:cNvSpPr/>
          <p:nvPr/>
        </p:nvSpPr>
        <p:spPr>
          <a:xfrm flipH="1">
            <a:off x="2357280" y="1952640"/>
            <a:ext cx="680904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-212760" y="1952640"/>
            <a:ext cx="2212920" cy="785880"/>
          </a:xfrm>
          <a:prstGeom prst="rect">
            <a:avLst/>
          </a:prstGeom>
          <a:gradFill rotWithShape="0">
            <a:gsLst>
              <a:gs pos="0">
                <a:srgbClr val="004b70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0" y="3187800"/>
            <a:ext cx="285768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4" name="Rectangle 17"/>
          <p:cNvSpPr/>
          <p:nvPr/>
        </p:nvSpPr>
        <p:spPr>
          <a:xfrm>
            <a:off x="0" y="4402080"/>
            <a:ext cx="350028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0" y="5627520"/>
            <a:ext cx="421488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716" name="Group 12"/>
          <p:cNvGrpSpPr/>
          <p:nvPr/>
        </p:nvGrpSpPr>
        <p:grpSpPr>
          <a:xfrm>
            <a:off x="1785960" y="1856880"/>
            <a:ext cx="920880" cy="939960"/>
            <a:chOff x="1785960" y="1856880"/>
            <a:chExt cx="920880" cy="939960"/>
          </a:xfrm>
        </p:grpSpPr>
        <p:sp>
          <p:nvSpPr>
            <p:cNvPr id="717" name="모서리가 둥근 직사각형 10"/>
            <p:cNvSpPr/>
            <p:nvPr/>
          </p:nvSpPr>
          <p:spPr>
            <a:xfrm rot="10800000">
              <a:off x="1785960" y="1856880"/>
              <a:ext cx="920880" cy="939960"/>
            </a:xfrm>
            <a:custGeom>
              <a:avLst/>
              <a:gdLst>
                <a:gd name="textAreaLeft" fmla="*/ 134640 w 920880"/>
                <a:gd name="textAreaRight" fmla="*/ 786240 w 920880"/>
                <a:gd name="textAreaTop" fmla="*/ 134640 h 939960"/>
                <a:gd name="textAreaBottom" fmla="*/ 805320 h 939960"/>
              </a:gdLst>
              <a:ahLst/>
              <a:rect l="textAreaLeft" t="textAreaTop" r="textAreaRight" b="textAreaBottom"/>
              <a:pathLst>
                <a:path w="21600" h="22047">
                  <a:moveTo>
                    <a:pt x="10800" y="0"/>
                  </a:moveTo>
                  <a:arcTo wR="10800" hR="10800" stAng="16200000" swAng="-5400000"/>
                  <a:lnTo>
                    <a:pt x="0" y="11247"/>
                  </a:lnTo>
                  <a:arcTo wR="10800" hR="10800" stAng="10800000" swAng="-5400000"/>
                  <a:lnTo>
                    <a:pt x="10800" y="2204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8" name="Freeform 81"/>
            <p:cNvSpPr/>
            <p:nvPr/>
          </p:nvSpPr>
          <p:spPr>
            <a:xfrm>
              <a:off x="1797840" y="1857960"/>
              <a:ext cx="734760" cy="324000"/>
            </a:xfrm>
            <a:custGeom>
              <a:avLst/>
              <a:gdLst>
                <a:gd name="textAreaLeft" fmla="*/ 0 w 734760"/>
                <a:gd name="textAreaRight" fmla="*/ 735120 w 73476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19" name="Text Box 4"/>
          <p:cNvSpPr/>
          <p:nvPr/>
        </p:nvSpPr>
        <p:spPr>
          <a:xfrm>
            <a:off x="1892160" y="2111400"/>
            <a:ext cx="701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0" name="모서리가 둥근 직사각형 13"/>
          <p:cNvSpPr/>
          <p:nvPr/>
        </p:nvSpPr>
        <p:spPr>
          <a:xfrm flipV="1" rot="10800000">
            <a:off x="2357280" y="3053160"/>
            <a:ext cx="944640" cy="965160"/>
          </a:xfrm>
          <a:custGeom>
            <a:avLst/>
            <a:gdLst>
              <a:gd name="textAreaLeft" fmla="*/ 138240 w 944640"/>
              <a:gd name="textAreaRight" fmla="*/ 806400 w 944640"/>
              <a:gd name="textAreaTop" fmla="*/ 138240 h 965160"/>
              <a:gd name="textAreaBottom" fmla="*/ 826920 h 965160"/>
            </a:gdLst>
            <a:ahLst/>
            <a:rect l="textAreaLeft" t="textAreaTop" r="textAreaRight" b="textAreaBottom"/>
            <a:pathLst>
              <a:path w="21600" h="22069">
                <a:moveTo>
                  <a:pt x="10800" y="0"/>
                </a:moveTo>
                <a:arcTo wR="10800" hR="10800" stAng="16200000" swAng="-5400000"/>
                <a:lnTo>
                  <a:pt x="0" y="11269"/>
                </a:lnTo>
                <a:arcTo wR="10800" hR="10800" stAng="10800000" swAng="-5400000"/>
                <a:lnTo>
                  <a:pt x="10800" y="2206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2435400" y="3276720"/>
            <a:ext cx="8125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2" name="모서리가 둥근 직사각형 15"/>
          <p:cNvSpPr/>
          <p:nvPr/>
        </p:nvSpPr>
        <p:spPr>
          <a:xfrm flipV="1" rot="10800000">
            <a:off x="3143160" y="4300920"/>
            <a:ext cx="946080" cy="965160"/>
          </a:xfrm>
          <a:custGeom>
            <a:avLst/>
            <a:gdLst>
              <a:gd name="textAreaLeft" fmla="*/ 138600 w 946080"/>
              <a:gd name="textAreaRight" fmla="*/ 807480 w 946080"/>
              <a:gd name="textAreaTop" fmla="*/ 138600 h 965160"/>
              <a:gd name="textAreaBottom" fmla="*/ 826560 h 965160"/>
            </a:gdLst>
            <a:ahLst/>
            <a:rect l="textAreaLeft" t="textAreaTop" r="textAreaRight" b="textAreaBottom"/>
            <a:pathLst>
              <a:path w="21600" h="22035">
                <a:moveTo>
                  <a:pt x="10800" y="0"/>
                </a:moveTo>
                <a:arcTo wR="10800" hR="10800" stAng="16200000" swAng="-5400000"/>
                <a:lnTo>
                  <a:pt x="0" y="11235"/>
                </a:lnTo>
                <a:arcTo wR="10800" hR="10800" stAng="10800000" swAng="-5400000"/>
                <a:lnTo>
                  <a:pt x="10800" y="22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3220920" y="4524480"/>
            <a:ext cx="812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4" name="모서리가 둥근 직사각형 17"/>
          <p:cNvSpPr/>
          <p:nvPr/>
        </p:nvSpPr>
        <p:spPr>
          <a:xfrm flipV="1" rot="10800000">
            <a:off x="3857760" y="5536080"/>
            <a:ext cx="946080" cy="963720"/>
          </a:xfrm>
          <a:custGeom>
            <a:avLst/>
            <a:gdLst>
              <a:gd name="textAreaLeft" fmla="*/ 138600 w 946080"/>
              <a:gd name="textAreaRight" fmla="*/ 807480 w 946080"/>
              <a:gd name="textAreaTop" fmla="*/ 138600 h 963720"/>
              <a:gd name="textAreaBottom" fmla="*/ 825120 h 963720"/>
            </a:gdLst>
            <a:ahLst/>
            <a:rect l="textAreaLeft" t="textAreaTop" r="textAreaRight" b="textAreaBottom"/>
            <a:pathLst>
              <a:path w="21600" h="22003">
                <a:moveTo>
                  <a:pt x="10800" y="0"/>
                </a:moveTo>
                <a:arcTo wR="10800" hR="10800" stAng="16200000" swAng="-5400000"/>
                <a:lnTo>
                  <a:pt x="0" y="11203"/>
                </a:lnTo>
                <a:arcTo wR="10800" hR="10800" stAng="10800000" swAng="-5400000"/>
                <a:lnTo>
                  <a:pt x="10800" y="2200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3935520" y="5757840"/>
            <a:ext cx="812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142920" y="2111400"/>
            <a:ext cx="1407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214200" y="3340080"/>
            <a:ext cx="1806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642960" y="4573440"/>
            <a:ext cx="2092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9" name="Text Box 4"/>
          <p:cNvSpPr/>
          <p:nvPr/>
        </p:nvSpPr>
        <p:spPr>
          <a:xfrm>
            <a:off x="1285920" y="5799240"/>
            <a:ext cx="2092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0" name="Text Box 4"/>
          <p:cNvSpPr/>
          <p:nvPr/>
        </p:nvSpPr>
        <p:spPr>
          <a:xfrm>
            <a:off x="2928960" y="2111400"/>
            <a:ext cx="5786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3571920" y="3340080"/>
            <a:ext cx="51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4286160" y="4573440"/>
            <a:ext cx="450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5011560" y="5799240"/>
            <a:ext cx="3775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6" name="모서리가 둥근 직사각형 2"/>
          <p:cNvSpPr/>
          <p:nvPr/>
        </p:nvSpPr>
        <p:spPr>
          <a:xfrm flipV="1" rot="10800000">
            <a:off x="3422520" y="3294000"/>
            <a:ext cx="2346480" cy="2394000"/>
          </a:xfrm>
          <a:custGeom>
            <a:avLst/>
            <a:gdLst>
              <a:gd name="textAreaLeft" fmla="*/ 343440 w 2346480"/>
              <a:gd name="textAreaRight" fmla="*/ 2003040 w 2346480"/>
              <a:gd name="textAreaTop" fmla="*/ 343440 h 2394000"/>
              <a:gd name="textAreaBottom" fmla="*/ 2050560 h 2394000"/>
            </a:gdLst>
            <a:ahLst/>
            <a:rect l="textAreaLeft" t="textAreaTop" r="textAreaRight" b="textAreaBottom"/>
            <a:pathLst>
              <a:path w="21600" h="22037">
                <a:moveTo>
                  <a:pt x="10800" y="0"/>
                </a:moveTo>
                <a:arcTo wR="10800" hR="10800" stAng="16200000" swAng="-5400000"/>
                <a:lnTo>
                  <a:pt x="0" y="11237"/>
                </a:lnTo>
                <a:arcTo wR="10800" hR="10800" stAng="10800000" swAng="-5400000"/>
                <a:lnTo>
                  <a:pt x="10800" y="220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7" name="모서리가 둥근 직사각형 3"/>
          <p:cNvSpPr/>
          <p:nvPr/>
        </p:nvSpPr>
        <p:spPr>
          <a:xfrm flipH="1">
            <a:off x="6285960" y="2017800"/>
            <a:ext cx="2500200" cy="4840200"/>
          </a:xfrm>
          <a:custGeom>
            <a:avLst/>
            <a:gdLst>
              <a:gd name="textAreaLeft" fmla="*/ 29880 w 2500200"/>
              <a:gd name="textAreaRight" fmla="*/ 2470320 w 2500200"/>
              <a:gd name="textAreaTop" fmla="*/ 29880 h 4840200"/>
              <a:gd name="textAreaBottom" fmla="*/ 4810320 h 4840200"/>
            </a:gdLst>
            <a:ahLst/>
            <a:rect l="textAreaLeft" t="textAreaTop" r="textAreaRight" b="textAreaBottom"/>
            <a:pathLst>
              <a:path w="21600" h="41813">
                <a:moveTo>
                  <a:pt x="889" y="0"/>
                </a:moveTo>
                <a:arcTo wR="889" hR="889" stAng="16200000" swAng="-5400000"/>
                <a:lnTo>
                  <a:pt x="0" y="40924"/>
                </a:lnTo>
                <a:arcTo wR="889" hR="889" stAng="10800000" swAng="-5400000"/>
                <a:lnTo>
                  <a:pt x="20711" y="41813"/>
                </a:lnTo>
                <a:arcTo wR="889" hR="889" stAng="5400000" swAng="-5400000"/>
                <a:lnTo>
                  <a:pt x="21600" y="889"/>
                </a:lnTo>
                <a:arcTo wR="889" hR="889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8" name="Text Box 4"/>
          <p:cNvSpPr/>
          <p:nvPr/>
        </p:nvSpPr>
        <p:spPr>
          <a:xfrm flipH="1">
            <a:off x="6572160" y="3033720"/>
            <a:ext cx="18576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9" name="모서리가 둥근 직사각형 5"/>
          <p:cNvSpPr/>
          <p:nvPr/>
        </p:nvSpPr>
        <p:spPr>
          <a:xfrm flipH="1">
            <a:off x="388800" y="2017800"/>
            <a:ext cx="2500560" cy="4840200"/>
          </a:xfrm>
          <a:custGeom>
            <a:avLst/>
            <a:gdLst>
              <a:gd name="textAreaLeft" fmla="*/ 29880 w 2500560"/>
              <a:gd name="textAreaRight" fmla="*/ 2470680 w 2500560"/>
              <a:gd name="textAreaTop" fmla="*/ 29880 h 4840200"/>
              <a:gd name="textAreaBottom" fmla="*/ 4810320 h 4840200"/>
            </a:gdLst>
            <a:ahLst/>
            <a:rect l="textAreaLeft" t="textAreaTop" r="textAreaRight" b="textAreaBottom"/>
            <a:pathLst>
              <a:path w="21600" h="41807">
                <a:moveTo>
                  <a:pt x="889" y="0"/>
                </a:moveTo>
                <a:arcTo wR="889" hR="889" stAng="16200000" swAng="-5400000"/>
                <a:lnTo>
                  <a:pt x="0" y="40918"/>
                </a:lnTo>
                <a:arcTo wR="889" hR="889" stAng="10800000" swAng="-5400000"/>
                <a:lnTo>
                  <a:pt x="20711" y="41807"/>
                </a:lnTo>
                <a:arcTo wR="889" hR="889" stAng="5400000" swAng="-5400000"/>
                <a:lnTo>
                  <a:pt x="21600" y="889"/>
                </a:lnTo>
                <a:arcTo wR="889" hR="889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0" name="Oval 14"/>
          <p:cNvSpPr/>
          <p:nvPr/>
        </p:nvSpPr>
        <p:spPr>
          <a:xfrm>
            <a:off x="3159000" y="3029040"/>
            <a:ext cx="2881440" cy="2881080"/>
          </a:xfrm>
          <a:prstGeom prst="ellipse">
            <a:avLst/>
          </a:prstGeom>
          <a:noFill/>
          <a:ln w="127080">
            <a:solidFill>
              <a:srgbClr val="d8d8d8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1360" indent="-171360" algn="ctr">
              <a:lnSpc>
                <a:spcPct val="120000"/>
              </a:lnSpc>
              <a:spcAft>
                <a:spcPts val="400"/>
              </a:spcAft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HY헤드라인M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HY헤드라인M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1" name="Oval 15"/>
          <p:cNvSpPr/>
          <p:nvPr/>
        </p:nvSpPr>
        <p:spPr>
          <a:xfrm>
            <a:off x="2789280" y="2670120"/>
            <a:ext cx="3587760" cy="3587760"/>
          </a:xfrm>
          <a:prstGeom prst="ellipse">
            <a:avLst/>
          </a:prstGeom>
          <a:noFill/>
          <a:ln w="63360">
            <a:solidFill>
              <a:srgbClr val="d8d8d8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1360" indent="-171360" algn="ctr">
              <a:lnSpc>
                <a:spcPct val="120000"/>
              </a:lnSpc>
              <a:spcAft>
                <a:spcPts val="400"/>
              </a:spcAft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HY헤드라인M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HY헤드라인M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2" name="Text Box 4"/>
          <p:cNvSpPr/>
          <p:nvPr/>
        </p:nvSpPr>
        <p:spPr>
          <a:xfrm>
            <a:off x="3595680" y="3699000"/>
            <a:ext cx="2005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3" name="Text Box 4"/>
          <p:cNvSpPr/>
          <p:nvPr/>
        </p:nvSpPr>
        <p:spPr>
          <a:xfrm flipH="1">
            <a:off x="674640" y="3033720"/>
            <a:ext cx="18576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4" name="모서리가 둥근 직사각형 13"/>
          <p:cNvSpPr/>
          <p:nvPr/>
        </p:nvSpPr>
        <p:spPr>
          <a:xfrm>
            <a:off x="500040" y="2033640"/>
            <a:ext cx="2233800" cy="546120"/>
          </a:xfrm>
          <a:prstGeom prst="roundRect">
            <a:avLst>
              <a:gd name="adj" fmla="val 22120"/>
            </a:avLst>
          </a:pr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754200" y="2039760"/>
            <a:ext cx="171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6" name="모서리가 둥근 직사각형 15"/>
          <p:cNvSpPr/>
          <p:nvPr/>
        </p:nvSpPr>
        <p:spPr>
          <a:xfrm>
            <a:off x="6397560" y="2033640"/>
            <a:ext cx="2233800" cy="546120"/>
          </a:xfrm>
          <a:prstGeom prst="roundRect">
            <a:avLst>
              <a:gd name="adj" fmla="val 22120"/>
            </a:avLst>
          </a:pr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6651720" y="2039760"/>
            <a:ext cx="171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0" name="Rectangle 10"/>
          <p:cNvSpPr/>
          <p:nvPr/>
        </p:nvSpPr>
        <p:spPr>
          <a:xfrm>
            <a:off x="428760" y="5286240"/>
            <a:ext cx="2047680" cy="103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1" name="자유형 3"/>
          <p:cNvSpPr/>
          <p:nvPr/>
        </p:nvSpPr>
        <p:spPr>
          <a:xfrm rot="1365600">
            <a:off x="1066320" y="2903040"/>
            <a:ext cx="7689960" cy="2627280"/>
          </a:xfrm>
          <a:custGeom>
            <a:avLst/>
            <a:gdLst>
              <a:gd name="textAreaLeft" fmla="*/ 0 w 7689960"/>
              <a:gd name="textAreaRight" fmla="*/ 7690320 w 768996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8253832" h="3000396">
                <a:moveTo>
                  <a:pt x="3608" y="1117707"/>
                </a:moveTo>
                <a:lnTo>
                  <a:pt x="6753634" y="750099"/>
                </a:lnTo>
                <a:lnTo>
                  <a:pt x="6753634" y="0"/>
                </a:lnTo>
                <a:lnTo>
                  <a:pt x="8253832" y="1500198"/>
                </a:lnTo>
                <a:lnTo>
                  <a:pt x="6753634" y="3000396"/>
                </a:lnTo>
                <a:lnTo>
                  <a:pt x="6753634" y="2250297"/>
                </a:lnTo>
                <a:lnTo>
                  <a:pt x="0" y="1345452"/>
                </a:lnTo>
                <a:cubicBezTo>
                  <a:pt x="587" y="1214708"/>
                  <a:pt x="3021" y="1248451"/>
                  <a:pt x="3608" y="1117707"/>
                </a:cubicBez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d8d8d8"/>
              </a:gs>
            </a:gsLst>
            <a:lin ang="202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2" name="타원 5"/>
          <p:cNvSpPr/>
          <p:nvPr/>
        </p:nvSpPr>
        <p:spPr>
          <a:xfrm>
            <a:off x="5877000" y="1550880"/>
            <a:ext cx="869760" cy="693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3" name="타원 6"/>
          <p:cNvSpPr/>
          <p:nvPr/>
        </p:nvSpPr>
        <p:spPr>
          <a:xfrm>
            <a:off x="5877000" y="3240000"/>
            <a:ext cx="869760" cy="695520"/>
          </a:xfrm>
          <a:prstGeom prst="ellipse">
            <a:avLst/>
          </a:prstGeom>
          <a:gradFill rotWithShape="0">
            <a:gsLst>
              <a:gs pos="0">
                <a:srgbClr val="f79646"/>
              </a:gs>
              <a:gs pos="100000">
                <a:srgbClr val="e36c0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4" name="타원 8"/>
          <p:cNvSpPr/>
          <p:nvPr/>
        </p:nvSpPr>
        <p:spPr>
          <a:xfrm>
            <a:off x="4498920" y="1619280"/>
            <a:ext cx="871560" cy="695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5" name="타원 9"/>
          <p:cNvSpPr/>
          <p:nvPr/>
        </p:nvSpPr>
        <p:spPr>
          <a:xfrm>
            <a:off x="4498920" y="2975040"/>
            <a:ext cx="871560" cy="693720"/>
          </a:xfrm>
          <a:prstGeom prst="ellipse">
            <a:avLst/>
          </a:prstGeom>
          <a:gradFill rotWithShape="0">
            <a:gsLst>
              <a:gs pos="0">
                <a:srgbClr val="f79646"/>
              </a:gs>
              <a:gs pos="100000">
                <a:srgbClr val="e36c0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6" name="타원 11"/>
          <p:cNvSpPr/>
          <p:nvPr/>
        </p:nvSpPr>
        <p:spPr>
          <a:xfrm>
            <a:off x="3247920" y="1682640"/>
            <a:ext cx="871560" cy="693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7" name="타원 12"/>
          <p:cNvSpPr/>
          <p:nvPr/>
        </p:nvSpPr>
        <p:spPr>
          <a:xfrm>
            <a:off x="3247920" y="2746440"/>
            <a:ext cx="871560" cy="695160"/>
          </a:xfrm>
          <a:prstGeom prst="ellipse">
            <a:avLst/>
          </a:prstGeom>
          <a:gradFill rotWithShape="0">
            <a:gsLst>
              <a:gs pos="0">
                <a:srgbClr val="f79646"/>
              </a:gs>
              <a:gs pos="100000">
                <a:srgbClr val="e36c0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8" name="타원 14"/>
          <p:cNvSpPr/>
          <p:nvPr/>
        </p:nvSpPr>
        <p:spPr>
          <a:xfrm>
            <a:off x="1911240" y="2017800"/>
            <a:ext cx="871560" cy="695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9" name="타원 15"/>
          <p:cNvSpPr/>
          <p:nvPr/>
        </p:nvSpPr>
        <p:spPr>
          <a:xfrm>
            <a:off x="1911240" y="2671920"/>
            <a:ext cx="871560" cy="695160"/>
          </a:xfrm>
          <a:prstGeom prst="ellipse">
            <a:avLst/>
          </a:prstGeom>
          <a:gradFill rotWithShape="0">
            <a:gsLst>
              <a:gs pos="0">
                <a:srgbClr val="f79646"/>
              </a:gs>
              <a:gs pos="100000">
                <a:srgbClr val="e36c0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0" name="Text Box 4"/>
          <p:cNvSpPr/>
          <p:nvPr/>
        </p:nvSpPr>
        <p:spPr>
          <a:xfrm flipH="1">
            <a:off x="1631880" y="3643200"/>
            <a:ext cx="860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1" name="Text Box 4"/>
          <p:cNvSpPr/>
          <p:nvPr/>
        </p:nvSpPr>
        <p:spPr>
          <a:xfrm flipH="1">
            <a:off x="2703600" y="4071960"/>
            <a:ext cx="860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2" name="Text Box 4"/>
          <p:cNvSpPr/>
          <p:nvPr/>
        </p:nvSpPr>
        <p:spPr>
          <a:xfrm flipH="1">
            <a:off x="3631320" y="4572000"/>
            <a:ext cx="86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3" name="Text Box 4"/>
          <p:cNvSpPr/>
          <p:nvPr/>
        </p:nvSpPr>
        <p:spPr>
          <a:xfrm flipH="1">
            <a:off x="4917960" y="5072040"/>
            <a:ext cx="860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4" name="Text Box 4"/>
          <p:cNvSpPr/>
          <p:nvPr/>
        </p:nvSpPr>
        <p:spPr>
          <a:xfrm flipH="1">
            <a:off x="1897200" y="2552760"/>
            <a:ext cx="861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5" name="Text Box 4"/>
          <p:cNvSpPr/>
          <p:nvPr/>
        </p:nvSpPr>
        <p:spPr>
          <a:xfrm flipH="1">
            <a:off x="1897200" y="3116160"/>
            <a:ext cx="861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6" name="Text Box 4"/>
          <p:cNvSpPr/>
          <p:nvPr/>
        </p:nvSpPr>
        <p:spPr>
          <a:xfrm flipH="1">
            <a:off x="3233880" y="2433600"/>
            <a:ext cx="861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7" name="Text Box 4"/>
          <p:cNvSpPr/>
          <p:nvPr/>
        </p:nvSpPr>
        <p:spPr>
          <a:xfrm flipH="1">
            <a:off x="3233880" y="3232080"/>
            <a:ext cx="861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8" name="Text Box 4"/>
          <p:cNvSpPr/>
          <p:nvPr/>
        </p:nvSpPr>
        <p:spPr>
          <a:xfrm flipH="1">
            <a:off x="4489560" y="3592440"/>
            <a:ext cx="860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9" name="Text Box 4"/>
          <p:cNvSpPr/>
          <p:nvPr/>
        </p:nvSpPr>
        <p:spPr>
          <a:xfrm flipH="1">
            <a:off x="4489560" y="2541600"/>
            <a:ext cx="860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0" name="Text Box 4"/>
          <p:cNvSpPr/>
          <p:nvPr/>
        </p:nvSpPr>
        <p:spPr>
          <a:xfrm flipH="1">
            <a:off x="5869080" y="2598840"/>
            <a:ext cx="8618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1" name="Text Box 4"/>
          <p:cNvSpPr/>
          <p:nvPr/>
        </p:nvSpPr>
        <p:spPr>
          <a:xfrm flipH="1">
            <a:off x="5869080" y="3987720"/>
            <a:ext cx="861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2" name="타원 36"/>
          <p:cNvSpPr/>
          <p:nvPr/>
        </p:nvSpPr>
        <p:spPr>
          <a:xfrm>
            <a:off x="620640" y="5369040"/>
            <a:ext cx="3985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3" name="타원 37"/>
          <p:cNvSpPr/>
          <p:nvPr/>
        </p:nvSpPr>
        <p:spPr>
          <a:xfrm>
            <a:off x="625320" y="5756400"/>
            <a:ext cx="398520" cy="398160"/>
          </a:xfrm>
          <a:prstGeom prst="ellipse">
            <a:avLst/>
          </a:prstGeom>
          <a:gradFill rotWithShape="0">
            <a:gsLst>
              <a:gs pos="0">
                <a:srgbClr val="f79646"/>
              </a:gs>
              <a:gs pos="100000">
                <a:srgbClr val="e36c0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1074600" y="5499000"/>
            <a:ext cx="11383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1074600" y="5859360"/>
            <a:ext cx="11383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8" name="AutoShape 4"/>
          <p:cNvSpPr/>
          <p:nvPr/>
        </p:nvSpPr>
        <p:spPr>
          <a:xfrm>
            <a:off x="5800680" y="4051440"/>
            <a:ext cx="380880" cy="534960"/>
          </a:xfrm>
          <a:custGeom>
            <a:avLst/>
            <a:gdLst>
              <a:gd name="textAreaLeft" fmla="*/ 0 w 380880"/>
              <a:gd name="textAreaRight" fmla="*/ 381240 w 38088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779" name="Group 5"/>
          <p:cNvGrpSpPr/>
          <p:nvPr/>
        </p:nvGrpSpPr>
        <p:grpSpPr>
          <a:xfrm>
            <a:off x="6381720" y="3308400"/>
            <a:ext cx="2076480" cy="2077920"/>
            <a:chOff x="6381720" y="3308400"/>
            <a:chExt cx="2076480" cy="2077920"/>
          </a:xfrm>
        </p:grpSpPr>
        <p:sp>
          <p:nvSpPr>
            <p:cNvPr id="780" name="모서리가 둥근 직사각형 3"/>
            <p:cNvSpPr/>
            <p:nvPr/>
          </p:nvSpPr>
          <p:spPr>
            <a:xfrm flipV="1" rot="10800000">
              <a:off x="6381720" y="3308400"/>
              <a:ext cx="2076480" cy="2077920"/>
            </a:xfrm>
            <a:custGeom>
              <a:avLst/>
              <a:gdLst>
                <a:gd name="textAreaLeft" fmla="*/ 303840 w 2076480"/>
                <a:gd name="textAreaRight" fmla="*/ 1772640 w 2076480"/>
                <a:gd name="textAreaTop" fmla="*/ 303840 h 2077920"/>
                <a:gd name="textAreaBottom" fmla="*/ 1774080 h 2077920"/>
              </a:gdLst>
              <a:ahLst/>
              <a:rect l="textAreaLeft" t="textAreaTop" r="textAreaRight" b="textAreaBottom"/>
              <a:pathLst>
                <a:path w="21600" h="21615">
                  <a:moveTo>
                    <a:pt x="10800" y="0"/>
                  </a:moveTo>
                  <a:arcTo wR="10800" hR="10800" stAng="16200000" swAng="-5400000"/>
                  <a:lnTo>
                    <a:pt x="0" y="10815"/>
                  </a:lnTo>
                  <a:arcTo wR="10800" hR="10800" stAng="10800000" swAng="-5400000"/>
                  <a:lnTo>
                    <a:pt x="10800" y="2161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79646"/>
                </a:gs>
                <a:gs pos="100000">
                  <a:srgbClr val="f7964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781" name="Group 7"/>
            <p:cNvGrpSpPr/>
            <p:nvPr/>
          </p:nvGrpSpPr>
          <p:grpSpPr>
            <a:xfrm>
              <a:off x="6580800" y="3494520"/>
              <a:ext cx="1667520" cy="1668600"/>
              <a:chOff x="6580800" y="3494520"/>
              <a:chExt cx="1667520" cy="1668600"/>
            </a:xfrm>
          </p:grpSpPr>
          <p:sp>
            <p:nvSpPr>
              <p:cNvPr id="782" name="Oval 15"/>
              <p:cNvSpPr/>
              <p:nvPr/>
            </p:nvSpPr>
            <p:spPr>
              <a:xfrm>
                <a:off x="6580800" y="3494520"/>
                <a:ext cx="1667520" cy="1668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3" name="Oval 16"/>
              <p:cNvSpPr/>
              <p:nvPr/>
            </p:nvSpPr>
            <p:spPr>
              <a:xfrm>
                <a:off x="6602040" y="3503880"/>
                <a:ext cx="1627200" cy="162720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1f5f5"/>
                  </a:gs>
                </a:gsLst>
                <a:lin ang="5400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4" name="Oval 17"/>
              <p:cNvSpPr/>
              <p:nvPr/>
            </p:nvSpPr>
            <p:spPr>
              <a:xfrm>
                <a:off x="6619320" y="3519720"/>
                <a:ext cx="1547640" cy="1520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5" name="Oval 18"/>
              <p:cNvSpPr/>
              <p:nvPr/>
            </p:nvSpPr>
            <p:spPr>
              <a:xfrm>
                <a:off x="6710040" y="3562200"/>
                <a:ext cx="1375560" cy="1233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786" name="Group 12"/>
          <p:cNvGrpSpPr/>
          <p:nvPr/>
        </p:nvGrpSpPr>
        <p:grpSpPr>
          <a:xfrm>
            <a:off x="701640" y="3308400"/>
            <a:ext cx="2076480" cy="2077920"/>
            <a:chOff x="701640" y="3308400"/>
            <a:chExt cx="2076480" cy="2077920"/>
          </a:xfrm>
        </p:grpSpPr>
        <p:sp>
          <p:nvSpPr>
            <p:cNvPr id="787" name="모서리가 둥근 직사각형 10"/>
            <p:cNvSpPr/>
            <p:nvPr/>
          </p:nvSpPr>
          <p:spPr>
            <a:xfrm flipV="1" rot="10800000">
              <a:off x="701640" y="3308400"/>
              <a:ext cx="2076480" cy="2077920"/>
            </a:xfrm>
            <a:custGeom>
              <a:avLst/>
              <a:gdLst>
                <a:gd name="textAreaLeft" fmla="*/ 303840 w 2076480"/>
                <a:gd name="textAreaRight" fmla="*/ 1772640 w 2076480"/>
                <a:gd name="textAreaTop" fmla="*/ 303840 h 2077920"/>
                <a:gd name="textAreaBottom" fmla="*/ 1774080 h 2077920"/>
              </a:gdLst>
              <a:ahLst/>
              <a:rect l="textAreaLeft" t="textAreaTop" r="textAreaRight" b="textAreaBottom"/>
              <a:pathLst>
                <a:path w="21600" h="21615">
                  <a:moveTo>
                    <a:pt x="10800" y="0"/>
                  </a:moveTo>
                  <a:arcTo wR="10800" hR="10800" stAng="16200000" swAng="-5400000"/>
                  <a:lnTo>
                    <a:pt x="0" y="10815"/>
                  </a:lnTo>
                  <a:arcTo wR="10800" hR="10800" stAng="10800000" swAng="-5400000"/>
                  <a:lnTo>
                    <a:pt x="10800" y="2161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8d8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788" name="Group 14"/>
            <p:cNvGrpSpPr/>
            <p:nvPr/>
          </p:nvGrpSpPr>
          <p:grpSpPr>
            <a:xfrm>
              <a:off x="904320" y="3483360"/>
              <a:ext cx="1667520" cy="1668600"/>
              <a:chOff x="904320" y="3483360"/>
              <a:chExt cx="1667520" cy="1668600"/>
            </a:xfrm>
          </p:grpSpPr>
          <p:sp>
            <p:nvSpPr>
              <p:cNvPr id="789" name="Oval 15"/>
              <p:cNvSpPr/>
              <p:nvPr/>
            </p:nvSpPr>
            <p:spPr>
              <a:xfrm>
                <a:off x="904320" y="3483360"/>
                <a:ext cx="1667520" cy="1668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90" name="Oval 16"/>
              <p:cNvSpPr/>
              <p:nvPr/>
            </p:nvSpPr>
            <p:spPr>
              <a:xfrm>
                <a:off x="925560" y="3492720"/>
                <a:ext cx="1627200" cy="162720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1f5f5"/>
                  </a:gs>
                </a:gsLst>
                <a:lin ang="5400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91" name="Oval 17"/>
              <p:cNvSpPr/>
              <p:nvPr/>
            </p:nvSpPr>
            <p:spPr>
              <a:xfrm>
                <a:off x="942840" y="3508560"/>
                <a:ext cx="1547640" cy="1520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92" name="Oval 18"/>
              <p:cNvSpPr/>
              <p:nvPr/>
            </p:nvSpPr>
            <p:spPr>
              <a:xfrm>
                <a:off x="1033560" y="3551040"/>
                <a:ext cx="1375560" cy="1233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793" name="모서리가 둥근 직사각형 17"/>
          <p:cNvSpPr/>
          <p:nvPr/>
        </p:nvSpPr>
        <p:spPr>
          <a:xfrm>
            <a:off x="685800" y="2328840"/>
            <a:ext cx="2077920" cy="600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4" name="Text Box 4"/>
          <p:cNvSpPr/>
          <p:nvPr/>
        </p:nvSpPr>
        <p:spPr>
          <a:xfrm>
            <a:off x="922320" y="2335320"/>
            <a:ext cx="1598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5" name="모서리가 둥근 직사각형 20"/>
          <p:cNvSpPr/>
          <p:nvPr/>
        </p:nvSpPr>
        <p:spPr>
          <a:xfrm>
            <a:off x="3538440" y="2328840"/>
            <a:ext cx="2078280" cy="600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6" name="Text Box 4"/>
          <p:cNvSpPr/>
          <p:nvPr/>
        </p:nvSpPr>
        <p:spPr>
          <a:xfrm>
            <a:off x="3774960" y="2335320"/>
            <a:ext cx="15973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7" name="모서리가 둥근 직사각형 23"/>
          <p:cNvSpPr/>
          <p:nvPr/>
        </p:nvSpPr>
        <p:spPr>
          <a:xfrm>
            <a:off x="6294600" y="2328840"/>
            <a:ext cx="2077920" cy="600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6531120" y="2335320"/>
            <a:ext cx="1596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1074600" y="3951360"/>
            <a:ext cx="13114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00" name="Group 26"/>
          <p:cNvGrpSpPr/>
          <p:nvPr/>
        </p:nvGrpSpPr>
        <p:grpSpPr>
          <a:xfrm>
            <a:off x="3551040" y="3308400"/>
            <a:ext cx="2076120" cy="2077920"/>
            <a:chOff x="3551040" y="3308400"/>
            <a:chExt cx="2076120" cy="2077920"/>
          </a:xfrm>
        </p:grpSpPr>
        <p:sp>
          <p:nvSpPr>
            <p:cNvPr id="801" name="모서리가 둥근 직사각형 27"/>
            <p:cNvSpPr/>
            <p:nvPr/>
          </p:nvSpPr>
          <p:spPr>
            <a:xfrm flipV="1" rot="10800000">
              <a:off x="3551040" y="3308400"/>
              <a:ext cx="2076120" cy="2077920"/>
            </a:xfrm>
            <a:custGeom>
              <a:avLst/>
              <a:gdLst>
                <a:gd name="textAreaLeft" fmla="*/ 303840 w 2076120"/>
                <a:gd name="textAreaRight" fmla="*/ 1772280 w 2076120"/>
                <a:gd name="textAreaTop" fmla="*/ 303840 h 2077920"/>
                <a:gd name="textAreaBottom" fmla="*/ 1774080 h 2077920"/>
              </a:gdLst>
              <a:ahLst/>
              <a:rect l="textAreaLeft" t="textAreaTop" r="textAreaRight" b="textAreaBottom"/>
              <a:pathLst>
                <a:path w="21600" h="21619">
                  <a:moveTo>
                    <a:pt x="10800" y="0"/>
                  </a:moveTo>
                  <a:arcTo wR="10800" hR="10800" stAng="16200000" swAng="-5400000"/>
                  <a:lnTo>
                    <a:pt x="0" y="10819"/>
                  </a:lnTo>
                  <a:arcTo wR="10800" hR="10800" stAng="10800000" swAng="-5400000"/>
                  <a:lnTo>
                    <a:pt x="10800" y="2161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02" name="Group 28"/>
            <p:cNvGrpSpPr/>
            <p:nvPr/>
          </p:nvGrpSpPr>
          <p:grpSpPr>
            <a:xfrm>
              <a:off x="3754080" y="3483360"/>
              <a:ext cx="1667160" cy="1668600"/>
              <a:chOff x="3754080" y="3483360"/>
              <a:chExt cx="1667160" cy="1668600"/>
            </a:xfrm>
          </p:grpSpPr>
          <p:sp>
            <p:nvSpPr>
              <p:cNvPr id="803" name="Oval 15"/>
              <p:cNvSpPr/>
              <p:nvPr/>
            </p:nvSpPr>
            <p:spPr>
              <a:xfrm>
                <a:off x="3754080" y="3483360"/>
                <a:ext cx="1667160" cy="1668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04" name="Oval 16"/>
              <p:cNvSpPr/>
              <p:nvPr/>
            </p:nvSpPr>
            <p:spPr>
              <a:xfrm>
                <a:off x="3775320" y="3492720"/>
                <a:ext cx="1626840" cy="162720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1f5f5"/>
                  </a:gs>
                </a:gsLst>
                <a:lin ang="5400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05" name="Oval 17"/>
              <p:cNvSpPr/>
              <p:nvPr/>
            </p:nvSpPr>
            <p:spPr>
              <a:xfrm>
                <a:off x="3792600" y="3508560"/>
                <a:ext cx="1547280" cy="1520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06" name="Oval 18"/>
              <p:cNvSpPr/>
              <p:nvPr/>
            </p:nvSpPr>
            <p:spPr>
              <a:xfrm>
                <a:off x="3883320" y="3551040"/>
                <a:ext cx="1375200" cy="1233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807" name="Text Box 4"/>
          <p:cNvSpPr/>
          <p:nvPr/>
        </p:nvSpPr>
        <p:spPr>
          <a:xfrm>
            <a:off x="3919680" y="3951360"/>
            <a:ext cx="13111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8" name="Text Box 4"/>
          <p:cNvSpPr/>
          <p:nvPr/>
        </p:nvSpPr>
        <p:spPr>
          <a:xfrm>
            <a:off x="6750000" y="3951360"/>
            <a:ext cx="13114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9" name="AutoShape 4"/>
          <p:cNvSpPr/>
          <p:nvPr/>
        </p:nvSpPr>
        <p:spPr>
          <a:xfrm>
            <a:off x="3032280" y="4051440"/>
            <a:ext cx="379080" cy="534960"/>
          </a:xfrm>
          <a:custGeom>
            <a:avLst/>
            <a:gdLst>
              <a:gd name="textAreaLeft" fmla="*/ 0 w 379080"/>
              <a:gd name="textAreaRight" fmla="*/ 379440 w 37908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2" name="타원 2"/>
          <p:cNvSpPr/>
          <p:nvPr/>
        </p:nvSpPr>
        <p:spPr>
          <a:xfrm>
            <a:off x="1717560" y="1735200"/>
            <a:ext cx="352440" cy="6220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3" name="타원 3"/>
          <p:cNvSpPr/>
          <p:nvPr/>
        </p:nvSpPr>
        <p:spPr>
          <a:xfrm>
            <a:off x="7004160" y="1735200"/>
            <a:ext cx="352440" cy="6220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4" name="AutoShape 2"/>
          <p:cNvSpPr/>
          <p:nvPr/>
        </p:nvSpPr>
        <p:spPr>
          <a:xfrm>
            <a:off x="901800" y="2558880"/>
            <a:ext cx="7281720" cy="48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9646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5" name="AutoShape 4"/>
          <p:cNvSpPr/>
          <p:nvPr/>
        </p:nvSpPr>
        <p:spPr>
          <a:xfrm>
            <a:off x="901800" y="3292560"/>
            <a:ext cx="7281720" cy="48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a5a5"/>
              </a:gs>
              <a:gs pos="50000">
                <a:srgbClr val="f2f2f2"/>
              </a:gs>
              <a:gs pos="100000">
                <a:srgbClr val="a5a5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6" name="AutoShape 6"/>
          <p:cNvSpPr/>
          <p:nvPr/>
        </p:nvSpPr>
        <p:spPr>
          <a:xfrm>
            <a:off x="901800" y="4025880"/>
            <a:ext cx="7281720" cy="48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7" name="AutoShape 8"/>
          <p:cNvSpPr/>
          <p:nvPr/>
        </p:nvSpPr>
        <p:spPr>
          <a:xfrm>
            <a:off x="901800" y="4759200"/>
            <a:ext cx="7281720" cy="48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a5a5"/>
              </a:gs>
              <a:gs pos="50000">
                <a:srgbClr val="f2f2f2"/>
              </a:gs>
              <a:gs pos="100000">
                <a:srgbClr val="a5a5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8" name="AutoShape 10"/>
          <p:cNvSpPr/>
          <p:nvPr/>
        </p:nvSpPr>
        <p:spPr>
          <a:xfrm>
            <a:off x="901800" y="5510160"/>
            <a:ext cx="7281720" cy="48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9" name="Text Box 4"/>
          <p:cNvSpPr/>
          <p:nvPr/>
        </p:nvSpPr>
        <p:spPr>
          <a:xfrm flipH="1">
            <a:off x="1184400" y="2592360"/>
            <a:ext cx="66117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0" name="Text Box 4"/>
          <p:cNvSpPr/>
          <p:nvPr/>
        </p:nvSpPr>
        <p:spPr>
          <a:xfrm flipH="1">
            <a:off x="1184400" y="3338640"/>
            <a:ext cx="661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1" name="Text Box 4"/>
          <p:cNvSpPr/>
          <p:nvPr/>
        </p:nvSpPr>
        <p:spPr>
          <a:xfrm flipH="1">
            <a:off x="1184400" y="4054320"/>
            <a:ext cx="66117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2" name="Text Box 4"/>
          <p:cNvSpPr/>
          <p:nvPr/>
        </p:nvSpPr>
        <p:spPr>
          <a:xfrm flipH="1">
            <a:off x="1184400" y="4799160"/>
            <a:ext cx="661176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3" name="Text Box 4"/>
          <p:cNvSpPr/>
          <p:nvPr/>
        </p:nvSpPr>
        <p:spPr>
          <a:xfrm flipH="1">
            <a:off x="1184400" y="5556240"/>
            <a:ext cx="66117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4" name="Text Box 16"/>
          <p:cNvSpPr/>
          <p:nvPr/>
        </p:nvSpPr>
        <p:spPr>
          <a:xfrm>
            <a:off x="2587680" y="6267600"/>
            <a:ext cx="5184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Gulim"/>
                <a:ea typeface="Gulim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  <a:ea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5" name="모서리가 둥근 직사각형 15"/>
          <p:cNvSpPr/>
          <p:nvPr/>
        </p:nvSpPr>
        <p:spPr>
          <a:xfrm flipH="1">
            <a:off x="1778040" y="3903840"/>
            <a:ext cx="3852720" cy="48708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Text Box 4"/>
          <p:cNvSpPr/>
          <p:nvPr/>
        </p:nvSpPr>
        <p:spPr>
          <a:xfrm flipH="1">
            <a:off x="1945440" y="3962520"/>
            <a:ext cx="3411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모서리가 둥근 직사각형 17"/>
          <p:cNvSpPr/>
          <p:nvPr/>
        </p:nvSpPr>
        <p:spPr>
          <a:xfrm flipH="1">
            <a:off x="1778040" y="4487760"/>
            <a:ext cx="3852720" cy="48744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Text Box 4"/>
          <p:cNvSpPr/>
          <p:nvPr/>
        </p:nvSpPr>
        <p:spPr>
          <a:xfrm flipH="1">
            <a:off x="1945440" y="4546440"/>
            <a:ext cx="3411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모서리가 둥근 직사각형 19"/>
          <p:cNvSpPr/>
          <p:nvPr/>
        </p:nvSpPr>
        <p:spPr>
          <a:xfrm flipH="1">
            <a:off x="1778040" y="5059440"/>
            <a:ext cx="3852720" cy="48744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Text Box 4"/>
          <p:cNvSpPr/>
          <p:nvPr/>
        </p:nvSpPr>
        <p:spPr>
          <a:xfrm flipH="1">
            <a:off x="1945440" y="5118120"/>
            <a:ext cx="3411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모서리가 둥근 직사각형 25"/>
          <p:cNvSpPr/>
          <p:nvPr/>
        </p:nvSpPr>
        <p:spPr>
          <a:xfrm>
            <a:off x="6072120" y="2000160"/>
            <a:ext cx="2586240" cy="3643560"/>
          </a:xfrm>
          <a:custGeom>
            <a:avLst/>
            <a:gdLst>
              <a:gd name="textAreaLeft" fmla="*/ 92520 w 2586240"/>
              <a:gd name="textAreaRight" fmla="*/ 2493720 w 2586240"/>
              <a:gd name="textAreaTop" fmla="*/ 92520 h 3643560"/>
              <a:gd name="textAreaBottom" fmla="*/ 3551040 h 3643560"/>
            </a:gdLst>
            <a:ahLst/>
            <a:rect l="textAreaLeft" t="textAreaTop" r="textAreaRight" b="textAreaBottom"/>
            <a:pathLst>
              <a:path w="21600" h="30429">
                <a:moveTo>
                  <a:pt x="2645" y="0"/>
                </a:moveTo>
                <a:arcTo wR="2645" hR="2645" stAng="16200000" swAng="-5400000"/>
                <a:lnTo>
                  <a:pt x="0" y="27784"/>
                </a:lnTo>
                <a:arcTo wR="2645" hR="2645" stAng="10800000" swAng="-5400000"/>
                <a:lnTo>
                  <a:pt x="18955" y="30429"/>
                </a:lnTo>
                <a:arcTo wR="2645" hR="2645" stAng="5400000" swAng="-5400000"/>
                <a:lnTo>
                  <a:pt x="21600" y="2645"/>
                </a:lnTo>
                <a:arcTo wR="2645" hR="2645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255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모서리가 둥근 직사각형 26"/>
          <p:cNvSpPr/>
          <p:nvPr/>
        </p:nvSpPr>
        <p:spPr>
          <a:xfrm flipH="1">
            <a:off x="1778040" y="3336840"/>
            <a:ext cx="3852720" cy="48744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Text Box 4"/>
          <p:cNvSpPr/>
          <p:nvPr/>
        </p:nvSpPr>
        <p:spPr>
          <a:xfrm flipH="1">
            <a:off x="1945440" y="3395520"/>
            <a:ext cx="3411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모서리가 둥근 직사각형 28"/>
          <p:cNvSpPr/>
          <p:nvPr/>
        </p:nvSpPr>
        <p:spPr>
          <a:xfrm flipH="1">
            <a:off x="1778040" y="2784600"/>
            <a:ext cx="3852720" cy="48708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Text Box 4"/>
          <p:cNvSpPr/>
          <p:nvPr/>
        </p:nvSpPr>
        <p:spPr>
          <a:xfrm flipH="1">
            <a:off x="1945440" y="2843280"/>
            <a:ext cx="3411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모서리가 둥근 직사각형 30"/>
          <p:cNvSpPr/>
          <p:nvPr/>
        </p:nvSpPr>
        <p:spPr>
          <a:xfrm flipH="1">
            <a:off x="1778040" y="2227320"/>
            <a:ext cx="3852720" cy="48744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모서리가 둥근 직사각형 32"/>
          <p:cNvSpPr/>
          <p:nvPr/>
        </p:nvSpPr>
        <p:spPr>
          <a:xfrm>
            <a:off x="480960" y="3890880"/>
            <a:ext cx="124956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23880" y="3895560"/>
            <a:ext cx="9586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모서리가 둥근 직사각형 35"/>
          <p:cNvSpPr/>
          <p:nvPr/>
        </p:nvSpPr>
        <p:spPr>
          <a:xfrm>
            <a:off x="480960" y="4475160"/>
            <a:ext cx="124956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23880" y="4479840"/>
            <a:ext cx="9586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모서리가 둥근 직사각형 38"/>
          <p:cNvSpPr/>
          <p:nvPr/>
        </p:nvSpPr>
        <p:spPr>
          <a:xfrm>
            <a:off x="480960" y="5046840"/>
            <a:ext cx="1249560" cy="45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23880" y="5051520"/>
            <a:ext cx="9586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모서리가 둥근 직사각형 47"/>
          <p:cNvSpPr/>
          <p:nvPr/>
        </p:nvSpPr>
        <p:spPr>
          <a:xfrm>
            <a:off x="480960" y="3324240"/>
            <a:ext cx="124956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23880" y="3328920"/>
            <a:ext cx="9586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모서리가 둥근 직사각형 50"/>
          <p:cNvSpPr/>
          <p:nvPr/>
        </p:nvSpPr>
        <p:spPr>
          <a:xfrm>
            <a:off x="480960" y="2771640"/>
            <a:ext cx="124956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23880" y="2776680"/>
            <a:ext cx="9586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모서리가 둥근 직사각형 53"/>
          <p:cNvSpPr/>
          <p:nvPr/>
        </p:nvSpPr>
        <p:spPr>
          <a:xfrm>
            <a:off x="480960" y="2214720"/>
            <a:ext cx="1249560" cy="45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23880" y="2219400"/>
            <a:ext cx="9586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Text Box 4"/>
          <p:cNvSpPr/>
          <p:nvPr/>
        </p:nvSpPr>
        <p:spPr>
          <a:xfrm flipH="1">
            <a:off x="1945440" y="2286000"/>
            <a:ext cx="3411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Text Box 4"/>
          <p:cNvSpPr/>
          <p:nvPr/>
        </p:nvSpPr>
        <p:spPr>
          <a:xfrm flipH="1">
            <a:off x="6572160" y="2928960"/>
            <a:ext cx="16272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HY견고딕"/>
                <a:ea typeface="HY견고딕"/>
              </a:rPr>
              <a:t>图像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모서리가 둥근 직사각형 58"/>
          <p:cNvSpPr/>
          <p:nvPr/>
        </p:nvSpPr>
        <p:spPr>
          <a:xfrm>
            <a:off x="487440" y="5921280"/>
            <a:ext cx="8143920" cy="5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23840" y="6029280"/>
            <a:ext cx="7042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Box 2"/>
          <p:cNvSpPr/>
          <p:nvPr/>
        </p:nvSpPr>
        <p:spPr>
          <a:xfrm>
            <a:off x="1199520" y="4729320"/>
            <a:ext cx="441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HY견고딕"/>
                <a:ea typeface="HY견고딕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19040" y="2392200"/>
            <a:ext cx="1309680" cy="632160"/>
          </a:xfrm>
          <a:prstGeom prst="rect">
            <a:avLst/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741320" y="2392200"/>
            <a:ext cx="1309680" cy="632160"/>
          </a:xfrm>
          <a:prstGeom prst="rect">
            <a:avLst/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063960" y="2392200"/>
            <a:ext cx="1309680" cy="632160"/>
          </a:xfrm>
          <a:prstGeom prst="rect">
            <a:avLst/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4386240" y="2392200"/>
            <a:ext cx="1309680" cy="632160"/>
          </a:xfrm>
          <a:prstGeom prst="rect">
            <a:avLst/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5708520" y="2392200"/>
            <a:ext cx="1309680" cy="632160"/>
          </a:xfrm>
          <a:prstGeom prst="rect">
            <a:avLst/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7027920" y="2392200"/>
            <a:ext cx="1307880" cy="632160"/>
          </a:xfrm>
          <a:prstGeom prst="rect">
            <a:avLst/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419040" y="3457440"/>
            <a:ext cx="1309680" cy="2152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739880" y="3457440"/>
            <a:ext cx="1311120" cy="2152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3063960" y="3457440"/>
            <a:ext cx="1309680" cy="2152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4384800" y="3457440"/>
            <a:ext cx="1311120" cy="2152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5708520" y="3457440"/>
            <a:ext cx="1309680" cy="2152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7027920" y="3457440"/>
            <a:ext cx="1309680" cy="2152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428760" y="2825640"/>
            <a:ext cx="8359560" cy="830520"/>
          </a:xfrm>
          <a:prstGeom prst="rightArrow">
            <a:avLst>
              <a:gd name="adj1" fmla="val 50000"/>
              <a:gd name="adj2" fmla="val 61185"/>
            </a:avLst>
          </a:pr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428760" y="5384880"/>
            <a:ext cx="8359560" cy="830160"/>
          </a:xfrm>
          <a:prstGeom prst="rightArrow">
            <a:avLst>
              <a:gd name="adj1" fmla="val 50000"/>
              <a:gd name="adj2" fmla="val 61211"/>
            </a:avLst>
          </a:pr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41440" y="2476440"/>
            <a:ext cx="1027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860480" y="2476440"/>
            <a:ext cx="1027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205080" y="2476440"/>
            <a:ext cx="1027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522680" y="2476440"/>
            <a:ext cx="1028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859360" y="2476440"/>
            <a:ext cx="1027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176960" y="2476440"/>
            <a:ext cx="1028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886040" y="3079800"/>
            <a:ext cx="5067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886040" y="5649840"/>
            <a:ext cx="5067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Text Box 4"/>
          <p:cNvSpPr/>
          <p:nvPr/>
        </p:nvSpPr>
        <p:spPr>
          <a:xfrm flipH="1">
            <a:off x="590400" y="3639960"/>
            <a:ext cx="97488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Text Box 4"/>
          <p:cNvSpPr/>
          <p:nvPr/>
        </p:nvSpPr>
        <p:spPr>
          <a:xfrm flipH="1">
            <a:off x="1847160" y="3639960"/>
            <a:ext cx="9745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Text Box 4"/>
          <p:cNvSpPr/>
          <p:nvPr/>
        </p:nvSpPr>
        <p:spPr>
          <a:xfrm flipH="1">
            <a:off x="3233160" y="3639960"/>
            <a:ext cx="9745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Text Box 4"/>
          <p:cNvSpPr/>
          <p:nvPr/>
        </p:nvSpPr>
        <p:spPr>
          <a:xfrm flipH="1">
            <a:off x="4539600" y="3639960"/>
            <a:ext cx="9745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Text Box 4"/>
          <p:cNvSpPr/>
          <p:nvPr/>
        </p:nvSpPr>
        <p:spPr>
          <a:xfrm flipH="1">
            <a:off x="5863680" y="3639960"/>
            <a:ext cx="9745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Text Box 4"/>
          <p:cNvSpPr/>
          <p:nvPr/>
        </p:nvSpPr>
        <p:spPr>
          <a:xfrm flipH="1">
            <a:off x="7169040" y="3639960"/>
            <a:ext cx="97488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5" name="AutoShape 99"/>
          <p:cNvSpPr/>
          <p:nvPr/>
        </p:nvSpPr>
        <p:spPr>
          <a:xfrm flipH="1">
            <a:off x="4642560" y="4341960"/>
            <a:ext cx="3351240" cy="2233440"/>
          </a:xfrm>
          <a:prstGeom prst="parallelogram">
            <a:avLst>
              <a:gd name="adj" fmla="val 15991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AutoShape 100"/>
          <p:cNvSpPr/>
          <p:nvPr/>
        </p:nvSpPr>
        <p:spPr>
          <a:xfrm flipH="1">
            <a:off x="4753800" y="4818240"/>
            <a:ext cx="3195720" cy="1703160"/>
          </a:xfrm>
          <a:prstGeom prst="parallelogram">
            <a:avLst>
              <a:gd name="adj" fmla="val 16461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AutoShape 102"/>
          <p:cNvSpPr/>
          <p:nvPr/>
        </p:nvSpPr>
        <p:spPr>
          <a:xfrm>
            <a:off x="4643280" y="1882800"/>
            <a:ext cx="3351240" cy="2232000"/>
          </a:xfrm>
          <a:prstGeom prst="parallelogram">
            <a:avLst>
              <a:gd name="adj" fmla="val 16002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AutoShape 103"/>
          <p:cNvSpPr/>
          <p:nvPr/>
        </p:nvSpPr>
        <p:spPr>
          <a:xfrm>
            <a:off x="4699080" y="2351160"/>
            <a:ext cx="3184560" cy="1677960"/>
          </a:xfrm>
          <a:prstGeom prst="parallelogram">
            <a:avLst>
              <a:gd name="adj" fmla="val 161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AutoShape 89"/>
          <p:cNvSpPr/>
          <p:nvPr/>
        </p:nvSpPr>
        <p:spPr>
          <a:xfrm>
            <a:off x="1193760" y="4341960"/>
            <a:ext cx="3351240" cy="2233440"/>
          </a:xfrm>
          <a:prstGeom prst="parallelogram">
            <a:avLst>
              <a:gd name="adj" fmla="val 15991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AutoShape 90"/>
          <p:cNvSpPr/>
          <p:nvPr/>
        </p:nvSpPr>
        <p:spPr>
          <a:xfrm>
            <a:off x="1238400" y="4818240"/>
            <a:ext cx="3195360" cy="1703160"/>
          </a:xfrm>
          <a:prstGeom prst="parallelogram">
            <a:avLst>
              <a:gd name="adj" fmla="val 16451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AutoShape 93"/>
          <p:cNvSpPr/>
          <p:nvPr/>
        </p:nvSpPr>
        <p:spPr>
          <a:xfrm flipH="1">
            <a:off x="1193040" y="1882800"/>
            <a:ext cx="3351240" cy="2232000"/>
          </a:xfrm>
          <a:prstGeom prst="parallelogram">
            <a:avLst>
              <a:gd name="adj" fmla="val 16002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AutoShape 94"/>
          <p:cNvSpPr/>
          <p:nvPr/>
        </p:nvSpPr>
        <p:spPr>
          <a:xfrm flipH="1">
            <a:off x="1305000" y="2351160"/>
            <a:ext cx="3184560" cy="1677960"/>
          </a:xfrm>
          <a:prstGeom prst="parallelogram">
            <a:avLst>
              <a:gd name="adj" fmla="val 161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522440" y="1906560"/>
            <a:ext cx="2338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03880" y="1906560"/>
            <a:ext cx="2338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801800" y="4370400"/>
            <a:ext cx="23385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019840" y="4370400"/>
            <a:ext cx="2338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Text Box 4"/>
          <p:cNvSpPr/>
          <p:nvPr/>
        </p:nvSpPr>
        <p:spPr>
          <a:xfrm flipH="1">
            <a:off x="1720800" y="2519280"/>
            <a:ext cx="21988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" name="Text Box 4"/>
          <p:cNvSpPr/>
          <p:nvPr/>
        </p:nvSpPr>
        <p:spPr>
          <a:xfrm flipH="1">
            <a:off x="5260320" y="2519280"/>
            <a:ext cx="21985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" name="Text Box 4"/>
          <p:cNvSpPr/>
          <p:nvPr/>
        </p:nvSpPr>
        <p:spPr>
          <a:xfrm flipH="1">
            <a:off x="1720800" y="5022720"/>
            <a:ext cx="21988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Text Box 4"/>
          <p:cNvSpPr/>
          <p:nvPr/>
        </p:nvSpPr>
        <p:spPr>
          <a:xfrm flipH="1">
            <a:off x="5260320" y="5022720"/>
            <a:ext cx="21985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1" name="Group 20"/>
          <p:cNvGrpSpPr/>
          <p:nvPr/>
        </p:nvGrpSpPr>
        <p:grpSpPr>
          <a:xfrm>
            <a:off x="3695760" y="3289320"/>
            <a:ext cx="1749240" cy="1747800"/>
            <a:chOff x="3695760" y="3289320"/>
            <a:chExt cx="1749240" cy="1747800"/>
          </a:xfrm>
        </p:grpSpPr>
        <p:sp>
          <p:nvSpPr>
            <p:cNvPr id="182" name="Oval 14"/>
            <p:cNvSpPr/>
            <p:nvPr/>
          </p:nvSpPr>
          <p:spPr>
            <a:xfrm>
              <a:off x="3876480" y="3463920"/>
              <a:ext cx="1404720" cy="1403280"/>
            </a:xfrm>
            <a:prstGeom prst="ellipse">
              <a:avLst/>
            </a:prstGeom>
            <a:noFill/>
            <a:ln w="127080">
              <a:solidFill>
                <a:srgbClr val="d8d8d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71360" indent="-171360" algn="ctr"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" name="Oval 15"/>
            <p:cNvSpPr/>
            <p:nvPr/>
          </p:nvSpPr>
          <p:spPr>
            <a:xfrm>
              <a:off x="3695760" y="3289320"/>
              <a:ext cx="1749240" cy="1747800"/>
            </a:xfrm>
            <a:prstGeom prst="ellipse">
              <a:avLst/>
            </a:prstGeom>
            <a:noFill/>
            <a:ln w="63360">
              <a:solidFill>
                <a:srgbClr val="d8d8d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71360" indent="-171360" algn="ctr"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4" name="Group 23"/>
          <p:cNvGrpSpPr/>
          <p:nvPr/>
        </p:nvGrpSpPr>
        <p:grpSpPr>
          <a:xfrm>
            <a:off x="4032360" y="3600360"/>
            <a:ext cx="1117440" cy="1139760"/>
            <a:chOff x="4032360" y="3600360"/>
            <a:chExt cx="1117440" cy="1139760"/>
          </a:xfrm>
        </p:grpSpPr>
        <p:grpSp>
          <p:nvGrpSpPr>
            <p:cNvPr id="185" name="Group 24"/>
            <p:cNvGrpSpPr/>
            <p:nvPr/>
          </p:nvGrpSpPr>
          <p:grpSpPr>
            <a:xfrm>
              <a:off x="4032360" y="3600360"/>
              <a:ext cx="1117440" cy="1139760"/>
              <a:chOff x="4032360" y="3600360"/>
              <a:chExt cx="1117440" cy="1139760"/>
            </a:xfrm>
          </p:grpSpPr>
          <p:sp>
            <p:nvSpPr>
              <p:cNvPr id="186" name="모서리가 둥근 직사각형 23"/>
              <p:cNvSpPr/>
              <p:nvPr/>
            </p:nvSpPr>
            <p:spPr>
              <a:xfrm rot="10800000">
                <a:off x="4032360" y="3600360"/>
                <a:ext cx="1117440" cy="1139760"/>
              </a:xfrm>
              <a:custGeom>
                <a:avLst/>
                <a:gdLst>
                  <a:gd name="textAreaLeft" fmla="*/ 163440 w 1117440"/>
                  <a:gd name="textAreaRight" fmla="*/ 954000 w 1117440"/>
                  <a:gd name="textAreaTop" fmla="*/ 163440 h 1139760"/>
                  <a:gd name="textAreaBottom" fmla="*/ 976320 h 1139760"/>
                </a:gdLst>
                <a:ahLst/>
                <a:rect l="textAreaLeft" t="textAreaTop" r="textAreaRight" b="textAreaBottom"/>
                <a:pathLst>
                  <a:path w="21600" h="22031">
                    <a:moveTo>
                      <a:pt x="10800" y="0"/>
                    </a:moveTo>
                    <a:arcTo wR="10800" hR="10800" stAng="16200000" swAng="-5400000"/>
                    <a:lnTo>
                      <a:pt x="0" y="11231"/>
                    </a:lnTo>
                    <a:arcTo wR="10800" hR="10800" stAng="10800000" swAng="-5400000"/>
                    <a:lnTo>
                      <a:pt x="10800" y="220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7" name="Freeform 81"/>
              <p:cNvSpPr/>
              <p:nvPr/>
            </p:nvSpPr>
            <p:spPr>
              <a:xfrm>
                <a:off x="4133520" y="3601440"/>
                <a:ext cx="891720" cy="392760"/>
              </a:xfrm>
              <a:custGeom>
                <a:avLst/>
                <a:gdLst>
                  <a:gd name="textAreaLeft" fmla="*/ 0 w 891720"/>
                  <a:gd name="textAreaRight" fmla="*/ 892080 w 891720"/>
                  <a:gd name="textAreaTop" fmla="*/ 0 h 392760"/>
                  <a:gd name="textAreaBottom" fmla="*/ 393120 h 3927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88" name="Text Box 4"/>
            <p:cNvSpPr/>
            <p:nvPr/>
          </p:nvSpPr>
          <p:spPr>
            <a:xfrm>
              <a:off x="4144320" y="3907800"/>
              <a:ext cx="8517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文本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1" name="오른쪽 화살표 2"/>
          <p:cNvSpPr/>
          <p:nvPr/>
        </p:nvSpPr>
        <p:spPr>
          <a:xfrm flipH="1" rot="5400000">
            <a:off x="2722320" y="3376080"/>
            <a:ext cx="655560" cy="649440"/>
          </a:xfrm>
          <a:prstGeom prst="rightArrow">
            <a:avLst>
              <a:gd name="adj1" fmla="val 62806"/>
              <a:gd name="adj2" fmla="val 499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모서리가 둥근 직사각형 4"/>
          <p:cNvSpPr/>
          <p:nvPr/>
        </p:nvSpPr>
        <p:spPr>
          <a:xfrm flipV="1" rot="10800000">
            <a:off x="2342880" y="1906560"/>
            <a:ext cx="1393560" cy="1395360"/>
          </a:xfrm>
          <a:custGeom>
            <a:avLst/>
            <a:gdLst>
              <a:gd name="textAreaLeft" fmla="*/ 204120 w 1393560"/>
              <a:gd name="textAreaRight" fmla="*/ 1189440 w 1393560"/>
              <a:gd name="textAreaTop" fmla="*/ 204120 h 1395360"/>
              <a:gd name="textAreaBottom" fmla="*/ 1191240 h 1395360"/>
            </a:gdLst>
            <a:ahLst/>
            <a:rect l="textAreaLeft" t="textAreaTop" r="textAreaRight" b="textAreaBottom"/>
            <a:pathLst>
              <a:path w="21600" h="21628">
                <a:moveTo>
                  <a:pt x="10800" y="0"/>
                </a:moveTo>
                <a:arcTo wR="10800" hR="10800" stAng="16200000" swAng="-5400000"/>
                <a:lnTo>
                  <a:pt x="0" y="10828"/>
                </a:lnTo>
                <a:arcTo wR="10800" hR="10800" stAng="10800000" swAng="-5400000"/>
                <a:lnTo>
                  <a:pt x="10800" y="2162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436840" y="2227320"/>
            <a:ext cx="1198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모서리가 둥근 직사각형 7"/>
          <p:cNvSpPr/>
          <p:nvPr/>
        </p:nvSpPr>
        <p:spPr>
          <a:xfrm flipV="1" rot="10800000">
            <a:off x="4319640" y="2835360"/>
            <a:ext cx="1395360" cy="13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4414680" y="3156120"/>
            <a:ext cx="1198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오른쪽 화살표 9"/>
          <p:cNvSpPr/>
          <p:nvPr/>
        </p:nvSpPr>
        <p:spPr>
          <a:xfrm rot="19493400">
            <a:off x="3806640" y="3914280"/>
            <a:ext cx="688680" cy="649440"/>
          </a:xfrm>
          <a:prstGeom prst="rightArrow">
            <a:avLst>
              <a:gd name="adj1" fmla="val 62806"/>
              <a:gd name="adj2" fmla="val 499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오른쪽 화살표 10"/>
          <p:cNvSpPr/>
          <p:nvPr/>
        </p:nvSpPr>
        <p:spPr>
          <a:xfrm flipH="1" rot="2106600">
            <a:off x="1656360" y="3927240"/>
            <a:ext cx="641160" cy="65088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98" name="Group 11"/>
          <p:cNvGrpSpPr/>
          <p:nvPr/>
        </p:nvGrpSpPr>
        <p:grpSpPr>
          <a:xfrm>
            <a:off x="1952640" y="3832200"/>
            <a:ext cx="2239920" cy="2239920"/>
            <a:chOff x="1952640" y="3832200"/>
            <a:chExt cx="2239920" cy="2239920"/>
          </a:xfrm>
        </p:grpSpPr>
        <p:sp>
          <p:nvSpPr>
            <p:cNvPr id="199" name="모서리가 둥근 직사각형 14"/>
            <p:cNvSpPr/>
            <p:nvPr/>
          </p:nvSpPr>
          <p:spPr>
            <a:xfrm rot="10800000">
              <a:off x="1952640" y="3832200"/>
              <a:ext cx="2239920" cy="223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" name="Freeform 81"/>
            <p:cNvSpPr/>
            <p:nvPr/>
          </p:nvSpPr>
          <p:spPr>
            <a:xfrm>
              <a:off x="2155680" y="3834360"/>
              <a:ext cx="1787040" cy="772200"/>
            </a:xfrm>
            <a:custGeom>
              <a:avLst/>
              <a:gdLst>
                <a:gd name="textAreaLeft" fmla="*/ 0 w 1787040"/>
                <a:gd name="textAreaRight" fmla="*/ 1787400 w 1787040"/>
                <a:gd name="textAreaTop" fmla="*/ 0 h 772200"/>
                <a:gd name="textAreaBottom" fmla="*/ 772560 h 772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01" name="Text Box 4"/>
          <p:cNvSpPr/>
          <p:nvPr/>
        </p:nvSpPr>
        <p:spPr>
          <a:xfrm>
            <a:off x="2176560" y="4435560"/>
            <a:ext cx="17082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모서리가 둥근 직사각형 17"/>
          <p:cNvSpPr/>
          <p:nvPr/>
        </p:nvSpPr>
        <p:spPr>
          <a:xfrm flipV="1" rot="10800000">
            <a:off x="487440" y="2835360"/>
            <a:ext cx="1395360" cy="13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81040" y="3156120"/>
            <a:ext cx="1200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모서리가 둥근 직사각형 19"/>
          <p:cNvSpPr/>
          <p:nvPr/>
        </p:nvSpPr>
        <p:spPr>
          <a:xfrm flipH="1">
            <a:off x="6071400" y="1857240"/>
            <a:ext cx="2644920" cy="4727880"/>
          </a:xfrm>
          <a:custGeom>
            <a:avLst/>
            <a:gdLst>
              <a:gd name="textAreaLeft" fmla="*/ 31680 w 2644920"/>
              <a:gd name="textAreaRight" fmla="*/ 2613240 w 2644920"/>
              <a:gd name="textAreaTop" fmla="*/ 31680 h 4727880"/>
              <a:gd name="textAreaBottom" fmla="*/ 4696200 h 4727880"/>
            </a:gdLst>
            <a:ahLst/>
            <a:rect l="textAreaLeft" t="textAreaTop" r="textAreaRight" b="textAreaBottom"/>
            <a:pathLst>
              <a:path w="21600" h="38608">
                <a:moveTo>
                  <a:pt x="889" y="0"/>
                </a:moveTo>
                <a:arcTo wR="889" hR="889" stAng="16200000" swAng="-5400000"/>
                <a:lnTo>
                  <a:pt x="0" y="37719"/>
                </a:lnTo>
                <a:arcTo wR="889" hR="889" stAng="10800000" swAng="-5400000"/>
                <a:lnTo>
                  <a:pt x="20711" y="38608"/>
                </a:lnTo>
                <a:arcTo wR="889" hR="889" stAng="5400000" swAng="-5400000"/>
                <a:lnTo>
                  <a:pt x="21600" y="889"/>
                </a:lnTo>
                <a:arcTo wR="889" hR="889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모서리가 둥근 직사각형 21"/>
          <p:cNvSpPr/>
          <p:nvPr/>
        </p:nvSpPr>
        <p:spPr>
          <a:xfrm>
            <a:off x="6235560" y="2013120"/>
            <a:ext cx="22528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9494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492960" y="2017800"/>
            <a:ext cx="1730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Text Box 4"/>
          <p:cNvSpPr/>
          <p:nvPr/>
        </p:nvSpPr>
        <p:spPr>
          <a:xfrm flipH="1">
            <a:off x="6336720" y="2798640"/>
            <a:ext cx="2057400" cy="35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2587680" y="6267600"/>
            <a:ext cx="5184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Gulim"/>
                <a:ea typeface="Gulim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1" name="자유형 79"/>
          <p:cNvSpPr/>
          <p:nvPr/>
        </p:nvSpPr>
        <p:spPr>
          <a:xfrm>
            <a:off x="2197080" y="3487680"/>
            <a:ext cx="2162160" cy="820800"/>
          </a:xfrm>
          <a:custGeom>
            <a:avLst/>
            <a:gdLst>
              <a:gd name="textAreaLeft" fmla="*/ 0 w 2162160"/>
              <a:gd name="textAreaRight" fmla="*/ 2162160 w 216216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2657646" h="1377712">
                <a:moveTo>
                  <a:pt x="2467428" y="506855"/>
                </a:moveTo>
                <a:cubicBezTo>
                  <a:pt x="2491618" y="492341"/>
                  <a:pt x="2570981" y="459408"/>
                  <a:pt x="2583543" y="434284"/>
                </a:cubicBezTo>
                <a:cubicBezTo>
                  <a:pt x="2590385" y="420600"/>
                  <a:pt x="2573866" y="405255"/>
                  <a:pt x="2569028" y="390741"/>
                </a:cubicBezTo>
                <a:cubicBezTo>
                  <a:pt x="2573866" y="376227"/>
                  <a:pt x="2575056" y="359928"/>
                  <a:pt x="2583543" y="347198"/>
                </a:cubicBezTo>
                <a:cubicBezTo>
                  <a:pt x="2614869" y="300210"/>
                  <a:pt x="2657646" y="313208"/>
                  <a:pt x="2612571" y="245598"/>
                </a:cubicBezTo>
                <a:cubicBezTo>
                  <a:pt x="2602895" y="231084"/>
                  <a:pt x="2583542" y="226246"/>
                  <a:pt x="2569028" y="216570"/>
                </a:cubicBezTo>
                <a:cubicBezTo>
                  <a:pt x="2491623" y="100460"/>
                  <a:pt x="2593215" y="240756"/>
                  <a:pt x="2496457" y="143998"/>
                </a:cubicBezTo>
                <a:cubicBezTo>
                  <a:pt x="2484122" y="131663"/>
                  <a:pt x="2479763" y="112790"/>
                  <a:pt x="2467428" y="100455"/>
                </a:cubicBezTo>
                <a:cubicBezTo>
                  <a:pt x="2439293" y="72320"/>
                  <a:pt x="2415756" y="68717"/>
                  <a:pt x="2380343" y="56912"/>
                </a:cubicBezTo>
                <a:cubicBezTo>
                  <a:pt x="2379455" y="57060"/>
                  <a:pt x="2268518" y="70898"/>
                  <a:pt x="2249714" y="85941"/>
                </a:cubicBezTo>
                <a:cubicBezTo>
                  <a:pt x="2236093" y="96838"/>
                  <a:pt x="2228487" y="113882"/>
                  <a:pt x="2220686" y="129484"/>
                </a:cubicBezTo>
                <a:cubicBezTo>
                  <a:pt x="2213844" y="143168"/>
                  <a:pt x="2216989" y="162209"/>
                  <a:pt x="2206171" y="173027"/>
                </a:cubicBezTo>
                <a:cubicBezTo>
                  <a:pt x="2195353" y="183845"/>
                  <a:pt x="2177865" y="186156"/>
                  <a:pt x="2162628" y="187541"/>
                </a:cubicBezTo>
                <a:cubicBezTo>
                  <a:pt x="2070955" y="195875"/>
                  <a:pt x="1978781" y="197217"/>
                  <a:pt x="1886857" y="202055"/>
                </a:cubicBezTo>
                <a:cubicBezTo>
                  <a:pt x="1862667" y="197217"/>
                  <a:pt x="1835705" y="199780"/>
                  <a:pt x="1814286" y="187541"/>
                </a:cubicBezTo>
                <a:cubicBezTo>
                  <a:pt x="1799140" y="178886"/>
                  <a:pt x="1799771" y="153674"/>
                  <a:pt x="1785257" y="143998"/>
                </a:cubicBezTo>
                <a:cubicBezTo>
                  <a:pt x="1768659" y="132933"/>
                  <a:pt x="1746552" y="134322"/>
                  <a:pt x="1727200" y="129484"/>
                </a:cubicBezTo>
                <a:cubicBezTo>
                  <a:pt x="1623565" y="164028"/>
                  <a:pt x="1665574" y="141539"/>
                  <a:pt x="1596571" y="187541"/>
                </a:cubicBezTo>
                <a:cubicBezTo>
                  <a:pt x="1490133" y="182703"/>
                  <a:pt x="1383046" y="185722"/>
                  <a:pt x="1277257" y="173027"/>
                </a:cubicBezTo>
                <a:cubicBezTo>
                  <a:pt x="1214983" y="165554"/>
                  <a:pt x="1247607" y="127281"/>
                  <a:pt x="1204686" y="100455"/>
                </a:cubicBezTo>
                <a:cubicBezTo>
                  <a:pt x="1178738" y="84238"/>
                  <a:pt x="1012824" y="0"/>
                  <a:pt x="1012824" y="0"/>
                </a:cubicBezTo>
                <a:cubicBezTo>
                  <a:pt x="945091" y="2419"/>
                  <a:pt x="841299" y="93389"/>
                  <a:pt x="798286" y="114970"/>
                </a:cubicBezTo>
                <a:cubicBezTo>
                  <a:pt x="783772" y="119808"/>
                  <a:pt x="770016" y="128586"/>
                  <a:pt x="754743" y="129484"/>
                </a:cubicBezTo>
                <a:lnTo>
                  <a:pt x="508000" y="143998"/>
                </a:lnTo>
                <a:cubicBezTo>
                  <a:pt x="512838" y="197217"/>
                  <a:pt x="514957" y="250754"/>
                  <a:pt x="522514" y="303655"/>
                </a:cubicBezTo>
                <a:cubicBezTo>
                  <a:pt x="524678" y="318801"/>
                  <a:pt x="539543" y="332107"/>
                  <a:pt x="537028" y="347198"/>
                </a:cubicBezTo>
                <a:cubicBezTo>
                  <a:pt x="534160" y="364405"/>
                  <a:pt x="520335" y="378406"/>
                  <a:pt x="508000" y="390741"/>
                </a:cubicBezTo>
                <a:cubicBezTo>
                  <a:pt x="490982" y="407759"/>
                  <a:pt x="446578" y="432231"/>
                  <a:pt x="420914" y="434284"/>
                </a:cubicBezTo>
                <a:cubicBezTo>
                  <a:pt x="314705" y="442781"/>
                  <a:pt x="208038" y="443960"/>
                  <a:pt x="101600" y="448798"/>
                </a:cubicBezTo>
                <a:cubicBezTo>
                  <a:pt x="0" y="482665"/>
                  <a:pt x="24190" y="448798"/>
                  <a:pt x="0" y="521370"/>
                </a:cubicBezTo>
                <a:cubicBezTo>
                  <a:pt x="4838" y="535884"/>
                  <a:pt x="4957" y="552965"/>
                  <a:pt x="14514" y="564912"/>
                </a:cubicBezTo>
                <a:cubicBezTo>
                  <a:pt x="34978" y="590492"/>
                  <a:pt x="72915" y="598893"/>
                  <a:pt x="101600" y="608455"/>
                </a:cubicBezTo>
                <a:cubicBezTo>
                  <a:pt x="184790" y="733242"/>
                  <a:pt x="85051" y="575358"/>
                  <a:pt x="145143" y="695541"/>
                </a:cubicBezTo>
                <a:cubicBezTo>
                  <a:pt x="152944" y="711143"/>
                  <a:pt x="166370" y="723482"/>
                  <a:pt x="174171" y="739084"/>
                </a:cubicBezTo>
                <a:cubicBezTo>
                  <a:pt x="181013" y="752768"/>
                  <a:pt x="180199" y="769897"/>
                  <a:pt x="188686" y="782627"/>
                </a:cubicBezTo>
                <a:cubicBezTo>
                  <a:pt x="211039" y="816156"/>
                  <a:pt x="243639" y="833777"/>
                  <a:pt x="275771" y="855198"/>
                </a:cubicBezTo>
                <a:cubicBezTo>
                  <a:pt x="285447" y="869712"/>
                  <a:pt x="293211" y="885703"/>
                  <a:pt x="304800" y="898741"/>
                </a:cubicBezTo>
                <a:cubicBezTo>
                  <a:pt x="348766" y="948203"/>
                  <a:pt x="402207" y="1120538"/>
                  <a:pt x="430443" y="1177011"/>
                </a:cubicBezTo>
                <a:cubicBezTo>
                  <a:pt x="503014" y="1201202"/>
                  <a:pt x="683759" y="1073329"/>
                  <a:pt x="740228" y="1043884"/>
                </a:cubicBezTo>
                <a:cubicBezTo>
                  <a:pt x="753850" y="1032987"/>
                  <a:pt x="759581" y="1014855"/>
                  <a:pt x="769257" y="1000341"/>
                </a:cubicBezTo>
                <a:cubicBezTo>
                  <a:pt x="764419" y="976151"/>
                  <a:pt x="772187" y="945214"/>
                  <a:pt x="754743" y="927770"/>
                </a:cubicBezTo>
                <a:cubicBezTo>
                  <a:pt x="733106" y="906133"/>
                  <a:pt x="696686" y="908417"/>
                  <a:pt x="667657" y="898741"/>
                </a:cubicBezTo>
                <a:lnTo>
                  <a:pt x="624114" y="884227"/>
                </a:lnTo>
                <a:cubicBezTo>
                  <a:pt x="609600" y="874551"/>
                  <a:pt x="584355" y="872227"/>
                  <a:pt x="580571" y="855198"/>
                </a:cubicBezTo>
                <a:cubicBezTo>
                  <a:pt x="546609" y="702366"/>
                  <a:pt x="592598" y="751939"/>
                  <a:pt x="638628" y="782627"/>
                </a:cubicBezTo>
                <a:cubicBezTo>
                  <a:pt x="648304" y="797141"/>
                  <a:pt x="652864" y="816925"/>
                  <a:pt x="667657" y="826170"/>
                </a:cubicBezTo>
                <a:cubicBezTo>
                  <a:pt x="733358" y="867233"/>
                  <a:pt x="870193" y="864819"/>
                  <a:pt x="928914" y="869712"/>
                </a:cubicBezTo>
                <a:cubicBezTo>
                  <a:pt x="948266" y="898741"/>
                  <a:pt x="966038" y="928888"/>
                  <a:pt x="986971" y="956798"/>
                </a:cubicBezTo>
                <a:cubicBezTo>
                  <a:pt x="1001485" y="976150"/>
                  <a:pt x="1016642" y="995037"/>
                  <a:pt x="1030514" y="1014855"/>
                </a:cubicBezTo>
                <a:cubicBezTo>
                  <a:pt x="1050521" y="1043436"/>
                  <a:pt x="1063901" y="1077271"/>
                  <a:pt x="1088571" y="1101941"/>
                </a:cubicBezTo>
                <a:cubicBezTo>
                  <a:pt x="1187992" y="1201362"/>
                  <a:pt x="1152885" y="1154869"/>
                  <a:pt x="1204686" y="1232570"/>
                </a:cubicBezTo>
                <a:cubicBezTo>
                  <a:pt x="1209524" y="1261598"/>
                  <a:pt x="1193649" y="1305054"/>
                  <a:pt x="1219200" y="1319655"/>
                </a:cubicBezTo>
                <a:cubicBezTo>
                  <a:pt x="1245767" y="1334836"/>
                  <a:pt x="1306286" y="1290627"/>
                  <a:pt x="1306286" y="1290627"/>
                </a:cubicBezTo>
                <a:cubicBezTo>
                  <a:pt x="1342250" y="1182732"/>
                  <a:pt x="1303516" y="1310019"/>
                  <a:pt x="1335314" y="1087427"/>
                </a:cubicBezTo>
                <a:cubicBezTo>
                  <a:pt x="1337478" y="1072281"/>
                  <a:pt x="1339010" y="1054702"/>
                  <a:pt x="1349828" y="1043884"/>
                </a:cubicBezTo>
                <a:cubicBezTo>
                  <a:pt x="1360646" y="1033066"/>
                  <a:pt x="1379309" y="1035397"/>
                  <a:pt x="1393371" y="1029370"/>
                </a:cubicBezTo>
                <a:cubicBezTo>
                  <a:pt x="1518918" y="975564"/>
                  <a:pt x="1392855" y="1019865"/>
                  <a:pt x="1494971" y="985827"/>
                </a:cubicBezTo>
                <a:cubicBezTo>
                  <a:pt x="1523837" y="966583"/>
                  <a:pt x="1546002" y="935257"/>
                  <a:pt x="1582057" y="971312"/>
                </a:cubicBezTo>
                <a:cubicBezTo>
                  <a:pt x="1592875" y="982130"/>
                  <a:pt x="1591733" y="1000341"/>
                  <a:pt x="1596571" y="1014855"/>
                </a:cubicBezTo>
                <a:cubicBezTo>
                  <a:pt x="1601409" y="1053560"/>
                  <a:pt x="1602913" y="1092830"/>
                  <a:pt x="1611086" y="1130970"/>
                </a:cubicBezTo>
                <a:cubicBezTo>
                  <a:pt x="1632842" y="1232497"/>
                  <a:pt x="1636493" y="1189063"/>
                  <a:pt x="1654628" y="1261598"/>
                </a:cubicBezTo>
                <a:cubicBezTo>
                  <a:pt x="1663344" y="1296458"/>
                  <a:pt x="1666849" y="1338141"/>
                  <a:pt x="1698171" y="1363198"/>
                </a:cubicBezTo>
                <a:cubicBezTo>
                  <a:pt x="1710118" y="1372755"/>
                  <a:pt x="1727200" y="1372874"/>
                  <a:pt x="1741714" y="1377712"/>
                </a:cubicBezTo>
                <a:lnTo>
                  <a:pt x="1857828" y="1363198"/>
                </a:lnTo>
                <a:cubicBezTo>
                  <a:pt x="1870529" y="1353037"/>
                  <a:pt x="1773085" y="1292188"/>
                  <a:pt x="1770743" y="1290627"/>
                </a:cubicBezTo>
                <a:cubicBezTo>
                  <a:pt x="1765854" y="1283293"/>
                  <a:pt x="1718615" y="1220711"/>
                  <a:pt x="1727200" y="1203541"/>
                </a:cubicBezTo>
                <a:cubicBezTo>
                  <a:pt x="1734042" y="1189857"/>
                  <a:pt x="1756229" y="1193865"/>
                  <a:pt x="1770743" y="1189027"/>
                </a:cubicBezTo>
                <a:cubicBezTo>
                  <a:pt x="1780419" y="1203541"/>
                  <a:pt x="1787436" y="1220235"/>
                  <a:pt x="1799771" y="1232570"/>
                </a:cubicBezTo>
                <a:cubicBezTo>
                  <a:pt x="1833181" y="1265980"/>
                  <a:pt x="1856958" y="1265009"/>
                  <a:pt x="1901371" y="1276112"/>
                </a:cubicBezTo>
                <a:cubicBezTo>
                  <a:pt x="1915885" y="1271274"/>
                  <a:pt x="1932967" y="1271155"/>
                  <a:pt x="1944914" y="1261598"/>
                </a:cubicBezTo>
                <a:cubicBezTo>
                  <a:pt x="1958536" y="1250701"/>
                  <a:pt x="1962776" y="1231456"/>
                  <a:pt x="1973943" y="1218055"/>
                </a:cubicBezTo>
                <a:cubicBezTo>
                  <a:pt x="1987084" y="1202286"/>
                  <a:pt x="2002972" y="1189026"/>
                  <a:pt x="2017486" y="1174512"/>
                </a:cubicBezTo>
                <a:cubicBezTo>
                  <a:pt x="2012648" y="1159998"/>
                  <a:pt x="2014918" y="1140527"/>
                  <a:pt x="2002971" y="1130970"/>
                </a:cubicBezTo>
                <a:cubicBezTo>
                  <a:pt x="1987394" y="1118509"/>
                  <a:pt x="1963249" y="1124313"/>
                  <a:pt x="1944914" y="1116455"/>
                </a:cubicBezTo>
                <a:cubicBezTo>
                  <a:pt x="1928881" y="1109583"/>
                  <a:pt x="1915885" y="1097103"/>
                  <a:pt x="1901371" y="1087427"/>
                </a:cubicBezTo>
                <a:cubicBezTo>
                  <a:pt x="1896533" y="1072913"/>
                  <a:pt x="1886857" y="1059183"/>
                  <a:pt x="1886857" y="1043884"/>
                </a:cubicBezTo>
                <a:cubicBezTo>
                  <a:pt x="1886857" y="1028585"/>
                  <a:pt x="1891814" y="1012288"/>
                  <a:pt x="1901371" y="1000341"/>
                </a:cubicBezTo>
                <a:cubicBezTo>
                  <a:pt x="1956358" y="931607"/>
                  <a:pt x="2163556" y="957647"/>
                  <a:pt x="2177143" y="956798"/>
                </a:cubicBezTo>
                <a:cubicBezTo>
                  <a:pt x="2246146" y="910797"/>
                  <a:pt x="2215170" y="944319"/>
                  <a:pt x="2249714" y="840684"/>
                </a:cubicBezTo>
                <a:cubicBezTo>
                  <a:pt x="2255230" y="824135"/>
                  <a:pt x="2279856" y="822822"/>
                  <a:pt x="2293257" y="811655"/>
                </a:cubicBezTo>
                <a:cubicBezTo>
                  <a:pt x="2309026" y="798514"/>
                  <a:pt x="2322286" y="782626"/>
                  <a:pt x="2336800" y="768112"/>
                </a:cubicBezTo>
                <a:cubicBezTo>
                  <a:pt x="2331962" y="753598"/>
                  <a:pt x="2329876" y="737853"/>
                  <a:pt x="2322286" y="724570"/>
                </a:cubicBezTo>
                <a:cubicBezTo>
                  <a:pt x="2251987" y="601546"/>
                  <a:pt x="2297509" y="722807"/>
                  <a:pt x="2264228" y="622970"/>
                </a:cubicBezTo>
                <a:cubicBezTo>
                  <a:pt x="2268782" y="609309"/>
                  <a:pt x="2298381" y="549545"/>
                  <a:pt x="2264228" y="535884"/>
                </a:cubicBezTo>
                <a:cubicBezTo>
                  <a:pt x="2245707" y="528475"/>
                  <a:pt x="2225523" y="545560"/>
                  <a:pt x="2206171" y="550398"/>
                </a:cubicBezTo>
                <a:cubicBezTo>
                  <a:pt x="2196495" y="535884"/>
                  <a:pt x="2180011" y="524062"/>
                  <a:pt x="2177143" y="506855"/>
                </a:cubicBezTo>
                <a:cubicBezTo>
                  <a:pt x="2162862" y="421166"/>
                  <a:pt x="2281336" y="474522"/>
                  <a:pt x="2307771" y="477827"/>
                </a:cubicBezTo>
                <a:cubicBezTo>
                  <a:pt x="2346478" y="593943"/>
                  <a:pt x="2288418" y="458474"/>
                  <a:pt x="2365828" y="535884"/>
                </a:cubicBezTo>
                <a:cubicBezTo>
                  <a:pt x="2376646" y="546702"/>
                  <a:pt x="2375505" y="564913"/>
                  <a:pt x="2380343" y="579427"/>
                </a:cubicBezTo>
                <a:cubicBezTo>
                  <a:pt x="2399953" y="736311"/>
                  <a:pt x="2365934" y="712386"/>
                  <a:pt x="2438400" y="651998"/>
                </a:cubicBezTo>
                <a:cubicBezTo>
                  <a:pt x="2451801" y="640831"/>
                  <a:pt x="2467429" y="632646"/>
                  <a:pt x="2481943" y="622970"/>
                </a:cubicBezTo>
                <a:cubicBezTo>
                  <a:pt x="2477105" y="603617"/>
                  <a:pt x="2475286" y="583247"/>
                  <a:pt x="2467428" y="564912"/>
                </a:cubicBezTo>
                <a:cubicBezTo>
                  <a:pt x="2460557" y="548879"/>
                  <a:pt x="2438400" y="538814"/>
                  <a:pt x="2438400" y="521370"/>
                </a:cubicBezTo>
                <a:cubicBezTo>
                  <a:pt x="2438400" y="510552"/>
                  <a:pt x="2443238" y="521369"/>
                  <a:pt x="2467428" y="506855"/>
                </a:cubicBezTo>
                <a:close/>
              </a:path>
            </a:pathLst>
          </a:cu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자유형 80"/>
          <p:cNvSpPr/>
          <p:nvPr/>
        </p:nvSpPr>
        <p:spPr>
          <a:xfrm>
            <a:off x="4241880" y="3798720"/>
            <a:ext cx="216000" cy="119160"/>
          </a:xfrm>
          <a:custGeom>
            <a:avLst/>
            <a:gdLst>
              <a:gd name="textAreaLeft" fmla="*/ 0 w 216000"/>
              <a:gd name="textAreaRight" fmla="*/ 216360 w 2160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65497" h="200025">
                <a:moveTo>
                  <a:pt x="31098" y="152400"/>
                </a:moveTo>
                <a:cubicBezTo>
                  <a:pt x="51735" y="139700"/>
                  <a:pt x="119659" y="161149"/>
                  <a:pt x="164448" y="123825"/>
                </a:cubicBezTo>
                <a:cubicBezTo>
                  <a:pt x="174796" y="115201"/>
                  <a:pt x="183498" y="104775"/>
                  <a:pt x="193023" y="95250"/>
                </a:cubicBezTo>
                <a:lnTo>
                  <a:pt x="221598" y="9525"/>
                </a:lnTo>
                <a:cubicBezTo>
                  <a:pt x="224773" y="0"/>
                  <a:pt x="240648" y="3175"/>
                  <a:pt x="250173" y="0"/>
                </a:cubicBezTo>
                <a:cubicBezTo>
                  <a:pt x="253348" y="9525"/>
                  <a:pt x="259698" y="18535"/>
                  <a:pt x="259698" y="28575"/>
                </a:cubicBezTo>
                <a:cubicBezTo>
                  <a:pt x="259698" y="66807"/>
                  <a:pt x="265497" y="107848"/>
                  <a:pt x="250173" y="142875"/>
                </a:cubicBezTo>
                <a:cubicBezTo>
                  <a:pt x="244810" y="155133"/>
                  <a:pt x="188370" y="187510"/>
                  <a:pt x="164448" y="190500"/>
                </a:cubicBezTo>
                <a:cubicBezTo>
                  <a:pt x="123371" y="195635"/>
                  <a:pt x="81898" y="196850"/>
                  <a:pt x="40623" y="200025"/>
                </a:cubicBezTo>
                <a:cubicBezTo>
                  <a:pt x="0" y="186484"/>
                  <a:pt x="10461" y="165100"/>
                  <a:pt x="31098" y="152400"/>
                </a:cubicBez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자유형 81"/>
          <p:cNvSpPr/>
          <p:nvPr/>
        </p:nvSpPr>
        <p:spPr>
          <a:xfrm>
            <a:off x="4425840" y="3720960"/>
            <a:ext cx="111240" cy="68400"/>
          </a:xfrm>
          <a:custGeom>
            <a:avLst/>
            <a:gdLst>
              <a:gd name="textAreaLeft" fmla="*/ 0 w 111240"/>
              <a:gd name="textAreaRight" fmla="*/ 111600 w 1112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36669" h="114140">
                <a:moveTo>
                  <a:pt x="61640" y="110965"/>
                </a:moveTo>
                <a:cubicBezTo>
                  <a:pt x="79103" y="114140"/>
                  <a:pt x="109635" y="113893"/>
                  <a:pt x="128315" y="101440"/>
                </a:cubicBezTo>
                <a:cubicBezTo>
                  <a:pt x="136669" y="95871"/>
                  <a:pt x="126960" y="78701"/>
                  <a:pt x="118790" y="72865"/>
                </a:cubicBezTo>
                <a:cubicBezTo>
                  <a:pt x="102450" y="61193"/>
                  <a:pt x="61640" y="53815"/>
                  <a:pt x="61640" y="53815"/>
                </a:cubicBezTo>
                <a:cubicBezTo>
                  <a:pt x="44563" y="42430"/>
                  <a:pt x="0" y="0"/>
                  <a:pt x="23540" y="82390"/>
                </a:cubicBezTo>
                <a:cubicBezTo>
                  <a:pt x="30996" y="108485"/>
                  <a:pt x="44178" y="107790"/>
                  <a:pt x="61640" y="110965"/>
                </a:cubicBez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자유형 82"/>
          <p:cNvSpPr/>
          <p:nvPr/>
        </p:nvSpPr>
        <p:spPr>
          <a:xfrm>
            <a:off x="4540320" y="3691080"/>
            <a:ext cx="87120" cy="66600"/>
          </a:xfrm>
          <a:custGeom>
            <a:avLst/>
            <a:gdLst>
              <a:gd name="textAreaLeft" fmla="*/ 0 w 87120"/>
              <a:gd name="textAreaRight" fmla="*/ 87480 w 871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06584" h="111125">
                <a:moveTo>
                  <a:pt x="15875" y="47625"/>
                </a:moveTo>
                <a:cubicBezTo>
                  <a:pt x="20638" y="38100"/>
                  <a:pt x="35673" y="42976"/>
                  <a:pt x="44450" y="38100"/>
                </a:cubicBezTo>
                <a:cubicBezTo>
                  <a:pt x="64464" y="26981"/>
                  <a:pt x="101600" y="0"/>
                  <a:pt x="101600" y="0"/>
                </a:cubicBezTo>
                <a:cubicBezTo>
                  <a:pt x="83057" y="55630"/>
                  <a:pt x="106584" y="4541"/>
                  <a:pt x="63500" y="47625"/>
                </a:cubicBezTo>
                <a:cubicBezTo>
                  <a:pt x="0" y="111125"/>
                  <a:pt x="92075" y="44450"/>
                  <a:pt x="15875" y="95250"/>
                </a:cubicBezTo>
                <a:cubicBezTo>
                  <a:pt x="4342" y="60651"/>
                  <a:pt x="11112" y="57150"/>
                  <a:pt x="15875" y="47625"/>
                </a:cubicBezTo>
                <a:close/>
              </a:path>
            </a:pathLst>
          </a:cu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자유형 83"/>
          <p:cNvSpPr/>
          <p:nvPr/>
        </p:nvSpPr>
        <p:spPr>
          <a:xfrm>
            <a:off x="3540240" y="4302000"/>
            <a:ext cx="249120" cy="133560"/>
          </a:xfrm>
          <a:custGeom>
            <a:avLst/>
            <a:gdLst>
              <a:gd name="textAreaLeft" fmla="*/ 0 w 249120"/>
              <a:gd name="textAreaRight" fmla="*/ 249480 w 2491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306676" h="223837">
                <a:moveTo>
                  <a:pt x="7937" y="4762"/>
                </a:moveTo>
                <a:cubicBezTo>
                  <a:pt x="15875" y="0"/>
                  <a:pt x="74171" y="26219"/>
                  <a:pt x="84137" y="33337"/>
                </a:cubicBezTo>
                <a:cubicBezTo>
                  <a:pt x="93452" y="39991"/>
                  <a:pt x="93479" y="55845"/>
                  <a:pt x="103187" y="61912"/>
                </a:cubicBezTo>
                <a:cubicBezTo>
                  <a:pt x="120215" y="72555"/>
                  <a:pt x="141287" y="74612"/>
                  <a:pt x="160337" y="80962"/>
                </a:cubicBezTo>
                <a:lnTo>
                  <a:pt x="188912" y="90487"/>
                </a:lnTo>
                <a:cubicBezTo>
                  <a:pt x="207962" y="103187"/>
                  <a:pt x="224342" y="121347"/>
                  <a:pt x="246062" y="128587"/>
                </a:cubicBezTo>
                <a:lnTo>
                  <a:pt x="303212" y="147637"/>
                </a:lnTo>
                <a:cubicBezTo>
                  <a:pt x="287048" y="196128"/>
                  <a:pt x="306676" y="162646"/>
                  <a:pt x="265112" y="185737"/>
                </a:cubicBezTo>
                <a:cubicBezTo>
                  <a:pt x="245098" y="196856"/>
                  <a:pt x="207962" y="223837"/>
                  <a:pt x="207962" y="223837"/>
                </a:cubicBezTo>
                <a:cubicBezTo>
                  <a:pt x="201612" y="214312"/>
                  <a:pt x="196241" y="204056"/>
                  <a:pt x="188912" y="195262"/>
                </a:cubicBezTo>
                <a:cubicBezTo>
                  <a:pt x="165993" y="167760"/>
                  <a:pt x="159859" y="166368"/>
                  <a:pt x="131762" y="147637"/>
                </a:cubicBezTo>
                <a:cubicBezTo>
                  <a:pt x="77167" y="65745"/>
                  <a:pt x="149862" y="162117"/>
                  <a:pt x="84137" y="109537"/>
                </a:cubicBezTo>
                <a:cubicBezTo>
                  <a:pt x="75198" y="102386"/>
                  <a:pt x="73182" y="89057"/>
                  <a:pt x="65087" y="80962"/>
                </a:cubicBezTo>
                <a:cubicBezTo>
                  <a:pt x="56992" y="72867"/>
                  <a:pt x="46037" y="68262"/>
                  <a:pt x="36512" y="61912"/>
                </a:cubicBezTo>
                <a:cubicBezTo>
                  <a:pt x="10417" y="22770"/>
                  <a:pt x="0" y="9525"/>
                  <a:pt x="7937" y="4762"/>
                </a:cubicBezTo>
                <a:close/>
              </a:path>
            </a:pathLst>
          </a:cu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자유형 84"/>
          <p:cNvSpPr/>
          <p:nvPr/>
        </p:nvSpPr>
        <p:spPr>
          <a:xfrm>
            <a:off x="3753000" y="4446720"/>
            <a:ext cx="404640" cy="79200"/>
          </a:xfrm>
          <a:custGeom>
            <a:avLst/>
            <a:gdLst>
              <a:gd name="textAreaLeft" fmla="*/ 0 w 404640"/>
              <a:gd name="textAreaRight" fmla="*/ 405000 w 4046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98464" h="133350">
                <a:moveTo>
                  <a:pt x="3164" y="47625"/>
                </a:moveTo>
                <a:cubicBezTo>
                  <a:pt x="31923" y="28452"/>
                  <a:pt x="63324" y="5013"/>
                  <a:pt x="98414" y="0"/>
                </a:cubicBezTo>
                <a:lnTo>
                  <a:pt x="165089" y="9525"/>
                </a:lnTo>
                <a:cubicBezTo>
                  <a:pt x="174614" y="19050"/>
                  <a:pt x="183316" y="29476"/>
                  <a:pt x="193664" y="38100"/>
                </a:cubicBezTo>
                <a:cubicBezTo>
                  <a:pt x="202458" y="45429"/>
                  <a:pt x="212000" y="52030"/>
                  <a:pt x="222239" y="57150"/>
                </a:cubicBezTo>
                <a:cubicBezTo>
                  <a:pt x="231219" y="61640"/>
                  <a:pt x="240798" y="65984"/>
                  <a:pt x="250814" y="66675"/>
                </a:cubicBezTo>
                <a:cubicBezTo>
                  <a:pt x="333229" y="72359"/>
                  <a:pt x="415914" y="73025"/>
                  <a:pt x="498464" y="76200"/>
                </a:cubicBezTo>
                <a:cubicBezTo>
                  <a:pt x="495289" y="92075"/>
                  <a:pt x="497919" y="110355"/>
                  <a:pt x="488939" y="123825"/>
                </a:cubicBezTo>
                <a:cubicBezTo>
                  <a:pt x="483370" y="132179"/>
                  <a:pt x="470404" y="133350"/>
                  <a:pt x="460364" y="133350"/>
                </a:cubicBezTo>
                <a:cubicBezTo>
                  <a:pt x="393613" y="133350"/>
                  <a:pt x="327014" y="127000"/>
                  <a:pt x="260339" y="123825"/>
                </a:cubicBezTo>
                <a:cubicBezTo>
                  <a:pt x="188515" y="99884"/>
                  <a:pt x="277047" y="132179"/>
                  <a:pt x="203189" y="95250"/>
                </a:cubicBezTo>
                <a:cubicBezTo>
                  <a:pt x="194209" y="90760"/>
                  <a:pt x="184139" y="88900"/>
                  <a:pt x="174614" y="85725"/>
                </a:cubicBezTo>
                <a:cubicBezTo>
                  <a:pt x="154546" y="72346"/>
                  <a:pt x="142111" y="60436"/>
                  <a:pt x="117464" y="57150"/>
                </a:cubicBezTo>
                <a:cubicBezTo>
                  <a:pt x="0" y="41488"/>
                  <a:pt x="3164" y="86345"/>
                  <a:pt x="3164" y="47625"/>
                </a:cubicBezTo>
                <a:close/>
              </a:path>
            </a:pathLst>
          </a:cu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자유형 85"/>
          <p:cNvSpPr/>
          <p:nvPr/>
        </p:nvSpPr>
        <p:spPr>
          <a:xfrm>
            <a:off x="3827520" y="4257720"/>
            <a:ext cx="163440" cy="147600"/>
          </a:xfrm>
          <a:custGeom>
            <a:avLst/>
            <a:gdLst>
              <a:gd name="textAreaLeft" fmla="*/ 0 w 163440"/>
              <a:gd name="textAreaRight" fmla="*/ 163800 w 1634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00325" h="247650">
                <a:moveTo>
                  <a:pt x="168223" y="22225"/>
                </a:moveTo>
                <a:cubicBezTo>
                  <a:pt x="163461" y="0"/>
                  <a:pt x="154293" y="40561"/>
                  <a:pt x="149173" y="50800"/>
                </a:cubicBezTo>
                <a:cubicBezTo>
                  <a:pt x="117760" y="113626"/>
                  <a:pt x="187364" y="75037"/>
                  <a:pt x="34873" y="88900"/>
                </a:cubicBezTo>
                <a:cubicBezTo>
                  <a:pt x="28523" y="98425"/>
                  <a:pt x="20943" y="107236"/>
                  <a:pt x="15823" y="117475"/>
                </a:cubicBezTo>
                <a:cubicBezTo>
                  <a:pt x="2607" y="143908"/>
                  <a:pt x="0" y="175510"/>
                  <a:pt x="15823" y="203200"/>
                </a:cubicBezTo>
                <a:cubicBezTo>
                  <a:pt x="20804" y="211917"/>
                  <a:pt x="34597" y="210547"/>
                  <a:pt x="44398" y="212725"/>
                </a:cubicBezTo>
                <a:cubicBezTo>
                  <a:pt x="63251" y="216915"/>
                  <a:pt x="82498" y="219075"/>
                  <a:pt x="101548" y="222250"/>
                </a:cubicBezTo>
                <a:lnTo>
                  <a:pt x="158698" y="241300"/>
                </a:lnTo>
                <a:cubicBezTo>
                  <a:pt x="177748" y="247650"/>
                  <a:pt x="171398" y="203200"/>
                  <a:pt x="177748" y="184150"/>
                </a:cubicBezTo>
                <a:cubicBezTo>
                  <a:pt x="200325" y="116418"/>
                  <a:pt x="172986" y="44450"/>
                  <a:pt x="168223" y="22225"/>
                </a:cubicBez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8" name="자유형 86"/>
          <p:cNvSpPr/>
          <p:nvPr/>
        </p:nvSpPr>
        <p:spPr>
          <a:xfrm>
            <a:off x="4005360" y="4357800"/>
            <a:ext cx="137880" cy="90360"/>
          </a:xfrm>
          <a:custGeom>
            <a:avLst/>
            <a:gdLst>
              <a:gd name="textAreaLeft" fmla="*/ 0 w 137880"/>
              <a:gd name="textAreaRight" fmla="*/ 138240 w 13788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70323" h="153138">
                <a:moveTo>
                  <a:pt x="103234" y="44850"/>
                </a:moveTo>
                <a:cubicBezTo>
                  <a:pt x="109584" y="35325"/>
                  <a:pt x="137389" y="44305"/>
                  <a:pt x="150859" y="35325"/>
                </a:cubicBezTo>
                <a:cubicBezTo>
                  <a:pt x="159213" y="29756"/>
                  <a:pt x="170323" y="8170"/>
                  <a:pt x="160384" y="6750"/>
                </a:cubicBezTo>
                <a:cubicBezTo>
                  <a:pt x="113133" y="0"/>
                  <a:pt x="65134" y="13100"/>
                  <a:pt x="17509" y="16275"/>
                </a:cubicBezTo>
                <a:cubicBezTo>
                  <a:pt x="20684" y="54375"/>
                  <a:pt x="0" y="103541"/>
                  <a:pt x="27034" y="130575"/>
                </a:cubicBezTo>
                <a:cubicBezTo>
                  <a:pt x="49597" y="153138"/>
                  <a:pt x="93126" y="134009"/>
                  <a:pt x="122284" y="121050"/>
                </a:cubicBezTo>
                <a:cubicBezTo>
                  <a:pt x="131459" y="116972"/>
                  <a:pt x="114179" y="102414"/>
                  <a:pt x="112759" y="92475"/>
                </a:cubicBezTo>
                <a:cubicBezTo>
                  <a:pt x="110963" y="79903"/>
                  <a:pt x="96884" y="54375"/>
                  <a:pt x="103234" y="44850"/>
                </a:cubicBez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자유형 87"/>
          <p:cNvSpPr/>
          <p:nvPr/>
        </p:nvSpPr>
        <p:spPr>
          <a:xfrm>
            <a:off x="1488960" y="2987640"/>
            <a:ext cx="3883320" cy="878040"/>
          </a:xfrm>
          <a:custGeom>
            <a:avLst/>
            <a:gdLst>
              <a:gd name="textAreaLeft" fmla="*/ 0 w 3883320"/>
              <a:gd name="textAreaRight" fmla="*/ 3883680 w 388332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4772035" h="1473401">
                <a:moveTo>
                  <a:pt x="3490900" y="1247775"/>
                </a:moveTo>
                <a:cubicBezTo>
                  <a:pt x="3509950" y="1246188"/>
                  <a:pt x="3536040" y="1236387"/>
                  <a:pt x="3567100" y="1200150"/>
                </a:cubicBezTo>
                <a:cubicBezTo>
                  <a:pt x="3572396" y="1193971"/>
                  <a:pt x="3585101" y="1135922"/>
                  <a:pt x="3586150" y="1133475"/>
                </a:cubicBezTo>
                <a:cubicBezTo>
                  <a:pt x="3590659" y="1122953"/>
                  <a:pt x="3600080" y="1115139"/>
                  <a:pt x="3605200" y="1104900"/>
                </a:cubicBezTo>
                <a:cubicBezTo>
                  <a:pt x="3616924" y="1081452"/>
                  <a:pt x="3620592" y="1041125"/>
                  <a:pt x="3624250" y="1019175"/>
                </a:cubicBezTo>
                <a:cubicBezTo>
                  <a:pt x="3630600" y="1031875"/>
                  <a:pt x="3638314" y="1043980"/>
                  <a:pt x="3643300" y="1057275"/>
                </a:cubicBezTo>
                <a:cubicBezTo>
                  <a:pt x="3655100" y="1088742"/>
                  <a:pt x="3658892" y="1143915"/>
                  <a:pt x="3662350" y="1171575"/>
                </a:cubicBezTo>
                <a:cubicBezTo>
                  <a:pt x="3671875" y="1168400"/>
                  <a:pt x="3683085" y="1168322"/>
                  <a:pt x="3690925" y="1162050"/>
                </a:cubicBezTo>
                <a:cubicBezTo>
                  <a:pt x="3734777" y="1126968"/>
                  <a:pt x="3710467" y="1025883"/>
                  <a:pt x="3700450" y="1000125"/>
                </a:cubicBezTo>
                <a:cubicBezTo>
                  <a:pt x="3688237" y="968721"/>
                  <a:pt x="3633590" y="959597"/>
                  <a:pt x="3605200" y="952500"/>
                </a:cubicBezTo>
                <a:cubicBezTo>
                  <a:pt x="3595675" y="946150"/>
                  <a:pt x="3584720" y="941545"/>
                  <a:pt x="3576625" y="933450"/>
                </a:cubicBezTo>
                <a:cubicBezTo>
                  <a:pt x="3548580" y="905405"/>
                  <a:pt x="3549174" y="878534"/>
                  <a:pt x="3567100" y="838200"/>
                </a:cubicBezTo>
                <a:cubicBezTo>
                  <a:pt x="3571749" y="827739"/>
                  <a:pt x="3585214" y="823799"/>
                  <a:pt x="3595675" y="819150"/>
                </a:cubicBezTo>
                <a:cubicBezTo>
                  <a:pt x="3656629" y="792059"/>
                  <a:pt x="3642450" y="806393"/>
                  <a:pt x="3700450" y="790575"/>
                </a:cubicBezTo>
                <a:cubicBezTo>
                  <a:pt x="3719823" y="785291"/>
                  <a:pt x="3738550" y="777875"/>
                  <a:pt x="3757600" y="771525"/>
                </a:cubicBezTo>
                <a:lnTo>
                  <a:pt x="3786175" y="762000"/>
                </a:lnTo>
                <a:cubicBezTo>
                  <a:pt x="3822555" y="771095"/>
                  <a:pt x="3836032" y="772641"/>
                  <a:pt x="3871900" y="790575"/>
                </a:cubicBezTo>
                <a:cubicBezTo>
                  <a:pt x="3882139" y="795695"/>
                  <a:pt x="3890950" y="803275"/>
                  <a:pt x="3900475" y="809625"/>
                </a:cubicBezTo>
                <a:cubicBezTo>
                  <a:pt x="3916350" y="806450"/>
                  <a:pt x="3932394" y="804027"/>
                  <a:pt x="3948100" y="800100"/>
                </a:cubicBezTo>
                <a:cubicBezTo>
                  <a:pt x="3957840" y="797665"/>
                  <a:pt x="3969575" y="797675"/>
                  <a:pt x="3976675" y="790575"/>
                </a:cubicBezTo>
                <a:cubicBezTo>
                  <a:pt x="3983775" y="783475"/>
                  <a:pt x="3979928" y="769840"/>
                  <a:pt x="3986200" y="762000"/>
                </a:cubicBezTo>
                <a:cubicBezTo>
                  <a:pt x="3993351" y="753061"/>
                  <a:pt x="4005250" y="749300"/>
                  <a:pt x="4014775" y="742950"/>
                </a:cubicBezTo>
                <a:cubicBezTo>
                  <a:pt x="4025887" y="726281"/>
                  <a:pt x="4038587" y="699294"/>
                  <a:pt x="4062400" y="695325"/>
                </a:cubicBezTo>
                <a:cubicBezTo>
                  <a:pt x="4072304" y="693674"/>
                  <a:pt x="4081450" y="701675"/>
                  <a:pt x="4090975" y="704850"/>
                </a:cubicBezTo>
                <a:cubicBezTo>
                  <a:pt x="4099442" y="730250"/>
                  <a:pt x="4112431" y="753464"/>
                  <a:pt x="4090975" y="781050"/>
                </a:cubicBezTo>
                <a:cubicBezTo>
                  <a:pt x="4076919" y="799122"/>
                  <a:pt x="4033825" y="819150"/>
                  <a:pt x="4033825" y="819150"/>
                </a:cubicBezTo>
                <a:cubicBezTo>
                  <a:pt x="4033148" y="820053"/>
                  <a:pt x="3988986" y="877468"/>
                  <a:pt x="3986200" y="885825"/>
                </a:cubicBezTo>
                <a:cubicBezTo>
                  <a:pt x="3980093" y="904147"/>
                  <a:pt x="3980865" y="924122"/>
                  <a:pt x="3976675" y="942975"/>
                </a:cubicBezTo>
                <a:cubicBezTo>
                  <a:pt x="3974497" y="952776"/>
                  <a:pt x="3970325" y="962025"/>
                  <a:pt x="3967150" y="971550"/>
                </a:cubicBezTo>
                <a:cubicBezTo>
                  <a:pt x="3963975" y="1022350"/>
                  <a:pt x="3969283" y="1074404"/>
                  <a:pt x="3957625" y="1123950"/>
                </a:cubicBezTo>
                <a:cubicBezTo>
                  <a:pt x="3955325" y="1133723"/>
                  <a:pt x="3936150" y="1126375"/>
                  <a:pt x="3929050" y="1133475"/>
                </a:cubicBezTo>
                <a:cubicBezTo>
                  <a:pt x="3921950" y="1140575"/>
                  <a:pt x="3911171" y="1156481"/>
                  <a:pt x="3919525" y="1162050"/>
                </a:cubicBezTo>
                <a:cubicBezTo>
                  <a:pt x="3930417" y="1169312"/>
                  <a:pt x="3944925" y="1155700"/>
                  <a:pt x="3957625" y="1152525"/>
                </a:cubicBezTo>
                <a:cubicBezTo>
                  <a:pt x="3991982" y="1129620"/>
                  <a:pt x="4017252" y="1115472"/>
                  <a:pt x="4043350" y="1076325"/>
                </a:cubicBezTo>
                <a:cubicBezTo>
                  <a:pt x="4049700" y="1066800"/>
                  <a:pt x="4057280" y="1057989"/>
                  <a:pt x="4062400" y="1047750"/>
                </a:cubicBezTo>
                <a:cubicBezTo>
                  <a:pt x="4066890" y="1038770"/>
                  <a:pt x="4068750" y="1028700"/>
                  <a:pt x="4071925" y="1019175"/>
                </a:cubicBezTo>
                <a:cubicBezTo>
                  <a:pt x="4074648" y="986502"/>
                  <a:pt x="4073809" y="887762"/>
                  <a:pt x="4100500" y="847725"/>
                </a:cubicBezTo>
                <a:cubicBezTo>
                  <a:pt x="4106850" y="838200"/>
                  <a:pt x="4111455" y="827245"/>
                  <a:pt x="4119550" y="819150"/>
                </a:cubicBezTo>
                <a:cubicBezTo>
                  <a:pt x="4127645" y="811055"/>
                  <a:pt x="4138600" y="806450"/>
                  <a:pt x="4148125" y="800100"/>
                </a:cubicBezTo>
                <a:cubicBezTo>
                  <a:pt x="4168763" y="774700"/>
                  <a:pt x="4181463" y="690562"/>
                  <a:pt x="4243375" y="666750"/>
                </a:cubicBezTo>
                <a:cubicBezTo>
                  <a:pt x="4334793" y="655323"/>
                  <a:pt x="4427525" y="660400"/>
                  <a:pt x="4519600" y="657225"/>
                </a:cubicBezTo>
                <a:cubicBezTo>
                  <a:pt x="4550586" y="646896"/>
                  <a:pt x="4552239" y="652843"/>
                  <a:pt x="4567225" y="619125"/>
                </a:cubicBezTo>
                <a:cubicBezTo>
                  <a:pt x="4575380" y="600775"/>
                  <a:pt x="4566229" y="563154"/>
                  <a:pt x="4586275" y="561975"/>
                </a:cubicBezTo>
                <a:lnTo>
                  <a:pt x="4748200" y="552450"/>
                </a:lnTo>
                <a:cubicBezTo>
                  <a:pt x="4754550" y="542925"/>
                  <a:pt x="4765830" y="535234"/>
                  <a:pt x="4767250" y="523875"/>
                </a:cubicBezTo>
                <a:cubicBezTo>
                  <a:pt x="4772035" y="485596"/>
                  <a:pt x="4759489" y="470684"/>
                  <a:pt x="4729150" y="457200"/>
                </a:cubicBezTo>
                <a:cubicBezTo>
                  <a:pt x="4668979" y="430457"/>
                  <a:pt x="4664821" y="440128"/>
                  <a:pt x="4595800" y="428625"/>
                </a:cubicBezTo>
                <a:cubicBezTo>
                  <a:pt x="4582887" y="426473"/>
                  <a:pt x="4570330" y="422544"/>
                  <a:pt x="4557700" y="419100"/>
                </a:cubicBezTo>
                <a:cubicBezTo>
                  <a:pt x="4497727" y="402744"/>
                  <a:pt x="4505849" y="404991"/>
                  <a:pt x="4462450" y="390525"/>
                </a:cubicBezTo>
                <a:cubicBezTo>
                  <a:pt x="4452925" y="384175"/>
                  <a:pt x="4444336" y="376124"/>
                  <a:pt x="4433875" y="371475"/>
                </a:cubicBezTo>
                <a:cubicBezTo>
                  <a:pt x="4404060" y="358224"/>
                  <a:pt x="4370290" y="350816"/>
                  <a:pt x="4338625" y="342900"/>
                </a:cubicBezTo>
                <a:cubicBezTo>
                  <a:pt x="4303700" y="346075"/>
                  <a:pt x="4268385" y="346331"/>
                  <a:pt x="4233850" y="352425"/>
                </a:cubicBezTo>
                <a:cubicBezTo>
                  <a:pt x="4214075" y="355915"/>
                  <a:pt x="4176700" y="371475"/>
                  <a:pt x="4176700" y="371475"/>
                </a:cubicBezTo>
                <a:cubicBezTo>
                  <a:pt x="4095293" y="365213"/>
                  <a:pt x="4075495" y="370641"/>
                  <a:pt x="4014775" y="352425"/>
                </a:cubicBezTo>
                <a:cubicBezTo>
                  <a:pt x="3995541" y="346655"/>
                  <a:pt x="3957625" y="333375"/>
                  <a:pt x="3957625" y="333375"/>
                </a:cubicBezTo>
                <a:lnTo>
                  <a:pt x="3814750" y="238125"/>
                </a:lnTo>
                <a:cubicBezTo>
                  <a:pt x="3803858" y="230863"/>
                  <a:pt x="3789350" y="231775"/>
                  <a:pt x="3776650" y="228600"/>
                </a:cubicBezTo>
                <a:cubicBezTo>
                  <a:pt x="3722675" y="231775"/>
                  <a:pt x="3668195" y="230104"/>
                  <a:pt x="3614725" y="238125"/>
                </a:cubicBezTo>
                <a:cubicBezTo>
                  <a:pt x="3603404" y="239823"/>
                  <a:pt x="3596389" y="252055"/>
                  <a:pt x="3586150" y="257175"/>
                </a:cubicBezTo>
                <a:cubicBezTo>
                  <a:pt x="3577170" y="261665"/>
                  <a:pt x="3567100" y="263525"/>
                  <a:pt x="3557575" y="266700"/>
                </a:cubicBezTo>
                <a:cubicBezTo>
                  <a:pt x="3551225" y="276225"/>
                  <a:pt x="3547464" y="288124"/>
                  <a:pt x="3538525" y="295275"/>
                </a:cubicBezTo>
                <a:cubicBezTo>
                  <a:pt x="3530685" y="301547"/>
                  <a:pt x="3519990" y="304800"/>
                  <a:pt x="3509950" y="304800"/>
                </a:cubicBezTo>
                <a:cubicBezTo>
                  <a:pt x="3468553" y="304800"/>
                  <a:pt x="3427400" y="298450"/>
                  <a:pt x="3386125" y="295275"/>
                </a:cubicBezTo>
                <a:cubicBezTo>
                  <a:pt x="3376600" y="292100"/>
                  <a:pt x="3367204" y="288508"/>
                  <a:pt x="3357550" y="285750"/>
                </a:cubicBezTo>
                <a:cubicBezTo>
                  <a:pt x="3344963" y="282154"/>
                  <a:pt x="3331989" y="279987"/>
                  <a:pt x="3319450" y="276225"/>
                </a:cubicBezTo>
                <a:cubicBezTo>
                  <a:pt x="3300216" y="270455"/>
                  <a:pt x="3262300" y="257175"/>
                  <a:pt x="3262300" y="257175"/>
                </a:cubicBezTo>
                <a:lnTo>
                  <a:pt x="3224200" y="200025"/>
                </a:lnTo>
                <a:cubicBezTo>
                  <a:pt x="3217850" y="190500"/>
                  <a:pt x="3206086" y="185624"/>
                  <a:pt x="3195625" y="180975"/>
                </a:cubicBezTo>
                <a:cubicBezTo>
                  <a:pt x="3116017" y="145594"/>
                  <a:pt x="3067758" y="157996"/>
                  <a:pt x="2967025" y="152400"/>
                </a:cubicBezTo>
                <a:cubicBezTo>
                  <a:pt x="2959820" y="87551"/>
                  <a:pt x="2977562" y="47878"/>
                  <a:pt x="2900350" y="28575"/>
                </a:cubicBezTo>
                <a:lnTo>
                  <a:pt x="2824150" y="9525"/>
                </a:lnTo>
                <a:lnTo>
                  <a:pt x="2786050" y="0"/>
                </a:lnTo>
                <a:cubicBezTo>
                  <a:pt x="2773350" y="3175"/>
                  <a:pt x="2759659" y="3671"/>
                  <a:pt x="2747950" y="9525"/>
                </a:cubicBezTo>
                <a:cubicBezTo>
                  <a:pt x="2727472" y="19764"/>
                  <a:pt x="2712520" y="40385"/>
                  <a:pt x="2690800" y="47625"/>
                </a:cubicBezTo>
                <a:lnTo>
                  <a:pt x="2633650" y="66675"/>
                </a:lnTo>
                <a:lnTo>
                  <a:pt x="2605075" y="76200"/>
                </a:lnTo>
                <a:cubicBezTo>
                  <a:pt x="2576500" y="73025"/>
                  <a:pt x="2548101" y="66675"/>
                  <a:pt x="2519350" y="66675"/>
                </a:cubicBezTo>
                <a:cubicBezTo>
                  <a:pt x="2475570" y="66675"/>
                  <a:pt x="2459289" y="73995"/>
                  <a:pt x="2424100" y="85725"/>
                </a:cubicBezTo>
                <a:cubicBezTo>
                  <a:pt x="2414575" y="92075"/>
                  <a:pt x="2404319" y="97446"/>
                  <a:pt x="2395525" y="104775"/>
                </a:cubicBezTo>
                <a:cubicBezTo>
                  <a:pt x="2385177" y="113399"/>
                  <a:pt x="2378158" y="125878"/>
                  <a:pt x="2366950" y="133350"/>
                </a:cubicBezTo>
                <a:cubicBezTo>
                  <a:pt x="2358596" y="138919"/>
                  <a:pt x="2347900" y="139700"/>
                  <a:pt x="2338375" y="142875"/>
                </a:cubicBezTo>
                <a:cubicBezTo>
                  <a:pt x="2328850" y="149225"/>
                  <a:pt x="2320261" y="157276"/>
                  <a:pt x="2309800" y="161925"/>
                </a:cubicBezTo>
                <a:cubicBezTo>
                  <a:pt x="2291450" y="170080"/>
                  <a:pt x="2252650" y="180975"/>
                  <a:pt x="2252650" y="180975"/>
                </a:cubicBezTo>
                <a:cubicBezTo>
                  <a:pt x="2243125" y="187325"/>
                  <a:pt x="2234314" y="194905"/>
                  <a:pt x="2224075" y="200025"/>
                </a:cubicBezTo>
                <a:cubicBezTo>
                  <a:pt x="2201048" y="211539"/>
                  <a:pt x="2181815" y="209920"/>
                  <a:pt x="2157400" y="219075"/>
                </a:cubicBezTo>
                <a:cubicBezTo>
                  <a:pt x="2067262" y="252877"/>
                  <a:pt x="2176045" y="226776"/>
                  <a:pt x="2071675" y="247650"/>
                </a:cubicBezTo>
                <a:cubicBezTo>
                  <a:pt x="2024745" y="239828"/>
                  <a:pt x="1996020" y="229123"/>
                  <a:pt x="1947850" y="247650"/>
                </a:cubicBezTo>
                <a:cubicBezTo>
                  <a:pt x="1926481" y="255869"/>
                  <a:pt x="1890700" y="285750"/>
                  <a:pt x="1890700" y="285750"/>
                </a:cubicBezTo>
                <a:cubicBezTo>
                  <a:pt x="1884350" y="295275"/>
                  <a:pt x="1873269" y="302992"/>
                  <a:pt x="1871650" y="314325"/>
                </a:cubicBezTo>
                <a:cubicBezTo>
                  <a:pt x="1868713" y="334887"/>
                  <a:pt x="1896741" y="360928"/>
                  <a:pt x="1871650" y="381000"/>
                </a:cubicBezTo>
                <a:cubicBezTo>
                  <a:pt x="1861428" y="389178"/>
                  <a:pt x="1846250" y="387350"/>
                  <a:pt x="1833550" y="390525"/>
                </a:cubicBezTo>
                <a:cubicBezTo>
                  <a:pt x="1798625" y="387350"/>
                  <a:pt x="1763310" y="387094"/>
                  <a:pt x="1728775" y="381000"/>
                </a:cubicBezTo>
                <a:cubicBezTo>
                  <a:pt x="1709000" y="377510"/>
                  <a:pt x="1671625" y="361950"/>
                  <a:pt x="1671625" y="361950"/>
                </a:cubicBezTo>
                <a:cubicBezTo>
                  <a:pt x="1646225" y="365125"/>
                  <a:pt x="1620674" y="367267"/>
                  <a:pt x="1595425" y="371475"/>
                </a:cubicBezTo>
                <a:cubicBezTo>
                  <a:pt x="1582512" y="373627"/>
                  <a:pt x="1568217" y="373738"/>
                  <a:pt x="1557325" y="381000"/>
                </a:cubicBezTo>
                <a:cubicBezTo>
                  <a:pt x="1500175" y="419100"/>
                  <a:pt x="1579550" y="403225"/>
                  <a:pt x="1509700" y="428625"/>
                </a:cubicBezTo>
                <a:cubicBezTo>
                  <a:pt x="1426559" y="458858"/>
                  <a:pt x="1353418" y="452124"/>
                  <a:pt x="1262050" y="457200"/>
                </a:cubicBezTo>
                <a:cubicBezTo>
                  <a:pt x="1252525" y="463550"/>
                  <a:pt x="1243714" y="471130"/>
                  <a:pt x="1233475" y="476250"/>
                </a:cubicBezTo>
                <a:cubicBezTo>
                  <a:pt x="1154605" y="515685"/>
                  <a:pt x="1258217" y="450230"/>
                  <a:pt x="1176325" y="504825"/>
                </a:cubicBezTo>
                <a:lnTo>
                  <a:pt x="1052500" y="495300"/>
                </a:lnTo>
                <a:cubicBezTo>
                  <a:pt x="1040416" y="490265"/>
                  <a:pt x="1058429" y="469787"/>
                  <a:pt x="1062025" y="457200"/>
                </a:cubicBezTo>
                <a:cubicBezTo>
                  <a:pt x="1073587" y="416731"/>
                  <a:pt x="1064551" y="430375"/>
                  <a:pt x="1109650" y="419100"/>
                </a:cubicBezTo>
                <a:cubicBezTo>
                  <a:pt x="1116000" y="409575"/>
                  <a:pt x="1128700" y="401973"/>
                  <a:pt x="1128700" y="390525"/>
                </a:cubicBezTo>
                <a:cubicBezTo>
                  <a:pt x="1128700" y="351291"/>
                  <a:pt x="1106475" y="351367"/>
                  <a:pt x="1081075" y="342900"/>
                </a:cubicBezTo>
                <a:cubicBezTo>
                  <a:pt x="906456" y="288940"/>
                  <a:pt x="826984" y="346656"/>
                  <a:pt x="700075" y="352425"/>
                </a:cubicBezTo>
                <a:cubicBezTo>
                  <a:pt x="625463" y="358775"/>
                  <a:pt x="647687" y="371475"/>
                  <a:pt x="633400" y="381000"/>
                </a:cubicBezTo>
                <a:cubicBezTo>
                  <a:pt x="627050" y="390525"/>
                  <a:pt x="619470" y="399336"/>
                  <a:pt x="614350" y="409575"/>
                </a:cubicBezTo>
                <a:cubicBezTo>
                  <a:pt x="592467" y="453342"/>
                  <a:pt x="603835" y="452673"/>
                  <a:pt x="576250" y="485775"/>
                </a:cubicBezTo>
                <a:cubicBezTo>
                  <a:pt x="567626" y="496123"/>
                  <a:pt x="556299" y="504002"/>
                  <a:pt x="547675" y="514350"/>
                </a:cubicBezTo>
                <a:cubicBezTo>
                  <a:pt x="540346" y="523144"/>
                  <a:pt x="535954" y="534131"/>
                  <a:pt x="528625" y="542925"/>
                </a:cubicBezTo>
                <a:cubicBezTo>
                  <a:pt x="520001" y="553273"/>
                  <a:pt x="508674" y="561152"/>
                  <a:pt x="500050" y="571500"/>
                </a:cubicBezTo>
                <a:cubicBezTo>
                  <a:pt x="492721" y="580294"/>
                  <a:pt x="488329" y="591281"/>
                  <a:pt x="481000" y="600075"/>
                </a:cubicBezTo>
                <a:cubicBezTo>
                  <a:pt x="472376" y="610423"/>
                  <a:pt x="461049" y="618302"/>
                  <a:pt x="452425" y="628650"/>
                </a:cubicBezTo>
                <a:cubicBezTo>
                  <a:pt x="430461" y="655006"/>
                  <a:pt x="436106" y="664929"/>
                  <a:pt x="404800" y="685800"/>
                </a:cubicBezTo>
                <a:cubicBezTo>
                  <a:pt x="396446" y="691369"/>
                  <a:pt x="385750" y="692150"/>
                  <a:pt x="376225" y="695325"/>
                </a:cubicBezTo>
                <a:cubicBezTo>
                  <a:pt x="373050" y="704850"/>
                  <a:pt x="365049" y="713996"/>
                  <a:pt x="366700" y="723900"/>
                </a:cubicBezTo>
                <a:cubicBezTo>
                  <a:pt x="368582" y="735192"/>
                  <a:pt x="377655" y="744380"/>
                  <a:pt x="385750" y="752475"/>
                </a:cubicBezTo>
                <a:cubicBezTo>
                  <a:pt x="424177" y="790902"/>
                  <a:pt x="476253" y="776686"/>
                  <a:pt x="528625" y="781050"/>
                </a:cubicBezTo>
                <a:cubicBezTo>
                  <a:pt x="538150" y="787400"/>
                  <a:pt x="549105" y="792005"/>
                  <a:pt x="557200" y="800100"/>
                </a:cubicBezTo>
                <a:cubicBezTo>
                  <a:pt x="592342" y="835242"/>
                  <a:pt x="558012" y="826042"/>
                  <a:pt x="604825" y="857250"/>
                </a:cubicBezTo>
                <a:cubicBezTo>
                  <a:pt x="613179" y="862819"/>
                  <a:pt x="623875" y="863600"/>
                  <a:pt x="633400" y="866775"/>
                </a:cubicBezTo>
                <a:cubicBezTo>
                  <a:pt x="636575" y="838200"/>
                  <a:pt x="633833" y="808325"/>
                  <a:pt x="642925" y="781050"/>
                </a:cubicBezTo>
                <a:cubicBezTo>
                  <a:pt x="647185" y="768271"/>
                  <a:pt x="662876" y="762823"/>
                  <a:pt x="671500" y="752475"/>
                </a:cubicBezTo>
                <a:cubicBezTo>
                  <a:pt x="692016" y="727856"/>
                  <a:pt x="690529" y="723964"/>
                  <a:pt x="700075" y="695325"/>
                </a:cubicBezTo>
                <a:cubicBezTo>
                  <a:pt x="703250" y="673100"/>
                  <a:pt x="701541" y="649604"/>
                  <a:pt x="709600" y="628650"/>
                </a:cubicBezTo>
                <a:cubicBezTo>
                  <a:pt x="717819" y="607281"/>
                  <a:pt x="735000" y="590550"/>
                  <a:pt x="747700" y="571500"/>
                </a:cubicBezTo>
                <a:cubicBezTo>
                  <a:pt x="754050" y="561975"/>
                  <a:pt x="763130" y="553785"/>
                  <a:pt x="766750" y="542925"/>
                </a:cubicBezTo>
                <a:lnTo>
                  <a:pt x="776275" y="514350"/>
                </a:lnTo>
                <a:cubicBezTo>
                  <a:pt x="823089" y="545560"/>
                  <a:pt x="813110" y="526601"/>
                  <a:pt x="795325" y="609600"/>
                </a:cubicBezTo>
                <a:cubicBezTo>
                  <a:pt x="791118" y="629235"/>
                  <a:pt x="776275" y="666750"/>
                  <a:pt x="776275" y="666750"/>
                </a:cubicBezTo>
                <a:cubicBezTo>
                  <a:pt x="783090" y="700825"/>
                  <a:pt x="780324" y="718424"/>
                  <a:pt x="804850" y="742950"/>
                </a:cubicBezTo>
                <a:cubicBezTo>
                  <a:pt x="812945" y="751045"/>
                  <a:pt x="823900" y="755650"/>
                  <a:pt x="833425" y="762000"/>
                </a:cubicBezTo>
                <a:cubicBezTo>
                  <a:pt x="830250" y="784225"/>
                  <a:pt x="833018" y="808159"/>
                  <a:pt x="823900" y="828675"/>
                </a:cubicBezTo>
                <a:cubicBezTo>
                  <a:pt x="817478" y="843125"/>
                  <a:pt x="779429" y="853024"/>
                  <a:pt x="766750" y="857250"/>
                </a:cubicBezTo>
                <a:cubicBezTo>
                  <a:pt x="757225" y="863600"/>
                  <a:pt x="745713" y="867685"/>
                  <a:pt x="738175" y="876300"/>
                </a:cubicBezTo>
                <a:cubicBezTo>
                  <a:pt x="665418" y="959451"/>
                  <a:pt x="746324" y="928311"/>
                  <a:pt x="614350" y="942975"/>
                </a:cubicBezTo>
                <a:cubicBezTo>
                  <a:pt x="601650" y="939800"/>
                  <a:pt x="588282" y="938607"/>
                  <a:pt x="576250" y="933450"/>
                </a:cubicBezTo>
                <a:cubicBezTo>
                  <a:pt x="547037" y="920930"/>
                  <a:pt x="543332" y="906018"/>
                  <a:pt x="519100" y="885825"/>
                </a:cubicBezTo>
                <a:cubicBezTo>
                  <a:pt x="510306" y="878496"/>
                  <a:pt x="500050" y="873125"/>
                  <a:pt x="490525" y="866775"/>
                </a:cubicBezTo>
                <a:cubicBezTo>
                  <a:pt x="468300" y="869950"/>
                  <a:pt x="443930" y="866260"/>
                  <a:pt x="423850" y="876300"/>
                </a:cubicBezTo>
                <a:cubicBezTo>
                  <a:pt x="414870" y="880790"/>
                  <a:pt x="418815" y="895895"/>
                  <a:pt x="414325" y="904875"/>
                </a:cubicBezTo>
                <a:cubicBezTo>
                  <a:pt x="409205" y="915114"/>
                  <a:pt x="400395" y="923211"/>
                  <a:pt x="395275" y="933450"/>
                </a:cubicBezTo>
                <a:cubicBezTo>
                  <a:pt x="390785" y="942430"/>
                  <a:pt x="393920" y="956189"/>
                  <a:pt x="385750" y="962025"/>
                </a:cubicBezTo>
                <a:cubicBezTo>
                  <a:pt x="369410" y="973697"/>
                  <a:pt x="347650" y="974725"/>
                  <a:pt x="328600" y="981075"/>
                </a:cubicBezTo>
                <a:cubicBezTo>
                  <a:pt x="315130" y="985565"/>
                  <a:pt x="303551" y="994532"/>
                  <a:pt x="290500" y="1000125"/>
                </a:cubicBezTo>
                <a:cubicBezTo>
                  <a:pt x="281272" y="1004080"/>
                  <a:pt x="271450" y="1006475"/>
                  <a:pt x="261925" y="1009650"/>
                </a:cubicBezTo>
                <a:cubicBezTo>
                  <a:pt x="230175" y="1057275"/>
                  <a:pt x="252400" y="1031875"/>
                  <a:pt x="185725" y="1076325"/>
                </a:cubicBezTo>
                <a:lnTo>
                  <a:pt x="157150" y="1095375"/>
                </a:lnTo>
                <a:cubicBezTo>
                  <a:pt x="150800" y="1104900"/>
                  <a:pt x="139719" y="1112617"/>
                  <a:pt x="138100" y="1123950"/>
                </a:cubicBezTo>
                <a:cubicBezTo>
                  <a:pt x="132752" y="1161389"/>
                  <a:pt x="152167" y="1165078"/>
                  <a:pt x="176200" y="1181100"/>
                </a:cubicBezTo>
                <a:cubicBezTo>
                  <a:pt x="189661" y="1234945"/>
                  <a:pt x="222974" y="1226557"/>
                  <a:pt x="200024" y="1295408"/>
                </a:cubicBezTo>
                <a:cubicBezTo>
                  <a:pt x="176212" y="1328745"/>
                  <a:pt x="0" y="1127133"/>
                  <a:pt x="33325" y="1381125"/>
                </a:cubicBezTo>
                <a:cubicBezTo>
                  <a:pt x="37686" y="1396389"/>
                  <a:pt x="48691" y="1410419"/>
                  <a:pt x="61900" y="1419225"/>
                </a:cubicBezTo>
                <a:cubicBezTo>
                  <a:pt x="78608" y="1430364"/>
                  <a:pt x="119050" y="1438275"/>
                  <a:pt x="119050" y="1438275"/>
                </a:cubicBezTo>
                <a:cubicBezTo>
                  <a:pt x="160325" y="1435100"/>
                  <a:pt x="205362" y="1446256"/>
                  <a:pt x="242875" y="1428750"/>
                </a:cubicBezTo>
                <a:cubicBezTo>
                  <a:pt x="261072" y="1420258"/>
                  <a:pt x="255575" y="1390650"/>
                  <a:pt x="261925" y="1371600"/>
                </a:cubicBezTo>
                <a:cubicBezTo>
                  <a:pt x="270094" y="1347092"/>
                  <a:pt x="305841" y="1304841"/>
                  <a:pt x="328600" y="1285875"/>
                </a:cubicBezTo>
                <a:cubicBezTo>
                  <a:pt x="337394" y="1278546"/>
                  <a:pt x="347650" y="1273175"/>
                  <a:pt x="357175" y="1266825"/>
                </a:cubicBezTo>
                <a:cubicBezTo>
                  <a:pt x="379400" y="1270000"/>
                  <a:pt x="404225" y="1265447"/>
                  <a:pt x="423850" y="1276350"/>
                </a:cubicBezTo>
                <a:cubicBezTo>
                  <a:pt x="436262" y="1283246"/>
                  <a:pt x="432860" y="1304410"/>
                  <a:pt x="442900" y="1314450"/>
                </a:cubicBezTo>
                <a:cubicBezTo>
                  <a:pt x="459089" y="1330639"/>
                  <a:pt x="481000" y="1339850"/>
                  <a:pt x="500050" y="1352550"/>
                </a:cubicBezTo>
                <a:cubicBezTo>
                  <a:pt x="508404" y="1358119"/>
                  <a:pt x="518702" y="1360548"/>
                  <a:pt x="528625" y="1362075"/>
                </a:cubicBezTo>
                <a:cubicBezTo>
                  <a:pt x="560162" y="1366927"/>
                  <a:pt x="592125" y="1368425"/>
                  <a:pt x="623875" y="1371600"/>
                </a:cubicBezTo>
                <a:cubicBezTo>
                  <a:pt x="627050" y="1397000"/>
                  <a:pt x="618522" y="1426970"/>
                  <a:pt x="633400" y="1447800"/>
                </a:cubicBezTo>
                <a:cubicBezTo>
                  <a:pt x="641009" y="1458452"/>
                  <a:pt x="667360" y="1450694"/>
                  <a:pt x="671500" y="1438275"/>
                </a:cubicBezTo>
                <a:cubicBezTo>
                  <a:pt x="688575" y="1387050"/>
                  <a:pt x="665198" y="1359999"/>
                  <a:pt x="633400" y="1333500"/>
                </a:cubicBezTo>
                <a:cubicBezTo>
                  <a:pt x="598642" y="1304535"/>
                  <a:pt x="607007" y="1325419"/>
                  <a:pt x="576250" y="1285875"/>
                </a:cubicBezTo>
                <a:cubicBezTo>
                  <a:pt x="562194" y="1267803"/>
                  <a:pt x="550850" y="1247775"/>
                  <a:pt x="538150" y="1228725"/>
                </a:cubicBezTo>
                <a:lnTo>
                  <a:pt x="519100" y="1200150"/>
                </a:lnTo>
                <a:cubicBezTo>
                  <a:pt x="528625" y="1196975"/>
                  <a:pt x="538353" y="1186896"/>
                  <a:pt x="547675" y="1190625"/>
                </a:cubicBezTo>
                <a:cubicBezTo>
                  <a:pt x="564736" y="1197449"/>
                  <a:pt x="569734" y="1234743"/>
                  <a:pt x="576250" y="1247775"/>
                </a:cubicBezTo>
                <a:cubicBezTo>
                  <a:pt x="592125" y="1279525"/>
                  <a:pt x="595300" y="1276350"/>
                  <a:pt x="623875" y="1295400"/>
                </a:cubicBezTo>
                <a:cubicBezTo>
                  <a:pt x="674675" y="1371600"/>
                  <a:pt x="608000" y="1279525"/>
                  <a:pt x="671500" y="1343025"/>
                </a:cubicBezTo>
                <a:cubicBezTo>
                  <a:pt x="735000" y="1406525"/>
                  <a:pt x="642925" y="1339850"/>
                  <a:pt x="719125" y="1390650"/>
                </a:cubicBezTo>
                <a:cubicBezTo>
                  <a:pt x="725655" y="1410240"/>
                  <a:pt x="736255" y="1473401"/>
                  <a:pt x="785800" y="1409700"/>
                </a:cubicBezTo>
                <a:cubicBezTo>
                  <a:pt x="801515" y="1389494"/>
                  <a:pt x="792150" y="1358900"/>
                  <a:pt x="795325" y="1333500"/>
                </a:cubicBezTo>
                <a:cubicBezTo>
                  <a:pt x="942521" y="1337180"/>
                  <a:pt x="1116652" y="1357334"/>
                  <a:pt x="1271575" y="1333500"/>
                </a:cubicBezTo>
                <a:cubicBezTo>
                  <a:pt x="1281498" y="1331973"/>
                  <a:pt x="1290625" y="1327150"/>
                  <a:pt x="1300150" y="1323975"/>
                </a:cubicBezTo>
                <a:cubicBezTo>
                  <a:pt x="1309675" y="1317625"/>
                  <a:pt x="1318203" y="1309434"/>
                  <a:pt x="1328725" y="1304925"/>
                </a:cubicBezTo>
                <a:cubicBezTo>
                  <a:pt x="1340757" y="1299768"/>
                  <a:pt x="1355933" y="1302662"/>
                  <a:pt x="1366825" y="1295400"/>
                </a:cubicBezTo>
                <a:cubicBezTo>
                  <a:pt x="1382652" y="1284849"/>
                  <a:pt x="1389967" y="1254550"/>
                  <a:pt x="1395400" y="1238250"/>
                </a:cubicBezTo>
                <a:cubicBezTo>
                  <a:pt x="1398575" y="1165225"/>
                  <a:pt x="1392908" y="1091274"/>
                  <a:pt x="1404925" y="1019175"/>
                </a:cubicBezTo>
                <a:cubicBezTo>
                  <a:pt x="1714503" y="1063633"/>
                  <a:pt x="1751000" y="928688"/>
                  <a:pt x="1824025" y="904875"/>
                </a:cubicBezTo>
                <a:cubicBezTo>
                  <a:pt x="1906575" y="877887"/>
                  <a:pt x="1879588" y="857250"/>
                  <a:pt x="1900225" y="857250"/>
                </a:cubicBezTo>
                <a:cubicBezTo>
                  <a:pt x="1927934" y="898814"/>
                  <a:pt x="1907441" y="876011"/>
                  <a:pt x="1947850" y="904875"/>
                </a:cubicBezTo>
                <a:cubicBezTo>
                  <a:pt x="1960768" y="914102"/>
                  <a:pt x="1971751" y="926350"/>
                  <a:pt x="1985950" y="933450"/>
                </a:cubicBezTo>
                <a:cubicBezTo>
                  <a:pt x="2018176" y="949563"/>
                  <a:pt x="2055886" y="955057"/>
                  <a:pt x="2090725" y="962025"/>
                </a:cubicBezTo>
                <a:cubicBezTo>
                  <a:pt x="2108994" y="1062839"/>
                  <a:pt x="2343938" y="1073154"/>
                  <a:pt x="2438397" y="1081094"/>
                </a:cubicBezTo>
                <a:cubicBezTo>
                  <a:pt x="2487611" y="1069189"/>
                  <a:pt x="2606679" y="1000139"/>
                  <a:pt x="2657479" y="1009664"/>
                </a:cubicBezTo>
                <a:cubicBezTo>
                  <a:pt x="2666108" y="1016136"/>
                  <a:pt x="2714972" y="1097936"/>
                  <a:pt x="2728900" y="1104900"/>
                </a:cubicBezTo>
                <a:cubicBezTo>
                  <a:pt x="2737880" y="1109390"/>
                  <a:pt x="2747950" y="1111250"/>
                  <a:pt x="2757475" y="1114425"/>
                </a:cubicBezTo>
                <a:lnTo>
                  <a:pt x="3119425" y="1076325"/>
                </a:lnTo>
                <a:cubicBezTo>
                  <a:pt x="3121574" y="1063432"/>
                  <a:pt x="3130725" y="999159"/>
                  <a:pt x="3138475" y="981075"/>
                </a:cubicBezTo>
                <a:cubicBezTo>
                  <a:pt x="3142984" y="970553"/>
                  <a:pt x="3151175" y="962025"/>
                  <a:pt x="3157525" y="952500"/>
                </a:cubicBezTo>
                <a:cubicBezTo>
                  <a:pt x="3197320" y="954395"/>
                  <a:pt x="3331450" y="926400"/>
                  <a:pt x="3386125" y="981075"/>
                </a:cubicBezTo>
                <a:cubicBezTo>
                  <a:pt x="3394220" y="989170"/>
                  <a:pt x="3400055" y="999411"/>
                  <a:pt x="3405175" y="1009650"/>
                </a:cubicBezTo>
                <a:cubicBezTo>
                  <a:pt x="3418009" y="1035317"/>
                  <a:pt x="3409486" y="1045569"/>
                  <a:pt x="3433750" y="1066800"/>
                </a:cubicBezTo>
                <a:cubicBezTo>
                  <a:pt x="3450980" y="1081877"/>
                  <a:pt x="3471850" y="1092200"/>
                  <a:pt x="3490900" y="1104900"/>
                </a:cubicBezTo>
                <a:lnTo>
                  <a:pt x="3519475" y="1123950"/>
                </a:lnTo>
                <a:cubicBezTo>
                  <a:pt x="3526041" y="1143647"/>
                  <a:pt x="3543996" y="1181760"/>
                  <a:pt x="3519475" y="1200150"/>
                </a:cubicBezTo>
                <a:cubicBezTo>
                  <a:pt x="3501514" y="1213620"/>
                  <a:pt x="3475025" y="1206500"/>
                  <a:pt x="3452800" y="1209675"/>
                </a:cubicBezTo>
                <a:cubicBezTo>
                  <a:pt x="3484017" y="1230486"/>
                  <a:pt x="3471850" y="1249362"/>
                  <a:pt x="3490900" y="1247775"/>
                </a:cubicBezTo>
                <a:close/>
              </a:path>
            </a:pathLst>
          </a:cu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자유형 88"/>
          <p:cNvSpPr/>
          <p:nvPr/>
        </p:nvSpPr>
        <p:spPr>
          <a:xfrm>
            <a:off x="6581880" y="2960640"/>
            <a:ext cx="1149120" cy="852480"/>
          </a:xfrm>
          <a:custGeom>
            <a:avLst/>
            <a:gdLst>
              <a:gd name="textAreaLeft" fmla="*/ 0 w 1149120"/>
              <a:gd name="textAreaRight" fmla="*/ 1149480 w 114912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1205594" h="1219161">
                <a:moveTo>
                  <a:pt x="88307" y="190500"/>
                </a:moveTo>
                <a:cubicBezTo>
                  <a:pt x="130640" y="182033"/>
                  <a:pt x="243995" y="219546"/>
                  <a:pt x="316907" y="139700"/>
                </a:cubicBezTo>
                <a:cubicBezTo>
                  <a:pt x="326870" y="124756"/>
                  <a:pt x="340830" y="112627"/>
                  <a:pt x="355007" y="101600"/>
                </a:cubicBezTo>
                <a:cubicBezTo>
                  <a:pt x="420511" y="50652"/>
                  <a:pt x="411822" y="57262"/>
                  <a:pt x="469307" y="38100"/>
                </a:cubicBezTo>
                <a:cubicBezTo>
                  <a:pt x="494707" y="42333"/>
                  <a:pt x="521078" y="42657"/>
                  <a:pt x="545507" y="50800"/>
                </a:cubicBezTo>
                <a:cubicBezTo>
                  <a:pt x="559987" y="55627"/>
                  <a:pt x="569955" y="69374"/>
                  <a:pt x="583607" y="76200"/>
                </a:cubicBezTo>
                <a:cubicBezTo>
                  <a:pt x="602657" y="80433"/>
                  <a:pt x="634407" y="84667"/>
                  <a:pt x="659807" y="76200"/>
                </a:cubicBezTo>
                <a:cubicBezTo>
                  <a:pt x="686492" y="61375"/>
                  <a:pt x="736007" y="25400"/>
                  <a:pt x="736007" y="25400"/>
                </a:cubicBezTo>
                <a:cubicBezTo>
                  <a:pt x="821063" y="27815"/>
                  <a:pt x="771860" y="8696"/>
                  <a:pt x="951907" y="0"/>
                </a:cubicBezTo>
                <a:cubicBezTo>
                  <a:pt x="972118" y="7579"/>
                  <a:pt x="953897" y="44758"/>
                  <a:pt x="964607" y="63500"/>
                </a:cubicBezTo>
                <a:cubicBezTo>
                  <a:pt x="979424" y="97367"/>
                  <a:pt x="1056361" y="155037"/>
                  <a:pt x="1073294" y="191020"/>
                </a:cubicBezTo>
                <a:cubicBezTo>
                  <a:pt x="1205594" y="280689"/>
                  <a:pt x="983362" y="275444"/>
                  <a:pt x="1039258" y="406409"/>
                </a:cubicBezTo>
                <a:cubicBezTo>
                  <a:pt x="1039258" y="520787"/>
                  <a:pt x="1032966" y="626701"/>
                  <a:pt x="1042791" y="765569"/>
                </a:cubicBezTo>
                <a:cubicBezTo>
                  <a:pt x="845828" y="797592"/>
                  <a:pt x="774107" y="886883"/>
                  <a:pt x="723307" y="939800"/>
                </a:cubicBezTo>
                <a:cubicBezTo>
                  <a:pt x="655239" y="1006008"/>
                  <a:pt x="704657" y="1133180"/>
                  <a:pt x="675024" y="1162813"/>
                </a:cubicBezTo>
                <a:cubicBezTo>
                  <a:pt x="645391" y="1158580"/>
                  <a:pt x="613479" y="1219161"/>
                  <a:pt x="586125" y="1207004"/>
                </a:cubicBezTo>
                <a:cubicBezTo>
                  <a:pt x="572177" y="1200805"/>
                  <a:pt x="529878" y="1091226"/>
                  <a:pt x="520107" y="1079500"/>
                </a:cubicBezTo>
                <a:cubicBezTo>
                  <a:pt x="508609" y="1065702"/>
                  <a:pt x="493034" y="1055577"/>
                  <a:pt x="482007" y="1041400"/>
                </a:cubicBezTo>
                <a:cubicBezTo>
                  <a:pt x="463265" y="1017303"/>
                  <a:pt x="431207" y="965200"/>
                  <a:pt x="431207" y="965200"/>
                </a:cubicBezTo>
                <a:cubicBezTo>
                  <a:pt x="435440" y="939800"/>
                  <a:pt x="437662" y="913982"/>
                  <a:pt x="443907" y="889000"/>
                </a:cubicBezTo>
                <a:cubicBezTo>
                  <a:pt x="450401" y="863025"/>
                  <a:pt x="469307" y="812800"/>
                  <a:pt x="469307" y="812800"/>
                </a:cubicBezTo>
                <a:cubicBezTo>
                  <a:pt x="465074" y="770467"/>
                  <a:pt x="474212" y="724531"/>
                  <a:pt x="456607" y="685800"/>
                </a:cubicBezTo>
                <a:cubicBezTo>
                  <a:pt x="449384" y="669910"/>
                  <a:pt x="419437" y="684004"/>
                  <a:pt x="405807" y="673100"/>
                </a:cubicBezTo>
                <a:cubicBezTo>
                  <a:pt x="395354" y="664737"/>
                  <a:pt x="397340" y="647700"/>
                  <a:pt x="393107" y="635000"/>
                </a:cubicBezTo>
                <a:cubicBezTo>
                  <a:pt x="388874" y="592667"/>
                  <a:pt x="386424" y="550117"/>
                  <a:pt x="380407" y="508000"/>
                </a:cubicBezTo>
                <a:cubicBezTo>
                  <a:pt x="377939" y="490721"/>
                  <a:pt x="377389" y="471723"/>
                  <a:pt x="367707" y="457200"/>
                </a:cubicBezTo>
                <a:cubicBezTo>
                  <a:pt x="355007" y="438150"/>
                  <a:pt x="344424" y="419100"/>
                  <a:pt x="304207" y="393700"/>
                </a:cubicBezTo>
                <a:cubicBezTo>
                  <a:pt x="184971" y="380679"/>
                  <a:pt x="0" y="310232"/>
                  <a:pt x="126407" y="304800"/>
                </a:cubicBezTo>
                <a:cubicBezTo>
                  <a:pt x="139992" y="270838"/>
                  <a:pt x="39181" y="202363"/>
                  <a:pt x="62907" y="190500"/>
                </a:cubicBezTo>
                <a:lnTo>
                  <a:pt x="88307" y="190500"/>
                </a:lnTo>
                <a:close/>
              </a:path>
            </a:pathLst>
          </a:cu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자유형 89"/>
          <p:cNvSpPr/>
          <p:nvPr/>
        </p:nvSpPr>
        <p:spPr>
          <a:xfrm>
            <a:off x="5002200" y="3373560"/>
            <a:ext cx="1957320" cy="102708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2406704" h="1724025">
                <a:moveTo>
                  <a:pt x="2134716" y="590550"/>
                </a:moveTo>
                <a:cubicBezTo>
                  <a:pt x="2126778" y="593725"/>
                  <a:pt x="2113591" y="580192"/>
                  <a:pt x="2106141" y="571500"/>
                </a:cubicBezTo>
                <a:cubicBezTo>
                  <a:pt x="2094093" y="557444"/>
                  <a:pt x="2087505" y="539494"/>
                  <a:pt x="2077566" y="523875"/>
                </a:cubicBezTo>
                <a:cubicBezTo>
                  <a:pt x="2052166" y="500063"/>
                  <a:pt x="1972791" y="468313"/>
                  <a:pt x="1953741" y="428625"/>
                </a:cubicBezTo>
                <a:cubicBezTo>
                  <a:pt x="1936279" y="371475"/>
                  <a:pt x="2075961" y="322271"/>
                  <a:pt x="1972791" y="180975"/>
                </a:cubicBezTo>
                <a:cubicBezTo>
                  <a:pt x="1964102" y="165769"/>
                  <a:pt x="1930308" y="157289"/>
                  <a:pt x="1915641" y="152400"/>
                </a:cubicBezTo>
                <a:cubicBezTo>
                  <a:pt x="1902941" y="155575"/>
                  <a:pt x="1887763" y="153747"/>
                  <a:pt x="1877541" y="161925"/>
                </a:cubicBezTo>
                <a:cubicBezTo>
                  <a:pt x="1869701" y="168197"/>
                  <a:pt x="1869543" y="180577"/>
                  <a:pt x="1868016" y="190500"/>
                </a:cubicBezTo>
                <a:cubicBezTo>
                  <a:pt x="1863164" y="222037"/>
                  <a:pt x="1865666" y="254659"/>
                  <a:pt x="1858491" y="285750"/>
                </a:cubicBezTo>
                <a:cubicBezTo>
                  <a:pt x="1855917" y="296904"/>
                  <a:pt x="1844561" y="304086"/>
                  <a:pt x="1839441" y="314325"/>
                </a:cubicBezTo>
                <a:cubicBezTo>
                  <a:pt x="1834951" y="323305"/>
                  <a:pt x="1834406" y="333920"/>
                  <a:pt x="1829916" y="342900"/>
                </a:cubicBezTo>
                <a:cubicBezTo>
                  <a:pt x="1810072" y="382588"/>
                  <a:pt x="1796579" y="381000"/>
                  <a:pt x="1753716" y="409575"/>
                </a:cubicBezTo>
                <a:lnTo>
                  <a:pt x="1725141" y="428625"/>
                </a:lnTo>
                <a:cubicBezTo>
                  <a:pt x="1718791" y="438150"/>
                  <a:pt x="1707973" y="445908"/>
                  <a:pt x="1706091" y="457200"/>
                </a:cubicBezTo>
                <a:cubicBezTo>
                  <a:pt x="1701011" y="487680"/>
                  <a:pt x="1736571" y="483870"/>
                  <a:pt x="1706091" y="514350"/>
                </a:cubicBezTo>
                <a:cubicBezTo>
                  <a:pt x="1689902" y="530539"/>
                  <a:pt x="1648941" y="552450"/>
                  <a:pt x="1648941" y="552450"/>
                </a:cubicBezTo>
                <a:cubicBezTo>
                  <a:pt x="1642591" y="561975"/>
                  <a:pt x="1637986" y="572930"/>
                  <a:pt x="1629891" y="581025"/>
                </a:cubicBezTo>
                <a:cubicBezTo>
                  <a:pt x="1621796" y="589120"/>
                  <a:pt x="1607383" y="590367"/>
                  <a:pt x="1601316" y="600075"/>
                </a:cubicBezTo>
                <a:cubicBezTo>
                  <a:pt x="1590673" y="617103"/>
                  <a:pt x="1582266" y="657225"/>
                  <a:pt x="1582266" y="657225"/>
                </a:cubicBezTo>
                <a:cubicBezTo>
                  <a:pt x="1585441" y="669925"/>
                  <a:pt x="1584284" y="684601"/>
                  <a:pt x="1591791" y="695325"/>
                </a:cubicBezTo>
                <a:cubicBezTo>
                  <a:pt x="1643660" y="769424"/>
                  <a:pt x="1614730" y="740123"/>
                  <a:pt x="1660038" y="777879"/>
                </a:cubicBezTo>
                <a:cubicBezTo>
                  <a:pt x="1707663" y="825504"/>
                  <a:pt x="1871175" y="927103"/>
                  <a:pt x="1877541" y="981075"/>
                </a:cubicBezTo>
                <a:cubicBezTo>
                  <a:pt x="1883891" y="962025"/>
                  <a:pt x="1895679" y="943985"/>
                  <a:pt x="1896591" y="923925"/>
                </a:cubicBezTo>
                <a:cubicBezTo>
                  <a:pt x="1899766" y="854075"/>
                  <a:pt x="1898667" y="783899"/>
                  <a:pt x="1906116" y="714375"/>
                </a:cubicBezTo>
                <a:cubicBezTo>
                  <a:pt x="1908255" y="694409"/>
                  <a:pt x="1910967" y="671424"/>
                  <a:pt x="1925166" y="657225"/>
                </a:cubicBezTo>
                <a:lnTo>
                  <a:pt x="1953741" y="628650"/>
                </a:lnTo>
                <a:cubicBezTo>
                  <a:pt x="1961488" y="605409"/>
                  <a:pt x="1963852" y="589964"/>
                  <a:pt x="1982316" y="571500"/>
                </a:cubicBezTo>
                <a:cubicBezTo>
                  <a:pt x="1990411" y="563405"/>
                  <a:pt x="2001366" y="558800"/>
                  <a:pt x="2010891" y="552450"/>
                </a:cubicBezTo>
                <a:cubicBezTo>
                  <a:pt x="2017241" y="561975"/>
                  <a:pt x="2022612" y="572231"/>
                  <a:pt x="2029941" y="581025"/>
                </a:cubicBezTo>
                <a:cubicBezTo>
                  <a:pt x="2052860" y="608527"/>
                  <a:pt x="2058994" y="609919"/>
                  <a:pt x="2087091" y="628650"/>
                </a:cubicBezTo>
                <a:cubicBezTo>
                  <a:pt x="2093441" y="638175"/>
                  <a:pt x="2101492" y="646764"/>
                  <a:pt x="2106141" y="657225"/>
                </a:cubicBezTo>
                <a:cubicBezTo>
                  <a:pt x="2114296" y="675575"/>
                  <a:pt x="2108483" y="703236"/>
                  <a:pt x="2125191" y="714375"/>
                </a:cubicBezTo>
                <a:lnTo>
                  <a:pt x="2153766" y="733425"/>
                </a:lnTo>
                <a:cubicBezTo>
                  <a:pt x="2163291" y="730250"/>
                  <a:pt x="2176772" y="732254"/>
                  <a:pt x="2182341" y="723900"/>
                </a:cubicBezTo>
                <a:cubicBezTo>
                  <a:pt x="2191321" y="710430"/>
                  <a:pt x="2178914" y="685989"/>
                  <a:pt x="2191866" y="676275"/>
                </a:cubicBezTo>
                <a:cubicBezTo>
                  <a:pt x="2201024" y="669406"/>
                  <a:pt x="2211749" y="687875"/>
                  <a:pt x="2220441" y="695325"/>
                </a:cubicBezTo>
                <a:cubicBezTo>
                  <a:pt x="2277968" y="744634"/>
                  <a:pt x="2234611" y="725448"/>
                  <a:pt x="2287116" y="742950"/>
                </a:cubicBezTo>
                <a:cubicBezTo>
                  <a:pt x="2296641" y="755650"/>
                  <a:pt x="2307815" y="767267"/>
                  <a:pt x="2315691" y="781050"/>
                </a:cubicBezTo>
                <a:cubicBezTo>
                  <a:pt x="2328357" y="803216"/>
                  <a:pt x="2332647" y="861642"/>
                  <a:pt x="2334741" y="876300"/>
                </a:cubicBezTo>
                <a:cubicBezTo>
                  <a:pt x="2331566" y="927100"/>
                  <a:pt x="2406704" y="896606"/>
                  <a:pt x="2395046" y="946152"/>
                </a:cubicBezTo>
                <a:cubicBezTo>
                  <a:pt x="2392746" y="955925"/>
                  <a:pt x="2306580" y="1036805"/>
                  <a:pt x="2296641" y="1038225"/>
                </a:cubicBezTo>
                <a:cubicBezTo>
                  <a:pt x="2261924" y="1043185"/>
                  <a:pt x="2226791" y="1044575"/>
                  <a:pt x="2191866" y="1047750"/>
                </a:cubicBezTo>
                <a:cubicBezTo>
                  <a:pt x="2182341" y="1054100"/>
                  <a:pt x="2171386" y="1058705"/>
                  <a:pt x="2163291" y="1066800"/>
                </a:cubicBezTo>
                <a:cubicBezTo>
                  <a:pt x="2141365" y="1088726"/>
                  <a:pt x="2142003" y="1104328"/>
                  <a:pt x="2134716" y="1133475"/>
                </a:cubicBezTo>
                <a:cubicBezTo>
                  <a:pt x="2158548" y="1204971"/>
                  <a:pt x="2118440" y="1113288"/>
                  <a:pt x="2220441" y="1171575"/>
                </a:cubicBezTo>
                <a:cubicBezTo>
                  <a:pt x="2229158" y="1176556"/>
                  <a:pt x="2218016" y="1193050"/>
                  <a:pt x="2210916" y="1200150"/>
                </a:cubicBezTo>
                <a:cubicBezTo>
                  <a:pt x="2194727" y="1216339"/>
                  <a:pt x="2172816" y="1225550"/>
                  <a:pt x="2153766" y="1238250"/>
                </a:cubicBezTo>
                <a:lnTo>
                  <a:pt x="2125191" y="1257300"/>
                </a:lnTo>
                <a:cubicBezTo>
                  <a:pt x="2112491" y="1276350"/>
                  <a:pt x="2094331" y="1292730"/>
                  <a:pt x="2087091" y="1314450"/>
                </a:cubicBezTo>
                <a:cubicBezTo>
                  <a:pt x="2083916" y="1323975"/>
                  <a:pt x="2083838" y="1335185"/>
                  <a:pt x="2077566" y="1343025"/>
                </a:cubicBezTo>
                <a:cubicBezTo>
                  <a:pt x="2070415" y="1351964"/>
                  <a:pt x="2060097" y="1359299"/>
                  <a:pt x="2048991" y="1362075"/>
                </a:cubicBezTo>
                <a:cubicBezTo>
                  <a:pt x="2021099" y="1369048"/>
                  <a:pt x="1991841" y="1368425"/>
                  <a:pt x="1963266" y="1371600"/>
                </a:cubicBezTo>
                <a:cubicBezTo>
                  <a:pt x="1953741" y="1377950"/>
                  <a:pt x="1942786" y="1382555"/>
                  <a:pt x="1934691" y="1390650"/>
                </a:cubicBezTo>
                <a:cubicBezTo>
                  <a:pt x="1905813" y="1419528"/>
                  <a:pt x="1912111" y="1443933"/>
                  <a:pt x="1906116" y="1485900"/>
                </a:cubicBezTo>
                <a:cubicBezTo>
                  <a:pt x="1900179" y="1616517"/>
                  <a:pt x="1892167" y="1644469"/>
                  <a:pt x="1868016" y="1714500"/>
                </a:cubicBezTo>
                <a:cubicBezTo>
                  <a:pt x="1859036" y="1718990"/>
                  <a:pt x="1848966" y="1720850"/>
                  <a:pt x="1839441" y="1724025"/>
                </a:cubicBezTo>
                <a:cubicBezTo>
                  <a:pt x="1829112" y="1693039"/>
                  <a:pt x="1835059" y="1691386"/>
                  <a:pt x="1801341" y="1676400"/>
                </a:cubicBezTo>
                <a:cubicBezTo>
                  <a:pt x="1782991" y="1668245"/>
                  <a:pt x="1706075" y="1631948"/>
                  <a:pt x="1706075" y="1631948"/>
                </a:cubicBezTo>
                <a:cubicBezTo>
                  <a:pt x="1662918" y="1634106"/>
                  <a:pt x="1578004" y="1633037"/>
                  <a:pt x="1525116" y="1685925"/>
                </a:cubicBezTo>
                <a:cubicBezTo>
                  <a:pt x="1517021" y="1694020"/>
                  <a:pt x="1512416" y="1704975"/>
                  <a:pt x="1506066" y="1714500"/>
                </a:cubicBezTo>
                <a:cubicBezTo>
                  <a:pt x="1469497" y="1707186"/>
                  <a:pt x="1451013" y="1707833"/>
                  <a:pt x="1420341" y="1685925"/>
                </a:cubicBezTo>
                <a:cubicBezTo>
                  <a:pt x="1377194" y="1655106"/>
                  <a:pt x="1400224" y="1641119"/>
                  <a:pt x="1334616" y="1619250"/>
                </a:cubicBezTo>
                <a:lnTo>
                  <a:pt x="1277466" y="1600200"/>
                </a:lnTo>
                <a:lnTo>
                  <a:pt x="1248891" y="1590675"/>
                </a:lnTo>
                <a:cubicBezTo>
                  <a:pt x="1170442" y="1616825"/>
                  <a:pt x="1211620" y="1612565"/>
                  <a:pt x="1125066" y="1600200"/>
                </a:cubicBezTo>
                <a:cubicBezTo>
                  <a:pt x="1106016" y="1581150"/>
                  <a:pt x="1089469" y="1559214"/>
                  <a:pt x="1067916" y="1543050"/>
                </a:cubicBezTo>
                <a:cubicBezTo>
                  <a:pt x="1055216" y="1533525"/>
                  <a:pt x="1041041" y="1525700"/>
                  <a:pt x="1029816" y="1514475"/>
                </a:cubicBezTo>
                <a:cubicBezTo>
                  <a:pt x="1021721" y="1506380"/>
                  <a:pt x="1018095" y="1494694"/>
                  <a:pt x="1010766" y="1485900"/>
                </a:cubicBezTo>
                <a:cubicBezTo>
                  <a:pt x="1002142" y="1475552"/>
                  <a:pt x="991716" y="1466850"/>
                  <a:pt x="982191" y="1457325"/>
                </a:cubicBezTo>
                <a:cubicBezTo>
                  <a:pt x="985366" y="1428750"/>
                  <a:pt x="986989" y="1399960"/>
                  <a:pt x="991716" y="1371600"/>
                </a:cubicBezTo>
                <a:cubicBezTo>
                  <a:pt x="993367" y="1361696"/>
                  <a:pt x="998806" y="1352765"/>
                  <a:pt x="1001241" y="1343025"/>
                </a:cubicBezTo>
                <a:lnTo>
                  <a:pt x="1020291" y="1266825"/>
                </a:lnTo>
                <a:cubicBezTo>
                  <a:pt x="1017116" y="1250950"/>
                  <a:pt x="1016450" y="1234359"/>
                  <a:pt x="1010766" y="1219200"/>
                </a:cubicBezTo>
                <a:cubicBezTo>
                  <a:pt x="996479" y="1168400"/>
                  <a:pt x="893280" y="1004890"/>
                  <a:pt x="875818" y="950915"/>
                </a:cubicBezTo>
                <a:cubicBezTo>
                  <a:pt x="834543" y="874715"/>
                  <a:pt x="783487" y="798248"/>
                  <a:pt x="763116" y="762000"/>
                </a:cubicBezTo>
                <a:cubicBezTo>
                  <a:pt x="759941" y="752475"/>
                  <a:pt x="760691" y="740525"/>
                  <a:pt x="753591" y="733425"/>
                </a:cubicBezTo>
                <a:cubicBezTo>
                  <a:pt x="737716" y="727075"/>
                  <a:pt x="701204" y="730250"/>
                  <a:pt x="667866" y="723900"/>
                </a:cubicBezTo>
                <a:cubicBezTo>
                  <a:pt x="603131" y="734689"/>
                  <a:pt x="593175" y="721731"/>
                  <a:pt x="553566" y="695325"/>
                </a:cubicBezTo>
                <a:cubicBezTo>
                  <a:pt x="547216" y="685800"/>
                  <a:pt x="543455" y="673901"/>
                  <a:pt x="534516" y="666750"/>
                </a:cubicBezTo>
                <a:cubicBezTo>
                  <a:pt x="511121" y="648034"/>
                  <a:pt x="500761" y="660066"/>
                  <a:pt x="477366" y="666750"/>
                </a:cubicBezTo>
                <a:cubicBezTo>
                  <a:pt x="464779" y="670346"/>
                  <a:pt x="451966" y="673100"/>
                  <a:pt x="439266" y="676275"/>
                </a:cubicBezTo>
                <a:lnTo>
                  <a:pt x="353541" y="762000"/>
                </a:lnTo>
                <a:cubicBezTo>
                  <a:pt x="344016" y="771525"/>
                  <a:pt x="332438" y="779367"/>
                  <a:pt x="324966" y="790575"/>
                </a:cubicBezTo>
                <a:cubicBezTo>
                  <a:pt x="300347" y="827504"/>
                  <a:pt x="316776" y="815530"/>
                  <a:pt x="277341" y="828675"/>
                </a:cubicBezTo>
                <a:cubicBezTo>
                  <a:pt x="264641" y="822325"/>
                  <a:pt x="250149" y="818715"/>
                  <a:pt x="239241" y="809625"/>
                </a:cubicBezTo>
                <a:cubicBezTo>
                  <a:pt x="201438" y="778123"/>
                  <a:pt x="231793" y="751330"/>
                  <a:pt x="210666" y="704850"/>
                </a:cubicBezTo>
                <a:cubicBezTo>
                  <a:pt x="204097" y="690398"/>
                  <a:pt x="185775" y="685081"/>
                  <a:pt x="172566" y="676275"/>
                </a:cubicBezTo>
                <a:cubicBezTo>
                  <a:pt x="127578" y="646283"/>
                  <a:pt x="136405" y="651521"/>
                  <a:pt x="96366" y="638175"/>
                </a:cubicBezTo>
                <a:cubicBezTo>
                  <a:pt x="99541" y="622300"/>
                  <a:pt x="97199" y="604208"/>
                  <a:pt x="105891" y="590550"/>
                </a:cubicBezTo>
                <a:cubicBezTo>
                  <a:pt x="120355" y="567821"/>
                  <a:pt x="163041" y="533400"/>
                  <a:pt x="163041" y="533400"/>
                </a:cubicBezTo>
                <a:cubicBezTo>
                  <a:pt x="144550" y="440947"/>
                  <a:pt x="174396" y="515570"/>
                  <a:pt x="115416" y="476250"/>
                </a:cubicBezTo>
                <a:cubicBezTo>
                  <a:pt x="105891" y="469900"/>
                  <a:pt x="105891" y="460375"/>
                  <a:pt x="96366" y="447675"/>
                </a:cubicBezTo>
                <a:cubicBezTo>
                  <a:pt x="86841" y="434975"/>
                  <a:pt x="55091" y="411163"/>
                  <a:pt x="58266" y="400050"/>
                </a:cubicBezTo>
                <a:cubicBezTo>
                  <a:pt x="72465" y="385851"/>
                  <a:pt x="115416" y="381000"/>
                  <a:pt x="115416" y="381000"/>
                </a:cubicBezTo>
                <a:cubicBezTo>
                  <a:pt x="109388" y="338804"/>
                  <a:pt x="0" y="284686"/>
                  <a:pt x="115416" y="257175"/>
                </a:cubicBezTo>
                <a:cubicBezTo>
                  <a:pt x="123136" y="239805"/>
                  <a:pt x="157386" y="219670"/>
                  <a:pt x="172566" y="209550"/>
                </a:cubicBezTo>
                <a:cubicBezTo>
                  <a:pt x="216235" y="144046"/>
                  <a:pt x="203426" y="174120"/>
                  <a:pt x="220191" y="123825"/>
                </a:cubicBezTo>
                <a:cubicBezTo>
                  <a:pt x="255116" y="127000"/>
                  <a:pt x="290249" y="128390"/>
                  <a:pt x="324966" y="133350"/>
                </a:cubicBezTo>
                <a:cubicBezTo>
                  <a:pt x="334905" y="134770"/>
                  <a:pt x="345187" y="137306"/>
                  <a:pt x="353541" y="142875"/>
                </a:cubicBezTo>
                <a:cubicBezTo>
                  <a:pt x="364749" y="150347"/>
                  <a:pt x="371768" y="162826"/>
                  <a:pt x="382116" y="171450"/>
                </a:cubicBezTo>
                <a:cubicBezTo>
                  <a:pt x="395666" y="182742"/>
                  <a:pt x="420335" y="198569"/>
                  <a:pt x="439266" y="200025"/>
                </a:cubicBezTo>
                <a:cubicBezTo>
                  <a:pt x="512145" y="205631"/>
                  <a:pt x="585316" y="206375"/>
                  <a:pt x="658341" y="209550"/>
                </a:cubicBezTo>
                <a:cubicBezTo>
                  <a:pt x="726854" y="232388"/>
                  <a:pt x="641295" y="204680"/>
                  <a:pt x="725016" y="228600"/>
                </a:cubicBezTo>
                <a:cubicBezTo>
                  <a:pt x="734670" y="231358"/>
                  <a:pt x="744066" y="234950"/>
                  <a:pt x="753591" y="238125"/>
                </a:cubicBezTo>
                <a:cubicBezTo>
                  <a:pt x="775816" y="234950"/>
                  <a:pt x="801325" y="240653"/>
                  <a:pt x="820266" y="228600"/>
                </a:cubicBezTo>
                <a:cubicBezTo>
                  <a:pt x="839582" y="216308"/>
                  <a:pt x="836646" y="178690"/>
                  <a:pt x="858366" y="171450"/>
                </a:cubicBezTo>
                <a:lnTo>
                  <a:pt x="886941" y="161925"/>
                </a:lnTo>
                <a:cubicBezTo>
                  <a:pt x="902816" y="165100"/>
                  <a:pt x="923118" y="160002"/>
                  <a:pt x="934566" y="171450"/>
                </a:cubicBezTo>
                <a:cubicBezTo>
                  <a:pt x="948765" y="185649"/>
                  <a:pt x="947266" y="209550"/>
                  <a:pt x="953616" y="228600"/>
                </a:cubicBezTo>
                <a:cubicBezTo>
                  <a:pt x="956791" y="238125"/>
                  <a:pt x="953116" y="256618"/>
                  <a:pt x="963141" y="257175"/>
                </a:cubicBezTo>
                <a:lnTo>
                  <a:pt x="1134591" y="266700"/>
                </a:lnTo>
                <a:cubicBezTo>
                  <a:pt x="1185391" y="342900"/>
                  <a:pt x="1118716" y="250825"/>
                  <a:pt x="1182216" y="314325"/>
                </a:cubicBezTo>
                <a:cubicBezTo>
                  <a:pt x="1225300" y="357409"/>
                  <a:pt x="1174211" y="333882"/>
                  <a:pt x="1229841" y="352425"/>
                </a:cubicBezTo>
                <a:cubicBezTo>
                  <a:pt x="1257422" y="349918"/>
                  <a:pt x="1363631" y="342066"/>
                  <a:pt x="1401291" y="333375"/>
                </a:cubicBezTo>
                <a:lnTo>
                  <a:pt x="1487016" y="304800"/>
                </a:lnTo>
                <a:cubicBezTo>
                  <a:pt x="1496541" y="301625"/>
                  <a:pt x="1505585" y="296109"/>
                  <a:pt x="1515591" y="295275"/>
                </a:cubicBezTo>
                <a:lnTo>
                  <a:pt x="1629891" y="285750"/>
                </a:lnTo>
                <a:cubicBezTo>
                  <a:pt x="1618246" y="262459"/>
                  <a:pt x="1608620" y="239270"/>
                  <a:pt x="1591791" y="219075"/>
                </a:cubicBezTo>
                <a:cubicBezTo>
                  <a:pt x="1583167" y="208727"/>
                  <a:pt x="1571982" y="200727"/>
                  <a:pt x="1563216" y="190500"/>
                </a:cubicBezTo>
                <a:cubicBezTo>
                  <a:pt x="1552885" y="178447"/>
                  <a:pt x="1544166" y="165100"/>
                  <a:pt x="1534641" y="152400"/>
                </a:cubicBezTo>
                <a:cubicBezTo>
                  <a:pt x="1544166" y="139700"/>
                  <a:pt x="1566376" y="114309"/>
                  <a:pt x="1585426" y="111134"/>
                </a:cubicBezTo>
                <a:cubicBezTo>
                  <a:pt x="1594951" y="117484"/>
                  <a:pt x="1638702" y="128230"/>
                  <a:pt x="1648941" y="133350"/>
                </a:cubicBezTo>
                <a:cubicBezTo>
                  <a:pt x="1664816" y="146050"/>
                  <a:pt x="1701329" y="200025"/>
                  <a:pt x="1715616" y="190500"/>
                </a:cubicBezTo>
                <a:cubicBezTo>
                  <a:pt x="1737946" y="123509"/>
                  <a:pt x="1713398" y="203805"/>
                  <a:pt x="1734666" y="76200"/>
                </a:cubicBezTo>
                <a:cubicBezTo>
                  <a:pt x="1736317" y="66296"/>
                  <a:pt x="1737091" y="54725"/>
                  <a:pt x="1744191" y="47625"/>
                </a:cubicBezTo>
                <a:cubicBezTo>
                  <a:pt x="1751291" y="40525"/>
                  <a:pt x="1763241" y="41275"/>
                  <a:pt x="1772766" y="38100"/>
                </a:cubicBezTo>
                <a:cubicBezTo>
                  <a:pt x="1782291" y="47625"/>
                  <a:pt x="1788054" y="64460"/>
                  <a:pt x="1801341" y="66675"/>
                </a:cubicBezTo>
                <a:cubicBezTo>
                  <a:pt x="1823112" y="70304"/>
                  <a:pt x="1839895" y="28121"/>
                  <a:pt x="1848966" y="19050"/>
                </a:cubicBezTo>
                <a:cubicBezTo>
                  <a:pt x="1857061" y="10955"/>
                  <a:pt x="1868016" y="6350"/>
                  <a:pt x="1877541" y="0"/>
                </a:cubicBezTo>
                <a:cubicBezTo>
                  <a:pt x="1883891" y="9525"/>
                  <a:pt x="1888496" y="20480"/>
                  <a:pt x="1896591" y="28575"/>
                </a:cubicBezTo>
                <a:cubicBezTo>
                  <a:pt x="1945897" y="77881"/>
                  <a:pt x="2048207" y="54461"/>
                  <a:pt x="2096616" y="57150"/>
                </a:cubicBezTo>
                <a:cubicBezTo>
                  <a:pt x="2140285" y="122654"/>
                  <a:pt x="2127476" y="92580"/>
                  <a:pt x="2144241" y="142875"/>
                </a:cubicBezTo>
                <a:cubicBezTo>
                  <a:pt x="2155924" y="341491"/>
                  <a:pt x="2100068" y="289692"/>
                  <a:pt x="2210916" y="314325"/>
                </a:cubicBezTo>
                <a:cubicBezTo>
                  <a:pt x="2220717" y="316503"/>
                  <a:pt x="2282334" y="374657"/>
                  <a:pt x="2291859" y="377832"/>
                </a:cubicBezTo>
                <a:cubicBezTo>
                  <a:pt x="2287097" y="393707"/>
                  <a:pt x="2264852" y="458801"/>
                  <a:pt x="2182341" y="409575"/>
                </a:cubicBezTo>
                <a:cubicBezTo>
                  <a:pt x="2169712" y="428519"/>
                  <a:pt x="2149155" y="443064"/>
                  <a:pt x="2172816" y="466725"/>
                </a:cubicBezTo>
                <a:cubicBezTo>
                  <a:pt x="2179916" y="473825"/>
                  <a:pt x="2191866" y="473075"/>
                  <a:pt x="2201391" y="476250"/>
                </a:cubicBezTo>
                <a:cubicBezTo>
                  <a:pt x="2210781" y="504419"/>
                  <a:pt x="2220767" y="509316"/>
                  <a:pt x="2191866" y="533400"/>
                </a:cubicBezTo>
                <a:cubicBezTo>
                  <a:pt x="2180958" y="542490"/>
                  <a:pt x="2166817" y="546857"/>
                  <a:pt x="2153766" y="552450"/>
                </a:cubicBezTo>
                <a:cubicBezTo>
                  <a:pt x="2144538" y="556405"/>
                  <a:pt x="2142654" y="587375"/>
                  <a:pt x="2134716" y="590550"/>
                </a:cubicBezTo>
                <a:close/>
              </a:path>
            </a:pathLst>
          </a:cu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2" name="자유형 90"/>
          <p:cNvSpPr/>
          <p:nvPr/>
        </p:nvSpPr>
        <p:spPr>
          <a:xfrm>
            <a:off x="5964120" y="4257720"/>
            <a:ext cx="1390680" cy="130176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1710328" h="2182045">
                <a:moveTo>
                  <a:pt x="371055" y="147782"/>
                </a:moveTo>
                <a:cubicBezTo>
                  <a:pt x="349503" y="137006"/>
                  <a:pt x="277152" y="118533"/>
                  <a:pt x="250982" y="110836"/>
                </a:cubicBezTo>
                <a:cubicBezTo>
                  <a:pt x="238399" y="109158"/>
                  <a:pt x="225391" y="107277"/>
                  <a:pt x="214037" y="101600"/>
                </a:cubicBezTo>
                <a:cubicBezTo>
                  <a:pt x="70787" y="29976"/>
                  <a:pt x="242505" y="92618"/>
                  <a:pt x="103201" y="46182"/>
                </a:cubicBezTo>
                <a:cubicBezTo>
                  <a:pt x="93965" y="43103"/>
                  <a:pt x="83593" y="42345"/>
                  <a:pt x="75492" y="36945"/>
                </a:cubicBezTo>
                <a:lnTo>
                  <a:pt x="20073" y="0"/>
                </a:lnTo>
                <a:cubicBezTo>
                  <a:pt x="13916" y="9236"/>
                  <a:pt x="3426" y="16759"/>
                  <a:pt x="1601" y="27709"/>
                </a:cubicBezTo>
                <a:cubicBezTo>
                  <a:pt x="0" y="37312"/>
                  <a:pt x="6483" y="46710"/>
                  <a:pt x="10837" y="55418"/>
                </a:cubicBezTo>
                <a:cubicBezTo>
                  <a:pt x="26231" y="86205"/>
                  <a:pt x="29311" y="83128"/>
                  <a:pt x="57019" y="101600"/>
                </a:cubicBezTo>
                <a:cubicBezTo>
                  <a:pt x="109960" y="181011"/>
                  <a:pt x="46488" y="80538"/>
                  <a:pt x="84728" y="157018"/>
                </a:cubicBezTo>
                <a:cubicBezTo>
                  <a:pt x="89692" y="166947"/>
                  <a:pt x="97043" y="175491"/>
                  <a:pt x="103201" y="184727"/>
                </a:cubicBezTo>
                <a:cubicBezTo>
                  <a:pt x="106280" y="193963"/>
                  <a:pt x="102701" y="212436"/>
                  <a:pt x="112437" y="212436"/>
                </a:cubicBezTo>
                <a:cubicBezTo>
                  <a:pt x="122173" y="212436"/>
                  <a:pt x="120386" y="194378"/>
                  <a:pt x="121673" y="184727"/>
                </a:cubicBezTo>
                <a:cubicBezTo>
                  <a:pt x="126573" y="147979"/>
                  <a:pt x="127831" y="110836"/>
                  <a:pt x="130910" y="73891"/>
                </a:cubicBezTo>
                <a:cubicBezTo>
                  <a:pt x="151295" y="101071"/>
                  <a:pt x="160599" y="117104"/>
                  <a:pt x="186328" y="138545"/>
                </a:cubicBezTo>
                <a:cubicBezTo>
                  <a:pt x="194856" y="145652"/>
                  <a:pt x="204801" y="150860"/>
                  <a:pt x="214037" y="157018"/>
                </a:cubicBezTo>
                <a:cubicBezTo>
                  <a:pt x="220195" y="166254"/>
                  <a:pt x="228612" y="174333"/>
                  <a:pt x="232510" y="184727"/>
                </a:cubicBezTo>
                <a:cubicBezTo>
                  <a:pt x="238022" y="199426"/>
                  <a:pt x="237939" y="215679"/>
                  <a:pt x="241746" y="230909"/>
                </a:cubicBezTo>
                <a:cubicBezTo>
                  <a:pt x="244107" y="240354"/>
                  <a:pt x="247903" y="249382"/>
                  <a:pt x="250982" y="258618"/>
                </a:cubicBezTo>
                <a:cubicBezTo>
                  <a:pt x="250665" y="258697"/>
                  <a:pt x="190743" y="272676"/>
                  <a:pt x="186328" y="277091"/>
                </a:cubicBezTo>
                <a:cubicBezTo>
                  <a:pt x="179444" y="283975"/>
                  <a:pt x="180171" y="295564"/>
                  <a:pt x="177092" y="304800"/>
                </a:cubicBezTo>
                <a:cubicBezTo>
                  <a:pt x="180171" y="317115"/>
                  <a:pt x="180030" y="330723"/>
                  <a:pt x="186328" y="341745"/>
                </a:cubicBezTo>
                <a:cubicBezTo>
                  <a:pt x="192809" y="353086"/>
                  <a:pt x="203169" y="362209"/>
                  <a:pt x="214037" y="369455"/>
                </a:cubicBezTo>
                <a:cubicBezTo>
                  <a:pt x="221987" y="374755"/>
                  <a:pt x="273766" y="386696"/>
                  <a:pt x="278692" y="387927"/>
                </a:cubicBezTo>
                <a:cubicBezTo>
                  <a:pt x="299041" y="398102"/>
                  <a:pt x="376633" y="441254"/>
                  <a:pt x="408001" y="443345"/>
                </a:cubicBezTo>
                <a:lnTo>
                  <a:pt x="546546" y="452582"/>
                </a:lnTo>
                <a:cubicBezTo>
                  <a:pt x="555782" y="458740"/>
                  <a:pt x="566406" y="463206"/>
                  <a:pt x="574255" y="471055"/>
                </a:cubicBezTo>
                <a:cubicBezTo>
                  <a:pt x="582104" y="478904"/>
                  <a:pt x="585504" y="490336"/>
                  <a:pt x="592728" y="498764"/>
                </a:cubicBezTo>
                <a:cubicBezTo>
                  <a:pt x="604062" y="511987"/>
                  <a:pt x="616450" y="524375"/>
                  <a:pt x="629673" y="535709"/>
                </a:cubicBezTo>
                <a:cubicBezTo>
                  <a:pt x="638101" y="542933"/>
                  <a:pt x="648349" y="547730"/>
                  <a:pt x="657382" y="554182"/>
                </a:cubicBezTo>
                <a:cubicBezTo>
                  <a:pt x="669909" y="563130"/>
                  <a:pt x="682013" y="572655"/>
                  <a:pt x="694328" y="581891"/>
                </a:cubicBezTo>
                <a:cubicBezTo>
                  <a:pt x="697407" y="591127"/>
                  <a:pt x="697482" y="601997"/>
                  <a:pt x="703564" y="609600"/>
                </a:cubicBezTo>
                <a:cubicBezTo>
                  <a:pt x="716586" y="625878"/>
                  <a:pt x="740728" y="631224"/>
                  <a:pt x="758982" y="637309"/>
                </a:cubicBezTo>
                <a:cubicBezTo>
                  <a:pt x="765140" y="646545"/>
                  <a:pt x="768219" y="658860"/>
                  <a:pt x="777455" y="665018"/>
                </a:cubicBezTo>
                <a:cubicBezTo>
                  <a:pt x="788017" y="672060"/>
                  <a:pt x="807870" y="663370"/>
                  <a:pt x="814401" y="674255"/>
                </a:cubicBezTo>
                <a:cubicBezTo>
                  <a:pt x="820932" y="685140"/>
                  <a:pt x="810164" y="699532"/>
                  <a:pt x="805164" y="711200"/>
                </a:cubicBezTo>
                <a:cubicBezTo>
                  <a:pt x="791237" y="743695"/>
                  <a:pt x="788499" y="738307"/>
                  <a:pt x="758982" y="748145"/>
                </a:cubicBezTo>
                <a:cubicBezTo>
                  <a:pt x="762166" y="773612"/>
                  <a:pt x="763218" y="821270"/>
                  <a:pt x="777455" y="849745"/>
                </a:cubicBezTo>
                <a:cubicBezTo>
                  <a:pt x="782419" y="859674"/>
                  <a:pt x="789770" y="868218"/>
                  <a:pt x="795928" y="877455"/>
                </a:cubicBezTo>
                <a:cubicBezTo>
                  <a:pt x="803625" y="891310"/>
                  <a:pt x="814401" y="912861"/>
                  <a:pt x="823637" y="932873"/>
                </a:cubicBezTo>
                <a:cubicBezTo>
                  <a:pt x="859423" y="1016373"/>
                  <a:pt x="804968" y="927962"/>
                  <a:pt x="851346" y="997527"/>
                </a:cubicBezTo>
                <a:cubicBezTo>
                  <a:pt x="864320" y="1036451"/>
                  <a:pt x="881495" y="1092332"/>
                  <a:pt x="906764" y="1117600"/>
                </a:cubicBezTo>
                <a:cubicBezTo>
                  <a:pt x="929496" y="1140331"/>
                  <a:pt x="948113" y="1154116"/>
                  <a:pt x="962182" y="1182255"/>
                </a:cubicBezTo>
                <a:cubicBezTo>
                  <a:pt x="966536" y="1190963"/>
                  <a:pt x="968340" y="1200728"/>
                  <a:pt x="971419" y="1209964"/>
                </a:cubicBezTo>
                <a:cubicBezTo>
                  <a:pt x="968340" y="1277697"/>
                  <a:pt x="965746" y="1345454"/>
                  <a:pt x="962182" y="1413164"/>
                </a:cubicBezTo>
                <a:cubicBezTo>
                  <a:pt x="961485" y="1426410"/>
                  <a:pt x="966749" y="1542577"/>
                  <a:pt x="943710" y="1588655"/>
                </a:cubicBezTo>
                <a:cubicBezTo>
                  <a:pt x="938746" y="1598584"/>
                  <a:pt x="933087" y="1608515"/>
                  <a:pt x="925237" y="1616364"/>
                </a:cubicBezTo>
                <a:cubicBezTo>
                  <a:pt x="917388" y="1624213"/>
                  <a:pt x="906764" y="1628679"/>
                  <a:pt x="897528" y="1634836"/>
                </a:cubicBezTo>
                <a:cubicBezTo>
                  <a:pt x="799372" y="1782067"/>
                  <a:pt x="870955" y="1663242"/>
                  <a:pt x="888292" y="2096655"/>
                </a:cubicBezTo>
                <a:cubicBezTo>
                  <a:pt x="888671" y="2106125"/>
                  <a:pt x="906229" y="2149066"/>
                  <a:pt x="916001" y="2152073"/>
                </a:cubicBezTo>
                <a:cubicBezTo>
                  <a:pt x="948504" y="2162074"/>
                  <a:pt x="983734" y="2158230"/>
                  <a:pt x="1017601" y="2161309"/>
                </a:cubicBezTo>
                <a:cubicBezTo>
                  <a:pt x="1029916" y="2167467"/>
                  <a:pt x="1040965" y="2182045"/>
                  <a:pt x="1054546" y="2179782"/>
                </a:cubicBezTo>
                <a:cubicBezTo>
                  <a:pt x="1065496" y="2177957"/>
                  <a:pt x="1069829" y="2162706"/>
                  <a:pt x="1073019" y="2152073"/>
                </a:cubicBezTo>
                <a:cubicBezTo>
                  <a:pt x="1079275" y="2131221"/>
                  <a:pt x="1073413" y="2107312"/>
                  <a:pt x="1082255" y="2087418"/>
                </a:cubicBezTo>
                <a:cubicBezTo>
                  <a:pt x="1086763" y="2077274"/>
                  <a:pt x="1100728" y="2075103"/>
                  <a:pt x="1109964" y="2068945"/>
                </a:cubicBezTo>
                <a:cubicBezTo>
                  <a:pt x="1116122" y="2056630"/>
                  <a:pt x="1120434" y="2043204"/>
                  <a:pt x="1128437" y="2032000"/>
                </a:cubicBezTo>
                <a:cubicBezTo>
                  <a:pt x="1136029" y="2021371"/>
                  <a:pt x="1147784" y="2014326"/>
                  <a:pt x="1156146" y="2004291"/>
                </a:cubicBezTo>
                <a:cubicBezTo>
                  <a:pt x="1163253" y="1995763"/>
                  <a:pt x="1168461" y="1985818"/>
                  <a:pt x="1174619" y="1976582"/>
                </a:cubicBezTo>
                <a:cubicBezTo>
                  <a:pt x="1177698" y="1890376"/>
                  <a:pt x="1175803" y="1803848"/>
                  <a:pt x="1183855" y="1717964"/>
                </a:cubicBezTo>
                <a:cubicBezTo>
                  <a:pt x="1185140" y="1704255"/>
                  <a:pt x="1196904" y="1693674"/>
                  <a:pt x="1202328" y="1681018"/>
                </a:cubicBezTo>
                <a:cubicBezTo>
                  <a:pt x="1206163" y="1672069"/>
                  <a:pt x="1209203" y="1662754"/>
                  <a:pt x="1211564" y="1653309"/>
                </a:cubicBezTo>
                <a:cubicBezTo>
                  <a:pt x="1232320" y="1570285"/>
                  <a:pt x="1205487" y="1638543"/>
                  <a:pt x="1239273" y="1579418"/>
                </a:cubicBezTo>
                <a:cubicBezTo>
                  <a:pt x="1246104" y="1567463"/>
                  <a:pt x="1248785" y="1552927"/>
                  <a:pt x="1257746" y="1542473"/>
                </a:cubicBezTo>
                <a:cubicBezTo>
                  <a:pt x="1274381" y="1523066"/>
                  <a:pt x="1302933" y="1512514"/>
                  <a:pt x="1322401" y="1496291"/>
                </a:cubicBezTo>
                <a:cubicBezTo>
                  <a:pt x="1354277" y="1469728"/>
                  <a:pt x="1358843" y="1447197"/>
                  <a:pt x="1405528" y="1431636"/>
                </a:cubicBezTo>
                <a:cubicBezTo>
                  <a:pt x="1459686" y="1413584"/>
                  <a:pt x="1423561" y="1423475"/>
                  <a:pt x="1516364" y="1413164"/>
                </a:cubicBezTo>
                <a:cubicBezTo>
                  <a:pt x="1539581" y="1343517"/>
                  <a:pt x="1508263" y="1429366"/>
                  <a:pt x="1544073" y="1357745"/>
                </a:cubicBezTo>
                <a:cubicBezTo>
                  <a:pt x="1548427" y="1349037"/>
                  <a:pt x="1550635" y="1339397"/>
                  <a:pt x="1553310" y="1330036"/>
                </a:cubicBezTo>
                <a:cubicBezTo>
                  <a:pt x="1556797" y="1317830"/>
                  <a:pt x="1555505" y="1303653"/>
                  <a:pt x="1562546" y="1293091"/>
                </a:cubicBezTo>
                <a:cubicBezTo>
                  <a:pt x="1568704" y="1283855"/>
                  <a:pt x="1581019" y="1280776"/>
                  <a:pt x="1590255" y="1274618"/>
                </a:cubicBezTo>
                <a:cubicBezTo>
                  <a:pt x="1631990" y="1212017"/>
                  <a:pt x="1586124" y="1289764"/>
                  <a:pt x="1617964" y="1173018"/>
                </a:cubicBezTo>
                <a:cubicBezTo>
                  <a:pt x="1623542" y="1152566"/>
                  <a:pt x="1652287" y="1131831"/>
                  <a:pt x="1664146" y="1117600"/>
                </a:cubicBezTo>
                <a:cubicBezTo>
                  <a:pt x="1671253" y="1109072"/>
                  <a:pt x="1676461" y="1099127"/>
                  <a:pt x="1682619" y="1089891"/>
                </a:cubicBezTo>
                <a:lnTo>
                  <a:pt x="1701092" y="1034473"/>
                </a:lnTo>
                <a:lnTo>
                  <a:pt x="1710328" y="1006764"/>
                </a:lnTo>
                <a:cubicBezTo>
                  <a:pt x="1707249" y="969818"/>
                  <a:pt x="1708363" y="932281"/>
                  <a:pt x="1701092" y="895927"/>
                </a:cubicBezTo>
                <a:cubicBezTo>
                  <a:pt x="1698915" y="885042"/>
                  <a:pt x="1693608" y="869788"/>
                  <a:pt x="1682619" y="868218"/>
                </a:cubicBezTo>
                <a:cubicBezTo>
                  <a:pt x="1645918" y="862975"/>
                  <a:pt x="1608728" y="874376"/>
                  <a:pt x="1571782" y="877455"/>
                </a:cubicBezTo>
                <a:cubicBezTo>
                  <a:pt x="1549246" y="869942"/>
                  <a:pt x="1534269" y="867650"/>
                  <a:pt x="1516364" y="849745"/>
                </a:cubicBezTo>
                <a:cubicBezTo>
                  <a:pt x="1505479" y="838860"/>
                  <a:pt x="1500161" y="823027"/>
                  <a:pt x="1488655" y="812800"/>
                </a:cubicBezTo>
                <a:cubicBezTo>
                  <a:pt x="1472061" y="798050"/>
                  <a:pt x="1433237" y="775855"/>
                  <a:pt x="1433237" y="775855"/>
                </a:cubicBezTo>
                <a:cubicBezTo>
                  <a:pt x="1427079" y="766618"/>
                  <a:pt x="1425071" y="752268"/>
                  <a:pt x="1414764" y="748145"/>
                </a:cubicBezTo>
                <a:cubicBezTo>
                  <a:pt x="1405724" y="744529"/>
                  <a:pt x="1396095" y="760998"/>
                  <a:pt x="1387055" y="757382"/>
                </a:cubicBezTo>
                <a:cubicBezTo>
                  <a:pt x="1376748" y="753259"/>
                  <a:pt x="1374740" y="738909"/>
                  <a:pt x="1368582" y="729673"/>
                </a:cubicBezTo>
                <a:cubicBezTo>
                  <a:pt x="1365503" y="701964"/>
                  <a:pt x="1375215" y="669468"/>
                  <a:pt x="1359346" y="646545"/>
                </a:cubicBezTo>
                <a:cubicBezTo>
                  <a:pt x="1343671" y="623904"/>
                  <a:pt x="1308367" y="624875"/>
                  <a:pt x="1285455" y="609600"/>
                </a:cubicBezTo>
                <a:cubicBezTo>
                  <a:pt x="1276219" y="603442"/>
                  <a:pt x="1267949" y="595500"/>
                  <a:pt x="1257746" y="591127"/>
                </a:cubicBezTo>
                <a:cubicBezTo>
                  <a:pt x="1246078" y="586127"/>
                  <a:pt x="1233007" y="585378"/>
                  <a:pt x="1220801" y="581891"/>
                </a:cubicBezTo>
                <a:cubicBezTo>
                  <a:pt x="1200789" y="574194"/>
                  <a:pt x="1156146" y="554181"/>
                  <a:pt x="1137673" y="544945"/>
                </a:cubicBezTo>
                <a:cubicBezTo>
                  <a:pt x="1127744" y="539981"/>
                  <a:pt x="1120108" y="530981"/>
                  <a:pt x="1109964" y="526473"/>
                </a:cubicBezTo>
                <a:cubicBezTo>
                  <a:pt x="1092170" y="518565"/>
                  <a:pt x="1054546" y="508000"/>
                  <a:pt x="1054546" y="508000"/>
                </a:cubicBezTo>
                <a:cubicBezTo>
                  <a:pt x="1042231" y="511079"/>
                  <a:pt x="1029760" y="513588"/>
                  <a:pt x="1017601" y="517236"/>
                </a:cubicBezTo>
                <a:cubicBezTo>
                  <a:pt x="998950" y="522831"/>
                  <a:pt x="981558" y="533772"/>
                  <a:pt x="962182" y="535709"/>
                </a:cubicBezTo>
                <a:lnTo>
                  <a:pt x="869819" y="544945"/>
                </a:lnTo>
                <a:cubicBezTo>
                  <a:pt x="799508" y="568382"/>
                  <a:pt x="833495" y="567237"/>
                  <a:pt x="768219" y="554182"/>
                </a:cubicBezTo>
                <a:cubicBezTo>
                  <a:pt x="749746" y="535709"/>
                  <a:pt x="727292" y="520501"/>
                  <a:pt x="712801" y="498764"/>
                </a:cubicBezTo>
                <a:cubicBezTo>
                  <a:pt x="688170" y="461819"/>
                  <a:pt x="703564" y="477213"/>
                  <a:pt x="666619" y="452582"/>
                </a:cubicBezTo>
                <a:cubicBezTo>
                  <a:pt x="654304" y="434109"/>
                  <a:pt x="636693" y="418226"/>
                  <a:pt x="629673" y="397164"/>
                </a:cubicBezTo>
                <a:cubicBezTo>
                  <a:pt x="607691" y="331214"/>
                  <a:pt x="627403" y="352546"/>
                  <a:pt x="583492" y="323273"/>
                </a:cubicBezTo>
                <a:cubicBezTo>
                  <a:pt x="574255" y="326352"/>
                  <a:pt x="564490" y="328155"/>
                  <a:pt x="555782" y="332509"/>
                </a:cubicBezTo>
                <a:cubicBezTo>
                  <a:pt x="545853" y="337473"/>
                  <a:pt x="539174" y="350982"/>
                  <a:pt x="528073" y="350982"/>
                </a:cubicBezTo>
                <a:cubicBezTo>
                  <a:pt x="516972" y="350982"/>
                  <a:pt x="508892" y="339616"/>
                  <a:pt x="500364" y="332509"/>
                </a:cubicBezTo>
                <a:cubicBezTo>
                  <a:pt x="409577" y="256853"/>
                  <a:pt x="526836" y="349745"/>
                  <a:pt x="454182" y="277091"/>
                </a:cubicBezTo>
                <a:cubicBezTo>
                  <a:pt x="446333" y="269242"/>
                  <a:pt x="435709" y="264776"/>
                  <a:pt x="426473" y="258618"/>
                </a:cubicBezTo>
                <a:cubicBezTo>
                  <a:pt x="414158" y="241685"/>
                  <a:pt x="389528" y="193964"/>
                  <a:pt x="380292" y="175491"/>
                </a:cubicBezTo>
                <a:cubicBezTo>
                  <a:pt x="377213" y="166255"/>
                  <a:pt x="377137" y="155385"/>
                  <a:pt x="371055" y="147782"/>
                </a:cubicBezTo>
                <a:close/>
              </a:path>
            </a:pathLst>
          </a:cu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1420920" y="3967200"/>
            <a:ext cx="1211040" cy="107460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967" h="1182">
                <a:moveTo>
                  <a:pt x="389" y="12"/>
                </a:moveTo>
                <a:cubicBezTo>
                  <a:pt x="381" y="9"/>
                  <a:pt x="373" y="7"/>
                  <a:pt x="365" y="4"/>
                </a:cubicBezTo>
                <a:cubicBezTo>
                  <a:pt x="361" y="3"/>
                  <a:pt x="353" y="0"/>
                  <a:pt x="353" y="0"/>
                </a:cubicBezTo>
                <a:cubicBezTo>
                  <a:pt x="334" y="1"/>
                  <a:pt x="316" y="2"/>
                  <a:pt x="297" y="4"/>
                </a:cubicBezTo>
                <a:cubicBezTo>
                  <a:pt x="288" y="5"/>
                  <a:pt x="282" y="15"/>
                  <a:pt x="273" y="16"/>
                </a:cubicBezTo>
                <a:cubicBezTo>
                  <a:pt x="237" y="20"/>
                  <a:pt x="201" y="19"/>
                  <a:pt x="165" y="20"/>
                </a:cubicBezTo>
                <a:cubicBezTo>
                  <a:pt x="163" y="32"/>
                  <a:pt x="163" y="43"/>
                  <a:pt x="153" y="52"/>
                </a:cubicBezTo>
                <a:cubicBezTo>
                  <a:pt x="146" y="58"/>
                  <a:pt x="129" y="68"/>
                  <a:pt x="129" y="68"/>
                </a:cubicBezTo>
                <a:cubicBezTo>
                  <a:pt x="118" y="85"/>
                  <a:pt x="107" y="98"/>
                  <a:pt x="101" y="116"/>
                </a:cubicBezTo>
                <a:cubicBezTo>
                  <a:pt x="84" y="143"/>
                  <a:pt x="39" y="205"/>
                  <a:pt x="25" y="228"/>
                </a:cubicBezTo>
                <a:cubicBezTo>
                  <a:pt x="20" y="235"/>
                  <a:pt x="17" y="252"/>
                  <a:pt x="17" y="252"/>
                </a:cubicBezTo>
                <a:cubicBezTo>
                  <a:pt x="19" y="316"/>
                  <a:pt x="0" y="387"/>
                  <a:pt x="29" y="444"/>
                </a:cubicBezTo>
                <a:cubicBezTo>
                  <a:pt x="43" y="471"/>
                  <a:pt x="73" y="480"/>
                  <a:pt x="97" y="496"/>
                </a:cubicBezTo>
                <a:cubicBezTo>
                  <a:pt x="105" y="501"/>
                  <a:pt x="121" y="512"/>
                  <a:pt x="121" y="512"/>
                </a:cubicBezTo>
                <a:cubicBezTo>
                  <a:pt x="140" y="540"/>
                  <a:pt x="200" y="515"/>
                  <a:pt x="233" y="512"/>
                </a:cubicBezTo>
                <a:cubicBezTo>
                  <a:pt x="246" y="503"/>
                  <a:pt x="250" y="493"/>
                  <a:pt x="265" y="488"/>
                </a:cubicBezTo>
                <a:cubicBezTo>
                  <a:pt x="281" y="490"/>
                  <a:pt x="300" y="486"/>
                  <a:pt x="313" y="496"/>
                </a:cubicBezTo>
                <a:cubicBezTo>
                  <a:pt x="322" y="503"/>
                  <a:pt x="322" y="528"/>
                  <a:pt x="333" y="532"/>
                </a:cubicBezTo>
                <a:cubicBezTo>
                  <a:pt x="344" y="536"/>
                  <a:pt x="357" y="535"/>
                  <a:pt x="369" y="536"/>
                </a:cubicBezTo>
                <a:cubicBezTo>
                  <a:pt x="373" y="575"/>
                  <a:pt x="370" y="589"/>
                  <a:pt x="361" y="624"/>
                </a:cubicBezTo>
                <a:cubicBezTo>
                  <a:pt x="369" y="652"/>
                  <a:pt x="407" y="681"/>
                  <a:pt x="417" y="704"/>
                </a:cubicBezTo>
                <a:cubicBezTo>
                  <a:pt x="411" y="723"/>
                  <a:pt x="417" y="741"/>
                  <a:pt x="421" y="760"/>
                </a:cubicBezTo>
                <a:cubicBezTo>
                  <a:pt x="420" y="784"/>
                  <a:pt x="420" y="808"/>
                  <a:pt x="417" y="832"/>
                </a:cubicBezTo>
                <a:cubicBezTo>
                  <a:pt x="416" y="840"/>
                  <a:pt x="409" y="856"/>
                  <a:pt x="409" y="856"/>
                </a:cubicBezTo>
                <a:cubicBezTo>
                  <a:pt x="412" y="894"/>
                  <a:pt x="410" y="915"/>
                  <a:pt x="441" y="936"/>
                </a:cubicBezTo>
                <a:cubicBezTo>
                  <a:pt x="454" y="974"/>
                  <a:pt x="453" y="1017"/>
                  <a:pt x="473" y="1052"/>
                </a:cubicBezTo>
                <a:cubicBezTo>
                  <a:pt x="482" y="1080"/>
                  <a:pt x="485" y="1084"/>
                  <a:pt x="493" y="1104"/>
                </a:cubicBezTo>
                <a:cubicBezTo>
                  <a:pt x="495" y="1136"/>
                  <a:pt x="482" y="1182"/>
                  <a:pt x="521" y="1172"/>
                </a:cubicBezTo>
                <a:cubicBezTo>
                  <a:pt x="540" y="1159"/>
                  <a:pt x="528" y="1166"/>
                  <a:pt x="557" y="1156"/>
                </a:cubicBezTo>
                <a:cubicBezTo>
                  <a:pt x="607" y="1139"/>
                  <a:pt x="562" y="1145"/>
                  <a:pt x="593" y="1128"/>
                </a:cubicBezTo>
                <a:cubicBezTo>
                  <a:pt x="616" y="1118"/>
                  <a:pt x="671" y="1114"/>
                  <a:pt x="693" y="1096"/>
                </a:cubicBezTo>
                <a:cubicBezTo>
                  <a:pt x="705" y="1061"/>
                  <a:pt x="686" y="1033"/>
                  <a:pt x="725" y="1020"/>
                </a:cubicBezTo>
                <a:cubicBezTo>
                  <a:pt x="756" y="974"/>
                  <a:pt x="710" y="934"/>
                  <a:pt x="761" y="900"/>
                </a:cubicBezTo>
                <a:cubicBezTo>
                  <a:pt x="765" y="886"/>
                  <a:pt x="763" y="883"/>
                  <a:pt x="773" y="872"/>
                </a:cubicBezTo>
                <a:lnTo>
                  <a:pt x="797" y="848"/>
                </a:lnTo>
                <a:cubicBezTo>
                  <a:pt x="810" y="809"/>
                  <a:pt x="807" y="773"/>
                  <a:pt x="797" y="732"/>
                </a:cubicBezTo>
                <a:cubicBezTo>
                  <a:pt x="800" y="680"/>
                  <a:pt x="794" y="666"/>
                  <a:pt x="833" y="640"/>
                </a:cubicBezTo>
                <a:cubicBezTo>
                  <a:pt x="852" y="603"/>
                  <a:pt x="890" y="537"/>
                  <a:pt x="909" y="508"/>
                </a:cubicBezTo>
                <a:cubicBezTo>
                  <a:pt x="917" y="483"/>
                  <a:pt x="922" y="479"/>
                  <a:pt x="945" y="464"/>
                </a:cubicBezTo>
                <a:cubicBezTo>
                  <a:pt x="949" y="461"/>
                  <a:pt x="957" y="456"/>
                  <a:pt x="957" y="456"/>
                </a:cubicBezTo>
                <a:cubicBezTo>
                  <a:pt x="949" y="382"/>
                  <a:pt x="967" y="434"/>
                  <a:pt x="853" y="416"/>
                </a:cubicBezTo>
                <a:cubicBezTo>
                  <a:pt x="844" y="414"/>
                  <a:pt x="829" y="400"/>
                  <a:pt x="829" y="400"/>
                </a:cubicBezTo>
                <a:cubicBezTo>
                  <a:pt x="809" y="369"/>
                  <a:pt x="795" y="342"/>
                  <a:pt x="769" y="316"/>
                </a:cubicBezTo>
                <a:lnTo>
                  <a:pt x="745" y="292"/>
                </a:lnTo>
                <a:cubicBezTo>
                  <a:pt x="737" y="261"/>
                  <a:pt x="719" y="230"/>
                  <a:pt x="701" y="204"/>
                </a:cubicBezTo>
                <a:cubicBezTo>
                  <a:pt x="702" y="176"/>
                  <a:pt x="702" y="148"/>
                  <a:pt x="705" y="120"/>
                </a:cubicBezTo>
                <a:cubicBezTo>
                  <a:pt x="706" y="115"/>
                  <a:pt x="714" y="113"/>
                  <a:pt x="713" y="108"/>
                </a:cubicBezTo>
                <a:cubicBezTo>
                  <a:pt x="711" y="100"/>
                  <a:pt x="683" y="96"/>
                  <a:pt x="681" y="96"/>
                </a:cubicBezTo>
                <a:cubicBezTo>
                  <a:pt x="658" y="94"/>
                  <a:pt x="636" y="93"/>
                  <a:pt x="613" y="92"/>
                </a:cubicBezTo>
                <a:cubicBezTo>
                  <a:pt x="583" y="87"/>
                  <a:pt x="577" y="80"/>
                  <a:pt x="553" y="64"/>
                </a:cubicBezTo>
                <a:cubicBezTo>
                  <a:pt x="549" y="67"/>
                  <a:pt x="545" y="70"/>
                  <a:pt x="541" y="72"/>
                </a:cubicBezTo>
                <a:cubicBezTo>
                  <a:pt x="537" y="74"/>
                  <a:pt x="533" y="74"/>
                  <a:pt x="529" y="76"/>
                </a:cubicBezTo>
                <a:cubicBezTo>
                  <a:pt x="521" y="81"/>
                  <a:pt x="505" y="92"/>
                  <a:pt x="505" y="92"/>
                </a:cubicBezTo>
                <a:cubicBezTo>
                  <a:pt x="465" y="85"/>
                  <a:pt x="435" y="68"/>
                  <a:pt x="393" y="64"/>
                </a:cubicBezTo>
                <a:cubicBezTo>
                  <a:pt x="378" y="41"/>
                  <a:pt x="385" y="57"/>
                  <a:pt x="389" y="12"/>
                </a:cubicBezTo>
                <a:close/>
              </a:path>
            </a:pathLst>
          </a:cu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Freeform 10"/>
          <p:cNvSpPr/>
          <p:nvPr/>
        </p:nvSpPr>
        <p:spPr>
          <a:xfrm>
            <a:off x="2408400" y="4687920"/>
            <a:ext cx="125280" cy="195120"/>
          </a:xfrm>
          <a:custGeom>
            <a:avLst/>
            <a:gdLst>
              <a:gd name="textAreaLeft" fmla="*/ 0 w 125280"/>
              <a:gd name="textAreaRight" fmla="*/ 125640 w 1252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0" h="216">
                <a:moveTo>
                  <a:pt x="86" y="0"/>
                </a:moveTo>
                <a:cubicBezTo>
                  <a:pt x="71" y="22"/>
                  <a:pt x="73" y="41"/>
                  <a:pt x="50" y="56"/>
                </a:cubicBezTo>
                <a:cubicBezTo>
                  <a:pt x="42" y="68"/>
                  <a:pt x="18" y="84"/>
                  <a:pt x="18" y="84"/>
                </a:cubicBezTo>
                <a:cubicBezTo>
                  <a:pt x="7" y="100"/>
                  <a:pt x="3" y="103"/>
                  <a:pt x="14" y="120"/>
                </a:cubicBezTo>
                <a:cubicBezTo>
                  <a:pt x="13" y="128"/>
                  <a:pt x="12" y="136"/>
                  <a:pt x="10" y="144"/>
                </a:cubicBezTo>
                <a:cubicBezTo>
                  <a:pt x="8" y="152"/>
                  <a:pt x="2" y="168"/>
                  <a:pt x="2" y="168"/>
                </a:cubicBezTo>
                <a:cubicBezTo>
                  <a:pt x="5" y="191"/>
                  <a:pt x="0" y="209"/>
                  <a:pt x="22" y="216"/>
                </a:cubicBezTo>
                <a:cubicBezTo>
                  <a:pt x="41" y="212"/>
                  <a:pt x="53" y="207"/>
                  <a:pt x="62" y="188"/>
                </a:cubicBezTo>
                <a:cubicBezTo>
                  <a:pt x="65" y="180"/>
                  <a:pt x="70" y="164"/>
                  <a:pt x="70" y="164"/>
                </a:cubicBezTo>
                <a:cubicBezTo>
                  <a:pt x="71" y="147"/>
                  <a:pt x="70" y="129"/>
                  <a:pt x="74" y="112"/>
                </a:cubicBezTo>
                <a:cubicBezTo>
                  <a:pt x="77" y="99"/>
                  <a:pt x="90" y="89"/>
                  <a:pt x="94" y="76"/>
                </a:cubicBezTo>
                <a:cubicBezTo>
                  <a:pt x="90" y="5"/>
                  <a:pt x="100" y="28"/>
                  <a:pt x="86" y="0"/>
                </a:cubicBez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Freeform 14"/>
          <p:cNvSpPr/>
          <p:nvPr/>
        </p:nvSpPr>
        <p:spPr>
          <a:xfrm>
            <a:off x="3813120" y="4565520"/>
            <a:ext cx="814320" cy="460440"/>
          </a:xfrm>
          <a:custGeom>
            <a:avLst/>
            <a:gdLst>
              <a:gd name="textAreaLeft" fmla="*/ 0 w 814320"/>
              <a:gd name="textAreaRight" fmla="*/ 814680 w 81432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580" h="452">
                <a:moveTo>
                  <a:pt x="337" y="13"/>
                </a:moveTo>
                <a:cubicBezTo>
                  <a:pt x="326" y="14"/>
                  <a:pt x="296" y="13"/>
                  <a:pt x="281" y="21"/>
                </a:cubicBezTo>
                <a:cubicBezTo>
                  <a:pt x="262" y="30"/>
                  <a:pt x="256" y="51"/>
                  <a:pt x="237" y="57"/>
                </a:cubicBezTo>
                <a:cubicBezTo>
                  <a:pt x="221" y="46"/>
                  <a:pt x="214" y="51"/>
                  <a:pt x="197" y="57"/>
                </a:cubicBezTo>
                <a:cubicBezTo>
                  <a:pt x="190" y="67"/>
                  <a:pt x="186" y="85"/>
                  <a:pt x="177" y="93"/>
                </a:cubicBezTo>
                <a:cubicBezTo>
                  <a:pt x="170" y="99"/>
                  <a:pt x="160" y="100"/>
                  <a:pt x="153" y="105"/>
                </a:cubicBezTo>
                <a:cubicBezTo>
                  <a:pt x="125" y="96"/>
                  <a:pt x="108" y="134"/>
                  <a:pt x="89" y="153"/>
                </a:cubicBezTo>
                <a:cubicBezTo>
                  <a:pt x="68" y="174"/>
                  <a:pt x="59" y="170"/>
                  <a:pt x="29" y="173"/>
                </a:cubicBezTo>
                <a:cubicBezTo>
                  <a:pt x="0" y="193"/>
                  <a:pt x="11" y="206"/>
                  <a:pt x="29" y="233"/>
                </a:cubicBezTo>
                <a:cubicBezTo>
                  <a:pt x="34" y="241"/>
                  <a:pt x="45" y="257"/>
                  <a:pt x="45" y="257"/>
                </a:cubicBezTo>
                <a:cubicBezTo>
                  <a:pt x="50" y="299"/>
                  <a:pt x="57" y="339"/>
                  <a:pt x="61" y="381"/>
                </a:cubicBezTo>
                <a:cubicBezTo>
                  <a:pt x="93" y="376"/>
                  <a:pt x="117" y="350"/>
                  <a:pt x="149" y="349"/>
                </a:cubicBezTo>
                <a:cubicBezTo>
                  <a:pt x="188" y="348"/>
                  <a:pt x="226" y="346"/>
                  <a:pt x="265" y="345"/>
                </a:cubicBezTo>
                <a:cubicBezTo>
                  <a:pt x="299" y="334"/>
                  <a:pt x="281" y="336"/>
                  <a:pt x="321" y="341"/>
                </a:cubicBezTo>
                <a:cubicBezTo>
                  <a:pt x="330" y="355"/>
                  <a:pt x="332" y="369"/>
                  <a:pt x="337" y="385"/>
                </a:cubicBezTo>
                <a:cubicBezTo>
                  <a:pt x="355" y="373"/>
                  <a:pt x="355" y="363"/>
                  <a:pt x="377" y="369"/>
                </a:cubicBezTo>
                <a:cubicBezTo>
                  <a:pt x="381" y="381"/>
                  <a:pt x="379" y="394"/>
                  <a:pt x="385" y="405"/>
                </a:cubicBezTo>
                <a:cubicBezTo>
                  <a:pt x="389" y="413"/>
                  <a:pt x="402" y="412"/>
                  <a:pt x="409" y="417"/>
                </a:cubicBezTo>
                <a:cubicBezTo>
                  <a:pt x="432" y="452"/>
                  <a:pt x="485" y="438"/>
                  <a:pt x="517" y="417"/>
                </a:cubicBezTo>
                <a:cubicBezTo>
                  <a:pt x="527" y="403"/>
                  <a:pt x="535" y="386"/>
                  <a:pt x="541" y="369"/>
                </a:cubicBezTo>
                <a:cubicBezTo>
                  <a:pt x="542" y="356"/>
                  <a:pt x="542" y="342"/>
                  <a:pt x="545" y="329"/>
                </a:cubicBezTo>
                <a:cubicBezTo>
                  <a:pt x="549" y="312"/>
                  <a:pt x="571" y="300"/>
                  <a:pt x="577" y="281"/>
                </a:cubicBezTo>
                <a:cubicBezTo>
                  <a:pt x="575" y="265"/>
                  <a:pt x="580" y="244"/>
                  <a:pt x="569" y="233"/>
                </a:cubicBezTo>
                <a:cubicBezTo>
                  <a:pt x="562" y="226"/>
                  <a:pt x="545" y="217"/>
                  <a:pt x="545" y="217"/>
                </a:cubicBezTo>
                <a:cubicBezTo>
                  <a:pt x="531" y="196"/>
                  <a:pt x="507" y="183"/>
                  <a:pt x="493" y="161"/>
                </a:cubicBezTo>
                <a:cubicBezTo>
                  <a:pt x="474" y="133"/>
                  <a:pt x="485" y="142"/>
                  <a:pt x="465" y="129"/>
                </a:cubicBezTo>
                <a:cubicBezTo>
                  <a:pt x="456" y="115"/>
                  <a:pt x="453" y="105"/>
                  <a:pt x="441" y="93"/>
                </a:cubicBezTo>
                <a:cubicBezTo>
                  <a:pt x="431" y="64"/>
                  <a:pt x="439" y="34"/>
                  <a:pt x="429" y="5"/>
                </a:cubicBezTo>
                <a:cubicBezTo>
                  <a:pt x="395" y="16"/>
                  <a:pt x="422" y="64"/>
                  <a:pt x="393" y="93"/>
                </a:cubicBezTo>
                <a:cubicBezTo>
                  <a:pt x="364" y="87"/>
                  <a:pt x="359" y="72"/>
                  <a:pt x="337" y="57"/>
                </a:cubicBezTo>
                <a:cubicBezTo>
                  <a:pt x="335" y="54"/>
                  <a:pt x="323" y="39"/>
                  <a:pt x="325" y="33"/>
                </a:cubicBezTo>
                <a:cubicBezTo>
                  <a:pt x="329" y="20"/>
                  <a:pt x="350" y="0"/>
                  <a:pt x="337" y="13"/>
                </a:cubicBezTo>
                <a:close/>
              </a:path>
            </a:pathLst>
          </a:cu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Freeform 13"/>
          <p:cNvSpPr/>
          <p:nvPr/>
        </p:nvSpPr>
        <p:spPr>
          <a:xfrm>
            <a:off x="4221000" y="4438800"/>
            <a:ext cx="393840" cy="145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81" h="144">
                <a:moveTo>
                  <a:pt x="13" y="0"/>
                </a:moveTo>
                <a:cubicBezTo>
                  <a:pt x="0" y="19"/>
                  <a:pt x="9" y="23"/>
                  <a:pt x="29" y="28"/>
                </a:cubicBezTo>
                <a:cubicBezTo>
                  <a:pt x="51" y="61"/>
                  <a:pt x="35" y="51"/>
                  <a:pt x="77" y="56"/>
                </a:cubicBezTo>
                <a:cubicBezTo>
                  <a:pt x="95" y="68"/>
                  <a:pt x="110" y="85"/>
                  <a:pt x="125" y="100"/>
                </a:cubicBezTo>
                <a:cubicBezTo>
                  <a:pt x="138" y="113"/>
                  <a:pt x="130" y="122"/>
                  <a:pt x="149" y="128"/>
                </a:cubicBezTo>
                <a:cubicBezTo>
                  <a:pt x="196" y="119"/>
                  <a:pt x="147" y="131"/>
                  <a:pt x="181" y="116"/>
                </a:cubicBezTo>
                <a:cubicBezTo>
                  <a:pt x="189" y="113"/>
                  <a:pt x="205" y="108"/>
                  <a:pt x="205" y="108"/>
                </a:cubicBezTo>
                <a:cubicBezTo>
                  <a:pt x="223" y="113"/>
                  <a:pt x="241" y="119"/>
                  <a:pt x="257" y="128"/>
                </a:cubicBezTo>
                <a:cubicBezTo>
                  <a:pt x="265" y="133"/>
                  <a:pt x="281" y="144"/>
                  <a:pt x="281" y="144"/>
                </a:cubicBezTo>
                <a:cubicBezTo>
                  <a:pt x="273" y="120"/>
                  <a:pt x="266" y="102"/>
                  <a:pt x="245" y="88"/>
                </a:cubicBezTo>
                <a:cubicBezTo>
                  <a:pt x="216" y="44"/>
                  <a:pt x="159" y="26"/>
                  <a:pt x="109" y="20"/>
                </a:cubicBezTo>
                <a:cubicBezTo>
                  <a:pt x="94" y="25"/>
                  <a:pt x="90" y="35"/>
                  <a:pt x="77" y="44"/>
                </a:cubicBezTo>
                <a:cubicBezTo>
                  <a:pt x="45" y="23"/>
                  <a:pt x="84" y="51"/>
                  <a:pt x="57" y="24"/>
                </a:cubicBezTo>
                <a:cubicBezTo>
                  <a:pt x="47" y="14"/>
                  <a:pt x="25" y="7"/>
                  <a:pt x="13" y="0"/>
                </a:cubicBez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7" name="자유형 95"/>
          <p:cNvSpPr/>
          <p:nvPr/>
        </p:nvSpPr>
        <p:spPr>
          <a:xfrm>
            <a:off x="4686480" y="4863960"/>
            <a:ext cx="250560" cy="177840"/>
          </a:xfrm>
          <a:custGeom>
            <a:avLst/>
            <a:gdLst>
              <a:gd name="textAreaLeft" fmla="*/ 0 w 250560"/>
              <a:gd name="textAreaRight" fmla="*/ 250920 w 2505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310027" h="296862">
                <a:moveTo>
                  <a:pt x="201886" y="1587"/>
                </a:moveTo>
                <a:cubicBezTo>
                  <a:pt x="208236" y="0"/>
                  <a:pt x="229513" y="3257"/>
                  <a:pt x="239986" y="11112"/>
                </a:cubicBezTo>
                <a:cubicBezTo>
                  <a:pt x="274498" y="36996"/>
                  <a:pt x="276527" y="54060"/>
                  <a:pt x="287611" y="87312"/>
                </a:cubicBezTo>
                <a:cubicBezTo>
                  <a:pt x="204129" y="170794"/>
                  <a:pt x="310027" y="68632"/>
                  <a:pt x="230461" y="134937"/>
                </a:cubicBezTo>
                <a:cubicBezTo>
                  <a:pt x="220113" y="143561"/>
                  <a:pt x="212519" y="155242"/>
                  <a:pt x="201886" y="163512"/>
                </a:cubicBezTo>
                <a:cubicBezTo>
                  <a:pt x="183814" y="177568"/>
                  <a:pt x="163786" y="188912"/>
                  <a:pt x="144736" y="201612"/>
                </a:cubicBezTo>
                <a:lnTo>
                  <a:pt x="116161" y="220662"/>
                </a:lnTo>
                <a:lnTo>
                  <a:pt x="78061" y="277812"/>
                </a:lnTo>
                <a:cubicBezTo>
                  <a:pt x="66922" y="294520"/>
                  <a:pt x="20911" y="296862"/>
                  <a:pt x="20911" y="296862"/>
                </a:cubicBezTo>
                <a:cubicBezTo>
                  <a:pt x="14561" y="287337"/>
                  <a:pt x="3743" y="279579"/>
                  <a:pt x="1861" y="268287"/>
                </a:cubicBezTo>
                <a:cubicBezTo>
                  <a:pt x="0" y="257124"/>
                  <a:pt x="22926" y="215831"/>
                  <a:pt x="30436" y="211137"/>
                </a:cubicBezTo>
                <a:cubicBezTo>
                  <a:pt x="47464" y="200494"/>
                  <a:pt x="68536" y="198437"/>
                  <a:pt x="87586" y="192087"/>
                </a:cubicBezTo>
                <a:lnTo>
                  <a:pt x="116161" y="182562"/>
                </a:lnTo>
                <a:cubicBezTo>
                  <a:pt x="122511" y="173037"/>
                  <a:pt x="127116" y="162082"/>
                  <a:pt x="135211" y="153987"/>
                </a:cubicBezTo>
                <a:cubicBezTo>
                  <a:pt x="153675" y="135523"/>
                  <a:pt x="169120" y="133159"/>
                  <a:pt x="192361" y="125412"/>
                </a:cubicBezTo>
                <a:cubicBezTo>
                  <a:pt x="195536" y="112712"/>
                  <a:pt x="198290" y="99899"/>
                  <a:pt x="201886" y="87312"/>
                </a:cubicBezTo>
                <a:cubicBezTo>
                  <a:pt x="210973" y="55508"/>
                  <a:pt x="219815" y="56495"/>
                  <a:pt x="201886" y="20637"/>
                </a:cubicBezTo>
                <a:cubicBezTo>
                  <a:pt x="197870" y="12605"/>
                  <a:pt x="195536" y="3175"/>
                  <a:pt x="201886" y="1587"/>
                </a:cubicBezTo>
                <a:close/>
              </a:path>
            </a:pathLst>
          </a:cu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8" name="모서리가 둥근 직사각형 99"/>
          <p:cNvSpPr/>
          <p:nvPr/>
        </p:nvSpPr>
        <p:spPr>
          <a:xfrm>
            <a:off x="965160" y="5489640"/>
            <a:ext cx="1200240" cy="868320"/>
          </a:xfrm>
          <a:prstGeom prst="roundRect">
            <a:avLst>
              <a:gd name="adj" fmla="val 14477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89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AutoShape 78"/>
          <p:cNvSpPr/>
          <p:nvPr/>
        </p:nvSpPr>
        <p:spPr>
          <a:xfrm>
            <a:off x="990720" y="5504040"/>
            <a:ext cx="1143000" cy="529920"/>
          </a:xfrm>
          <a:prstGeom prst="roundRect">
            <a:avLst>
              <a:gd name="adj" fmla="val 165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023840" y="5586480"/>
            <a:ext cx="1073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자유형 101"/>
          <p:cNvSpPr/>
          <p:nvPr/>
        </p:nvSpPr>
        <p:spPr>
          <a:xfrm flipH="1" rot="16200000">
            <a:off x="1332360" y="4665600"/>
            <a:ext cx="1023840" cy="623880"/>
          </a:xfrm>
          <a:custGeom>
            <a:avLst/>
            <a:gdLst>
              <a:gd name="textAreaLeft" fmla="*/ 360 w 1023840"/>
              <a:gd name="textAreaRight" fmla="*/ 1024560 w 102384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411351" h="1187149">
                <a:moveTo>
                  <a:pt x="411351" y="0"/>
                </a:moveTo>
                <a:lnTo>
                  <a:pt x="4951" y="571500"/>
                </a:lnTo>
                <a:cubicBezTo>
                  <a:pt x="2787" y="808569"/>
                  <a:pt x="2164" y="950080"/>
                  <a:pt x="0" y="1187149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자유형 102"/>
          <p:cNvSpPr/>
          <p:nvPr/>
        </p:nvSpPr>
        <p:spPr>
          <a:xfrm flipH="1" rot="16200000">
            <a:off x="2215800" y="4347360"/>
            <a:ext cx="1660680" cy="623880"/>
          </a:xfrm>
          <a:custGeom>
            <a:avLst/>
            <a:gdLst>
              <a:gd name="textAreaLeft" fmla="*/ -360 w 1660680"/>
              <a:gd name="textAreaRight" fmla="*/ 1660680 w 166068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411351" h="1187149">
                <a:moveTo>
                  <a:pt x="411351" y="0"/>
                </a:moveTo>
                <a:lnTo>
                  <a:pt x="4951" y="571500"/>
                </a:lnTo>
                <a:cubicBezTo>
                  <a:pt x="2787" y="808569"/>
                  <a:pt x="2164" y="950080"/>
                  <a:pt x="0" y="1187149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" name="자유형 103"/>
          <p:cNvSpPr/>
          <p:nvPr/>
        </p:nvSpPr>
        <p:spPr>
          <a:xfrm rot="5400000">
            <a:off x="4138560" y="4940280"/>
            <a:ext cx="727200" cy="371520"/>
          </a:xfrm>
          <a:custGeom>
            <a:avLst/>
            <a:gdLst>
              <a:gd name="textAreaLeft" fmla="*/ 0 w 727200"/>
              <a:gd name="textAreaRight" fmla="*/ 727560 w 7272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411351" h="1187149">
                <a:moveTo>
                  <a:pt x="411351" y="0"/>
                </a:moveTo>
                <a:lnTo>
                  <a:pt x="4951" y="571500"/>
                </a:lnTo>
                <a:cubicBezTo>
                  <a:pt x="2787" y="808569"/>
                  <a:pt x="2164" y="950080"/>
                  <a:pt x="0" y="1187149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4" name="자유형 104"/>
          <p:cNvSpPr/>
          <p:nvPr/>
        </p:nvSpPr>
        <p:spPr>
          <a:xfrm rot="5400000">
            <a:off x="6800760" y="5003640"/>
            <a:ext cx="600120" cy="371520"/>
          </a:xfrm>
          <a:custGeom>
            <a:avLst/>
            <a:gdLst>
              <a:gd name="textAreaLeft" fmla="*/ 0 w 600120"/>
              <a:gd name="textAreaRight" fmla="*/ 600480 w 60012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411351" h="1187149">
                <a:moveTo>
                  <a:pt x="411351" y="0"/>
                </a:moveTo>
                <a:lnTo>
                  <a:pt x="4951" y="571500"/>
                </a:lnTo>
                <a:cubicBezTo>
                  <a:pt x="2787" y="808569"/>
                  <a:pt x="2164" y="950080"/>
                  <a:pt x="0" y="1187149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" name="모서리가 둥근 직사각형 108"/>
          <p:cNvSpPr/>
          <p:nvPr/>
        </p:nvSpPr>
        <p:spPr>
          <a:xfrm>
            <a:off x="2320920" y="5489640"/>
            <a:ext cx="1200240" cy="868320"/>
          </a:xfrm>
          <a:prstGeom prst="roundRect">
            <a:avLst>
              <a:gd name="adj" fmla="val 14477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89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AutoShape 78"/>
          <p:cNvSpPr/>
          <p:nvPr/>
        </p:nvSpPr>
        <p:spPr>
          <a:xfrm>
            <a:off x="2346480" y="5504040"/>
            <a:ext cx="1143000" cy="529920"/>
          </a:xfrm>
          <a:prstGeom prst="roundRect">
            <a:avLst>
              <a:gd name="adj" fmla="val 165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379600" y="5586480"/>
            <a:ext cx="1073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" name="모서리가 둥근 직사각형 113"/>
          <p:cNvSpPr/>
          <p:nvPr/>
        </p:nvSpPr>
        <p:spPr>
          <a:xfrm>
            <a:off x="4214880" y="5489640"/>
            <a:ext cx="1201680" cy="868320"/>
          </a:xfrm>
          <a:prstGeom prst="roundRect">
            <a:avLst>
              <a:gd name="adj" fmla="val 14477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89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AutoShape 78"/>
          <p:cNvSpPr/>
          <p:nvPr/>
        </p:nvSpPr>
        <p:spPr>
          <a:xfrm>
            <a:off x="4240080" y="5504040"/>
            <a:ext cx="1143000" cy="529920"/>
          </a:xfrm>
          <a:prstGeom prst="roundRect">
            <a:avLst>
              <a:gd name="adj" fmla="val 165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4273560" y="5586480"/>
            <a:ext cx="1073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모서리가 둥근 직사각형 118"/>
          <p:cNvSpPr/>
          <p:nvPr/>
        </p:nvSpPr>
        <p:spPr>
          <a:xfrm>
            <a:off x="7043760" y="5489640"/>
            <a:ext cx="1201680" cy="868320"/>
          </a:xfrm>
          <a:prstGeom prst="roundRect">
            <a:avLst>
              <a:gd name="adj" fmla="val 14477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89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AutoShape 78"/>
          <p:cNvSpPr/>
          <p:nvPr/>
        </p:nvSpPr>
        <p:spPr>
          <a:xfrm>
            <a:off x="7068960" y="5504040"/>
            <a:ext cx="1144800" cy="529920"/>
          </a:xfrm>
          <a:prstGeom prst="roundRect">
            <a:avLst>
              <a:gd name="adj" fmla="val 165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7104240" y="5586480"/>
            <a:ext cx="10713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자유형 120"/>
          <p:cNvSpPr/>
          <p:nvPr/>
        </p:nvSpPr>
        <p:spPr>
          <a:xfrm rot="5400000">
            <a:off x="1563840" y="2655000"/>
            <a:ext cx="1044720" cy="6109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610920"/>
              <a:gd name="textAreaBottom" fmla="*/ 611280 h 610920"/>
            </a:gdLst>
            <a:ahLst/>
            <a:rect l="textAreaLeft" t="textAreaTop" r="textAreaRight" b="textAreaBottom"/>
            <a:pathLst>
              <a:path w="433125" h="1434461">
                <a:moveTo>
                  <a:pt x="433125" y="0"/>
                </a:moveTo>
                <a:lnTo>
                  <a:pt x="2308" y="386073"/>
                </a:lnTo>
                <a:cubicBezTo>
                  <a:pt x="144" y="623142"/>
                  <a:pt x="2164" y="1197392"/>
                  <a:pt x="0" y="1434461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5" name="모서리가 둥근 직사각형 124"/>
          <p:cNvSpPr/>
          <p:nvPr/>
        </p:nvSpPr>
        <p:spPr>
          <a:xfrm>
            <a:off x="5769000" y="1552680"/>
            <a:ext cx="1201680" cy="868320"/>
          </a:xfrm>
          <a:prstGeom prst="roundRect">
            <a:avLst>
              <a:gd name="adj" fmla="val 14477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89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6" name="AutoShape 78"/>
          <p:cNvSpPr/>
          <p:nvPr/>
        </p:nvSpPr>
        <p:spPr>
          <a:xfrm>
            <a:off x="5794200" y="1566720"/>
            <a:ext cx="1144800" cy="530280"/>
          </a:xfrm>
          <a:prstGeom prst="roundRect">
            <a:avLst>
              <a:gd name="adj" fmla="val 165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829480" y="1649520"/>
            <a:ext cx="1072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48" name="Picture 11" descr="Gray1"/>
          <p:cNvPicPr/>
          <p:nvPr/>
        </p:nvPicPr>
        <p:blipFill>
          <a:blip r:embed="rId2"/>
          <a:stretch/>
        </p:blipFill>
        <p:spPr>
          <a:xfrm>
            <a:off x="3219480" y="3701880"/>
            <a:ext cx="274680" cy="276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Gray1"/>
          <p:cNvPicPr/>
          <p:nvPr/>
        </p:nvPicPr>
        <p:blipFill>
          <a:blip r:embed="rId3"/>
          <a:stretch/>
        </p:blipFill>
        <p:spPr>
          <a:xfrm>
            <a:off x="2039760" y="433548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Gray1"/>
          <p:cNvPicPr/>
          <p:nvPr/>
        </p:nvPicPr>
        <p:blipFill>
          <a:blip r:embed="rId4"/>
          <a:stretch/>
        </p:blipFill>
        <p:spPr>
          <a:xfrm>
            <a:off x="2270160" y="335268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Gray1"/>
          <p:cNvPicPr/>
          <p:nvPr/>
        </p:nvPicPr>
        <p:blipFill>
          <a:blip r:embed="rId5"/>
          <a:stretch/>
        </p:blipFill>
        <p:spPr>
          <a:xfrm>
            <a:off x="4125960" y="465120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Gray1"/>
          <p:cNvPicPr/>
          <p:nvPr/>
        </p:nvPicPr>
        <p:blipFill>
          <a:blip r:embed="rId6"/>
          <a:stretch/>
        </p:blipFill>
        <p:spPr>
          <a:xfrm>
            <a:off x="6781680" y="4776840"/>
            <a:ext cx="274680" cy="276120"/>
          </a:xfrm>
          <a:prstGeom prst="rect">
            <a:avLst/>
          </a:prstGeom>
          <a:ln w="0">
            <a:noFill/>
          </a:ln>
        </p:spPr>
      </p:pic>
      <p:sp>
        <p:nvSpPr>
          <p:cNvPr id="253" name="모서리가 둥근 직사각형 134"/>
          <p:cNvSpPr/>
          <p:nvPr/>
        </p:nvSpPr>
        <p:spPr>
          <a:xfrm>
            <a:off x="838080" y="1995480"/>
            <a:ext cx="1201680" cy="868320"/>
          </a:xfrm>
          <a:prstGeom prst="roundRect">
            <a:avLst>
              <a:gd name="adj" fmla="val 14477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89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4" name="AutoShape 78"/>
          <p:cNvSpPr/>
          <p:nvPr/>
        </p:nvSpPr>
        <p:spPr>
          <a:xfrm>
            <a:off x="863640" y="2009880"/>
            <a:ext cx="1144440" cy="530280"/>
          </a:xfrm>
          <a:prstGeom prst="roundRect">
            <a:avLst>
              <a:gd name="adj" fmla="val 165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96760" y="2092320"/>
            <a:ext cx="1073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6" name="자유형 136"/>
          <p:cNvSpPr/>
          <p:nvPr/>
        </p:nvSpPr>
        <p:spPr>
          <a:xfrm rot="5400000">
            <a:off x="4926960" y="2859840"/>
            <a:ext cx="1326960" cy="611280"/>
          </a:xfrm>
          <a:custGeom>
            <a:avLst/>
            <a:gdLst>
              <a:gd name="textAreaLeft" fmla="*/ 0 w 1326960"/>
              <a:gd name="textAreaRight" fmla="*/ 1327320 w 132696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433125" h="1434461">
                <a:moveTo>
                  <a:pt x="433125" y="0"/>
                </a:moveTo>
                <a:lnTo>
                  <a:pt x="2308" y="386073"/>
                </a:lnTo>
                <a:cubicBezTo>
                  <a:pt x="144" y="623142"/>
                  <a:pt x="2164" y="1197392"/>
                  <a:pt x="0" y="1434461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57" name="Picture 11" descr="Gray1"/>
          <p:cNvPicPr/>
          <p:nvPr/>
        </p:nvPicPr>
        <p:blipFill>
          <a:blip r:embed="rId7"/>
          <a:stretch/>
        </p:blipFill>
        <p:spPr>
          <a:xfrm>
            <a:off x="5770440" y="3701880"/>
            <a:ext cx="274680" cy="276480"/>
          </a:xfrm>
          <a:prstGeom prst="rect">
            <a:avLst/>
          </a:prstGeom>
          <a:ln w="0">
            <a:noFill/>
          </a:ln>
        </p:spPr>
      </p:pic>
      <p:sp>
        <p:nvSpPr>
          <p:cNvPr id="258" name="모서리가 둥근 직사각형 141"/>
          <p:cNvSpPr/>
          <p:nvPr/>
        </p:nvSpPr>
        <p:spPr>
          <a:xfrm>
            <a:off x="4253040" y="2075040"/>
            <a:ext cx="1201680" cy="868320"/>
          </a:xfrm>
          <a:prstGeom prst="roundRect">
            <a:avLst>
              <a:gd name="adj" fmla="val 14477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89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" name="AutoShape 78"/>
          <p:cNvSpPr/>
          <p:nvPr/>
        </p:nvSpPr>
        <p:spPr>
          <a:xfrm>
            <a:off x="4278240" y="2089080"/>
            <a:ext cx="1143000" cy="531720"/>
          </a:xfrm>
          <a:prstGeom prst="roundRect">
            <a:avLst>
              <a:gd name="adj" fmla="val 165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4311720" y="2171880"/>
            <a:ext cx="1073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" name="자유형 143"/>
          <p:cNvSpPr/>
          <p:nvPr/>
        </p:nvSpPr>
        <p:spPr>
          <a:xfrm rot="5400000">
            <a:off x="6451920" y="2450160"/>
            <a:ext cx="1201680" cy="29196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291960"/>
              <a:gd name="textAreaBottom" fmla="*/ 291960 h 291960"/>
            </a:gdLst>
            <a:ahLst/>
            <a:rect l="textAreaLeft" t="textAreaTop" r="textAreaRight" b="textAreaBottom"/>
            <a:pathLst>
              <a:path w="411351" h="1187149">
                <a:moveTo>
                  <a:pt x="411351" y="0"/>
                </a:moveTo>
                <a:lnTo>
                  <a:pt x="4951" y="571500"/>
                </a:lnTo>
                <a:cubicBezTo>
                  <a:pt x="2787" y="808569"/>
                  <a:pt x="2164" y="950080"/>
                  <a:pt x="0" y="1187149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62" name="Picture 11" descr="Gray1"/>
          <p:cNvPicPr/>
          <p:nvPr/>
        </p:nvPicPr>
        <p:blipFill>
          <a:blip r:embed="rId8"/>
          <a:stretch/>
        </p:blipFill>
        <p:spPr>
          <a:xfrm>
            <a:off x="7067520" y="313380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265" name="Picture 18" descr="C:\Users\C216U\Desktop\정육면\19.png"/>
          <p:cNvPicPr/>
          <p:nvPr/>
        </p:nvPicPr>
        <p:blipFill>
          <a:blip r:embed="rId2"/>
          <a:stretch/>
        </p:blipFill>
        <p:spPr>
          <a:xfrm>
            <a:off x="6045120" y="3662280"/>
            <a:ext cx="947880" cy="7858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7297560" y="2428920"/>
            <a:ext cx="148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67" name="Picture 15" descr="C:\Users\C216U\Desktop\정육면\9.png"/>
          <p:cNvPicPr/>
          <p:nvPr/>
        </p:nvPicPr>
        <p:blipFill>
          <a:blip r:embed="rId3"/>
          <a:stretch/>
        </p:blipFill>
        <p:spPr>
          <a:xfrm>
            <a:off x="5835600" y="4792680"/>
            <a:ext cx="1281240" cy="928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8" descr="C:\Users\C216U\Desktop\정육면\19.png"/>
          <p:cNvPicPr/>
          <p:nvPr/>
        </p:nvPicPr>
        <p:blipFill>
          <a:blip r:embed="rId4">
            <a:grayscl/>
            <a:lum bright="10000"/>
          </a:blip>
          <a:stretch/>
        </p:blipFill>
        <p:spPr>
          <a:xfrm>
            <a:off x="6192720" y="2577960"/>
            <a:ext cx="652680" cy="54144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4"/>
          <p:cNvSpPr/>
          <p:nvPr/>
        </p:nvSpPr>
        <p:spPr>
          <a:xfrm>
            <a:off x="7297560" y="3656160"/>
            <a:ext cx="148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7297560" y="4853160"/>
            <a:ext cx="148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71" name="Picture 15" descr="C:\Users\C216U\Desktop\정육면\9.png"/>
          <p:cNvPicPr/>
          <p:nvPr/>
        </p:nvPicPr>
        <p:blipFill>
          <a:blip r:embed="rId5"/>
          <a:stretch/>
        </p:blipFill>
        <p:spPr>
          <a:xfrm>
            <a:off x="787320" y="3906720"/>
            <a:ext cx="2298960" cy="1667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5" descr="C:\Users\C216U\Desktop\정육면\9.png"/>
          <p:cNvPicPr/>
          <p:nvPr/>
        </p:nvPicPr>
        <p:blipFill>
          <a:blip r:embed="rId6"/>
          <a:stretch/>
        </p:blipFill>
        <p:spPr>
          <a:xfrm>
            <a:off x="1909800" y="4221000"/>
            <a:ext cx="2297160" cy="1752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C:\Users\C216U\Desktop\정육면\9.png"/>
          <p:cNvPicPr/>
          <p:nvPr/>
        </p:nvPicPr>
        <p:blipFill>
          <a:blip r:embed="rId7"/>
          <a:stretch/>
        </p:blipFill>
        <p:spPr>
          <a:xfrm>
            <a:off x="2987640" y="4514760"/>
            <a:ext cx="2298600" cy="1841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8" descr="C:\Users\C216U\Desktop\정육면\19.png"/>
          <p:cNvPicPr/>
          <p:nvPr/>
        </p:nvPicPr>
        <p:blipFill>
          <a:blip r:embed="rId8"/>
          <a:stretch/>
        </p:blipFill>
        <p:spPr>
          <a:xfrm>
            <a:off x="763560" y="2960640"/>
            <a:ext cx="2333520" cy="1554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8" descr="C:\Users\C216U\Desktop\정육면\19.png"/>
          <p:cNvPicPr/>
          <p:nvPr/>
        </p:nvPicPr>
        <p:blipFill>
          <a:blip r:embed="rId9"/>
          <a:stretch/>
        </p:blipFill>
        <p:spPr>
          <a:xfrm>
            <a:off x="1920960" y="3186000"/>
            <a:ext cx="2333520" cy="1650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8" descr="C:\Users\C216U\Desktop\정육면\19.png"/>
          <p:cNvPicPr/>
          <p:nvPr/>
        </p:nvPicPr>
        <p:blipFill>
          <a:blip r:embed="rId10">
            <a:grayscl/>
            <a:lum bright="10000"/>
          </a:blip>
          <a:stretch/>
        </p:blipFill>
        <p:spPr>
          <a:xfrm>
            <a:off x="763560" y="1981080"/>
            <a:ext cx="2333520" cy="1554120"/>
          </a:xfrm>
          <a:prstGeom prst="rect">
            <a:avLst/>
          </a:prstGeom>
          <a:ln w="0">
            <a:noFill/>
          </a:ln>
        </p:spPr>
      </p:pic>
      <p:cxnSp>
        <p:nvCxnSpPr>
          <p:cNvPr id="277" name="직선 화살표 연결선 16"/>
          <p:cNvCxnSpPr/>
          <p:nvPr/>
        </p:nvCxnSpPr>
        <p:spPr>
          <a:xfrm flipH="1" flipV="1">
            <a:off x="555120" y="2536200"/>
            <a:ext cx="138960" cy="2639160"/>
          </a:xfrm>
          <a:prstGeom prst="straightConnector1">
            <a:avLst/>
          </a:prstGeom>
          <a:ln w="28440">
            <a:solidFill>
              <a:srgbClr val="ffffff"/>
            </a:solidFill>
            <a:prstDash val="sysDot"/>
            <a:miter/>
            <a:tailEnd len="med" type="arrow" w="med"/>
          </a:ln>
        </p:spPr>
      </p:cxnSp>
      <p:cxnSp>
        <p:nvCxnSpPr>
          <p:cNvPr id="278" name="직선 화살표 연결선 17"/>
          <p:cNvCxnSpPr/>
          <p:nvPr/>
        </p:nvCxnSpPr>
        <p:spPr>
          <a:xfrm>
            <a:off x="971280" y="5452560"/>
            <a:ext cx="2894760" cy="1042200"/>
          </a:xfrm>
          <a:prstGeom prst="straightConnector1">
            <a:avLst/>
          </a:prstGeom>
          <a:ln w="28440">
            <a:solidFill>
              <a:srgbClr val="ffffff"/>
            </a:solidFill>
            <a:prstDash val="sysDot"/>
            <a:miter/>
            <a:tailEnd len="med" type="arrow" w="med"/>
          </a:ln>
        </p:spPr>
      </p:cxnSp>
      <p:sp>
        <p:nvSpPr>
          <p:cNvPr id="279" name="Text Box 4"/>
          <p:cNvSpPr/>
          <p:nvPr/>
        </p:nvSpPr>
        <p:spPr>
          <a:xfrm>
            <a:off x="1041480" y="2536920"/>
            <a:ext cx="925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141640" y="3816360"/>
            <a:ext cx="925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193920" y="5313240"/>
            <a:ext cx="925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4" name="타원 2"/>
          <p:cNvSpPr/>
          <p:nvPr/>
        </p:nvSpPr>
        <p:spPr>
          <a:xfrm>
            <a:off x="4883040" y="2268360"/>
            <a:ext cx="3305160" cy="3305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타원 3"/>
          <p:cNvSpPr/>
          <p:nvPr/>
        </p:nvSpPr>
        <p:spPr>
          <a:xfrm>
            <a:off x="941400" y="2577960"/>
            <a:ext cx="3305160" cy="3305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Oval 1066"/>
          <p:cNvSpPr/>
          <p:nvPr/>
        </p:nvSpPr>
        <p:spPr>
          <a:xfrm>
            <a:off x="909720" y="2589120"/>
            <a:ext cx="3390840" cy="32814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AutoShape 1067"/>
          <p:cNvSpPr/>
          <p:nvPr/>
        </p:nvSpPr>
        <p:spPr>
          <a:xfrm rot="16116000">
            <a:off x="2394720" y="5690160"/>
            <a:ext cx="290520" cy="291960"/>
          </a:xfrm>
          <a:prstGeom prst="triangle">
            <a:avLst>
              <a:gd name="adj" fmla="val 4895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" name="Oval 1068"/>
          <p:cNvSpPr/>
          <p:nvPr/>
        </p:nvSpPr>
        <p:spPr>
          <a:xfrm>
            <a:off x="4853160" y="2268360"/>
            <a:ext cx="3325680" cy="32832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" name="AutoShape 1069"/>
          <p:cNvSpPr/>
          <p:nvPr/>
        </p:nvSpPr>
        <p:spPr>
          <a:xfrm rot="4777800">
            <a:off x="6077880" y="2158920"/>
            <a:ext cx="292320" cy="291960"/>
          </a:xfrm>
          <a:prstGeom prst="triangle">
            <a:avLst>
              <a:gd name="adj" fmla="val 4895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Text Box 4"/>
          <p:cNvSpPr/>
          <p:nvPr/>
        </p:nvSpPr>
        <p:spPr>
          <a:xfrm flipH="1">
            <a:off x="1605960" y="3878280"/>
            <a:ext cx="21063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1" name="Group 11"/>
          <p:cNvGrpSpPr/>
          <p:nvPr/>
        </p:nvGrpSpPr>
        <p:grpSpPr>
          <a:xfrm>
            <a:off x="744120" y="1917000"/>
            <a:ext cx="1824120" cy="1824120"/>
            <a:chOff x="744120" y="1917000"/>
            <a:chExt cx="1824120" cy="1824120"/>
          </a:xfrm>
        </p:grpSpPr>
        <p:sp>
          <p:nvSpPr>
            <p:cNvPr id="292" name="모서리가 둥근 직사각형 12"/>
            <p:cNvSpPr/>
            <p:nvPr/>
          </p:nvSpPr>
          <p:spPr>
            <a:xfrm flipV="1" rot="10800000">
              <a:off x="744120" y="1916640"/>
              <a:ext cx="1824120" cy="1824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8d8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93" name="Group 13"/>
            <p:cNvGrpSpPr/>
            <p:nvPr/>
          </p:nvGrpSpPr>
          <p:grpSpPr>
            <a:xfrm>
              <a:off x="922680" y="2071440"/>
              <a:ext cx="1464840" cy="1464840"/>
              <a:chOff x="922680" y="2071440"/>
              <a:chExt cx="1464840" cy="1464840"/>
            </a:xfrm>
          </p:grpSpPr>
          <p:sp>
            <p:nvSpPr>
              <p:cNvPr id="294" name="Oval 15"/>
              <p:cNvSpPr/>
              <p:nvPr/>
            </p:nvSpPr>
            <p:spPr>
              <a:xfrm>
                <a:off x="922680" y="2071440"/>
                <a:ext cx="1464840" cy="1464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95" name="Oval 16"/>
              <p:cNvSpPr/>
              <p:nvPr/>
            </p:nvSpPr>
            <p:spPr>
              <a:xfrm>
                <a:off x="941400" y="2079360"/>
                <a:ext cx="1430640" cy="142740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1f5f5"/>
                  </a:gs>
                </a:gsLst>
                <a:lin ang="5400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96" name="Oval 17"/>
              <p:cNvSpPr/>
              <p:nvPr/>
            </p:nvSpPr>
            <p:spPr>
              <a:xfrm>
                <a:off x="956520" y="2093400"/>
                <a:ext cx="1359360" cy="1334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97" name="Oval 18"/>
              <p:cNvSpPr/>
              <p:nvPr/>
            </p:nvSpPr>
            <p:spPr>
              <a:xfrm>
                <a:off x="1036080" y="2130840"/>
                <a:ext cx="1208520" cy="1083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298" name="Text Box 4"/>
          <p:cNvSpPr/>
          <p:nvPr/>
        </p:nvSpPr>
        <p:spPr>
          <a:xfrm>
            <a:off x="1047600" y="2444760"/>
            <a:ext cx="11509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" name="Text Box 4"/>
          <p:cNvSpPr/>
          <p:nvPr/>
        </p:nvSpPr>
        <p:spPr>
          <a:xfrm flipH="1">
            <a:off x="5462640" y="2816280"/>
            <a:ext cx="21067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00" name="Group 20"/>
          <p:cNvGrpSpPr/>
          <p:nvPr/>
        </p:nvGrpSpPr>
        <p:grpSpPr>
          <a:xfrm>
            <a:off x="6694200" y="4388760"/>
            <a:ext cx="1801800" cy="1801800"/>
            <a:chOff x="6694200" y="4388760"/>
            <a:chExt cx="1801800" cy="1801800"/>
          </a:xfrm>
        </p:grpSpPr>
        <p:sp>
          <p:nvSpPr>
            <p:cNvPr id="301" name="모서리가 둥근 직사각형 22"/>
            <p:cNvSpPr/>
            <p:nvPr/>
          </p:nvSpPr>
          <p:spPr>
            <a:xfrm flipV="1" rot="10800000">
              <a:off x="6694200" y="4388400"/>
              <a:ext cx="1801800" cy="1801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02" name="Group 22"/>
            <p:cNvGrpSpPr/>
            <p:nvPr/>
          </p:nvGrpSpPr>
          <p:grpSpPr>
            <a:xfrm>
              <a:off x="6870600" y="4541040"/>
              <a:ext cx="1446840" cy="1446840"/>
              <a:chOff x="6870600" y="4541040"/>
              <a:chExt cx="1446840" cy="1446840"/>
            </a:xfrm>
          </p:grpSpPr>
          <p:sp>
            <p:nvSpPr>
              <p:cNvPr id="303" name="Oval 15"/>
              <p:cNvSpPr/>
              <p:nvPr/>
            </p:nvSpPr>
            <p:spPr>
              <a:xfrm>
                <a:off x="6870600" y="4541040"/>
                <a:ext cx="1446840" cy="1446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4" name="Oval 16"/>
              <p:cNvSpPr/>
              <p:nvPr/>
            </p:nvSpPr>
            <p:spPr>
              <a:xfrm>
                <a:off x="6890040" y="4548960"/>
                <a:ext cx="1410840" cy="141084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1f5f5"/>
                  </a:gs>
                </a:gsLst>
                <a:lin ang="5400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5" name="Oval 17"/>
              <p:cNvSpPr/>
              <p:nvPr/>
            </p:nvSpPr>
            <p:spPr>
              <a:xfrm>
                <a:off x="6904080" y="4563000"/>
                <a:ext cx="1342800" cy="1318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6" name="Oval 18"/>
              <p:cNvSpPr/>
              <p:nvPr/>
            </p:nvSpPr>
            <p:spPr>
              <a:xfrm>
                <a:off x="6982560" y="4599720"/>
                <a:ext cx="1193760" cy="10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307" name="Text Box 4"/>
          <p:cNvSpPr/>
          <p:nvPr/>
        </p:nvSpPr>
        <p:spPr>
          <a:xfrm>
            <a:off x="7023240" y="4911840"/>
            <a:ext cx="11509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7:2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28:09Z</dcterms:modified>
  <cp:revision>2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