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071-523F-4259-87FB-1BE4A380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030F-D3D0-49D6-B93D-BACFE6D3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7F3E6-1C48-4CFA-BF63-233BDA97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B3A6B-71A6-431F-A2B2-307B2715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411BB-2858-42CC-8BA1-82CFAF58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CD350-BFED-4DF4-9D29-A9A64C4E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66DC8-A24A-4EC3-8A57-5D8A5781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27CE4-E1A7-4D13-8F21-16CD3640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BF890-34DA-4683-A89C-A5147CED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5E1B2-B9C9-46B2-91BD-2D7CF453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65B84-3CF0-46E4-8879-5E1076B0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0E333-AFBC-4380-ADF9-B8E94CBA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42F2-2047-46CF-BD57-193B2631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D0145-AD2D-40D4-91CB-7FDD0EA7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D9A2E-4B30-4B6B-A970-33F4A3D0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078F3-C877-4F5E-87EA-2E4268C0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6646D-5455-4DF9-936B-0787BE17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906ED-1F39-4476-ADCD-D2102825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372C7-D7CE-4E3F-8BBA-1B787EB2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53D19-173D-436D-91F5-A17E348D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A8CB3-3806-4FD7-929E-CA63A888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90C95-EB0B-4C07-B80D-3069B20D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B5962-4AF4-4038-B51F-45E8153B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070F-B492-47B5-AF41-B44517C6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81949-470F-4E94-8309-6DC0F3BA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6B496-EBAD-430E-94A2-93619553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9DBEB-615E-4CAA-B1FE-67A1A2B4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5CB2C-A743-49CD-9F9A-9DC1A010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88205-A8AD-432C-B913-3ACA9393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C599D-7F64-4AB8-A94F-DC6D6CE6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2CE49-CB1B-43E6-B3E7-3F3525D6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BD1E8-1A03-4315-B1CD-5FEF7E4C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9C0BD-F4C6-4E52-86A9-AF1A8AF5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A98D9-6069-4965-8A49-6F5B05CD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5E6C-D5C1-4CD8-B092-39B69F33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A6D06-F85D-43CE-A86B-B24B7BE5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BB8E0-5A7D-4E01-B813-B553FA9B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4BA5D-DEEE-4D46-A792-6A72EA3E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055AF-8A40-41E9-B618-91BD013B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D3BB8-E3A6-467A-AEF5-1C8818D0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8D005-CBD4-4D94-B491-7E320C56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068DE-9B20-4947-8819-073FA29F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E219D-DE1B-4239-9629-4EE8E854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2FE60-8261-49EA-A3A6-DE461BC8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7CCB7-8348-4194-8DE4-04119D9B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5509-0810-4511-8F0C-B7A8AFB9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4FC12-1EE9-4748-A535-B8B0CF9E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F8977-8BE0-4212-BEA2-A2E83FA5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230B6-CA96-4713-B5FE-2FD1C90E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C16AD-B136-4F2F-A7E9-7E05D1F0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34F6A-A36B-4267-8C89-84B2B5B6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B58BA0-9306-4BF0-B783-B51A7DA7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49C743-6840-4607-9364-4FC1CBC7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6603F0-A104-4C31-85DA-FF311FEC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BAC06D-CBF6-403D-945E-0DBF1041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7AC318-71AC-4309-B35E-FEFE6B41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AF11-5651-40CE-BFA1-8B89FFD1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F9BF5C-90D6-4721-AD93-3AA3EABA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18A750-AA1A-4811-B7D5-7FE0E01D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5E4567-9300-44A2-9027-D63D6FE0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F5A479-A312-43B1-9AAE-0566A52F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2124C7-850E-49B2-8975-29949E1B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B2F588-C9B8-4E87-9463-3700501B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EE398F-9F9C-4691-8F11-CDDD5FD5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A9AB-6590-4E71-AD7D-DFFDDE97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7B44-E0D4-471D-8042-43243FE3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6FB3-ADB0-4C06-92F5-A15A37C3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7D4D-DEEA-4D77-810B-88E88841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8886-580F-494F-AE16-F74282EA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591C-497B-47D3-AA38-4787822A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7041-AE79-47C7-9C57-84D67AB5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283C-A527-43BC-B67A-6BB0B10F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7A0C-E59D-4354-98D7-6FABDA38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0BBD-56B4-4A44-9769-53CEDE7C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AB184-1240-4448-A36A-3DD33515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19731-AB7A-4972-8959-C1647D64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FBF72-0CC3-44E9-B27B-E8D09BA3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2182B-CE3C-4EB5-9800-1FBF0FE3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FB10C-8561-4C7B-A61D-4E747298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8376-3A84-45E0-BD67-F581FA77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5876C-04B3-47F0-A102-221FB9B7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06582-B4E6-442D-9BFC-0E61C27A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5586F-153A-4591-8A5A-E84BF529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4A5A9-5ACC-4221-ABB3-67AD5DD1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8E31F-D983-4ACC-B381-26DDF867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72B14-3ACB-4610-9C2F-0A9DDBA4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3A192-3FE8-4779-9457-15371521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81710-65EB-45F3-BCBA-DF1A9E21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CE058-A077-4789-A265-43721ECD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95AC0-E25D-4757-B241-CF10B961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53FC-1805-49BD-BE7B-DFDFFE0B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65EE0-20E8-4B8F-BA39-9ED3A81B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B2E74-721B-4A57-ABAE-BEE50973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B069F-64CE-4BE6-856C-BF09F16F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5A23B-A1A0-4A01-AE94-71951D2A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7A648-D0C1-4B31-ADAE-8A42CA1E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11472-068D-4288-8CE7-FECE52A7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907AA-2599-4AE2-8A4C-C66824F8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452CB-7319-4C74-9740-6142C280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BCF13-0235-4B5E-ADFC-24B57928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28C0C-39DC-475C-94C9-CB49F030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7E74-E41B-4B81-86DF-1AC958FB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69BB2-A3D3-45E9-ABE7-CACAD4C2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AA2E2-7AE1-436F-9B82-556F4900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101A5-0536-48FA-8F11-FB61A936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EA6AE-9CC8-4315-8468-D0FE69B2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BAF36-7E19-4809-B8BE-1148696E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E741A-6590-4D08-9EAE-4ED4AE22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E8EDA-5540-4E56-9122-DA521DB0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A448C-E43B-46E8-9BFA-4CC2A1D8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17D29-77F6-46DA-87F3-DF8F1520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652B3-96CE-4A1B-A18A-B7FD9C5F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BE10-FABC-4D7F-AC8A-3E055AA9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F69D3-0192-489F-A31F-98FEA9C4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118CC-5F89-49AB-8658-36F26445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9AEBD-C22E-44BE-91F1-F1FEC18C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2301F-F47A-4005-8339-3EEA861F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966EF-C3C9-4275-9A47-89D18816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5C1A3-02F4-41B2-A330-CFE419B8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CA038-6378-4A51-9DC7-89CB783D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07E68-324C-4D0C-B806-C5BE6366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51E89-08A6-4366-A986-3A0DF981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9814A-4B1A-4E17-8482-7079B772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5548-BB23-4569-A90F-214FEF13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304B7-8152-4CF4-9228-7C6265EC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BBC38-8407-46F3-B3BD-B2F59DC8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1C7CD-8A51-4B76-A6B3-52D7506D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31610-7118-4009-AFFB-A19CA473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D6700-4296-4289-A03E-CA9426F0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C66C5-ABF2-488A-AAC7-DC248E09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5E920-9608-43EB-86BD-FC68DF2F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E27F7-03E8-44E7-BAA3-4E993717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B9478-AA6D-4BB7-A5C4-2CE83434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C9A71-C8D6-4F8D-A9DF-3FCE06C3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7223-9BA6-44FB-A8D9-5A6A9E05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4DE9C-400C-4B83-A149-B2F39956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B81A3-4863-49BB-9D74-6750AD44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B4E1F-0BEB-41D0-81A8-78DCFAAE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98549-8740-4A46-A7F4-6952772C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61A7E-1EE7-45E6-B80E-9CD92794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1E79A-0792-456C-9AAF-34DF39AE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F92EE-6B6E-4840-B74B-DF030629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6B501-A272-4C3F-84A4-CFDBABE4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0783B-9BE9-4B89-B0AE-B470C0F2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D3C90-B081-4717-9800-07C5C339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0247-0D75-4662-8F12-24970D18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85440" y="142560"/>
            <a:ext cx="800100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A230F-5352-42EA-9340-A4B507C6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7A29A-5016-408D-ADA7-6080C61C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A5DC3-24DF-42B4-9BD1-A39405C1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033F6-00BF-4659-9053-699D2902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85440" y="3818160"/>
            <a:ext cx="8001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D1AC7-190E-4FC7-BE3E-2069D53A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85120" y="129492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44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785120" y="3818160"/>
            <a:ext cx="3904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805BD-E220-41BF-938B-840E4162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908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96240" y="129492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854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908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96240" y="3818160"/>
            <a:ext cx="257616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9C7F7-B2AE-4C51-BE6C-7FCE78A7B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3F971-3366-4283-8704-C43AF183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3C3A9-B3FD-4C77-ABBE-D433EDA3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</a:pP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A378B-3D4C-4D87-95F0-3C57FB78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7000"/>
            <a:chOff x="0" y="0"/>
            <a:chExt cx="9144000" cy="6867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2" name="Rectangl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720"/>
                <a:ext cx="8139960" cy="68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3150360" y="0"/>
                <a:ext cx="5993640" cy="524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293040" y="1041840"/>
                <a:ext cx="8850960" cy="581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" name="Rectangle 11"/>
            <p:cNvSpPr/>
            <p:nvPr/>
          </p:nvSpPr>
          <p:spPr>
            <a:xfrm flipV="1">
              <a:off x="685800" y="1151280"/>
              <a:ext cx="8458200" cy="571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Straight Connector 12"/>
            <p:cNvSpPr/>
            <p:nvPr/>
          </p:nvSpPr>
          <p:spPr>
            <a:xfrm>
              <a:off x="685800" y="1152360"/>
              <a:ext cx="84582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4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BFB7-5195-4600-8B2F-751CC9FE60D9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382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56A6-ADBA-42E0-97C4-1DDFE0FBCA1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6F79-4F74-4A15-915A-34AD73902E1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B78C-8A67-47E0-857C-27C0F7D8FAA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A32A-28EF-469A-9D05-38381782250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51A9-4605-43C8-A115-20031F84661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2FE8-E81B-47F4-A35C-F27B6EC9103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A151-0900-42D0-B08A-7833B36345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E1D8-21B7-4A46-AE73-F69603C5B3C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3C52-96BE-4E9A-B4E5-6086294FD9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8F7A-A7F1-45C0-BC62-95B2C476999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4A56-E0F3-4611-B7F6-7D06ABC3022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2B5D-D7BD-4569-8285-1904CAA8A17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5EE0-FF69-423C-890B-07C909ABDC5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B68D-E484-4499-A3FE-5245BF5460E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3C0D-3FF3-4703-81FC-63890ED6AAD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2655-9B5E-4673-B1A5-49AD74E3860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C292-9B6D-437B-96CE-62C0ACD5662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E037-FA82-4B25-8619-8522F538AC6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7AC5-9EA8-4D84-AFA8-6BE6D22F433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7A1E-7D1C-43E0-8AD2-6FB8B7DCD5F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EEC4-2D5E-449D-A177-4FE61CA3B1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E25C-A62F-403D-90BC-DA3D53A69DC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55C4-93C4-4AC8-9ABA-AB8946188C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AD02-A5FC-4041-8C0D-85514F1F122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7D4A-BA0A-4AA1-9508-69F24DBDC0C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4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542" name="Rectangle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20"/>
                <a:ext cx="8139960" cy="68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3" name="Rectangl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3150360" y="0"/>
                <a:ext cx="5993640" cy="524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4" name="Rectangl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293040" y="1041840"/>
                <a:ext cx="8850960" cy="581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5" name="Rectangle 7"/>
            <p:cNvSpPr/>
            <p:nvPr/>
          </p:nvSpPr>
          <p:spPr>
            <a:xfrm>
              <a:off x="685800" y="0"/>
              <a:ext cx="8458200" cy="571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6" name="Rectangle 9" descr=""/>
            <p:cNvPicPr/>
            <p:nvPr/>
          </p:nvPicPr>
          <p:blipFill>
            <a:blip r:embed="rId4"/>
            <a:stretch/>
          </p:blipFill>
          <p:spPr>
            <a:xfrm>
              <a:off x="0" y="720"/>
              <a:ext cx="813996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Straight Connector 16"/>
            <p:cNvSpPr/>
            <p:nvPr/>
          </p:nvSpPr>
          <p:spPr>
            <a:xfrm>
              <a:off x="685800" y="5713560"/>
              <a:ext cx="84582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762120" y="581976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w Cen MT Condensed"/>
                <a:ea typeface="宋体"/>
              </a:rPr>
              <a:t>项目标题</a:t>
            </a:r>
            <a:endParaRPr b="0" lang="en-US" sz="1600" spc="-1" strike="noStrike">
              <a:solidFill>
                <a:srgbClr val="000000"/>
              </a:solidFill>
              <a:latin typeface="Tw Cen MT Condensed"/>
            </a:endParaRPr>
          </a:p>
          <a:p>
            <a:pPr>
              <a:spcBef>
                <a:spcPts val="601"/>
              </a:spcBef>
              <a:tabLst>
                <a:tab algn="l" pos="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w Cen MT Condensed"/>
                <a:ea typeface="宋体"/>
              </a:rPr>
              <a:t>您的姓名 </a:t>
            </a:r>
            <a:r>
              <a:rPr b="0" lang="zh-CN" sz="1600" spc="-1" strike="noStrike">
                <a:solidFill>
                  <a:srgbClr val="000000"/>
                </a:solidFill>
                <a:latin typeface="Tw Cen MT Condensed"/>
                <a:ea typeface="宋体"/>
              </a:rPr>
              <a:t>| </a:t>
            </a:r>
            <a:r>
              <a:rPr b="0" lang="zh-CN" sz="1600" spc="-1" strike="noStrike">
                <a:solidFill>
                  <a:srgbClr val="000000"/>
                </a:solidFill>
                <a:latin typeface="Tw Cen MT Condensed"/>
                <a:ea typeface="宋体"/>
              </a:rPr>
              <a:t>您教师的姓名 </a:t>
            </a:r>
            <a:r>
              <a:rPr b="0" lang="zh-CN" sz="1600" spc="-1" strike="noStrike">
                <a:solidFill>
                  <a:srgbClr val="000000"/>
                </a:solidFill>
                <a:latin typeface="Tw Cen MT Condensed"/>
                <a:ea typeface="宋体"/>
              </a:rPr>
              <a:t>| </a:t>
            </a:r>
            <a:r>
              <a:rPr b="0" lang="zh-CN" sz="1600" spc="-1" strike="noStrike">
                <a:solidFill>
                  <a:srgbClr val="000000"/>
                </a:solidFill>
                <a:latin typeface="Tw Cen MT Condensed"/>
                <a:ea typeface="宋体"/>
              </a:rPr>
              <a:t>您的学校</a:t>
            </a:r>
            <a:endParaRPr b="0" lang="en-US" sz="16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49" name="矩形 1"/>
          <p:cNvSpPr/>
          <p:nvPr/>
        </p:nvSpPr>
        <p:spPr>
          <a:xfrm>
            <a:off x="2543040" y="21495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科技博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12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80CC-6409-47DE-A353-FFBB8D3C693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w Cen MT Condensed"/>
                <a:ea typeface="宋体"/>
              </a:rPr>
              <a:t>总结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在此处键入根据实验结果发现的内容的简短摘要。您需要指示数据是否支持假设并解释支持或不支持的原因。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Tw Cen MT Condensed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7414-07F5-4401-AA17-42851076256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w Cen MT Condensed"/>
                <a:ea typeface="宋体"/>
              </a:rPr>
              <a:t>引用的作品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确保包括了打印版和电子版资料来源，并将它们按字母顺序排列。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74C5-6786-40BD-B97F-F005BA64128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w Cen MT Condensed"/>
                <a:ea typeface="宋体"/>
              </a:rPr>
              <a:t>问题陈述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在此处键入您的问题。（这是您在实验中需要解决的问题。）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6806-E8FA-49E5-A979-220C7EFFBD2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w Cen MT Condensed"/>
                <a:ea typeface="宋体"/>
              </a:rPr>
              <a:t>项目概述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在此键入您的项目的简要概述或摘要。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7482-FE2D-427D-AF7D-7EA64345366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w Cen MT Condensed"/>
                <a:ea typeface="宋体"/>
              </a:rPr>
              <a:t>研究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在此处用三到五个项目符号总结研究：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</a:pPr>
            <a:r>
              <a:rPr b="0" lang="zh-CN" sz="2400" spc="-1" strike="noStrike">
                <a:solidFill>
                  <a:srgbClr val="000000"/>
                </a:solidFill>
                <a:latin typeface="Tw Cen MT Condensed"/>
                <a:ea typeface="宋体"/>
              </a:rPr>
              <a:t>第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w Cen MT Condensed"/>
                <a:ea typeface="宋体"/>
              </a:rPr>
              <a:t>一</a:t>
            </a:r>
            <a:r>
              <a:rPr b="0" lang="zh-CN" sz="2400" spc="-1" strike="noStrike">
                <a:solidFill>
                  <a:srgbClr val="000000"/>
                </a:solidFill>
                <a:latin typeface="Tw Cen MT Condensed"/>
                <a:ea typeface="宋体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</a:pPr>
            <a:r>
              <a:rPr b="0" lang="zh-CN" sz="2400" spc="-1" strike="noStrike">
                <a:solidFill>
                  <a:srgbClr val="000000"/>
                </a:solidFill>
                <a:latin typeface="Tw Cen MT Condensed"/>
                <a:ea typeface="宋体"/>
              </a:rPr>
              <a:t>第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w Cen MT Condensed"/>
                <a:ea typeface="宋体"/>
              </a:rPr>
              <a:t>二</a:t>
            </a:r>
            <a:r>
              <a:rPr b="0" lang="zh-CN" sz="2400" spc="-1" strike="noStrike">
                <a:solidFill>
                  <a:srgbClr val="000000"/>
                </a:solidFill>
                <a:latin typeface="Tw Cen MT Condensed"/>
                <a:ea typeface="宋体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</a:pPr>
            <a:r>
              <a:rPr b="0" lang="zh-CN" sz="2400" spc="-1" strike="noStrike">
                <a:solidFill>
                  <a:srgbClr val="000000"/>
                </a:solidFill>
                <a:latin typeface="Tw Cen MT Condensed"/>
                <a:ea typeface="宋体"/>
              </a:rPr>
              <a:t>第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w Cen MT Condensed"/>
                <a:ea typeface="宋体"/>
              </a:rPr>
              <a:t>三</a:t>
            </a:r>
            <a:r>
              <a:rPr b="0" lang="zh-CN" sz="2400" spc="-1" strike="noStrike">
                <a:solidFill>
                  <a:srgbClr val="000000"/>
                </a:solidFill>
                <a:latin typeface="Tw Cen MT Condensed"/>
                <a:ea typeface="宋体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</a:pPr>
            <a:r>
              <a:rPr b="0" lang="zh-CN" sz="2400" spc="-1" strike="noStrike">
                <a:solidFill>
                  <a:srgbClr val="000000"/>
                </a:solidFill>
                <a:latin typeface="Tw Cen MT Condensed"/>
                <a:ea typeface="宋体"/>
              </a:rPr>
              <a:t>第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w Cen MT Condensed"/>
                <a:ea typeface="宋体"/>
              </a:rPr>
              <a:t>四</a:t>
            </a:r>
            <a:r>
              <a:rPr b="0" lang="zh-CN" sz="2400" spc="-1" strike="noStrike">
                <a:solidFill>
                  <a:srgbClr val="000000"/>
                </a:solidFill>
                <a:latin typeface="Tw Cen MT Condensed"/>
                <a:ea typeface="宋体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</a:pPr>
            <a:r>
              <a:rPr b="0" lang="zh-CN" sz="2400" spc="-1" strike="noStrike">
                <a:solidFill>
                  <a:srgbClr val="000000"/>
                </a:solidFill>
                <a:latin typeface="Tw Cen MT Condensed"/>
                <a:ea typeface="宋体"/>
              </a:rPr>
              <a:t>第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w Cen MT Condensed"/>
                <a:ea typeface="宋体"/>
              </a:rPr>
              <a:t>五</a:t>
            </a:r>
            <a:r>
              <a:rPr b="0" lang="zh-CN" sz="2400" spc="-1" strike="noStrike">
                <a:solidFill>
                  <a:srgbClr val="000000"/>
                </a:solidFill>
                <a:latin typeface="Tw Cen MT Condensed"/>
                <a:ea typeface="宋体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148E-A4E6-44F2-B2E5-7DF84A2CC5F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w Cen MT Condensed"/>
                <a:ea typeface="宋体"/>
              </a:rPr>
              <a:t>变量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受控制的变量：这是在实验过程中保持不变的内容。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独立变量：有意更改和测试的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w Cen MT Condensed"/>
                <a:ea typeface="宋体"/>
              </a:rPr>
              <a:t>one</a:t>
            </a: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变量。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相关变量：因独立变量更改而观测到的更改度量。决定如何度量更改是很重要的。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B72D-17F7-493A-ABA5-B353F43ED66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w Cen MT Condensed"/>
                <a:ea typeface="宋体"/>
              </a:rPr>
              <a:t>假设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Based on the research you have done, you will be writing an answer or solution – your best educated guess – to your question. Make sure you write down your hypothesis before you begin your experiment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887E-922C-4F52-8021-805C3C5C129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w Cen MT Condensed"/>
                <a:ea typeface="宋体"/>
              </a:rPr>
              <a:t>资料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键入完成实验所需的详细项目列表。要明确使用的数量。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F92E-F468-4BEB-8351-357E0ED16BE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w Cen MT Condensed"/>
                <a:ea typeface="宋体"/>
              </a:rPr>
              <a:t>过程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列出完成实验所使用的所有步骤。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切记要为步骤加编号。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添加实验照片。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F730-2D24-4520-B42A-12AC4786BF3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42560"/>
            <a:ext cx="800100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w Cen MT Condensed"/>
                <a:ea typeface="宋体"/>
              </a:rPr>
              <a:t>数据</a:t>
            </a:r>
            <a:r>
              <a:rPr b="0" lang="zh-CN" sz="4000" spc="-1" strike="noStrike">
                <a:solidFill>
                  <a:srgbClr val="000000"/>
                </a:solidFill>
                <a:latin typeface="Tw Cen MT Condensed"/>
                <a:ea typeface="宋体"/>
              </a:rPr>
              <a:t>/</a:t>
            </a:r>
            <a:r>
              <a:rPr b="0" lang="zh-CN" sz="4000" spc="-1" strike="noStrike">
                <a:solidFill>
                  <a:srgbClr val="000000"/>
                </a:solidFill>
                <a:latin typeface="Tw Cen MT Condensed"/>
                <a:ea typeface="宋体"/>
              </a:rPr>
              <a:t>观测</a:t>
            </a:r>
            <a:endParaRPr b="0" lang="en-US" sz="40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85440" y="129492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将数据放到表或图形中将更容易了解数据。在 </a:t>
            </a: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Microsoft Excel </a:t>
            </a: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中创建一个图形，然后在此处导入它。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w Cen MT Condensed"/>
                <a:ea typeface="宋体"/>
              </a:rPr>
              <a:t>确保清楚地标记了所有数据。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7:10:5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18:01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  <property fmtid="{D5CDD505-2E9C-101B-9397-08002B2CF9AE}" pid="3" name="_TemplateID">
    <vt:lpwstr>TC101659569990</vt:lpwstr>
  </property>
</Properties>
</file>