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304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95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861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33304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2795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304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2795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861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533304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2795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304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2795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861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33304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2795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304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2795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861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533304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72795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3304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2795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3861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533304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2795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89920" y="6381360"/>
            <a:ext cx="1954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7264080" y="6244920"/>
            <a:ext cx="187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过度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7048080" y="6244920"/>
            <a:ext cx="2095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4"/>
          </p:nvPr>
        </p:nvSpPr>
        <p:spPr>
          <a:xfrm>
            <a:off x="7048080" y="6381360"/>
            <a:ext cx="2095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底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90960" y="620640"/>
            <a:ext cx="41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快乐学习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3851280" y="655560"/>
            <a:ext cx="50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时尚中黑简体"/>
                <a:ea typeface="时尚中黑简体"/>
              </a:rPr>
              <a:t>第一、如何快乐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时尚中黑简体"/>
                <a:ea typeface="时尚中黑简体"/>
              </a:rPr>
              <a:t>第二、怎么做到轻松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时尚中黑简体"/>
                <a:ea typeface="时尚中黑简体"/>
              </a:rPr>
              <a:t>第三、轻松学习每一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2738880" y="836640"/>
            <a:ext cx="142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时尚中黑简体"/>
                <a:ea typeface="时尚中黑简体"/>
              </a:rPr>
              <a:t>轻松每一刻、快乐每一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时尚中黑简体"/>
                <a:ea typeface="时尚中黑简体"/>
              </a:rPr>
              <a:t>轻松快乐做好每一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Unicode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4303800" y="692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时尚中黑简体"/>
                <a:ea typeface="时尚中黑简体"/>
              </a:rPr>
              <a:t>轻松快乐做好每一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551480" y="29242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0c0"/>
                </a:solidFill>
                <a:latin typeface="方正正大黑简体"/>
                <a:ea typeface="方正正大黑简体"/>
              </a:rPr>
              <a:t>谢谢聆听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"/>
          <p:cNvSpPr/>
          <p:nvPr/>
        </p:nvSpPr>
        <p:spPr>
          <a:xfrm>
            <a:off x="23760" y="66024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aede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aede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04:36Z</dcterms:modified>
  <cp:revision>1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