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6.jpeg" ContentType="image/jpeg"/>
  <Override PartName="/ppt/media/image18.wmf" ContentType="image/x-wmf"/>
  <Override PartName="/ppt/media/image2.jpeg" ContentType="image/jpeg"/>
  <Override PartName="/ppt/media/image29.jpeg" ContentType="image/jpeg"/>
  <Override PartName="/ppt/media/image10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32.gif" ContentType="image/gif"/>
  <Override PartName="/ppt/media/image36.png" ContentType="image/png"/>
  <Override PartName="/ppt/media/image8.gif" ContentType="image/gif"/>
  <Override PartName="/ppt/media/image6.jpeg" ContentType="image/jpeg"/>
  <Override PartName="/ppt/media/image27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33.gif" ContentType="image/gif"/>
  <Override PartName="/ppt/media/image3.gif" ContentType="image/gif"/>
  <Override PartName="/ppt/media/image35.jpeg" ContentType="image/jpeg"/>
  <Override PartName="/ppt/media/image1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17E-B0FC-42C0-BC72-09B9A54F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613C-9360-4211-8948-64040E19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8CE4-DF89-4166-9124-6D984775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958-44BF-4725-A115-08735F82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B041-9DF4-4336-B761-567288CD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D0D6-5C3A-4160-9BD9-AC2F9680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1E28-1453-4754-9FFD-52AD401A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448C-D222-4C80-B30F-B75E1BBF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A744-18D4-4374-B38D-E204249B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42AC-13A5-411A-9F1D-AC3D166A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28E6-9B1E-4524-AC01-050AE5B2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F0B-8AEF-4301-8B99-88DD830F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D1FD-A8DA-46EC-AB0C-B4BA51CB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E516-4217-4B41-8FA0-A099FC99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9E77-6C93-4A71-ABF3-3DA42203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490C-4576-4317-B6E1-336CEB36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2E7D-5FAE-4F76-9AA6-F04ED8B2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B9D1-B068-4C1A-81F4-49690A74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0E44-827F-4FC5-949B-18EEB755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C27FC-19BF-4892-A61B-6BA251EF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28DEE-63C6-4195-A221-8887D070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3002D-0F8C-4534-B8CC-C8CE3EF3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DED-D8A4-4070-8374-1534442E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8081A-A03B-462D-9CF7-85006FBB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2E8FA-57ED-4774-83BC-81DCADE1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BD6C9-4D4B-487E-8736-463B8694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9EB29-0C67-48B0-B099-12B4EF59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C46E8-3502-4BF0-9ACD-EC706A0D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F01AC-06D0-45C0-811A-5F7A719E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97C8C-A197-4ED1-AF95-CE588B05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895-9F4D-4508-9D75-8CCE8F24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F02-50B7-43B0-98E7-7D5C4956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D41-8F29-4C1A-B9E9-45F6A9B3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FC8-A624-4D3A-A76B-636EE5C2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5BD-0528-43B1-9728-0ED4587B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6A1-A03F-45A5-991F-CD7B33B1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B7B2-2ED2-46E9-A732-DA54DC92E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667B-D39B-4B6E-BE02-538E159A386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0318-DAD9-4319-A18F-86AF57D7B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hyperlink" Target="288,9,&#24187;&#28783;&#29255; 9" TargetMode="External"/><Relationship Id="rId3" Type="http://schemas.openxmlformats.org/officeDocument/2006/relationships/hyperlink" Target="259,12,&#24187;&#28783;&#29255; 12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2"/>
          <p:cNvSpPr/>
          <p:nvPr/>
        </p:nvSpPr>
        <p:spPr>
          <a:xfrm>
            <a:off x="2657520" y="340668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chat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5"/>
          <p:cNvSpPr/>
          <p:nvPr/>
        </p:nvSpPr>
        <p:spPr>
          <a:xfrm>
            <a:off x="2124000" y="6237360"/>
            <a:ext cx="1008000" cy="6206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987640" y="6237360"/>
            <a:ext cx="1008000" cy="6206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识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3851280" y="6237360"/>
            <a:ext cx="1008000" cy="6206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716360" y="6237360"/>
            <a:ext cx="1008000" cy="6206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5580000" y="6237360"/>
            <a:ext cx="1008000" cy="6206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6443640" y="6237360"/>
            <a:ext cx="1008000" cy="6206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三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20" y="5950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77320" y="260280"/>
            <a:ext cx="340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baseline="30000">
                <a:solidFill>
                  <a:srgbClr val="ffffff"/>
                </a:solidFill>
                <a:latin typeface="Times New Roman"/>
              </a:rPr>
              <a:t>科利亚的木匣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 baseline="30000">
                <a:solidFill>
                  <a:srgbClr val="ffffff"/>
                </a:solidFill>
                <a:latin typeface="Times New Roman"/>
              </a:rPr>
              <a:t>模板免费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1828800" y="533520"/>
            <a:ext cx="5562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195640" y="1413000"/>
            <a:ext cx="439236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科利亚从家门口向前走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了十步，就用铲子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起坑来。坑（       ）好了，他把一个木匣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进坑里。他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好了木匣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上土，用脚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实，还在上面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了一层细沙，免得被人发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2133720" y="19810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3635280" y="19130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2340000" y="393372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635280" y="3357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5364000" y="3789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3995640" y="4289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6477120" y="34210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3606840" y="2349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3276720" y="4869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25"/>
          <p:cNvSpPr/>
          <p:nvPr/>
        </p:nvSpPr>
        <p:spPr>
          <a:xfrm>
            <a:off x="7162920" y="6629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WordArt 26"/>
          <p:cNvSpPr txBox="1"/>
          <p:nvPr/>
        </p:nvSpPr>
        <p:spPr>
          <a:xfrm>
            <a:off x="3419640" y="476280"/>
            <a:ext cx="23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你会填吗？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2711160" y="29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28"/>
          <p:cNvSpPr/>
          <p:nvPr/>
        </p:nvSpPr>
        <p:spPr>
          <a:xfrm>
            <a:off x="6443640" y="476280"/>
            <a:ext cx="2700360" cy="2016000"/>
          </a:xfrm>
          <a:prstGeom prst="cloudCallout">
            <a:avLst>
              <a:gd name="adj1" fmla="val -45472"/>
              <a:gd name="adj2" fmla="val 443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从这些动作词，你觉得科利亚是个怎样的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35164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木匣里盛着各种各样好玩的东西，有冰鞋、小斧头、小手锯和其他小玩意儿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4" descr="20080305144902768"/>
          <p:cNvPicPr/>
          <p:nvPr/>
        </p:nvPicPr>
        <p:blipFill>
          <a:blip r:embed="rId2"/>
          <a:stretch/>
        </p:blipFill>
        <p:spPr>
          <a:xfrm>
            <a:off x="179280" y="3357720"/>
            <a:ext cx="3168720" cy="273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20080305144902664"/>
          <p:cNvPicPr/>
          <p:nvPr/>
        </p:nvPicPr>
        <p:blipFill>
          <a:blip r:embed="rId3"/>
          <a:stretch/>
        </p:blipFill>
        <p:spPr>
          <a:xfrm>
            <a:off x="3490920" y="3357720"/>
            <a:ext cx="2881440" cy="2735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20080305144902568"/>
          <p:cNvPicPr/>
          <p:nvPr/>
        </p:nvPicPr>
        <p:blipFill>
          <a:blip r:embed="rId4"/>
          <a:stretch/>
        </p:blipFill>
        <p:spPr>
          <a:xfrm>
            <a:off x="6516720" y="3357720"/>
            <a:ext cx="2376360" cy="2735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010"/>
          <p:cNvPicPr/>
          <p:nvPr/>
        </p:nvPicPr>
        <p:blipFill>
          <a:blip r:embed="rId5"/>
          <a:stretch/>
        </p:blipFill>
        <p:spPr>
          <a:xfrm>
            <a:off x="8001000" y="5932440"/>
            <a:ext cx="1143000" cy="9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026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2195640" y="2133720"/>
            <a:ext cx="432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法西斯快打到他们的村子了。科利亚和妈妈、奶奶决定离开村子，到喀山城去躲避。家里的东西不能都带走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4643280" y="549360"/>
            <a:ext cx="2519640" cy="1224000"/>
          </a:xfrm>
          <a:prstGeom prst="cloudCallout">
            <a:avLst>
              <a:gd name="adj1" fmla="val -43763"/>
              <a:gd name="adj2" fmla="val 794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德国侵略者的代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9"/>
          <p:cNvGrpSpPr/>
          <p:nvPr/>
        </p:nvGrpSpPr>
        <p:grpSpPr>
          <a:xfrm>
            <a:off x="4211640" y="2563920"/>
            <a:ext cx="865080" cy="145440"/>
            <a:chOff x="4211640" y="2563920"/>
            <a:chExt cx="865080" cy="145440"/>
          </a:xfrm>
        </p:grpSpPr>
        <p:sp>
          <p:nvSpPr>
            <p:cNvPr id="257" name="AutoShape 6"/>
            <p:cNvSpPr/>
            <p:nvPr/>
          </p:nvSpPr>
          <p:spPr>
            <a:xfrm>
              <a:off x="4211640" y="2565000"/>
              <a:ext cx="144360" cy="14436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7"/>
            <p:cNvSpPr/>
            <p:nvPr/>
          </p:nvSpPr>
          <p:spPr>
            <a:xfrm>
              <a:off x="4500720" y="2565000"/>
              <a:ext cx="144360" cy="14436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8"/>
            <p:cNvSpPr/>
            <p:nvPr/>
          </p:nvSpPr>
          <p:spPr>
            <a:xfrm>
              <a:off x="4932360" y="2563920"/>
              <a:ext cx="144360" cy="1440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Picture 10" descr="010"/>
          <p:cNvPicPr/>
          <p:nvPr/>
        </p:nvPicPr>
        <p:blipFill>
          <a:blip r:embed="rId2"/>
          <a:stretch/>
        </p:blipFill>
        <p:spPr>
          <a:xfrm>
            <a:off x="8001000" y="5932440"/>
            <a:ext cx="11430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段：（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—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段）科利亚刚学会数数的时候，把木匣埋到离门口十步远的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5" descr="010"/>
          <p:cNvPicPr/>
          <p:nvPr/>
        </p:nvPicPr>
        <p:blipFill>
          <a:blip r:embed="rId2"/>
          <a:stretch/>
        </p:blipFill>
        <p:spPr>
          <a:xfrm>
            <a:off x="8001000" y="5932440"/>
            <a:ext cx="1143000" cy="9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042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BD05629_"/>
          <p:cNvPicPr/>
          <p:nvPr/>
        </p:nvPicPr>
        <p:blipFill>
          <a:blip r:embed="rId2"/>
          <a:stretch/>
        </p:blipFill>
        <p:spPr>
          <a:xfrm>
            <a:off x="6095880" y="4846680"/>
            <a:ext cx="3048120" cy="18954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457200" y="24210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</a:t>
            </a:r>
            <a:r>
              <a:rPr b="1" lang="zh-CN" sz="5400" spc="-1" strike="noStrike">
                <a:solidFill>
                  <a:srgbClr val="000099"/>
                </a:solidFill>
                <a:latin typeface="华文新魏"/>
                <a:ea typeface="华文新魏"/>
              </a:rPr>
              <a:t>科利亚第一次怎么挖木匣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80880" y="429588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3</a:t>
            </a: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</a:t>
            </a:r>
            <a:r>
              <a:rPr b="1" lang="zh-CN" sz="54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科利亚又是怎样思考、怎样挖出木匣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447920" y="380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思    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8915400" y="6553080"/>
            <a:ext cx="22860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2096280" y="1413000"/>
            <a:ext cx="566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1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、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隶书"/>
              </a:rPr>
              <a:t>妈妈怎样挖箱子的？结果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371600" y="333360"/>
            <a:ext cx="658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妈妈从家门口朝前走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十步，挖出了她埋的箱子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D15-C2A0-4D92-9F25-2587A39F96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332000" y="1484280"/>
            <a:ext cx="67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时候，科利亚也拿来铲子，他从门口起量了十步，就动手挖起来。他挖呀，挖呀，坑已经挖得很深了，还没找到匣子。他朝左边挖了挖，又朝右边挖了挖，仍然没找到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71640" y="1981080"/>
            <a:ext cx="712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伙伴们，我知道怎么回事啦！木匣是我四年前埋的，那时候我年龄小，步子也小。我现在九岁啦，步子比那时候大了一倍，所以应该量的不是十步而是五步。你们看，我马上会找到我的木匣子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科利亚量了五步，又动手挖起来，不多一会儿，他果然找到了木匣子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619280" y="1557360"/>
            <a:ext cx="59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要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）读准字音，读通句子，遇到难读的字词多读几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）小组交流识字方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010"/>
          <p:cNvPicPr/>
          <p:nvPr/>
        </p:nvPicPr>
        <p:blipFill>
          <a:blip r:embed="rId2"/>
          <a:stretch/>
        </p:blipFill>
        <p:spPr>
          <a:xfrm>
            <a:off x="8001000" y="5932440"/>
            <a:ext cx="1143000" cy="9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科利亚"/>
          <p:cNvPicPr/>
          <p:nvPr/>
        </p:nvPicPr>
        <p:blipFill>
          <a:blip r:embed="rId1"/>
          <a:srcRect l="4170" t="51115" r="26669" b="5560"/>
          <a:stretch/>
        </p:blipFill>
        <p:spPr>
          <a:xfrm>
            <a:off x="1371600" y="3505320"/>
            <a:ext cx="6324480" cy="29718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6095880" y="1828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10</a:t>
            </a:r>
            <a:r>
              <a:rPr b="1" lang="zh-CN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601992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5" descr="科利亚"/>
          <p:cNvPicPr/>
          <p:nvPr/>
        </p:nvPicPr>
        <p:blipFill>
          <a:blip r:embed="rId2"/>
          <a:srcRect l="5833" t="8891" r="25838" b="51115"/>
          <a:stretch/>
        </p:blipFill>
        <p:spPr>
          <a:xfrm>
            <a:off x="1447920" y="457200"/>
            <a:ext cx="6248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744720" y="1844640"/>
            <a:ext cx="53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段：（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—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段）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一段主要写了四年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科利亚在离屋门口十步远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方没找到木匣，经过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，在离屋门口五步远的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找到木匣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971280" y="476280"/>
            <a:ext cx="8172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战争开始时，妈妈从家门口，量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　　　）步，埋下了箱子。四年后妈妈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家门口朝菜园走了（　　　）步，很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　                 　　）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战争开始时，科利亚量了（　）步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埋下木匣。四年后，科利亚从门口量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　）步，却没有找到木匣子。后来科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亚从屋门口起量了（　 ）步，他一下子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       　 ）。这是因为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                                            　              　）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WordArt 6"/>
          <p:cNvSpPr txBox="1"/>
          <p:nvPr/>
        </p:nvSpPr>
        <p:spPr>
          <a:xfrm rot="5400000">
            <a:off x="-576720" y="2744640"/>
            <a:ext cx="230364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 会 填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547640" y="112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4643280" y="1557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1476360" y="2133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挖出她的箱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6877080" y="2924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1332000" y="4149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4716360" y="4797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1332000" y="544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找到了木匣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9"/>
          <p:cNvGrpSpPr/>
          <p:nvPr/>
        </p:nvGrpSpPr>
        <p:grpSpPr>
          <a:xfrm>
            <a:off x="4066200" y="5340240"/>
            <a:ext cx="3999240" cy="1333800"/>
            <a:chOff x="4066200" y="5340240"/>
            <a:chExt cx="3999240" cy="1333800"/>
          </a:xfrm>
        </p:grpSpPr>
        <p:sp>
          <p:nvSpPr>
            <p:cNvPr id="293" name="Rectangle 17"/>
            <p:cNvSpPr/>
            <p:nvPr/>
          </p:nvSpPr>
          <p:spPr>
            <a:xfrm>
              <a:off x="4066200" y="60926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过去，人在一天天长大，步子也在渐渐变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8"/>
            <p:cNvSpPr/>
            <p:nvPr/>
          </p:nvSpPr>
          <p:spPr>
            <a:xfrm>
              <a:off x="7477920" y="53402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时间一天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496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战争开始的时候，科利亚刚学数数，只会数到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”。这是说科利亚在埋木匣时年龄还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在那儿住了差不多四个年头。”这里讲埋木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挖木匣之间经过了四年的时间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科利亚长大了，上了小学。数数能数到一百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。”这是讲随着时间的推移，科利亚长大了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步子也变大了，算术也学得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科利亚也拿来铲子，从家门口起量了十步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手挖起来，他挖呀，挖呀，坑已经挖得很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，还没找到匣子。他又朝左边挖，朝右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挖，仍然没找到。”“科利亚量了五步，又动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挖起来，不多一会儿，他果然找到了木匣子。”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484360" y="1844640"/>
            <a:ext cx="64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这件事里，科利亚能有这么大的收获，是因为他有一个特别好的品质，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4" descr="EDUCH012"/>
          <p:cNvPicPr/>
          <p:nvPr/>
        </p:nvPicPr>
        <p:blipFill>
          <a:blip r:embed="rId2"/>
          <a:stretch/>
        </p:blipFill>
        <p:spPr>
          <a:xfrm>
            <a:off x="914400" y="380880"/>
            <a:ext cx="1512720" cy="54486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5621400" y="45291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提示：爱动脑，勤于思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6" descr="010"/>
          <p:cNvPicPr/>
          <p:nvPr/>
        </p:nvPicPr>
        <p:blipFill>
          <a:blip r:embed="rId3"/>
          <a:stretch/>
        </p:blipFill>
        <p:spPr>
          <a:xfrm>
            <a:off x="8001000" y="5932440"/>
            <a:ext cx="11430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116000" y="90756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随着时间的推移，在我们周围所有的事物都在变化，你能举个例子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835280" y="2565360"/>
            <a:ext cx="698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周围的一切都在起变化，告诉我们要怎样做事情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987640" y="422100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世界上的万物都在不断变化，我们应象科利亚一样多动脑筋，根据情况的变化而变化才能把事情做好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03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228600" y="22860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我们做事情，要随着情况的变化采取不同的做法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4" descr="sun6"/>
          <p:cNvPicPr/>
          <p:nvPr/>
        </p:nvPicPr>
        <p:blipFill>
          <a:blip r:embed="rId2"/>
          <a:stretch/>
        </p:blipFill>
        <p:spPr>
          <a:xfrm>
            <a:off x="152280" y="150840"/>
            <a:ext cx="2286000" cy="1982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200297231450120"/>
          <p:cNvPicPr/>
          <p:nvPr/>
        </p:nvPicPr>
        <p:blipFill>
          <a:blip r:embed="rId3"/>
          <a:stretch/>
        </p:blipFill>
        <p:spPr>
          <a:xfrm>
            <a:off x="7027920" y="3962520"/>
            <a:ext cx="2192400" cy="25905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6"/>
          <p:cNvSpPr/>
          <p:nvPr/>
        </p:nvSpPr>
        <p:spPr>
          <a:xfrm>
            <a:off x="2438280" y="6858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懂得道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报纸上说，今天晚上八点有月食。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上八点钟，我站在阳台上向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空望去，月食（        ）出现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在抗洪前线，解放军战士与洪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搏斗了十几天。有的战士累得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次昏倒，（        ）不肯离开防洪大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堤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2232000" y="907920"/>
            <a:ext cx="382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用“仍然”和“果然”填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4829400" y="2408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果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3821400" y="501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仍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04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3"/>
          <p:cNvSpPr/>
          <p:nvPr/>
        </p:nvSpPr>
        <p:spPr>
          <a:xfrm>
            <a:off x="762120" y="2819520"/>
            <a:ext cx="80010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科利亚从挖木匣中明白了什么</a:t>
            </a:r>
            <a:r>
              <a:rPr b="0" lang="en-US" sz="54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f1"/>
          <p:cNvPicPr/>
          <p:nvPr/>
        </p:nvPicPr>
        <p:blipFill>
          <a:blip r:embed="rId2"/>
          <a:stretch/>
        </p:blipFill>
        <p:spPr>
          <a:xfrm>
            <a:off x="0" y="0"/>
            <a:ext cx="1449360" cy="20574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1295280" y="19051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思考  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03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3"/>
          <p:cNvSpPr/>
          <p:nvPr/>
        </p:nvSpPr>
        <p:spPr>
          <a:xfrm>
            <a:off x="228600" y="22860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一天天过去，人在一天天长大，周围的一切都在变化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sun6"/>
          <p:cNvPicPr/>
          <p:nvPr/>
        </p:nvPicPr>
        <p:blipFill>
          <a:blip r:embed="rId2"/>
          <a:stretch/>
        </p:blipFill>
        <p:spPr>
          <a:xfrm>
            <a:off x="152280" y="150840"/>
            <a:ext cx="2286000" cy="198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200297231450120"/>
          <p:cNvPicPr/>
          <p:nvPr/>
        </p:nvPicPr>
        <p:blipFill>
          <a:blip r:embed="rId3"/>
          <a:stretch/>
        </p:blipFill>
        <p:spPr>
          <a:xfrm>
            <a:off x="7027920" y="3962520"/>
            <a:ext cx="2192400" cy="25905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6"/>
          <p:cNvSpPr/>
          <p:nvPr/>
        </p:nvSpPr>
        <p:spPr>
          <a:xfrm>
            <a:off x="2438280" y="6858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懂得道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02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花1"/>
          <p:cNvPicPr/>
          <p:nvPr/>
        </p:nvPicPr>
        <p:blipFill>
          <a:blip r:embed="rId2"/>
          <a:stretch/>
        </p:blipFill>
        <p:spPr>
          <a:xfrm>
            <a:off x="7991640" y="4495680"/>
            <a:ext cx="1152360" cy="23623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1447920" y="990720"/>
            <a:ext cx="65530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挖 鞋 斧 锯 免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屋 抢 难 初 管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敌 阶 懂 匣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059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5"/>
          <p:cNvSpPr/>
          <p:nvPr/>
        </p:nvSpPr>
        <p:spPr>
          <a:xfrm>
            <a:off x="1676520" y="19810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请画出科利亚第一次和第二次挖木匣时怎样量步子</a:t>
            </a:r>
            <a:r>
              <a:rPr b="1" lang="en-US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怎样挖到木匣的示意图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02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花1"/>
          <p:cNvPicPr/>
          <p:nvPr/>
        </p:nvPicPr>
        <p:blipFill>
          <a:blip r:embed="rId2"/>
          <a:stretch/>
        </p:blipFill>
        <p:spPr>
          <a:xfrm>
            <a:off x="7991640" y="4495680"/>
            <a:ext cx="1152360" cy="23623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1543320" y="25146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</a:rPr>
              <a:t>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2895480" y="1905120"/>
            <a:ext cx="381240" cy="3047760"/>
          </a:xfrm>
          <a:custGeom>
            <a:avLst/>
            <a:gdLst>
              <a:gd name="textAreaLeft" fmla="*/ 243720 w 381240"/>
              <a:gd name="textAreaRight" fmla="*/ 381600 w 38124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505320" y="1447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华文行楷"/>
              </a:rPr>
              <a:t>liá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3581280" y="441972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华文行楷"/>
              </a:rPr>
              <a:t>lià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386320" y="1066680"/>
            <a:ext cx="100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量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量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测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量角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5293080" y="3657600"/>
            <a:ext cx="7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打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产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数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力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大图1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3" name="WordArt 3"/>
          <p:cNvSpPr txBox="1"/>
          <p:nvPr/>
        </p:nvSpPr>
        <p:spPr>
          <a:xfrm>
            <a:off x="755640" y="549360"/>
            <a:ext cx="408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会读吗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74560" y="1413000"/>
            <a:ext cx="8569440" cy="914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0" y="14130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科利亚    木匣    挖坑    冰鞋    一倍   躲避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喀山城    小手锯    冰鞋   斧头   玩意    免得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走       难过    算术    当初    随便    仍然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敌人  台阶       所以    懂得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755640" y="0"/>
            <a:ext cx="34225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懂</a:t>
            </a: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140360" y="3500280"/>
          <a:ext cx="3673440" cy="3048120"/>
        </p:xfrm>
        <a:graphic>
          <a:graphicData uri="http://schemas.openxmlformats.org/drawingml/2006/table">
            <a:tbl>
              <a:tblPr/>
              <a:tblGrid>
                <a:gridCol w="1846440"/>
                <a:gridCol w="1827000"/>
              </a:tblGrid>
              <a:tr h="15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 Box 14"/>
          <p:cNvSpPr/>
          <p:nvPr/>
        </p:nvSpPr>
        <p:spPr>
          <a:xfrm>
            <a:off x="4500720" y="3141720"/>
            <a:ext cx="3276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初</a:t>
            </a: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39640" y="333360"/>
          <a:ext cx="3673440" cy="3036960"/>
        </p:xfrm>
        <a:graphic>
          <a:graphicData uri="http://schemas.openxmlformats.org/drawingml/2006/table">
            <a:tbl>
              <a:tblPr/>
              <a:tblGrid>
                <a:gridCol w="1871640"/>
                <a:gridCol w="180180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0" name="Group 26"/>
          <p:cNvGrpSpPr/>
          <p:nvPr/>
        </p:nvGrpSpPr>
        <p:grpSpPr>
          <a:xfrm>
            <a:off x="5435640" y="907920"/>
            <a:ext cx="2233440" cy="1512720"/>
            <a:chOff x="5435640" y="907920"/>
            <a:chExt cx="2233440" cy="1512720"/>
          </a:xfrm>
        </p:grpSpPr>
        <p:sp>
          <p:nvSpPr>
            <p:cNvPr id="201" name="AutoShape 27"/>
            <p:cNvSpPr/>
            <p:nvPr/>
          </p:nvSpPr>
          <p:spPr>
            <a:xfrm>
              <a:off x="5435640" y="907920"/>
              <a:ext cx="2162160" cy="1512720"/>
            </a:xfrm>
            <a:prstGeom prst="cloudCallout">
              <a:avLst>
                <a:gd name="adj1" fmla="val 101541"/>
                <a:gd name="adj2" fmla="val 19569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28"/>
            <p:cNvSpPr/>
            <p:nvPr/>
          </p:nvSpPr>
          <p:spPr>
            <a:xfrm>
              <a:off x="5724720" y="134136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703dff"/>
                  </a:solidFill>
                  <a:latin typeface="Times New Roman"/>
                </a:rPr>
                <a:t>我会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" name="Picture 29" descr="010"/>
          <p:cNvPicPr/>
          <p:nvPr/>
        </p:nvPicPr>
        <p:blipFill>
          <a:blip r:embed="rId1"/>
          <a:stretch/>
        </p:blipFill>
        <p:spPr>
          <a:xfrm>
            <a:off x="8001000" y="5932440"/>
            <a:ext cx="1143000" cy="9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7928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主要讲的是科利亚（   ）岁的时候从（             ）向前（                ）埋下自己 的（             ），（    ）年后数了（   ）步挖出了木匣，从这件事中感悟到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 的道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7094520" y="765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944160" y="134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家门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229400" y="1989000"/>
            <a:ext cx="184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走了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351800" y="263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小木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286160" y="256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1044360" y="3284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14"/>
          <p:cNvGrpSpPr/>
          <p:nvPr/>
        </p:nvGrpSpPr>
        <p:grpSpPr>
          <a:xfrm>
            <a:off x="890640" y="3789360"/>
            <a:ext cx="5524200" cy="2143440"/>
            <a:chOff x="890640" y="3789360"/>
            <a:chExt cx="5524200" cy="2143440"/>
          </a:xfrm>
        </p:grpSpPr>
        <p:sp>
          <p:nvSpPr>
            <p:cNvPr id="212" name="Rectangle 10"/>
            <p:cNvSpPr/>
            <p:nvPr/>
          </p:nvSpPr>
          <p:spPr>
            <a:xfrm>
              <a:off x="3161880" y="45813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Times New Roman"/>
                </a:rPr>
                <a:t>在变化，周围的一切都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3795840" y="3789360"/>
              <a:ext cx="261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Times New Roman"/>
                </a:rPr>
                <a:t>时间在变化，自己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890640" y="52293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Times New Roman"/>
                </a:rPr>
                <a:t>变化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Text Box 13"/>
          <p:cNvSpPr/>
          <p:nvPr/>
        </p:nvSpPr>
        <p:spPr>
          <a:xfrm>
            <a:off x="7299000" y="907920"/>
            <a:ext cx="15210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我  会  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5" descr="010"/>
          <p:cNvPicPr/>
          <p:nvPr/>
        </p:nvPicPr>
        <p:blipFill>
          <a:blip r:embed="rId2"/>
          <a:stretch/>
        </p:blipFill>
        <p:spPr>
          <a:xfrm>
            <a:off x="5076720" y="5932440"/>
            <a:ext cx="11430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127640" cy="4114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科利亚什么时候埋下木匣？什么时候找到埋下的木匣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科利亚和妈妈是怎样把东西埋起来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他们为什么要把东西埋起来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请用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划出相关的句子，再多读几遍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055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"/>
          <p:cNvSpPr/>
          <p:nvPr/>
        </p:nvSpPr>
        <p:spPr>
          <a:xfrm>
            <a:off x="1828800" y="533520"/>
            <a:ext cx="5562720" cy="4343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763640" y="54936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科利亚从家门口向前走，数了十步，就用铲子挖起坑来。坑挖好了，他把一个木匣放进坑里。他放好了木匣，盖上土，用脚踩实，还在上面撒了一层细沙，免得被人发现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6477120" y="34210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15"/>
          <p:cNvSpPr/>
          <p:nvPr/>
        </p:nvSpPr>
        <p:spPr>
          <a:xfrm>
            <a:off x="7162920" y="6629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050920" y="3860640"/>
            <a:ext cx="50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妈妈把有些东西放进箱子里，从家门口向前走了三十步，把箱子埋在地下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847520" y="1049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5519520" y="1049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3503160" y="198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4"/>
          <p:cNvSpPr/>
          <p:nvPr/>
        </p:nvSpPr>
        <p:spPr>
          <a:xfrm>
            <a:off x="6311520" y="249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2264040" y="148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6310800" y="148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2"/>
          <p:cNvSpPr/>
          <p:nvPr/>
        </p:nvSpPr>
        <p:spPr>
          <a:xfrm>
            <a:off x="5936040" y="198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3"/>
          <p:cNvSpPr/>
          <p:nvPr/>
        </p:nvSpPr>
        <p:spPr>
          <a:xfrm>
            <a:off x="3488040" y="249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1:06:4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24:22Z</dcterms:modified>
  <cp:revision>3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