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D77-5F36-441B-8227-632D9EA1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EDF-88D8-418E-AD5F-1B107D75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119-D0F0-4C28-9B90-0B1FCA1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C40-DB06-4226-A094-42AFF348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99F-3773-4DFD-A4C8-673468F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073-7CD6-460F-A536-C7372A6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E6B-ED30-4E84-B087-806A55D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375F-F585-484F-B125-2E7FA65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0D7D-0A46-46EE-9F84-9285C36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203D-6350-44AF-86C3-964059D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503D-2C53-4BC1-9251-9554341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C3B-EBFC-4DC7-BF26-D1A8300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7A2-F669-44DE-8E79-91EDE7B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2E86-4F39-4B28-BA27-8B4C474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DE5-F2FA-42DD-9A95-64346585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C87-F563-4B6C-818A-CBFC02C7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0012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92240" y="160020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90800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0012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492240" y="3964320"/>
            <a:ext cx="2182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0DF-35C7-4D39-A54A-30983D7A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91-1076-4834-8A3F-EB2C625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BD3-E636-4785-B2B8-14C37BD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72B-8D54-41E2-A3BB-6CF73A81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7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1D4-AB4C-47C7-8B61-B85EB3A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003-FAE4-4515-92BF-53C577A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2000" y="396432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FFB-583A-49B8-9CEB-5764E9D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2000" y="1600200"/>
            <a:ext cx="3308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08000" y="3964320"/>
            <a:ext cx="677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F4C-79EF-4973-9566-BBCE707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45B-8459-4192-AC63-7E7E395613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11280" y="5165640"/>
            <a:ext cx="8507160" cy="1479240"/>
            <a:chOff x="611280" y="5165640"/>
            <a:chExt cx="8507160" cy="1479240"/>
          </a:xfrm>
        </p:grpSpPr>
        <p:grpSp>
          <p:nvGrpSpPr>
            <p:cNvPr id="9" name="Group 11"/>
            <p:cNvGrpSpPr/>
            <p:nvPr/>
          </p:nvGrpSpPr>
          <p:grpSpPr>
            <a:xfrm>
              <a:off x="8094960" y="5165640"/>
              <a:ext cx="1023480" cy="1186920"/>
              <a:chOff x="8094960" y="5165640"/>
              <a:chExt cx="1023480" cy="1186920"/>
            </a:xfrm>
          </p:grpSpPr>
          <p:sp>
            <p:nvSpPr>
              <p:cNvPr id="10" name="未知"/>
              <p:cNvSpPr/>
              <p:nvPr/>
            </p:nvSpPr>
            <p:spPr>
              <a:xfrm rot="7320000">
                <a:off x="8104680" y="54882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7320000">
                <a:off x="8245800" y="5452200"/>
                <a:ext cx="660960" cy="45540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094960" y="5165640"/>
                <a:ext cx="1023480" cy="1186920"/>
                <a:chOff x="8094960" y="5165640"/>
                <a:chExt cx="1023480" cy="1186920"/>
              </a:xfrm>
            </p:grpSpPr>
            <p:sp>
              <p:nvSpPr>
                <p:cNvPr id="14" name="未知"/>
                <p:cNvSpPr/>
                <p:nvPr/>
              </p:nvSpPr>
              <p:spPr>
                <a:xfrm rot="7320000">
                  <a:off x="8217720" y="590544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7320000">
                  <a:off x="8076960" y="5486400"/>
                  <a:ext cx="1059120" cy="545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7320000">
                  <a:off x="8383320" y="5603760"/>
                  <a:ext cx="749520" cy="30852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7320000">
                  <a:off x="8862480" y="5397840"/>
                  <a:ext cx="100080" cy="2066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7320000">
                  <a:off x="8474760" y="5599080"/>
                  <a:ext cx="306720" cy="18252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22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21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0" y="324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7574040" y="5902200"/>
            <a:ext cx="1569960" cy="95256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7575480" y="6176880"/>
            <a:ext cx="1568520" cy="67968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611280" y="5165640"/>
            <a:ext cx="8507160" cy="1479240"/>
            <a:chOff x="611280" y="5165640"/>
            <a:chExt cx="8507160" cy="1479240"/>
          </a:xfrm>
        </p:grpSpPr>
        <p:grpSp>
          <p:nvGrpSpPr>
            <p:cNvPr id="65" name="Group 11"/>
            <p:cNvGrpSpPr/>
            <p:nvPr/>
          </p:nvGrpSpPr>
          <p:grpSpPr>
            <a:xfrm>
              <a:off x="8094960" y="5165640"/>
              <a:ext cx="1023480" cy="1186920"/>
              <a:chOff x="8094960" y="5165640"/>
              <a:chExt cx="1023480" cy="1186920"/>
            </a:xfrm>
          </p:grpSpPr>
          <p:sp>
            <p:nvSpPr>
              <p:cNvPr id="66" name="未知"/>
              <p:cNvSpPr/>
              <p:nvPr/>
            </p:nvSpPr>
            <p:spPr>
              <a:xfrm rot="7320000">
                <a:off x="8104680" y="5488200"/>
                <a:ext cx="999360" cy="50400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7320000">
                <a:off x="8093520" y="5477760"/>
                <a:ext cx="996120" cy="49896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rot="7320000">
                <a:off x="8245800" y="5452200"/>
                <a:ext cx="660960" cy="45540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15"/>
              <p:cNvGrpSpPr/>
              <p:nvPr/>
            </p:nvGrpSpPr>
            <p:grpSpPr>
              <a:xfrm>
                <a:off x="8094960" y="5165640"/>
                <a:ext cx="1023480" cy="1186920"/>
                <a:chOff x="8094960" y="5165640"/>
                <a:chExt cx="1023480" cy="1186920"/>
              </a:xfrm>
            </p:grpSpPr>
            <p:sp>
              <p:nvSpPr>
                <p:cNvPr id="70" name="未知"/>
                <p:cNvSpPr/>
                <p:nvPr/>
              </p:nvSpPr>
              <p:spPr>
                <a:xfrm rot="7320000">
                  <a:off x="8217720" y="5905440"/>
                  <a:ext cx="93600" cy="1069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 rot="7320000">
                  <a:off x="8076960" y="5486400"/>
                  <a:ext cx="1059120" cy="5450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 rot="7320000">
                  <a:off x="8383320" y="5603760"/>
                  <a:ext cx="749520" cy="30852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 rot="7320000">
                  <a:off x="8862480" y="5397840"/>
                  <a:ext cx="100080" cy="2066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 rot="7320000">
                  <a:off x="8474760" y="5599080"/>
                  <a:ext cx="306720" cy="18252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未知"/>
            <p:cNvSpPr/>
            <p:nvPr/>
          </p:nvSpPr>
          <p:spPr>
            <a:xfrm>
              <a:off x="611280" y="5915520"/>
              <a:ext cx="7376760" cy="7293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77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80" name="Group 27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81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1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85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25B7-2EB4-409B-9853-4F05E8BDA0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卡通彩笔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2211480" cy="6856560"/>
            <a:chOff x="0" y="0"/>
            <a:chExt cx="2211480" cy="6856560"/>
          </a:xfrm>
        </p:grpSpPr>
        <p:sp>
          <p:nvSpPr>
            <p:cNvPr id="134" name="未知"/>
            <p:cNvSpPr/>
            <p:nvPr/>
          </p:nvSpPr>
          <p:spPr>
            <a:xfrm>
              <a:off x="0" y="14400"/>
              <a:ext cx="2211480" cy="6842160"/>
            </a:xfrm>
            <a:custGeom>
              <a:avLst/>
              <a:gdLst/>
              <a:ahLst/>
              <a:rect l="l" t="t" r="r" b="b"/>
              <a:pathLst>
                <a:path w="1393" h="4320">
                  <a:moveTo>
                    <a:pt x="0" y="0"/>
                  </a:moveTo>
                  <a:lnTo>
                    <a:pt x="1392" y="240"/>
                  </a:lnTo>
                  <a:lnTo>
                    <a:pt x="288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880" y="0"/>
              <a:ext cx="1523160" cy="6856560"/>
            </a:xfrm>
            <a:custGeom>
              <a:avLst/>
              <a:gdLst/>
              <a:ahLst/>
              <a:rect l="l" t="t" r="r" b="b"/>
              <a:pathLst>
                <a:path w="959" h="4330">
                  <a:moveTo>
                    <a:pt x="0" y="0"/>
                  </a:moveTo>
                  <a:lnTo>
                    <a:pt x="958" y="346"/>
                  </a:lnTo>
                  <a:lnTo>
                    <a:pt x="286" y="4329"/>
                  </a:lnTo>
                  <a:lnTo>
                    <a:pt x="0" y="4329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66240" y="61200"/>
            <a:ext cx="3844080" cy="1683720"/>
            <a:chOff x="66240" y="61200"/>
            <a:chExt cx="3844080" cy="1683720"/>
          </a:xfrm>
        </p:grpSpPr>
        <p:grpSp>
          <p:nvGrpSpPr>
            <p:cNvPr id="137" name="Group 8"/>
            <p:cNvGrpSpPr/>
            <p:nvPr/>
          </p:nvGrpSpPr>
          <p:grpSpPr>
            <a:xfrm>
              <a:off x="66240" y="61200"/>
              <a:ext cx="3049200" cy="1616760"/>
              <a:chOff x="66240" y="61200"/>
              <a:chExt cx="3049200" cy="1616760"/>
            </a:xfrm>
          </p:grpSpPr>
          <p:sp>
            <p:nvSpPr>
              <p:cNvPr id="138" name="未知"/>
              <p:cNvSpPr/>
              <p:nvPr/>
            </p:nvSpPr>
            <p:spPr>
              <a:xfrm rot="21420000">
                <a:off x="168480" y="176760"/>
                <a:ext cx="2809440" cy="133128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 rot="21420000">
                <a:off x="160200" y="286920"/>
                <a:ext cx="2801880" cy="131832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21420000">
                <a:off x="547200" y="400320"/>
                <a:ext cx="1857600" cy="120312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12"/>
              <p:cNvGrpSpPr/>
              <p:nvPr/>
            </p:nvGrpSpPr>
            <p:grpSpPr>
              <a:xfrm>
                <a:off x="66240" y="61200"/>
                <a:ext cx="3049200" cy="1569240"/>
                <a:chOff x="66240" y="61200"/>
                <a:chExt cx="3049200" cy="1569240"/>
              </a:xfrm>
            </p:grpSpPr>
            <p:sp>
              <p:nvSpPr>
                <p:cNvPr id="142" name="未知"/>
                <p:cNvSpPr/>
                <p:nvPr/>
              </p:nvSpPr>
              <p:spPr>
                <a:xfrm rot="21420000">
                  <a:off x="2473560" y="1114200"/>
                  <a:ext cx="264600" cy="2800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rot="21420000">
                  <a:off x="101160" y="137880"/>
                  <a:ext cx="2979360" cy="14151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21420000">
                  <a:off x="336600" y="160920"/>
                  <a:ext cx="2105280" cy="80388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rot="21420000">
                  <a:off x="443160" y="324720"/>
                  <a:ext cx="283320" cy="536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21420000">
                  <a:off x="1005840" y="653760"/>
                  <a:ext cx="862560" cy="4762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未知"/>
            <p:cNvSpPr/>
            <p:nvPr/>
          </p:nvSpPr>
          <p:spPr>
            <a:xfrm rot="21420000">
              <a:off x="3202560" y="1412640"/>
              <a:ext cx="699840" cy="313920"/>
            </a:xfrm>
            <a:custGeom>
              <a:avLst/>
              <a:gdLst/>
              <a:ahLst/>
              <a:rect l="l" t="t" r="r" b="b"/>
              <a:pathLst>
                <a:path w="560" h="240">
                  <a:moveTo>
                    <a:pt x="0" y="32"/>
                  </a:moveTo>
                  <a:cubicBezTo>
                    <a:pt x="102" y="89"/>
                    <a:pt x="205" y="147"/>
                    <a:pt x="280" y="144"/>
                  </a:cubicBezTo>
                  <a:cubicBezTo>
                    <a:pt x="355" y="141"/>
                    <a:pt x="401" y="0"/>
                    <a:pt x="448" y="16"/>
                  </a:cubicBezTo>
                  <a:cubicBezTo>
                    <a:pt x="495" y="32"/>
                    <a:pt x="541" y="201"/>
                    <a:pt x="560" y="240"/>
                  </a:cubicBezTo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8000" y="764640"/>
            <a:ext cx="6778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206" name="Group 4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207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WordArt 7"/>
            <p:cNvSpPr txBox="1"/>
            <p:nvPr/>
          </p:nvSpPr>
          <p:spPr>
            <a:xfrm rot="5400000">
              <a:off x="-721440" y="1232640"/>
              <a:ext cx="2733840" cy="936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结束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2411280" y="1413000"/>
            <a:ext cx="5043600" cy="720360"/>
            <a:chOff x="2411280" y="1413000"/>
            <a:chExt cx="5043600" cy="720360"/>
          </a:xfrm>
        </p:grpSpPr>
        <p:sp>
          <p:nvSpPr>
            <p:cNvPr id="150" name="未知"/>
            <p:cNvSpPr/>
            <p:nvPr/>
          </p:nvSpPr>
          <p:spPr>
            <a:xfrm>
              <a:off x="2411280" y="19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2771280" y="1413000"/>
              <a:ext cx="4393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一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"/>
          <p:cNvGrpSpPr/>
          <p:nvPr/>
        </p:nvGrpSpPr>
        <p:grpSpPr>
          <a:xfrm>
            <a:off x="2411280" y="2205000"/>
            <a:ext cx="5043600" cy="790200"/>
            <a:chOff x="2411280" y="2205000"/>
            <a:chExt cx="5043600" cy="790200"/>
          </a:xfrm>
        </p:grpSpPr>
        <p:sp>
          <p:nvSpPr>
            <p:cNvPr id="153" name="未知"/>
            <p:cNvSpPr/>
            <p:nvPr/>
          </p:nvSpPr>
          <p:spPr>
            <a:xfrm>
              <a:off x="2411280" y="2780280"/>
              <a:ext cx="5043600" cy="21492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2771280" y="220500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二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2411280" y="3070080"/>
            <a:ext cx="5043600" cy="863280"/>
            <a:chOff x="2411280" y="3070080"/>
            <a:chExt cx="5043600" cy="863280"/>
          </a:xfrm>
        </p:grpSpPr>
        <p:sp>
          <p:nvSpPr>
            <p:cNvPr id="156" name="未知"/>
            <p:cNvSpPr/>
            <p:nvPr/>
          </p:nvSpPr>
          <p:spPr>
            <a:xfrm>
              <a:off x="2411280" y="3717720"/>
              <a:ext cx="5043600" cy="21564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2771280" y="3070080"/>
              <a:ext cx="43934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第三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2411280" y="3789360"/>
            <a:ext cx="5043600" cy="892080"/>
            <a:chOff x="2411280" y="3789360"/>
            <a:chExt cx="5043600" cy="892080"/>
          </a:xfrm>
        </p:grpSpPr>
        <p:sp>
          <p:nvSpPr>
            <p:cNvPr id="159" name="未知"/>
            <p:cNvSpPr/>
            <p:nvPr/>
          </p:nvSpPr>
          <p:spPr>
            <a:xfrm>
              <a:off x="2411280" y="4509360"/>
              <a:ext cx="5043600" cy="172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2771280" y="3789360"/>
              <a:ext cx="4393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2411280" y="4581360"/>
            <a:ext cx="5043600" cy="1036440"/>
            <a:chOff x="2411280" y="4581360"/>
            <a:chExt cx="5043600" cy="1036440"/>
          </a:xfrm>
        </p:grpSpPr>
        <p:sp>
          <p:nvSpPr>
            <p:cNvPr id="162" name="未知"/>
            <p:cNvSpPr/>
            <p:nvPr/>
          </p:nvSpPr>
          <p:spPr>
            <a:xfrm>
              <a:off x="2411280" y="5301720"/>
              <a:ext cx="5043600" cy="316080"/>
            </a:xfrm>
            <a:custGeom>
              <a:avLst/>
              <a:gdLst/>
              <a:ahLst/>
              <a:rect l="l" t="t" r="r" b="b"/>
              <a:pathLst>
                <a:path w="21599" h="21600">
                  <a:moveTo>
                    <a:pt x="0" y="0"/>
                  </a:moveTo>
                  <a:cubicBezTo>
                    <a:pt x="410" y="3346"/>
                    <a:pt x="1531" y="19296"/>
                    <a:pt x="2461" y="20165"/>
                  </a:cubicBezTo>
                  <a:cubicBezTo>
                    <a:pt x="3391" y="21035"/>
                    <a:pt x="4585" y="5128"/>
                    <a:pt x="5583" y="5302"/>
                  </a:cubicBezTo>
                  <a:cubicBezTo>
                    <a:pt x="6581" y="5476"/>
                    <a:pt x="7367" y="21600"/>
                    <a:pt x="8442" y="21252"/>
                  </a:cubicBezTo>
                  <a:cubicBezTo>
                    <a:pt x="9516" y="20904"/>
                    <a:pt x="10843" y="3520"/>
                    <a:pt x="12029" y="3172"/>
                  </a:cubicBezTo>
                  <a:cubicBezTo>
                    <a:pt x="13215" y="2824"/>
                    <a:pt x="14498" y="19122"/>
                    <a:pt x="15551" y="19122"/>
                  </a:cubicBezTo>
                  <a:cubicBezTo>
                    <a:pt x="16603" y="19122"/>
                    <a:pt x="17332" y="3346"/>
                    <a:pt x="18341" y="3172"/>
                  </a:cubicBezTo>
                  <a:cubicBezTo>
                    <a:pt x="19350" y="2998"/>
                    <a:pt x="21056" y="15602"/>
                    <a:pt x="21599" y="18079"/>
                  </a:cubicBezTo>
                </a:path>
              </a:pathLst>
            </a:custGeom>
            <a:noFill/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2771280" y="4581360"/>
              <a:ext cx="439272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0" y="-15840"/>
            <a:ext cx="2211480" cy="6855120"/>
            <a:chOff x="0" y="-15840"/>
            <a:chExt cx="2211480" cy="6855120"/>
          </a:xfrm>
        </p:grpSpPr>
        <p:grpSp>
          <p:nvGrpSpPr>
            <p:cNvPr id="165" name="Group 18"/>
            <p:cNvGrpSpPr/>
            <p:nvPr/>
          </p:nvGrpSpPr>
          <p:grpSpPr>
            <a:xfrm>
              <a:off x="0" y="-15840"/>
              <a:ext cx="2211480" cy="6855120"/>
              <a:chOff x="0" y="-15840"/>
              <a:chExt cx="2211480" cy="6855120"/>
            </a:xfrm>
          </p:grpSpPr>
          <p:sp>
            <p:nvSpPr>
              <p:cNvPr id="166" name="未知"/>
              <p:cNvSpPr/>
              <p:nvPr/>
            </p:nvSpPr>
            <p:spPr>
              <a:xfrm>
                <a:off x="0" y="-108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2880" y="-1584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WordArt 21"/>
            <p:cNvSpPr txBox="1"/>
            <p:nvPr/>
          </p:nvSpPr>
          <p:spPr>
            <a:xfrm rot="5400000">
              <a:off x="-286200" y="944640"/>
              <a:ext cx="1867320" cy="937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目录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73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74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一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84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二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15E-E53F-46C6-82DE-BA436FFB4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H="1" flipV="1">
            <a:off x="8028720" y="6381720"/>
            <a:ext cx="863640" cy="287280"/>
          </a:xfrm>
          <a:custGeom>
            <a:avLst/>
            <a:gdLst>
              <a:gd name="textAreaLeft" fmla="*/ 17640 w 863640"/>
              <a:gd name="textAreaRight" fmla="*/ 846000 w 8636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531" y="1350"/>
                </a:lnTo>
                <a:lnTo>
                  <a:pt x="1350" y="135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531" y="20250"/>
                </a:lnTo>
                <a:lnTo>
                  <a:pt x="63531" y="135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531" y="2025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0" y="0"/>
            <a:ext cx="2211480" cy="6854760"/>
            <a:chOff x="0" y="0"/>
            <a:chExt cx="2211480" cy="6854760"/>
          </a:xfrm>
        </p:grpSpPr>
        <p:grpSp>
          <p:nvGrpSpPr>
            <p:cNvPr id="197" name="Group 6"/>
            <p:cNvGrpSpPr/>
            <p:nvPr/>
          </p:nvGrpSpPr>
          <p:grpSpPr>
            <a:xfrm>
              <a:off x="0" y="0"/>
              <a:ext cx="2211480" cy="6854760"/>
              <a:chOff x="0" y="0"/>
              <a:chExt cx="2211480" cy="6854760"/>
            </a:xfrm>
          </p:grpSpPr>
          <p:sp>
            <p:nvSpPr>
              <p:cNvPr id="198" name="未知"/>
              <p:cNvSpPr/>
              <p:nvPr/>
            </p:nvSpPr>
            <p:spPr>
              <a:xfrm>
                <a:off x="0" y="14400"/>
                <a:ext cx="2211480" cy="6840360"/>
              </a:xfrm>
              <a:custGeom>
                <a:avLst/>
                <a:gdLst/>
                <a:ahLst/>
                <a:rect l="l" t="t" r="r" b="b"/>
                <a:pathLst>
                  <a:path w="1393" h="4320">
                    <a:moveTo>
                      <a:pt x="0" y="0"/>
                    </a:moveTo>
                    <a:lnTo>
                      <a:pt x="1392" y="240"/>
                    </a:lnTo>
                    <a:lnTo>
                      <a:pt x="288" y="4319"/>
                    </a:lnTo>
                    <a:lnTo>
                      <a:pt x="0" y="4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2880" y="0"/>
                <a:ext cx="1523160" cy="6854760"/>
              </a:xfrm>
              <a:custGeom>
                <a:avLst/>
                <a:gdLst/>
                <a:ahLst/>
                <a:rect l="l" t="t" r="r" b="b"/>
                <a:pathLst>
                  <a:path w="959" h="4330">
                    <a:moveTo>
                      <a:pt x="0" y="0"/>
                    </a:moveTo>
                    <a:lnTo>
                      <a:pt x="958" y="346"/>
                    </a:lnTo>
                    <a:lnTo>
                      <a:pt x="286" y="4329"/>
                    </a:lnTo>
                    <a:lnTo>
                      <a:pt x="0" y="43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WordArt 9"/>
            <p:cNvSpPr txBox="1"/>
            <p:nvPr/>
          </p:nvSpPr>
          <p:spPr>
            <a:xfrm rot="5400000">
              <a:off x="-1013040" y="1519560"/>
              <a:ext cx="3093480" cy="720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0"/>
                  <a:gd name="adj2" fmla="val -5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effectLst>
                    <a:outerShdw dist="107932" dir="8100000" blurRad="0" rotWithShape="0">
                      <a:srgbClr val="000080">
                        <a:alpha val="50000"/>
                      </a:srgbClr>
                    </a:outerShdw>
                  </a:effectLst>
                  <a:latin typeface="宋体"/>
                </a:rPr>
                <a:t>第三讲</a:t>
              </a:r>
              <a:endPara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0:47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2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