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01A-0161-4568-BB6B-C03FD512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33A-7323-4AE5-83EC-E04EDB4E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9E5-6458-4BA2-8141-3E3954F7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950-96CA-4A01-91D8-6511600D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96F-2935-4D50-AFDD-2FB8DF3B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557-F6CA-4352-8998-D84ECA33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707-26DE-4A3C-B4E8-D0A3D757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4F6-02BC-4229-B69C-BA8C78BF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9D4-5E02-4250-B044-502BD3A2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A13-A137-46B4-92D2-06D605EC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9D8-EE4E-437B-9ED4-0F212E27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363-3725-4A87-A410-500BC4A8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CA74-1543-4F67-9D94-9B6F7F7370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2F40-9E20-4A1E-9D04-05738C9FEC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22560" y="2225520"/>
            <a:ext cx="2973600" cy="230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22200" y="120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以动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81240" y="1938240"/>
            <a:ext cx="30654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9160" y="776160"/>
            <a:ext cx="4703760" cy="470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87680" y="638496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400" y="534960"/>
            <a:ext cx="904536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372-13C1-4837-ABFD-E591B682E8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87440" y="907920"/>
            <a:ext cx="6172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50:5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