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C43B-431B-4F5A-94C2-47D43D3F6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820-E805-496D-963C-F16CF55E7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B635-CB7B-4E79-96BD-5E382EDD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267B-DD0C-4724-BE53-A108BC83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1814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1814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1814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B234-F8C5-46A6-BF85-1621E909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4427-B453-4FDD-9E9B-78C181E7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72AD-B467-42D4-845D-0D441B36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DF7B-7F20-4C95-AAE2-80916AB9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4181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E3C9-D7D3-42A0-97CF-080B6815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9E04-3273-41C6-B766-5852042A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C7BE-767E-40C0-AE94-C812CB4C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38FF-29A4-40CE-96C9-C9A35156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84D3-6E58-4C0E-BDBC-268F6C5D0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96600" cy="41767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91508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814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41814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18143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418143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1280" y="50864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18143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418143"/>
                </a:solidFill>
                <a:latin typeface="Arial"/>
              </a:rPr>
              <a:t>雷锋精神</a:t>
            </a:r>
            <a:r>
              <a:rPr b="1" lang="zh-CN" sz="4000" spc="-1" strike="noStrike">
                <a:solidFill>
                  <a:srgbClr val="418143"/>
                </a:solidFill>
                <a:latin typeface="楷体"/>
                <a:ea typeface="楷体"/>
              </a:rPr>
              <a:t>PPT</a:t>
            </a:r>
            <a:r>
              <a:rPr b="1" lang="zh-CN" sz="4000" spc="-1" strike="noStrike">
                <a:solidFill>
                  <a:srgbClr val="418143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418143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960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这天是我永远不能忘记的日子，这天是我最大的荣幸和光荣的日子。我走上了新的战斗岗位，穿上了黄军服，光荣的参加了中国人民解放军。我好几年来的愿望在今天已实现了，真感到万分的高兴和喜悦，这是我一生最大的幸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我在党的正确领导下，在革命的大家庭里，我一定要好好地锻炼自己，在入伍的这一天，我并提出如下保证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听党的话，服从命令听指挥，党指向哪里，我就冲向哪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加强政治学习，多看报纸和政治书籍，按时参加部队各种会议和学习，积极宣传党的政策，密切靠近组织，及时向组织反映各种情况，不断提高自己的政治思想觉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三、尊敬领导，团结同志，互帮互爱互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四、严格遵守部队一切纪律，做到虚心向老战士学习，刻苦钻研，加强军事学习，随时准备打击敌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五、克服一切困难，发扬长辈优良的革命传统。我要坚决做到头可断，血可流，在敌人面前决不屈服、投降。我一定要向董存瑞，黄继光、安业民等英雄的战土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C6B-C7F0-4D1F-9336-7BCBE1EF2B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六、我要努力学习政治、军事、文化，我要好好的锻炼身体，我一定要在部队争取立功当英雄，我一定要做一个毛泽东时代的好战士，我要把我可爱的青春献给祖国最壮丽的事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以上六条是我努力的方向和我的奋斗目标。今天我太高兴我太激动，千言万语一下要写完是办不到的，因此写到这里告一段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2T15:25:3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4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