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1D5E8-F339-479C-A77B-D5E17AE3EC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115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822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77040"/>
            <a:ext cx="822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E97F4-CD7B-4E7B-A2F0-A604EC0746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115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7704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7704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94E65-F0DD-4388-8B51-40231980B9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115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99972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99972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7704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7704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7704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0F204-7CEA-4D22-9998-B30E661330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115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115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115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40158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999720"/>
            <a:ext cx="40158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115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11504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115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999720"/>
            <a:ext cx="40158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7704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115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81490-53C4-479A-9D40-28051FC99A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115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40158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7704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115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77040"/>
            <a:ext cx="822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115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822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77040"/>
            <a:ext cx="822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115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7704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7704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115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99972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99972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7704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7704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7704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115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8D046-34B9-470B-A854-9B9C7D9C77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115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40158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999720"/>
            <a:ext cx="40158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7399D-8BB3-4975-8CE6-BC2E6CE8E7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115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BEE0A-4A50-4255-BA05-59E8205690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11504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F3FA5-79B2-4A4E-A17D-1D2C0A80A2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115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99720"/>
            <a:ext cx="40158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7704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74FDB-D4A1-4346-8F0A-C21AD13541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115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40158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7704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861EA-5FCA-4BF4-9A46-2571E7B758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115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77040"/>
            <a:ext cx="822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39BB9-4E01-4186-B035-2A4E544E55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C:\Users\vivianting\Desktop\未标题8.png"/>
          <p:cNvPicPr/>
          <p:nvPr/>
        </p:nvPicPr>
        <p:blipFill>
          <a:blip r:embed="rId2"/>
          <a:srcRect l="4974" t="1717" r="74194" b="70436"/>
          <a:stretch/>
        </p:blipFill>
        <p:spPr>
          <a:xfrm>
            <a:off x="7786800" y="5286240"/>
            <a:ext cx="1357200" cy="1571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1150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215200" y="6420960"/>
            <a:ext cx="419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1E6F-8C9F-4EDD-AA97-2D76C81EF1A4}" type="slidenum">
              <a:rPr b="1" lang="zh-CN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直接连接符 8"/>
          <p:cNvSpPr/>
          <p:nvPr/>
        </p:nvSpPr>
        <p:spPr>
          <a:xfrm>
            <a:off x="0" y="95580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" descr=""/>
          <p:cNvPicPr/>
          <p:nvPr/>
        </p:nvPicPr>
        <p:blipFill>
          <a:blip r:embed="rId3"/>
          <a:srcRect l="10509" t="10349" r="12416" b="6908"/>
          <a:stretch/>
        </p:blipFill>
        <p:spPr>
          <a:xfrm>
            <a:off x="7470720" y="52560"/>
            <a:ext cx="1379520" cy="1002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C:\Users\vivianting\Desktop\未标题8.png"/>
          <p:cNvPicPr/>
          <p:nvPr/>
        </p:nvPicPr>
        <p:blipFill>
          <a:blip r:embed="rId2"/>
          <a:srcRect l="4974" t="1717" r="74194" b="70436"/>
          <a:stretch/>
        </p:blipFill>
        <p:spPr>
          <a:xfrm>
            <a:off x="7786800" y="5286240"/>
            <a:ext cx="1357200" cy="1571760"/>
          </a:xfrm>
          <a:prstGeom prst="rect">
            <a:avLst/>
          </a:prstGeom>
          <a:ln w="0">
            <a:noFill/>
          </a:ln>
        </p:spPr>
      </p:pic>
      <p:sp>
        <p:nvSpPr>
          <p:cNvPr id="43" name="直接连接符 8"/>
          <p:cNvSpPr/>
          <p:nvPr/>
        </p:nvSpPr>
        <p:spPr>
          <a:xfrm>
            <a:off x="0" y="95580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6" descr=""/>
          <p:cNvPicPr/>
          <p:nvPr/>
        </p:nvPicPr>
        <p:blipFill>
          <a:blip r:embed="rId3"/>
          <a:stretch/>
        </p:blipFill>
        <p:spPr>
          <a:xfrm>
            <a:off x="0" y="0"/>
            <a:ext cx="923760" cy="912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4"/>
          <a:srcRect l="10509" t="10349" r="12416" b="6908"/>
          <a:stretch/>
        </p:blipFill>
        <p:spPr>
          <a:xfrm>
            <a:off x="7470720" y="52560"/>
            <a:ext cx="1379520" cy="1002960"/>
          </a:xfrm>
          <a:prstGeom prst="rect">
            <a:avLst/>
          </a:prstGeom>
          <a:ln w="0">
            <a:noFill/>
          </a:ln>
        </p:spPr>
      </p:pic>
      <p:sp>
        <p:nvSpPr>
          <p:cNvPr id="46" name="矩形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055" descr="色条 拷贝"/>
          <p:cNvPicPr/>
          <p:nvPr/>
        </p:nvPicPr>
        <p:blipFill>
          <a:blip r:embed="rId5"/>
          <a:stretch/>
        </p:blipFill>
        <p:spPr>
          <a:xfrm>
            <a:off x="0" y="1500120"/>
            <a:ext cx="9144000" cy="3700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Users\vivianting\Desktop\1234131.png"/>
          <p:cNvPicPr/>
          <p:nvPr/>
        </p:nvPicPr>
        <p:blipFill>
          <a:blip r:embed="rId6"/>
          <a:stretch/>
        </p:blipFill>
        <p:spPr>
          <a:xfrm>
            <a:off x="7286760" y="214200"/>
            <a:ext cx="1487520" cy="10303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1150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0" y="5572080"/>
            <a:ext cx="9144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标题 3"/>
          <p:cNvSpPr/>
          <p:nvPr/>
        </p:nvSpPr>
        <p:spPr>
          <a:xfrm>
            <a:off x="395280" y="2565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85840" y="47628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联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474920" y="1700280"/>
            <a:ext cx="720072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t">
            <a:noAutofit/>
          </a:bodyPr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部分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题目</a:t>
            </a:r>
            <a:r>
              <a:rPr b="0" lang="de-DE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部分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题目</a:t>
            </a:r>
            <a:r>
              <a:rPr b="0" lang="de-DE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部分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题目</a:t>
            </a:r>
            <a:r>
              <a:rPr b="0" lang="de-DE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2060640"/>
            <a:ext cx="7417080" cy="4572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ed1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标题 1"/>
          <p:cNvSpPr/>
          <p:nvPr/>
        </p:nvSpPr>
        <p:spPr>
          <a:xfrm>
            <a:off x="857160" y="285840"/>
            <a:ext cx="12668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92360" y="6237360"/>
            <a:ext cx="57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灯片编号占位符 3"/>
          <p:cNvSpPr/>
          <p:nvPr/>
        </p:nvSpPr>
        <p:spPr>
          <a:xfrm>
            <a:off x="8215200" y="6421320"/>
            <a:ext cx="419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84B4-F09F-4036-B8F6-866219612267}" type="slidenum">
              <a:rPr b="1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66243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一部分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灯片编号占位符 3"/>
          <p:cNvSpPr/>
          <p:nvPr/>
        </p:nvSpPr>
        <p:spPr>
          <a:xfrm>
            <a:off x="8215200" y="6421320"/>
            <a:ext cx="419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41A7-436E-4DF9-9AE5-637645A02055}" type="slidenum">
              <a:rPr b="1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66243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二部分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5689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474920" y="1700280"/>
            <a:ext cx="720072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t">
            <a:noAutofit/>
          </a:bodyPr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部分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号角响起  蓄势待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部分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黑体"/>
                <a:ea typeface="黑体"/>
              </a:rPr>
              <a:t>3 G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助力  引来东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部分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万众一心  共图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2924280"/>
            <a:ext cx="7416720" cy="4572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ed1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标题 1"/>
          <p:cNvSpPr/>
          <p:nvPr/>
        </p:nvSpPr>
        <p:spPr>
          <a:xfrm>
            <a:off x="857160" y="285840"/>
            <a:ext cx="12668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673600" y="2492280"/>
            <a:ext cx="1965600" cy="2890800"/>
          </a:xfrm>
          <a:custGeom>
            <a:avLst/>
            <a:gdLst/>
            <a:ahLst/>
            <a:rect l="l" t="t" r="r" b="b"/>
            <a:pathLst>
              <a:path w="1238" h="1662">
                <a:moveTo>
                  <a:pt x="1226" y="0"/>
                </a:moveTo>
                <a:lnTo>
                  <a:pt x="1238" y="1662"/>
                </a:lnTo>
                <a:lnTo>
                  <a:pt x="0" y="1662"/>
                </a:lnTo>
                <a:lnTo>
                  <a:pt x="4" y="416"/>
                </a:lnTo>
              </a:path>
            </a:pathLst>
          </a:custGeom>
          <a:gradFill rotWithShape="0">
            <a:gsLst>
              <a:gs pos="0">
                <a:srgbClr val="f45e5e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68680" y="2747880"/>
            <a:ext cx="1981080" cy="2641680"/>
          </a:xfrm>
          <a:custGeom>
            <a:avLst/>
            <a:gdLst/>
            <a:ahLst/>
            <a:rect l="l" t="t" r="r" b="b"/>
            <a:pathLst>
              <a:path w="1248" h="1664">
                <a:moveTo>
                  <a:pt x="1158" y="0"/>
                </a:moveTo>
                <a:lnTo>
                  <a:pt x="1248" y="288"/>
                </a:lnTo>
                <a:lnTo>
                  <a:pt x="1248" y="1645"/>
                </a:lnTo>
                <a:lnTo>
                  <a:pt x="0" y="1664"/>
                </a:lnTo>
                <a:lnTo>
                  <a:pt x="0" y="391"/>
                </a:lnTo>
              </a:path>
            </a:pathLst>
          </a:custGeom>
          <a:gradFill rotWithShape="0">
            <a:gsLst>
              <a:gs pos="0">
                <a:srgbClr val="8cd32d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44680" y="2979720"/>
            <a:ext cx="1981080" cy="2465280"/>
          </a:xfrm>
          <a:custGeom>
            <a:avLst/>
            <a:gdLst/>
            <a:ahLst/>
            <a:rect l="l" t="t" r="r" b="b"/>
            <a:pathLst>
              <a:path w="1248" h="1553">
                <a:moveTo>
                  <a:pt x="1158" y="0"/>
                </a:moveTo>
                <a:lnTo>
                  <a:pt x="1248" y="351"/>
                </a:lnTo>
                <a:lnTo>
                  <a:pt x="1248" y="1553"/>
                </a:lnTo>
                <a:lnTo>
                  <a:pt x="0" y="1553"/>
                </a:lnTo>
                <a:lnTo>
                  <a:pt x="4" y="417"/>
                </a:lnTo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0280" y="2938320"/>
            <a:ext cx="1800" cy="249732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11680" y="2938320"/>
            <a:ext cx="1800" cy="249732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96080" y="2631960"/>
            <a:ext cx="1800" cy="280368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20920" y="1711440"/>
            <a:ext cx="6939000" cy="1692000"/>
          </a:xfrm>
          <a:custGeom>
            <a:avLst/>
            <a:gdLst/>
            <a:ahLst/>
            <a:rect l="l" t="t" r="r" b="b"/>
            <a:pathLst>
              <a:path w="4371" h="1066">
                <a:moveTo>
                  <a:pt x="0" y="845"/>
                </a:moveTo>
                <a:lnTo>
                  <a:pt x="1523" y="313"/>
                </a:lnTo>
                <a:lnTo>
                  <a:pt x="1610" y="617"/>
                </a:lnTo>
                <a:lnTo>
                  <a:pt x="2720" y="243"/>
                </a:lnTo>
                <a:lnTo>
                  <a:pt x="2784" y="538"/>
                </a:lnTo>
                <a:lnTo>
                  <a:pt x="3882" y="266"/>
                </a:lnTo>
                <a:lnTo>
                  <a:pt x="3795" y="0"/>
                </a:lnTo>
                <a:lnTo>
                  <a:pt x="4371" y="269"/>
                </a:lnTo>
                <a:lnTo>
                  <a:pt x="3961" y="832"/>
                </a:lnTo>
                <a:lnTo>
                  <a:pt x="3912" y="542"/>
                </a:lnTo>
                <a:lnTo>
                  <a:pt x="2594" y="921"/>
                </a:lnTo>
                <a:lnTo>
                  <a:pt x="2509" y="620"/>
                </a:lnTo>
                <a:lnTo>
                  <a:pt x="1344" y="968"/>
                </a:lnTo>
                <a:lnTo>
                  <a:pt x="1280" y="666"/>
                </a:lnTo>
                <a:lnTo>
                  <a:pt x="67" y="1066"/>
                </a:lnTo>
                <a:lnTo>
                  <a:pt x="0" y="845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99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79680" y="3714840"/>
            <a:ext cx="1884240" cy="13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120600" indent="-120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做准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好内功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应未来发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59200" y="3583080"/>
            <a:ext cx="1511280" cy="13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120600" indent="-120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多学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拓眼界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快脚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875200" y="3367080"/>
            <a:ext cx="1621080" cy="17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120600" indent="-120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抓住自身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势，充分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环境，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拓市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标题 1"/>
          <p:cNvSpPr/>
          <p:nvPr/>
        </p:nvSpPr>
        <p:spPr>
          <a:xfrm>
            <a:off x="395280" y="333360"/>
            <a:ext cx="66247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五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92360" y="6237360"/>
            <a:ext cx="57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602EC-BF74-45FB-B358-689D341D45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60004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灯片编号占位符 3"/>
          <p:cNvSpPr/>
          <p:nvPr/>
        </p:nvSpPr>
        <p:spPr>
          <a:xfrm>
            <a:off x="8215200" y="6421320"/>
            <a:ext cx="419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9245-E28D-4DC4-A45B-8CA4A52A4277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055" descr="色条 拷贝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3700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C:\Users\vivianting\Desktop\1234131.png"/>
          <p:cNvPicPr/>
          <p:nvPr/>
        </p:nvPicPr>
        <p:blipFill>
          <a:blip r:embed="rId2"/>
          <a:stretch/>
        </p:blipFill>
        <p:spPr>
          <a:xfrm>
            <a:off x="7286760" y="214200"/>
            <a:ext cx="1487520" cy="1030320"/>
          </a:xfrm>
          <a:prstGeom prst="rect">
            <a:avLst/>
          </a:prstGeom>
          <a:ln w="0">
            <a:noFill/>
          </a:ln>
        </p:spPr>
      </p:pic>
      <p:sp>
        <p:nvSpPr>
          <p:cNvPr id="126" name="TextBox 7"/>
          <p:cNvSpPr/>
          <p:nvPr/>
        </p:nvSpPr>
        <p:spPr>
          <a:xfrm>
            <a:off x="3492360" y="2708280"/>
            <a:ext cx="28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谢谢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00:51:4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1:22:15Z</dcterms:modified>
  <cp:revision>67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