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6C0-B9E2-47C1-913F-AECCA8F3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AC8-3A88-4320-BD04-1683C5ED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C60-EA30-4A4C-AAE0-04AC8D0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9B6-6E63-4D64-872B-29AEC2E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F166-36B0-45D9-8656-2373196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454C-0698-4952-94B5-4378BD5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48F3-C3D2-4F8D-B734-A284D46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859-FF04-4731-8A66-1BA52F1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858-C3AB-42E9-939B-5404B9DC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628-84AD-4561-BA6C-EB23CBC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9703-DCAD-4A58-9A76-76C7081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613-6E28-4BC3-95E0-BF6FCB8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F12A-52B8-452F-9BD2-E856B3C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1EEF-B6FE-4187-B5D7-BBF7A20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79FE-2815-49A4-8DCE-FB9F0D7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BC84-A925-4367-92AE-EE4C1A69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FD2A-3D4D-48B1-B640-25033C31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839A-6583-4503-A4C3-85EF4F42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4514-783E-4665-900B-5592D2F8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7DE3-4488-420E-A26E-F936F21F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0542-5EAB-4ADE-837A-7BC8121B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855A-E97F-40B6-A6FC-87051AA5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34F-B4A5-4F73-A6DA-CCDDFE7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EC33-17E6-43F7-BFC1-8A40E04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05E0-815E-4523-A659-8A536B4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B619-5559-4CFB-A167-37D4260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C9CF-1633-4143-A392-549925C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DE57-E666-458C-A42E-1C81EF4F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0BC6-C666-444D-A1F1-D2AB8A3E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B52E-0737-4E38-B29B-1569544F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AD6-86A2-4B1B-950A-4C1A0939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8B6-93F7-4F0A-A4AE-EA73D23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D9-3D27-4B31-A5D1-CE80519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79E-2EDB-4B53-ABA1-B4C8F29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A63-0A5C-47CD-BD6C-929EA36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BF8-F87C-4E43-8BA7-4751AE8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9C4-68BA-42C7-9F66-17B8D3527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757-79A0-4616-8FAD-4F318884D8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E61-DEDD-4AA0-8D3B-1E0D88B8923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2003072410411400000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7101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193840" y="838080"/>
            <a:ext cx="549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320" y="1447920"/>
            <a:ext cx="16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老</a:t>
            </a:r>
            <a:r>
              <a:rPr b="0" lang="zh-CN" sz="9600" spc="-1" strike="noStrike">
                <a:solidFill>
                  <a:srgbClr val="000066"/>
                </a:solidFill>
                <a:latin typeface="Times New Roman"/>
                <a:ea typeface="华文隶书"/>
              </a:rPr>
              <a:t>　</a:t>
            </a:r>
            <a:r>
              <a:rPr b="0" lang="zh-CN" sz="9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王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81960" y="380880"/>
            <a:ext cx="789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这是谁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2469960" y="-23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老王完整版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95280" y="9079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几件事又具体说明了老王是怎样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0880" y="19810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一件事：送冰　　　　　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二件事：送钱先生去医院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三件事：改装三轮　　　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四件事：送鸡蛋香油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41008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老实巴交　不贪钱财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48640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体贴顾客　无微不至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感谢关怀   知恩图报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419720" y="3809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4343400" y="2133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419720" y="3276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114800" y="2514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343400" y="2666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410080" y="2590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别人   不图回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43000" y="2209680"/>
            <a:ext cx="7620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老王是一个怎样的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再比较祥子和老王，他们的顾客有何不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27432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善良表现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733920"/>
            <a:ext cx="8893080" cy="246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女儿送他鱼肝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照顾老王的生意，他再客气也付给他应得的报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关切询问他能否维持生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不让他白送鸡蛋、香油，也给了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990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文中的“我”是怎样的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0040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善良的有同情心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怎么看待老王送鸡蛋香油的行动？为什么重病还坚持亲自送礼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09480" y="3200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什么老王说不收钱但又把钱收下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何理解我的“愧怍”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38080" y="2057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感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家平时对他的关心照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838080" y="3733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愿意白接受礼物的想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676520" y="5257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后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自己对老王的关爱还不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3808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cba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作者一家对老王那样的不幸者那么关心、爱护是抱有一种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念</a:t>
            </a:r>
            <a:r>
              <a:rPr b="1" lang="en-US" sz="3200" spc="-1" strike="noStrike">
                <a:solidFill>
                  <a:srgbClr val="990cb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社会地位、生活条件比较优越的人往往瞧不起卑微者，要有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神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才能像作者那样尊重人、理解人、关心人</a:t>
            </a:r>
            <a:r>
              <a:rPr b="1" lang="en-US" sz="3200" spc="-1" strike="noStrike">
                <a:solidFill>
                  <a:srgbClr val="990cba"/>
                </a:solidFill>
                <a:latin typeface="Arial"/>
              </a:rPr>
              <a:t>?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00000" y="38818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平等观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71640" y="494172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人道主义精神互敬互爱精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457200" y="609480"/>
            <a:ext cx="62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课文怎么安排组织材料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447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按逻辑顺序介绍老王的基本情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" y="2286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按时间顺序介绍老王的工作与为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68360" y="3573360"/>
            <a:ext cx="57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贯穿材料的线索是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4653000"/>
            <a:ext cx="41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作者与老王的交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457200" y="1219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本文对你的教育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做一个善良的人，就有好报，自己活着也快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04920" y="4038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怎样做一个善良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62120" y="4876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爱心，关心别人、尊重别人、帮助别人。并知恩图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0"/>
            <a:ext cx="1752480" cy="703440"/>
          </a:xfrm>
          <a:prstGeom prst="rect">
            <a:avLst/>
          </a:prstGeom>
          <a:solidFill>
            <a:srgbClr val="f5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升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55640" y="1052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会同情和帮助那些不幸的人吗？你曾经这样做过吗？谈谈您的感受和经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1197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者简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杨绛，原名杨季康，生于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1911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年，江苏无锡人。作家、评论家、文学翻译家。著有散文集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干校六记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 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洗澡》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将茶饮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。译作有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堂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吉诃德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等。其夫钱钟书，字默存，代表作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围城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268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送的冰比他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前任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送的大一倍，冰价相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 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送的冰比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前一个三轮车工人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送的大一倍，冰价相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50920" y="3645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在家听到打门，开门看见老王直僵僵地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镶嵌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在门框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在家听到打门，开门看见老王直僵僵地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站立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在门口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49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句“前任”一词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简炼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之至，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大词小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又很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风趣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9640" y="5373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句说“镶嵌在门框里”，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夸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手法，强调了老王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步履维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身体僵直的形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比较下边每组两个句子，联系上下文，说说①在表达上的好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0" y="134136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0" y="38606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04920" y="1143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强笑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说：“老王，这么新鲜的大鸡蛋，都给我们吃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?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笑着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说：“老王，这么新鲜的大鸡蛋，都给我们吃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?”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22860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强笑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词，不但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准确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而且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含蓄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透露自己见到老王病成那个样子，还拿东西来谢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心里有说不出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悲酸和感动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42670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谢了他的好香油，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谢了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的大鸡蛋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谢了他的好香油和大鸡蛋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5257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句重复两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谢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表明作者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感激之情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更突出香油和鸡蛋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贵重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250920" y="126828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50920" y="4292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68360" y="173412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cba"/>
                </a:solidFill>
                <a:latin typeface="Arial"/>
              </a:rPr>
              <a:t>作业：针对这篇散文，如果你能采访杨绛，并提出三个问题，你打算问哪三个问题？把问题写在纸上；把问题交给同桌，再设想如果你是杨绛，拿到同桌提出的三个问题，将怎样回答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79a5"/>
                </a:solidFill>
                <a:latin typeface="Arial"/>
                <a:ea typeface="华文彩云"/>
              </a:rPr>
              <a:t>同学们</a:t>
            </a:r>
            <a:br>
              <a:rPr sz="9600"/>
            </a:br>
            <a:r>
              <a:rPr b="1" lang="zh-CN" sz="9600" spc="-1" strike="noStrike">
                <a:solidFill>
                  <a:srgbClr val="7979a5"/>
                </a:solidFill>
                <a:latin typeface="Arial"/>
                <a:ea typeface="华文彩云"/>
              </a:rPr>
              <a:t>再见！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71640" y="60930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826920" y="143028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伛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40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检查预习：</a:t>
            </a:r>
            <a:r>
              <a:rPr b="1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03240" y="2192400"/>
            <a:ext cx="9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攥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26920" y="2954160"/>
            <a:ext cx="24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惶  恐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6920" y="3716280"/>
            <a:ext cx="23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荒  僻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3240" y="4630680"/>
            <a:ext cx="200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塌  败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03240" y="5545080"/>
            <a:ext cx="21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骷  髅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838760" y="1413000"/>
            <a:ext cx="24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取  缔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718160" y="2174760"/>
            <a:ext cx="262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滞   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59280" y="2936880"/>
            <a:ext cx="24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愧   怍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12" descr="BS00975_"/>
          <p:cNvPicPr/>
          <p:nvPr/>
        </p:nvPicPr>
        <p:blipFill>
          <a:blip r:embed="rId1"/>
          <a:stretch/>
        </p:blipFill>
        <p:spPr>
          <a:xfrm>
            <a:off x="5003640" y="4149720"/>
            <a:ext cx="2368800" cy="1461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1908000" y="16272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y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835280" y="23479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à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179800" y="3095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h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á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84360" y="3859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556000" y="47228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195640" y="5732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Kū  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ó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659640" y="15559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588000" y="2275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h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6227640" y="30672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K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u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609480"/>
            <a:ext cx="6781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再检查预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体裁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什么？说明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35812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散文。没有完整的故事情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434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者与一位三轮人力车夫的交往，表现底层劳动者在不幸的生活中的不变的淳朴善良的天性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HEFU"/>
          <p:cNvPicPr/>
          <p:nvPr/>
        </p:nvPicPr>
        <p:blipFill>
          <a:blip r:embed="rId1"/>
          <a:stretch/>
        </p:blipFill>
        <p:spPr>
          <a:xfrm>
            <a:off x="0" y="0"/>
            <a:ext cx="6877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7483680" y="0"/>
            <a:ext cx="127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图片，让你想到了谁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543564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33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0" y="3573360"/>
            <a:ext cx="4103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</a:rPr>
              <a:t>祥子和老王都是拉车的，你觉得他们有什么共同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</a:rPr>
              <a:t>用两个字概括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10080" y="609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都是生活在底层的为求生而疲于奔命的不幸的劳动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5800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不幸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3880" y="17524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职业――靠破旧三轮　身体――老而残　　　居住――塌败小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609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cba"/>
                </a:solidFill>
                <a:latin typeface="Times New Roman"/>
                <a:ea typeface="楷体_GB2312"/>
              </a:rPr>
              <a:t>老王的不幸表现在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219320" y="19051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920" y="1523880"/>
            <a:ext cx="1033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活的不幸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752480" y="4267080"/>
            <a:ext cx="46483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单干户” </a:t>
            </a:r>
            <a:r>
              <a:rPr b="1" lang="zh-CN" sz="1800" spc="-1" strike="noStrike">
                <a:solidFill>
                  <a:srgbClr val="0a0a0e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孤独、无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受恶意攻击、被人瞧不起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447920" y="43434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8960" y="4038480"/>
            <a:ext cx="10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精神的不幸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1447920"/>
            <a:ext cx="6933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赏析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老王有什么美好的品质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他的美好的品质具体表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76520" y="4572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字——善良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57200" y="6858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老王的善良表现在</a:t>
            </a:r>
            <a:r>
              <a:rPr b="1" lang="zh-CN" sz="44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33520" y="1981080"/>
            <a:ext cx="8381880" cy="34840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愿意给我们带送冰块，车费减半冰又大。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送“我”丈夫看病，不要钱，拿了钱还不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放心，担心人家看病钱不够。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给三轮车装护栏，为顾客着想。　　　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临终前送鸡蛋、香油。　　　　　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3:01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4:1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