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05C-2909-459E-9C97-D469C834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40A-8146-43C3-8B09-E9B21A0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959-430D-48EF-8758-F5FD2030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CF0-0228-4336-8B42-AC12D263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EDBF-81B7-40C8-82C8-CC164712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EA18-5016-43E8-9E7D-BED3E4D2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8A1-7ECE-4460-B38D-064A83DF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1AE7-7A74-4840-BE37-DAD2B960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8F83-32B6-4F77-A347-054CAFD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848A-05D5-4CA9-8EC2-60278AC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9A7-D7F7-4C4B-9067-8708970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94E-5E21-496D-8A6B-F150D6A6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4CE-1E35-4D73-BA2C-22CEF59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6EFC-8B11-4A76-A6F0-81DC219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6FC3-6128-4EBF-B7F6-0E9190CB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77EE-709F-4362-B9E0-F77BDA3A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0C7-850D-4E79-BA7A-CF6DC3FE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2EA-273F-49BC-BFF6-4D024AC4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D93-6C82-4243-B856-D24262C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61C-CE21-43A7-ACA4-E97089A1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4C7-6805-4267-9923-A4F4A65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0EA-49E8-4653-9259-9658C76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BAE-2799-4DD2-943E-76F9726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F5E-FF28-4B6D-BAD2-720802E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DA8-8A2C-4A4E-A774-1ABEB1D5F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46C-CC7C-4D8E-8181-C6DC3F74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&#635;%E4&amp;in=15705&amp;cl=2&amp;cm=1&amp;sc=0&amp;lm=-1&amp;pn=98&amp;rn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A%DC%C0%F1&amp;in=26531&amp;cl=2&amp;cm=1&amp;sc=0&amp;lm=-1&amp;pn=110&amp;rn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.baidu.com/i?ct=503316480&amp;z=0&amp;tn=baiduimagedetail&amp;word=&#1083;%D2%E2&amp;in=13650&amp;cl=2&amp;cm=1&amp;sc=0&amp;lm=-1&amp;pn=370&amp;rn=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.baidu.com/i?ct=503316480&amp;z=0&amp;tn=baiduimagedetail&amp;word=%D2%C7&#812;%B4%F3%B7%BD&amp;in=20262&amp;cl=2&amp;cm=1&amp;sc=0&amp;lm=-1&amp;pn=40&amp;rn=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0%BA%B9%F3&amp;in=11978&amp;cl=2&amp;cm=1&amp;sc=0&amp;lm=-1&amp;pn=22&amp;rn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03\flash\LYdh3-1.swf" TargetMode="External"/><Relationship Id="rId2" Type="http://schemas.openxmlformats.org/officeDocument/2006/relationships/hyperlink" Target="http://image.baidu.com/i?ct=503316480&amp;z=0&amp;tn=baiduimagedetail&amp;word=%BB%A8%D3%EF&amp;in=13257&amp;cl=2&amp;cm=1&amp;sc=0&amp;lm=-1&amp;pn=23&amp;rn=1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.baidu.com/i?ct=503316480&amp;z=0&amp;tn=baiduimagedetail&amp;word=%BB%A8%D3%EF&amp;in=22949&amp;cl=2&amp;cm=1&amp;sc=0&amp;lm=-1&amp;pn=28&amp;rn=1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.baidu.com/i?ct=503316480&amp;z=0&amp;tn=baiduimagedetail&amp;word=%BB%A8%D3%EF&amp;in=28475&amp;cl=2&amp;cm=1&amp;sc=0&amp;lm=-1&amp;pn=41&amp;rn=1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.baidu.com/i?ct=503316480&amp;z=0&amp;tn=baiduimagedetail&amp;word=%BB%A8%D3%EF&amp;in=1083&amp;cl=2&amp;cm=1&amp;sc=0&amp;lm=-1&amp;pn=66&amp;rn=1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image.baidu.com/i?ct=503316480&amp;z=0&amp;tn=baiduimagedetail&amp;word=%CF&#699;%A8&amp;in=10908&amp;cl=2&amp;cm=1&amp;sc=0&amp;lm=-1&amp;pn=5&amp;rn=1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image.baidu.com/i?ct=503316480&amp;z=0&amp;tn=baiduimagedetail&amp;word=%CF&#699;%A8&amp;in=27016&amp;cl=2&amp;cm=1&amp;sc=0&amp;lm=-1&amp;pn=77&amp;rn=1" TargetMode="External"/><Relationship Id="rId13" Type="http://schemas.openxmlformats.org/officeDocument/2006/relationships/image" Target="../media/image33.jpeg"/><Relationship Id="rId14" Type="http://schemas.openxmlformats.org/officeDocument/2006/relationships/hyperlink" Target="http://image.baidu.com/i?ct=503316480&amp;z=0&amp;tn=baiduimagedetail&amp;word=%CF&#699;%A8&amp;in=7294&amp;cl=2&amp;cm=1&amp;sc=0&amp;lm=-1&amp;pn=155&amp;rn=1" TargetMode="External"/><Relationship Id="rId15" Type="http://schemas.openxmlformats.org/officeDocument/2006/relationships/image" Target="../media/image34.jpeg"/><Relationship Id="rId1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EC%D5%C6&amp;in=16007&amp;cl=2&amp;cm=1&amp;sc=0&amp;lm=-1&amp;pn=2&amp;rn=1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image.baidu.com/i?ct=503316480&amp;z=0&amp;tn=baiduimagedetail&amp;word=%B7&#1783;%E7%D0%C5%D7%D3&amp;in=27936&amp;cl=2&amp;cm=1&amp;sc=0&amp;lm=-1&amp;pn=0&amp;rn=1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image.baidu.com/i?ct=503316480&amp;z=0&amp;tn=baiduimagedetail&amp;word=%BD%F0%D3%E3%B2%DD&amp;in=17157&amp;cl=2&amp;cm=1&amp;sc=0&amp;lm=-1&amp;pn=277&amp;rn=1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D%F2%C4%EA%C7%E0&amp;in=28673&amp;cl=2&amp;cm=1&amp;sc=0&amp;lm=-1&amp;pn=1&amp;rn=1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.baidu.com/i?ct=503316480&amp;z=0&amp;tn=baiduimagedetail&amp;word=%CB&#624;%D8&amp;in=28948&amp;cl=2&amp;cm=1&amp;sc=0&amp;lm=-1&amp;pn=13&amp;rn=1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.baidu.com/i?ct=503316480&amp;z=0&amp;tn=baiduimagedetail&amp;word=%E9%CF%E9%AD&#1446;&amp;in=25849&amp;cl=2&amp;cm=1&amp;sc=0&amp;lm=-1&amp;pn=3&amp;rn=1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.baidu.com/i?ct=503316480&amp;z=0&amp;tn=baiduimagedetail&amp;word=%D6%F1%D7%D3&amp;in=24752&amp;cl=2&amp;cm=1&amp;sc=0&amp;lm=-1&amp;pn=2&amp;rn=1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.baidu.com/i?ct=503316480&amp;z=0&amp;tn=baiduimagedetail&amp;word=%B6%A1%CF&#16104;&amp;in=8225&amp;cl=2&amp;cm=1&amp;sc=0&amp;lm=-1&amp;pn=0&amp;rn=1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03/flash/LYdh3-2.swf" TargetMode="External"/><Relationship Id="rId2" Type="http://schemas.openxmlformats.org/officeDocument/2006/relationships/hyperlink" Target="http://imgnews.baidu.com/i?ct=520093696&amp;z=0&amp;tn=baiduimagenewsdetail&amp;word=%BA%EC&#245;%B9%E5&amp;in=17881&amp;cl=3&amp;lm=-1&amp;pn=2&amp;rn=1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image.baidu.com/i?ct=503316480&amp;z=0&amp;tn=baiduimagedetail&amp;word=%CF%E3&#687;%D6%F1&amp;in=13455&amp;cl=2&amp;cm=1&amp;sc=0&amp;lm=-1&amp;pn=1&amp;rn=1" TargetMode="External"/><Relationship Id="rId5" Type="http://schemas.openxmlformats.org/officeDocument/2006/relationships/image" Target="../media/image44.jpeg"/><Relationship Id="rId6" Type="http://schemas.openxmlformats.org/officeDocument/2006/relationships/hyperlink" Target="http://image.baidu.com/i?ct=503316480&amp;z=0&amp;tn=baiduimagedetail&amp;word=%B0&#1658;%CF&amp;in=4819&amp;cl=2&amp;cm=1&amp;sc=0&amp;lm=-1&amp;pn=7&amp;rn=1" TargetMode="External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%C0%BA&amp;in=26107&amp;cl=2&amp;cm=1&amp;sc=0&amp;lm=-1&amp;pn=22&amp;rn=1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.baidu.com/i?ct=503316480&amp;z=0&amp;tn=baiduimagedetail&amp;word=%BB%A8%BB%B7&amp;in=22309&amp;cl=2&amp;cm=1&amp;sc=0&amp;lm=-1&amp;pn=2&amp;rn=1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8&#428;&amp;in=14557&amp;cl=2&amp;cm=1&amp;sc=0&amp;lm=-1&amp;pn=31&amp;rn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CF&#699;%A8&amp;in=12955&amp;cl=2&amp;cm=1&amp;sc=0&amp;lm=-1&amp;pn=37&amp;rn=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0&amp;tn=baiduimagedetail&amp;word=%BC%CD%C4%EE&#439;&amp;in=24321&amp;cl=2&amp;cm=1&amp;sc=0&amp;lm=-1&amp;pn=37&amp;rn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.baidu.com/i?ct=503316480&amp;z=0&amp;tn=baiduimagedetail&amp;word=%D4%F9%D1%D4&amp;in=6577&amp;cl=2&amp;cm=1&amp;sc=0&amp;lm=-1&amp;pn=54&amp;rn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.baidu.com/i?ct=503316480&amp;z=0&amp;tn=baiduimagedetail&amp;word=%D4%F9%D1%D4&amp;in=27297&amp;cl=2&amp;cm=1&amp;sc=0&amp;lm=-1&amp;pn=48&amp;rn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.baidu.com/i?ct=503316480&amp;z=0&amp;tn=baiduimagedetail&amp;word=%D4%F9%D1%D4&amp;in=12930&amp;cl=2&amp;cm=1&amp;sc=0&amp;lm=-1&amp;pn=40&amp;rn=1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689;%C9%D0%C0%F1&#439;&amp;in=9472&amp;cl=2&amp;cm=1&amp;sc=0&amp;lm=-1&amp;pn=13&amp;rn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B6%C0%B4%B4%C0%F1&#439;&amp;in=27997&amp;cl=2&amp;cm=1&amp;sc=0&amp;lm=-1&amp;pn=13&amp;rn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.baidu.com/i?ct=503316480&amp;z=0&amp;tn=baiduimagedetail&amp;word=%C7%E9%B8%D0%C0%F1&#439;&amp;in=14661&amp;cl=2&amp;cm=1&amp;sc=0&amp;lm=-1&amp;pn=2&amp;rn=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7%EC%B5%E4%BB&#60847;&amp;in=1667&amp;cl=2&amp;cm=1&amp;sc=0&amp;lm=-1&amp;pn=37&amp;rn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.baidu.com/i?ct=503316480&amp;z=0&amp;tn=baiduimagedetail&amp;word=%BF%AA%D5&#383;%AA&#1205;&amp;in=18277&amp;cl=2&amp;cm=1&amp;sc=0&amp;lm=-1&amp;pn=14&amp;rn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0&amp;tn=baiduimagedetail&amp;word=%BF%AA%D5&#383;%AA&#1205;&amp;in=7334&amp;cl=2&amp;cm=1&amp;sc=0&amp;lm=-1&amp;pn=9&amp;rn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EC%B5%DD&amp;in=32115&amp;cl=2&amp;cm=1&amp;sc=0&amp;lm=-1&amp;pn=48&amp;rn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.baidu.com/i?ct=503316480&amp;z=0&amp;tn=baiduimagedetail&amp;word=%C7%D7%D7%D4%D4%F9%CB%CD&amp;in=18450&amp;cl=2&amp;cm=1&amp;sc=0&amp;lm=-1&amp;pn=1&amp;rn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A&#1205;%CB%CD%CF&#699;%A8&amp;in=16983&amp;cl=2&amp;cm=1&amp;sc=0&amp;lm=-1&amp;pn=3&amp;rn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0&amp;tn=baiduimagedetail&amp;word=%B5%B0%B8%E2&amp;in=23618&amp;cl=2&amp;cm=1&amp;sc=0&amp;lm=-1&amp;pn=2&amp;rn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?ct=503316480&amp;z=0&amp;tn=baiduimagedetail&amp;word=%C8%CB%CE&#318;%B0%B9%DB&amp;in=26806&amp;cl=2&amp;cm=1&amp;sc=0&amp;lm=-1&amp;pn=122&amp;rn=1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?ct=503316480&amp;z=0&amp;tn=baiduimagedetail&amp;word=%CA&#40943;&amp;in=12858&amp;cl=2&amp;cm=1&amp;sc=0&amp;lm=-1&amp;pn=33&amp;rn=1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E&#311;%BF%CB&#305;%A6&amp;in=3871&amp;cl=2&amp;cm=1&amp;sc=0&amp;lm=-1&amp;pn=19&amp;rn=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0%D6%C6%F7&amp;in=28047&amp;cl=2&amp;cm=1&amp;sc=0&amp;lm=-1&amp;pn=77&amp;rn=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一、馈赠的含义及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含义：馈赠时人们在交往过程中通过赠送   给交往对象礼物来表达对对方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尊重、敬意、友谊、纪念、祝贺、感谢、慰问、哀悼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等情感与意愿的一种交际行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目的：沟通感情、保持联系、体现馈赠着的品质和诚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9840" y="62064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礼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63640" y="170028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尊重对方的个人的禁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禁忌四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76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43800" y="4724280"/>
            <a:ext cx="911880" cy="1524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个人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804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民俗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4420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宗教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44400" y="4724280"/>
            <a:ext cx="911880" cy="14479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伦理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根据馈赠价值选择礼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467480" cy="5333760"/>
          </a:xfrm>
          <a:prstGeom prst="verticalScroll">
            <a:avLst>
              <a:gd name="adj" fmla="val 12500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对外接待“八不送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|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19240"/>
            <a:ext cx="5867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一、不送现金、信用卡和有价证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二、不送价格过高的奢侈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三、不送不和时尚、不利健康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四、不送易使异性产生误解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五、不送触犯受赠对象个人禁忌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六、不送涉及国家机密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七、不送其他有违国家法律、法规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第八、不送不道德的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413000"/>
            <a:ext cx="15987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四、赠送的方法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是说明意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是介绍礼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是仪态大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五、赠送的时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选择最佳时机。如：结婚、生子、乔迁、晋升、受挫、生病住院、表示感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选择具体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控制好送礼的时限。一般以简短为宜，说明意图及礼品解释即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时间忌讳。不必每逢良机必送，使礼多成灾，对方刚做完手术上未痊愈时不必送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Times New Roman"/>
              </a:rPr>
              <a:t>六、</a:t>
            </a: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礼品的包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包装的材料、容器、图案造型、商标、文字、色彩的选择和使用，应符合政策法规和习俗惯例，不要违反受赠方的宗教、民族禁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数字禁忌。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使日本的忌讳。“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欧美人的忌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注意色彩。日本忌绿色，喜红色；美国人喜欢鲜明的色彩，忌紫色；伊斯兰教徒讨厌死亡象征的黄色，喜欢绿色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七、受赠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心态开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仪态大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受礼有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表示谢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2743200"/>
            <a:ext cx="20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005360"/>
            <a:ext cx="2468520" cy="247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1600200"/>
            <a:ext cx="172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八、拒绝礼品的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并不熟悉得人送的及其昂贵的礼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隐含着发生违法乱纪行为的礼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接受后或许会受到对方控制的礼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4149720"/>
            <a:ext cx="7418520" cy="2471760"/>
          </a:xfrm>
          <a:prstGeom prst="foldedCorner">
            <a:avLst>
              <a:gd name="adj" fmla="val 12500"/>
            </a:avLst>
          </a:prstGeom>
          <a:solidFill>
            <a:srgbClr val="0033cc"/>
          </a:solidFill>
          <a:ln cap="sq"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注意：拒收礼品时，应保持礼貌、从容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自然、友好的态度，先向对方表达感谢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情，再向对方详细说明拒收的原因，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不可应阻挡，以免对方难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1557360"/>
            <a:ext cx="1095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九、送花礼仪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了解“花卉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当我们用花为媒来传递友谊时，要注意运用正确的“花卉语”，一面出现尴尬。以下是集中常见的花卉的寓意：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m03\flash\LYdh3-1.sw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4005360"/>
            <a:ext cx="1324080" cy="885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005360"/>
            <a:ext cx="1056960" cy="132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4076640"/>
            <a:ext cx="1511280" cy="132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393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47640" y="4941720"/>
            <a:ext cx="1219320" cy="133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544500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16720" y="549360"/>
            <a:ext cx="147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80880"/>
            <a:ext cx="7925040" cy="624852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荷花——纯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红玫瑰——爱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百合——圣洁、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康乃馨——健康长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毋忘我——永志不忘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菊花——长寿高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</a:rPr>
              <a:t>红掌</a:t>
            </a:r>
            <a:r>
              <a:rPr b="0" lang="en-US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——大展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金鱼草——繁荣昌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ef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Times New Roman"/>
                <a:ea typeface="仿宋_GB2312"/>
              </a:rPr>
              <a:t>粉风信子——倾慕、浪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64500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5157720"/>
            <a:ext cx="10666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371628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44720" y="4762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380880"/>
            <a:ext cx="6553440" cy="5943600"/>
          </a:xfrm>
          <a:prstGeom prst="verticalScroll">
            <a:avLst>
              <a:gd name="adj" fmla="val 12500"/>
            </a:avLst>
          </a:prstGeom>
          <a:solidFill>
            <a:srgbClr val="0099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70028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万年青——友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兰花——优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剑兰——步步高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松柏——坚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橄榄枝——和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梅花——刚毅不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竹子——正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红茶花——质朴、美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牵牛花——爱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efde3"/>
                </a:solidFill>
                <a:latin typeface="Times New Roman"/>
              </a:rPr>
              <a:t>丁香花——谦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2536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2819520"/>
            <a:ext cx="1333440" cy="1314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33360"/>
            <a:ext cx="1395360" cy="158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2997360"/>
            <a:ext cx="1324080" cy="2160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4648320"/>
            <a:ext cx="133380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9528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丁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松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9920" y="1371600"/>
            <a:ext cx="9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万年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二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的六要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5W+1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133720"/>
            <a:ext cx="380880" cy="3429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送给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666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为什么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送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何时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什么场合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OW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如何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十、送花的时机与场合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鲜花因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品种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类型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颜色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数量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的不同，被人们赋予了不同的寓意，以此来表达不同的情感。送花应注意把握最佳时机，选择合适的场合。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恭贺结婚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祝贺生产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乔迁庆典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庆祝生辰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慰问探视  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节日问候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620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情人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日）送红玫瑰表达情人之间的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母亲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的第二个星期日）粉红色的香石竹（康乃馨）“母亲之花”“神圣之花”，萱草“金针花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父亲节（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月的第三个星期日）送秋石斛为主。菊花、向日葵、百合、君子兰、文心兰等象征“尊敬父亲”“平凡也伟大”。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m03\flash\LYdh3-2.sw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326880"/>
            <a:ext cx="1727280" cy="1284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12840"/>
            <a:ext cx="1440000" cy="1244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333360"/>
            <a:ext cx="1440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</a:rPr>
              <a:t>十一、送花的形式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620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日常社交生活中赠送鲜花，可以根据对象、场合等不同情况，分别送花束、花篮、盆花、插花、头花、胸花、花环、花圈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送花以鲜花为佳，干花、纸花则不宜，更不可送枯萎的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4936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500280"/>
            <a:ext cx="1333800" cy="1333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718-9486-4D29-87B7-092CF380F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</a:rPr>
              <a:t>十二、送花的禁忌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4729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解花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品种禁忌      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色彩忌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鲜花数目忌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顾场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ff"/>
                </a:solidFill>
                <a:latin typeface="Times New Roman"/>
              </a:rPr>
              <a:t>、忌不懂习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对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馈赠时要考虑的因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514600"/>
            <a:ext cx="1600200" cy="1905120"/>
          </a:xfrm>
          <a:prstGeom prst="rightArrowCallout">
            <a:avLst>
              <a:gd name="adj1" fmla="val 29767"/>
              <a:gd name="adj2" fmla="val 2976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895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514600"/>
            <a:ext cx="1371600" cy="1905120"/>
          </a:xfrm>
          <a:prstGeom prst="rightArrowCallout">
            <a:avLst>
              <a:gd name="adj1" fmla="val 34727"/>
              <a:gd name="adj2" fmla="val 3472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514600"/>
            <a:ext cx="1371600" cy="1905120"/>
          </a:xfrm>
          <a:prstGeom prst="rightArrowCallout">
            <a:avLst>
              <a:gd name="adj1" fmla="val 34727"/>
              <a:gd name="adj2" fmla="val 34724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职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0292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419720"/>
            <a:ext cx="1371600" cy="1904760"/>
          </a:xfrm>
          <a:prstGeom prst="rightArrowCallout">
            <a:avLst>
              <a:gd name="adj1" fmla="val 34721"/>
              <a:gd name="adj2" fmla="val 34718"/>
              <a:gd name="adj3" fmla="val 16667"/>
              <a:gd name="adj4" fmla="val 66667"/>
            </a:avLst>
          </a:prstGeom>
          <a:solidFill>
            <a:srgbClr val="3694b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8006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喜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赠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一束鲜花、一张卡片、一件纪念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赠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书面留言、口头留言、临别留言、毕业留言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852640"/>
            <a:ext cx="1323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2852640"/>
            <a:ext cx="132372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2924280"/>
            <a:ext cx="13334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8000" y="5229360"/>
            <a:ext cx="1254240" cy="1083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80000" y="5157720"/>
            <a:ext cx="13237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5084640"/>
            <a:ext cx="1324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礼品的标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情感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独创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时尚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、适俗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844640"/>
            <a:ext cx="2376360" cy="2270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4541760"/>
            <a:ext cx="2904840" cy="1839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2602080"/>
            <a:ext cx="2016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礼品的场合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表示谢意敬意 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祝贺庆典活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公共关系礼品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祝贺开张开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适逢重大节日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探视住院病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应邀家中做客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遭受不测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58136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4508640"/>
            <a:ext cx="223344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508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馈赠方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亲自赠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托人赠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邮寄运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5013360"/>
            <a:ext cx="215892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58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三、礼品的选择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54496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根据馈赠目的选择礼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公司庆典一般送鲜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慰问病人可以送鲜花、营养品、书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朋友生日送卡片、蛋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节日庆祝送健康食品、当地特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旅游归来送人文景观纪念品、当地特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、走亲访友送精致水果、糖酒食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341360"/>
            <a:ext cx="105732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141720"/>
            <a:ext cx="132408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4797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08720" y="1484280"/>
            <a:ext cx="1333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根据馈赠对象选择礼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考虑彼此的关系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如：亲缘关系、也缘关系、性别关系、友谊关系、文化习惯关系、偶发性关系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、了解受赠对象的爱好何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如：给书法爱好者送文房四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给音乐爱好者送乐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45000"/>
            <a:ext cx="13334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6:36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38:46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