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4DC-CCD9-4EAF-AEDD-7C52DBA28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D15D-99F3-4D2D-AD15-58ADBF263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6526-350C-4808-A872-FAE4B1E6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8DF-0F6C-4A38-B1FE-A810F2E35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03D-D7C7-40DA-A5E6-04229433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2B4C-952E-4AC3-AD7C-4FA01E0E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7A4-4231-44F9-8723-B87DF2C3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F1BE-9D0D-483F-A8D7-F98402F1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B7A3-038C-4717-95AC-E8842924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6B5-792A-4C49-A7E5-B976C17E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62A-4D52-4BB9-8A21-FD07AC47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D41C-94F0-4C6F-B12B-8DB151A1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8783-E0E1-4088-A5C7-C47850D5EF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92360" y="620640"/>
            <a:ext cx="5688000" cy="5688000"/>
            <a:chOff x="1692360" y="620640"/>
            <a:chExt cx="5688000" cy="5688000"/>
          </a:xfrm>
        </p:grpSpPr>
        <p:sp>
          <p:nvSpPr>
            <p:cNvPr id="42" name="矩形 17"/>
            <p:cNvSpPr/>
            <p:nvPr/>
          </p:nvSpPr>
          <p:spPr>
            <a:xfrm>
              <a:off x="4060800" y="422100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2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3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4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5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6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7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8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9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0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1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2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3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4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00ff"/>
                  </a:solidFill>
                  <a:uFillTx/>
                  <a:latin typeface="Calibri"/>
                  <a:hlinkClick r:id="rId15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" name="Picture 2" descr="E:\Users\Admin\Desktop\cake.png"/>
            <p:cNvPicPr/>
            <p:nvPr/>
          </p:nvPicPr>
          <p:blipFill>
            <a:blip r:embed="rId16"/>
            <a:stretch/>
          </p:blipFill>
          <p:spPr>
            <a:xfrm>
              <a:off x="1692360" y="620640"/>
              <a:ext cx="5688000" cy="568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Picture 3" descr="E:\Users\Admin\Desktop\火焰.png"/>
          <p:cNvPicPr/>
          <p:nvPr/>
        </p:nvPicPr>
        <p:blipFill>
          <a:blip r:embed="rId17"/>
          <a:stretch/>
        </p:blipFill>
        <p:spPr>
          <a:xfrm>
            <a:off x="2077920" y="1276200"/>
            <a:ext cx="1314720" cy="123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E:\Users\Admin\Desktop\火焰.png"/>
          <p:cNvPicPr/>
          <p:nvPr/>
        </p:nvPicPr>
        <p:blipFill>
          <a:blip r:embed="rId18"/>
          <a:stretch/>
        </p:blipFill>
        <p:spPr>
          <a:xfrm>
            <a:off x="2639880" y="47628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E:\Users\Admin\Desktop\火焰.png"/>
          <p:cNvPicPr/>
          <p:nvPr/>
        </p:nvPicPr>
        <p:blipFill>
          <a:blip r:embed="rId19"/>
          <a:stretch/>
        </p:blipFill>
        <p:spPr>
          <a:xfrm>
            <a:off x="3905280" y="476280"/>
            <a:ext cx="1314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E:\Users\Admin\Desktop\火焰.png"/>
          <p:cNvPicPr/>
          <p:nvPr/>
        </p:nvPicPr>
        <p:blipFill>
          <a:blip r:embed="rId20"/>
          <a:stretch/>
        </p:blipFill>
        <p:spPr>
          <a:xfrm>
            <a:off x="5175360" y="620640"/>
            <a:ext cx="1314360" cy="1230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E:\Users\Admin\Desktop\火焰.png"/>
          <p:cNvPicPr/>
          <p:nvPr/>
        </p:nvPicPr>
        <p:blipFill>
          <a:blip r:embed="rId21"/>
          <a:stretch/>
        </p:blipFill>
        <p:spPr>
          <a:xfrm>
            <a:off x="3186000" y="148428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E:\Users\Admin\Desktop\火焰.png"/>
          <p:cNvPicPr/>
          <p:nvPr/>
        </p:nvPicPr>
        <p:blipFill>
          <a:blip r:embed="rId22"/>
          <a:stretch/>
        </p:blipFill>
        <p:spPr>
          <a:xfrm>
            <a:off x="4844880" y="1517760"/>
            <a:ext cx="1314720" cy="1230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E:\Users\Admin\Desktop\火焰.png"/>
          <p:cNvPicPr/>
          <p:nvPr/>
        </p:nvPicPr>
        <p:blipFill>
          <a:blip r:embed="rId23"/>
          <a:stretch/>
        </p:blipFill>
        <p:spPr>
          <a:xfrm>
            <a:off x="5823000" y="119700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E:\Users\Admin\Desktop\火焰.png"/>
          <p:cNvPicPr/>
          <p:nvPr/>
        </p:nvPicPr>
        <p:blipFill>
          <a:blip r:embed="rId24"/>
          <a:stretch/>
        </p:blipFill>
        <p:spPr>
          <a:xfrm>
            <a:off x="2050920" y="1268280"/>
            <a:ext cx="1316160" cy="1230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E:\Users\Admin\Desktop\火焰.png"/>
          <p:cNvPicPr/>
          <p:nvPr/>
        </p:nvPicPr>
        <p:blipFill>
          <a:blip r:embed="rId25"/>
          <a:stretch/>
        </p:blipFill>
        <p:spPr>
          <a:xfrm>
            <a:off x="2612880" y="509760"/>
            <a:ext cx="1314720" cy="1230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E:\Users\Admin\Desktop\火焰.png"/>
          <p:cNvPicPr/>
          <p:nvPr/>
        </p:nvPicPr>
        <p:blipFill>
          <a:blip r:embed="rId26"/>
          <a:stretch/>
        </p:blipFill>
        <p:spPr>
          <a:xfrm>
            <a:off x="3878280" y="50976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E:\Users\Admin\Desktop\火焰.png"/>
          <p:cNvPicPr/>
          <p:nvPr/>
        </p:nvPicPr>
        <p:blipFill>
          <a:blip r:embed="rId27"/>
          <a:stretch/>
        </p:blipFill>
        <p:spPr>
          <a:xfrm>
            <a:off x="5148360" y="654120"/>
            <a:ext cx="1314360" cy="12301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E:\Users\Admin\Desktop\火焰.png"/>
          <p:cNvPicPr/>
          <p:nvPr/>
        </p:nvPicPr>
        <p:blipFill>
          <a:blip r:embed="rId28"/>
          <a:stretch/>
        </p:blipFill>
        <p:spPr>
          <a:xfrm>
            <a:off x="3159000" y="1517760"/>
            <a:ext cx="1314720" cy="1231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Users\Admin\Desktop\火焰.png"/>
          <p:cNvPicPr/>
          <p:nvPr/>
        </p:nvPicPr>
        <p:blipFill>
          <a:blip r:embed="rId29"/>
          <a:stretch/>
        </p:blipFill>
        <p:spPr>
          <a:xfrm>
            <a:off x="4818240" y="1550880"/>
            <a:ext cx="1314360" cy="1230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E:\Users\Admin\Desktop\火焰.png"/>
          <p:cNvPicPr/>
          <p:nvPr/>
        </p:nvPicPr>
        <p:blipFill>
          <a:blip r:embed="rId30"/>
          <a:stretch/>
        </p:blipFill>
        <p:spPr>
          <a:xfrm>
            <a:off x="5796000" y="1230480"/>
            <a:ext cx="1314360" cy="1230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3285000" y="44280"/>
            <a:ext cx="27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生日祝福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67E-0B0E-4244-B28E-093318B601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7T13:30:1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1:00Z</dcterms:modified>
  <cp:revision>2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