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5C6-31AB-4DFF-BCB8-12EF9FB9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3F6-35C6-4970-B51B-AC85DBC4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BE1-EF2E-41EF-AC0E-D72D89BB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74F-4ED9-4DBC-8C20-0EFA4270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9D1-ECB0-424F-B8E3-91E3F269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2B4-59E9-49D2-8948-01F2CDD4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945-D83E-4CD8-AFD4-9C67D497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3C8-A4AE-491E-B9BD-D103B91A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E76-165B-416F-B0A4-79286B86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093-AAAF-44C6-8B01-8A1B338C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597-9E9A-4B97-9A22-ACB09F56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10D-F17C-40B9-BF84-4C0C49BC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4AF8-DB65-4BD8-B13F-97D9AC5F2B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8095-CB53-4F81-AC46-61F98585B3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9280" y="52610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9280" y="480348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863a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2892600" y="3276720"/>
            <a:ext cx="777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40040" y="640728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39960" y="6984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玫瑰花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9280" y="144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060560" y="526104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1320" y="27432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1320" y="1444320"/>
            <a:ext cx="6710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028-3B67-424A-9C42-ED89601615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4320"/>
            <a:ext cx="40402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923c"/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072880"/>
            <a:ext cx="40402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4720" y="1444320"/>
            <a:ext cx="40417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923c"/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2072880"/>
            <a:ext cx="404172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20:43Z</dcterms:modified>
  <cp:revision>2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