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9719-981E-4B2F-9168-2D8C919D3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822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252680"/>
            <a:ext cx="822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045F-0077-42F6-B988-B3D4F6942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83996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25268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25268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A4DF-B7A3-4131-ADF3-74F44E8C2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264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839960"/>
            <a:ext cx="264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839960"/>
            <a:ext cx="264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252680"/>
            <a:ext cx="264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252680"/>
            <a:ext cx="264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252680"/>
            <a:ext cx="264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EC67-070B-4510-AD50-A5C943B71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64685-A335-4100-8C02-061A30227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83996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943F3-8057-4F77-9F0F-357FD7ECD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EAC02-27D7-4DB2-B552-4214E06F5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40158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839960"/>
            <a:ext cx="40158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5D7B2-ED7F-4246-830C-63F5351FB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4F9D4-774E-4B15-9521-23F6B4227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828440" y="380880"/>
            <a:ext cx="65530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C21F9-C7A9-4872-A842-41F1E2763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39960"/>
            <a:ext cx="40158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25268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947A7-B9CE-453B-9155-E35940002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83996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AE42-0045-47A9-ABBC-13F96DA94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40158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83996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25268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CF90C-FEBA-475A-B2D1-D102D71B1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3996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252680"/>
            <a:ext cx="822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BA26F-9988-4082-B6CF-0EE4B96D4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822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252680"/>
            <a:ext cx="822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1EAC9-BB54-4F00-B4E7-5311761D1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83996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5268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25268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CED48-9A15-41E3-8D3F-2BAAC078B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264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839960"/>
            <a:ext cx="264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839960"/>
            <a:ext cx="264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252680"/>
            <a:ext cx="264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252680"/>
            <a:ext cx="264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252680"/>
            <a:ext cx="264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9E54D-5D99-4EB5-A0E5-7F2BFA2B6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D977-54DC-49B4-9798-9EDABEAA1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40158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839960"/>
            <a:ext cx="40158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93CC-51CE-4E9B-A5ED-090CCE124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0EFA-829F-44F7-B355-907D00E5F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828440" y="380880"/>
            <a:ext cx="65530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20F9-2508-44A7-8890-27836C616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39960"/>
            <a:ext cx="40158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25268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7576-B6FD-4DC1-8FCC-F98DE3F41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40158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83996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25268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BF0B-99AB-4A7C-9FA9-E3231EBAE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3996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39960"/>
            <a:ext cx="40158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52680"/>
            <a:ext cx="8229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91B6-DDFF-45FD-B34F-A49AED705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PPP_SHOLI_TXT_Leprechaun_Hat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83996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55272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64400" y="6552720"/>
            <a:ext cx="2133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 baseline="-25000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9C319-6EDB-4342-B39C-FE217AF32FAB}" type="slidenum">
              <a:rPr b="0" lang="en-US" sz="1000" spc="-1" strike="noStrike" baseline="-25000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PPP_SHOLI_TLE_Leprechaun_Hat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83996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228240" y="655272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764400" y="6552720"/>
            <a:ext cx="2133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 baseline="-25000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CC95F-78E2-473E-AF6C-319CECC3D089}" type="slidenum">
              <a:rPr b="0" lang="en-US" sz="1000" spc="-1" strike="noStrike" baseline="-25000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4"/>
          <p:cNvSpPr/>
          <p:nvPr/>
        </p:nvSpPr>
        <p:spPr>
          <a:xfrm>
            <a:off x="0" y="5445000"/>
            <a:ext cx="76212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6360" y="6453360"/>
            <a:ext cx="508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464920" y="3286080"/>
            <a:ext cx="375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帽子</a:t>
            </a: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免费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8334-5203-46F2-8A44-55913092F15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9T19:02:16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3:04:31Z</dcterms:modified>
  <cp:revision>11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