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B92-FD9F-4C59-9432-E81EDED7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DEC-02FB-44B8-A627-6F74999E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9E1-0863-4A94-AB0C-13F647F5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A77-1103-44F5-BFA5-9EB90563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5D3-D70D-46A8-A271-F521950A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260-D2AE-4534-8D03-6FA4C262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A4A-BFC9-4188-B5C5-D0BF852F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9AB-FAAA-4D23-B194-A0C8E36C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29F-53DE-4B47-A5C2-EBD2E09C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4BA8-7DA2-438A-AEB1-699F13A9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42F-ACF0-4F53-9E0B-EE46DD2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A28-3F0C-43EF-93C1-6233E6A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3520"/>
            <a:ext cx="213372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3520"/>
            <a:ext cx="289584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3520"/>
            <a:ext cx="213372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66F8-E10E-4078-8B79-9FB509EF3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-36360" y="0"/>
            <a:ext cx="9144000" cy="6121440"/>
          </a:xfrm>
          <a:prstGeom prst="rect">
            <a:avLst/>
          </a:prstGeom>
          <a:gradFill rotWithShape="0">
            <a:gsLst>
              <a:gs pos="0">
                <a:srgbClr val="ff99cc">
                  <a:alpha val="5215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5375160" y="3751200"/>
            <a:ext cx="606600" cy="320760"/>
          </a:xfrm>
          <a:prstGeom prst="octagon">
            <a:avLst>
              <a:gd name="adj" fmla="val 30972"/>
            </a:avLst>
          </a:prstGeom>
          <a:solidFill>
            <a:srgbClr val="ffff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4"/>
          <p:cNvSpPr/>
          <p:nvPr/>
        </p:nvSpPr>
        <p:spPr>
          <a:xfrm rot="19410600">
            <a:off x="6719400" y="5347800"/>
            <a:ext cx="365400" cy="39528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3922560" y="4200480"/>
            <a:ext cx="303480" cy="128520"/>
          </a:xfrm>
          <a:prstGeom prst="pie">
            <a:avLst/>
          </a:prstGeom>
          <a:noFill/>
          <a:ln w="158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6"/>
          <p:cNvSpPr/>
          <p:nvPr/>
        </p:nvSpPr>
        <p:spPr>
          <a:xfrm>
            <a:off x="3527280" y="4071960"/>
            <a:ext cx="820800" cy="546120"/>
          </a:xfrm>
          <a:prstGeom prst="pie">
            <a:avLst/>
          </a:prstGeom>
          <a:noFill/>
          <a:ln w="19080">
            <a:solidFill>
              <a:srgbClr val="ff99cc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4408560" y="2465280"/>
            <a:ext cx="446040" cy="59868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9942200">
            <a:off x="4408560" y="1865160"/>
            <a:ext cx="617400" cy="1971720"/>
          </a:xfrm>
          <a:prstGeom prst="pie">
            <a:avLst/>
          </a:prstGeom>
          <a:noFill/>
          <a:ln w="255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20287800">
            <a:off x="6550200" y="2658960"/>
            <a:ext cx="2054160" cy="970200"/>
          </a:xfrm>
          <a:prstGeom prst="pie">
            <a:avLst/>
          </a:prstGeom>
          <a:noFill/>
          <a:ln w="25560">
            <a:solidFill>
              <a:srgbClr val="ff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 rot="10088400">
            <a:off x="3617280" y="4650480"/>
            <a:ext cx="1398600" cy="320760"/>
          </a:xfrm>
          <a:prstGeom prst="pie">
            <a:avLst/>
          </a:prstGeom>
          <a:noFill/>
          <a:ln w="255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"/>
          <p:cNvSpPr/>
          <p:nvPr/>
        </p:nvSpPr>
        <p:spPr>
          <a:xfrm>
            <a:off x="5640480" y="4906800"/>
            <a:ext cx="774720" cy="1177920"/>
          </a:xfrm>
          <a:prstGeom prst="pie">
            <a:avLst/>
          </a:prstGeom>
          <a:noFill/>
          <a:ln w="255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4156200" y="4511520"/>
            <a:ext cx="496800" cy="52560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3"/>
          <p:cNvSpPr/>
          <p:nvPr/>
        </p:nvSpPr>
        <p:spPr>
          <a:xfrm>
            <a:off x="4408560" y="2400480"/>
            <a:ext cx="577800" cy="663480"/>
          </a:xfrm>
          <a:prstGeom prst="pie">
            <a:avLst/>
          </a:prstGeom>
          <a:noFill/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4"/>
          <p:cNvSpPr/>
          <p:nvPr/>
        </p:nvSpPr>
        <p:spPr>
          <a:xfrm rot="20643000">
            <a:off x="6659640" y="3171960"/>
            <a:ext cx="768240" cy="53496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>
            <a:off x="6597720" y="3429000"/>
            <a:ext cx="790560" cy="579600"/>
          </a:xfrm>
          <a:prstGeom prst="pie">
            <a:avLst/>
          </a:prstGeom>
          <a:noFill/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6"/>
          <p:cNvSpPr/>
          <p:nvPr/>
        </p:nvSpPr>
        <p:spPr>
          <a:xfrm>
            <a:off x="6842160" y="3171960"/>
            <a:ext cx="434880" cy="64296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7"/>
          <p:cNvSpPr/>
          <p:nvPr/>
        </p:nvSpPr>
        <p:spPr>
          <a:xfrm>
            <a:off x="5684760" y="4983120"/>
            <a:ext cx="547920" cy="374760"/>
          </a:xfrm>
          <a:prstGeom prst="pie">
            <a:avLst/>
          </a:prstGeom>
          <a:noFill/>
          <a:ln w="12600">
            <a:solidFill>
              <a:srgbClr val="ff339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8"/>
          <p:cNvSpPr/>
          <p:nvPr/>
        </p:nvSpPr>
        <p:spPr>
          <a:xfrm rot="20044200">
            <a:off x="5259240" y="4970160"/>
            <a:ext cx="427320" cy="22536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9"/>
          <p:cNvSpPr/>
          <p:nvPr/>
        </p:nvSpPr>
        <p:spPr>
          <a:xfrm>
            <a:off x="5199120" y="5037120"/>
            <a:ext cx="527040" cy="898560"/>
          </a:xfrm>
          <a:prstGeom prst="pie">
            <a:avLst/>
          </a:prstGeom>
          <a:noFill/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0"/>
          <p:cNvSpPr/>
          <p:nvPr/>
        </p:nvSpPr>
        <p:spPr>
          <a:xfrm>
            <a:off x="4043520" y="4908600"/>
            <a:ext cx="598320" cy="512640"/>
          </a:xfrm>
          <a:prstGeom prst="pie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"/>
          <p:cNvSpPr/>
          <p:nvPr/>
        </p:nvSpPr>
        <p:spPr>
          <a:xfrm rot="20461200">
            <a:off x="7448040" y="5100480"/>
            <a:ext cx="122400" cy="641520"/>
          </a:xfrm>
          <a:prstGeom prst="pie">
            <a:avLst/>
          </a:prstGeom>
          <a:noFill/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2"/>
          <p:cNvSpPr/>
          <p:nvPr/>
        </p:nvSpPr>
        <p:spPr>
          <a:xfrm>
            <a:off x="7510320" y="4457880"/>
            <a:ext cx="425520" cy="385560"/>
          </a:xfrm>
          <a:prstGeom prst="pie">
            <a:avLst/>
          </a:prstGeom>
          <a:noFill/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3"/>
          <p:cNvSpPr/>
          <p:nvPr/>
        </p:nvSpPr>
        <p:spPr>
          <a:xfrm>
            <a:off x="6060960" y="5037120"/>
            <a:ext cx="354240" cy="318960"/>
          </a:xfrm>
          <a:prstGeom prst="pie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4"/>
          <p:cNvSpPr/>
          <p:nvPr/>
        </p:nvSpPr>
        <p:spPr>
          <a:xfrm rot="4635000">
            <a:off x="3935160" y="2765160"/>
            <a:ext cx="460440" cy="60984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5"/>
          <p:cNvSpPr/>
          <p:nvPr/>
        </p:nvSpPr>
        <p:spPr>
          <a:xfrm>
            <a:off x="5003640" y="2413080"/>
            <a:ext cx="928800" cy="1458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81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6"/>
          <p:cNvSpPr/>
          <p:nvPr/>
        </p:nvSpPr>
        <p:spPr>
          <a:xfrm>
            <a:off x="4083120" y="3691080"/>
            <a:ext cx="1414440" cy="11523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8100000"/>
          </a:gra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7"/>
          <p:cNvSpPr/>
          <p:nvPr/>
        </p:nvSpPr>
        <p:spPr>
          <a:xfrm>
            <a:off x="4583160" y="3895560"/>
            <a:ext cx="1162080" cy="14306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135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8"/>
          <p:cNvSpPr/>
          <p:nvPr/>
        </p:nvSpPr>
        <p:spPr>
          <a:xfrm>
            <a:off x="4280040" y="2786040"/>
            <a:ext cx="1215720" cy="1112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81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9"/>
          <p:cNvSpPr/>
          <p:nvPr/>
        </p:nvSpPr>
        <p:spPr>
          <a:xfrm>
            <a:off x="5738760" y="2657520"/>
            <a:ext cx="944640" cy="1171440"/>
          </a:xfrm>
          <a:prstGeom prst="pie">
            <a:avLst/>
          </a:prstGeom>
          <a:gradFill rotWithShape="0">
            <a:gsLst>
              <a:gs pos="0">
                <a:srgbClr val="ff3399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0"/>
          <p:cNvSpPr/>
          <p:nvPr/>
        </p:nvSpPr>
        <p:spPr>
          <a:xfrm>
            <a:off x="5684760" y="3540240"/>
            <a:ext cx="1149480" cy="671400"/>
          </a:xfrm>
          <a:prstGeom prst="pie">
            <a:avLst/>
          </a:prstGeom>
          <a:gradFill rotWithShape="0">
            <a:gsLst>
              <a:gs pos="0">
                <a:srgbClr val="ff3399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1"/>
          <p:cNvSpPr/>
          <p:nvPr/>
        </p:nvSpPr>
        <p:spPr>
          <a:xfrm>
            <a:off x="5645160" y="3894120"/>
            <a:ext cx="703080" cy="12700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135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2"/>
          <p:cNvSpPr/>
          <p:nvPr/>
        </p:nvSpPr>
        <p:spPr>
          <a:xfrm rot="21262800">
            <a:off x="5969160" y="4672080"/>
            <a:ext cx="134640" cy="345960"/>
          </a:xfrm>
          <a:prstGeom prst="pie">
            <a:avLst/>
          </a:prstGeom>
          <a:solidFill>
            <a:srgbClr val="ff3399">
              <a:alpha val="49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3"/>
          <p:cNvSpPr/>
          <p:nvPr/>
        </p:nvSpPr>
        <p:spPr>
          <a:xfrm rot="9841200">
            <a:off x="6891120" y="3990960"/>
            <a:ext cx="852480" cy="6588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19860000"/>
          </a:gra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4"/>
          <p:cNvSpPr/>
          <p:nvPr/>
        </p:nvSpPr>
        <p:spPr>
          <a:xfrm rot="9841200">
            <a:off x="6697440" y="3787920"/>
            <a:ext cx="699840" cy="815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366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931800" y="4449960"/>
            <a:ext cx="879840" cy="812520"/>
            <a:chOff x="6931800" y="4449960"/>
            <a:chExt cx="879840" cy="812520"/>
          </a:xfrm>
        </p:grpSpPr>
        <p:sp>
          <p:nvSpPr>
            <p:cNvPr id="75" name="Freeform 36"/>
            <p:cNvSpPr/>
            <p:nvPr/>
          </p:nvSpPr>
          <p:spPr>
            <a:xfrm rot="9841200">
              <a:off x="7004880" y="4538520"/>
              <a:ext cx="733320" cy="6350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99"/>
                </a:gs>
              </a:gsLst>
              <a:lin ang="8100000"/>
            </a:gra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 rot="17808600">
              <a:off x="7274520" y="4529160"/>
              <a:ext cx="38160" cy="477000"/>
            </a:xfrm>
            <a:prstGeom prst="pie">
              <a:avLst/>
            </a:prstGeom>
            <a:solidFill>
              <a:srgbClr val="ff99cc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Freeform 38"/>
          <p:cNvSpPr/>
          <p:nvPr/>
        </p:nvSpPr>
        <p:spPr>
          <a:xfrm rot="9841200">
            <a:off x="6841800" y="4638240"/>
            <a:ext cx="558720" cy="8319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1986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9"/>
          <p:cNvSpPr/>
          <p:nvPr/>
        </p:nvSpPr>
        <p:spPr>
          <a:xfrm rot="9841200">
            <a:off x="6373440" y="4744800"/>
            <a:ext cx="568440" cy="669960"/>
          </a:xfrm>
          <a:prstGeom prst="pie">
            <a:avLst/>
          </a:prstGeom>
          <a:gradFill rotWithShape="0">
            <a:gsLst>
              <a:gs pos="0">
                <a:srgbClr val="ff3399"/>
              </a:gs>
              <a:gs pos="100000">
                <a:srgbClr val="000000"/>
              </a:gs>
            </a:gsLst>
            <a:lin ang="366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0"/>
          <p:cNvSpPr/>
          <p:nvPr/>
        </p:nvSpPr>
        <p:spPr>
          <a:xfrm rot="9841200">
            <a:off x="6181200" y="4587120"/>
            <a:ext cx="694080" cy="382680"/>
          </a:xfrm>
          <a:prstGeom prst="pie">
            <a:avLst/>
          </a:prstGeom>
          <a:gradFill rotWithShape="0">
            <a:gsLst>
              <a:gs pos="0">
                <a:srgbClr val="ff3399"/>
              </a:gs>
              <a:gs pos="100000">
                <a:srgbClr val="000000"/>
              </a:gs>
            </a:gsLst>
            <a:lin ang="366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1"/>
          <p:cNvSpPr/>
          <p:nvPr/>
        </p:nvSpPr>
        <p:spPr>
          <a:xfrm rot="9841200">
            <a:off x="6366960" y="4014360"/>
            <a:ext cx="422280" cy="7254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366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2"/>
          <p:cNvSpPr/>
          <p:nvPr/>
        </p:nvSpPr>
        <p:spPr>
          <a:xfrm rot="9504000">
            <a:off x="6465240" y="4113360"/>
            <a:ext cx="82440" cy="196560"/>
          </a:xfrm>
          <a:prstGeom prst="pie">
            <a:avLst/>
          </a:prstGeom>
          <a:solidFill>
            <a:srgbClr val="ff3399">
              <a:alpha val="49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3"/>
          <p:cNvSpPr/>
          <p:nvPr/>
        </p:nvSpPr>
        <p:spPr>
          <a:xfrm flipV="1" rot="4772400">
            <a:off x="4768920" y="3650400"/>
            <a:ext cx="126720" cy="84132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4"/>
          <p:cNvSpPr/>
          <p:nvPr/>
        </p:nvSpPr>
        <p:spPr>
          <a:xfrm flipH="1" rot="12856200">
            <a:off x="5253120" y="4008960"/>
            <a:ext cx="82440" cy="96192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5"/>
          <p:cNvSpPr/>
          <p:nvPr/>
        </p:nvSpPr>
        <p:spPr>
          <a:xfrm rot="7967400">
            <a:off x="4915800" y="3156480"/>
            <a:ext cx="141120" cy="79056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6"/>
          <p:cNvSpPr/>
          <p:nvPr/>
        </p:nvSpPr>
        <p:spPr>
          <a:xfrm rot="10545600">
            <a:off x="5497560" y="2849040"/>
            <a:ext cx="61920" cy="83664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7"/>
          <p:cNvSpPr/>
          <p:nvPr/>
        </p:nvSpPr>
        <p:spPr>
          <a:xfrm rot="2623800">
            <a:off x="6102000" y="2979720"/>
            <a:ext cx="63360" cy="83520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8"/>
          <p:cNvSpPr/>
          <p:nvPr/>
        </p:nvSpPr>
        <p:spPr>
          <a:xfrm rot="5938800">
            <a:off x="6192720" y="3606480"/>
            <a:ext cx="66600" cy="60984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9"/>
          <p:cNvSpPr/>
          <p:nvPr/>
        </p:nvSpPr>
        <p:spPr>
          <a:xfrm flipV="1" rot="20950200">
            <a:off x="5738400" y="4008600"/>
            <a:ext cx="120600" cy="88884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0"/>
          <p:cNvSpPr/>
          <p:nvPr/>
        </p:nvSpPr>
        <p:spPr>
          <a:xfrm rot="17733000">
            <a:off x="5434200" y="3449160"/>
            <a:ext cx="63720" cy="6667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1"/>
          <p:cNvSpPr/>
          <p:nvPr/>
        </p:nvSpPr>
        <p:spPr>
          <a:xfrm rot="18609000">
            <a:off x="5799240" y="3890520"/>
            <a:ext cx="63360" cy="4255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2"/>
          <p:cNvSpPr/>
          <p:nvPr/>
        </p:nvSpPr>
        <p:spPr>
          <a:xfrm rot="15670200">
            <a:off x="5249880" y="3641040"/>
            <a:ext cx="65160" cy="6685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3"/>
          <p:cNvSpPr/>
          <p:nvPr/>
        </p:nvSpPr>
        <p:spPr>
          <a:xfrm rot="12937200">
            <a:off x="5497200" y="3880800"/>
            <a:ext cx="60120" cy="44748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4"/>
          <p:cNvSpPr/>
          <p:nvPr/>
        </p:nvSpPr>
        <p:spPr>
          <a:xfrm rot="13529400">
            <a:off x="5859720" y="3442320"/>
            <a:ext cx="63360" cy="4237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5"/>
          <p:cNvSpPr/>
          <p:nvPr/>
        </p:nvSpPr>
        <p:spPr>
          <a:xfrm rot="20608800">
            <a:off x="5557320" y="3236400"/>
            <a:ext cx="60480" cy="70488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6"/>
          <p:cNvSpPr/>
          <p:nvPr/>
        </p:nvSpPr>
        <p:spPr>
          <a:xfrm rot="16729800">
            <a:off x="5982480" y="3697920"/>
            <a:ext cx="63360" cy="4237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7"/>
          <p:cNvSpPr/>
          <p:nvPr/>
        </p:nvSpPr>
        <p:spPr>
          <a:xfrm rot="20344800">
            <a:off x="5678640" y="3879720"/>
            <a:ext cx="60120" cy="44928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8"/>
          <p:cNvSpPr/>
          <p:nvPr/>
        </p:nvSpPr>
        <p:spPr>
          <a:xfrm rot="18261600">
            <a:off x="5859360" y="3827880"/>
            <a:ext cx="63360" cy="42516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 rot="15198000">
            <a:off x="5918760" y="3569400"/>
            <a:ext cx="63360" cy="42408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0"/>
          <p:cNvSpPr/>
          <p:nvPr/>
        </p:nvSpPr>
        <p:spPr>
          <a:xfrm rot="19200000">
            <a:off x="5497560" y="3557160"/>
            <a:ext cx="60120" cy="3841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1"/>
          <p:cNvSpPr/>
          <p:nvPr/>
        </p:nvSpPr>
        <p:spPr>
          <a:xfrm rot="763200">
            <a:off x="5678280" y="3494160"/>
            <a:ext cx="60120" cy="38268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2"/>
          <p:cNvSpPr/>
          <p:nvPr/>
        </p:nvSpPr>
        <p:spPr>
          <a:xfrm rot="14365800">
            <a:off x="5432760" y="3828240"/>
            <a:ext cx="63360" cy="4237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 rot="16686000">
            <a:off x="5371920" y="3571920"/>
            <a:ext cx="63360" cy="54936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124600" y="3415680"/>
            <a:ext cx="952200" cy="851040"/>
            <a:chOff x="5124600" y="3415680"/>
            <a:chExt cx="952200" cy="851040"/>
          </a:xfrm>
        </p:grpSpPr>
        <p:sp>
          <p:nvSpPr>
            <p:cNvPr id="104" name="Oval 65"/>
            <p:cNvSpPr/>
            <p:nvPr/>
          </p:nvSpPr>
          <p:spPr>
            <a:xfrm rot="20149800">
              <a:off x="5552640" y="3443760"/>
              <a:ext cx="48600" cy="54072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6"/>
            <p:cNvSpPr/>
            <p:nvPr/>
          </p:nvSpPr>
          <p:spPr>
            <a:xfrm rot="21025800">
              <a:off x="5619240" y="3920760"/>
              <a:ext cx="48960" cy="3441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 rot="18087000">
              <a:off x="5343480" y="3459960"/>
              <a:ext cx="48960" cy="54072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8"/>
            <p:cNvSpPr/>
            <p:nvPr/>
          </p:nvSpPr>
          <p:spPr>
            <a:xfrm rot="15353400">
              <a:off x="5430600" y="3770280"/>
              <a:ext cx="48600" cy="34272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9"/>
            <p:cNvSpPr/>
            <p:nvPr/>
          </p:nvSpPr>
          <p:spPr>
            <a:xfrm rot="15946200">
              <a:off x="5879520" y="3690360"/>
              <a:ext cx="48960" cy="34308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 rot="1425600">
              <a:off x="5723280" y="3402360"/>
              <a:ext cx="48600" cy="5403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 rot="19146600">
              <a:off x="5828400" y="3904200"/>
              <a:ext cx="48600" cy="34308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2"/>
            <p:cNvSpPr/>
            <p:nvPr/>
          </p:nvSpPr>
          <p:spPr>
            <a:xfrm rot="1161600">
              <a:off x="5543640" y="3865320"/>
              <a:ext cx="48960" cy="34380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 rot="20678400">
              <a:off x="5688720" y="3915000"/>
              <a:ext cx="48600" cy="3441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 rot="17614800">
              <a:off x="5852520" y="3796200"/>
              <a:ext cx="48960" cy="34308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 rot="16800">
              <a:off x="5607360" y="3587040"/>
              <a:ext cx="48600" cy="2937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6"/>
            <p:cNvSpPr/>
            <p:nvPr/>
          </p:nvSpPr>
          <p:spPr>
            <a:xfrm rot="3180000">
              <a:off x="5752080" y="3645000"/>
              <a:ext cx="48960" cy="2937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 rot="16782600">
              <a:off x="5424480" y="3691080"/>
              <a:ext cx="48600" cy="34308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8"/>
            <p:cNvSpPr/>
            <p:nvPr/>
          </p:nvSpPr>
          <p:spPr>
            <a:xfrm rot="19102800">
              <a:off x="5482080" y="3496680"/>
              <a:ext cx="48960" cy="4442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181840" y="3598200"/>
            <a:ext cx="847440" cy="777240"/>
            <a:chOff x="5181840" y="3598200"/>
            <a:chExt cx="847440" cy="777240"/>
          </a:xfrm>
        </p:grpSpPr>
        <p:sp>
          <p:nvSpPr>
            <p:cNvPr id="119" name="Oval 80"/>
            <p:cNvSpPr/>
            <p:nvPr/>
          </p:nvSpPr>
          <p:spPr>
            <a:xfrm rot="20149800">
              <a:off x="5562360" y="3641040"/>
              <a:ext cx="45360" cy="4759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 rot="21025800">
              <a:off x="5613840" y="4070520"/>
              <a:ext cx="45360" cy="3031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2"/>
            <p:cNvSpPr/>
            <p:nvPr/>
          </p:nvSpPr>
          <p:spPr>
            <a:xfrm rot="18087000">
              <a:off x="5373720" y="3661920"/>
              <a:ext cx="45360" cy="4759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3"/>
            <p:cNvSpPr/>
            <p:nvPr/>
          </p:nvSpPr>
          <p:spPr>
            <a:xfrm rot="15353400">
              <a:off x="5448960" y="3929760"/>
              <a:ext cx="42840" cy="3193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 rot="15946200">
              <a:off x="5853960" y="3854160"/>
              <a:ext cx="45360" cy="3020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 rot="1425600">
              <a:off x="5719320" y="3585240"/>
              <a:ext cx="42840" cy="50328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6"/>
            <p:cNvSpPr/>
            <p:nvPr/>
          </p:nvSpPr>
          <p:spPr>
            <a:xfrm rot="19146600">
              <a:off x="5802120" y="4050720"/>
              <a:ext cx="45360" cy="3020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7"/>
            <p:cNvSpPr/>
            <p:nvPr/>
          </p:nvSpPr>
          <p:spPr>
            <a:xfrm rot="1161600">
              <a:off x="5547960" y="4012920"/>
              <a:ext cx="42840" cy="32040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8"/>
            <p:cNvSpPr/>
            <p:nvPr/>
          </p:nvSpPr>
          <p:spPr>
            <a:xfrm rot="20678400">
              <a:off x="5676120" y="4063320"/>
              <a:ext cx="45360" cy="3031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9"/>
            <p:cNvSpPr/>
            <p:nvPr/>
          </p:nvSpPr>
          <p:spPr>
            <a:xfrm rot="17614800">
              <a:off x="5827320" y="3951360"/>
              <a:ext cx="45360" cy="3020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0"/>
            <p:cNvSpPr/>
            <p:nvPr/>
          </p:nvSpPr>
          <p:spPr>
            <a:xfrm rot="16800">
              <a:off x="5613480" y="3759120"/>
              <a:ext cx="42840" cy="27396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1"/>
            <p:cNvSpPr/>
            <p:nvPr/>
          </p:nvSpPr>
          <p:spPr>
            <a:xfrm rot="3180000">
              <a:off x="5741280" y="3808080"/>
              <a:ext cx="42840" cy="27396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2"/>
            <p:cNvSpPr/>
            <p:nvPr/>
          </p:nvSpPr>
          <p:spPr>
            <a:xfrm rot="16782600">
              <a:off x="5443920" y="3867120"/>
              <a:ext cx="45360" cy="3020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3"/>
            <p:cNvSpPr/>
            <p:nvPr/>
          </p:nvSpPr>
          <p:spPr>
            <a:xfrm rot="19102800">
              <a:off x="5499000" y="3689640"/>
              <a:ext cx="45360" cy="39096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130720" y="3895560"/>
            <a:ext cx="601560" cy="176040"/>
            <a:chOff x="5130720" y="3895560"/>
            <a:chExt cx="601560" cy="176040"/>
          </a:xfrm>
        </p:grpSpPr>
        <p:sp>
          <p:nvSpPr>
            <p:cNvPr id="134" name="Freeform 95"/>
            <p:cNvSpPr/>
            <p:nvPr/>
          </p:nvSpPr>
          <p:spPr>
            <a:xfrm>
              <a:off x="5185440" y="3895560"/>
              <a:ext cx="546840" cy="15048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6"/>
            <p:cNvSpPr/>
            <p:nvPr/>
          </p:nvSpPr>
          <p:spPr>
            <a:xfrm>
              <a:off x="5130720" y="4006440"/>
              <a:ext cx="121680" cy="651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245920" y="3838320"/>
            <a:ext cx="379080" cy="177840"/>
            <a:chOff x="5245920" y="3838320"/>
            <a:chExt cx="379080" cy="177840"/>
          </a:xfrm>
        </p:grpSpPr>
        <p:sp>
          <p:nvSpPr>
            <p:cNvPr id="137" name="Freeform 98"/>
            <p:cNvSpPr/>
            <p:nvPr/>
          </p:nvSpPr>
          <p:spPr>
            <a:xfrm rot="981600">
              <a:off x="5287320" y="3882960"/>
              <a:ext cx="331560" cy="8820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9"/>
            <p:cNvSpPr/>
            <p:nvPr/>
          </p:nvSpPr>
          <p:spPr>
            <a:xfrm rot="981600">
              <a:off x="5249520" y="3900600"/>
              <a:ext cx="73800" cy="381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320800" y="3795480"/>
            <a:ext cx="378720" cy="176760"/>
            <a:chOff x="5320800" y="3795480"/>
            <a:chExt cx="378720" cy="176760"/>
          </a:xfrm>
        </p:grpSpPr>
        <p:sp>
          <p:nvSpPr>
            <p:cNvPr id="140" name="Freeform 101"/>
            <p:cNvSpPr/>
            <p:nvPr/>
          </p:nvSpPr>
          <p:spPr>
            <a:xfrm rot="981600">
              <a:off x="5362200" y="3840120"/>
              <a:ext cx="331560" cy="8676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2"/>
            <p:cNvSpPr/>
            <p:nvPr/>
          </p:nvSpPr>
          <p:spPr>
            <a:xfrm rot="981600">
              <a:off x="5324400" y="3856680"/>
              <a:ext cx="73800" cy="374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459040" y="3895560"/>
            <a:ext cx="338400" cy="249120"/>
            <a:chOff x="5459040" y="3895560"/>
            <a:chExt cx="338400" cy="249120"/>
          </a:xfrm>
        </p:grpSpPr>
        <p:sp>
          <p:nvSpPr>
            <p:cNvPr id="143" name="Freeform 104"/>
            <p:cNvSpPr/>
            <p:nvPr/>
          </p:nvSpPr>
          <p:spPr>
            <a:xfrm rot="20076600">
              <a:off x="5464080" y="3962160"/>
              <a:ext cx="330480" cy="8820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05"/>
            <p:cNvSpPr/>
            <p:nvPr/>
          </p:nvSpPr>
          <p:spPr>
            <a:xfrm rot="20076600">
              <a:off x="5463360" y="4092480"/>
              <a:ext cx="73440" cy="381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28640" y="3593520"/>
            <a:ext cx="440640" cy="347760"/>
            <a:chOff x="5228640" y="3593520"/>
            <a:chExt cx="440640" cy="347760"/>
          </a:xfrm>
        </p:grpSpPr>
        <p:sp>
          <p:nvSpPr>
            <p:cNvPr id="146" name="Freeform 107"/>
            <p:cNvSpPr/>
            <p:nvPr/>
          </p:nvSpPr>
          <p:spPr>
            <a:xfrm rot="2361600">
              <a:off x="5249160" y="3723840"/>
              <a:ext cx="442800" cy="8676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8"/>
            <p:cNvSpPr/>
            <p:nvPr/>
          </p:nvSpPr>
          <p:spPr>
            <a:xfrm rot="2361600">
              <a:off x="5229000" y="3641760"/>
              <a:ext cx="98640" cy="374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87120" y="3646800"/>
            <a:ext cx="215640" cy="180000"/>
            <a:chOff x="5487120" y="3646800"/>
            <a:chExt cx="215640" cy="180000"/>
          </a:xfrm>
        </p:grpSpPr>
        <p:sp>
          <p:nvSpPr>
            <p:cNvPr id="149" name="Freeform 110"/>
            <p:cNvSpPr/>
            <p:nvPr/>
          </p:nvSpPr>
          <p:spPr>
            <a:xfrm rot="2361600">
              <a:off x="5517720" y="3692880"/>
              <a:ext cx="177480" cy="8712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 rot="2361600">
              <a:off x="5494680" y="3693240"/>
              <a:ext cx="39240" cy="378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424120" y="3740760"/>
            <a:ext cx="218520" cy="170640"/>
            <a:chOff x="5424120" y="3740760"/>
            <a:chExt cx="218520" cy="170640"/>
          </a:xfrm>
        </p:grpSpPr>
        <p:sp>
          <p:nvSpPr>
            <p:cNvPr id="152" name="Freeform 113"/>
            <p:cNvSpPr/>
            <p:nvPr/>
          </p:nvSpPr>
          <p:spPr>
            <a:xfrm rot="2026800">
              <a:off x="5455800" y="3782520"/>
              <a:ext cx="177480" cy="8676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4"/>
            <p:cNvSpPr/>
            <p:nvPr/>
          </p:nvSpPr>
          <p:spPr>
            <a:xfrm rot="2026800">
              <a:off x="5430960" y="3791520"/>
              <a:ext cx="39240" cy="374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Freeform 115"/>
          <p:cNvSpPr/>
          <p:nvPr/>
        </p:nvSpPr>
        <p:spPr>
          <a:xfrm rot="20611200">
            <a:off x="5348160" y="3982680"/>
            <a:ext cx="330480" cy="88920"/>
          </a:xfrm>
          <a:prstGeom prst="pi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6"/>
          <p:cNvSpPr/>
          <p:nvPr/>
        </p:nvSpPr>
        <p:spPr>
          <a:xfrm rot="18097800">
            <a:off x="5483880" y="3983760"/>
            <a:ext cx="350640" cy="82440"/>
          </a:xfrm>
          <a:prstGeom prst="pi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7"/>
          <p:cNvSpPr/>
          <p:nvPr/>
        </p:nvSpPr>
        <p:spPr>
          <a:xfrm rot="1605000">
            <a:off x="5103720" y="3749760"/>
            <a:ext cx="574920" cy="87120"/>
          </a:xfrm>
          <a:prstGeom prst="pi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8"/>
          <p:cNvSpPr/>
          <p:nvPr/>
        </p:nvSpPr>
        <p:spPr>
          <a:xfrm rot="9841200">
            <a:off x="6678360" y="4571640"/>
            <a:ext cx="365040" cy="182520"/>
          </a:xfrm>
          <a:prstGeom prst="octagon">
            <a:avLst>
              <a:gd name="adj" fmla="val 30972"/>
            </a:avLst>
          </a:prstGeom>
          <a:solidFill>
            <a:srgbClr val="ffff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19"/>
          <p:cNvSpPr/>
          <p:nvPr/>
        </p:nvSpPr>
        <p:spPr>
          <a:xfrm flipV="1" rot="14613600">
            <a:off x="7287840" y="4183560"/>
            <a:ext cx="73080" cy="50652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 flipH="1" rot="1098000">
            <a:off x="6967440" y="4006800"/>
            <a:ext cx="50760" cy="55044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21"/>
          <p:cNvSpPr/>
          <p:nvPr/>
        </p:nvSpPr>
        <p:spPr>
          <a:xfrm rot="20386800">
            <a:off x="7029360" y="4754160"/>
            <a:ext cx="38160" cy="47628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2"/>
          <p:cNvSpPr/>
          <p:nvPr/>
        </p:nvSpPr>
        <p:spPr>
          <a:xfrm rot="12464400">
            <a:off x="6657840" y="4782600"/>
            <a:ext cx="38160" cy="47808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23"/>
          <p:cNvSpPr/>
          <p:nvPr/>
        </p:nvSpPr>
        <p:spPr>
          <a:xfrm rot="15780600">
            <a:off x="6523560" y="4570920"/>
            <a:ext cx="38160" cy="36684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4"/>
          <p:cNvSpPr/>
          <p:nvPr/>
        </p:nvSpPr>
        <p:spPr>
          <a:xfrm flipV="1" rot="9191400">
            <a:off x="6669000" y="4132800"/>
            <a:ext cx="73080" cy="50796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5"/>
          <p:cNvSpPr/>
          <p:nvPr/>
        </p:nvSpPr>
        <p:spPr>
          <a:xfrm rot="5974200">
            <a:off x="6983280" y="4497120"/>
            <a:ext cx="36360" cy="40176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6"/>
          <p:cNvSpPr/>
          <p:nvPr/>
        </p:nvSpPr>
        <p:spPr>
          <a:xfrm rot="6850200">
            <a:off x="6723720" y="4455360"/>
            <a:ext cx="36720" cy="25704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7"/>
          <p:cNvSpPr/>
          <p:nvPr/>
        </p:nvSpPr>
        <p:spPr>
          <a:xfrm rot="3911400">
            <a:off x="7061400" y="4361760"/>
            <a:ext cx="36360" cy="40176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8"/>
          <p:cNvSpPr/>
          <p:nvPr/>
        </p:nvSpPr>
        <p:spPr>
          <a:xfrm rot="1177800">
            <a:off x="6897240" y="4403520"/>
            <a:ext cx="36720" cy="2556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9"/>
          <p:cNvSpPr/>
          <p:nvPr/>
        </p:nvSpPr>
        <p:spPr>
          <a:xfrm rot="1770600">
            <a:off x="6757560" y="4713120"/>
            <a:ext cx="36720" cy="2556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30"/>
          <p:cNvSpPr/>
          <p:nvPr/>
        </p:nvSpPr>
        <p:spPr>
          <a:xfrm rot="8850000">
            <a:off x="6943680" y="4624560"/>
            <a:ext cx="36720" cy="4032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1"/>
          <p:cNvSpPr/>
          <p:nvPr/>
        </p:nvSpPr>
        <p:spPr>
          <a:xfrm rot="4971600">
            <a:off x="6646680" y="4590720"/>
            <a:ext cx="36720" cy="2556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32"/>
          <p:cNvSpPr/>
          <p:nvPr/>
        </p:nvSpPr>
        <p:spPr>
          <a:xfrm rot="8586600">
            <a:off x="6792480" y="4435560"/>
            <a:ext cx="36720" cy="25704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3"/>
          <p:cNvSpPr/>
          <p:nvPr/>
        </p:nvSpPr>
        <p:spPr>
          <a:xfrm rot="6503400">
            <a:off x="6698160" y="4499280"/>
            <a:ext cx="36360" cy="2574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4"/>
          <p:cNvSpPr/>
          <p:nvPr/>
        </p:nvSpPr>
        <p:spPr>
          <a:xfrm rot="3439800">
            <a:off x="6703560" y="4652640"/>
            <a:ext cx="36720" cy="2556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5"/>
          <p:cNvSpPr/>
          <p:nvPr/>
        </p:nvSpPr>
        <p:spPr>
          <a:xfrm rot="7441200">
            <a:off x="6955560" y="4618800"/>
            <a:ext cx="36360" cy="21888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36"/>
          <p:cNvSpPr/>
          <p:nvPr/>
        </p:nvSpPr>
        <p:spPr>
          <a:xfrm rot="10604400">
            <a:off x="6859080" y="4684320"/>
            <a:ext cx="36720" cy="21924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7"/>
          <p:cNvSpPr/>
          <p:nvPr/>
        </p:nvSpPr>
        <p:spPr>
          <a:xfrm rot="2607000">
            <a:off x="6945480" y="4430880"/>
            <a:ext cx="36360" cy="2556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8"/>
          <p:cNvSpPr/>
          <p:nvPr/>
        </p:nvSpPr>
        <p:spPr>
          <a:xfrm rot="4927200">
            <a:off x="7010640" y="4488480"/>
            <a:ext cx="36720" cy="3301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629040" y="4458240"/>
            <a:ext cx="597240" cy="502200"/>
            <a:chOff x="6629040" y="4458240"/>
            <a:chExt cx="597240" cy="502200"/>
          </a:xfrm>
        </p:grpSpPr>
        <p:sp>
          <p:nvSpPr>
            <p:cNvPr id="179" name="Oval 140"/>
            <p:cNvSpPr/>
            <p:nvPr/>
          </p:nvSpPr>
          <p:spPr>
            <a:xfrm rot="8391600">
              <a:off x="6935400" y="4595040"/>
              <a:ext cx="27720" cy="32580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1"/>
            <p:cNvSpPr/>
            <p:nvPr/>
          </p:nvSpPr>
          <p:spPr>
            <a:xfrm rot="9267000">
              <a:off x="6830280" y="4453920"/>
              <a:ext cx="27720" cy="2073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2"/>
            <p:cNvSpPr/>
            <p:nvPr/>
          </p:nvSpPr>
          <p:spPr>
            <a:xfrm rot="6328800">
              <a:off x="7051680" y="4555440"/>
              <a:ext cx="27720" cy="32580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3"/>
            <p:cNvSpPr/>
            <p:nvPr/>
          </p:nvSpPr>
          <p:spPr>
            <a:xfrm rot="3595200">
              <a:off x="6963840" y="4515840"/>
              <a:ext cx="29160" cy="19512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4"/>
            <p:cNvSpPr/>
            <p:nvPr/>
          </p:nvSpPr>
          <p:spPr>
            <a:xfrm rot="4188000">
              <a:off x="6722280" y="4620600"/>
              <a:ext cx="27720" cy="2066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45"/>
            <p:cNvSpPr/>
            <p:nvPr/>
          </p:nvSpPr>
          <p:spPr>
            <a:xfrm rot="11266800">
              <a:off x="6844680" y="4652280"/>
              <a:ext cx="29160" cy="3074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6"/>
            <p:cNvSpPr/>
            <p:nvPr/>
          </p:nvSpPr>
          <p:spPr>
            <a:xfrm rot="7387800">
              <a:off x="6714000" y="4494240"/>
              <a:ext cx="27720" cy="2066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7"/>
            <p:cNvSpPr/>
            <p:nvPr/>
          </p:nvSpPr>
          <p:spPr>
            <a:xfrm rot="11002800">
              <a:off x="6882120" y="4479480"/>
              <a:ext cx="29520" cy="19548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8"/>
            <p:cNvSpPr/>
            <p:nvPr/>
          </p:nvSpPr>
          <p:spPr>
            <a:xfrm rot="8920200">
              <a:off x="6791760" y="4467240"/>
              <a:ext cx="27720" cy="2073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49"/>
            <p:cNvSpPr/>
            <p:nvPr/>
          </p:nvSpPr>
          <p:spPr>
            <a:xfrm rot="5856600">
              <a:off x="6719040" y="4557960"/>
              <a:ext cx="27720" cy="2066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50"/>
            <p:cNvSpPr/>
            <p:nvPr/>
          </p:nvSpPr>
          <p:spPr>
            <a:xfrm rot="9858000">
              <a:off x="6899760" y="4671720"/>
              <a:ext cx="29160" cy="1670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1"/>
            <p:cNvSpPr/>
            <p:nvPr/>
          </p:nvSpPr>
          <p:spPr>
            <a:xfrm rot="13021800">
              <a:off x="6806880" y="4660200"/>
              <a:ext cx="29520" cy="1670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52"/>
            <p:cNvSpPr/>
            <p:nvPr/>
          </p:nvSpPr>
          <p:spPr>
            <a:xfrm rot="5023800">
              <a:off x="6982560" y="4553280"/>
              <a:ext cx="27720" cy="2066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3"/>
            <p:cNvSpPr/>
            <p:nvPr/>
          </p:nvSpPr>
          <p:spPr>
            <a:xfrm rot="7344000">
              <a:off x="6974640" y="4611600"/>
              <a:ext cx="27720" cy="2678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636600" y="4394520"/>
            <a:ext cx="529920" cy="462960"/>
            <a:chOff x="6636600" y="4394520"/>
            <a:chExt cx="529920" cy="462960"/>
          </a:xfrm>
        </p:grpSpPr>
        <p:sp>
          <p:nvSpPr>
            <p:cNvPr id="194" name="Oval 155"/>
            <p:cNvSpPr/>
            <p:nvPr/>
          </p:nvSpPr>
          <p:spPr>
            <a:xfrm rot="8391600">
              <a:off x="6906600" y="4523040"/>
              <a:ext cx="25920" cy="2876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6"/>
            <p:cNvSpPr/>
            <p:nvPr/>
          </p:nvSpPr>
          <p:spPr>
            <a:xfrm rot="9267000">
              <a:off x="6816600" y="4390920"/>
              <a:ext cx="25920" cy="1832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57"/>
            <p:cNvSpPr/>
            <p:nvPr/>
          </p:nvSpPr>
          <p:spPr>
            <a:xfrm rot="6328800">
              <a:off x="7011360" y="4483440"/>
              <a:ext cx="25920" cy="2876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8"/>
            <p:cNvSpPr/>
            <p:nvPr/>
          </p:nvSpPr>
          <p:spPr>
            <a:xfrm rot="3595200">
              <a:off x="6935400" y="4440600"/>
              <a:ext cx="25920" cy="18288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9"/>
            <p:cNvSpPr/>
            <p:nvPr/>
          </p:nvSpPr>
          <p:spPr>
            <a:xfrm rot="4188000">
              <a:off x="6717240" y="4547520"/>
              <a:ext cx="25920" cy="1825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0"/>
            <p:cNvSpPr/>
            <p:nvPr/>
          </p:nvSpPr>
          <p:spPr>
            <a:xfrm rot="11266800">
              <a:off x="6824880" y="4568760"/>
              <a:ext cx="25920" cy="28800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1"/>
            <p:cNvSpPr/>
            <p:nvPr/>
          </p:nvSpPr>
          <p:spPr>
            <a:xfrm rot="7387800">
              <a:off x="6712920" y="4430520"/>
              <a:ext cx="25920" cy="1825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62"/>
            <p:cNvSpPr/>
            <p:nvPr/>
          </p:nvSpPr>
          <p:spPr>
            <a:xfrm rot="11002800">
              <a:off x="6863400" y="4408200"/>
              <a:ext cx="25920" cy="1832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3"/>
            <p:cNvSpPr/>
            <p:nvPr/>
          </p:nvSpPr>
          <p:spPr>
            <a:xfrm rot="8920200">
              <a:off x="6782040" y="4403880"/>
              <a:ext cx="25920" cy="1832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4"/>
            <p:cNvSpPr/>
            <p:nvPr/>
          </p:nvSpPr>
          <p:spPr>
            <a:xfrm rot="5856600">
              <a:off x="6715440" y="4489920"/>
              <a:ext cx="25920" cy="1825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65"/>
            <p:cNvSpPr/>
            <p:nvPr/>
          </p:nvSpPr>
          <p:spPr>
            <a:xfrm rot="9858000">
              <a:off x="6875280" y="4586040"/>
              <a:ext cx="25920" cy="15660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6"/>
            <p:cNvSpPr/>
            <p:nvPr/>
          </p:nvSpPr>
          <p:spPr>
            <a:xfrm rot="13021800">
              <a:off x="6792840" y="4578120"/>
              <a:ext cx="25920" cy="15660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7"/>
            <p:cNvSpPr/>
            <p:nvPr/>
          </p:nvSpPr>
          <p:spPr>
            <a:xfrm rot="5023800">
              <a:off x="6950160" y="4479840"/>
              <a:ext cx="25920" cy="1825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8"/>
            <p:cNvSpPr/>
            <p:nvPr/>
          </p:nvSpPr>
          <p:spPr>
            <a:xfrm rot="7344000">
              <a:off x="6941880" y="4535640"/>
              <a:ext cx="25920" cy="2365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805800" y="4484160"/>
            <a:ext cx="356040" cy="196560"/>
            <a:chOff x="6805800" y="4484160"/>
            <a:chExt cx="356040" cy="196560"/>
          </a:xfrm>
        </p:grpSpPr>
        <p:sp>
          <p:nvSpPr>
            <p:cNvPr id="209" name="Freeform 170"/>
            <p:cNvSpPr/>
            <p:nvPr/>
          </p:nvSpPr>
          <p:spPr>
            <a:xfrm rot="9841200">
              <a:off x="6811200" y="4551120"/>
              <a:ext cx="330480" cy="8532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1"/>
            <p:cNvSpPr/>
            <p:nvPr/>
          </p:nvSpPr>
          <p:spPr>
            <a:xfrm rot="9841200">
              <a:off x="7084440" y="4493520"/>
              <a:ext cx="73440" cy="370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887520" y="4587120"/>
            <a:ext cx="221040" cy="56880"/>
            <a:chOff x="6887520" y="4587120"/>
            <a:chExt cx="221040" cy="56880"/>
          </a:xfrm>
        </p:grpSpPr>
        <p:sp>
          <p:nvSpPr>
            <p:cNvPr id="212" name="Freeform 173"/>
            <p:cNvSpPr/>
            <p:nvPr/>
          </p:nvSpPr>
          <p:spPr>
            <a:xfrm rot="10822800">
              <a:off x="6887520" y="4594680"/>
              <a:ext cx="200520" cy="4860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4"/>
            <p:cNvSpPr/>
            <p:nvPr/>
          </p:nvSpPr>
          <p:spPr>
            <a:xfrm rot="10822800">
              <a:off x="7063920" y="4587120"/>
              <a:ext cx="44640" cy="20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52960" y="4619880"/>
            <a:ext cx="219240" cy="58680"/>
            <a:chOff x="6852960" y="4619880"/>
            <a:chExt cx="219240" cy="58680"/>
          </a:xfrm>
        </p:grpSpPr>
        <p:sp>
          <p:nvSpPr>
            <p:cNvPr id="215" name="Freeform 176"/>
            <p:cNvSpPr/>
            <p:nvPr/>
          </p:nvSpPr>
          <p:spPr>
            <a:xfrm rot="10822800">
              <a:off x="6852960" y="4627800"/>
              <a:ext cx="199080" cy="5004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7"/>
            <p:cNvSpPr/>
            <p:nvPr/>
          </p:nvSpPr>
          <p:spPr>
            <a:xfrm rot="10822800">
              <a:off x="7027920" y="4619880"/>
              <a:ext cx="44280" cy="2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782400" y="4498920"/>
            <a:ext cx="182520" cy="188280"/>
            <a:chOff x="6782400" y="4498920"/>
            <a:chExt cx="182520" cy="188280"/>
          </a:xfrm>
        </p:grpSpPr>
        <p:sp>
          <p:nvSpPr>
            <p:cNvPr id="218" name="Freeform 179"/>
            <p:cNvSpPr/>
            <p:nvPr/>
          </p:nvSpPr>
          <p:spPr>
            <a:xfrm rot="8317800">
              <a:off x="6774120" y="4577760"/>
              <a:ext cx="199080" cy="5004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0"/>
            <p:cNvSpPr/>
            <p:nvPr/>
          </p:nvSpPr>
          <p:spPr>
            <a:xfrm rot="8317800">
              <a:off x="6909480" y="4510800"/>
              <a:ext cx="44280" cy="2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872400" y="4632120"/>
            <a:ext cx="291240" cy="151200"/>
            <a:chOff x="6872400" y="4632120"/>
            <a:chExt cx="291240" cy="151200"/>
          </a:xfrm>
        </p:grpSpPr>
        <p:sp>
          <p:nvSpPr>
            <p:cNvPr id="221" name="Freeform 182"/>
            <p:cNvSpPr/>
            <p:nvPr/>
          </p:nvSpPr>
          <p:spPr>
            <a:xfrm rot="12202200">
              <a:off x="6871320" y="4682520"/>
              <a:ext cx="265320" cy="5004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83"/>
            <p:cNvSpPr/>
            <p:nvPr/>
          </p:nvSpPr>
          <p:spPr>
            <a:xfrm rot="12202200">
              <a:off x="7102440" y="4727160"/>
              <a:ext cx="59040" cy="2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871680" y="4703400"/>
            <a:ext cx="131040" cy="88200"/>
            <a:chOff x="6871680" y="4703400"/>
            <a:chExt cx="131040" cy="88200"/>
          </a:xfrm>
        </p:grpSpPr>
        <p:sp>
          <p:nvSpPr>
            <p:cNvPr id="224" name="Freeform 185"/>
            <p:cNvSpPr/>
            <p:nvPr/>
          </p:nvSpPr>
          <p:spPr>
            <a:xfrm rot="12202200">
              <a:off x="6877080" y="4722120"/>
              <a:ext cx="106920" cy="5004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86"/>
            <p:cNvSpPr/>
            <p:nvPr/>
          </p:nvSpPr>
          <p:spPr>
            <a:xfrm rot="12202200">
              <a:off x="6975360" y="4736160"/>
              <a:ext cx="23760" cy="2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93640" y="4647600"/>
            <a:ext cx="129240" cy="80280"/>
            <a:chOff x="6893640" y="4647600"/>
            <a:chExt cx="129240" cy="80280"/>
          </a:xfrm>
        </p:grpSpPr>
        <p:sp>
          <p:nvSpPr>
            <p:cNvPr id="227" name="Freeform 188"/>
            <p:cNvSpPr/>
            <p:nvPr/>
          </p:nvSpPr>
          <p:spPr>
            <a:xfrm rot="11868600">
              <a:off x="6898680" y="4662720"/>
              <a:ext cx="106560" cy="5004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89"/>
            <p:cNvSpPr/>
            <p:nvPr/>
          </p:nvSpPr>
          <p:spPr>
            <a:xfrm rot="11868600">
              <a:off x="6996240" y="4671360"/>
              <a:ext cx="23760" cy="2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Freeform 190"/>
          <p:cNvSpPr/>
          <p:nvPr/>
        </p:nvSpPr>
        <p:spPr>
          <a:xfrm rot="8851800">
            <a:off x="6837120" y="4548960"/>
            <a:ext cx="198360" cy="50760"/>
          </a:xfrm>
          <a:prstGeom prst="pi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91"/>
          <p:cNvSpPr/>
          <p:nvPr/>
        </p:nvSpPr>
        <p:spPr>
          <a:xfrm rot="6339000">
            <a:off x="6751800" y="4575960"/>
            <a:ext cx="199800" cy="49320"/>
          </a:xfrm>
          <a:prstGeom prst="pi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92"/>
          <p:cNvSpPr/>
          <p:nvPr/>
        </p:nvSpPr>
        <p:spPr>
          <a:xfrm rot="11446200">
            <a:off x="6871680" y="4655520"/>
            <a:ext cx="345960" cy="50760"/>
          </a:xfrm>
          <a:prstGeom prst="pi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93"/>
          <p:cNvSpPr/>
          <p:nvPr/>
        </p:nvSpPr>
        <p:spPr>
          <a:xfrm>
            <a:off x="7954920" y="4030560"/>
            <a:ext cx="649440" cy="584280"/>
          </a:xfrm>
          <a:prstGeom prst="ellipse">
            <a:avLst/>
          </a:prstGeom>
          <a:blipFill rotWithShape="0">
            <a:blip r:embed="rId1">
              <a:alphaModFix amt="8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94"/>
          <p:cNvSpPr/>
          <p:nvPr/>
        </p:nvSpPr>
        <p:spPr>
          <a:xfrm>
            <a:off x="8327880" y="1287360"/>
            <a:ext cx="714600" cy="706680"/>
          </a:xfrm>
          <a:prstGeom prst="ellipse">
            <a:avLst/>
          </a:prstGeom>
          <a:noFill/>
          <a:ln w="3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95"/>
          <p:cNvSpPr/>
          <p:nvPr/>
        </p:nvSpPr>
        <p:spPr>
          <a:xfrm>
            <a:off x="1689120" y="4438800"/>
            <a:ext cx="566640" cy="56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>
                  <a:alpha val="8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96"/>
          <p:cNvSpPr/>
          <p:nvPr/>
        </p:nvSpPr>
        <p:spPr>
          <a:xfrm>
            <a:off x="324000" y="3852720"/>
            <a:ext cx="976320" cy="963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99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97"/>
          <p:cNvSpPr/>
          <p:nvPr/>
        </p:nvSpPr>
        <p:spPr>
          <a:xfrm>
            <a:off x="2629080" y="3760920"/>
            <a:ext cx="502920" cy="496800"/>
          </a:xfrm>
          <a:prstGeom prst="ellipse">
            <a:avLst/>
          </a:prstGeom>
          <a:gradFill rotWithShape="0">
            <a:gsLst>
              <a:gs pos="0">
                <a:srgbClr val="ff3399">
                  <a:alpha val="27058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98"/>
          <p:cNvSpPr/>
          <p:nvPr/>
        </p:nvSpPr>
        <p:spPr>
          <a:xfrm>
            <a:off x="1544760" y="3452760"/>
            <a:ext cx="566640" cy="560520"/>
          </a:xfrm>
          <a:prstGeom prst="ellipse">
            <a:avLst/>
          </a:prstGeom>
          <a:gradFill rotWithShape="0">
            <a:gsLst>
              <a:gs pos="0">
                <a:srgbClr val="ff99cc">
                  <a:alpha val="41176"/>
                </a:srgbClr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99"/>
          <p:cNvSpPr/>
          <p:nvPr/>
        </p:nvSpPr>
        <p:spPr>
          <a:xfrm>
            <a:off x="34920" y="2773440"/>
            <a:ext cx="631800" cy="623880"/>
          </a:xfrm>
          <a:prstGeom prst="ellipse">
            <a:avLst/>
          </a:prstGeom>
          <a:noFill/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00"/>
          <p:cNvSpPr/>
          <p:nvPr/>
        </p:nvSpPr>
        <p:spPr>
          <a:xfrm>
            <a:off x="3635280" y="5221440"/>
            <a:ext cx="327240" cy="32364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ffff99">
                  <a:alpha val="3137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01"/>
          <p:cNvSpPr/>
          <p:nvPr/>
        </p:nvSpPr>
        <p:spPr>
          <a:xfrm>
            <a:off x="-133200" y="2803680"/>
            <a:ext cx="777600" cy="771480"/>
          </a:xfrm>
          <a:prstGeom prst="ellipse">
            <a:avLst/>
          </a:prstGeom>
          <a:noFill/>
          <a:ln w="3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02"/>
          <p:cNvSpPr/>
          <p:nvPr/>
        </p:nvSpPr>
        <p:spPr>
          <a:xfrm>
            <a:off x="-237960" y="2697120"/>
            <a:ext cx="777600" cy="7714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203"/>
          <p:cNvSpPr/>
          <p:nvPr/>
        </p:nvSpPr>
        <p:spPr>
          <a:xfrm>
            <a:off x="555480" y="4924440"/>
            <a:ext cx="827280" cy="816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204"/>
          <p:cNvSpPr/>
          <p:nvPr/>
        </p:nvSpPr>
        <p:spPr>
          <a:xfrm flipV="1">
            <a:off x="749160" y="4968720"/>
            <a:ext cx="295560" cy="640080"/>
          </a:xfrm>
          <a:prstGeom prst="pie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205"/>
          <p:cNvSpPr/>
          <p:nvPr/>
        </p:nvSpPr>
        <p:spPr>
          <a:xfrm rot="20643000">
            <a:off x="-68040" y="5621400"/>
            <a:ext cx="765360" cy="53496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206"/>
          <p:cNvSpPr/>
          <p:nvPr/>
        </p:nvSpPr>
        <p:spPr>
          <a:xfrm>
            <a:off x="111240" y="5508720"/>
            <a:ext cx="434880" cy="64296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07"/>
          <p:cNvSpPr/>
          <p:nvPr/>
        </p:nvSpPr>
        <p:spPr>
          <a:xfrm rot="8319600">
            <a:off x="7740720" y="1044720"/>
            <a:ext cx="976320" cy="963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99">
                  <a:alpha val="32156"/>
                </a:srgbClr>
              </a:gs>
            </a:gsLst>
            <a:lin ang="213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08"/>
          <p:cNvSpPr/>
          <p:nvPr/>
        </p:nvSpPr>
        <p:spPr>
          <a:xfrm rot="8319600">
            <a:off x="8101080" y="5148000"/>
            <a:ext cx="503280" cy="496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99">
                  <a:alpha val="32156"/>
                </a:srgbClr>
              </a:gs>
            </a:gsLst>
            <a:lin ang="213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579744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3160" y="793800"/>
            <a:ext cx="46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漂亮动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121440"/>
          </a:xfrm>
          <a:prstGeom prst="rect">
            <a:avLst/>
          </a:prstGeom>
          <a:gradFill rotWithShape="0">
            <a:gsLst>
              <a:gs pos="0">
                <a:srgbClr val="ff99cc">
                  <a:alpha val="5215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5375160" y="3751200"/>
            <a:ext cx="606600" cy="320760"/>
          </a:xfrm>
          <a:prstGeom prst="octagon">
            <a:avLst>
              <a:gd name="adj" fmla="val 30972"/>
            </a:avLst>
          </a:prstGeom>
          <a:solidFill>
            <a:srgbClr val="ffff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4"/>
          <p:cNvSpPr/>
          <p:nvPr/>
        </p:nvSpPr>
        <p:spPr>
          <a:xfrm rot="19410600">
            <a:off x="6719400" y="5347800"/>
            <a:ext cx="365400" cy="39528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5"/>
          <p:cNvSpPr/>
          <p:nvPr/>
        </p:nvSpPr>
        <p:spPr>
          <a:xfrm>
            <a:off x="3922560" y="4200480"/>
            <a:ext cx="303480" cy="128520"/>
          </a:xfrm>
          <a:prstGeom prst="pie">
            <a:avLst/>
          </a:prstGeom>
          <a:noFill/>
          <a:ln w="158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"/>
          <p:cNvSpPr/>
          <p:nvPr/>
        </p:nvSpPr>
        <p:spPr>
          <a:xfrm>
            <a:off x="3527280" y="4071960"/>
            <a:ext cx="820800" cy="546120"/>
          </a:xfrm>
          <a:prstGeom prst="pie">
            <a:avLst/>
          </a:prstGeom>
          <a:noFill/>
          <a:ln w="19080">
            <a:solidFill>
              <a:srgbClr val="ff99cc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7"/>
          <p:cNvSpPr/>
          <p:nvPr/>
        </p:nvSpPr>
        <p:spPr>
          <a:xfrm>
            <a:off x="4408560" y="2465280"/>
            <a:ext cx="446040" cy="59868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8"/>
          <p:cNvSpPr/>
          <p:nvPr/>
        </p:nvSpPr>
        <p:spPr>
          <a:xfrm rot="19942200">
            <a:off x="4408560" y="1865160"/>
            <a:ext cx="617400" cy="1971720"/>
          </a:xfrm>
          <a:prstGeom prst="pie">
            <a:avLst/>
          </a:prstGeom>
          <a:noFill/>
          <a:ln w="255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9"/>
          <p:cNvSpPr/>
          <p:nvPr/>
        </p:nvSpPr>
        <p:spPr>
          <a:xfrm rot="20287800">
            <a:off x="6550200" y="2658960"/>
            <a:ext cx="2054160" cy="970200"/>
          </a:xfrm>
          <a:prstGeom prst="pie">
            <a:avLst/>
          </a:prstGeom>
          <a:noFill/>
          <a:ln w="25560">
            <a:solidFill>
              <a:srgbClr val="ff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0"/>
          <p:cNvSpPr/>
          <p:nvPr/>
        </p:nvSpPr>
        <p:spPr>
          <a:xfrm rot="10088400">
            <a:off x="3617280" y="4650480"/>
            <a:ext cx="1398600" cy="320760"/>
          </a:xfrm>
          <a:prstGeom prst="pie">
            <a:avLst/>
          </a:prstGeom>
          <a:noFill/>
          <a:ln w="255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1"/>
          <p:cNvSpPr/>
          <p:nvPr/>
        </p:nvSpPr>
        <p:spPr>
          <a:xfrm>
            <a:off x="5640480" y="4906800"/>
            <a:ext cx="774720" cy="1177920"/>
          </a:xfrm>
          <a:prstGeom prst="pie">
            <a:avLst/>
          </a:prstGeom>
          <a:noFill/>
          <a:ln w="255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2"/>
          <p:cNvSpPr/>
          <p:nvPr/>
        </p:nvSpPr>
        <p:spPr>
          <a:xfrm>
            <a:off x="4156200" y="4511520"/>
            <a:ext cx="496800" cy="52560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3"/>
          <p:cNvSpPr/>
          <p:nvPr/>
        </p:nvSpPr>
        <p:spPr>
          <a:xfrm>
            <a:off x="4408560" y="2400480"/>
            <a:ext cx="577800" cy="663480"/>
          </a:xfrm>
          <a:prstGeom prst="pie">
            <a:avLst/>
          </a:prstGeom>
          <a:noFill/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4"/>
          <p:cNvSpPr/>
          <p:nvPr/>
        </p:nvSpPr>
        <p:spPr>
          <a:xfrm rot="20643000">
            <a:off x="6659640" y="3171960"/>
            <a:ext cx="768240" cy="53496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5"/>
          <p:cNvSpPr/>
          <p:nvPr/>
        </p:nvSpPr>
        <p:spPr>
          <a:xfrm>
            <a:off x="6597720" y="3429000"/>
            <a:ext cx="790560" cy="579600"/>
          </a:xfrm>
          <a:prstGeom prst="pie">
            <a:avLst/>
          </a:prstGeom>
          <a:noFill/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6"/>
          <p:cNvSpPr/>
          <p:nvPr/>
        </p:nvSpPr>
        <p:spPr>
          <a:xfrm>
            <a:off x="6842160" y="3171960"/>
            <a:ext cx="434880" cy="64296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7"/>
          <p:cNvSpPr/>
          <p:nvPr/>
        </p:nvSpPr>
        <p:spPr>
          <a:xfrm>
            <a:off x="5684760" y="4983120"/>
            <a:ext cx="547920" cy="374760"/>
          </a:xfrm>
          <a:prstGeom prst="pie">
            <a:avLst/>
          </a:prstGeom>
          <a:noFill/>
          <a:ln w="12600">
            <a:solidFill>
              <a:srgbClr val="ff339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8"/>
          <p:cNvSpPr/>
          <p:nvPr/>
        </p:nvSpPr>
        <p:spPr>
          <a:xfrm rot="20044200">
            <a:off x="5259240" y="4970160"/>
            <a:ext cx="427320" cy="22536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9"/>
          <p:cNvSpPr/>
          <p:nvPr/>
        </p:nvSpPr>
        <p:spPr>
          <a:xfrm>
            <a:off x="5199120" y="5037120"/>
            <a:ext cx="527040" cy="898560"/>
          </a:xfrm>
          <a:prstGeom prst="pie">
            <a:avLst/>
          </a:prstGeom>
          <a:noFill/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20"/>
          <p:cNvSpPr/>
          <p:nvPr/>
        </p:nvSpPr>
        <p:spPr>
          <a:xfrm>
            <a:off x="4043520" y="4908600"/>
            <a:ext cx="598320" cy="512640"/>
          </a:xfrm>
          <a:prstGeom prst="pie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1"/>
          <p:cNvSpPr/>
          <p:nvPr/>
        </p:nvSpPr>
        <p:spPr>
          <a:xfrm rot="20461200">
            <a:off x="7448040" y="5100480"/>
            <a:ext cx="122400" cy="641520"/>
          </a:xfrm>
          <a:prstGeom prst="pie">
            <a:avLst/>
          </a:prstGeom>
          <a:noFill/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22"/>
          <p:cNvSpPr/>
          <p:nvPr/>
        </p:nvSpPr>
        <p:spPr>
          <a:xfrm>
            <a:off x="7510320" y="4457880"/>
            <a:ext cx="425520" cy="385560"/>
          </a:xfrm>
          <a:prstGeom prst="pie">
            <a:avLst/>
          </a:prstGeom>
          <a:noFill/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3"/>
          <p:cNvSpPr/>
          <p:nvPr/>
        </p:nvSpPr>
        <p:spPr>
          <a:xfrm>
            <a:off x="6060960" y="5037120"/>
            <a:ext cx="354240" cy="318960"/>
          </a:xfrm>
          <a:prstGeom prst="pie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24"/>
          <p:cNvSpPr/>
          <p:nvPr/>
        </p:nvSpPr>
        <p:spPr>
          <a:xfrm rot="4635000">
            <a:off x="3935160" y="2765160"/>
            <a:ext cx="460440" cy="609840"/>
          </a:xfrm>
          <a:prstGeom prst="pie">
            <a:avLst/>
          </a:prstGeom>
          <a:noFill/>
          <a:ln w="15840">
            <a:solidFill>
              <a:srgbClr val="ff3399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25"/>
          <p:cNvSpPr/>
          <p:nvPr/>
        </p:nvSpPr>
        <p:spPr>
          <a:xfrm>
            <a:off x="4976640" y="2400480"/>
            <a:ext cx="928800" cy="145872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81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6"/>
          <p:cNvSpPr/>
          <p:nvPr/>
        </p:nvSpPr>
        <p:spPr>
          <a:xfrm>
            <a:off x="4083120" y="3691080"/>
            <a:ext cx="1414440" cy="11523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8100000"/>
          </a:gra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7"/>
          <p:cNvSpPr/>
          <p:nvPr/>
        </p:nvSpPr>
        <p:spPr>
          <a:xfrm>
            <a:off x="4583160" y="3895560"/>
            <a:ext cx="1162080" cy="14306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135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28"/>
          <p:cNvSpPr/>
          <p:nvPr/>
        </p:nvSpPr>
        <p:spPr>
          <a:xfrm>
            <a:off x="4280040" y="2786040"/>
            <a:ext cx="1215720" cy="1112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81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9"/>
          <p:cNvSpPr/>
          <p:nvPr/>
        </p:nvSpPr>
        <p:spPr>
          <a:xfrm>
            <a:off x="5738760" y="2657520"/>
            <a:ext cx="944640" cy="1171440"/>
          </a:xfrm>
          <a:prstGeom prst="pie">
            <a:avLst/>
          </a:prstGeom>
          <a:gradFill rotWithShape="0">
            <a:gsLst>
              <a:gs pos="0">
                <a:srgbClr val="ff3399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0"/>
          <p:cNvSpPr/>
          <p:nvPr/>
        </p:nvSpPr>
        <p:spPr>
          <a:xfrm>
            <a:off x="5684760" y="3540240"/>
            <a:ext cx="1149480" cy="671400"/>
          </a:xfrm>
          <a:prstGeom prst="pie">
            <a:avLst/>
          </a:prstGeom>
          <a:gradFill rotWithShape="0">
            <a:gsLst>
              <a:gs pos="0">
                <a:srgbClr val="ff3399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>
            <a:off x="5645160" y="3894120"/>
            <a:ext cx="703080" cy="12700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135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2"/>
          <p:cNvSpPr/>
          <p:nvPr/>
        </p:nvSpPr>
        <p:spPr>
          <a:xfrm rot="21262800">
            <a:off x="5969160" y="4672080"/>
            <a:ext cx="134640" cy="345960"/>
          </a:xfrm>
          <a:prstGeom prst="pie">
            <a:avLst/>
          </a:prstGeom>
          <a:solidFill>
            <a:srgbClr val="ff3399">
              <a:alpha val="49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3"/>
          <p:cNvSpPr/>
          <p:nvPr/>
        </p:nvSpPr>
        <p:spPr>
          <a:xfrm rot="9841200">
            <a:off x="6891120" y="3990960"/>
            <a:ext cx="852480" cy="6588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19860000"/>
          </a:gra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34"/>
          <p:cNvSpPr/>
          <p:nvPr/>
        </p:nvSpPr>
        <p:spPr>
          <a:xfrm rot="9841200">
            <a:off x="6697440" y="3787920"/>
            <a:ext cx="699840" cy="8157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366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931800" y="4449960"/>
            <a:ext cx="879840" cy="812520"/>
            <a:chOff x="6931800" y="4449960"/>
            <a:chExt cx="879840" cy="812520"/>
          </a:xfrm>
        </p:grpSpPr>
        <p:sp>
          <p:nvSpPr>
            <p:cNvPr id="284" name="Freeform 36"/>
            <p:cNvSpPr/>
            <p:nvPr/>
          </p:nvSpPr>
          <p:spPr>
            <a:xfrm rot="9841200">
              <a:off x="7004880" y="4538520"/>
              <a:ext cx="733320" cy="6350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99"/>
                </a:gs>
              </a:gsLst>
              <a:lin ang="8100000"/>
            </a:gra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7"/>
            <p:cNvSpPr/>
            <p:nvPr/>
          </p:nvSpPr>
          <p:spPr>
            <a:xfrm rot="17808600">
              <a:off x="7274520" y="4529160"/>
              <a:ext cx="38160" cy="477000"/>
            </a:xfrm>
            <a:prstGeom prst="pie">
              <a:avLst/>
            </a:prstGeom>
            <a:solidFill>
              <a:srgbClr val="ff99cc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38"/>
          <p:cNvSpPr/>
          <p:nvPr/>
        </p:nvSpPr>
        <p:spPr>
          <a:xfrm rot="9841200">
            <a:off x="6841800" y="4638240"/>
            <a:ext cx="558720" cy="83196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1986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9"/>
          <p:cNvSpPr/>
          <p:nvPr/>
        </p:nvSpPr>
        <p:spPr>
          <a:xfrm rot="9841200">
            <a:off x="6373440" y="4744800"/>
            <a:ext cx="568440" cy="669960"/>
          </a:xfrm>
          <a:prstGeom prst="pie">
            <a:avLst/>
          </a:prstGeom>
          <a:gradFill rotWithShape="0">
            <a:gsLst>
              <a:gs pos="0">
                <a:srgbClr val="ff3399"/>
              </a:gs>
              <a:gs pos="100000">
                <a:srgbClr val="000000"/>
              </a:gs>
            </a:gsLst>
            <a:lin ang="366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0"/>
          <p:cNvSpPr/>
          <p:nvPr/>
        </p:nvSpPr>
        <p:spPr>
          <a:xfrm rot="9841200">
            <a:off x="6181200" y="4587120"/>
            <a:ext cx="694080" cy="382680"/>
          </a:xfrm>
          <a:prstGeom prst="pie">
            <a:avLst/>
          </a:prstGeom>
          <a:gradFill rotWithShape="0">
            <a:gsLst>
              <a:gs pos="0">
                <a:srgbClr val="ff3399"/>
              </a:gs>
              <a:gs pos="100000">
                <a:srgbClr val="000000"/>
              </a:gs>
            </a:gsLst>
            <a:lin ang="366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41"/>
          <p:cNvSpPr/>
          <p:nvPr/>
        </p:nvSpPr>
        <p:spPr>
          <a:xfrm rot="9841200">
            <a:off x="6366960" y="4014360"/>
            <a:ext cx="422280" cy="72540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ff3399"/>
              </a:gs>
            </a:gsLst>
            <a:lin ang="366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42"/>
          <p:cNvSpPr/>
          <p:nvPr/>
        </p:nvSpPr>
        <p:spPr>
          <a:xfrm rot="9504000">
            <a:off x="6465240" y="4113360"/>
            <a:ext cx="82440" cy="196560"/>
          </a:xfrm>
          <a:prstGeom prst="pie">
            <a:avLst/>
          </a:prstGeom>
          <a:solidFill>
            <a:srgbClr val="ff3399">
              <a:alpha val="49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43"/>
          <p:cNvSpPr/>
          <p:nvPr/>
        </p:nvSpPr>
        <p:spPr>
          <a:xfrm flipV="1" rot="4772400">
            <a:off x="4768920" y="3650400"/>
            <a:ext cx="126720" cy="84132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44"/>
          <p:cNvSpPr/>
          <p:nvPr/>
        </p:nvSpPr>
        <p:spPr>
          <a:xfrm flipH="1" rot="12856200">
            <a:off x="5253120" y="4008960"/>
            <a:ext cx="82440" cy="96192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45"/>
          <p:cNvSpPr/>
          <p:nvPr/>
        </p:nvSpPr>
        <p:spPr>
          <a:xfrm rot="7967400">
            <a:off x="4915800" y="3156480"/>
            <a:ext cx="141120" cy="79056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46"/>
          <p:cNvSpPr/>
          <p:nvPr/>
        </p:nvSpPr>
        <p:spPr>
          <a:xfrm rot="10545600">
            <a:off x="5497560" y="2849040"/>
            <a:ext cx="61920" cy="83664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47"/>
          <p:cNvSpPr/>
          <p:nvPr/>
        </p:nvSpPr>
        <p:spPr>
          <a:xfrm rot="2623800">
            <a:off x="6102000" y="2979720"/>
            <a:ext cx="63360" cy="83520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48"/>
          <p:cNvSpPr/>
          <p:nvPr/>
        </p:nvSpPr>
        <p:spPr>
          <a:xfrm rot="5938800">
            <a:off x="6192720" y="3606480"/>
            <a:ext cx="66600" cy="60984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49"/>
          <p:cNvSpPr/>
          <p:nvPr/>
        </p:nvSpPr>
        <p:spPr>
          <a:xfrm flipV="1" rot="20950200">
            <a:off x="5738400" y="4008600"/>
            <a:ext cx="120600" cy="88884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50"/>
          <p:cNvSpPr/>
          <p:nvPr/>
        </p:nvSpPr>
        <p:spPr>
          <a:xfrm rot="17733000">
            <a:off x="5434200" y="3449160"/>
            <a:ext cx="63720" cy="6667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1"/>
          <p:cNvSpPr/>
          <p:nvPr/>
        </p:nvSpPr>
        <p:spPr>
          <a:xfrm rot="18609000">
            <a:off x="5799240" y="3890520"/>
            <a:ext cx="63360" cy="4255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52"/>
          <p:cNvSpPr/>
          <p:nvPr/>
        </p:nvSpPr>
        <p:spPr>
          <a:xfrm rot="15670200">
            <a:off x="5249880" y="3641040"/>
            <a:ext cx="65160" cy="6685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53"/>
          <p:cNvSpPr/>
          <p:nvPr/>
        </p:nvSpPr>
        <p:spPr>
          <a:xfrm rot="12937200">
            <a:off x="5497200" y="3880800"/>
            <a:ext cx="60120" cy="44748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54"/>
          <p:cNvSpPr/>
          <p:nvPr/>
        </p:nvSpPr>
        <p:spPr>
          <a:xfrm rot="13529400">
            <a:off x="5859720" y="3442320"/>
            <a:ext cx="63360" cy="4237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55"/>
          <p:cNvSpPr/>
          <p:nvPr/>
        </p:nvSpPr>
        <p:spPr>
          <a:xfrm rot="20608800">
            <a:off x="5557320" y="3236400"/>
            <a:ext cx="60480" cy="70488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6"/>
          <p:cNvSpPr/>
          <p:nvPr/>
        </p:nvSpPr>
        <p:spPr>
          <a:xfrm rot="16729800">
            <a:off x="5982480" y="3697920"/>
            <a:ext cx="63360" cy="4237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7"/>
          <p:cNvSpPr/>
          <p:nvPr/>
        </p:nvSpPr>
        <p:spPr>
          <a:xfrm rot="20344800">
            <a:off x="5678640" y="3879720"/>
            <a:ext cx="60120" cy="44928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8"/>
          <p:cNvSpPr/>
          <p:nvPr/>
        </p:nvSpPr>
        <p:spPr>
          <a:xfrm rot="18261600">
            <a:off x="5859360" y="3827880"/>
            <a:ext cx="63360" cy="42516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9"/>
          <p:cNvSpPr/>
          <p:nvPr/>
        </p:nvSpPr>
        <p:spPr>
          <a:xfrm rot="15198000">
            <a:off x="5918760" y="3569400"/>
            <a:ext cx="63360" cy="42408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60"/>
          <p:cNvSpPr/>
          <p:nvPr/>
        </p:nvSpPr>
        <p:spPr>
          <a:xfrm rot="19200000">
            <a:off x="5497560" y="3557160"/>
            <a:ext cx="60120" cy="3841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1"/>
          <p:cNvSpPr/>
          <p:nvPr/>
        </p:nvSpPr>
        <p:spPr>
          <a:xfrm rot="763200">
            <a:off x="5678280" y="3494160"/>
            <a:ext cx="60120" cy="38268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62"/>
          <p:cNvSpPr/>
          <p:nvPr/>
        </p:nvSpPr>
        <p:spPr>
          <a:xfrm rot="14365800">
            <a:off x="5432760" y="3828240"/>
            <a:ext cx="63360" cy="4237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63"/>
          <p:cNvSpPr/>
          <p:nvPr/>
        </p:nvSpPr>
        <p:spPr>
          <a:xfrm rot="16686000">
            <a:off x="5371920" y="3571920"/>
            <a:ext cx="63360" cy="54936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124600" y="3415680"/>
            <a:ext cx="952200" cy="851040"/>
            <a:chOff x="5124600" y="3415680"/>
            <a:chExt cx="952200" cy="851040"/>
          </a:xfrm>
        </p:grpSpPr>
        <p:sp>
          <p:nvSpPr>
            <p:cNvPr id="313" name="Oval 65"/>
            <p:cNvSpPr/>
            <p:nvPr/>
          </p:nvSpPr>
          <p:spPr>
            <a:xfrm rot="20149800">
              <a:off x="5552640" y="3443760"/>
              <a:ext cx="48600" cy="54072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66"/>
            <p:cNvSpPr/>
            <p:nvPr/>
          </p:nvSpPr>
          <p:spPr>
            <a:xfrm rot="21025800">
              <a:off x="5619240" y="3920760"/>
              <a:ext cx="48960" cy="3441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7"/>
            <p:cNvSpPr/>
            <p:nvPr/>
          </p:nvSpPr>
          <p:spPr>
            <a:xfrm rot="18087000">
              <a:off x="5343480" y="3459960"/>
              <a:ext cx="48960" cy="54072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8"/>
            <p:cNvSpPr/>
            <p:nvPr/>
          </p:nvSpPr>
          <p:spPr>
            <a:xfrm rot="15353400">
              <a:off x="5430600" y="3770280"/>
              <a:ext cx="48600" cy="34272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9"/>
            <p:cNvSpPr/>
            <p:nvPr/>
          </p:nvSpPr>
          <p:spPr>
            <a:xfrm rot="15946200">
              <a:off x="5879520" y="3690360"/>
              <a:ext cx="48960" cy="34308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70"/>
            <p:cNvSpPr/>
            <p:nvPr/>
          </p:nvSpPr>
          <p:spPr>
            <a:xfrm rot="1425600">
              <a:off x="5723280" y="3402360"/>
              <a:ext cx="48600" cy="5403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71"/>
            <p:cNvSpPr/>
            <p:nvPr/>
          </p:nvSpPr>
          <p:spPr>
            <a:xfrm rot="19146600">
              <a:off x="5828400" y="3904200"/>
              <a:ext cx="48600" cy="34308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72"/>
            <p:cNvSpPr/>
            <p:nvPr/>
          </p:nvSpPr>
          <p:spPr>
            <a:xfrm rot="1161600">
              <a:off x="5543640" y="3865320"/>
              <a:ext cx="48960" cy="34380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73"/>
            <p:cNvSpPr/>
            <p:nvPr/>
          </p:nvSpPr>
          <p:spPr>
            <a:xfrm rot="20678400">
              <a:off x="5688720" y="3915000"/>
              <a:ext cx="48600" cy="3441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74"/>
            <p:cNvSpPr/>
            <p:nvPr/>
          </p:nvSpPr>
          <p:spPr>
            <a:xfrm rot="17614800">
              <a:off x="5852520" y="3796200"/>
              <a:ext cx="48960" cy="34308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75"/>
            <p:cNvSpPr/>
            <p:nvPr/>
          </p:nvSpPr>
          <p:spPr>
            <a:xfrm rot="16800">
              <a:off x="5607360" y="3587040"/>
              <a:ext cx="48600" cy="2937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76"/>
            <p:cNvSpPr/>
            <p:nvPr/>
          </p:nvSpPr>
          <p:spPr>
            <a:xfrm rot="3180000">
              <a:off x="5752080" y="3645000"/>
              <a:ext cx="48960" cy="2937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7"/>
            <p:cNvSpPr/>
            <p:nvPr/>
          </p:nvSpPr>
          <p:spPr>
            <a:xfrm rot="16782600">
              <a:off x="5424480" y="3691080"/>
              <a:ext cx="48600" cy="34308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8"/>
            <p:cNvSpPr/>
            <p:nvPr/>
          </p:nvSpPr>
          <p:spPr>
            <a:xfrm rot="19102800">
              <a:off x="5482080" y="3496680"/>
              <a:ext cx="48960" cy="4442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181840" y="3598200"/>
            <a:ext cx="847440" cy="777240"/>
            <a:chOff x="5181840" y="3598200"/>
            <a:chExt cx="847440" cy="777240"/>
          </a:xfrm>
        </p:grpSpPr>
        <p:sp>
          <p:nvSpPr>
            <p:cNvPr id="328" name="Oval 80"/>
            <p:cNvSpPr/>
            <p:nvPr/>
          </p:nvSpPr>
          <p:spPr>
            <a:xfrm rot="20149800">
              <a:off x="5562360" y="3641040"/>
              <a:ext cx="45360" cy="4759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81"/>
            <p:cNvSpPr/>
            <p:nvPr/>
          </p:nvSpPr>
          <p:spPr>
            <a:xfrm rot="21025800">
              <a:off x="5613840" y="4070520"/>
              <a:ext cx="45360" cy="3031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82"/>
            <p:cNvSpPr/>
            <p:nvPr/>
          </p:nvSpPr>
          <p:spPr>
            <a:xfrm rot="18087000">
              <a:off x="5373720" y="3661920"/>
              <a:ext cx="45360" cy="4759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83"/>
            <p:cNvSpPr/>
            <p:nvPr/>
          </p:nvSpPr>
          <p:spPr>
            <a:xfrm rot="15353400">
              <a:off x="5448960" y="3929760"/>
              <a:ext cx="42840" cy="3193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84"/>
            <p:cNvSpPr/>
            <p:nvPr/>
          </p:nvSpPr>
          <p:spPr>
            <a:xfrm rot="15946200">
              <a:off x="5853960" y="3854160"/>
              <a:ext cx="45360" cy="3020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85"/>
            <p:cNvSpPr/>
            <p:nvPr/>
          </p:nvSpPr>
          <p:spPr>
            <a:xfrm rot="1425600">
              <a:off x="5719320" y="3585240"/>
              <a:ext cx="42840" cy="50328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86"/>
            <p:cNvSpPr/>
            <p:nvPr/>
          </p:nvSpPr>
          <p:spPr>
            <a:xfrm rot="19146600">
              <a:off x="5802120" y="4050720"/>
              <a:ext cx="45360" cy="3020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7"/>
            <p:cNvSpPr/>
            <p:nvPr/>
          </p:nvSpPr>
          <p:spPr>
            <a:xfrm rot="1161600">
              <a:off x="5547960" y="4012920"/>
              <a:ext cx="42840" cy="32040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8"/>
            <p:cNvSpPr/>
            <p:nvPr/>
          </p:nvSpPr>
          <p:spPr>
            <a:xfrm rot="20678400">
              <a:off x="5676120" y="4063320"/>
              <a:ext cx="45360" cy="3031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9"/>
            <p:cNvSpPr/>
            <p:nvPr/>
          </p:nvSpPr>
          <p:spPr>
            <a:xfrm rot="17614800">
              <a:off x="5827320" y="3951360"/>
              <a:ext cx="45360" cy="3020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90"/>
            <p:cNvSpPr/>
            <p:nvPr/>
          </p:nvSpPr>
          <p:spPr>
            <a:xfrm rot="16800">
              <a:off x="5613480" y="3759120"/>
              <a:ext cx="42840" cy="27396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91"/>
            <p:cNvSpPr/>
            <p:nvPr/>
          </p:nvSpPr>
          <p:spPr>
            <a:xfrm rot="3180000">
              <a:off x="5741280" y="3808080"/>
              <a:ext cx="42840" cy="27396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92"/>
            <p:cNvSpPr/>
            <p:nvPr/>
          </p:nvSpPr>
          <p:spPr>
            <a:xfrm rot="16782600">
              <a:off x="5443920" y="3867120"/>
              <a:ext cx="45360" cy="3020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93"/>
            <p:cNvSpPr/>
            <p:nvPr/>
          </p:nvSpPr>
          <p:spPr>
            <a:xfrm rot="19102800">
              <a:off x="5499000" y="3689640"/>
              <a:ext cx="45360" cy="39096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130720" y="3895560"/>
            <a:ext cx="601560" cy="176040"/>
            <a:chOff x="5130720" y="3895560"/>
            <a:chExt cx="601560" cy="176040"/>
          </a:xfrm>
        </p:grpSpPr>
        <p:sp>
          <p:nvSpPr>
            <p:cNvPr id="343" name="Freeform 95"/>
            <p:cNvSpPr/>
            <p:nvPr/>
          </p:nvSpPr>
          <p:spPr>
            <a:xfrm>
              <a:off x="5185440" y="3895560"/>
              <a:ext cx="546840" cy="15048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96"/>
            <p:cNvSpPr/>
            <p:nvPr/>
          </p:nvSpPr>
          <p:spPr>
            <a:xfrm>
              <a:off x="5130720" y="4006440"/>
              <a:ext cx="121680" cy="651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245920" y="3838320"/>
            <a:ext cx="379080" cy="177840"/>
            <a:chOff x="5245920" y="3838320"/>
            <a:chExt cx="379080" cy="177840"/>
          </a:xfrm>
        </p:grpSpPr>
        <p:sp>
          <p:nvSpPr>
            <p:cNvPr id="346" name="Freeform 98"/>
            <p:cNvSpPr/>
            <p:nvPr/>
          </p:nvSpPr>
          <p:spPr>
            <a:xfrm rot="981600">
              <a:off x="5287320" y="3882960"/>
              <a:ext cx="331560" cy="8820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9"/>
            <p:cNvSpPr/>
            <p:nvPr/>
          </p:nvSpPr>
          <p:spPr>
            <a:xfrm rot="981600">
              <a:off x="5249520" y="3900600"/>
              <a:ext cx="73800" cy="381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320800" y="3795480"/>
            <a:ext cx="378720" cy="176760"/>
            <a:chOff x="5320800" y="3795480"/>
            <a:chExt cx="378720" cy="176760"/>
          </a:xfrm>
        </p:grpSpPr>
        <p:sp>
          <p:nvSpPr>
            <p:cNvPr id="349" name="Freeform 101"/>
            <p:cNvSpPr/>
            <p:nvPr/>
          </p:nvSpPr>
          <p:spPr>
            <a:xfrm rot="981600">
              <a:off x="5362200" y="3840120"/>
              <a:ext cx="331560" cy="8676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02"/>
            <p:cNvSpPr/>
            <p:nvPr/>
          </p:nvSpPr>
          <p:spPr>
            <a:xfrm rot="981600">
              <a:off x="5324400" y="3856680"/>
              <a:ext cx="73800" cy="374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459040" y="3895560"/>
            <a:ext cx="338400" cy="249120"/>
            <a:chOff x="5459040" y="3895560"/>
            <a:chExt cx="338400" cy="249120"/>
          </a:xfrm>
        </p:grpSpPr>
        <p:sp>
          <p:nvSpPr>
            <p:cNvPr id="352" name="Freeform 104"/>
            <p:cNvSpPr/>
            <p:nvPr/>
          </p:nvSpPr>
          <p:spPr>
            <a:xfrm rot="20076600">
              <a:off x="5464080" y="3962160"/>
              <a:ext cx="330480" cy="8820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05"/>
            <p:cNvSpPr/>
            <p:nvPr/>
          </p:nvSpPr>
          <p:spPr>
            <a:xfrm rot="20076600">
              <a:off x="5463360" y="4092480"/>
              <a:ext cx="73440" cy="381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228640" y="3593520"/>
            <a:ext cx="440640" cy="347760"/>
            <a:chOff x="5228640" y="3593520"/>
            <a:chExt cx="440640" cy="347760"/>
          </a:xfrm>
        </p:grpSpPr>
        <p:sp>
          <p:nvSpPr>
            <p:cNvPr id="355" name="Freeform 107"/>
            <p:cNvSpPr/>
            <p:nvPr/>
          </p:nvSpPr>
          <p:spPr>
            <a:xfrm rot="2361600">
              <a:off x="5249160" y="3723840"/>
              <a:ext cx="442800" cy="8676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8"/>
            <p:cNvSpPr/>
            <p:nvPr/>
          </p:nvSpPr>
          <p:spPr>
            <a:xfrm rot="2361600">
              <a:off x="5229000" y="3641760"/>
              <a:ext cx="98640" cy="374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487120" y="3646800"/>
            <a:ext cx="215640" cy="180000"/>
            <a:chOff x="5487120" y="3646800"/>
            <a:chExt cx="215640" cy="180000"/>
          </a:xfrm>
        </p:grpSpPr>
        <p:sp>
          <p:nvSpPr>
            <p:cNvPr id="358" name="Freeform 110"/>
            <p:cNvSpPr/>
            <p:nvPr/>
          </p:nvSpPr>
          <p:spPr>
            <a:xfrm rot="2361600">
              <a:off x="5517720" y="3692880"/>
              <a:ext cx="177480" cy="8712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11"/>
            <p:cNvSpPr/>
            <p:nvPr/>
          </p:nvSpPr>
          <p:spPr>
            <a:xfrm rot="2361600">
              <a:off x="5494680" y="3693240"/>
              <a:ext cx="39240" cy="378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424120" y="3740760"/>
            <a:ext cx="218520" cy="170640"/>
            <a:chOff x="5424120" y="3740760"/>
            <a:chExt cx="218520" cy="170640"/>
          </a:xfrm>
        </p:grpSpPr>
        <p:sp>
          <p:nvSpPr>
            <p:cNvPr id="361" name="Freeform 113"/>
            <p:cNvSpPr/>
            <p:nvPr/>
          </p:nvSpPr>
          <p:spPr>
            <a:xfrm rot="2026800">
              <a:off x="5455800" y="3782520"/>
              <a:ext cx="177480" cy="8676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14"/>
            <p:cNvSpPr/>
            <p:nvPr/>
          </p:nvSpPr>
          <p:spPr>
            <a:xfrm rot="2026800">
              <a:off x="5430960" y="3791520"/>
              <a:ext cx="39240" cy="374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Freeform 115"/>
          <p:cNvSpPr/>
          <p:nvPr/>
        </p:nvSpPr>
        <p:spPr>
          <a:xfrm rot="20611200">
            <a:off x="5348160" y="3982680"/>
            <a:ext cx="330480" cy="88920"/>
          </a:xfrm>
          <a:prstGeom prst="pi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16"/>
          <p:cNvSpPr/>
          <p:nvPr/>
        </p:nvSpPr>
        <p:spPr>
          <a:xfrm rot="18097800">
            <a:off x="5483880" y="3983760"/>
            <a:ext cx="350640" cy="82440"/>
          </a:xfrm>
          <a:prstGeom prst="pi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17"/>
          <p:cNvSpPr/>
          <p:nvPr/>
        </p:nvSpPr>
        <p:spPr>
          <a:xfrm rot="1605000">
            <a:off x="5103720" y="3749760"/>
            <a:ext cx="574920" cy="87120"/>
          </a:xfrm>
          <a:prstGeom prst="pi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8"/>
          <p:cNvSpPr/>
          <p:nvPr/>
        </p:nvSpPr>
        <p:spPr>
          <a:xfrm rot="9841200">
            <a:off x="6678360" y="4571640"/>
            <a:ext cx="365040" cy="182520"/>
          </a:xfrm>
          <a:prstGeom prst="octagon">
            <a:avLst>
              <a:gd name="adj" fmla="val 30972"/>
            </a:avLst>
          </a:prstGeom>
          <a:solidFill>
            <a:srgbClr val="ffff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119"/>
          <p:cNvSpPr/>
          <p:nvPr/>
        </p:nvSpPr>
        <p:spPr>
          <a:xfrm flipV="1" rot="14613600">
            <a:off x="7287840" y="4183560"/>
            <a:ext cx="73080" cy="50652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20"/>
          <p:cNvSpPr/>
          <p:nvPr/>
        </p:nvSpPr>
        <p:spPr>
          <a:xfrm flipH="1" rot="1098000">
            <a:off x="6967440" y="4006800"/>
            <a:ext cx="50760" cy="55044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21"/>
          <p:cNvSpPr/>
          <p:nvPr/>
        </p:nvSpPr>
        <p:spPr>
          <a:xfrm rot="20386800">
            <a:off x="7029360" y="4754160"/>
            <a:ext cx="38160" cy="47628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22"/>
          <p:cNvSpPr/>
          <p:nvPr/>
        </p:nvSpPr>
        <p:spPr>
          <a:xfrm rot="12464400">
            <a:off x="6657840" y="4782600"/>
            <a:ext cx="38160" cy="47808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23"/>
          <p:cNvSpPr/>
          <p:nvPr/>
        </p:nvSpPr>
        <p:spPr>
          <a:xfrm rot="15780600">
            <a:off x="6523560" y="4570920"/>
            <a:ext cx="38160" cy="36684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24"/>
          <p:cNvSpPr/>
          <p:nvPr/>
        </p:nvSpPr>
        <p:spPr>
          <a:xfrm flipV="1" rot="9191400">
            <a:off x="6669000" y="4132800"/>
            <a:ext cx="73080" cy="507960"/>
          </a:xfrm>
          <a:prstGeom prst="pie">
            <a:avLst/>
          </a:prstGeom>
          <a:solidFill>
            <a:srgbClr val="ff99cc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25"/>
          <p:cNvSpPr/>
          <p:nvPr/>
        </p:nvSpPr>
        <p:spPr>
          <a:xfrm rot="5974200">
            <a:off x="6983280" y="4497120"/>
            <a:ext cx="36360" cy="40176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26"/>
          <p:cNvSpPr/>
          <p:nvPr/>
        </p:nvSpPr>
        <p:spPr>
          <a:xfrm rot="6850200">
            <a:off x="6723720" y="4455360"/>
            <a:ext cx="36720" cy="25704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27"/>
          <p:cNvSpPr/>
          <p:nvPr/>
        </p:nvSpPr>
        <p:spPr>
          <a:xfrm rot="3911400">
            <a:off x="7061400" y="4361760"/>
            <a:ext cx="36360" cy="40176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8"/>
          <p:cNvSpPr/>
          <p:nvPr/>
        </p:nvSpPr>
        <p:spPr>
          <a:xfrm rot="1177800">
            <a:off x="6897240" y="4403520"/>
            <a:ext cx="36720" cy="2556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29"/>
          <p:cNvSpPr/>
          <p:nvPr/>
        </p:nvSpPr>
        <p:spPr>
          <a:xfrm rot="1770600">
            <a:off x="6757560" y="4713120"/>
            <a:ext cx="36720" cy="2556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30"/>
          <p:cNvSpPr/>
          <p:nvPr/>
        </p:nvSpPr>
        <p:spPr>
          <a:xfrm rot="8850000">
            <a:off x="6943680" y="4624560"/>
            <a:ext cx="36720" cy="4032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31"/>
          <p:cNvSpPr/>
          <p:nvPr/>
        </p:nvSpPr>
        <p:spPr>
          <a:xfrm rot="4971600">
            <a:off x="6646680" y="4590720"/>
            <a:ext cx="36720" cy="2556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32"/>
          <p:cNvSpPr/>
          <p:nvPr/>
        </p:nvSpPr>
        <p:spPr>
          <a:xfrm rot="8586600">
            <a:off x="6792480" y="4435560"/>
            <a:ext cx="36720" cy="25704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33"/>
          <p:cNvSpPr/>
          <p:nvPr/>
        </p:nvSpPr>
        <p:spPr>
          <a:xfrm rot="6503400">
            <a:off x="6698160" y="4499280"/>
            <a:ext cx="36360" cy="2574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34"/>
          <p:cNvSpPr/>
          <p:nvPr/>
        </p:nvSpPr>
        <p:spPr>
          <a:xfrm rot="3439800">
            <a:off x="6703560" y="4652640"/>
            <a:ext cx="36720" cy="2556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35"/>
          <p:cNvSpPr/>
          <p:nvPr/>
        </p:nvSpPr>
        <p:spPr>
          <a:xfrm rot="7441200">
            <a:off x="6955560" y="4618800"/>
            <a:ext cx="36360" cy="21888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36"/>
          <p:cNvSpPr/>
          <p:nvPr/>
        </p:nvSpPr>
        <p:spPr>
          <a:xfrm rot="10604400">
            <a:off x="6859080" y="4684320"/>
            <a:ext cx="36720" cy="21924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37"/>
          <p:cNvSpPr/>
          <p:nvPr/>
        </p:nvSpPr>
        <p:spPr>
          <a:xfrm rot="2607000">
            <a:off x="6945480" y="4430880"/>
            <a:ext cx="36360" cy="25560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38"/>
          <p:cNvSpPr/>
          <p:nvPr/>
        </p:nvSpPr>
        <p:spPr>
          <a:xfrm rot="4927200">
            <a:off x="7010640" y="4488480"/>
            <a:ext cx="36720" cy="330120"/>
          </a:xfrm>
          <a:prstGeom prst="ellipse">
            <a:avLst/>
          </a:prstGeom>
          <a:solidFill>
            <a:srgbClr val="ff99cc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629040" y="4458240"/>
            <a:ext cx="597240" cy="502200"/>
            <a:chOff x="6629040" y="4458240"/>
            <a:chExt cx="597240" cy="502200"/>
          </a:xfrm>
        </p:grpSpPr>
        <p:sp>
          <p:nvSpPr>
            <p:cNvPr id="388" name="Oval 140"/>
            <p:cNvSpPr/>
            <p:nvPr/>
          </p:nvSpPr>
          <p:spPr>
            <a:xfrm rot="8391600">
              <a:off x="6935400" y="4595040"/>
              <a:ext cx="27720" cy="32580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41"/>
            <p:cNvSpPr/>
            <p:nvPr/>
          </p:nvSpPr>
          <p:spPr>
            <a:xfrm rot="9267000">
              <a:off x="6830280" y="4453920"/>
              <a:ext cx="27720" cy="2073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42"/>
            <p:cNvSpPr/>
            <p:nvPr/>
          </p:nvSpPr>
          <p:spPr>
            <a:xfrm rot="6328800">
              <a:off x="7051680" y="4555440"/>
              <a:ext cx="27720" cy="32580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43"/>
            <p:cNvSpPr/>
            <p:nvPr/>
          </p:nvSpPr>
          <p:spPr>
            <a:xfrm rot="3595200">
              <a:off x="6963840" y="4515840"/>
              <a:ext cx="29160" cy="19512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44"/>
            <p:cNvSpPr/>
            <p:nvPr/>
          </p:nvSpPr>
          <p:spPr>
            <a:xfrm rot="4188000">
              <a:off x="6722280" y="4620600"/>
              <a:ext cx="27720" cy="2066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45"/>
            <p:cNvSpPr/>
            <p:nvPr/>
          </p:nvSpPr>
          <p:spPr>
            <a:xfrm rot="11266800">
              <a:off x="6844680" y="4652280"/>
              <a:ext cx="29160" cy="3074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46"/>
            <p:cNvSpPr/>
            <p:nvPr/>
          </p:nvSpPr>
          <p:spPr>
            <a:xfrm rot="7387800">
              <a:off x="6714000" y="4494240"/>
              <a:ext cx="27720" cy="2066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7"/>
            <p:cNvSpPr/>
            <p:nvPr/>
          </p:nvSpPr>
          <p:spPr>
            <a:xfrm rot="11002800">
              <a:off x="6882120" y="4479480"/>
              <a:ext cx="29520" cy="19548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8"/>
            <p:cNvSpPr/>
            <p:nvPr/>
          </p:nvSpPr>
          <p:spPr>
            <a:xfrm rot="8920200">
              <a:off x="6791760" y="4467240"/>
              <a:ext cx="27720" cy="20736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9"/>
            <p:cNvSpPr/>
            <p:nvPr/>
          </p:nvSpPr>
          <p:spPr>
            <a:xfrm rot="5856600">
              <a:off x="6719040" y="4557960"/>
              <a:ext cx="27720" cy="2066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50"/>
            <p:cNvSpPr/>
            <p:nvPr/>
          </p:nvSpPr>
          <p:spPr>
            <a:xfrm rot="9858000">
              <a:off x="6899760" y="4671720"/>
              <a:ext cx="29160" cy="1670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51"/>
            <p:cNvSpPr/>
            <p:nvPr/>
          </p:nvSpPr>
          <p:spPr>
            <a:xfrm rot="13021800">
              <a:off x="6806880" y="4660200"/>
              <a:ext cx="29520" cy="1670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52"/>
            <p:cNvSpPr/>
            <p:nvPr/>
          </p:nvSpPr>
          <p:spPr>
            <a:xfrm rot="5023800">
              <a:off x="6982560" y="4553280"/>
              <a:ext cx="27720" cy="2066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53"/>
            <p:cNvSpPr/>
            <p:nvPr/>
          </p:nvSpPr>
          <p:spPr>
            <a:xfrm rot="7344000">
              <a:off x="6974640" y="4611600"/>
              <a:ext cx="27720" cy="267840"/>
            </a:xfrm>
            <a:prstGeom prst="ellipse">
              <a:avLst/>
            </a:prstGeom>
            <a:solidFill>
              <a:srgbClr val="ff99cc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636600" y="4394520"/>
            <a:ext cx="529920" cy="462960"/>
            <a:chOff x="6636600" y="4394520"/>
            <a:chExt cx="529920" cy="462960"/>
          </a:xfrm>
        </p:grpSpPr>
        <p:sp>
          <p:nvSpPr>
            <p:cNvPr id="403" name="Oval 155"/>
            <p:cNvSpPr/>
            <p:nvPr/>
          </p:nvSpPr>
          <p:spPr>
            <a:xfrm rot="8391600">
              <a:off x="6906600" y="4523040"/>
              <a:ext cx="25920" cy="2876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56"/>
            <p:cNvSpPr/>
            <p:nvPr/>
          </p:nvSpPr>
          <p:spPr>
            <a:xfrm rot="9267000">
              <a:off x="6816600" y="4390920"/>
              <a:ext cx="25920" cy="1832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7"/>
            <p:cNvSpPr/>
            <p:nvPr/>
          </p:nvSpPr>
          <p:spPr>
            <a:xfrm rot="6328800">
              <a:off x="7011360" y="4483440"/>
              <a:ext cx="25920" cy="2876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8"/>
            <p:cNvSpPr/>
            <p:nvPr/>
          </p:nvSpPr>
          <p:spPr>
            <a:xfrm rot="3595200">
              <a:off x="6935400" y="4440600"/>
              <a:ext cx="25920" cy="18288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9"/>
            <p:cNvSpPr/>
            <p:nvPr/>
          </p:nvSpPr>
          <p:spPr>
            <a:xfrm rot="4188000">
              <a:off x="6717240" y="4547520"/>
              <a:ext cx="25920" cy="1825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60"/>
            <p:cNvSpPr/>
            <p:nvPr/>
          </p:nvSpPr>
          <p:spPr>
            <a:xfrm rot="11266800">
              <a:off x="6824880" y="4568760"/>
              <a:ext cx="25920" cy="28800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61"/>
            <p:cNvSpPr/>
            <p:nvPr/>
          </p:nvSpPr>
          <p:spPr>
            <a:xfrm rot="7387800">
              <a:off x="6712920" y="4430520"/>
              <a:ext cx="25920" cy="1825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62"/>
            <p:cNvSpPr/>
            <p:nvPr/>
          </p:nvSpPr>
          <p:spPr>
            <a:xfrm rot="11002800">
              <a:off x="6863400" y="4408200"/>
              <a:ext cx="25920" cy="1832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63"/>
            <p:cNvSpPr/>
            <p:nvPr/>
          </p:nvSpPr>
          <p:spPr>
            <a:xfrm rot="8920200">
              <a:off x="6782040" y="4403880"/>
              <a:ext cx="25920" cy="18324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64"/>
            <p:cNvSpPr/>
            <p:nvPr/>
          </p:nvSpPr>
          <p:spPr>
            <a:xfrm rot="5856600">
              <a:off x="6715440" y="4489920"/>
              <a:ext cx="25920" cy="1825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65"/>
            <p:cNvSpPr/>
            <p:nvPr/>
          </p:nvSpPr>
          <p:spPr>
            <a:xfrm rot="9858000">
              <a:off x="6875280" y="4586040"/>
              <a:ext cx="25920" cy="15660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66"/>
            <p:cNvSpPr/>
            <p:nvPr/>
          </p:nvSpPr>
          <p:spPr>
            <a:xfrm rot="13021800">
              <a:off x="6792840" y="4578120"/>
              <a:ext cx="25920" cy="15660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7"/>
            <p:cNvSpPr/>
            <p:nvPr/>
          </p:nvSpPr>
          <p:spPr>
            <a:xfrm rot="5023800">
              <a:off x="6950160" y="4479840"/>
              <a:ext cx="25920" cy="1825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8"/>
            <p:cNvSpPr/>
            <p:nvPr/>
          </p:nvSpPr>
          <p:spPr>
            <a:xfrm rot="7344000">
              <a:off x="6941880" y="4535640"/>
              <a:ext cx="25920" cy="236520"/>
            </a:xfrm>
            <a:prstGeom prst="ellipse">
              <a:avLst/>
            </a:prstGeom>
            <a:solidFill>
              <a:srgbClr val="ff99c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805800" y="4484160"/>
            <a:ext cx="356040" cy="196560"/>
            <a:chOff x="6805800" y="4484160"/>
            <a:chExt cx="356040" cy="196560"/>
          </a:xfrm>
        </p:grpSpPr>
        <p:sp>
          <p:nvSpPr>
            <p:cNvPr id="418" name="Freeform 170"/>
            <p:cNvSpPr/>
            <p:nvPr/>
          </p:nvSpPr>
          <p:spPr>
            <a:xfrm rot="9841200">
              <a:off x="6811200" y="4551120"/>
              <a:ext cx="330480" cy="8532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71"/>
            <p:cNvSpPr/>
            <p:nvPr/>
          </p:nvSpPr>
          <p:spPr>
            <a:xfrm rot="9841200">
              <a:off x="7084440" y="4493520"/>
              <a:ext cx="73440" cy="370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87520" y="4587120"/>
            <a:ext cx="221040" cy="56880"/>
            <a:chOff x="6887520" y="4587120"/>
            <a:chExt cx="221040" cy="56880"/>
          </a:xfrm>
        </p:grpSpPr>
        <p:sp>
          <p:nvSpPr>
            <p:cNvPr id="421" name="Freeform 173"/>
            <p:cNvSpPr/>
            <p:nvPr/>
          </p:nvSpPr>
          <p:spPr>
            <a:xfrm rot="10822800">
              <a:off x="6887520" y="4594680"/>
              <a:ext cx="200520" cy="4860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74"/>
            <p:cNvSpPr/>
            <p:nvPr/>
          </p:nvSpPr>
          <p:spPr>
            <a:xfrm rot="10822800">
              <a:off x="7063920" y="4587120"/>
              <a:ext cx="44640" cy="20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2960" y="4619880"/>
            <a:ext cx="219240" cy="58680"/>
            <a:chOff x="6852960" y="4619880"/>
            <a:chExt cx="219240" cy="58680"/>
          </a:xfrm>
        </p:grpSpPr>
        <p:sp>
          <p:nvSpPr>
            <p:cNvPr id="424" name="Freeform 176"/>
            <p:cNvSpPr/>
            <p:nvPr/>
          </p:nvSpPr>
          <p:spPr>
            <a:xfrm rot="10822800">
              <a:off x="6852960" y="4627800"/>
              <a:ext cx="199080" cy="5004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7"/>
            <p:cNvSpPr/>
            <p:nvPr/>
          </p:nvSpPr>
          <p:spPr>
            <a:xfrm rot="10822800">
              <a:off x="7027920" y="4619880"/>
              <a:ext cx="44280" cy="2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82400" y="4498920"/>
            <a:ext cx="182520" cy="188280"/>
            <a:chOff x="6782400" y="4498920"/>
            <a:chExt cx="182520" cy="188280"/>
          </a:xfrm>
        </p:grpSpPr>
        <p:sp>
          <p:nvSpPr>
            <p:cNvPr id="427" name="Freeform 179"/>
            <p:cNvSpPr/>
            <p:nvPr/>
          </p:nvSpPr>
          <p:spPr>
            <a:xfrm rot="8317800">
              <a:off x="6774120" y="4577760"/>
              <a:ext cx="199080" cy="5004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0"/>
            <p:cNvSpPr/>
            <p:nvPr/>
          </p:nvSpPr>
          <p:spPr>
            <a:xfrm rot="8317800">
              <a:off x="6909480" y="4510800"/>
              <a:ext cx="44280" cy="2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72400" y="4632120"/>
            <a:ext cx="291240" cy="151200"/>
            <a:chOff x="6872400" y="4632120"/>
            <a:chExt cx="291240" cy="151200"/>
          </a:xfrm>
        </p:grpSpPr>
        <p:sp>
          <p:nvSpPr>
            <p:cNvPr id="430" name="Freeform 182"/>
            <p:cNvSpPr/>
            <p:nvPr/>
          </p:nvSpPr>
          <p:spPr>
            <a:xfrm rot="12202200">
              <a:off x="6871320" y="4682520"/>
              <a:ext cx="265320" cy="5004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83"/>
            <p:cNvSpPr/>
            <p:nvPr/>
          </p:nvSpPr>
          <p:spPr>
            <a:xfrm rot="12202200">
              <a:off x="7102440" y="4727160"/>
              <a:ext cx="59040" cy="2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871680" y="4703400"/>
            <a:ext cx="131040" cy="88200"/>
            <a:chOff x="6871680" y="4703400"/>
            <a:chExt cx="131040" cy="88200"/>
          </a:xfrm>
        </p:grpSpPr>
        <p:sp>
          <p:nvSpPr>
            <p:cNvPr id="433" name="Freeform 185"/>
            <p:cNvSpPr/>
            <p:nvPr/>
          </p:nvSpPr>
          <p:spPr>
            <a:xfrm rot="12202200">
              <a:off x="6877080" y="4722120"/>
              <a:ext cx="106920" cy="5004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86"/>
            <p:cNvSpPr/>
            <p:nvPr/>
          </p:nvSpPr>
          <p:spPr>
            <a:xfrm rot="12202200">
              <a:off x="6975360" y="4736160"/>
              <a:ext cx="23760" cy="2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893640" y="4647600"/>
            <a:ext cx="129240" cy="80280"/>
            <a:chOff x="6893640" y="4647600"/>
            <a:chExt cx="129240" cy="80280"/>
          </a:xfrm>
        </p:grpSpPr>
        <p:sp>
          <p:nvSpPr>
            <p:cNvPr id="436" name="Freeform 188"/>
            <p:cNvSpPr/>
            <p:nvPr/>
          </p:nvSpPr>
          <p:spPr>
            <a:xfrm rot="11868600">
              <a:off x="6898680" y="4662720"/>
              <a:ext cx="106560" cy="50040"/>
            </a:xfrm>
            <a:prstGeom prst="pi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9"/>
            <p:cNvSpPr/>
            <p:nvPr/>
          </p:nvSpPr>
          <p:spPr>
            <a:xfrm rot="11868600">
              <a:off x="6996240" y="4671360"/>
              <a:ext cx="23760" cy="2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Freeform 190"/>
          <p:cNvSpPr/>
          <p:nvPr/>
        </p:nvSpPr>
        <p:spPr>
          <a:xfrm rot="8851800">
            <a:off x="6837120" y="4548960"/>
            <a:ext cx="198360" cy="50760"/>
          </a:xfrm>
          <a:prstGeom prst="pi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91"/>
          <p:cNvSpPr/>
          <p:nvPr/>
        </p:nvSpPr>
        <p:spPr>
          <a:xfrm rot="6339000">
            <a:off x="6751800" y="4575960"/>
            <a:ext cx="199800" cy="49320"/>
          </a:xfrm>
          <a:prstGeom prst="pi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92"/>
          <p:cNvSpPr/>
          <p:nvPr/>
        </p:nvSpPr>
        <p:spPr>
          <a:xfrm rot="11446200">
            <a:off x="6871680" y="4655520"/>
            <a:ext cx="345960" cy="50760"/>
          </a:xfrm>
          <a:prstGeom prst="pi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93"/>
          <p:cNvSpPr/>
          <p:nvPr/>
        </p:nvSpPr>
        <p:spPr>
          <a:xfrm>
            <a:off x="7954920" y="4030560"/>
            <a:ext cx="649440" cy="584280"/>
          </a:xfrm>
          <a:prstGeom prst="ellipse">
            <a:avLst/>
          </a:prstGeom>
          <a:blipFill rotWithShape="0">
            <a:blip r:embed="rId1">
              <a:alphaModFix amt="8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94"/>
          <p:cNvSpPr/>
          <p:nvPr/>
        </p:nvSpPr>
        <p:spPr>
          <a:xfrm>
            <a:off x="1689120" y="4438800"/>
            <a:ext cx="566640" cy="56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>
                  <a:alpha val="8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95"/>
          <p:cNvSpPr/>
          <p:nvPr/>
        </p:nvSpPr>
        <p:spPr>
          <a:xfrm>
            <a:off x="2629080" y="3760920"/>
            <a:ext cx="502920" cy="496800"/>
          </a:xfrm>
          <a:prstGeom prst="ellipse">
            <a:avLst/>
          </a:prstGeom>
          <a:gradFill rotWithShape="0">
            <a:gsLst>
              <a:gs pos="0">
                <a:srgbClr val="ff3399">
                  <a:alpha val="27058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96"/>
          <p:cNvSpPr/>
          <p:nvPr/>
        </p:nvSpPr>
        <p:spPr>
          <a:xfrm>
            <a:off x="3635280" y="5221440"/>
            <a:ext cx="327240" cy="32364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ffff99">
                  <a:alpha val="3137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97"/>
          <p:cNvSpPr/>
          <p:nvPr/>
        </p:nvSpPr>
        <p:spPr>
          <a:xfrm rot="8319600">
            <a:off x="8101080" y="5148000"/>
            <a:ext cx="503280" cy="496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99">
                  <a:alpha val="32156"/>
                </a:srgbClr>
              </a:gs>
            </a:gsLst>
            <a:lin ang="213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98"/>
          <p:cNvSpPr/>
          <p:nvPr/>
        </p:nvSpPr>
        <p:spPr>
          <a:xfrm>
            <a:off x="666720" y="3708360"/>
            <a:ext cx="5129280" cy="2387520"/>
          </a:xfrm>
          <a:prstGeom prst="pie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6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2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8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8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22" presetSubtype="2">
                                  <p:stCondLst>
                                    <p:cond delay="6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167760"/>
            <a:ext cx="82072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8000" y="1133640"/>
            <a:ext cx="89280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7286760" y="298440"/>
            <a:ext cx="1388880" cy="311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86D-67FA-4747-A524-4AB9F66378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0:47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8:02Z</dcterms:modified>
  <cp:revision>2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