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0A3B-BD24-4A14-943E-820DBAC65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651D-90D3-4D1E-AE54-AC95CFEE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BC5A-209A-468F-B399-42A1D9A64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87B8-3DA4-425B-9675-F5B2124CB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AE5D-3156-4C0C-B67D-5863C675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E973-F272-43C5-BCAD-DA1F3037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AE60-C497-43D4-8A84-A1D32432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E6CF-11AF-4B37-BB8B-0A213DAD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0DB5-BBEA-4ABE-9B17-5F21CC4E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5A03-4703-4072-ABD3-131EB00F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F728-3E91-4409-93BB-914626E0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FF16-BC49-45BE-9A7F-10ECD708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A656-0EA9-4223-81A2-D0071457500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F6A7-BFE5-43C5-A06C-BE0635EAEA6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2138"/>
          <p:cNvSpPr/>
          <p:nvPr/>
        </p:nvSpPr>
        <p:spPr>
          <a:xfrm>
            <a:off x="2131920" y="4363920"/>
            <a:ext cx="5400720" cy="433440"/>
          </a:xfrm>
          <a:prstGeom prst="rect">
            <a:avLst/>
          </a:prstGeom>
          <a:solidFill>
            <a:srgbClr val="c0c0c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2120"/>
          <p:cNvSpPr/>
          <p:nvPr/>
        </p:nvSpPr>
        <p:spPr>
          <a:xfrm>
            <a:off x="2011320" y="4324320"/>
            <a:ext cx="5632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Dotum"/>
                <a:ea typeface="Dotum"/>
              </a:rPr>
              <a:t>[</a:t>
            </a:r>
            <a:r>
              <a:rPr b="0" lang="en-US" sz="800" spc="-1" strike="noStrike">
                <a:solidFill>
                  <a:srgbClr val="000000"/>
                </a:solidFill>
                <a:latin typeface="Gulim"/>
                <a:ea typeface="Gulim"/>
              </a:rPr>
              <a:t>Cars is the best place to buy new cars online. We offer low, no-haggle prices and have a huge selection of new and used cars. To find the guaranteed </a:t>
            </a:r>
            <a:r>
              <a:rPr b="1" lang="en-US" sz="800" spc="-1" strike="noStrike">
                <a:solidFill>
                  <a:srgbClr val="cc0000"/>
                </a:solidFill>
                <a:latin typeface="Gulim"/>
                <a:ea typeface="Gulim"/>
              </a:rPr>
              <a:t>CarsDirect price</a:t>
            </a:r>
            <a:r>
              <a:rPr b="0" lang="en-US" sz="800" spc="-1" strike="noStrike">
                <a:solidFill>
                  <a:srgbClr val="000000"/>
                </a:solidFill>
                <a:latin typeface="Gulim"/>
                <a:ea typeface="Gulim"/>
              </a:rPr>
              <a:t> for any new vehicle, begin by selecting the make and model in the drop-down menus above</a:t>
            </a:r>
            <a:r>
              <a:rPr b="0" lang="en-US" sz="900" spc="-1" strike="noStrike">
                <a:solidFill>
                  <a:srgbClr val="000000"/>
                </a:solidFill>
                <a:latin typeface="Dotum"/>
                <a:ea typeface="Dotum"/>
              </a:rPr>
              <a:t>.www.1ppt.com</a:t>
            </a:r>
            <a:r>
              <a:rPr b="1" lang="en-US" sz="900" spc="-1" strike="noStrike">
                <a:solidFill>
                  <a:srgbClr val="000000"/>
                </a:solidFill>
                <a:latin typeface="Dotum"/>
                <a:ea typeface="Dotum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459080" y="5762520"/>
            <a:ext cx="1440" cy="1800"/>
            <a:chOff x="1459080" y="5762520"/>
            <a:chExt cx="1440" cy="1800"/>
          </a:xfrm>
        </p:grpSpPr>
        <p:sp>
          <p:nvSpPr>
            <p:cNvPr id="45" name="Line 1557"/>
            <p:cNvSpPr/>
            <p:nvPr/>
          </p:nvSpPr>
          <p:spPr>
            <a:xfrm>
              <a:off x="1459080" y="57625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 txBox="1"/>
            <p:nvPr/>
          </p:nvSpPr>
          <p:spPr>
            <a:xfrm>
              <a:off x="1459080" y="5762520"/>
              <a:ext cx="14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459080" y="5762520"/>
            <a:ext cx="1440" cy="1800"/>
            <a:chOff x="1459080" y="5762520"/>
            <a:chExt cx="1440" cy="1800"/>
          </a:xfrm>
        </p:grpSpPr>
        <p:sp>
          <p:nvSpPr>
            <p:cNvPr id="48" name="Line 1558"/>
            <p:cNvSpPr/>
            <p:nvPr/>
          </p:nvSpPr>
          <p:spPr>
            <a:xfrm>
              <a:off x="1459080" y="57625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 txBox="1"/>
            <p:nvPr/>
          </p:nvSpPr>
          <p:spPr>
            <a:xfrm>
              <a:off x="1459080" y="5762520"/>
              <a:ext cx="14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1246320" y="5924520"/>
            <a:ext cx="1440" cy="1440"/>
            <a:chOff x="1246320" y="5924520"/>
            <a:chExt cx="1440" cy="1440"/>
          </a:xfrm>
        </p:grpSpPr>
        <p:sp>
          <p:nvSpPr>
            <p:cNvPr id="51" name="Line 1561"/>
            <p:cNvSpPr/>
            <p:nvPr/>
          </p:nvSpPr>
          <p:spPr>
            <a:xfrm>
              <a:off x="1246320" y="59245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 txBox="1"/>
            <p:nvPr/>
          </p:nvSpPr>
          <p:spPr>
            <a:xfrm>
              <a:off x="1246320" y="592452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1246320" y="5924520"/>
            <a:ext cx="1440" cy="1440"/>
            <a:chOff x="1246320" y="5924520"/>
            <a:chExt cx="1440" cy="1440"/>
          </a:xfrm>
        </p:grpSpPr>
        <p:sp>
          <p:nvSpPr>
            <p:cNvPr id="54" name="Line 1562"/>
            <p:cNvSpPr/>
            <p:nvPr/>
          </p:nvSpPr>
          <p:spPr>
            <a:xfrm>
              <a:off x="1246320" y="59245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 txBox="1"/>
            <p:nvPr/>
          </p:nvSpPr>
          <p:spPr>
            <a:xfrm>
              <a:off x="1246320" y="592452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1233360" y="5838840"/>
            <a:ext cx="1800" cy="1440"/>
            <a:chOff x="1233360" y="5838840"/>
            <a:chExt cx="1800" cy="1440"/>
          </a:xfrm>
        </p:grpSpPr>
        <p:sp>
          <p:nvSpPr>
            <p:cNvPr id="57" name="Line 1565"/>
            <p:cNvSpPr/>
            <p:nvPr/>
          </p:nvSpPr>
          <p:spPr>
            <a:xfrm>
              <a:off x="1233360" y="58388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 txBox="1"/>
            <p:nvPr/>
          </p:nvSpPr>
          <p:spPr>
            <a:xfrm>
              <a:off x="1233360" y="5838840"/>
              <a:ext cx="18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1233360" y="5838840"/>
            <a:ext cx="1800" cy="1440"/>
            <a:chOff x="1233360" y="5838840"/>
            <a:chExt cx="1800" cy="1440"/>
          </a:xfrm>
        </p:grpSpPr>
        <p:sp>
          <p:nvSpPr>
            <p:cNvPr id="60" name="Line 1566"/>
            <p:cNvSpPr/>
            <p:nvPr/>
          </p:nvSpPr>
          <p:spPr>
            <a:xfrm>
              <a:off x="1233360" y="58388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 txBox="1"/>
            <p:nvPr/>
          </p:nvSpPr>
          <p:spPr>
            <a:xfrm>
              <a:off x="1233360" y="5838840"/>
              <a:ext cx="18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1224000" y="5772240"/>
            <a:ext cx="1440" cy="1440"/>
            <a:chOff x="1224000" y="5772240"/>
            <a:chExt cx="1440" cy="1440"/>
          </a:xfrm>
        </p:grpSpPr>
        <p:sp>
          <p:nvSpPr>
            <p:cNvPr id="63" name="Line 1568"/>
            <p:cNvSpPr/>
            <p:nvPr/>
          </p:nvSpPr>
          <p:spPr>
            <a:xfrm>
              <a:off x="1224000" y="577224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 txBox="1"/>
            <p:nvPr/>
          </p:nvSpPr>
          <p:spPr>
            <a:xfrm>
              <a:off x="1224000" y="577224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224000" y="5772240"/>
            <a:ext cx="1440" cy="1440"/>
            <a:chOff x="1224000" y="5772240"/>
            <a:chExt cx="1440" cy="1440"/>
          </a:xfrm>
        </p:grpSpPr>
        <p:sp>
          <p:nvSpPr>
            <p:cNvPr id="66" name="Line 1569"/>
            <p:cNvSpPr/>
            <p:nvPr/>
          </p:nvSpPr>
          <p:spPr>
            <a:xfrm>
              <a:off x="1224000" y="577224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 txBox="1"/>
            <p:nvPr/>
          </p:nvSpPr>
          <p:spPr>
            <a:xfrm>
              <a:off x="1224000" y="577224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1243080" y="5772240"/>
            <a:ext cx="1440" cy="1440"/>
            <a:chOff x="1243080" y="5772240"/>
            <a:chExt cx="1440" cy="1440"/>
          </a:xfrm>
        </p:grpSpPr>
        <p:sp>
          <p:nvSpPr>
            <p:cNvPr id="69" name="Line 1571"/>
            <p:cNvSpPr/>
            <p:nvPr/>
          </p:nvSpPr>
          <p:spPr>
            <a:xfrm>
              <a:off x="1243080" y="577224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>
              <a:off x="1243080" y="577224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1243080" y="5772240"/>
            <a:ext cx="1440" cy="1440"/>
            <a:chOff x="1243080" y="5772240"/>
            <a:chExt cx="1440" cy="1440"/>
          </a:xfrm>
        </p:grpSpPr>
        <p:sp>
          <p:nvSpPr>
            <p:cNvPr id="72" name="Line 1572"/>
            <p:cNvSpPr/>
            <p:nvPr/>
          </p:nvSpPr>
          <p:spPr>
            <a:xfrm>
              <a:off x="1243080" y="577224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 txBox="1"/>
            <p:nvPr/>
          </p:nvSpPr>
          <p:spPr>
            <a:xfrm>
              <a:off x="1243080" y="577224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233360" y="5778360"/>
            <a:ext cx="1800" cy="1800"/>
            <a:chOff x="1233360" y="5778360"/>
            <a:chExt cx="1800" cy="1800"/>
          </a:xfrm>
        </p:grpSpPr>
        <p:sp>
          <p:nvSpPr>
            <p:cNvPr id="75" name="Line 1574"/>
            <p:cNvSpPr/>
            <p:nvPr/>
          </p:nvSpPr>
          <p:spPr>
            <a:xfrm>
              <a:off x="1233360" y="577836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 txBox="1"/>
            <p:nvPr/>
          </p:nvSpPr>
          <p:spPr>
            <a:xfrm>
              <a:off x="1233360" y="5778360"/>
              <a:ext cx="18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1233360" y="5778360"/>
            <a:ext cx="1800" cy="1800"/>
            <a:chOff x="1233360" y="5778360"/>
            <a:chExt cx="1800" cy="1800"/>
          </a:xfrm>
        </p:grpSpPr>
        <p:sp>
          <p:nvSpPr>
            <p:cNvPr id="78" name="Line 1575"/>
            <p:cNvSpPr/>
            <p:nvPr/>
          </p:nvSpPr>
          <p:spPr>
            <a:xfrm>
              <a:off x="1233360" y="577836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 txBox="1"/>
            <p:nvPr/>
          </p:nvSpPr>
          <p:spPr>
            <a:xfrm>
              <a:off x="1233360" y="5778360"/>
              <a:ext cx="18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414680" y="5997600"/>
            <a:ext cx="1800" cy="1440"/>
            <a:chOff x="4414680" y="5997600"/>
            <a:chExt cx="1800" cy="1440"/>
          </a:xfrm>
        </p:grpSpPr>
        <p:sp>
          <p:nvSpPr>
            <p:cNvPr id="81" name="Line 1598"/>
            <p:cNvSpPr/>
            <p:nvPr/>
          </p:nvSpPr>
          <p:spPr>
            <a:xfrm>
              <a:off x="4414680" y="599760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4414680" y="5997600"/>
              <a:ext cx="18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4414680" y="5997600"/>
            <a:ext cx="1800" cy="1440"/>
            <a:chOff x="4414680" y="5997600"/>
            <a:chExt cx="1800" cy="1440"/>
          </a:xfrm>
        </p:grpSpPr>
        <p:sp>
          <p:nvSpPr>
            <p:cNvPr id="84" name="Line 1599"/>
            <p:cNvSpPr/>
            <p:nvPr/>
          </p:nvSpPr>
          <p:spPr>
            <a:xfrm>
              <a:off x="4414680" y="599760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4414680" y="5997600"/>
              <a:ext cx="18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02080" y="5911920"/>
            <a:ext cx="1800" cy="1440"/>
            <a:chOff x="4402080" y="5911920"/>
            <a:chExt cx="1800" cy="1440"/>
          </a:xfrm>
        </p:grpSpPr>
        <p:sp>
          <p:nvSpPr>
            <p:cNvPr id="87" name="Line 1600"/>
            <p:cNvSpPr/>
            <p:nvPr/>
          </p:nvSpPr>
          <p:spPr>
            <a:xfrm>
              <a:off x="4402080" y="59119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>
              <a:off x="4402080" y="5911920"/>
              <a:ext cx="18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402080" y="5911920"/>
            <a:ext cx="1800" cy="1440"/>
            <a:chOff x="4402080" y="5911920"/>
            <a:chExt cx="1800" cy="1440"/>
          </a:xfrm>
        </p:grpSpPr>
        <p:sp>
          <p:nvSpPr>
            <p:cNvPr id="90" name="Line 1601"/>
            <p:cNvSpPr/>
            <p:nvPr/>
          </p:nvSpPr>
          <p:spPr>
            <a:xfrm>
              <a:off x="4402080" y="59119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4402080" y="5911920"/>
              <a:ext cx="18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389480" y="5845320"/>
            <a:ext cx="1440" cy="1440"/>
            <a:chOff x="4389480" y="5845320"/>
            <a:chExt cx="1440" cy="1440"/>
          </a:xfrm>
        </p:grpSpPr>
        <p:sp>
          <p:nvSpPr>
            <p:cNvPr id="93" name="Line 1602"/>
            <p:cNvSpPr/>
            <p:nvPr/>
          </p:nvSpPr>
          <p:spPr>
            <a:xfrm>
              <a:off x="4389480" y="5845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389480" y="584532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389480" y="5845320"/>
            <a:ext cx="1440" cy="1440"/>
            <a:chOff x="4389480" y="5845320"/>
            <a:chExt cx="1440" cy="1440"/>
          </a:xfrm>
        </p:grpSpPr>
        <p:sp>
          <p:nvSpPr>
            <p:cNvPr id="96" name="Line 1603"/>
            <p:cNvSpPr/>
            <p:nvPr/>
          </p:nvSpPr>
          <p:spPr>
            <a:xfrm>
              <a:off x="4389480" y="5845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4389480" y="584532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3259080" y="5907240"/>
            <a:ext cx="1800" cy="1440"/>
            <a:chOff x="3259080" y="5907240"/>
            <a:chExt cx="1800" cy="1440"/>
          </a:xfrm>
        </p:grpSpPr>
        <p:sp>
          <p:nvSpPr>
            <p:cNvPr id="99" name="Line 1612"/>
            <p:cNvSpPr/>
            <p:nvPr/>
          </p:nvSpPr>
          <p:spPr>
            <a:xfrm>
              <a:off x="3259080" y="59072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 txBox="1"/>
            <p:nvPr/>
          </p:nvSpPr>
          <p:spPr>
            <a:xfrm>
              <a:off x="3259080" y="5907240"/>
              <a:ext cx="18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259080" y="5907240"/>
            <a:ext cx="1800" cy="1440"/>
            <a:chOff x="3259080" y="5907240"/>
            <a:chExt cx="1800" cy="1440"/>
          </a:xfrm>
        </p:grpSpPr>
        <p:sp>
          <p:nvSpPr>
            <p:cNvPr id="102" name="Line 1613"/>
            <p:cNvSpPr/>
            <p:nvPr/>
          </p:nvSpPr>
          <p:spPr>
            <a:xfrm>
              <a:off x="3259080" y="59072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3259080" y="5907240"/>
              <a:ext cx="18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3046320" y="6068880"/>
            <a:ext cx="1800" cy="1800"/>
            <a:chOff x="3046320" y="6068880"/>
            <a:chExt cx="1800" cy="1800"/>
          </a:xfrm>
        </p:grpSpPr>
        <p:sp>
          <p:nvSpPr>
            <p:cNvPr id="105" name="Line 1616"/>
            <p:cNvSpPr/>
            <p:nvPr/>
          </p:nvSpPr>
          <p:spPr>
            <a:xfrm>
              <a:off x="3046320" y="60688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3046320" y="6068880"/>
              <a:ext cx="18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046320" y="6068880"/>
            <a:ext cx="1800" cy="1800"/>
            <a:chOff x="3046320" y="6068880"/>
            <a:chExt cx="1800" cy="1800"/>
          </a:xfrm>
        </p:grpSpPr>
        <p:sp>
          <p:nvSpPr>
            <p:cNvPr id="108" name="Line 1617"/>
            <p:cNvSpPr/>
            <p:nvPr/>
          </p:nvSpPr>
          <p:spPr>
            <a:xfrm>
              <a:off x="3046320" y="60688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3046320" y="6068880"/>
              <a:ext cx="18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033720" y="5983200"/>
            <a:ext cx="1440" cy="1800"/>
            <a:chOff x="3033720" y="5983200"/>
            <a:chExt cx="1440" cy="1800"/>
          </a:xfrm>
        </p:grpSpPr>
        <p:sp>
          <p:nvSpPr>
            <p:cNvPr id="111" name="Line 1620"/>
            <p:cNvSpPr/>
            <p:nvPr/>
          </p:nvSpPr>
          <p:spPr>
            <a:xfrm>
              <a:off x="3033720" y="5983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3033720" y="5983200"/>
              <a:ext cx="14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033720" y="5983200"/>
            <a:ext cx="1440" cy="1800"/>
            <a:chOff x="3033720" y="5983200"/>
            <a:chExt cx="1440" cy="1800"/>
          </a:xfrm>
        </p:grpSpPr>
        <p:sp>
          <p:nvSpPr>
            <p:cNvPr id="114" name="Line 1621"/>
            <p:cNvSpPr/>
            <p:nvPr/>
          </p:nvSpPr>
          <p:spPr>
            <a:xfrm>
              <a:off x="3033720" y="5983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3033720" y="5983200"/>
              <a:ext cx="14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024360" y="5916600"/>
            <a:ext cx="1440" cy="1440"/>
            <a:chOff x="3024360" y="5916600"/>
            <a:chExt cx="1440" cy="1440"/>
          </a:xfrm>
        </p:grpSpPr>
        <p:sp>
          <p:nvSpPr>
            <p:cNvPr id="117" name="Line 1623"/>
            <p:cNvSpPr/>
            <p:nvPr/>
          </p:nvSpPr>
          <p:spPr>
            <a:xfrm>
              <a:off x="3024360" y="59166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3024360" y="591660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024360" y="5916600"/>
            <a:ext cx="1440" cy="1440"/>
            <a:chOff x="3024360" y="5916600"/>
            <a:chExt cx="1440" cy="1440"/>
          </a:xfrm>
        </p:grpSpPr>
        <p:sp>
          <p:nvSpPr>
            <p:cNvPr id="120" name="Line 1624"/>
            <p:cNvSpPr/>
            <p:nvPr/>
          </p:nvSpPr>
          <p:spPr>
            <a:xfrm>
              <a:off x="3024360" y="59166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3024360" y="591660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033720" y="5923080"/>
            <a:ext cx="1440" cy="1440"/>
            <a:chOff x="3033720" y="5923080"/>
            <a:chExt cx="1440" cy="1440"/>
          </a:xfrm>
        </p:grpSpPr>
        <p:sp>
          <p:nvSpPr>
            <p:cNvPr id="123" name="Line 1629"/>
            <p:cNvSpPr/>
            <p:nvPr/>
          </p:nvSpPr>
          <p:spPr>
            <a:xfrm>
              <a:off x="3033720" y="59230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3033720" y="592308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033720" y="5923080"/>
            <a:ext cx="1440" cy="1440"/>
            <a:chOff x="3033720" y="5923080"/>
            <a:chExt cx="1440" cy="1440"/>
          </a:xfrm>
        </p:grpSpPr>
        <p:sp>
          <p:nvSpPr>
            <p:cNvPr id="126" name="Line 1630"/>
            <p:cNvSpPr/>
            <p:nvPr/>
          </p:nvSpPr>
          <p:spPr>
            <a:xfrm>
              <a:off x="3033720" y="59230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3033720" y="592308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8" name="Object 2118" descr=""/>
          <p:cNvPicPr/>
          <p:nvPr/>
        </p:nvPicPr>
        <p:blipFill>
          <a:blip r:embed="rId2"/>
          <a:stretch/>
        </p:blipFill>
        <p:spPr>
          <a:xfrm>
            <a:off x="1405080" y="549360"/>
            <a:ext cx="5581440" cy="37526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122"/>
          <p:cNvSpPr/>
          <p:nvPr/>
        </p:nvSpPr>
        <p:spPr>
          <a:xfrm>
            <a:off x="1592280" y="5203800"/>
            <a:ext cx="1044720" cy="158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123"/>
          <p:cNvSpPr/>
          <p:nvPr/>
        </p:nvSpPr>
        <p:spPr>
          <a:xfrm>
            <a:off x="1766880" y="5203800"/>
            <a:ext cx="695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Dotum"/>
                <a:ea typeface="Dotum"/>
              </a:rPr>
              <a:t>strateg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124"/>
          <p:cNvSpPr/>
          <p:nvPr/>
        </p:nvSpPr>
        <p:spPr>
          <a:xfrm>
            <a:off x="2637000" y="5203800"/>
            <a:ext cx="5132160" cy="15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125"/>
          <p:cNvSpPr/>
          <p:nvPr/>
        </p:nvSpPr>
        <p:spPr>
          <a:xfrm>
            <a:off x="2897280" y="5216400"/>
            <a:ext cx="4786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  <a:ea typeface="Gulim"/>
              </a:rPr>
              <a:t>If you choose to buy a new car online through CarsDirect, a Vehicle Specialist will contact you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126"/>
          <p:cNvSpPr/>
          <p:nvPr/>
        </p:nvSpPr>
        <p:spPr>
          <a:xfrm>
            <a:off x="1592280" y="5683320"/>
            <a:ext cx="1044720" cy="16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127"/>
          <p:cNvSpPr/>
          <p:nvPr/>
        </p:nvSpPr>
        <p:spPr>
          <a:xfrm>
            <a:off x="1766880" y="5683320"/>
            <a:ext cx="695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Dotum"/>
                <a:ea typeface="Dotum"/>
              </a:rPr>
              <a:t>solu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128"/>
          <p:cNvSpPr/>
          <p:nvPr/>
        </p:nvSpPr>
        <p:spPr>
          <a:xfrm>
            <a:off x="2637000" y="5683320"/>
            <a:ext cx="5132160" cy="16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129"/>
          <p:cNvSpPr/>
          <p:nvPr/>
        </p:nvSpPr>
        <p:spPr>
          <a:xfrm>
            <a:off x="2897280" y="5686560"/>
            <a:ext cx="4786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  <a:ea typeface="Gulim"/>
              </a:rPr>
              <a:t>Thousands of happy customers buy cars through us every month. Who knew it was so easy to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130"/>
          <p:cNvSpPr/>
          <p:nvPr/>
        </p:nvSpPr>
        <p:spPr>
          <a:xfrm>
            <a:off x="1592280" y="6162840"/>
            <a:ext cx="1044720" cy="16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131"/>
          <p:cNvSpPr/>
          <p:nvPr/>
        </p:nvSpPr>
        <p:spPr>
          <a:xfrm>
            <a:off x="1854360" y="6162840"/>
            <a:ext cx="695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Dotum"/>
                <a:ea typeface="Dotum"/>
              </a:rPr>
              <a:t>FA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132"/>
          <p:cNvSpPr/>
          <p:nvPr/>
        </p:nvSpPr>
        <p:spPr>
          <a:xfrm>
            <a:off x="2637000" y="6162840"/>
            <a:ext cx="5132160" cy="16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133"/>
          <p:cNvSpPr/>
          <p:nvPr/>
        </p:nvSpPr>
        <p:spPr>
          <a:xfrm>
            <a:off x="2897280" y="6175440"/>
            <a:ext cx="4786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  <a:ea typeface="Gulim"/>
              </a:rPr>
              <a:t>They're sorted by subject and lifestage, so you can find what you're looking for quickly and easil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2136"/>
          <p:cNvSpPr/>
          <p:nvPr/>
        </p:nvSpPr>
        <p:spPr>
          <a:xfrm>
            <a:off x="1587600" y="819000"/>
            <a:ext cx="6087960" cy="4010040"/>
          </a:xfrm>
          <a:prstGeom prst="roundRect">
            <a:avLst>
              <a:gd name="adj" fmla="val 4116"/>
            </a:avLst>
          </a:prstGeom>
          <a:noFill/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131920" y="4324320"/>
            <a:ext cx="5400720" cy="360"/>
            <a:chOff x="2131920" y="4324320"/>
            <a:chExt cx="5400720" cy="360"/>
          </a:xfrm>
        </p:grpSpPr>
        <p:sp>
          <p:nvSpPr>
            <p:cNvPr id="143" name="Line 2137"/>
            <p:cNvSpPr/>
            <p:nvPr/>
          </p:nvSpPr>
          <p:spPr>
            <a:xfrm>
              <a:off x="2131920" y="4324320"/>
              <a:ext cx="5400720" cy="0"/>
            </a:xfrm>
            <a:prstGeom prst="line">
              <a:avLst/>
            </a:prstGeom>
            <a:ln cap="rnd" w="158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2131920" y="4324320"/>
              <a:ext cx="540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Text Box 2140"/>
          <p:cNvSpPr/>
          <p:nvPr/>
        </p:nvSpPr>
        <p:spPr>
          <a:xfrm>
            <a:off x="1515960" y="4925880"/>
            <a:ext cx="95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Dotum"/>
                <a:ea typeface="Dotum"/>
              </a:rPr>
              <a:t>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2195640" y="5094360"/>
            <a:ext cx="2160360" cy="1440"/>
            <a:chOff x="2195640" y="5094360"/>
            <a:chExt cx="2160360" cy="1440"/>
          </a:xfrm>
        </p:grpSpPr>
        <p:sp>
          <p:nvSpPr>
            <p:cNvPr id="147" name="Line 2141"/>
            <p:cNvSpPr/>
            <p:nvPr/>
          </p:nvSpPr>
          <p:spPr>
            <a:xfrm>
              <a:off x="2195640" y="5094360"/>
              <a:ext cx="2160360" cy="1440"/>
            </a:xfrm>
            <a:prstGeom prst="line">
              <a:avLst/>
            </a:prstGeom>
            <a:ln cap="rnd" w="1260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2195640" y="5094360"/>
              <a:ext cx="2160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Freeform 2145"/>
          <p:cNvSpPr/>
          <p:nvPr/>
        </p:nvSpPr>
        <p:spPr>
          <a:xfrm>
            <a:off x="4387680" y="4950000"/>
            <a:ext cx="216000" cy="217440"/>
          </a:xfrm>
          <a:prstGeom prst="pi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146"/>
          <p:cNvSpPr/>
          <p:nvPr/>
        </p:nvSpPr>
        <p:spPr>
          <a:xfrm>
            <a:off x="4461840" y="5005440"/>
            <a:ext cx="295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Gulim"/>
                <a:ea typeface="Gulim"/>
              </a:rPr>
              <a:t>They're sorted by subject and lifestage, so you can f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236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17960" y="117360"/>
            <a:ext cx="250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图表教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7AD6-827F-47CD-8A63-32B79D3FB9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12:50:45Z</dcterms:modified>
  <cp:revision>1088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