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C70-F4ED-4A54-8528-5DAF1F49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33E-0CB9-479E-A1B1-9D89D93E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A07-6A1B-45CB-8F97-0E54688F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5CE-9E2B-46DC-AB25-8B339168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D2D9-D7D8-44F2-AF80-B6CF3157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FF89-2337-44CA-9247-D7CB6781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2FD6-2862-4FEB-8132-84E71B4F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860-41D4-411D-8853-8F196DAB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FDEA-0156-48EA-AD46-2DF2595D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4290-598B-4414-9E46-C3DAE343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08ED-DBF6-4527-B44D-AEEFE7B5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55F-7A33-47C4-B5F1-02647064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C08A-5B7B-4563-8D49-D83587E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48C9-C9C1-4FD8-9360-16FAC762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789F-CAF5-4E34-B26C-FA2D1A68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FFD7-D440-4054-B017-88914379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2E74-48A5-4E00-8085-DB8E713D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D0F-0F59-4A5C-949B-F98C6449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D8E-C049-4E4A-A4D7-44EC2F34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3D7-2919-4033-A50B-5A43E136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CC8-2A57-44F7-9751-1FC462A4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598-736E-4E56-93D0-092E9229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0BE-5FBE-4A6A-AB6F-BC287B05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E28-C24D-4406-9E5A-F25D3E61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817B-6680-45A2-9BCC-7E0AAE4C4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D6B4-28B7-4EA6-A390-27F8863B52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(15)"/>
          <p:cNvPicPr/>
          <p:nvPr/>
        </p:nvPicPr>
        <p:blipFill>
          <a:blip r:embed="rId1"/>
          <a:srcRect l="0" t="0" r="888" b="108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403280" y="212076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爬山虎的脚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565776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`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3"/>
          <p:cNvPicPr/>
          <p:nvPr/>
        </p:nvPicPr>
        <p:blipFill>
          <a:blip r:embed="rId1"/>
          <a:stretch/>
        </p:blipFill>
        <p:spPr>
          <a:xfrm>
            <a:off x="-1981080" y="-316080"/>
            <a:ext cx="12191760" cy="809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文化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月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a83dd211f6fbdcc7c2ce79b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68360" y="480600"/>
            <a:ext cx="867564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填 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长出来的叶子的特点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 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大了的叶子的特点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40576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27920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045400" y="27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均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485040" y="278136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顺儿朝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740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新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98212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茂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a83dd211f6fbdcc7c2ce79b8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爬山虎刚长出来的叶子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，不几天叶子长大，就变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。爬山虎的嫩叶，不大引人注意，引人注意的是长大了的叶子。那此叶子绿得那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新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看着非常舒服。叶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顺儿朝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在墙上铺得那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均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没有重叠起来的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也不留一点儿空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一阵风拂过，一墙的叶子就漾起波纹，好看得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466003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759600" y="1125360"/>
            <a:ext cx="7898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刚长出来的叶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00932720123066517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133" name="Text Box 3"/>
          <p:cNvSpPr/>
          <p:nvPr/>
        </p:nvSpPr>
        <p:spPr>
          <a:xfrm>
            <a:off x="543600" y="156024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刚长出来的叶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60811200736m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831600" y="2282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刚出来的叶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mage004"/>
          <p:cNvPicPr/>
          <p:nvPr/>
        </p:nvPicPr>
        <p:blipFill>
          <a:blip r:embed="rId1"/>
          <a:stretch/>
        </p:blipFill>
        <p:spPr>
          <a:xfrm>
            <a:off x="6804000" y="3645000"/>
            <a:ext cx="2077920" cy="24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Picture 3" descr="image006"/>
          <p:cNvPicPr/>
          <p:nvPr/>
        </p:nvPicPr>
        <p:blipFill>
          <a:blip r:embed="rId2"/>
          <a:stretch/>
        </p:blipFill>
        <p:spPr>
          <a:xfrm>
            <a:off x="6804000" y="692280"/>
            <a:ext cx="2050920" cy="24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8" name="Picture 4" descr="1-0Z9291PG9"/>
          <p:cNvPicPr/>
          <p:nvPr/>
        </p:nvPicPr>
        <p:blipFill>
          <a:blip r:embed="rId3"/>
          <a:stretch/>
        </p:blipFill>
        <p:spPr>
          <a:xfrm>
            <a:off x="2700360" y="2349360"/>
            <a:ext cx="3889440" cy="370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Picture 5" descr="1"/>
          <p:cNvPicPr/>
          <p:nvPr/>
        </p:nvPicPr>
        <p:blipFill>
          <a:blip r:embed="rId4"/>
          <a:stretch/>
        </p:blipFill>
        <p:spPr>
          <a:xfrm>
            <a:off x="468360" y="3500280"/>
            <a:ext cx="2039760" cy="24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6"/>
          <p:cNvSpPr/>
          <p:nvPr/>
        </p:nvSpPr>
        <p:spPr>
          <a:xfrm>
            <a:off x="3484440" y="1125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刚长出来的叶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20070913165922389"/>
          <p:cNvPicPr/>
          <p:nvPr/>
        </p:nvPicPr>
        <p:blipFill>
          <a:blip r:embed="rId5"/>
          <a:stretch/>
        </p:blipFill>
        <p:spPr>
          <a:xfrm>
            <a:off x="468360" y="549360"/>
            <a:ext cx="2124000" cy="256536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6180035p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427040" y="5373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长大了的叶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爬山虎图片4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876920" y="33336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种攀援在墙壁上的供观赏的植物。也叫巴山虎、地锦、常春藤。卷须前端有吸盘，夏季开花，花很小，黄绿色。产于我国各地，茎和根可以入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P6180009p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-164880" y="1413000"/>
            <a:ext cx="1642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长大了的叶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d1-3-3-21%C5%C0%C9%BD%BB%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p:transition advTm="3000">
    <p:strips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6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8f0c61d2166ded9e0fe0bf8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p:transition advTm="3000">
    <p:strips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a83dd211f6fbdcc7c2ce79b8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爬山虎刚长出来的叶子是嫩红的，不几天叶子长大，就变成嫩绿的。爬山虎的嫩叶，不大引人注意，引人注意的是长大了的叶子。那此叶子绿得那么新鲜，看着非常舒服。叶尖一顺儿朝下，在墙上铺得那么均匀，没有重叠起来的，也不留一点儿空隙。一阵风拂过，一墙的叶子就漾起波纹，好看得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83dd211f6fbdcc7c2ce79b8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95280" y="2103480"/>
            <a:ext cx="8280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脚长在茎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茎上长叶柄的地方，反面伸出枝状的六七根细丝，每根细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像蜗牛的触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细丝跟新叶子一样，也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嫩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。这就是爬山虎的脚。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3414854417455389061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2798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57" name="Picture 3" descr="3414854417455389063"/>
          <p:cNvPicPr/>
          <p:nvPr/>
        </p:nvPicPr>
        <p:blipFill>
          <a:blip r:embed="rId2"/>
          <a:stretch/>
        </p:blipFill>
        <p:spPr>
          <a:xfrm>
            <a:off x="250920" y="3357720"/>
            <a:ext cx="4105080" cy="3314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58" name="Picture 4" descr="W020070920469468744879"/>
          <p:cNvPicPr/>
          <p:nvPr/>
        </p:nvPicPr>
        <p:blipFill>
          <a:blip r:embed="rId3"/>
          <a:stretch/>
        </p:blipFill>
        <p:spPr>
          <a:xfrm>
            <a:off x="4716360" y="1773360"/>
            <a:ext cx="4229280" cy="4841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59" name="Rectangle 5"/>
          <p:cNvSpPr/>
          <p:nvPr/>
        </p:nvSpPr>
        <p:spPr>
          <a:xfrm>
            <a:off x="5148360" y="40464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爬山虎的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4886860_14264292630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161" name="Rectangle 3"/>
          <p:cNvSpPr/>
          <p:nvPr/>
        </p:nvSpPr>
        <p:spPr>
          <a:xfrm>
            <a:off x="5651640" y="1197000"/>
            <a:ext cx="29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爬山虎的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5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a83dd211f6fbdcc7c2ce79b8"/>
          <p:cNvPicPr/>
          <p:nvPr/>
        </p:nvPicPr>
        <p:blipFill>
          <a:blip r:embed="rId1"/>
          <a:stretch/>
        </p:blipFill>
        <p:spPr>
          <a:xfrm>
            <a:off x="250920" y="-268200"/>
            <a:ext cx="8893080" cy="7126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28480" y="1268280"/>
            <a:ext cx="861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爬山虎就是这样一脚一脚地往上爬。如果你仔细看那些细小的脚，你会想起图画上蛟龙的爪子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83dd211f6fbdcc7c2ce79b8"/>
          <p:cNvPicPr/>
          <p:nvPr/>
        </p:nvPicPr>
        <p:blipFill>
          <a:blip r:embed="rId1"/>
          <a:stretch/>
        </p:blipFill>
        <p:spPr>
          <a:xfrm>
            <a:off x="250920" y="-268200"/>
            <a:ext cx="8893080" cy="7126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8480" y="1268280"/>
            <a:ext cx="861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爬山虎的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着墙的时候，六七根细丝的头上就变成小圆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住墙。细丝原先是直的，现在弯曲了，把爬山虎的嫩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把，使它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83dd211f6fbdcc7c2ce79b8"/>
          <p:cNvPicPr/>
          <p:nvPr/>
        </p:nvPicPr>
        <p:blipFill>
          <a:blip r:embed="rId1"/>
          <a:stretch/>
        </p:blipFill>
        <p:spPr>
          <a:xfrm>
            <a:off x="250920" y="-268200"/>
            <a:ext cx="8893080" cy="7126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28480" y="1268280"/>
            <a:ext cx="861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爬山虎的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着墙的时候，六七根细丝的头上就变成小圆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住墙。细丝原先是直的，现在弯曲了，把爬山虎的嫩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把，使它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867760" y="3860640"/>
            <a:ext cx="38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爬山虎就是这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脚一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地往上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2pashanhu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5724360" y="90792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376680" y="621000"/>
            <a:ext cx="729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墙（             ） 的爬山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03280" y="1916280"/>
            <a:ext cx="67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547640" y="2565360"/>
            <a:ext cx="676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440000" y="220500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诵课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u=808505328,1570918826&amp;fm=2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同学们自由地朗读课文，在读中注意这样两个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圈出课文的生字新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课文每个自然段分别写了爬山虎的什么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u=808505328,1570918826&amp;fm=2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468360" y="18446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均匀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空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隙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拂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蛟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龙       树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茎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叶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u=808505328,1570918826&amp;fm=2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你读懂了每个自然段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53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生长得很茂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的叶子很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三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的脚的生长位置、样子、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四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的脚是怎么爬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五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脚的变化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u=808505328,1570918826&amp;fm=2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猜一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搭架，下搭架，开黄花，条条青龙藤上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丝瓜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搭架，下搭架，串串珍珠藤上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葡萄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83dd211f6fbdcc7c2ce79b8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操场北边墙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爬山虎。我家也有爬山虎，从小院的西墙爬上去，在房顶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大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_imgloa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45007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7921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欣赏爬山虎的图片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岩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屋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墙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3:37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8:36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