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9D8-87BD-4848-B135-6AAC3F1C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B48-CE36-4C26-8DF8-A3C5F56A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0E4-5239-4234-B84D-D76FA8C1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421-2288-4518-9F0B-74AE026F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37B0-9C4C-4586-AC9B-7A102D82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1938-0CEA-4A82-9FD0-7BFEFF71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EE00-F96D-4E4D-B5F1-FB844F2A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24B4-41FB-400D-BB10-8D204005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336E-2FE7-4B3E-8AAB-9B6FB789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9834-0FEE-4F0B-8CB9-E3CB4337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DB7F-71F9-4141-B9C4-6FA0A066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8554-8E8D-4B16-AC88-28819967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52C0-872B-4223-AD47-4CA66F19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A016-82BA-41F7-8A7D-64E2B514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4AF8-1D6F-4F88-82B2-DFAACF69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4044-2B4C-44DF-9C3F-B34DEA5D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333E-BA4F-4C7E-BB2C-2D2BCD2D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59A-F60E-4190-AD11-DB693AF8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F10-EE06-485E-8621-F54BC7D0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3A9-EF53-458C-AECF-59B2D989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9AB-03A5-4707-AD5F-89F4B6C5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038-8CA6-4A6B-854A-92C2AA41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DC3-3D97-42D7-8DE6-1AF27F91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0E9-E54A-415A-B683-43E3CFE8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AEB0-5CC1-48CB-9E4A-EFCAD7C66F8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FC28-9D56-4D5F-978B-237ECF9C38C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46BE-AEDD-4D29-9DC8-73CF88F3AA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对角圆角矩形 28"/>
          <p:cNvSpPr/>
          <p:nvPr/>
        </p:nvSpPr>
        <p:spPr>
          <a:xfrm rot="21346800">
            <a:off x="1133640" y="2106360"/>
            <a:ext cx="6954840" cy="3879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3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标题 1"/>
          <p:cNvSpPr/>
          <p:nvPr/>
        </p:nvSpPr>
        <p:spPr>
          <a:xfrm>
            <a:off x="457200" y="93996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a5a5"/>
                </a:solidFill>
                <a:latin typeface="汉仪大宋简"/>
                <a:ea typeface="汉仪大宋简"/>
              </a:rPr>
              <a:t>强调</a:t>
            </a:r>
            <a:r>
              <a:rPr b="0" lang="zh-CN" sz="4000" spc="-1" strike="noStrike">
                <a:solidFill>
                  <a:srgbClr val="a5a5a5"/>
                </a:solidFill>
                <a:latin typeface="汉仪大宋简"/>
                <a:ea typeface="汉仪大宋简"/>
              </a:rPr>
              <a:t>PPT</a:t>
            </a:r>
            <a:r>
              <a:rPr b="0" lang="zh-CN" sz="4000" spc="-1" strike="noStrike">
                <a:solidFill>
                  <a:srgbClr val="a5a5a5"/>
                </a:solidFill>
                <a:latin typeface="汉仪大宋简"/>
                <a:ea typeface="汉仪大宋简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:\TDDOWNLOAD\pencil.png"/>
          <p:cNvPicPr/>
          <p:nvPr/>
        </p:nvPicPr>
        <p:blipFill>
          <a:blip r:embed="rId2"/>
          <a:stretch/>
        </p:blipFill>
        <p:spPr>
          <a:xfrm>
            <a:off x="887400" y="19144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86" name="内容占位符 2"/>
          <p:cNvSpPr/>
          <p:nvPr/>
        </p:nvSpPr>
        <p:spPr>
          <a:xfrm rot="21361200">
            <a:off x="1348920" y="2388960"/>
            <a:ext cx="645480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强调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63086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22CC-D8A3-4526-A7D9-E86AAA641D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1Z</dcterms:modified>
  <cp:revision>81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