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27.jpeg" ContentType="image/jpeg"/>
  <Override PartName="/ppt/media/image17.gif" ContentType="image/gif"/>
  <Override PartName="/ppt/media/image26.gif" ContentType="image/gif"/>
  <Override PartName="/ppt/media/image20.jpeg" ContentType="image/jpeg"/>
  <Override PartName="/ppt/media/image25.png" ContentType="image/png"/>
  <Override PartName="/ppt/media/image32.gif" ContentType="image/gif"/>
  <Override PartName="/ppt/media/image24.gif" ContentType="image/gif"/>
  <Override PartName="/ppt/media/image30.gif" ContentType="image/gif"/>
  <Override PartName="/ppt/media/image8.png" ContentType="image/png"/>
  <Override PartName="/ppt/media/image28.gif" ContentType="image/gif"/>
  <Override PartName="/ppt/media/image10.gif" ContentType="image/gif"/>
  <Override PartName="/ppt/media/image5.gif" ContentType="image/gif"/>
  <Override PartName="/ppt/media/image38.jpeg" ContentType="image/jpeg"/>
  <Override PartName="/ppt/media/image31.gif" ContentType="image/gif"/>
  <Override PartName="/ppt/media/image6.gif" ContentType="image/gif"/>
  <Override PartName="/ppt/media/image36.gif" ContentType="image/gif"/>
  <Override PartName="/ppt/media/image9.gif" ContentType="image/gif"/>
  <Override PartName="/ppt/media/image12.png" ContentType="image/png"/>
  <Override PartName="/ppt/media/image18.gif" ContentType="image/gif"/>
  <Override PartName="/ppt/media/image13.jpeg" ContentType="image/jpeg"/>
  <Override PartName="/ppt/media/image11.png" ContentType="image/png"/>
  <Override PartName="/ppt/media/image33.gif" ContentType="image/gif"/>
  <Override PartName="/ppt/media/image34.gif" ContentType="image/gif"/>
  <Override PartName="/ppt/media/image4.gif" ContentType="image/gif"/>
  <Override PartName="/ppt/media/image22.jpeg" ContentType="image/jpeg"/>
  <Override PartName="/ppt/media/image1.jpeg" ContentType="image/jpeg"/>
  <Override PartName="/ppt/media/image35.jpeg" ContentType="image/jpeg"/>
  <Override PartName="/ppt/media/image37.jpeg" ContentType="image/jpeg"/>
  <Override PartName="/ppt/media/image3.jpeg" ContentType="image/jpeg"/>
  <Override PartName="/ppt/media/image2.jpeg" ContentType="image/jpeg"/>
  <Override PartName="/ppt/media/image14.gif" ContentType="image/gif"/>
  <Override PartName="/ppt/media/image15.jpeg" ContentType="image/jpeg"/>
  <Override PartName="/ppt/media/image16.gif" ContentType="image/gif"/>
  <Override PartName="/ppt/media/image19.gif" ContentType="image/gif"/>
  <Override PartName="/ppt/media/image21.gif" ContentType="image/gif"/>
  <Override PartName="/ppt/media/image23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A995-9EBD-4A57-89AC-CD7CDF431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9F7F-AB7F-43F1-BAD5-0F10A0BE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5371-DFFA-4F5D-B8EE-7E1330F8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98CC-D4C8-4A30-A46C-471A66D8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A009-4625-49BB-96C1-267BCB429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FC85-4FAC-4F8D-9E21-DCEA68AB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0E35-2451-444B-B7AE-D4603AA6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52D4-FEA1-4D50-8EA5-A4CA8786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87A3-4DBD-4DB9-8B23-5D636B13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CB98-A5B2-4E4D-B03E-3D81CE46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9726-6AC7-4F6D-A1E0-FA0F55EA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BE8D-8005-492B-B856-FDB04C4B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9C59-6ADC-446E-BC78-E29A6337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C40F-860C-4F6E-B17E-802F571E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885A-71BE-4370-9536-E10F8DB6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382C-3044-4678-B3E0-BF74DFB94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D51E-186A-44A2-85AF-231267F15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970B8-6451-4389-BD77-AEBE67C42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1221F-E390-4489-96D6-EC0E17E9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6C966-B1BF-41E8-9CAC-C88A04CE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F0B7C-9975-415F-85C3-B3B5F354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A7E85-5A03-4E0F-BD4A-D4B3CFFA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67D3-97DA-409D-BBA3-5ABE22C8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1648B-DB69-4A1F-AD74-8821B8AF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318C6-8058-448F-9E4F-5062CD3D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28455-A858-4E58-AEBC-B9503842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27D8B-B39B-4CD4-87D9-BA96A79F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E3700-B207-47CA-8045-56F4F745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C7E25-1EEF-43B2-9841-65AF69C3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4F84F-EC18-4216-BA5D-B2F1698B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57ADD-BB2F-4B07-92D9-5ACE65A2D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36B59-032A-4649-97E1-C96AB90F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056E6-C541-443D-A2B0-4087D65E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82C0-F0C8-4B27-9474-5881E7C7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76BB0-556D-48B7-BA2A-2688D857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E4E25-5919-4895-A620-EBCB32F9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88707-B30A-4AFA-A56F-6B4E7FB1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4F18C-CBEB-415F-B290-3D48C587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E3EAF-AA87-4DD3-96B9-4945D24E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32069-F4A1-4F7C-A4B4-5138BF4C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91716-FAD5-48F3-A6E1-87B12C82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300C8-B587-4597-8E15-50B0CC38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692DF-A2FC-48B0-A384-883E13EAE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0C7EA-BE76-40A1-AADD-4E4D0586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71EA-6217-4FE5-BA6A-9E77B904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9ACFF-BEEB-4BBD-8B10-6BA157E6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AAB53-79C7-4701-80E8-41AE061B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E14D5-E427-4C77-9542-A288F3EF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D9A74-C2EB-48DA-A47C-32152806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CEFD5-5EC2-4FBF-9651-E94E9F19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761E0-6E80-48AC-8B24-0CFA3664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FBC1F-C3CC-4B07-B2EC-AF613AE1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D0C55-8EB4-42DD-8C2A-2A981C05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54C3C-783C-4CF7-BD04-F0CFCEA1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A24A0-3979-4F6A-BE25-4DBC605E4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D761-DE33-4148-BCC3-D12439FB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5A558-8EBC-49EF-B6DF-AE3D17831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48593-A924-4B66-9EFF-9D4279D43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FE9BD-9E37-4895-BAF8-E82C3555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76301-F385-4516-98DC-D354EE7C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5B9A7-3BA8-4FB3-B9C9-03C457DA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57C04-0481-44F0-9679-9C04191F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2C980-7DBB-43A0-8765-8B925751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5B9BD-AF08-4126-92D8-9D23F4E6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7FB40-9CAF-43BC-998C-2EF9ED7B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092BA-8C4B-476C-B29A-1E17AA53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00AB-7306-4108-A528-453BDEE3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79B4C-EF55-446A-8DB7-3426178A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1572C-2409-430A-B75D-2378A30EF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94D24-8F4D-4582-B0A9-BF0E9080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24FD-0E14-4C95-A46B-285B0033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327E-1ABE-4FFA-929D-574BC9D9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360" cy="6950160"/>
            <a:chOff x="-86760" y="-93600"/>
            <a:chExt cx="277236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200"/>
              <a:ext cx="889200" cy="720360"/>
              <a:chOff x="67680" y="3922200"/>
              <a:chExt cx="889200" cy="72036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440"/>
                <a:ext cx="22824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840" y="4311000"/>
                <a:ext cx="389160" cy="220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360" y="4155120"/>
                <a:ext cx="40572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6680" cy="3117600"/>
              <a:chOff x="-1080" y="2601000"/>
              <a:chExt cx="2686680" cy="311760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600" cy="1004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48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8200" y="3854520"/>
                <a:ext cx="6480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760"/>
                <a:ext cx="1833480" cy="1662840"/>
                <a:chOff x="852120" y="4055760"/>
                <a:chExt cx="1833480" cy="166284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5600"/>
                  <a:ext cx="474480" cy="121536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3760"/>
                  <a:ext cx="108720" cy="4978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360" y="5569560"/>
                  <a:ext cx="198360" cy="83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8000" y="6174000"/>
              <a:ext cx="790200" cy="634680"/>
              <a:chOff x="468000" y="6174000"/>
              <a:chExt cx="79020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2680" y="6174360"/>
                <a:ext cx="19764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0680" y="6513840"/>
                <a:ext cx="337320" cy="21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640" y="6410880"/>
                <a:ext cx="35136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8800" y="1747080"/>
                <a:ext cx="20736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2640" y="2154240"/>
                <a:ext cx="35460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360" y="2205720"/>
                <a:ext cx="36936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840" cy="581400"/>
              <a:chOff x="1293840" y="0"/>
              <a:chExt cx="54684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88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3680" y="103320"/>
                <a:ext cx="297000" cy="182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3920" y="489240"/>
                <a:ext cx="30924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8326-5D20-4B21-82CA-F073A826021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000"/>
              <a:chOff x="5407200" y="63360"/>
              <a:chExt cx="3624480" cy="612900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120" y="1961280"/>
                <a:ext cx="90612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560" y="675720"/>
                <a:ext cx="388800" cy="55116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44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35680" y="1034640"/>
              <a:ext cx="1017360" cy="1261800"/>
              <a:chOff x="4135680" y="1034640"/>
              <a:chExt cx="1017360" cy="126180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1840" y="1072800"/>
                <a:ext cx="28692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35360" y="1605240"/>
                <a:ext cx="489600" cy="316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096080" y="1962720"/>
                <a:ext cx="51012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0120" y="294120"/>
              <a:ext cx="889560" cy="832680"/>
              <a:chOff x="5640120" y="294120"/>
              <a:chExt cx="889560" cy="83268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1360" y="796320"/>
                <a:ext cx="17928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1680" y="475560"/>
                <a:ext cx="306360" cy="301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0240" y="3938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5080" y="5282280"/>
              <a:ext cx="1061280" cy="834480"/>
              <a:chOff x="955080" y="5282280"/>
              <a:chExt cx="1061280" cy="83448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8480" y="5550480"/>
                <a:ext cx="25236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0800" y="5761080"/>
                <a:ext cx="431280" cy="2494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6080" y="5406840"/>
                <a:ext cx="44928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5680" y="428760"/>
              <a:ext cx="1692000" cy="1148040"/>
              <a:chOff x="355680" y="428760"/>
              <a:chExt cx="1692000" cy="114804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55560" y="1047240"/>
                <a:ext cx="35748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1880" y="572400"/>
                <a:ext cx="610560" cy="443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58480" y="1087560"/>
                <a:ext cx="63612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840"/>
              <a:ext cx="1157760" cy="1609200"/>
              <a:chOff x="7396560" y="3696840"/>
              <a:chExt cx="1157760" cy="160920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640" y="4741200"/>
                <a:ext cx="35712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1640" y="4438440"/>
                <a:ext cx="610200" cy="443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4560" y="3765600"/>
                <a:ext cx="63576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87AA-9F4F-42E2-BFEB-5CF03D98BB6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68" name="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314" name="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328" name="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342" name="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356" name="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370" name="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384" name="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398" name=""/>
            <p:cNvSpPr/>
            <p:nvPr/>
          </p:nvSpPr>
          <p:spPr>
            <a:xfrm>
              <a:off x="7041600" y="-7920"/>
              <a:ext cx="2102760" cy="191376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400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485120" y="965880"/>
                <a:ext cx="18648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314120" y="105444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701200" y="76536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820360" y="90036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625960" y="115884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598600" y="1247040"/>
                <a:ext cx="455040" cy="36576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895600" y="1100880"/>
                <a:ext cx="25740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7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8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9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E500-F8A9-4673-BC0D-7BF07F513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456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470" name="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dt" idx="10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ftr" idx="1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ED4E-E0F1-41EA-8C6E-7A3D8330E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620" name="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1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1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46DF-1D0A-4263-9050-49934847C687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dt" idx="16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ftr" idx="17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sldNum" idx="18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AF71-7CA4-402A-9B19-BCCF173758C4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hyperlink" Target="http://www.eeppt.com/sucai/" TargetMode="External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png"/><Relationship Id="rId5" Type="http://schemas.openxmlformats.org/officeDocument/2006/relationships/image" Target="../media/image26.gif"/><Relationship Id="rId6" Type="http://schemas.openxmlformats.org/officeDocument/2006/relationships/image" Target="../media/image27.jpeg"/><Relationship Id="rId7" Type="http://schemas.openxmlformats.org/officeDocument/2006/relationships/image" Target="../media/image28.gif"/><Relationship Id="rId8" Type="http://schemas.openxmlformats.org/officeDocument/2006/relationships/hyperlink" Target="http://www.eeppt.com/sucai/" TargetMode="External"/><Relationship Id="rId9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9.gif"/><Relationship Id="rId16" Type="http://schemas.openxmlformats.org/officeDocument/2006/relationships/image" Target="../media/image9.gif"/><Relationship Id="rId17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" descr=""/>
          <p:cNvPicPr/>
          <p:nvPr/>
        </p:nvPicPr>
        <p:blipFill>
          <a:blip r:embed="rId2"/>
          <a:stretch/>
        </p:blipFill>
        <p:spPr>
          <a:xfrm>
            <a:off x="755640" y="476280"/>
            <a:ext cx="638280" cy="208764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3"/>
          <a:stretch/>
        </p:blipFill>
        <p:spPr>
          <a:xfrm>
            <a:off x="8101080" y="4508640"/>
            <a:ext cx="620640" cy="165564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1763640" y="645336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99ff"/>
                </a:solidFill>
                <a:uFillTx/>
                <a:latin typeface="Arial"/>
                <a:hlinkClick r:id="rId4"/>
              </a:rPr>
              <a:t>ppt图片素材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539800" y="1173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勤俭节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" descr=""/>
          <p:cNvPicPr/>
          <p:nvPr/>
        </p:nvPicPr>
        <p:blipFill>
          <a:blip r:embed="rId2"/>
          <a:stretch/>
        </p:blipFill>
        <p:spPr>
          <a:xfrm>
            <a:off x="8172360" y="5950080"/>
            <a:ext cx="525600" cy="525240"/>
          </a:xfrm>
          <a:prstGeom prst="rect">
            <a:avLst/>
          </a:prstGeom>
          <a:ln w="0">
            <a:noFill/>
          </a:ln>
        </p:spPr>
      </p:pic>
      <p:pic>
        <p:nvPicPr>
          <p:cNvPr id="800" name="" descr=""/>
          <p:cNvPicPr/>
          <p:nvPr/>
        </p:nvPicPr>
        <p:blipFill>
          <a:blip r:embed="rId3"/>
          <a:stretch/>
        </p:blipFill>
        <p:spPr>
          <a:xfrm>
            <a:off x="8244000" y="2421000"/>
            <a:ext cx="660240" cy="2160360"/>
          </a:xfrm>
          <a:prstGeom prst="rect">
            <a:avLst/>
          </a:prstGeom>
          <a:ln w="0">
            <a:noFill/>
          </a:ln>
        </p:spPr>
      </p:pic>
      <p:pic>
        <p:nvPicPr>
          <p:cNvPr id="801" name="" descr=""/>
          <p:cNvPicPr/>
          <p:nvPr/>
        </p:nvPicPr>
        <p:blipFill>
          <a:blip r:embed="rId4"/>
          <a:stretch/>
        </p:blipFill>
        <p:spPr>
          <a:xfrm>
            <a:off x="0" y="6053040"/>
            <a:ext cx="1622520" cy="80496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5"/>
          <a:stretch/>
        </p:blipFill>
        <p:spPr>
          <a:xfrm>
            <a:off x="4067280" y="5589720"/>
            <a:ext cx="598320" cy="59832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6"/>
          <a:stretch/>
        </p:blipFill>
        <p:spPr>
          <a:xfrm>
            <a:off x="0" y="1197000"/>
            <a:ext cx="4464000" cy="4392720"/>
          </a:xfrm>
          <a:prstGeom prst="rect">
            <a:avLst/>
          </a:prstGeom>
          <a:ln w="0">
            <a:noFill/>
          </a:ln>
        </p:spPr>
      </p:pic>
      <p:sp>
        <p:nvSpPr>
          <p:cNvPr id="804" name=""/>
          <p:cNvSpPr/>
          <p:nvPr/>
        </p:nvSpPr>
        <p:spPr>
          <a:xfrm>
            <a:off x="4140360" y="907920"/>
            <a:ext cx="42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       “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国家节水标志”由水滴、人手和地球变形而成。绿色的圆形代表地球，象征节约用水是保护地球生态的重要措施。标志留白部分像一只手托起一滴水，手是拼音字母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JS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的变形，寓意节水，表示节水需要公众参与，鼓励人们从我做起，人人动手节约每一滴水；手又象一条蜿蜒的河流，象征滴水汇成江河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3203640" y="476280"/>
            <a:ext cx="2800440" cy="485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effectLst>
                  <a:outerShdw dist="153753" dir="2700000" blurRad="0" rotWithShape="0">
                    <a:srgbClr val="c7dfd3">
                      <a:alpha val="78000"/>
                    </a:srgbClr>
                  </a:outerShdw>
                </a:effectLst>
                <a:latin typeface="华文新魏"/>
              </a:rPr>
              <a:t>看看节水标志</a:t>
            </a:r>
            <a:endParaRPr b="0" lang="en-US" sz="1800" spc="-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effectLst>
                <a:outerShdw dist="153753" dir="2700000" blurRad="0" rotWithShape="0">
                  <a:srgbClr val="c7dfd3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7"/>
          <a:stretch/>
        </p:blipFill>
        <p:spPr>
          <a:xfrm>
            <a:off x="2843280" y="5950080"/>
            <a:ext cx="525240" cy="525240"/>
          </a:xfrm>
          <a:prstGeom prst="rect">
            <a:avLst/>
          </a:prstGeom>
          <a:ln w="0">
            <a:noFill/>
          </a:ln>
        </p:spPr>
      </p:pic>
      <p:sp>
        <p:nvSpPr>
          <p:cNvPr id="807" name=""/>
          <p:cNvSpPr/>
          <p:nvPr/>
        </p:nvSpPr>
        <p:spPr>
          <a:xfrm>
            <a:off x="1763640" y="645336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99ff"/>
                </a:solidFill>
                <a:uFillTx/>
                <a:latin typeface="Arial"/>
                <a:hlinkClick r:id="rId8"/>
              </a:rPr>
              <a:t>ppt图片素材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684360" y="47628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568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中国有</a:t>
            </a:r>
            <a:r>
              <a:rPr b="1" lang="en-US" sz="2400" spc="-1" strike="noStrike">
                <a:solidFill>
                  <a:srgbClr val="565680"/>
                </a:solidFill>
                <a:latin typeface="Arial"/>
              </a:rPr>
              <a:t>13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亿人口</a:t>
            </a:r>
            <a:r>
              <a:rPr b="1" lang="en-US" sz="2400" spc="-1" strike="noStrike">
                <a:solidFill>
                  <a:srgbClr val="56568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假如每个人每星期节约一度电</a:t>
            </a:r>
            <a:r>
              <a:rPr b="1" lang="en-US" sz="2400" spc="-1" strike="noStrike">
                <a:solidFill>
                  <a:srgbClr val="56568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大家想想</a:t>
            </a:r>
            <a:r>
              <a:rPr b="1" lang="en-US" sz="2400" spc="-1" strike="noStrike">
                <a:solidFill>
                  <a:srgbClr val="56568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一年下来</a:t>
            </a:r>
            <a:r>
              <a:rPr b="1" lang="en-US" sz="2400" spc="-1" strike="noStrike">
                <a:solidFill>
                  <a:srgbClr val="56568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能为国家节约多少度电呀</a:t>
            </a:r>
            <a:r>
              <a:rPr b="1" lang="en-US" sz="2400" spc="-1" strike="noStrike">
                <a:solidFill>
                  <a:srgbClr val="565680"/>
                </a:solidFill>
                <a:latin typeface="Arial"/>
              </a:rPr>
              <a:t>!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那可是一个天文数字</a:t>
            </a:r>
            <a:r>
              <a:rPr b="1" lang="en-US" sz="2400" spc="-1" strike="noStrike">
                <a:solidFill>
                  <a:srgbClr val="565680"/>
                </a:solidFill>
                <a:latin typeface="Arial"/>
              </a:rPr>
              <a:t>!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这样为国家节省了多少能源呀</a:t>
            </a:r>
            <a:r>
              <a:rPr b="1" lang="en-US" sz="2400" spc="-1" strike="noStrike">
                <a:solidFill>
                  <a:srgbClr val="565680"/>
                </a:solidFill>
                <a:latin typeface="Arial"/>
              </a:rPr>
              <a:t>!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这样的一件小事</a:t>
            </a:r>
            <a:r>
              <a:rPr b="1" lang="en-US" sz="2400" spc="-1" strike="noStrike">
                <a:solidFill>
                  <a:srgbClr val="56568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难道在座的同学们做不到吗</a:t>
            </a:r>
            <a:r>
              <a:rPr b="1" lang="en-US" sz="2400" spc="-1" strike="noStrike">
                <a:solidFill>
                  <a:srgbClr val="56568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95280" y="2205000"/>
            <a:ext cx="194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65680"/>
                </a:solidFill>
                <a:latin typeface="Arial"/>
              </a:rPr>
              <a:t>下面</a:t>
            </a:r>
            <a:r>
              <a:rPr b="1" lang="en-US" sz="2800" spc="-1" strike="noStrike">
                <a:solidFill>
                  <a:srgbClr val="56568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565680"/>
                </a:solidFill>
                <a:latin typeface="Arial"/>
              </a:rPr>
              <a:t>问问大家</a:t>
            </a:r>
            <a:r>
              <a:rPr b="1" lang="en-US" sz="2800" spc="-1" strike="noStrike">
                <a:solidFill>
                  <a:srgbClr val="56568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565680"/>
                </a:solidFill>
                <a:latin typeface="Arial"/>
              </a:rPr>
              <a:t>知不知道</a:t>
            </a:r>
            <a:r>
              <a:rPr b="1" lang="en-US" sz="2800" spc="-1" strike="noStrike">
                <a:solidFill>
                  <a:srgbClr val="56568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565680"/>
                </a:solidFill>
                <a:latin typeface="Arial"/>
              </a:rPr>
              <a:t>度电能干些什么</a:t>
            </a:r>
            <a:r>
              <a:rPr b="1" lang="en-US" sz="2800" spc="-1" strike="noStrike">
                <a:solidFill>
                  <a:srgbClr val="565680"/>
                </a:solidFill>
                <a:latin typeface="Arial"/>
              </a:rPr>
              <a:t>!</a:t>
            </a:r>
            <a:r>
              <a:rPr b="1" lang="zh-CN" sz="2800" spc="-1" strike="noStrike">
                <a:solidFill>
                  <a:srgbClr val="565680"/>
                </a:solidFill>
                <a:latin typeface="Arial"/>
              </a:rPr>
              <a:t>请同学们说说你的看法</a:t>
            </a:r>
            <a:r>
              <a:rPr b="1" lang="en-US" sz="2800" spc="-1" strike="noStrike">
                <a:solidFill>
                  <a:srgbClr val="56568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/>
          </p:nvPr>
        </p:nvSpPr>
        <p:spPr>
          <a:xfrm>
            <a:off x="3203280" y="2276640"/>
            <a:ext cx="54738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瓦灯泡连续亮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小时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家用冰箱运行一天；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普通电风扇运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小时；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电视机连续播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小时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电动自行车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公里；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公斤的水烧开；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用电热锅炒两个美味的菜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2"/>
          <a:stretch/>
        </p:blipFill>
        <p:spPr>
          <a:xfrm>
            <a:off x="611280" y="5373720"/>
            <a:ext cx="649080" cy="46512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3"/>
          <a:stretch/>
        </p:blipFill>
        <p:spPr>
          <a:xfrm>
            <a:off x="7885080" y="2133720"/>
            <a:ext cx="78912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00" fill="hold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8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8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8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8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900" fill="hold"/>
                                        <p:tgtEl>
                                          <p:spTgt spid="8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bc8ff"/>
            </a:gs>
            <a:gs pos="50000">
              <a:srgbClr val="ffffff"/>
            </a:gs>
            <a:gs pos="100000">
              <a:srgbClr val="5bc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395280" y="260280"/>
            <a:ext cx="619272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  <a:ea typeface="幼圆"/>
              </a:rPr>
              <a:t>      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节约如一首歌</a:t>
            </a:r>
            <a:r>
              <a:rPr b="1" lang="en-US" sz="2400" spc="-1" strike="noStrike">
                <a:solidFill>
                  <a:srgbClr val="666699"/>
                </a:solidFill>
                <a:latin typeface="Arial"/>
                <a:ea typeface="幼圆"/>
              </a:rPr>
              <a:t>,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歌到情初泪自流</a:t>
            </a:r>
            <a:r>
              <a:rPr b="1" lang="en-US" sz="2400" spc="-1" strike="noStrike">
                <a:solidFill>
                  <a:srgbClr val="666699"/>
                </a:solidFill>
                <a:latin typeface="Arial"/>
                <a:ea typeface="幼圆"/>
              </a:rPr>
              <a:t>;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节约似一杯酒</a:t>
            </a:r>
            <a:r>
              <a:rPr b="1" lang="en-US" sz="2400" spc="-1" strike="noStrike">
                <a:solidFill>
                  <a:srgbClr val="666699"/>
                </a:solidFill>
                <a:latin typeface="Arial"/>
                <a:ea typeface="幼圆"/>
              </a:rPr>
              <a:t>,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就将醉时笑语稠</a:t>
            </a:r>
            <a:r>
              <a:rPr b="1" lang="en-US" sz="2400" spc="-1" strike="noStrike">
                <a:solidFill>
                  <a:srgbClr val="666699"/>
                </a:solidFill>
                <a:latin typeface="Arial"/>
                <a:ea typeface="幼圆"/>
              </a:rPr>
              <a:t>;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节约像一首诗</a:t>
            </a:r>
            <a:r>
              <a:rPr b="1" lang="en-US" sz="2400" spc="-1" strike="noStrike">
                <a:solidFill>
                  <a:srgbClr val="666699"/>
                </a:solidFill>
                <a:latin typeface="Arial"/>
                <a:ea typeface="幼圆"/>
              </a:rPr>
              <a:t>,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言有尽意而无穷</a:t>
            </a:r>
            <a:r>
              <a:rPr b="1" lang="en-US" sz="2400" spc="-1" strike="noStrike">
                <a:solidFill>
                  <a:srgbClr val="666699"/>
                </a:solidFill>
                <a:latin typeface="Arial"/>
                <a:ea typeface="幼圆"/>
              </a:rPr>
              <a:t>;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节约是一杯茶</a:t>
            </a:r>
            <a:r>
              <a:rPr b="1" lang="en-US" sz="2400" spc="-1" strike="noStrike">
                <a:solidFill>
                  <a:srgbClr val="666699"/>
                </a:solidFill>
                <a:latin typeface="Arial"/>
                <a:ea typeface="幼圆"/>
              </a:rPr>
              <a:t>,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茶香满口情悠悠</a:t>
            </a:r>
            <a:r>
              <a:rPr b="1" lang="en-US" sz="2400" spc="-1" strike="noStrike">
                <a:solidFill>
                  <a:srgbClr val="666699"/>
                </a:solidFill>
                <a:latin typeface="Arial"/>
                <a:ea typeface="幼圆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1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6381720"/>
            <a:ext cx="9144000" cy="48564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/>
          <p:cNvPicPr/>
          <p:nvPr/>
        </p:nvPicPr>
        <p:blipFill>
          <a:blip r:embed="rId3"/>
          <a:stretch/>
        </p:blipFill>
        <p:spPr>
          <a:xfrm rot="20607000">
            <a:off x="179280" y="3213000"/>
            <a:ext cx="1714680" cy="666720"/>
          </a:xfrm>
          <a:prstGeom prst="rect">
            <a:avLst/>
          </a:prstGeom>
          <a:ln w="0">
            <a:noFill/>
          </a:ln>
        </p:spPr>
      </p:pic>
      <p:pic>
        <p:nvPicPr>
          <p:cNvPr id="816" name="" descr=""/>
          <p:cNvPicPr/>
          <p:nvPr/>
        </p:nvPicPr>
        <p:blipFill>
          <a:blip r:embed="rId4"/>
          <a:stretch/>
        </p:blipFill>
        <p:spPr>
          <a:xfrm>
            <a:off x="7020000" y="1052640"/>
            <a:ext cx="1809720" cy="66672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1979640" y="256536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Arial"/>
                <a:ea typeface="幼圆"/>
              </a:rPr>
              <a:t>平时上课的时候，光线充足的时候，可以把旁边的一排灯关掉；午休的时候，同学们都离开去吃午饭的话，应该把课室的灯关掉；平时同学们不应该浪费饮水的水．你们的爷爷奶奶也许对你们说过，他们小时侯是多么穷苦，吃不饱，穿不暖，上不起学，今天的我们能开空调，看电视，玩电脑，听ＭＰ３，ＭＰ４，这多么幸福！父母省吃俭用供我们读书大家又是否体谅到他们的辛酸呢？倘若同学们每天少花些零用钱，日积月累，那也是一笔不小的数目啊！何乐而不为呢？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366920" y="191628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5c8a"/>
                </a:solidFill>
                <a:latin typeface="Arial"/>
                <a:ea typeface="幼圆"/>
              </a:rPr>
              <a:t>那么我们在日常生活中</a:t>
            </a:r>
            <a:r>
              <a:rPr b="1" lang="en-US" sz="2400" spc="-1" strike="noStrike">
                <a:solidFill>
                  <a:srgbClr val="005c8a"/>
                </a:solidFill>
                <a:latin typeface="Arial"/>
                <a:ea typeface="幼圆"/>
              </a:rPr>
              <a:t>,</a:t>
            </a:r>
            <a:r>
              <a:rPr b="1" lang="zh-CN" sz="2400" spc="-1" strike="noStrike">
                <a:solidFill>
                  <a:srgbClr val="005c8a"/>
                </a:solidFill>
                <a:latin typeface="Arial"/>
                <a:ea typeface="幼圆"/>
              </a:rPr>
              <a:t>应该要怎么做呢</a:t>
            </a:r>
            <a:r>
              <a:rPr b="1" lang="en-US" sz="2400" spc="-1" strike="noStrike">
                <a:solidFill>
                  <a:srgbClr val="005c8a"/>
                </a:solidFill>
                <a:latin typeface="Arial"/>
                <a:ea typeface="幼圆"/>
              </a:rPr>
              <a:t>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539640" y="1844640"/>
            <a:ext cx="7848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历览前贤国与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由勤俭败由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李商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俭是你一生中食之不完的美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爱默生）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静以修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俭以养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诸葛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处不省钱袋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托•莫尔）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居安思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戒奢以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魏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贪污和浪费是极大的犯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毛泽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2771640" y="189000"/>
            <a:ext cx="366732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13dff"/>
                  </a:solidFill>
                  <a:miter/>
                </a:ln>
                <a:solidFill>
                  <a:srgbClr val="edfad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幼圆"/>
              </a:rPr>
              <a:t>勤俭节约的名言</a:t>
            </a:r>
            <a:endParaRPr b="1" lang="en-US" sz="4000" spc="1" strike="noStrike">
              <a:ln w="12600">
                <a:solidFill>
                  <a:srgbClr val="013dff"/>
                </a:solidFill>
                <a:miter/>
              </a:ln>
              <a:solidFill>
                <a:srgbClr val="edfad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幼圆"/>
              <a:ea typeface="幼圆"/>
            </a:endParaRPr>
          </a:p>
        </p:txBody>
      </p:sp>
      <p:pic>
        <p:nvPicPr>
          <p:cNvPr id="821" name="" descr=""/>
          <p:cNvPicPr/>
          <p:nvPr/>
        </p:nvPicPr>
        <p:blipFill>
          <a:blip r:embed="rId2"/>
          <a:stretch/>
        </p:blipFill>
        <p:spPr>
          <a:xfrm>
            <a:off x="8101080" y="692280"/>
            <a:ext cx="60480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66"/>
                </a:solidFill>
                <a:latin typeface="Verdana"/>
              </a:rPr>
              <a:t>使用规范说明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99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ACAE-17A1-4364-B235-96C87C05CC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468360" y="765000"/>
            <a:ext cx="6913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cc"/>
                </a:solidFill>
                <a:latin typeface="Arial"/>
                <a:ea typeface="幼圆"/>
              </a:rPr>
              <a:t>节俭歌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幼圆"/>
              </a:rPr>
              <a:t>一滴水，不算多，一滴一滴汇成河，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幼圆"/>
              </a:rPr>
              <a:t>一粒米，不算多，一粒一粒积满箩，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幼圆"/>
              </a:rPr>
              <a:t>一块石，不算多，一块一块修亭阁，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幼圆"/>
              </a:rPr>
              <a:t>一棵树，不算多，一棵一棵绿山坡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幼圆"/>
              </a:rPr>
              <a:t>晴天防雨天，丰年防灾祸，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幼圆"/>
              </a:rPr>
              <a:t>细水长流不浪费，人人唱好节俭歌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2771640" y="981000"/>
            <a:ext cx="1219320" cy="609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幼圆"/>
              </a:rPr>
              <a:t>前言</a:t>
            </a:r>
            <a:endParaRPr b="1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755" name=""/>
          <p:cNvSpPr/>
          <p:nvPr/>
        </p:nvSpPr>
        <p:spPr>
          <a:xfrm>
            <a:off x="1332000" y="2781360"/>
            <a:ext cx="4606920" cy="1008720"/>
          </a:xfrm>
          <a:prstGeom prst="rect">
            <a:avLst/>
          </a:prstGeom>
          <a:noFill/>
          <a:ln w="3816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曾几何时，“谁知盘中餐，粒粒皆辛苦”的诗句常在耳边回响；曾几何时，“一粥一饭，当思来之不易；一丝一缕，恒念物力维艰”的古训仍在心头萦绕；曾几何时，伟大领袖毛泽东掷地有声的一句话：“浪费是极大的犯罪”，指引着几代人艰苦创业、自力更生。节约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是一种美德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;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节约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是一种创造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;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节约是中华民族的优良传统 。 今天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我们的主题班会就谈谈怎样做到勤俭节约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 rot="21164400">
            <a:off x="4500360" y="980640"/>
            <a:ext cx="18097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324000" y="6343560"/>
            <a:ext cx="8424720" cy="51444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395280" y="981000"/>
            <a:ext cx="8353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cc66"/>
                </a:solidFill>
                <a:latin typeface="Arial"/>
              </a:rPr>
              <a:t>艰苦奋斗、勤俭节约是我党我军的优良传统，老一辈无产阶级革命家率先为我们作出了榜样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cc66"/>
                </a:solidFill>
                <a:latin typeface="Arial"/>
              </a:rPr>
              <a:t>在毛主席生前用过的一百多件日常生活用品中，有一件穿过</a:t>
            </a: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20 </a:t>
            </a:r>
            <a:r>
              <a:rPr b="1" lang="zh-CN" sz="2800" spc="-1" strike="noStrike">
                <a:solidFill>
                  <a:srgbClr val="00cc66"/>
                </a:solidFill>
                <a:latin typeface="Arial"/>
              </a:rPr>
              <a:t>多年、已补过</a:t>
            </a: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73</a:t>
            </a:r>
            <a:r>
              <a:rPr b="1" lang="zh-CN" sz="2800" spc="-1" strike="noStrike">
                <a:solidFill>
                  <a:srgbClr val="00cc66"/>
                </a:solidFill>
                <a:latin typeface="Arial"/>
              </a:rPr>
              <a:t>次的睡衣。身边的工作人员多次提出给他换一件新的，他都执意不肯，直到逝世前夕，他老人家还是穿着这件补钉缀补钉的睡衣。在国民经济困难时期，他老人家首先倡导不吃肉、不吃水果，常常是几个烤芋头就是一餐饭，与全国人民同甘共苦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360360" cy="50472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3"/>
          <a:stretch/>
        </p:blipFill>
        <p:spPr>
          <a:xfrm>
            <a:off x="0" y="2565360"/>
            <a:ext cx="360360" cy="504720"/>
          </a:xfrm>
          <a:prstGeom prst="rect">
            <a:avLst/>
          </a:prstGeom>
          <a:ln w="0">
            <a:noFill/>
          </a:ln>
        </p:spPr>
      </p:pic>
      <p:pic>
        <p:nvPicPr>
          <p:cNvPr id="761" name="" descr=""/>
          <p:cNvPicPr/>
          <p:nvPr/>
        </p:nvPicPr>
        <p:blipFill>
          <a:blip r:embed="rId4"/>
          <a:stretch/>
        </p:blipFill>
        <p:spPr>
          <a:xfrm>
            <a:off x="0" y="1700280"/>
            <a:ext cx="360360" cy="50472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5"/>
          <a:stretch/>
        </p:blipFill>
        <p:spPr>
          <a:xfrm>
            <a:off x="0" y="3573360"/>
            <a:ext cx="360360" cy="50508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6"/>
          <a:stretch/>
        </p:blipFill>
        <p:spPr>
          <a:xfrm>
            <a:off x="0" y="5445000"/>
            <a:ext cx="360360" cy="505080"/>
          </a:xfrm>
          <a:prstGeom prst="rect">
            <a:avLst/>
          </a:prstGeom>
          <a:ln w="0">
            <a:noFill/>
          </a:ln>
        </p:spPr>
      </p:pic>
      <p:pic>
        <p:nvPicPr>
          <p:cNvPr id="764" name="" descr=""/>
          <p:cNvPicPr/>
          <p:nvPr/>
        </p:nvPicPr>
        <p:blipFill>
          <a:blip r:embed="rId7"/>
          <a:stretch/>
        </p:blipFill>
        <p:spPr>
          <a:xfrm>
            <a:off x="0" y="4581360"/>
            <a:ext cx="360360" cy="505080"/>
          </a:xfrm>
          <a:prstGeom prst="rect">
            <a:avLst/>
          </a:prstGeom>
          <a:ln w="0">
            <a:noFill/>
          </a:ln>
        </p:spPr>
      </p:pic>
      <p:pic>
        <p:nvPicPr>
          <p:cNvPr id="765" name="" descr=""/>
          <p:cNvPicPr/>
          <p:nvPr/>
        </p:nvPicPr>
        <p:blipFill>
          <a:blip r:embed="rId8"/>
          <a:stretch/>
        </p:blipFill>
        <p:spPr>
          <a:xfrm>
            <a:off x="0" y="6353280"/>
            <a:ext cx="360360" cy="50472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9"/>
          <a:stretch/>
        </p:blipFill>
        <p:spPr>
          <a:xfrm>
            <a:off x="8783640" y="981000"/>
            <a:ext cx="360360" cy="50508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360360" cy="50472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11"/>
          <a:stretch/>
        </p:blipFill>
        <p:spPr>
          <a:xfrm>
            <a:off x="8783640" y="3284640"/>
            <a:ext cx="360360" cy="50472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12"/>
          <a:stretch/>
        </p:blipFill>
        <p:spPr>
          <a:xfrm>
            <a:off x="8783640" y="2133720"/>
            <a:ext cx="360360" cy="50472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13"/>
          <a:stretch/>
        </p:blipFill>
        <p:spPr>
          <a:xfrm>
            <a:off x="8783640" y="4292640"/>
            <a:ext cx="360360" cy="50472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14"/>
          <a:stretch/>
        </p:blipFill>
        <p:spPr>
          <a:xfrm>
            <a:off x="8783640" y="0"/>
            <a:ext cx="360360" cy="50472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15"/>
          <a:stretch/>
        </p:blipFill>
        <p:spPr>
          <a:xfrm>
            <a:off x="8783640" y="5445000"/>
            <a:ext cx="360360" cy="50508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16"/>
          <a:stretch/>
        </p:blipFill>
        <p:spPr>
          <a:xfrm>
            <a:off x="8783640" y="6353280"/>
            <a:ext cx="360360" cy="50472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2916360" y="404640"/>
            <a:ext cx="3311280" cy="520560"/>
          </a:xfrm>
          <a:prstGeom prst="rect">
            <a:avLst/>
          </a:prstGeom>
          <a:solidFill>
            <a:srgbClr val="f2dffd">
              <a:alpha val="29000"/>
            </a:srgbClr>
          </a:solidFill>
          <a:ln w="57240">
            <a:solidFill>
              <a:srgbClr val="ff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7ff"/>
                </a:solidFill>
                <a:latin typeface="Arial"/>
              </a:rPr>
              <a:t>勤俭节约的故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66"/>
            </a:gs>
            <a:gs pos="50000">
              <a:srgbClr val="ffffff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488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在周总理身上，这样的例子也数不胜数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96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年夏，周总理到辽宁省视察工作，刚一住下，他就从口袋里掏出一张纸，交给负责接待的同志，说：“上面写的东西都不能做。”原来，这张单子开着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多种禁吃的菜名，鸡鸭鱼肉之类都包括在内。正是这一桩桩、一件件小事，铸就了他们伟大的人格魅力，使之成为中华民族传统美德和我党我军光荣传统的化身！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1"/>
          <a:stretch/>
        </p:blipFill>
        <p:spPr>
          <a:xfrm>
            <a:off x="8101080" y="620640"/>
            <a:ext cx="615960" cy="201636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2"/>
          <a:stretch/>
        </p:blipFill>
        <p:spPr>
          <a:xfrm>
            <a:off x="250920" y="6093000"/>
            <a:ext cx="4464000" cy="190440"/>
          </a:xfrm>
          <a:prstGeom prst="rect">
            <a:avLst/>
          </a:prstGeom>
          <a:ln w="0">
            <a:noFill/>
          </a:ln>
        </p:spPr>
      </p:pic>
      <p:pic>
        <p:nvPicPr>
          <p:cNvPr id="778" name="" descr=""/>
          <p:cNvPicPr/>
          <p:nvPr/>
        </p:nvPicPr>
        <p:blipFill>
          <a:blip r:embed="rId3"/>
          <a:stretch/>
        </p:blipFill>
        <p:spPr>
          <a:xfrm>
            <a:off x="4680000" y="6093000"/>
            <a:ext cx="4464000" cy="190440"/>
          </a:xfrm>
          <a:prstGeom prst="rect">
            <a:avLst/>
          </a:prstGeom>
          <a:ln w="0">
            <a:noFill/>
          </a:ln>
        </p:spPr>
      </p:pic>
      <p:pic>
        <p:nvPicPr>
          <p:cNvPr id="779" name="" descr=""/>
          <p:cNvPicPr/>
          <p:nvPr/>
        </p:nvPicPr>
        <p:blipFill>
          <a:blip r:embed="rId4"/>
          <a:stretch/>
        </p:blipFill>
        <p:spPr>
          <a:xfrm>
            <a:off x="4572000" y="404640"/>
            <a:ext cx="33336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179280" y="189000"/>
            <a:ext cx="7956720" cy="1015920"/>
          </a:xfrm>
          <a:prstGeom prst="rect">
            <a:avLst/>
          </a:prstGeom>
          <a:solidFill>
            <a:srgbClr val="9bdeff">
              <a:alpha val="29000"/>
            </a:srgbClr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生在老一辈革命家身上的这些故事，虽然已过去几十年了，但今天读来仍感人至深，对我们每一个人仍具有很强的现实教育意义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现在的生活条件，与毛主席、周总理生活的那个时代不可同日而语。但是生活条件再变，物质再丰富，也不能丢掉艰苦奋斗、勤俭节约的本色。从国家经济建设的大局来说，需要快速的发展，更需要长期、持续的发展。但经济快速增长与我国许多资源短缺的矛盾非常突出，如果我们不注意节约，造成资源的盲目开发和浪费，经济的可持续发展必然难以支撑。这样的基本国情和严峻形势，决定了我们必须长期坚持勤俭节约，勤俭办一切事情。从我们个人来说，是否保持艰苦奋斗、勤俭节约的作风，不仅是个会不会过日子的问题，而且关系到能否保持政治本色的问题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81" name="" descr=""/>
          <p:cNvPicPr/>
          <p:nvPr/>
        </p:nvPicPr>
        <p:blipFill>
          <a:blip r:embed="rId2"/>
          <a:stretch/>
        </p:blipFill>
        <p:spPr>
          <a:xfrm rot="393600">
            <a:off x="684360" y="5950080"/>
            <a:ext cx="1295280" cy="477720"/>
          </a:xfrm>
          <a:prstGeom prst="rect">
            <a:avLst/>
          </a:prstGeom>
          <a:ln w="0">
            <a:noFill/>
          </a:ln>
        </p:spPr>
      </p:pic>
      <p:sp>
        <p:nvSpPr>
          <p:cNvPr id="782" name=""/>
          <p:cNvSpPr/>
          <p:nvPr/>
        </p:nvSpPr>
        <p:spPr>
          <a:xfrm>
            <a:off x="1763640" y="645336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99ff"/>
                </a:solidFill>
                <a:uFillTx/>
                <a:latin typeface="Arial"/>
                <a:hlinkClick r:id="rId3"/>
              </a:rPr>
              <a:t>ppt图片素材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684360" y="476280"/>
            <a:ext cx="6697440" cy="459720"/>
          </a:xfrm>
          <a:prstGeom prst="rect">
            <a:avLst/>
          </a:prstGeom>
          <a:solidFill>
            <a:srgbClr val="9bdeff">
              <a:alpha val="29000"/>
            </a:srgbClr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今天，我们强调艰苦奋斗、勤俭节约，并不排斥量力而行的提高生活水平，过“清教徒” 、“苦行僧”式的生活，不是我们今天倡导勤俭之风的本意。新形势下倡导艰苦奋斗、勤俭节约，就是事业上要拼搏进取，工作上要吃苦耐劳，生活上要量入为出，自觉克服贪图安逸、追求享受的思想，保持共产党人的政治本色。这既是党的事业和部队建设的需要，也是我们立身做人的需要。谁在生活这一关上把不住，让奢靡之风吹昏了头脑，误入享乐主义的泥潭，谁就会葬送自己的政治前途。前车之鉴，不可不慎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 rot="1722600">
            <a:off x="250920" y="5949720"/>
            <a:ext cx="1295280" cy="47772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3"/>
          <a:stretch/>
        </p:blipFill>
        <p:spPr>
          <a:xfrm>
            <a:off x="7951680" y="1125360"/>
            <a:ext cx="6476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826920" y="1413000"/>
            <a:ext cx="7632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幼圆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有这么一个民间故事：从前，在中原的伏牛山下，住着一个叫吴成的农民，他一生勤俭持家，日子过得无忧无虑，十分美满。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相传他临终前，曾把一块写有“勤俭”两字的横匾交给两个儿子，告诫他们说：“你们要想一辈子不受饥挨饿，就一定要照这两个宇去做。”后来，兄弟俩分家时，将匾一锯两半，老大分得了一个“勤”字，老二分得一个“俭”字。老大把“勤”字恭恭敬敬高悬家中，每天“日出而作，日落而息”，年年五谷丰登。然而他的妻子却过日子大手大脚，孩子们常常将白白的馍馍吃了两口就扔掉，久而久之，家里就没有一点余粮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2"/>
          <a:stretch/>
        </p:blipFill>
        <p:spPr>
          <a:xfrm>
            <a:off x="6804000" y="333360"/>
            <a:ext cx="1809720" cy="666720"/>
          </a:xfrm>
          <a:prstGeom prst="rect">
            <a:avLst/>
          </a:prstGeom>
          <a:ln w="0">
            <a:noFill/>
          </a:ln>
        </p:spPr>
      </p:pic>
      <p:pic>
        <p:nvPicPr>
          <p:cNvPr id="788" name="" descr=""/>
          <p:cNvPicPr/>
          <p:nvPr/>
        </p:nvPicPr>
        <p:blipFill>
          <a:blip r:embed="rId3"/>
          <a:stretch/>
        </p:blipFill>
        <p:spPr>
          <a:xfrm>
            <a:off x="0" y="6165720"/>
            <a:ext cx="9144000" cy="34308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4"/>
          <a:stretch/>
        </p:blipFill>
        <p:spPr>
          <a:xfrm>
            <a:off x="971640" y="404640"/>
            <a:ext cx="741240" cy="741600"/>
          </a:xfrm>
          <a:prstGeom prst="rect">
            <a:avLst/>
          </a:prstGeom>
          <a:ln w="0">
            <a:noFill/>
          </a:ln>
        </p:spPr>
      </p:pic>
      <p:sp>
        <p:nvSpPr>
          <p:cNvPr id="790" name=""/>
          <p:cNvSpPr txBox="1"/>
          <p:nvPr/>
        </p:nvSpPr>
        <p:spPr>
          <a:xfrm rot="307200">
            <a:off x="3419640" y="259920"/>
            <a:ext cx="1571400" cy="7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260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00cc66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cc66"/>
                    </a:gs>
                  </a:gsLst>
                  <a:lin ang="5094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幼圆"/>
              </a:rPr>
              <a:t>小故事</a:t>
            </a:r>
            <a:endParaRPr b="1" lang="en-US" sz="4000" spc="-1" strike="noStrike">
              <a:ln w="9360">
                <a:solidFill>
                  <a:srgbClr val="00cc66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cc66"/>
                  </a:gs>
                </a:gsLst>
                <a:lin ang="5094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395280" y="765000"/>
            <a:ext cx="860436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老二自从分得半块匾后，也把“俭”字当作“神谕”供放中堂，却把“勤”字忘到九霄云外。他疏于农事，又不肯精耕细作，每年所收获的粮食就不多。尽管一家几口节衣缩食、省吃俭用，毕竟也是难以持久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这一年遇上大旱，老大、老二家中都早已是空空如也。 他俩情急之下扯下字匾，将“勤”“俭”二字踩碎在地。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这时候，突然有纸条从窗外飞进屋内，兄弟俩连忙拾起—看，上面写道：“只勤不俭，好比端个没底的碗，总也盛不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幼圆"/>
              </a:rPr>
              <a:t>!”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只俭不勤，坐吃山空，一定要受穷挨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幼圆"/>
              </a:rPr>
              <a:t>!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兄弟俩恍然大悟，“勤”“俭”两字原来不能分家，相辅相成，缺一不可。吸取教训以后，他俩将 “勤俭持家”四个字贴在自家门上，提醒自己，告诫妻室儿女，身体力行，此后日子过得 一天比一天好。 </a:t>
            </a:r>
            <a:br>
              <a:rPr sz="28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2"/>
          <a:stretch/>
        </p:blipFill>
        <p:spPr>
          <a:xfrm>
            <a:off x="7334280" y="0"/>
            <a:ext cx="1809720" cy="66672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3"/>
          <a:stretch/>
        </p:blipFill>
        <p:spPr>
          <a:xfrm>
            <a:off x="0" y="6165720"/>
            <a:ext cx="9144000" cy="34308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4"/>
          <a:stretch/>
        </p:blipFill>
        <p:spPr>
          <a:xfrm>
            <a:off x="539640" y="0"/>
            <a:ext cx="741600" cy="74124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 txBox="1"/>
          <p:nvPr/>
        </p:nvSpPr>
        <p:spPr>
          <a:xfrm rot="307200">
            <a:off x="3492360" y="0"/>
            <a:ext cx="1571760" cy="7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260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00cc66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cc66"/>
                    </a:gs>
                  </a:gsLst>
                  <a:lin ang="5094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幼圆"/>
              </a:rPr>
              <a:t>小故事</a:t>
            </a:r>
            <a:endParaRPr b="1" lang="en-US" sz="4000" spc="-1" strike="noStrike">
              <a:ln w="9360">
                <a:solidFill>
                  <a:srgbClr val="00cc66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cc66"/>
                  </a:gs>
                </a:gsLst>
                <a:lin ang="5094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" descr=""/>
          <p:cNvPicPr/>
          <p:nvPr/>
        </p:nvPicPr>
        <p:blipFill>
          <a:blip r:embed="rId1"/>
          <a:stretch/>
        </p:blipFill>
        <p:spPr>
          <a:xfrm>
            <a:off x="2268360" y="189000"/>
            <a:ext cx="6656400" cy="645300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179280" y="907920"/>
            <a:ext cx="1728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幼圆"/>
              </a:rPr>
              <a:t>这是一幅十大浪费水的现象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  <a:ea typeface="幼圆"/>
              </a:rPr>
              <a:t>!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幼圆"/>
              </a:rPr>
              <a:t>试问一下自己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  <a:ea typeface="幼圆"/>
              </a:rPr>
              <a:t>,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幼圆"/>
              </a:rPr>
              <a:t>有没有像图中一样如此浪费水呢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  <a:ea typeface="幼圆"/>
              </a:rPr>
              <a:t>!!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826920" y="4221000"/>
            <a:ext cx="13575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13:14:4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44:07Z</dcterms:modified>
  <cp:revision>27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