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C1F1-7695-4D4E-8A64-32247178D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30E6-3129-4B19-B559-8319C906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594D-7B1C-4F4A-AAE5-6E77DB7A0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BA59-C45C-40D0-BA18-B577CA5F5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6F2F-E3A5-4F50-85B1-69DA0DEEE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D50D6-8B1A-440D-BE7F-356027DA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CC8B-75E4-4419-AE46-A9979C3A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FF41-824E-48A9-AED4-BFE33E52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E11DF-0EFE-4F60-90FE-D2CEAE78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91EF-FD26-4BA6-B244-15D908BD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077D-02D7-417B-92C0-58263B82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8E04-23BB-41FE-B16A-519943E3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17315-1C63-455C-B2A6-CDD76D89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9D85-5B55-48E7-B7DC-82C884C3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19AF-A307-4C33-807E-A229F23D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9325-F497-453C-983F-3FC779C2C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FB28-C1F8-4CD7-AE68-18EF9EA94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5558-1936-41B2-B7F5-36DD9619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FF6E-D1B9-40D4-BBCD-7B476E89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844C-2FFA-41DF-A012-7D0EFF59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77C4-463F-4728-9E01-D9296990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9D59-05BA-4FED-9149-E80FBF8C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912A-A387-454F-987E-2C673D45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E533-0B26-4338-881E-2967E6D4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7FE0-ED6B-43AB-8DD0-29383B1B7C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FF08-DB30-41D4-B837-524F94759AC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2"/>
          <p:cNvSpPr/>
          <p:nvPr/>
        </p:nvSpPr>
        <p:spPr>
          <a:xfrm>
            <a:off x="489960" y="6518160"/>
            <a:ext cx="196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alibri"/>
              </a:rPr>
              <a:t>节日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ww.1ppt.com/jieri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959400" y="1197000"/>
            <a:ext cx="348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540800" y="191772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适用于中秋佳节及相关类别演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"/>
          <p:cNvSpPr/>
          <p:nvPr/>
        </p:nvSpPr>
        <p:spPr>
          <a:xfrm>
            <a:off x="2184840" y="74772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情满中秋节日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2686320" y="198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2759400" y="2924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831040" y="4005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2831040" y="494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97272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972720" y="29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97272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972720" y="494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5063760" y="2205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5063760" y="2997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136120" y="3789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4055040" y="3718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563940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999760" y="486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039760" y="5830920"/>
            <a:ext cx="6759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1:53:2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2:51:15Z</dcterms:modified>
  <cp:revision>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