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B0E-A53C-42FC-9985-BF0F35CB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4C3-A94B-432A-BD51-4C30789D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900-66EE-47BE-B1FA-FFDE641A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944-F7B5-4EAF-94E3-90279DA1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CB8-CF67-4772-B489-019C70DF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F26-A7BE-4B4C-8E9F-6044C11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86B-0FD7-47B6-BAA4-47B096FD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886-A550-42A7-BAF6-DC90502D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009-1565-4142-9BB4-BBAEABD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46C-5B48-447A-BE69-1DFB76A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3DB-DF0F-4311-A64A-9B6A9B6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4D3-CB7C-483E-B2C4-34F9B28F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9B9-03D7-4CDB-91F4-6069C6F6F25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281E-C3E5-4F67-A539-E0C0B020E4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1446120" y="1332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3960" y="6211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33320" y="1020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新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4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17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20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23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26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244-16A3-439D-BA6E-A98C315EB6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3989160" y="310500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Q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7779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그림 4" descr=""/>
          <p:cNvPicPr/>
          <p:nvPr/>
        </p:nvPicPr>
        <p:blipFill>
          <a:blip r:embed="rId1"/>
          <a:stretch/>
        </p:blipFill>
        <p:spPr>
          <a:xfrm>
            <a:off x="1320840" y="189000"/>
            <a:ext cx="6502320" cy="6500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/>
          <p:cNvSpPr/>
          <p:nvPr/>
        </p:nvSpPr>
        <p:spPr>
          <a:xfrm>
            <a:off x="3189240" y="310500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6" descr=""/>
          <p:cNvPicPr/>
          <p:nvPr/>
        </p:nvPicPr>
        <p:blipFill>
          <a:blip r:embed="rId1"/>
          <a:stretch/>
        </p:blipFill>
        <p:spPr>
          <a:xfrm>
            <a:off x="-1900080" y="2411280"/>
            <a:ext cx="6497640" cy="6502680"/>
          </a:xfrm>
          <a:prstGeom prst="rect">
            <a:avLst/>
          </a:prstGeom>
          <a:ln w="0">
            <a:noFill/>
          </a:ln>
        </p:spPr>
      </p:pic>
      <p:sp>
        <p:nvSpPr>
          <p:cNvPr id="45" name="눈물 방울 1"/>
          <p:cNvSpPr/>
          <p:nvPr/>
        </p:nvSpPr>
        <p:spPr>
          <a:xfrm rot="12330600">
            <a:off x="-3076200" y="383760"/>
            <a:ext cx="9610560" cy="7435800"/>
          </a:xfrm>
          <a:custGeom>
            <a:avLst/>
            <a:gdLst>
              <a:gd name="textAreaLeft" fmla="*/ 0 w 9610560"/>
              <a:gd name="textAreaRight" fmla="*/ 9610920 w 9610560"/>
              <a:gd name="textAreaTop" fmla="*/ 0 h 7435800"/>
              <a:gd name="textAreaBottom" fmla="*/ 7436160 h 7435800"/>
            </a:gdLst>
            <a:ahLst/>
            <a:rect l="textAreaLeft" t="textAreaTop" r="textAreaRight" b="textAreaBottom"/>
            <a:pathLst>
              <a:path w="15140" h="11709">
                <a:moveTo>
                  <a:pt x="0" y="5854"/>
                </a:moveTo>
                <a:lnTo>
                  <a:pt x="0" y="5854"/>
                </a:lnTo>
                <a:arcTo wR="7570" hR="5854" stAng="10800000" swAng="5400000"/>
                <a:lnTo>
                  <a:pt x="13248" y="0"/>
                </a:lnTo>
                <a:arcTo wR="1893" hR="0" stAng="0" swAng="0"/>
                <a:lnTo>
                  <a:pt x="15140" y="5854"/>
                </a:lnTo>
                <a:arcTo wR="7570" hR="5854" stAng="0" swAng="5400000"/>
                <a:close/>
              </a:path>
            </a:pathLst>
          </a:custGeom>
          <a:noFill/>
          <a:ln w="6480">
            <a:solidFill>
              <a:srgbClr val="318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그림 4" descr=""/>
          <p:cNvPicPr/>
          <p:nvPr/>
        </p:nvPicPr>
        <p:blipFill>
          <a:blip r:embed="rId2"/>
          <a:stretch/>
        </p:blipFill>
        <p:spPr>
          <a:xfrm>
            <a:off x="241200" y="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804600" y="879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-윤고딕350"/>
                <a:ea typeface="-윤고딕350"/>
              </a:rPr>
              <a:t>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1880" y="1004760"/>
            <a:ext cx="1502640" cy="1211400"/>
            <a:chOff x="5411880" y="1004760"/>
            <a:chExt cx="1502640" cy="1211400"/>
          </a:xfrm>
        </p:grpSpPr>
        <p:sp>
          <p:nvSpPr>
            <p:cNvPr id="49" name="TextBox 6"/>
            <p:cNvSpPr/>
            <p:nvPr/>
          </p:nvSpPr>
          <p:spPr>
            <a:xfrm>
              <a:off x="5816520" y="181980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그림 2" descr=""/>
            <p:cNvPicPr/>
            <p:nvPr/>
          </p:nvPicPr>
          <p:blipFill>
            <a:blip r:embed="rId3"/>
            <a:stretch/>
          </p:blipFill>
          <p:spPr>
            <a:xfrm>
              <a:off x="5411880" y="1004760"/>
              <a:ext cx="1212480" cy="121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5915160" y="1784520"/>
            <a:ext cx="1502640" cy="1212840"/>
            <a:chOff x="5915160" y="1784520"/>
            <a:chExt cx="1502640" cy="1212840"/>
          </a:xfrm>
        </p:grpSpPr>
        <p:sp>
          <p:nvSpPr>
            <p:cNvPr id="52" name="TextBox 8"/>
            <p:cNvSpPr/>
            <p:nvPr/>
          </p:nvSpPr>
          <p:spPr>
            <a:xfrm>
              <a:off x="6319800" y="2600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그림 9" descr=""/>
            <p:cNvPicPr/>
            <p:nvPr/>
          </p:nvPicPr>
          <p:blipFill>
            <a:blip r:embed="rId4"/>
            <a:stretch/>
          </p:blipFill>
          <p:spPr>
            <a:xfrm>
              <a:off x="5915160" y="1784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6372360" y="2576520"/>
            <a:ext cx="1502640" cy="1212840"/>
            <a:chOff x="6372360" y="2576520"/>
            <a:chExt cx="1502640" cy="1212840"/>
          </a:xfrm>
        </p:grpSpPr>
        <p:sp>
          <p:nvSpPr>
            <p:cNvPr id="55" name="TextBox 11"/>
            <p:cNvSpPr/>
            <p:nvPr/>
          </p:nvSpPr>
          <p:spPr>
            <a:xfrm>
              <a:off x="6777000" y="339264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그림 12" descr=""/>
            <p:cNvPicPr/>
            <p:nvPr/>
          </p:nvPicPr>
          <p:blipFill>
            <a:blip r:embed="rId5"/>
            <a:stretch/>
          </p:blipFill>
          <p:spPr>
            <a:xfrm>
              <a:off x="6372360" y="2576520"/>
              <a:ext cx="121248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6564240" y="3513240"/>
            <a:ext cx="1502640" cy="1211040"/>
            <a:chOff x="6564240" y="3513240"/>
            <a:chExt cx="1502640" cy="1211040"/>
          </a:xfrm>
        </p:grpSpPr>
        <p:sp>
          <p:nvSpPr>
            <p:cNvPr id="58" name="TextBox 14"/>
            <p:cNvSpPr/>
            <p:nvPr/>
          </p:nvSpPr>
          <p:spPr>
            <a:xfrm>
              <a:off x="6968880" y="43282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그림 15" descr=""/>
            <p:cNvPicPr/>
            <p:nvPr/>
          </p:nvPicPr>
          <p:blipFill>
            <a:blip r:embed="rId6"/>
            <a:stretch/>
          </p:blipFill>
          <p:spPr>
            <a:xfrm>
              <a:off x="6564240" y="3513240"/>
              <a:ext cx="1212840" cy="121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1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66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69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72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75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2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83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86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89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92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그림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482400" y="550800"/>
            <a:ext cx="18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-윤고딕350"/>
                <a:ea typeface="-윤고딕350"/>
              </a:rPr>
              <a:t>3  </a:t>
            </a:r>
            <a:r>
              <a:rPr b="0" lang="en-US" sz="18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813040" y="-587520"/>
            <a:ext cx="1366200" cy="1208160"/>
            <a:chOff x="2813040" y="-587520"/>
            <a:chExt cx="1366200" cy="1208160"/>
          </a:xfrm>
        </p:grpSpPr>
        <p:sp>
          <p:nvSpPr>
            <p:cNvPr id="100" name="TextBox 6"/>
            <p:cNvSpPr/>
            <p:nvPr/>
          </p:nvSpPr>
          <p:spPr>
            <a:xfrm>
              <a:off x="32122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그림 2" descr=""/>
            <p:cNvPicPr/>
            <p:nvPr/>
          </p:nvPicPr>
          <p:blipFill>
            <a:blip r:embed="rId2"/>
            <a:stretch/>
          </p:blipFill>
          <p:spPr>
            <a:xfrm>
              <a:off x="28130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4421160" y="-587520"/>
            <a:ext cx="1367640" cy="1208160"/>
            <a:chOff x="4421160" y="-587520"/>
            <a:chExt cx="1367640" cy="1208160"/>
          </a:xfrm>
        </p:grpSpPr>
        <p:sp>
          <p:nvSpPr>
            <p:cNvPr id="103" name="TextBox 8"/>
            <p:cNvSpPr/>
            <p:nvPr/>
          </p:nvSpPr>
          <p:spPr>
            <a:xfrm>
              <a:off x="482184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그림 9" descr=""/>
            <p:cNvPicPr/>
            <p:nvPr/>
          </p:nvPicPr>
          <p:blipFill>
            <a:blip r:embed="rId3"/>
            <a:stretch/>
          </p:blipFill>
          <p:spPr>
            <a:xfrm>
              <a:off x="4421160" y="-587520"/>
              <a:ext cx="121320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6031080" y="-587520"/>
            <a:ext cx="1366200" cy="1208160"/>
            <a:chOff x="6031080" y="-587520"/>
            <a:chExt cx="1366200" cy="1208160"/>
          </a:xfrm>
        </p:grpSpPr>
        <p:sp>
          <p:nvSpPr>
            <p:cNvPr id="106" name="TextBox 11"/>
            <p:cNvSpPr/>
            <p:nvPr/>
          </p:nvSpPr>
          <p:spPr>
            <a:xfrm>
              <a:off x="643032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그림 12" descr=""/>
            <p:cNvPicPr/>
            <p:nvPr/>
          </p:nvPicPr>
          <p:blipFill>
            <a:blip r:embed="rId4"/>
            <a:stretch/>
          </p:blipFill>
          <p:spPr>
            <a:xfrm>
              <a:off x="603108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7640640" y="-587520"/>
            <a:ext cx="1366200" cy="1208160"/>
            <a:chOff x="7640640" y="-587520"/>
            <a:chExt cx="1366200" cy="1208160"/>
          </a:xfrm>
        </p:grpSpPr>
        <p:sp>
          <p:nvSpPr>
            <p:cNvPr id="109" name="TextBox 14"/>
            <p:cNvSpPr/>
            <p:nvPr/>
          </p:nvSpPr>
          <p:spPr>
            <a:xfrm>
              <a:off x="8039880" y="225360"/>
              <a:ext cx="96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62626"/>
                  </a:solidFill>
                  <a:latin typeface="-윤고딕350"/>
                  <a:ea typeface="-윤고딕350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그림 15" descr=""/>
            <p:cNvPicPr/>
            <p:nvPr/>
          </p:nvPicPr>
          <p:blipFill>
            <a:blip r:embed="rId5"/>
            <a:stretch/>
          </p:blipFill>
          <p:spPr>
            <a:xfrm>
              <a:off x="7640640" y="-587520"/>
              <a:ext cx="12117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그림 16" descr=""/>
          <p:cNvPicPr/>
          <p:nvPr/>
        </p:nvPicPr>
        <p:blipFill>
          <a:blip r:embed="rId1"/>
          <a:stretch/>
        </p:blipFill>
        <p:spPr>
          <a:xfrm>
            <a:off x="2406600" y="1263600"/>
            <a:ext cx="4330800" cy="4330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7"/>
          <p:cNvSpPr/>
          <p:nvPr/>
        </p:nvSpPr>
        <p:spPr>
          <a:xfrm>
            <a:off x="3596040" y="3228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5062320" y="264492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bfbfbf"/>
                </a:solidFill>
                <a:latin typeface="-윤고딕350"/>
                <a:ea typeface="-윤고딕350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4:2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1:05:1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