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C9DD-DB0F-490D-BC64-27D9ED70B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1E66-CEC4-45D9-9386-CBD8E8869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3F1F-38CA-469D-AA39-15B347688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D3FC-9856-465C-BB7E-4B0B3CE85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910DA-E8B4-494F-A989-1E494A99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F19D-E591-49F3-9976-EF5C12E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0013-62B1-43F2-A11A-233D607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00E6-3E63-4B64-A940-2EC185D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09928-F2C4-4640-B501-3C69931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31136-20AB-42B2-93BA-C3D8373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B5435-69EC-4565-B01E-409DEE4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D4C3-C396-4DEA-B34E-715143943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897DA-22C7-4B87-8D7B-9F631AA5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24B9C-8F60-49BD-A706-4955A45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EA1CA-1B74-4F6A-85D2-DC56CA36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2C86D-20E4-4141-89E2-A8649215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D857-590B-4A1C-8AF7-D71390FF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D927-640F-465A-B15F-D20FE1240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E590-54A0-4945-8E74-C22D9B9EA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002C-A814-4AB2-95A5-542E3840C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1AD4-30AD-4AD6-B1B3-EBEBFF09B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DD63-A2F5-48C5-9FF1-4063A0D5F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471B-0D97-49F6-B3AF-375F8819E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3FA7-6B7B-4FAA-AE79-DC8C86585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969696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3107-9DC8-402A-9EE2-0288B7539292}" type="slidenum">
              <a:rPr b="0" lang="ko-KR" sz="1200" spc="-1" strike="noStrike">
                <a:solidFill>
                  <a:srgbClr val="96969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61320" y="659124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11360" cy="851040"/>
          </a:xfrm>
          <a:prstGeom prst="rect">
            <a:avLst/>
          </a:prstGeom>
          <a:gradFill rotWithShape="0">
            <a:gsLst>
              <a:gs pos="0">
                <a:srgbClr val="323001"/>
              </a:gs>
              <a:gs pos="100000">
                <a:srgbClr val="6d6a0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51040"/>
            <a:ext cx="698400" cy="600696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dcdf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851040"/>
            <a:ext cx="0" cy="6006960"/>
          </a:xfrm>
          <a:prstGeom prst="line">
            <a:avLst/>
          </a:prstGeom>
          <a:ln w="9360">
            <a:solidFill>
              <a:srgbClr val="dcd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851040"/>
            <a:ext cx="685800" cy="5867280"/>
            <a:chOff x="6480" y="851040"/>
            <a:chExt cx="685800" cy="5867280"/>
          </a:xfrm>
        </p:grpSpPr>
        <p:grpSp>
          <p:nvGrpSpPr>
            <p:cNvPr id="6" name=""/>
            <p:cNvGrpSpPr/>
            <p:nvPr/>
          </p:nvGrpSpPr>
          <p:grpSpPr>
            <a:xfrm>
              <a:off x="6480" y="3873600"/>
              <a:ext cx="685800" cy="2844720"/>
              <a:chOff x="6480" y="3873600"/>
              <a:chExt cx="685800" cy="284472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67183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65404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63626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80" y="61851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60073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480" y="58294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80" y="56516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480" y="54738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80" y="52959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480" y="51181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6480" y="49402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480" y="47624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480" y="45849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480" y="44071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80" y="42292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480" y="40514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480" y="38736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480" y="851040"/>
              <a:ext cx="685800" cy="2844720"/>
              <a:chOff x="6480" y="851040"/>
              <a:chExt cx="685800" cy="2844720"/>
            </a:xfrm>
          </p:grpSpPr>
          <p:sp>
            <p:nvSpPr>
              <p:cNvPr id="25" name=""/>
              <p:cNvSpPr/>
              <p:nvPr/>
            </p:nvSpPr>
            <p:spPr>
              <a:xfrm>
                <a:off x="6480" y="36957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480" y="35179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480" y="33400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6480" y="31626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480" y="29847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480" y="28069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80" y="26290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480" y="24512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480" y="22734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480" y="20955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80" y="19177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480" y="17398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480" y="15624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480" y="13845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480" y="12067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480" y="10288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80" y="8510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42" name=""/>
          <p:cNvSpPr/>
          <p:nvPr/>
        </p:nvSpPr>
        <p:spPr>
          <a:xfrm>
            <a:off x="698400" y="0"/>
            <a:ext cx="8445600" cy="85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8400" y="849240"/>
            <a:ext cx="8445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10560" y="6578640"/>
            <a:ext cx="63360" cy="279360"/>
          </a:xfrm>
          <a:prstGeom prst="rect">
            <a:avLst/>
          </a:prstGeom>
          <a:solidFill>
            <a:srgbClr val="5eca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9e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eca5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dcdfa3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941560" cy="446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D60-9A15-40AD-83DA-4D7329C54104}" type="slidenum"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46240" cy="1816200"/>
          </a:xfrm>
          <a:prstGeom prst="rect">
            <a:avLst/>
          </a:prstGeom>
          <a:gradFill rotWithShape="0">
            <a:gsLst>
              <a:gs pos="0">
                <a:srgbClr val="323001"/>
              </a:gs>
              <a:gs pos="100000">
                <a:srgbClr val="6d6a0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720960"/>
            <a:ext cx="2946240" cy="313704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dcdf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46240" y="3708360"/>
            <a:ext cx="6197760" cy="314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3733920"/>
            <a:ext cx="2933640" cy="3124080"/>
            <a:chOff x="0" y="3733920"/>
            <a:chExt cx="2933640" cy="3124080"/>
          </a:xfrm>
        </p:grpSpPr>
        <p:grpSp>
          <p:nvGrpSpPr>
            <p:cNvPr id="92" name=""/>
            <p:cNvGrpSpPr/>
            <p:nvPr/>
          </p:nvGrpSpPr>
          <p:grpSpPr>
            <a:xfrm>
              <a:off x="330120" y="3733920"/>
              <a:ext cx="2209680" cy="3124080"/>
              <a:chOff x="330120" y="3733920"/>
              <a:chExt cx="2209680" cy="3124080"/>
            </a:xfrm>
          </p:grpSpPr>
          <p:sp>
            <p:nvSpPr>
              <p:cNvPr id="93" name=""/>
              <p:cNvSpPr/>
              <p:nvPr/>
            </p:nvSpPr>
            <p:spPr>
              <a:xfrm>
                <a:off x="33012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840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6668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3496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80324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7152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980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0" y="3873600"/>
              <a:ext cx="2933640" cy="2844720"/>
              <a:chOff x="0" y="3873600"/>
              <a:chExt cx="2933640" cy="2844720"/>
            </a:xfrm>
          </p:grpSpPr>
          <p:sp>
            <p:nvSpPr>
              <p:cNvPr id="101" name=""/>
              <p:cNvSpPr/>
              <p:nvPr/>
            </p:nvSpPr>
            <p:spPr>
              <a:xfrm>
                <a:off x="0" y="671832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5404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3626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18516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0732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8294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6516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547380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529596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11812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9402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7624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58496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40712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2292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0514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7360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119" name=""/>
            <p:cNvSpPr/>
            <p:nvPr/>
          </p:nvSpPr>
          <p:spPr>
            <a:xfrm>
              <a:off x="2413080" y="353052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13080" y="439344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5400000">
              <a:off x="198108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284436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40160" y="4371840"/>
            <a:ext cx="1368360" cy="2019240"/>
            <a:chOff x="2540160" y="4371840"/>
            <a:chExt cx="1368360" cy="2019240"/>
          </a:xfrm>
        </p:grpSpPr>
        <p:grpSp>
          <p:nvGrpSpPr>
            <p:cNvPr id="124" name=""/>
            <p:cNvGrpSpPr/>
            <p:nvPr/>
          </p:nvGrpSpPr>
          <p:grpSpPr>
            <a:xfrm>
              <a:off x="2540160" y="4371840"/>
              <a:ext cx="1368360" cy="2019240"/>
              <a:chOff x="2540160" y="4371840"/>
              <a:chExt cx="1368360" cy="2019240"/>
            </a:xfrm>
          </p:grpSpPr>
          <p:sp>
            <p:nvSpPr>
              <p:cNvPr id="125" name=""/>
              <p:cNvSpPr/>
              <p:nvPr/>
            </p:nvSpPr>
            <p:spPr>
              <a:xfrm>
                <a:off x="2540160" y="437184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43120" y="437184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0200" y="449892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7280" y="4626000"/>
                <a:ext cx="12708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22560" y="475272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49640" y="487980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76720" y="500688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6680" y="513396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33760" y="526068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60840" y="538776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81440" y="551484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640" y="5769000"/>
                <a:ext cx="12708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19640" y="589572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6360" y="602280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46360" y="614988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6360" y="626400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19640" y="626400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1920" y="626400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4840" y="613728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4840" y="601020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7760" y="5883120"/>
                <a:ext cx="139680" cy="1396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7760" y="5756040"/>
                <a:ext cx="139680" cy="1396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21040" y="5629320"/>
                <a:ext cx="12708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81000" y="5743440"/>
                <a:ext cx="139680" cy="1396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588168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540160" y="600228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40160" y="4498920"/>
                <a:ext cx="127080" cy="154944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73440" y="551484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46360" y="5514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19640" y="551484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92560" y="551484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92560" y="5641920"/>
                <a:ext cx="12708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sp>
          <p:nvSpPr>
            <p:cNvPr id="157" name="未知"/>
            <p:cNvSpPr/>
            <p:nvPr/>
          </p:nvSpPr>
          <p:spPr>
            <a:xfrm flipH="1">
              <a:off x="2659320" y="4486320"/>
              <a:ext cx="1009440" cy="178092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560" y="63360"/>
            <a:ext cx="10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eca5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cdfa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0" y="1298520"/>
            <a:ext cx="58802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d6a03"/>
                </a:solidFill>
                <a:latin typeface="Verdana"/>
                <a:ea typeface="宋体"/>
              </a:rPr>
              <a:t> 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1015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65400" y="6415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0200" y="1930320"/>
            <a:ext cx="23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企业动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390680" y="1341360"/>
          <a:ext cx="735336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341360"/>
                    <a:ext cx="735336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946240" y="0"/>
            <a:ext cx="6197760" cy="3720960"/>
          </a:xfrm>
          <a:prstGeom prst="rect">
            <a:avLst/>
          </a:prstGeom>
          <a:solidFill>
            <a:srgbClr val="9a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98880" y="1117440"/>
            <a:ext cx="5879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dfa3"/>
                </a:solidFill>
                <a:latin typeface="Verdana"/>
                <a:ea typeface="Gulim"/>
              </a:rPr>
              <a:t>Thank You!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305" name=""/>
            <p:cNvSpPr/>
            <p:nvPr/>
          </p:nvSpPr>
          <p:spPr>
            <a:xfrm>
              <a:off x="2413080" y="353052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413080" y="439344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5400000">
              <a:off x="198108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16200000">
              <a:off x="284436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540160" y="4371840"/>
            <a:ext cx="1368360" cy="2019240"/>
            <a:chOff x="2540160" y="4371840"/>
            <a:chExt cx="1368360" cy="2019240"/>
          </a:xfrm>
        </p:grpSpPr>
        <p:sp>
          <p:nvSpPr>
            <p:cNvPr id="310" name=""/>
            <p:cNvSpPr/>
            <p:nvPr/>
          </p:nvSpPr>
          <p:spPr>
            <a:xfrm>
              <a:off x="2540160" y="437184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43120" y="437184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70200" y="449892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97280" y="4626000"/>
              <a:ext cx="12708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2560" y="475272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9640" y="487980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500688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06680" y="513396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33760" y="526068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60840" y="538776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81440" y="551484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19640" y="5769000"/>
              <a:ext cx="12708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19640" y="589572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6360" y="602280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46360" y="614988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46360" y="626400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19640" y="626400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01920" y="626400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74840" y="613728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74840" y="601020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7760" y="5883120"/>
              <a:ext cx="139680" cy="1396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7760" y="5756040"/>
              <a:ext cx="139680" cy="1396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21040" y="5629320"/>
              <a:ext cx="12708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81000" y="5743440"/>
              <a:ext cx="139680" cy="1396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6880" y="588168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40160" y="600228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0160" y="4498920"/>
              <a:ext cx="127080" cy="154944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73440" y="551484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46360" y="5514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9640" y="551484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92560" y="551484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92560" y="5641920"/>
              <a:ext cx="12708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42" name="未知"/>
          <p:cNvSpPr/>
          <p:nvPr/>
        </p:nvSpPr>
        <p:spPr>
          <a:xfrm flipH="1">
            <a:off x="2658240" y="4486320"/>
            <a:ext cx="1009800" cy="1781280"/>
          </a:xfrm>
          <a:custGeom>
            <a:avLst/>
            <a:gdLst/>
            <a:ahLst/>
            <a:rect l="l" t="t" r="r" b="b"/>
            <a:pathLst>
              <a:path w="636" h="1122">
                <a:moveTo>
                  <a:pt x="231" y="1122"/>
                </a:moveTo>
                <a:lnTo>
                  <a:pt x="72" y="1122"/>
                </a:lnTo>
                <a:lnTo>
                  <a:pt x="72" y="969"/>
                </a:lnTo>
                <a:lnTo>
                  <a:pt x="153" y="969"/>
                </a:lnTo>
                <a:lnTo>
                  <a:pt x="153" y="807"/>
                </a:lnTo>
                <a:lnTo>
                  <a:pt x="237" y="807"/>
                </a:lnTo>
                <a:lnTo>
                  <a:pt x="237" y="648"/>
                </a:lnTo>
                <a:lnTo>
                  <a:pt x="0" y="648"/>
                </a:lnTo>
                <a:lnTo>
                  <a:pt x="0" y="567"/>
                </a:lnTo>
                <a:lnTo>
                  <a:pt x="81" y="567"/>
                </a:lnTo>
                <a:lnTo>
                  <a:pt x="81" y="483"/>
                </a:lnTo>
                <a:lnTo>
                  <a:pt x="162" y="483"/>
                </a:lnTo>
                <a:lnTo>
                  <a:pt x="162" y="408"/>
                </a:lnTo>
                <a:lnTo>
                  <a:pt x="243" y="408"/>
                </a:lnTo>
                <a:lnTo>
                  <a:pt x="243" y="324"/>
                </a:lnTo>
                <a:lnTo>
                  <a:pt x="324" y="324"/>
                </a:lnTo>
                <a:lnTo>
                  <a:pt x="324" y="243"/>
                </a:lnTo>
                <a:lnTo>
                  <a:pt x="405" y="243"/>
                </a:lnTo>
                <a:lnTo>
                  <a:pt x="405" y="165"/>
                </a:lnTo>
                <a:lnTo>
                  <a:pt x="483" y="165"/>
                </a:lnTo>
                <a:lnTo>
                  <a:pt x="483" y="84"/>
                </a:lnTo>
                <a:lnTo>
                  <a:pt x="564" y="84"/>
                </a:lnTo>
                <a:lnTo>
                  <a:pt x="564" y="0"/>
                </a:lnTo>
                <a:lnTo>
                  <a:pt x="636" y="0"/>
                </a:lnTo>
                <a:lnTo>
                  <a:pt x="636" y="882"/>
                </a:lnTo>
                <a:lnTo>
                  <a:pt x="549" y="882"/>
                </a:lnTo>
                <a:lnTo>
                  <a:pt x="549" y="798"/>
                </a:lnTo>
                <a:lnTo>
                  <a:pt x="468" y="798"/>
                </a:lnTo>
                <a:lnTo>
                  <a:pt x="468" y="720"/>
                </a:lnTo>
                <a:lnTo>
                  <a:pt x="390" y="720"/>
                </a:lnTo>
                <a:lnTo>
                  <a:pt x="390" y="801"/>
                </a:lnTo>
                <a:lnTo>
                  <a:pt x="309" y="801"/>
                </a:lnTo>
                <a:lnTo>
                  <a:pt x="309" y="963"/>
                </a:lnTo>
                <a:lnTo>
                  <a:pt x="231" y="963"/>
                </a:lnTo>
                <a:lnTo>
                  <a:pt x="231" y="1122"/>
                </a:lnTo>
                <a:close/>
              </a:path>
            </a:pathLst>
          </a:custGeom>
          <a:solidFill>
            <a:srgbClr val="9a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Related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02960" y="137160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9a9e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ont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60440" y="4432320"/>
            <a:ext cx="5283360" cy="812880"/>
            <a:chOff x="2260440" y="4432320"/>
            <a:chExt cx="5283360" cy="812880"/>
          </a:xfrm>
        </p:grpSpPr>
        <p:sp>
          <p:nvSpPr>
            <p:cNvPr id="207" name=""/>
            <p:cNvSpPr/>
            <p:nvPr/>
          </p:nvSpPr>
          <p:spPr>
            <a:xfrm>
              <a:off x="2590560" y="452592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260440" y="4432320"/>
              <a:ext cx="812880" cy="812880"/>
              <a:chOff x="2260440" y="4432320"/>
              <a:chExt cx="812880" cy="81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2260440" y="443232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87520" y="4554720"/>
                <a:ext cx="563400" cy="5634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2260440" y="2552760"/>
            <a:ext cx="5283360" cy="812880"/>
            <a:chOff x="2260440" y="2552760"/>
            <a:chExt cx="5283360" cy="812880"/>
          </a:xfrm>
        </p:grpSpPr>
        <p:sp>
          <p:nvSpPr>
            <p:cNvPr id="212" name=""/>
            <p:cNvSpPr/>
            <p:nvPr/>
          </p:nvSpPr>
          <p:spPr>
            <a:xfrm>
              <a:off x="2590560" y="264636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260440" y="2552760"/>
              <a:ext cx="812880" cy="812880"/>
              <a:chOff x="2260440" y="2552760"/>
              <a:chExt cx="812880" cy="812880"/>
            </a:xfrm>
          </p:grpSpPr>
          <p:sp>
            <p:nvSpPr>
              <p:cNvPr id="214" name=""/>
              <p:cNvSpPr/>
              <p:nvPr/>
            </p:nvSpPr>
            <p:spPr>
              <a:xfrm>
                <a:off x="2260440" y="25527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87520" y="2675160"/>
                <a:ext cx="563400" cy="563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2260440" y="3492360"/>
            <a:ext cx="5283360" cy="812880"/>
            <a:chOff x="2260440" y="3492360"/>
            <a:chExt cx="5283360" cy="812880"/>
          </a:xfrm>
        </p:grpSpPr>
        <p:sp>
          <p:nvSpPr>
            <p:cNvPr id="217" name=""/>
            <p:cNvSpPr/>
            <p:nvPr/>
          </p:nvSpPr>
          <p:spPr>
            <a:xfrm>
              <a:off x="2590560" y="358596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e00"/>
                </a:gs>
                <a:gs pos="100000">
                  <a:srgbClr val="6d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260440" y="3492360"/>
              <a:ext cx="812880" cy="812880"/>
              <a:chOff x="2260440" y="3492360"/>
              <a:chExt cx="812880" cy="812880"/>
            </a:xfrm>
          </p:grpSpPr>
          <p:sp>
            <p:nvSpPr>
              <p:cNvPr id="219" name=""/>
              <p:cNvSpPr/>
              <p:nvPr/>
            </p:nvSpPr>
            <p:spPr>
              <a:xfrm>
                <a:off x="2260440" y="34923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87520" y="3614760"/>
                <a:ext cx="563400" cy="563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3098880" y="2629080"/>
            <a:ext cx="3911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ateg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1480" y="3568680"/>
            <a:ext cx="39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hallengers Forwar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11480" y="4508640"/>
            <a:ext cx="389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clus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76440" y="364500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60440" y="1625760"/>
            <a:ext cx="5283360" cy="812520"/>
            <a:chOff x="2260440" y="1625760"/>
            <a:chExt cx="5283360" cy="812520"/>
          </a:xfrm>
        </p:grpSpPr>
        <p:sp>
          <p:nvSpPr>
            <p:cNvPr id="226" name=""/>
            <p:cNvSpPr/>
            <p:nvPr/>
          </p:nvSpPr>
          <p:spPr>
            <a:xfrm>
              <a:off x="2590560" y="1719000"/>
              <a:ext cx="4953240" cy="591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e00"/>
                </a:gs>
                <a:gs pos="100000">
                  <a:srgbClr val="6d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260440" y="1625760"/>
              <a:ext cx="812880" cy="812520"/>
              <a:chOff x="2260440" y="1625760"/>
              <a:chExt cx="812880" cy="812520"/>
            </a:xfrm>
          </p:grpSpPr>
          <p:sp>
            <p:nvSpPr>
              <p:cNvPr id="228" name=""/>
              <p:cNvSpPr/>
              <p:nvPr/>
            </p:nvSpPr>
            <p:spPr>
              <a:xfrm>
                <a:off x="2260440" y="1625760"/>
                <a:ext cx="812880" cy="81252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87520" y="1747800"/>
                <a:ext cx="563400" cy="5630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3086280" y="1701720"/>
            <a:ext cx="392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Introduc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63840" y="17906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63840" y="27050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63840" y="45975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49440" y="1695600"/>
            <a:ext cx="6794640" cy="4209840"/>
          </a:xfrm>
          <a:prstGeom prst="roundRect">
            <a:avLst>
              <a:gd name="adj" fmla="val 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89160" y="1473120"/>
            <a:ext cx="5294160" cy="620640"/>
            <a:chOff x="1289160" y="1473120"/>
            <a:chExt cx="5294160" cy="620640"/>
          </a:xfrm>
        </p:grpSpPr>
        <p:sp>
          <p:nvSpPr>
            <p:cNvPr id="236" name=""/>
            <p:cNvSpPr/>
            <p:nvPr/>
          </p:nvSpPr>
          <p:spPr>
            <a:xfrm>
              <a:off x="1422360" y="1490760"/>
              <a:ext cx="5160960" cy="41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289160" y="1473120"/>
              <a:ext cx="596880" cy="620640"/>
              <a:chOff x="1289160" y="1473120"/>
              <a:chExt cx="596880" cy="620640"/>
            </a:xfrm>
          </p:grpSpPr>
          <p:sp>
            <p:nvSpPr>
              <p:cNvPr id="238" name=""/>
              <p:cNvSpPr/>
              <p:nvPr/>
            </p:nvSpPr>
            <p:spPr>
              <a:xfrm>
                <a:off x="1297080" y="1504800"/>
                <a:ext cx="58896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1289160" y="1473120"/>
                <a:ext cx="596880" cy="596880"/>
                <a:chOff x="1289160" y="1473120"/>
                <a:chExt cx="596880" cy="5968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289160" y="147312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27400" y="1601640"/>
                  <a:ext cx="33660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2" name=""/>
          <p:cNvSpPr/>
          <p:nvPr/>
        </p:nvSpPr>
        <p:spPr>
          <a:xfrm>
            <a:off x="1892160" y="1536840"/>
            <a:ext cx="3760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4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 rot="16200000">
            <a:off x="4691520" y="3613320"/>
            <a:ext cx="685800" cy="63972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5eca5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22400" y="1397160"/>
            <a:ext cx="5294160" cy="620640"/>
            <a:chOff x="1022400" y="1397160"/>
            <a:chExt cx="5294160" cy="620640"/>
          </a:xfrm>
        </p:grpSpPr>
        <p:sp>
          <p:nvSpPr>
            <p:cNvPr id="249" name=""/>
            <p:cNvSpPr/>
            <p:nvPr/>
          </p:nvSpPr>
          <p:spPr>
            <a:xfrm>
              <a:off x="1155600" y="1414800"/>
              <a:ext cx="5160960" cy="41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22400" y="1397160"/>
              <a:ext cx="596880" cy="620640"/>
              <a:chOff x="1022400" y="1397160"/>
              <a:chExt cx="596880" cy="620640"/>
            </a:xfrm>
          </p:grpSpPr>
          <p:sp>
            <p:nvSpPr>
              <p:cNvPr id="251" name=""/>
              <p:cNvSpPr/>
              <p:nvPr/>
            </p:nvSpPr>
            <p:spPr>
              <a:xfrm>
                <a:off x="1030320" y="1428840"/>
                <a:ext cx="58896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1022400" y="1397160"/>
                <a:ext cx="596880" cy="596880"/>
                <a:chOff x="1022400" y="1397160"/>
                <a:chExt cx="596880" cy="5968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022400" y="139716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160640" y="1525680"/>
                  <a:ext cx="33660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5" name=""/>
          <p:cNvSpPr/>
          <p:nvPr/>
        </p:nvSpPr>
        <p:spPr>
          <a:xfrm>
            <a:off x="1625760" y="1460520"/>
            <a:ext cx="37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5858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58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858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858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2416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2416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2416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2416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62440" y="20588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62440" y="280512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62440" y="3551400"/>
            <a:ext cx="153684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62440" y="4295880"/>
            <a:ext cx="153684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992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992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992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992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1680" y="20588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01680" y="280512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01680" y="3551400"/>
            <a:ext cx="1386000" cy="74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1680" y="4295880"/>
            <a:ext cx="1386000" cy="74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858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2416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62440" y="1676520"/>
            <a:ext cx="153684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992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01680" y="1676520"/>
            <a:ext cx="138600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858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2416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62440" y="50450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92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1680" y="50450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dfa3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704960" y="1249200"/>
          <a:ext cx="6724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1249200"/>
                    <a:ext cx="6724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1351080" y="1335240"/>
          <a:ext cx="715320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1335240"/>
                    <a:ext cx="715320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dcdfa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dcdfa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a9e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a9e00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969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856D-59C0-4A40-8A76-A9F746A49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6:44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1:05:2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ca05000000000001024140</vt:lpwstr>
  </property>
</Properties>
</file>