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H:\Course_教程\“激扬北科 幻舞梦想”第二届校园PPT设计制作大赛素材+教程\相关素材\图片素材\3\160.jpg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39" name="矩形 7"/>
          <p:cNvSpPr/>
          <p:nvPr/>
        </p:nvSpPr>
        <p:spPr>
          <a:xfrm>
            <a:off x="0" y="-28440"/>
            <a:ext cx="9144000" cy="688644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组合 10"/>
          <p:cNvGrpSpPr/>
          <p:nvPr/>
        </p:nvGrpSpPr>
        <p:grpSpPr>
          <a:xfrm>
            <a:off x="-1440" y="2946240"/>
            <a:ext cx="2268360" cy="2267280"/>
            <a:chOff x="-1440" y="2946240"/>
            <a:chExt cx="2268360" cy="2267280"/>
          </a:xfrm>
        </p:grpSpPr>
        <p:sp>
          <p:nvSpPr>
            <p:cNvPr id="41" name="矩形 11"/>
            <p:cNvSpPr/>
            <p:nvPr/>
          </p:nvSpPr>
          <p:spPr>
            <a:xfrm>
              <a:off x="-1440" y="2946240"/>
              <a:ext cx="2268360" cy="226728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" name="Picture 3" descr=""/>
            <p:cNvPicPr/>
            <p:nvPr/>
          </p:nvPicPr>
          <p:blipFill>
            <a:blip r:embed="rId2"/>
            <a:stretch/>
          </p:blipFill>
          <p:spPr>
            <a:xfrm>
              <a:off x="-1440" y="2946240"/>
              <a:ext cx="2268360" cy="100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向右" descr="C:\Users\Windows\Desktop\metrostation_by_yankoa-d312tty\PNG\System\White\MB_0006_back.png"/>
          <p:cNvPicPr/>
          <p:nvPr/>
        </p:nvPicPr>
        <p:blipFill>
          <a:blip r:embed="rId3"/>
          <a:stretch/>
        </p:blipFill>
        <p:spPr>
          <a:xfrm>
            <a:off x="7902720" y="5715000"/>
            <a:ext cx="539640" cy="541440"/>
          </a:xfrm>
          <a:prstGeom prst="rect">
            <a:avLst/>
          </a:prstGeom>
          <a:ln w="0">
            <a:noFill/>
          </a:ln>
        </p:spPr>
      </p:pic>
      <p:pic>
        <p:nvPicPr>
          <p:cNvPr id="44" name="向左" descr="C:\Users\Windows\Desktop\metrostation_by_yankoa-d312tty\PNG\System\White\MB_0006_back.png"/>
          <p:cNvPicPr/>
          <p:nvPr/>
        </p:nvPicPr>
        <p:blipFill>
          <a:blip r:embed="rId4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035"/>
          <p:cNvGrpSpPr/>
          <p:nvPr/>
        </p:nvGrpSpPr>
        <p:grpSpPr>
          <a:xfrm>
            <a:off x="0" y="549360"/>
            <a:ext cx="2268360" cy="2266920"/>
            <a:chOff x="0" y="549360"/>
            <a:chExt cx="2268360" cy="2266920"/>
          </a:xfrm>
        </p:grpSpPr>
        <p:sp>
          <p:nvSpPr>
            <p:cNvPr id="46" name="矩形 3"/>
            <p:cNvSpPr/>
            <p:nvPr/>
          </p:nvSpPr>
          <p:spPr>
            <a:xfrm>
              <a:off x="0" y="549360"/>
              <a:ext cx="2268360" cy="226692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549360"/>
              <a:ext cx="226836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C:\Users\Windows\Desktop\Govern.png"/>
            <p:cNvPicPr/>
            <p:nvPr/>
          </p:nvPicPr>
          <p:blipFill>
            <a:blip r:embed="rId6"/>
            <a:stretch/>
          </p:blipFill>
          <p:spPr>
            <a:xfrm>
              <a:off x="400320" y="1048320"/>
              <a:ext cx="1467720" cy="126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1050"/>
          <p:cNvGrpSpPr/>
          <p:nvPr/>
        </p:nvGrpSpPr>
        <p:grpSpPr>
          <a:xfrm>
            <a:off x="2411280" y="549360"/>
            <a:ext cx="4689720" cy="2266920"/>
            <a:chOff x="2411280" y="549360"/>
            <a:chExt cx="4689720" cy="2266920"/>
          </a:xfrm>
        </p:grpSpPr>
        <p:pic>
          <p:nvPicPr>
            <p:cNvPr id="50" name="Picture 10" descr="H:\Course_教程\“激扬北科 幻舞梦想”第二届校园PPT设计制作大赛素材+教程\相关素材\图片素材\3\134.jpg"/>
            <p:cNvPicPr/>
            <p:nvPr/>
          </p:nvPicPr>
          <p:blipFill>
            <a:blip r:embed="rId7"/>
            <a:srcRect l="0" t="9073" r="0" b="22759"/>
            <a:stretch/>
          </p:blipFill>
          <p:spPr>
            <a:xfrm>
              <a:off x="2412720" y="549360"/>
              <a:ext cx="468828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"/>
            <p:cNvPicPr/>
            <p:nvPr/>
          </p:nvPicPr>
          <p:blipFill>
            <a:blip r:embed="rId8"/>
            <a:stretch/>
          </p:blipFill>
          <p:spPr>
            <a:xfrm>
              <a:off x="2411280" y="549360"/>
              <a:ext cx="46897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034"/>
            <p:cNvSpPr/>
            <p:nvPr/>
          </p:nvSpPr>
          <p:spPr>
            <a:xfrm>
              <a:off x="2636640" y="1341360"/>
              <a:ext cx="446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组合 1048"/>
          <p:cNvGrpSpPr/>
          <p:nvPr/>
        </p:nvGrpSpPr>
        <p:grpSpPr>
          <a:xfrm>
            <a:off x="4788000" y="2925720"/>
            <a:ext cx="4690800" cy="2266920"/>
            <a:chOff x="4788000" y="2925720"/>
            <a:chExt cx="4690800" cy="2266920"/>
          </a:xfrm>
        </p:grpSpPr>
        <p:sp>
          <p:nvSpPr>
            <p:cNvPr id="54" name="矩形 23"/>
            <p:cNvSpPr/>
            <p:nvPr/>
          </p:nvSpPr>
          <p:spPr>
            <a:xfrm>
              <a:off x="4789440" y="2925720"/>
              <a:ext cx="4689360" cy="226692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" name="Picture 3" descr=""/>
            <p:cNvPicPr/>
            <p:nvPr/>
          </p:nvPicPr>
          <p:blipFill>
            <a:blip r:embed="rId9"/>
            <a:stretch/>
          </p:blipFill>
          <p:spPr>
            <a:xfrm>
              <a:off x="4788000" y="2925720"/>
              <a:ext cx="469008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58"/>
            <p:cNvSpPr/>
            <p:nvPr/>
          </p:nvSpPr>
          <p:spPr>
            <a:xfrm>
              <a:off x="5015520" y="3624120"/>
              <a:ext cx="44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组合 1049"/>
          <p:cNvGrpSpPr/>
          <p:nvPr/>
        </p:nvGrpSpPr>
        <p:grpSpPr>
          <a:xfrm>
            <a:off x="2411280" y="2946240"/>
            <a:ext cx="2268720" cy="2267280"/>
            <a:chOff x="2411280" y="2946240"/>
            <a:chExt cx="2268720" cy="2267280"/>
          </a:xfrm>
        </p:grpSpPr>
        <p:grpSp>
          <p:nvGrpSpPr>
            <p:cNvPr id="58" name="组合 16"/>
            <p:cNvGrpSpPr/>
            <p:nvPr/>
          </p:nvGrpSpPr>
          <p:grpSpPr>
            <a:xfrm>
              <a:off x="2411280" y="2946240"/>
              <a:ext cx="2268720" cy="2267280"/>
              <a:chOff x="2411280" y="2946240"/>
              <a:chExt cx="2268720" cy="2267280"/>
            </a:xfrm>
          </p:grpSpPr>
          <p:sp>
            <p:nvSpPr>
              <p:cNvPr id="59" name="矩形 17"/>
              <p:cNvSpPr/>
              <p:nvPr/>
            </p:nvSpPr>
            <p:spPr>
              <a:xfrm>
                <a:off x="2411280" y="2946240"/>
                <a:ext cx="2268720" cy="226728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0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11280" y="2946240"/>
                <a:ext cx="226872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Picture 11" descr="E:\研二上学期\20120110_波司登PPT大赛宣传片\图表\5.png"/>
            <p:cNvPicPr/>
            <p:nvPr/>
          </p:nvPicPr>
          <p:blipFill>
            <a:blip r:embed="rId11"/>
            <a:stretch/>
          </p:blipFill>
          <p:spPr>
            <a:xfrm>
              <a:off x="2869560" y="3227040"/>
              <a:ext cx="1352520" cy="14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047"/>
          <p:cNvGrpSpPr/>
          <p:nvPr/>
        </p:nvGrpSpPr>
        <p:grpSpPr>
          <a:xfrm>
            <a:off x="9612360" y="2946240"/>
            <a:ext cx="2268360" cy="2267280"/>
            <a:chOff x="9612360" y="2946240"/>
            <a:chExt cx="2268360" cy="2267280"/>
          </a:xfrm>
        </p:grpSpPr>
        <p:sp>
          <p:nvSpPr>
            <p:cNvPr id="63" name="矩形 39"/>
            <p:cNvSpPr/>
            <p:nvPr/>
          </p:nvSpPr>
          <p:spPr>
            <a:xfrm>
              <a:off x="9612360" y="2946240"/>
              <a:ext cx="2268360" cy="226728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" name="Picture 3" descr=""/>
            <p:cNvPicPr/>
            <p:nvPr/>
          </p:nvPicPr>
          <p:blipFill>
            <a:blip r:embed="rId12"/>
            <a:stretch/>
          </p:blipFill>
          <p:spPr>
            <a:xfrm>
              <a:off x="9612360" y="2946240"/>
              <a:ext cx="226836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2" descr="E:\研二上学期\20120110_波司登PPT大赛宣传片\图表\14.png"/>
            <p:cNvPicPr/>
            <p:nvPr/>
          </p:nvPicPr>
          <p:blipFill>
            <a:blip r:embed="rId13"/>
            <a:stretch/>
          </p:blipFill>
          <p:spPr>
            <a:xfrm>
              <a:off x="10171800" y="3312720"/>
              <a:ext cx="114912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组合 1046"/>
          <p:cNvGrpSpPr/>
          <p:nvPr/>
        </p:nvGrpSpPr>
        <p:grpSpPr>
          <a:xfrm>
            <a:off x="12015720" y="2946240"/>
            <a:ext cx="4689720" cy="2267280"/>
            <a:chOff x="12015720" y="2946240"/>
            <a:chExt cx="4689720" cy="2267280"/>
          </a:xfrm>
        </p:grpSpPr>
        <p:grpSp>
          <p:nvGrpSpPr>
            <p:cNvPr id="67" name="组合 41"/>
            <p:cNvGrpSpPr/>
            <p:nvPr/>
          </p:nvGrpSpPr>
          <p:grpSpPr>
            <a:xfrm>
              <a:off x="12015720" y="2946240"/>
              <a:ext cx="4689720" cy="2267280"/>
              <a:chOff x="12015720" y="2946240"/>
              <a:chExt cx="4689720" cy="2267280"/>
            </a:xfrm>
          </p:grpSpPr>
          <p:sp>
            <p:nvSpPr>
              <p:cNvPr id="68" name="矩形 42"/>
              <p:cNvSpPr/>
              <p:nvPr/>
            </p:nvSpPr>
            <p:spPr>
              <a:xfrm>
                <a:off x="12017160" y="2946240"/>
                <a:ext cx="4688280" cy="226728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9" name="Picture 3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015720" y="2946240"/>
                <a:ext cx="468972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TextBox 61"/>
            <p:cNvSpPr/>
            <p:nvPr/>
          </p:nvSpPr>
          <p:spPr>
            <a:xfrm>
              <a:off x="12186360" y="3644640"/>
              <a:ext cx="44629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状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销售网点、竞品对比、客户分析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组合 1045"/>
          <p:cNvGrpSpPr/>
          <p:nvPr/>
        </p:nvGrpSpPr>
        <p:grpSpPr>
          <a:xfrm>
            <a:off x="7236000" y="549360"/>
            <a:ext cx="2268360" cy="2266920"/>
            <a:chOff x="7236000" y="549360"/>
            <a:chExt cx="2268360" cy="2266920"/>
          </a:xfrm>
        </p:grpSpPr>
        <p:grpSp>
          <p:nvGrpSpPr>
            <p:cNvPr id="72" name="组合 25"/>
            <p:cNvGrpSpPr/>
            <p:nvPr/>
          </p:nvGrpSpPr>
          <p:grpSpPr>
            <a:xfrm>
              <a:off x="7236000" y="549360"/>
              <a:ext cx="2268360" cy="2266920"/>
              <a:chOff x="7236000" y="549360"/>
              <a:chExt cx="2268360" cy="2266920"/>
            </a:xfrm>
          </p:grpSpPr>
          <p:sp>
            <p:nvSpPr>
              <p:cNvPr id="73" name="矩形 26"/>
              <p:cNvSpPr/>
              <p:nvPr/>
            </p:nvSpPr>
            <p:spPr>
              <a:xfrm>
                <a:off x="7236000" y="549360"/>
                <a:ext cx="2268360" cy="226692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4" name="Picture 3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36000" y="549360"/>
                <a:ext cx="22683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Picture 13" descr="C:\Users\Windows\Desktop\metrostation_by_yankoa-d312tty\PNG\Navigation\white\MB_0014_world1.png"/>
            <p:cNvPicPr/>
            <p:nvPr/>
          </p:nvPicPr>
          <p:blipFill>
            <a:blip r:embed="rId16"/>
            <a:stretch/>
          </p:blipFill>
          <p:spPr>
            <a:xfrm>
              <a:off x="7604640" y="900360"/>
              <a:ext cx="1565280" cy="15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1044"/>
          <p:cNvGrpSpPr/>
          <p:nvPr/>
        </p:nvGrpSpPr>
        <p:grpSpPr>
          <a:xfrm>
            <a:off x="9612360" y="549360"/>
            <a:ext cx="4689360" cy="2266920"/>
            <a:chOff x="9612360" y="549360"/>
            <a:chExt cx="4689360" cy="2266920"/>
          </a:xfrm>
        </p:grpSpPr>
        <p:pic>
          <p:nvPicPr>
            <p:cNvPr id="77" name="Picture 15" descr="H:\Course_教程\“激扬北科 幻舞梦想”第二届校园PPT设计制作大赛素材+教程\相关素材\图片素材\3\193.jpg"/>
            <p:cNvPicPr/>
            <p:nvPr/>
          </p:nvPicPr>
          <p:blipFill>
            <a:blip r:embed="rId17"/>
            <a:srcRect l="0" t="0" r="0" b="65605"/>
            <a:stretch/>
          </p:blipFill>
          <p:spPr>
            <a:xfrm>
              <a:off x="9613800" y="549360"/>
              <a:ext cx="468108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"/>
            <p:cNvPicPr/>
            <p:nvPr/>
          </p:nvPicPr>
          <p:blipFill>
            <a:blip r:embed="rId18"/>
            <a:stretch/>
          </p:blipFill>
          <p:spPr>
            <a:xfrm>
              <a:off x="9612360" y="549360"/>
              <a:ext cx="4689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66"/>
            <p:cNvSpPr/>
            <p:nvPr/>
          </p:nvSpPr>
          <p:spPr>
            <a:xfrm>
              <a:off x="9831240" y="1341360"/>
              <a:ext cx="44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组合 44"/>
          <p:cNvGrpSpPr/>
          <p:nvPr/>
        </p:nvGrpSpPr>
        <p:grpSpPr>
          <a:xfrm>
            <a:off x="14436720" y="549360"/>
            <a:ext cx="2268720" cy="2266920"/>
            <a:chOff x="14436720" y="549360"/>
            <a:chExt cx="2268720" cy="2266920"/>
          </a:xfrm>
        </p:grpSpPr>
        <p:sp>
          <p:nvSpPr>
            <p:cNvPr id="81" name="矩形 45"/>
            <p:cNvSpPr/>
            <p:nvPr/>
          </p:nvSpPr>
          <p:spPr>
            <a:xfrm>
              <a:off x="14436720" y="549360"/>
              <a:ext cx="2268720" cy="226692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" name="Picture 3" descr=""/>
            <p:cNvPicPr/>
            <p:nvPr/>
          </p:nvPicPr>
          <p:blipFill>
            <a:blip r:embed="rId19"/>
            <a:stretch/>
          </p:blipFill>
          <p:spPr>
            <a:xfrm>
              <a:off x="14436720" y="549360"/>
              <a:ext cx="2268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684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2840" y="3141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3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6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2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2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29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H:\Course_教程\“激扬北科 幻舞梦想”第二届校园PPT设计制作大赛素材+教程\相关素材\图片素材\3\160.jpg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0" y="-28440"/>
            <a:ext cx="9144000" cy="688644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324000" y="139680"/>
            <a:ext cx="49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组合 11"/>
          <p:cNvGrpSpPr/>
          <p:nvPr/>
        </p:nvGrpSpPr>
        <p:grpSpPr>
          <a:xfrm>
            <a:off x="-216000" y="1165320"/>
            <a:ext cx="6059520" cy="4196880"/>
            <a:chOff x="-216000" y="1165320"/>
            <a:chExt cx="6059520" cy="4196880"/>
          </a:xfrm>
        </p:grpSpPr>
        <p:sp>
          <p:nvSpPr>
            <p:cNvPr id="89" name="矩形 2"/>
            <p:cNvSpPr/>
            <p:nvPr/>
          </p:nvSpPr>
          <p:spPr>
            <a:xfrm>
              <a:off x="-2160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结构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矩形 6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2"/>
          <p:cNvGrpSpPr/>
          <p:nvPr/>
        </p:nvGrpSpPr>
        <p:grpSpPr>
          <a:xfrm>
            <a:off x="7729200" y="1165320"/>
            <a:ext cx="5699520" cy="3152520"/>
            <a:chOff x="7729200" y="1165320"/>
            <a:chExt cx="5699520" cy="3152520"/>
          </a:xfrm>
        </p:grpSpPr>
        <p:sp>
          <p:nvSpPr>
            <p:cNvPr id="93" name="矩形 3"/>
            <p:cNvSpPr/>
            <p:nvPr/>
          </p:nvSpPr>
          <p:spPr>
            <a:xfrm>
              <a:off x="77292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职责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矩形 9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Picture 3" descr="E:\研二上学期\20120110_波司登PPT大赛宣传片\图表\24.png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组合 15"/>
          <p:cNvGrpSpPr/>
          <p:nvPr/>
        </p:nvGrpSpPr>
        <p:grpSpPr>
          <a:xfrm>
            <a:off x="15609600" y="1165320"/>
            <a:ext cx="6140880" cy="4196880"/>
            <a:chOff x="15609600" y="1165320"/>
            <a:chExt cx="6140880" cy="4196880"/>
          </a:xfrm>
        </p:grpSpPr>
        <p:sp>
          <p:nvSpPr>
            <p:cNvPr id="97" name="矩形 16"/>
            <p:cNvSpPr/>
            <p:nvPr/>
          </p:nvSpPr>
          <p:spPr>
            <a:xfrm>
              <a:off x="156096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愿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矩形 17"/>
            <p:cNvSpPr/>
            <p:nvPr/>
          </p:nvSpPr>
          <p:spPr>
            <a:xfrm>
              <a:off x="16265160" y="2029320"/>
              <a:ext cx="298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4"/>
            <a:stretch/>
          </p:blipFill>
          <p:spPr>
            <a:xfrm>
              <a:off x="1938384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一"/>
          <p:cNvSpPr/>
          <p:nvPr/>
        </p:nvSpPr>
        <p:spPr>
          <a:xfrm>
            <a:off x="6551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向左" descr="C:\Users\Windows\Desktop\metrostation_by_yankoa-d312tty\PNG\System\White\MB_0006_back.png"/>
          <p:cNvPicPr/>
          <p:nvPr/>
        </p:nvPicPr>
        <p:blipFill>
          <a:blip r:embed="rId5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50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59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68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H:\Course_教程\“激扬北科 幻舞梦想”第二届校园PPT设计制作大赛素材+教程\相关素材\图片素材\3\160.jpg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06" name="矩形 7"/>
          <p:cNvSpPr/>
          <p:nvPr/>
        </p:nvSpPr>
        <p:spPr>
          <a:xfrm>
            <a:off x="0" y="-28440"/>
            <a:ext cx="9144000" cy="688644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24000" y="139680"/>
            <a:ext cx="49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-297000" y="1165320"/>
            <a:ext cx="6140520" cy="4196880"/>
            <a:chOff x="-297000" y="1165320"/>
            <a:chExt cx="6140520" cy="4196880"/>
          </a:xfrm>
        </p:grpSpPr>
        <p:sp>
          <p:nvSpPr>
            <p:cNvPr id="109" name="矩形 3"/>
            <p:cNvSpPr/>
            <p:nvPr/>
          </p:nvSpPr>
          <p:spPr>
            <a:xfrm>
              <a:off x="-2970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使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6"/>
          <p:cNvGrpSpPr/>
          <p:nvPr/>
        </p:nvGrpSpPr>
        <p:grpSpPr>
          <a:xfrm>
            <a:off x="7729200" y="1165320"/>
            <a:ext cx="5699520" cy="3152520"/>
            <a:chOff x="7729200" y="1165320"/>
            <a:chExt cx="5699520" cy="3152520"/>
          </a:xfrm>
        </p:grpSpPr>
        <p:sp>
          <p:nvSpPr>
            <p:cNvPr id="113" name="矩形 7"/>
            <p:cNvSpPr/>
            <p:nvPr/>
          </p:nvSpPr>
          <p:spPr>
            <a:xfrm>
              <a:off x="77292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管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Picture 3" descr="E:\研二上学期\20120110_波司登PPT大赛宣传片\图表\24.png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组合 10"/>
          <p:cNvGrpSpPr/>
          <p:nvPr/>
        </p:nvGrpSpPr>
        <p:grpSpPr>
          <a:xfrm>
            <a:off x="15609600" y="1165320"/>
            <a:ext cx="6140880" cy="4196880"/>
            <a:chOff x="15609600" y="1165320"/>
            <a:chExt cx="6140880" cy="4196880"/>
          </a:xfrm>
        </p:grpSpPr>
        <p:sp>
          <p:nvSpPr>
            <p:cNvPr id="117" name="矩形 11"/>
            <p:cNvSpPr/>
            <p:nvPr/>
          </p:nvSpPr>
          <p:spPr>
            <a:xfrm>
              <a:off x="156096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度规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矩形 12"/>
            <p:cNvSpPr/>
            <p:nvPr/>
          </p:nvSpPr>
          <p:spPr>
            <a:xfrm>
              <a:off x="16265160" y="2029320"/>
              <a:ext cx="298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4"/>
            <a:stretch/>
          </p:blipFill>
          <p:spPr>
            <a:xfrm>
              <a:off x="1938384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一"/>
          <p:cNvSpPr/>
          <p:nvPr/>
        </p:nvSpPr>
        <p:spPr>
          <a:xfrm>
            <a:off x="6551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向左" descr="C:\Users\Windows\Desktop\metrostation_by_yankoa-d312tty\PNG\System\White\MB_0006_back.png"/>
          <p:cNvPicPr/>
          <p:nvPr/>
        </p:nvPicPr>
        <p:blipFill>
          <a:blip r:embed="rId5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78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8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9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4" descr="H:\Course_教程\“激扬北科 幻舞梦想”第二届校园PPT设计制作大赛素材+教程\相关素材\图片素材\3\160.jpg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7"/>
          <p:cNvSpPr/>
          <p:nvPr/>
        </p:nvSpPr>
        <p:spPr>
          <a:xfrm>
            <a:off x="0" y="-28440"/>
            <a:ext cx="9144000" cy="688644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24000" y="139680"/>
            <a:ext cx="49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财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-297000" y="1165320"/>
            <a:ext cx="6140520" cy="4196880"/>
            <a:chOff x="-297000" y="1165320"/>
            <a:chExt cx="6140520" cy="4196880"/>
          </a:xfrm>
        </p:grpSpPr>
        <p:sp>
          <p:nvSpPr>
            <p:cNvPr id="128" name="矩形 3"/>
            <p:cNvSpPr/>
            <p:nvPr/>
          </p:nvSpPr>
          <p:spPr>
            <a:xfrm>
              <a:off x="-2970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数据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组合 6"/>
          <p:cNvGrpSpPr/>
          <p:nvPr/>
        </p:nvGrpSpPr>
        <p:grpSpPr>
          <a:xfrm>
            <a:off x="7729200" y="1165320"/>
            <a:ext cx="5699520" cy="3152520"/>
            <a:chOff x="7729200" y="1165320"/>
            <a:chExt cx="5699520" cy="3152520"/>
          </a:xfrm>
        </p:grpSpPr>
        <p:sp>
          <p:nvSpPr>
            <p:cNvPr id="132" name="矩形 7"/>
            <p:cNvSpPr/>
            <p:nvPr/>
          </p:nvSpPr>
          <p:spPr>
            <a:xfrm>
              <a:off x="77292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收支情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" name="Picture 3" descr="E:\研二上学期\20120110_波司登PPT大赛宣传片\图表\24.png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组合 10"/>
          <p:cNvGrpSpPr/>
          <p:nvPr/>
        </p:nvGrpSpPr>
        <p:grpSpPr>
          <a:xfrm>
            <a:off x="15455160" y="1165320"/>
            <a:ext cx="6295320" cy="4196880"/>
            <a:chOff x="15455160" y="1165320"/>
            <a:chExt cx="6295320" cy="4196880"/>
          </a:xfrm>
        </p:grpSpPr>
        <p:sp>
          <p:nvSpPr>
            <p:cNvPr id="136" name="矩形 11"/>
            <p:cNvSpPr/>
            <p:nvPr/>
          </p:nvSpPr>
          <p:spPr>
            <a:xfrm>
              <a:off x="15455160" y="1165320"/>
              <a:ext cx="302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Ｑ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预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矩形 12"/>
            <p:cNvSpPr/>
            <p:nvPr/>
          </p:nvSpPr>
          <p:spPr>
            <a:xfrm>
              <a:off x="16265160" y="2029320"/>
              <a:ext cx="298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4"/>
            <a:stretch/>
          </p:blipFill>
          <p:spPr>
            <a:xfrm>
              <a:off x="1938384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一"/>
          <p:cNvSpPr/>
          <p:nvPr/>
        </p:nvSpPr>
        <p:spPr>
          <a:xfrm>
            <a:off x="6551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向左" descr="C:\Users\Windows\Desktop\metrostation_by_yankoa-d312tty\PNG\System\White\MB_0006_back.png"/>
          <p:cNvPicPr/>
          <p:nvPr/>
        </p:nvPicPr>
        <p:blipFill>
          <a:blip r:embed="rId5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06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1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15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24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4" descr="H:\Course_教程\“激扬北科 幻舞梦想”第二届校园PPT设计制作大赛素材+教程\相关素材\图片素材\3\160.jpg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48" name="矩形 7"/>
          <p:cNvSpPr/>
          <p:nvPr/>
        </p:nvSpPr>
        <p:spPr>
          <a:xfrm>
            <a:off x="0" y="-28440"/>
            <a:ext cx="9144000" cy="688644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324000" y="139680"/>
            <a:ext cx="49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务状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2"/>
          <p:cNvGrpSpPr/>
          <p:nvPr/>
        </p:nvGrpSpPr>
        <p:grpSpPr>
          <a:xfrm>
            <a:off x="-297000" y="1165320"/>
            <a:ext cx="6140520" cy="4196880"/>
            <a:chOff x="-297000" y="1165320"/>
            <a:chExt cx="6140520" cy="4196880"/>
          </a:xfrm>
        </p:grpSpPr>
        <p:sp>
          <p:nvSpPr>
            <p:cNvPr id="151" name="矩形 3"/>
            <p:cNvSpPr/>
            <p:nvPr/>
          </p:nvSpPr>
          <p:spPr>
            <a:xfrm>
              <a:off x="-2970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销售网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组合 6"/>
          <p:cNvGrpSpPr/>
          <p:nvPr/>
        </p:nvGrpSpPr>
        <p:grpSpPr>
          <a:xfrm>
            <a:off x="7729200" y="1165320"/>
            <a:ext cx="5699520" cy="3152520"/>
            <a:chOff x="7729200" y="1165320"/>
            <a:chExt cx="5699520" cy="3152520"/>
          </a:xfrm>
        </p:grpSpPr>
        <p:sp>
          <p:nvSpPr>
            <p:cNvPr id="155" name="矩形 7"/>
            <p:cNvSpPr/>
            <p:nvPr/>
          </p:nvSpPr>
          <p:spPr>
            <a:xfrm>
              <a:off x="77292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品对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Picture 3" descr="E:\研二上学期\20120110_波司登PPT大赛宣传片\图表\24.png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10"/>
          <p:cNvGrpSpPr/>
          <p:nvPr/>
        </p:nvGrpSpPr>
        <p:grpSpPr>
          <a:xfrm>
            <a:off x="15609600" y="1165320"/>
            <a:ext cx="6140880" cy="4196880"/>
            <a:chOff x="15609600" y="1165320"/>
            <a:chExt cx="6140880" cy="4196880"/>
          </a:xfrm>
        </p:grpSpPr>
        <p:sp>
          <p:nvSpPr>
            <p:cNvPr id="159" name="矩形 11"/>
            <p:cNvSpPr/>
            <p:nvPr/>
          </p:nvSpPr>
          <p:spPr>
            <a:xfrm>
              <a:off x="15609600" y="116532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分析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矩形 12"/>
            <p:cNvSpPr/>
            <p:nvPr/>
          </p:nvSpPr>
          <p:spPr>
            <a:xfrm>
              <a:off x="16265160" y="2029320"/>
              <a:ext cx="298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Picture 2" descr="H:\Course_教程\“激扬北科 幻舞梦想”第二届校园PPT设计制作大赛素材+教程\相关素材\图片素材\3\012.jpg"/>
            <p:cNvPicPr/>
            <p:nvPr/>
          </p:nvPicPr>
          <p:blipFill>
            <a:blip r:embed="rId4"/>
            <a:stretch/>
          </p:blipFill>
          <p:spPr>
            <a:xfrm>
              <a:off x="1938384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一"/>
          <p:cNvSpPr/>
          <p:nvPr/>
        </p:nvSpPr>
        <p:spPr>
          <a:xfrm>
            <a:off x="6551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向左" descr="C:\Users\Windows\Desktop\metrostation_by_yankoa-d312tty\PNG\System\White\MB_0006_back.png"/>
          <p:cNvPicPr/>
          <p:nvPr/>
        </p:nvPicPr>
        <p:blipFill>
          <a:blip r:embed="rId5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34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4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43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48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52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9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7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8:32Z</dcterms:modified>
  <cp:revision>1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