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FE829-7F42-45C8-B129-1A9FB917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14561-7E1B-482A-A0DB-7CF9A142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198F5-50B2-4994-BA50-F3E39582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07EC1-9690-46BB-AAC8-1A22A50C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89683-BC40-4E97-9AD4-43AA0EF8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1CB22-9411-426D-BA92-0FA4A230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A0DA9-A283-4236-9C1F-F7998518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E9704-F0AB-4C22-A3C5-EAC5A69A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44FE-EB33-4E96-9317-C01A8056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3DA4B-14B5-4771-8881-166F6519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1C03A-05D8-44E2-A835-C40F8C49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B56B2-A97C-4BC1-9CB4-9FE7B8F1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B9664-13CF-4887-876B-866638CF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B2564-15F9-4684-A1F2-CDA281A9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3FEAA-C33E-43F2-BA33-DB858054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958B2-8018-4ED6-B3B9-DCAC861F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7A226-595E-43CD-807D-98C4E31E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B1B87-C41C-428E-AEFB-D882302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E3E66-E4DF-4C34-A753-837F054B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7E6A1-3B48-4701-AC20-044B219F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E4836-BD0B-443D-9810-7C7CBB31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7F521-8BC9-4EC0-99FC-685F600C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D94E2-D189-403F-891A-F43B5741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B9882-9A32-43F8-8E34-E22310C0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7D785-1DEA-4E8D-8A58-9C1361B6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6B414-ED9F-4CE1-A316-B079FA35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D10A3-6B61-49D0-8DC3-8610914C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95E6B-E5F6-46E4-8F16-46AAAE07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C08E5-9EE4-4338-ADDF-4A24077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3B853-D595-49B4-AFC1-A625C2B8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F20C5-A908-4A22-8C44-A5CE605E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5594A-6DDD-4E0E-967E-2DD20666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82E52-0A64-4070-9036-7F3EA297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D0474-D311-4B92-93FF-1D8C9A2A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C1A5A-63B0-45C4-91F8-1E619829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41A91-7567-4BFA-9321-D6193AD3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C26A3-6163-4F54-B954-A6DE5712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41080-EF54-4AD3-A661-ED65653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68E41-48E2-4DCA-8C6B-67915E79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92DEE-AC8D-479F-8650-03F6125D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C5EF6-3183-46E7-A58B-CD1CEE6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058E8-5ED2-403C-ACA6-92E867BE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E2D87-22C6-4057-8083-6E88346A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C2DD0-7AC2-41BD-A1D5-7D9E4430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DACA9-A08F-485B-B05C-F1C8039F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8D5EA-3B77-4D38-A15F-9D936CE0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EF2A2-A64F-43C3-9BC6-3C7076CE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CECA9-64F4-4130-9C78-C23EBC38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26DF8-D845-4C1E-99E7-AA578F2F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50C14-0D08-4532-B87E-7BE5200D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A3262-4911-420D-94F2-C363E77D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80E61-C0D3-4DC9-BA30-4BC8C3D2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0921B-57C8-4907-BCE1-B9A7C60F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AD209-D463-46B2-B8BD-742F0D87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DA8C1-6A23-4543-A7D4-B16B2A2F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F6D54-1ED8-4551-B436-9B3879AA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094FE-DC1C-4A0A-9603-71F75308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50C61-31F1-49A9-B4EF-715FB7CC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49A5A-9616-47A3-9A4D-DE7ED3EB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474C4-F1EA-43F7-BDF4-115A4F31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5C53D-83D5-475C-B20A-9A5A000B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097CE-5D2A-4123-9B13-4E73EA12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94441-D1C5-4961-A2C4-27712CEC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45EDF-8992-4AAE-8692-9932467F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38DDF-5739-4644-9DE3-8CB4911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CDE1B-1335-4246-B829-28F3593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CE60C-3697-4473-BB0E-0E9B8DEE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DFE40-5A29-4E15-A924-CF9A416F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588E7-8D9F-4ECB-81B3-E0AEC359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F0C-5A89-40DB-A008-C6C495AD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05B-FC23-459A-8EE1-F9BCD82F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8D5-DEB0-440B-A960-9E758DC4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02C-4C17-4041-84DC-691D6AD1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C50-3A13-45E3-B289-434BED24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833-B266-4BE1-8B4B-9362E251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310-63F0-4A17-BD65-C0C2AE1C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D7C-7D13-4443-BDAF-AD579704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52E-7F7C-47A0-BB9B-662EB3E2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8B1-6761-4673-AB24-18F695F2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043-F18D-4E8A-81D6-D5E10286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BDC-138F-4F8E-8CCB-9976E328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4476-D940-4C03-B175-1A761F66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B44B-5708-4798-85ED-594743C7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4DD5-FAC6-473B-B98D-77034651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1780-93F3-41F1-9EEE-09BC5103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FFFE-1E6D-4466-8496-09764A69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2BEB-2096-471B-A4E8-B5AA04C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6A7C-A1B6-4327-995E-D37E2AF2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884C-9075-45E9-B42E-2636C742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F181-498F-41F6-9D58-E99C73B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3F8E-E842-4192-9DC0-D6A81575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07CC-8AB7-4344-A887-D9A11C64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7027-4C9C-4635-8F98-CA9B1C6D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5A01-260E-4B1F-B4F8-8C5045C0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B0F5-D33B-41F4-994E-B07E344D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F1AA-B010-4DAA-9C84-BAD70892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748A-028D-4B7B-9B75-F04E9676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191B-1B1B-439F-94E6-1A4610A3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C20E6-A339-4F5D-8489-82EB4601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8476-A30E-44D6-B381-D6D0F58D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6BC79-5A6C-44B6-A045-DF476EAB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F60A-731B-44D1-BD08-7FCBC42A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F8A4-9ECC-4213-B3B1-FDB11FA6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39B3-C297-440D-82C9-A6D54962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C410-3E60-4758-8DA5-2878FF36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1443-9A5B-4823-9B34-BDADB6AF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94AA-3AA2-49D5-B738-A6055215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76870-20D5-4A2A-9297-0DC81006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6917-81F0-4739-9FB7-4E9AE6C0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83A4C-2FE1-434B-BA1D-319824DD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9492A-F6F5-486C-B0B9-A6967C35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9D351-281D-4B2B-AA0B-7A72ED9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6F8E-5F94-492E-B5AD-E8C4EE3F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7ABCA-60CD-4630-B697-8A5DC8C7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74F6F-983B-4D57-8257-277D1856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C021-EB30-4229-BEDD-8389ED4F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4E44-357B-46AE-B709-E06B7760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356E0-B3DF-4C18-8751-887E98E6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7D78C-63EC-4D16-8D27-BE82EC9D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17A2D-2D5F-44AF-B061-1AE5E124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35FF-25B5-49BB-BEE1-B820BBCC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21888-A3E7-45A4-9A79-FC323162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B4530-EE97-4D0C-B3FB-278DA4E8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00D90-90D2-4265-B6E5-9803BFBE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703D7-96E6-4CBF-A15D-C692C8B3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B7CA1-6A5C-4573-8EC9-DCC7C4CE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1130E-CFD3-4894-B8EA-164CE6FF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F9926-F72A-4636-94B7-F7180044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BEDB0-053C-46F4-AF69-8168231B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1EE09-3295-45B1-AED1-46F85AF8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DEEB0-C6CA-4C21-B86D-F0049CE9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E4D79-28A1-405B-9CD8-5E4E099D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6ABA9-38AB-469B-9547-178AA9CE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2DBEB-401B-4109-A990-3069D649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FE7F7-9268-456B-AF88-278BF92D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6963C-C7DF-496C-82A7-6F1D054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92437-F3EC-4FA5-A244-21234DE2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71A5A-8825-4DF0-99EC-4E172E1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5DBDC-D80A-4AE8-9CF6-B50503E2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200DD-B15D-4336-873F-CC1A068E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33D4F-22D8-4D22-BB6E-F7176920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9ADB0-E64C-4F33-BE45-847E1ECC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C14CA-17EE-4DF1-A5DB-ECD26B96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D92F6-985B-4949-B73E-D1F962AE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8AAB-8E76-43FB-96E4-C7079EDEC1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7C28-6D58-445B-996D-483A54035E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B59A-227E-452D-99F0-8A42432051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062B-DDE7-42F7-8EE3-649A494A00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55B0-A3B4-417F-A241-F9F1A95FD4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A548-3E9D-4E02-B662-22E359B7D8F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A601-BB43-4DFA-9E9C-A80B4DFFAB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0AEA-8846-44EB-85AA-BAA479575A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D334-3B28-4CCD-AA84-B4D825C6CA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5522-9A4C-4EED-BDBE-78F875729F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EECD-5571-4282-86A5-CFBA2086DD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C021-1C90-465A-B2D2-E7F725517C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5"/>
          <p:cNvSpPr/>
          <p:nvPr/>
        </p:nvSpPr>
        <p:spPr>
          <a:xfrm>
            <a:off x="1665360" y="990720"/>
            <a:ext cx="6507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认识时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971640" y="1779480"/>
            <a:ext cx="37148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认识时间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71" name="Picture 5" descr="\\192.168.1.3\临时中转站1_以本人姓名建目录\开发中心-多媒体部\02美术部\晨会文件\04宁煌\人教数学教参\07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72" name="矩形 5"/>
          <p:cNvSpPr/>
          <p:nvPr/>
        </p:nvSpPr>
        <p:spPr>
          <a:xfrm>
            <a:off x="5400" y="6453360"/>
            <a:ext cx="33991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6" descr="未标题-2"/>
          <p:cNvPicPr/>
          <p:nvPr/>
        </p:nvPicPr>
        <p:blipFill>
          <a:blip r:embed="rId1"/>
          <a:stretch/>
        </p:blipFill>
        <p:spPr>
          <a:xfrm>
            <a:off x="1332000" y="2320920"/>
            <a:ext cx="6480000" cy="355608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应用拓展，巩固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611280" y="1557360"/>
            <a:ext cx="7286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做一做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1500120" y="5907240"/>
            <a:ext cx="6143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能准确写出每个钟表所表示的时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33526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: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49546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: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65404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: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2" name="TextBox 9"/>
          <p:cNvSpPr/>
          <p:nvPr/>
        </p:nvSpPr>
        <p:spPr>
          <a:xfrm>
            <a:off x="327672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:4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3" name="TextBox 11"/>
          <p:cNvSpPr/>
          <p:nvPr/>
        </p:nvSpPr>
        <p:spPr>
          <a:xfrm>
            <a:off x="496404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5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4" name="TextBox 12"/>
          <p:cNvSpPr/>
          <p:nvPr/>
        </p:nvSpPr>
        <p:spPr>
          <a:xfrm>
            <a:off x="652140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:0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5" name="TextBox 13"/>
          <p:cNvSpPr/>
          <p:nvPr/>
        </p:nvSpPr>
        <p:spPr>
          <a:xfrm>
            <a:off x="175896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: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457200" y="417600"/>
            <a:ext cx="69008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应用拓展，巩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30" name="Picture 11" descr="未标题-1"/>
          <p:cNvPicPr/>
          <p:nvPr/>
        </p:nvPicPr>
        <p:blipFill>
          <a:blip r:embed="rId1"/>
          <a:stretch/>
        </p:blipFill>
        <p:spPr>
          <a:xfrm>
            <a:off x="611280" y="2276640"/>
            <a:ext cx="79344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00160" y="6126120"/>
            <a:ext cx="6765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矩形 7"/>
          <p:cNvSpPr/>
          <p:nvPr/>
        </p:nvSpPr>
        <p:spPr>
          <a:xfrm>
            <a:off x="2050920" y="278136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154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引出时间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973080" y="5563080"/>
            <a:ext cx="65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钟表上现在是什么时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76" name="Picture 10" descr="90-1"/>
          <p:cNvPicPr/>
          <p:nvPr/>
        </p:nvPicPr>
        <p:blipFill>
          <a:blip r:embed="rId1"/>
          <a:stretch/>
        </p:blipFill>
        <p:spPr>
          <a:xfrm>
            <a:off x="704880" y="1773360"/>
            <a:ext cx="76122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认识钟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857160" y="549324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关于钟面你们都知道哪些知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857160" y="592344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还有其他发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81" name="Picture 12" descr="未标题-6"/>
          <p:cNvPicPr/>
          <p:nvPr/>
        </p:nvPicPr>
        <p:blipFill>
          <a:blip r:embed="rId1"/>
          <a:stretch/>
        </p:blipFill>
        <p:spPr>
          <a:xfrm>
            <a:off x="2212920" y="2492280"/>
            <a:ext cx="3222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体会刻度与时针、分针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468360" y="57074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仔细观察，分针走了几个小格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85" name="Picture 17" descr="7"/>
          <p:cNvPicPr/>
          <p:nvPr/>
        </p:nvPicPr>
        <p:blipFill>
          <a:blip r:embed="rId1"/>
          <a:stretch/>
        </p:blipFill>
        <p:spPr>
          <a:xfrm>
            <a:off x="1494000" y="3127320"/>
            <a:ext cx="2501640" cy="21765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8" descr="未标题-6"/>
          <p:cNvPicPr/>
          <p:nvPr/>
        </p:nvPicPr>
        <p:blipFill>
          <a:blip r:embed="rId2"/>
          <a:stretch/>
        </p:blipFill>
        <p:spPr>
          <a:xfrm>
            <a:off x="3924360" y="3124080"/>
            <a:ext cx="2502000" cy="21751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9" descr="未标题-7"/>
          <p:cNvPicPr/>
          <p:nvPr/>
        </p:nvPicPr>
        <p:blipFill>
          <a:blip r:embed="rId3"/>
          <a:srcRect l="5535" t="0" r="12790" b="4283"/>
          <a:stretch/>
        </p:blipFill>
        <p:spPr>
          <a:xfrm>
            <a:off x="4092480" y="1125360"/>
            <a:ext cx="4524480" cy="4124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0" descr="5"/>
          <p:cNvPicPr/>
          <p:nvPr/>
        </p:nvPicPr>
        <p:blipFill>
          <a:blip r:embed="rId4"/>
          <a:srcRect l="0" t="0" r="2854" b="-1645"/>
          <a:stretch/>
        </p:blipFill>
        <p:spPr>
          <a:xfrm>
            <a:off x="5940360" y="4367160"/>
            <a:ext cx="2881440" cy="20862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9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7"/>
          <p:cNvGrpSpPr/>
          <p:nvPr/>
        </p:nvGrpSpPr>
        <p:grpSpPr>
          <a:xfrm>
            <a:off x="1930320" y="2244600"/>
            <a:ext cx="4556160" cy="3581640"/>
            <a:chOff x="1930320" y="2244600"/>
            <a:chExt cx="4556160" cy="3581640"/>
          </a:xfrm>
        </p:grpSpPr>
        <p:pic>
          <p:nvPicPr>
            <p:cNvPr id="591" name="Picture 26" descr="未标题-4"/>
            <p:cNvPicPr/>
            <p:nvPr/>
          </p:nvPicPr>
          <p:blipFill>
            <a:blip r:embed="rId1"/>
            <a:stretch/>
          </p:blipFill>
          <p:spPr>
            <a:xfrm>
              <a:off x="1930320" y="2244600"/>
              <a:ext cx="4556160" cy="35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25" descr="7"/>
            <p:cNvPicPr/>
            <p:nvPr/>
          </p:nvPicPr>
          <p:blipFill>
            <a:blip r:embed="rId2"/>
            <a:stretch/>
          </p:blipFill>
          <p:spPr>
            <a:xfrm>
              <a:off x="2687400" y="2796120"/>
              <a:ext cx="2924640" cy="254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66560" y="6139440"/>
            <a:ext cx="67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还能继续数下去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5356800" y="307656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6" name="Text Box 16"/>
          <p:cNvSpPr/>
          <p:nvPr/>
        </p:nvSpPr>
        <p:spPr>
          <a:xfrm>
            <a:off x="5372640" y="44164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7" name="Text Box 17"/>
          <p:cNvSpPr/>
          <p:nvPr/>
        </p:nvSpPr>
        <p:spPr>
          <a:xfrm>
            <a:off x="4766400" y="50338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3950280" y="523224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9" name="Text Box 19"/>
          <p:cNvSpPr/>
          <p:nvPr/>
        </p:nvSpPr>
        <p:spPr>
          <a:xfrm>
            <a:off x="2931120" y="502272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2354760" y="443232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2148480" y="376560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2" name="Text Box 22"/>
          <p:cNvSpPr/>
          <p:nvPr/>
        </p:nvSpPr>
        <p:spPr>
          <a:xfrm>
            <a:off x="2364480" y="30700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2926440" y="24796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4" name="Text Box 24"/>
          <p:cNvSpPr/>
          <p:nvPr/>
        </p:nvSpPr>
        <p:spPr>
          <a:xfrm>
            <a:off x="3945600" y="22510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体会刻度与时针、分针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468360" y="57074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仔细观察，分针走了几个小格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认识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时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08" name="Picture 9" descr="未标题-3"/>
          <p:cNvPicPr/>
          <p:nvPr/>
        </p:nvPicPr>
        <p:blipFill>
          <a:blip r:embed="rId1"/>
          <a:stretch/>
        </p:blipFill>
        <p:spPr>
          <a:xfrm>
            <a:off x="2411280" y="2421000"/>
            <a:ext cx="3743280" cy="33843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457200" y="417600"/>
            <a:ext cx="81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体会刻度与时针、分针的关系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9" descr=""/>
          <p:cNvPicPr/>
          <p:nvPr/>
        </p:nvPicPr>
        <p:blipFill>
          <a:blip r:embed="rId1"/>
          <a:stretch/>
        </p:blipFill>
        <p:spPr>
          <a:xfrm>
            <a:off x="371520" y="298440"/>
            <a:ext cx="83916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认识几时几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612" name="Picture 11" descr="未标题-5"/>
          <p:cNvPicPr/>
          <p:nvPr/>
        </p:nvPicPr>
        <p:blipFill>
          <a:blip r:embed="rId1"/>
          <a:stretch/>
        </p:blipFill>
        <p:spPr>
          <a:xfrm>
            <a:off x="2700360" y="2205000"/>
            <a:ext cx="3382920" cy="3311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8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4:31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