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6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FCC-4061-4DFE-90E5-3CC2517B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289-4A7B-4831-97FB-EF28AFC4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10E-6A9B-4193-9E3F-59A1132B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21A-5F07-4E45-B06E-18EFE646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A319-0C74-43D4-895B-577770F3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919F-1243-4D97-BAF2-F336ED0D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BD95-E77D-4494-9C10-9916F393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5888-EA51-4868-A5F5-661C6082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D1AA-6EDA-4619-8A2A-BD587530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0C43-4E50-4A22-BBE6-D125BF3A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D92D-63A3-493B-A0D7-61732F2E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90B-903F-4BEB-9F5A-F668DF45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6F16-F86D-41B6-928B-5AFE1D34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D311-FC93-43C5-8C05-AD0DA24E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C0BF-5BA2-41F2-A685-D018098F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7F18-4D75-4C11-B1FC-C4A9E49E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2FED-96C6-4602-821B-042F2F80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A18-381F-487E-8486-00984A54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7A3-1029-475D-AB2C-77170FD4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127-5EA0-4F36-A3B3-D7398A97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65E-1E50-4BF7-BA4E-021371B4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34F-A7DB-46DF-86CD-37E77129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4A1-7345-4D10-8EA3-49265664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8CB-D5C5-45B9-A142-BEB54069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1B7C-FCF7-428E-A902-64EB4565A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58CA-FF69-456A-B604-2B22701EC3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ostimg.mop.com/200607/13/44/234244/2006071322125040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ostimg.mop.com/200607/13/44/234244/2006071322195767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ostimg.mop.com/200607/13/44/234244/20060713222112908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3132000" y="4435560"/>
            <a:ext cx="331308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潭：水深之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647800" y="1268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月潭的传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1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手拿砍刀、高举火把、翻山越岭、披荆斩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挺身而出、回到潭边、激战恶龙、为民造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0" y="2921040"/>
            <a:ext cx="9144000" cy="39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20081591255834_2"/>
          <p:cNvPicPr/>
          <p:nvPr/>
        </p:nvPicPr>
        <p:blipFill>
          <a:blip r:embed="rId1"/>
          <a:stretch/>
        </p:blipFill>
        <p:spPr>
          <a:xfrm>
            <a:off x="611280" y="1770120"/>
            <a:ext cx="7993080" cy="5087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0" y="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筹莫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763640" y="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无可奈何 束手无策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0" y="9079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恶龙躲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268360" y="83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恶龙非常凶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716360" y="836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只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才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较句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尖哥和水社姐要去降伏恶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尖哥和水社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挺身而出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要去降服恶龙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AA01833884"/>
          <p:cNvPicPr/>
          <p:nvPr/>
        </p:nvPicPr>
        <p:blipFill>
          <a:blip r:embed="rId1"/>
          <a:stretch/>
        </p:blipFill>
        <p:spPr>
          <a:xfrm>
            <a:off x="3564000" y="2771640"/>
            <a:ext cx="5580000" cy="40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ff963a2408fa5a21c89559f1"/>
          <p:cNvPicPr/>
          <p:nvPr/>
        </p:nvPicPr>
        <p:blipFill>
          <a:blip r:embed="rId1"/>
          <a:stretch/>
        </p:blipFill>
        <p:spPr>
          <a:xfrm>
            <a:off x="1332000" y="765000"/>
            <a:ext cx="6330960" cy="4748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995640" y="57340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荆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句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终于拿到了金斧头和金剪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山越岭，披荆斩棘，吃尽了千辛万苦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于拿到了金斧头和金剪刀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5" descr=""/>
          <p:cNvPicPr/>
          <p:nvPr/>
        </p:nvPicPr>
        <p:blipFill>
          <a:blip r:embed="rId1"/>
          <a:stretch/>
        </p:blipFill>
        <p:spPr>
          <a:xfrm>
            <a:off x="0" y="2921040"/>
            <a:ext cx="9144000" cy="39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115920"/>
            <a:ext cx="914400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说一说句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太阳和月亮又挂回了天空，可大尖哥和水社姐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便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他们吃下龙肉后，身子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转眼间，大尖哥和水社姐就化作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永远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G:\pictures\scene\f116.JPG"/>
          <p:cNvPicPr/>
          <p:nvPr/>
        </p:nvPicPr>
        <p:blipFill>
          <a:blip r:embed="rId1"/>
          <a:stretch/>
        </p:blipFill>
        <p:spPr>
          <a:xfrm>
            <a:off x="1116000" y="248292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228600" y="41148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翻山越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披荆斩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吃尽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千辛万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终于从阿里山的山洞里拿到了金斧头和金剪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到潭边，他俩又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冒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命危险，纵身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潜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湖底，与两条恶龙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激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三天三夜。大尖哥用金斧头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砍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它们，水社姐用金剪刀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剪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龙肚子，救出了太阳和月亮，人们重又见到了光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G:\pictures\scene\f1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4067280" y="6021360"/>
            <a:ext cx="194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日月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516720" y="1413000"/>
            <a:ext cx="144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尖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187280" y="2708280"/>
            <a:ext cx="151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水社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23-1"/>
          <p:cNvPicPr/>
          <p:nvPr/>
        </p:nvPicPr>
        <p:blipFill>
          <a:blip r:embed="rId1"/>
          <a:stretch/>
        </p:blipFill>
        <p:spPr>
          <a:xfrm>
            <a:off x="0" y="3306600"/>
            <a:ext cx="4932360" cy="3551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月潭面积有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公里，比杭州西湖要大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/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湖面海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6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水深有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米，四周被海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水社山、大尖山等连峰环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2008101017177360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0"/>
          <p:cNvGrpSpPr/>
          <p:nvPr/>
        </p:nvGrpSpPr>
        <p:grpSpPr>
          <a:xfrm>
            <a:off x="0" y="0"/>
            <a:ext cx="9144000" cy="4525920"/>
            <a:chOff x="0" y="0"/>
            <a:chExt cx="9144000" cy="4525920"/>
          </a:xfrm>
        </p:grpSpPr>
        <p:sp>
          <p:nvSpPr>
            <p:cNvPr id="87" name="Text Box 8"/>
            <p:cNvSpPr/>
            <p:nvPr/>
          </p:nvSpPr>
          <p:spPr>
            <a:xfrm>
              <a:off x="0" y="400536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嶂，潭水碧波晶莹，湖面辽阔，群峰倒映湖中，优美如画。每当夕阳西下，新月东升之际，日光月影相映成趣，更是优雅宁静，富有诗情画意。日月潭中有一小岛远望好象浮在水面上的一颗珠子，名珠子屿（光华岛），以此岛为界，北半湖形状如圆日，南半湖形状如弯月，日月潭因此而得名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0" y="0"/>
              <a:ext cx="378000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日月潭位于南投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鱼池乡水社村，是台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唯一的天然湖，由玉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阿里山之间的断裂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地积水而成。湖面海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6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，面积约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平方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，平均水深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，湖周长约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5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米。日月潭四周群山环抱，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重峦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5" descr="2008101017177360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7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说是美好的，人物往往也是伟大的，希望大家在这美好的传说中感受中国古代传说的魅力，学习这些伟大的人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W020060426396648807410"/>
          <p:cNvPicPr/>
          <p:nvPr/>
        </p:nvPicPr>
        <p:blipFill>
          <a:blip r:embed="rId1"/>
          <a:stretch/>
        </p:blipFill>
        <p:spPr>
          <a:xfrm>
            <a:off x="0" y="1557360"/>
            <a:ext cx="3708360" cy="20955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250920" y="3645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禹治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dc1f3e8a56ce733a9e2fb41a"/>
          <p:cNvPicPr/>
          <p:nvPr/>
        </p:nvPicPr>
        <p:blipFill>
          <a:blip r:embed="rId2"/>
          <a:stretch/>
        </p:blipFill>
        <p:spPr>
          <a:xfrm>
            <a:off x="6480000" y="2924280"/>
            <a:ext cx="2664000" cy="3933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3"/>
          <p:cNvSpPr/>
          <p:nvPr/>
        </p:nvSpPr>
        <p:spPr>
          <a:xfrm>
            <a:off x="6877080" y="292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精卫填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2108e7a212dda2a7cbefd097"/>
          <p:cNvPicPr/>
          <p:nvPr/>
        </p:nvPicPr>
        <p:blipFill>
          <a:blip r:embed="rId3"/>
          <a:stretch/>
        </p:blipFill>
        <p:spPr>
          <a:xfrm>
            <a:off x="3851280" y="1052640"/>
            <a:ext cx="2365200" cy="2957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6"/>
          <p:cNvSpPr/>
          <p:nvPr/>
        </p:nvSpPr>
        <p:spPr>
          <a:xfrm>
            <a:off x="6156360" y="1484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嫦娥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%C5%AE%E6%B4%B2%B9%CC%EC02"/>
          <p:cNvPicPr/>
          <p:nvPr/>
        </p:nvPicPr>
        <p:blipFill>
          <a:blip r:embed="rId4"/>
          <a:stretch/>
        </p:blipFill>
        <p:spPr>
          <a:xfrm>
            <a:off x="0" y="5157720"/>
            <a:ext cx="2879640" cy="1700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9"/>
          <p:cNvSpPr/>
          <p:nvPr/>
        </p:nvSpPr>
        <p:spPr>
          <a:xfrm>
            <a:off x="611280" y="4724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女娲造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1" descr="2581407011413980181"/>
          <p:cNvPicPr/>
          <p:nvPr/>
        </p:nvPicPr>
        <p:blipFill>
          <a:blip r:embed="rId5"/>
          <a:stretch/>
        </p:blipFill>
        <p:spPr>
          <a:xfrm>
            <a:off x="2987640" y="4437000"/>
            <a:ext cx="2879640" cy="2262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2"/>
          <p:cNvSpPr/>
          <p:nvPr/>
        </p:nvSpPr>
        <p:spPr>
          <a:xfrm>
            <a:off x="4500720" y="414972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夸父逐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"/>
          <p:cNvGrpSpPr/>
          <p:nvPr/>
        </p:nvGrpSpPr>
        <p:grpSpPr>
          <a:xfrm>
            <a:off x="-7920" y="0"/>
            <a:ext cx="8466120" cy="6858000"/>
            <a:chOff x="-7920" y="0"/>
            <a:chExt cx="8466120" cy="6858000"/>
          </a:xfrm>
        </p:grpSpPr>
        <p:sp>
          <p:nvSpPr>
            <p:cNvPr id="144" name="矩形 4"/>
            <p:cNvSpPr/>
            <p:nvPr/>
          </p:nvSpPr>
          <p:spPr>
            <a:xfrm>
              <a:off x="5702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-792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7"/>
            <p:cNvSpPr/>
            <p:nvPr/>
          </p:nvSpPr>
          <p:spPr>
            <a:xfrm rot="20926800">
              <a:off x="190008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点击图片看原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点击图片看原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点击图片看原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1159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学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读课文，生字多读几遍，带有生词的句子读通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再读课文，给课文分段，作上标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p_4_2417_080919110443"/>
          <p:cNvPicPr/>
          <p:nvPr/>
        </p:nvPicPr>
        <p:blipFill>
          <a:blip r:embed="rId1"/>
          <a:stretch/>
        </p:blipFill>
        <p:spPr>
          <a:xfrm>
            <a:off x="900000" y="2419200"/>
            <a:ext cx="699156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D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0" y="0"/>
            <a:ext cx="9144000" cy="28033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漆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一团  聚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集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躲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阿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山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剪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刀  水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社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姐  翻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岭  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冒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生命危险  又累又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0" y="3284640"/>
            <a:ext cx="9144000" cy="76428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月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潭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拯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 一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筹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莫展  披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荆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斩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081123165049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日月潭是我国台湾省最大的一个湖泊。那里青山环抱，树木葱茏，是个著名的风景区。说起日月潭，还有一个动人的传说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081123165049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日月潭是我国台湾省最大的一个湖泊。那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青山环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树木葱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是个著名的风景区。说起日月潭，还有一个动人的传说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09:05:4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4:23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