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A796-D303-40DE-A3B5-A98EB4E5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1FB-5540-48EC-9388-708A6FD7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4ACD-A328-4B39-B728-74178361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B00-2C95-4D4B-B44D-05760344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E0C8-5757-442A-975B-0A219D96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DADA-4406-4E43-802A-B015A7E8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13EF-D757-4C53-AD69-F8984C46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352C-654C-4778-9D9A-C933ECD1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F2D4-5275-4B30-9DBE-E9AED321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1DA3-5131-4F4F-9C1E-32F2CD92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5B14-EBE2-48B6-8617-5D5D16DE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0CAF-4577-43AB-BB36-6DCE1138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395280" y="83664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395280" y="333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2268360" y="981000"/>
            <a:ext cx="6264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0" y="3411360"/>
            <a:ext cx="9144000" cy="34466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1"/>
          <p:cNvPicPr/>
          <p:nvPr/>
        </p:nvPicPr>
        <p:blipFill>
          <a:blip r:embed="rId4"/>
          <a:stretch/>
        </p:blipFill>
        <p:spPr>
          <a:xfrm>
            <a:off x="7796160" y="5013360"/>
            <a:ext cx="1166760" cy="12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templatef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71F8-F091-45B2-BC93-D3A87332A7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9" descr="PPT2716926495"/>
          <p:cNvPicPr/>
          <p:nvPr/>
        </p:nvPicPr>
        <p:blipFill>
          <a:blip r:embed="rId1"/>
          <a:stretch/>
        </p:blipFill>
        <p:spPr>
          <a:xfrm>
            <a:off x="3780000" y="-100080"/>
            <a:ext cx="5545080" cy="7201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PPT2716926495"/>
          <p:cNvPicPr/>
          <p:nvPr/>
        </p:nvPicPr>
        <p:blipFill>
          <a:blip r:embed="rId2"/>
          <a:stretch/>
        </p:blipFill>
        <p:spPr>
          <a:xfrm>
            <a:off x="-324000" y="-171360"/>
            <a:ext cx="5616720" cy="720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未命名01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未命名01"/>
          <p:cNvPicPr/>
          <p:nvPr/>
        </p:nvPicPr>
        <p:blipFill>
          <a:blip r:embed="rId4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13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8" descr="图片 2.png"/>
          <p:cNvPicPr/>
          <p:nvPr/>
        </p:nvPicPr>
        <p:blipFill>
          <a:blip r:embed="rId6"/>
          <a:stretch/>
        </p:blipFill>
        <p:spPr>
          <a:xfrm>
            <a:off x="250920" y="-27000"/>
            <a:ext cx="8280360" cy="27352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22" descr="07.png"/>
          <p:cNvPicPr/>
          <p:nvPr/>
        </p:nvPicPr>
        <p:blipFill>
          <a:blip r:embed="rId7"/>
          <a:stretch/>
        </p:blipFill>
        <p:spPr>
          <a:xfrm rot="12462600">
            <a:off x="4858920" y="619560"/>
            <a:ext cx="4075200" cy="27961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2" descr="07.png"/>
          <p:cNvPicPr/>
          <p:nvPr/>
        </p:nvPicPr>
        <p:blipFill>
          <a:blip r:embed="rId8"/>
          <a:stretch/>
        </p:blipFill>
        <p:spPr>
          <a:xfrm>
            <a:off x="539640" y="333360"/>
            <a:ext cx="2318040" cy="39607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22" descr="07.png"/>
          <p:cNvPicPr/>
          <p:nvPr/>
        </p:nvPicPr>
        <p:blipFill>
          <a:blip r:embed="rId9"/>
          <a:stretch/>
        </p:blipFill>
        <p:spPr>
          <a:xfrm>
            <a:off x="395280" y="0"/>
            <a:ext cx="3168720" cy="170028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2" descr="07.png"/>
          <p:cNvPicPr/>
          <p:nvPr/>
        </p:nvPicPr>
        <p:blipFill>
          <a:blip r:embed="rId10"/>
          <a:stretch/>
        </p:blipFill>
        <p:spPr>
          <a:xfrm rot="5276400">
            <a:off x="6350040" y="1865880"/>
            <a:ext cx="4507200" cy="15843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22" descr="07.png"/>
          <p:cNvPicPr/>
          <p:nvPr/>
        </p:nvPicPr>
        <p:blipFill>
          <a:blip r:embed="rId11"/>
          <a:stretch/>
        </p:blipFill>
        <p:spPr>
          <a:xfrm flipH="1" rot="5642400">
            <a:off x="-1152360" y="2094840"/>
            <a:ext cx="3097080" cy="1297080"/>
          </a:xfrm>
          <a:prstGeom prst="rect">
            <a:avLst/>
          </a:prstGeom>
          <a:ln w="0">
            <a:noFill/>
          </a:ln>
        </p:spPr>
      </p:pic>
      <p:sp>
        <p:nvSpPr>
          <p:cNvPr id="133" name="矩形 1"/>
          <p:cNvSpPr/>
          <p:nvPr/>
        </p:nvSpPr>
        <p:spPr>
          <a:xfrm>
            <a:off x="2274480" y="47304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圣诞开门红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4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96532E-006 L -0.41146 -1.96532E-006 E">
                                      <p:cBhvr>
                                        <p:cTn id="29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96532E-006 L 0.36424 -1.96532E-006 E">
                                      <p:cBhvr>
                                        <p:cTn id="31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50289E-006 L -0.46858 0.01041 E">
                                      <p:cBhvr>
                                        <p:cTn id="35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4 -1.04046E-006 L 0.43524 -1.04046E-006 E">
                                      <p:cBhvr>
                                        <p:cTn id="3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00:58Z</dcterms:modified>
  <cp:revision>0</cp:revision>
  <dc:subject>幻灯片之家 http://www.eeppt.com</dc:subject>
  <dc:title>幻灯片之家 http://www.eeppt.com</dc:title>
</cp:coreProperties>
</file>