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130E9-208A-46B4-B145-93441CE9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BB542-79DF-4C52-B31C-F4AD3D6E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1C2B7-B5F7-4E77-B296-78C50A08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30762-E8CA-4C6F-BF0C-ECEB4C6A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18DC9-9628-4743-93EA-54599698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45DC8-3E9E-4E11-8BF2-E54DC619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9EDB0-7579-4BF9-94C3-9883F568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BA7A8-BC5C-471C-997C-A33D874D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61337-64CC-4C2B-933E-06603292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68640-003D-497D-B94F-2A6A58BF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3F2B5-08EA-4E3E-B365-6C93EFC3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85D29-2717-4ADE-92B8-F00135FE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F0BA4-5403-4908-A959-60E6AC6C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E60A2-DCEC-4556-BD24-1CBB2018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76B6D-7752-4379-AF48-7F62F984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140F8-9EEF-4769-B363-86209E19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70D6A-F511-45C7-925A-B98A314A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72B50-032A-4759-9CFA-446D411B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B2E90-377A-48F5-B9B0-FE984E5D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B6A94-22C9-44EB-BC1F-F3DC1CEC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DFA69-EC87-4128-BD54-8B388940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95B24-F84C-4DDB-9769-8C44F4AA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DEB5E-BF88-45F7-A8A6-ACCA186B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78243-7D85-4F42-A098-9035EA24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3BA9F-33B7-4502-9E74-BD6F51EC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54D12-734F-470C-AEEE-2A38FA5C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D9469-EFBA-4A4A-80B7-3EF7ED38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F2A21-AE2B-4E63-8E80-CCC87199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C242F-33BF-4023-951D-15690F7B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5A095-38BD-4584-BFFB-5D2CA8C6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4D251-750A-4FB9-AB03-5C655016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E9857-4B08-4C47-A5A2-A9C15331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8199F-58C6-41A9-A0FC-61668AFE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DB62E-E08B-437C-B40E-89D7EA60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BC4B6-7941-452F-A53D-D2D4BD86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BE2F4-8CC0-450A-9300-4AEF96E6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F3A59-E825-49C8-AB50-931FFDE6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67BAB-75D8-4CDC-95F7-42EC10CD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3B017-11A9-42FC-9C28-CCFB507A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BC2DB-1E8C-4BF1-A91F-8B6EB0E6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DF636-B83C-45C1-842B-533BE895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FE36E-258C-4038-9E69-318EF10C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9FB97-CB99-4247-9CC3-6FCA1A46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9AEF8-75EE-46C9-96BB-157E4B40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C8B97-FFC5-4C2C-B929-EA19AC35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2C21E-D3D6-41B5-AFF6-245747A8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B5E8A-3ABE-417E-B53E-F96BB165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11D2D-A876-4CEE-972E-778A03FE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0A5C1-2F39-4D03-83AD-8F941F77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09D10-A489-41AC-9F2F-7B9EB64B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A47C8-B9E6-4EE1-8C73-D9C548DB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1B447-8B1F-43DF-85D8-2A875757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EC19F-BD23-498B-8813-92D7BF66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0F72E-1244-4EFC-B93E-B68A989D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F6C42-BEC9-48A0-87FA-A959EBFE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CD1B1-530D-487F-B179-52DE8703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BBB94-B223-4E8E-9B37-D038D359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A2CFC-5CF6-441A-83FB-4B09DF5C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9B9E6-9E99-4B80-A3B7-26A4048C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F00A5-B568-442F-AAB9-494EF783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0756F-6E4D-4523-B2A3-0E1EA30A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4ECAD-E32E-40E1-AADD-E3E2FB9B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12177-9A91-41D0-957C-E30ADE04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33EA5-05C1-4606-AB76-1AF05A54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51D42-0AFC-463F-844D-501436C2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1E58F-C46E-4052-A153-EBB6910E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875BB-FF17-4A9A-83C9-BC7D30C8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21EBB-B908-4BF2-B558-6AAB95A6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97FED-D68A-496B-8598-D945D275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6133-07A2-4D02-9BCA-E6ADC8DB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FD1D-D23B-4679-A35D-65883072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A67-5DD8-4A73-B5A1-EDBFAE4A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EFBB-749B-4C5B-8BA8-7D94FB73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EBC-FB5C-4127-BF7D-1F009434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E54-E9EF-4F54-8C6D-6993359E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FDA-D775-4308-B97D-E47B375C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289-5750-4714-96C8-19B0B801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D74-2DB5-43E3-A0BF-F295BB62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1EC-99A2-4846-9BFE-C28348B4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1FC-05E0-46A0-ABC5-A4550F16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674-FADF-458F-A9D7-8D9C2994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4788-2193-4CC9-B9AF-4008F0F3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3C65-67D3-4A7F-9FF5-CD62BF87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EA9A-21C3-47B2-A4E0-065C80E9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09BD-C507-4261-8483-326A3D02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28CB-B1E2-4457-93F1-64E26AE4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37AC-69D3-4334-9353-9F53CC25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D5EA-47E1-4E94-BDE0-C1174CF5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2350-F9D0-418F-9F8B-0F2DC89C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A81C-CF53-441D-8941-C4B9334D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F979-697A-4B96-B0C2-1ED320B2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03C3-1464-4C20-89B7-B2BF5B4F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0791-1550-465B-9EFA-11DD5CCE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507F8-A1A2-4165-A1E1-78E7C9E4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3D35-2137-4AAA-918B-B7EC291E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F4ECB-B1BA-404D-9712-C55F0D35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200C8-F961-430C-8D52-188B14AE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16F14-95D8-4F37-AE69-E77478FF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6A3F-ECC9-4DBB-857A-78C25416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A5E97-3A0D-44ED-9FB6-526551FE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CFD09-D3ED-4A11-838B-14011D99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46E6C-DE6B-4F8C-B0B2-5402C01F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55BA-EE50-4418-A181-E08FD507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C1194-FE09-417C-A46B-6A2F68C7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80596-0494-4BD2-B18B-647FC7F3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85CE5-25E6-4294-8C28-761C6CF3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7497B-4B8B-41E6-9FE7-1AC72758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7C3E4-E139-4ABE-86AB-FCBD1DFB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4DBA5-5D88-4EE5-B122-020C8437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25CF0-0140-49CA-9299-C5D9D046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9A75D-00F9-4D04-8633-1D9DC3B5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D891F-211F-47AE-89A6-77A26044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5A8D-002E-49E8-BCBD-B0A73BDA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11391-39E0-4205-ACE3-3AD1A166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176C8-BE34-4175-AF55-2CCAA4A7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9F073-2710-4F0D-ABD4-31137BBC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F029A-BC41-4849-86C5-49BE9FBC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0F25C-644E-41EB-9648-9018774E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7B77E-DFAC-404B-8803-13B6BFE0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2C808-E8C3-410C-AB0B-33A98213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BA869-23D9-483E-BB47-355D135D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E6F0D-DF08-4011-860A-52F0999B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3EB10-6CA6-4B4E-B5ED-3AA49D67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434B0-C3ED-4FB4-A648-7BD09BBC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8324F-E330-4950-A933-564C3B57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76F14-834E-4656-9BE0-C894619A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C6327-AACD-4AFC-A830-1A8EFCEE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E2F0E-6BFD-40C8-A060-E7BC4796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04B4D-C846-485F-A5C1-945082E0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BB1B6-A3AF-4C60-9447-F3120D5C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C668E-1AF9-46F7-AA02-2954FA6A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B9C14-2CA5-4EA0-ACCE-D8436FF5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6F832-ACCA-4287-B10E-E02187A9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7A421-4478-4EB5-8520-E53A797E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E1042-6227-4EA8-93F7-66566089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D401A-64F5-4664-9C21-FC54BFA4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3BAE1-AD37-424B-B627-CFF094A7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25242-793F-4DF0-9FE1-D8A035C2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E1945-3641-404E-B7C5-BCAE2B5D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B40B6-9EC2-4B02-9A73-D3A4283E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AF9F8-6A3A-45B4-8EF8-08497D5B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12568-1A1C-46EA-B4AE-5C598053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BEE83-9C9D-411B-ABBF-29D5A8CA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4D323-ED20-4F8F-B0E3-D4A3D376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5B88-6A79-4FB1-A7EE-BBCBA68958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C92B-15D8-467E-B187-B56C0CACA0F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3F8F-896B-4803-B4A4-39BB91C3E63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67DB-9DE6-43A9-AEFE-F05755838D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F28B-D60A-4700-8CC9-01CCA82BD0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84040" y="6377040"/>
            <a:ext cx="2055960" cy="243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38F9-4E84-4B69-B0BC-6463CCA4E96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97DF-12C8-4A5F-BBDB-E3DDAE16CF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678A-4321-4514-9E88-1AA102E448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B308-E450-4365-A9B3-222D1A4606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7DBD-C980-4714-BA18-22713AFB5E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F731-89D0-4EBC-996B-DDE9CEE463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4EE5-50BF-490D-B00A-9C7F06FE5A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65360" y="833040"/>
            <a:ext cx="58579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以内的退位减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394920" y="1985760"/>
            <a:ext cx="6481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十几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等个位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71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9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3" name="矩形 6"/>
          <p:cNvSpPr/>
          <p:nvPr/>
        </p:nvSpPr>
        <p:spPr>
          <a:xfrm>
            <a:off x="174240" y="6453360"/>
            <a:ext cx="30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>
            <a:off x="960480" y="1773360"/>
            <a:ext cx="8183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已经摘下的桃子，每只猴子一个，够分吗？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7" name="Text Box 16"/>
          <p:cNvSpPr/>
          <p:nvPr/>
        </p:nvSpPr>
        <p:spPr>
          <a:xfrm>
            <a:off x="1370160" y="5326200"/>
            <a:ext cx="49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从图中你都知道了什么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8" name="Rectangle 17"/>
          <p:cNvSpPr/>
          <p:nvPr/>
        </p:nvSpPr>
        <p:spPr>
          <a:xfrm>
            <a:off x="2158920" y="6189840"/>
            <a:ext cx="44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你想怎样解答，说说想法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9" name="Rectangle 18"/>
          <p:cNvSpPr/>
          <p:nvPr/>
        </p:nvSpPr>
        <p:spPr>
          <a:xfrm>
            <a:off x="2158920" y="5757840"/>
            <a:ext cx="36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要求的问题是什么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新知，自主练习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651" name="Picture 24" descr="u2xiaoho"/>
          <p:cNvPicPr/>
          <p:nvPr/>
        </p:nvPicPr>
        <p:blipFill>
          <a:blip r:embed="rId1"/>
          <a:stretch/>
        </p:blipFill>
        <p:spPr>
          <a:xfrm>
            <a:off x="2340000" y="234936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25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布置作业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5" name="矩形 6"/>
          <p:cNvSpPr/>
          <p:nvPr/>
        </p:nvSpPr>
        <p:spPr>
          <a:xfrm>
            <a:off x="716040" y="2924280"/>
            <a:ext cx="76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 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1106640" y="61182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Text Box 36"/>
          <p:cNvSpPr/>
          <p:nvPr/>
        </p:nvSpPr>
        <p:spPr>
          <a:xfrm>
            <a:off x="2014560" y="299736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6" name="Text Box 37"/>
          <p:cNvSpPr/>
          <p:nvPr/>
        </p:nvSpPr>
        <p:spPr>
          <a:xfrm>
            <a:off x="914400" y="5013360"/>
            <a:ext cx="76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算得真快，你是用什么方法算的？能举例说说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7" name="Text Box 38"/>
          <p:cNvSpPr/>
          <p:nvPr/>
        </p:nvSpPr>
        <p:spPr>
          <a:xfrm>
            <a:off x="2014560" y="2446200"/>
            <a:ext cx="195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8" name="Text Box 39"/>
          <p:cNvSpPr/>
          <p:nvPr/>
        </p:nvSpPr>
        <p:spPr>
          <a:xfrm>
            <a:off x="2014560" y="414504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9" name="Text Box 40"/>
          <p:cNvSpPr/>
          <p:nvPr/>
        </p:nvSpPr>
        <p:spPr>
          <a:xfrm>
            <a:off x="2014560" y="356868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0" name="Text Box 41"/>
          <p:cNvSpPr/>
          <p:nvPr/>
        </p:nvSpPr>
        <p:spPr>
          <a:xfrm>
            <a:off x="5253120" y="299736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1" name="Text Box 42"/>
          <p:cNvSpPr/>
          <p:nvPr/>
        </p:nvSpPr>
        <p:spPr>
          <a:xfrm>
            <a:off x="5253120" y="242100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2" name="Text Box 43"/>
          <p:cNvSpPr/>
          <p:nvPr/>
        </p:nvSpPr>
        <p:spPr>
          <a:xfrm>
            <a:off x="5253120" y="414504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3" name="Text Box 44"/>
          <p:cNvSpPr/>
          <p:nvPr/>
        </p:nvSpPr>
        <p:spPr>
          <a:xfrm>
            <a:off x="5253120" y="356868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4" name="Text Box 45"/>
          <p:cNvSpPr/>
          <p:nvPr/>
        </p:nvSpPr>
        <p:spPr>
          <a:xfrm>
            <a:off x="1440720" y="177336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抢答。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5" name="Text Box 46"/>
          <p:cNvSpPr/>
          <p:nvPr/>
        </p:nvSpPr>
        <p:spPr>
          <a:xfrm>
            <a:off x="3530520" y="302256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6" name="Text Box 47"/>
          <p:cNvSpPr/>
          <p:nvPr/>
        </p:nvSpPr>
        <p:spPr>
          <a:xfrm>
            <a:off x="3530520" y="24462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7" name="Text Box 48"/>
          <p:cNvSpPr/>
          <p:nvPr/>
        </p:nvSpPr>
        <p:spPr>
          <a:xfrm>
            <a:off x="3530520" y="41702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8" name="Text Box 49"/>
          <p:cNvSpPr/>
          <p:nvPr/>
        </p:nvSpPr>
        <p:spPr>
          <a:xfrm>
            <a:off x="3530520" y="35942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9" name="Text Box 50"/>
          <p:cNvSpPr/>
          <p:nvPr/>
        </p:nvSpPr>
        <p:spPr>
          <a:xfrm>
            <a:off x="6805440" y="302256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0" name="Text Box 51"/>
          <p:cNvSpPr/>
          <p:nvPr/>
        </p:nvSpPr>
        <p:spPr>
          <a:xfrm>
            <a:off x="6805440" y="24462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1" name="Text Box 52"/>
          <p:cNvSpPr/>
          <p:nvPr/>
        </p:nvSpPr>
        <p:spPr>
          <a:xfrm>
            <a:off x="6805440" y="41702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2" name="Text Box 53"/>
          <p:cNvSpPr/>
          <p:nvPr/>
        </p:nvSpPr>
        <p:spPr>
          <a:xfrm>
            <a:off x="6805440" y="35942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3" name="Text Box 55"/>
          <p:cNvSpPr/>
          <p:nvPr/>
        </p:nvSpPr>
        <p:spPr>
          <a:xfrm>
            <a:off x="914400" y="558972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结：我们可以想加算减，也可以用破十的方法，还可以用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连减的方法，都可以很快地算出答案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4" name="Rectangle 57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3421080" y="2417760"/>
            <a:ext cx="23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971640" y="5661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说说你是怎样计算的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4890960" y="241776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9" name="Text Box 11"/>
          <p:cNvSpPr/>
          <p:nvPr/>
        </p:nvSpPr>
        <p:spPr>
          <a:xfrm>
            <a:off x="1135440" y="3335400"/>
            <a:ext cx="1630800" cy="167796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想加：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3497760" y="3335400"/>
            <a:ext cx="1630800" cy="167796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破十：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5945400" y="3335400"/>
            <a:ext cx="1815120" cy="167796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连减：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426960" y="15717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一）以旧引新，解决问题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13"/>
          <p:cNvSpPr/>
          <p:nvPr/>
        </p:nvSpPr>
        <p:spPr>
          <a:xfrm>
            <a:off x="3421080" y="2155680"/>
            <a:ext cx="198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3415680" y="4616280"/>
            <a:ext cx="11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你喜欢的方法做做下面两道题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4860720" y="21542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3421080" y="2803680"/>
            <a:ext cx="198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860720" y="2801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9" name="Text Box 18"/>
          <p:cNvSpPr/>
          <p:nvPr/>
        </p:nvSpPr>
        <p:spPr>
          <a:xfrm>
            <a:off x="3421080" y="3379680"/>
            <a:ext cx="198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4860720" y="33782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1" name="Text Box 22"/>
          <p:cNvSpPr/>
          <p:nvPr/>
        </p:nvSpPr>
        <p:spPr>
          <a:xfrm>
            <a:off x="2268360" y="5013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说说你是怎样计算的。（除了几种算法外，还可以 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据被减数不变，减数和差的关系。）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3"/>
          <p:cNvSpPr/>
          <p:nvPr/>
        </p:nvSpPr>
        <p:spPr>
          <a:xfrm>
            <a:off x="2340000" y="3141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1477800" y="5192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说说你是怎样计算这三道题的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3851280" y="3141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2340000" y="37861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3851280" y="37846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340000" y="24890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851280" y="24890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426960" y="15717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借助方法，自主探究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3" name="Rectangle 14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4"/>
          <p:cNvSpPr/>
          <p:nvPr/>
        </p:nvSpPr>
        <p:spPr>
          <a:xfrm>
            <a:off x="426960" y="15717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三）组织研讨，总结算法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1477800" y="4941720"/>
            <a:ext cx="734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我们共同学习了怎样计算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十几减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当我们遇到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样的问题时，我们可以怎么办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1692360" y="2997360"/>
            <a:ext cx="1008000" cy="39888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破十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3578400" y="2997360"/>
            <a:ext cx="993600" cy="39888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加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5456160" y="2997360"/>
            <a:ext cx="987480" cy="39888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连减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0" name="Rectangle 13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1" name="Text Box 9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新知，自主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960480" y="17733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填一填。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1371600" y="4762440"/>
            <a:ext cx="72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用你喜欢的方法赶快做一做这些题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2163600" y="5192640"/>
            <a:ext cx="61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怎么这么快就做完了？说说你是怎样计算的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636" name="Picture 9" descr=""/>
          <p:cNvPicPr/>
          <p:nvPr/>
        </p:nvPicPr>
        <p:blipFill>
          <a:blip r:embed="rId1"/>
          <a:stretch/>
        </p:blipFill>
        <p:spPr>
          <a:xfrm>
            <a:off x="1044720" y="2754360"/>
            <a:ext cx="7630920" cy="102564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2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18"/>
          <p:cNvSpPr/>
          <p:nvPr/>
        </p:nvSpPr>
        <p:spPr>
          <a:xfrm>
            <a:off x="2548800" y="4971960"/>
            <a:ext cx="41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从图中你能知道什么？要求的问题是什么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能列个算式解决一下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为什么用减法计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说说你是怎样计算的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960480" y="17733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列算式，并计算。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640" name="Picture 22" descr="p18_1"/>
          <p:cNvPicPr/>
          <p:nvPr/>
        </p:nvPicPr>
        <p:blipFill>
          <a:blip r:embed="rId1"/>
          <a:stretch/>
        </p:blipFill>
        <p:spPr>
          <a:xfrm>
            <a:off x="1476360" y="2276640"/>
            <a:ext cx="6626160" cy="238752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新知，自主练习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2" name="Rectangle 24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01:12Z</dcterms:modified>
  <cp:revision>0</cp:revision>
  <dc:subject>幻灯片之家 http://www.eeppt.com</dc:subject>
  <dc:title>幻灯片之家 http://www.eeppt.com</dc:title>
</cp:coreProperties>
</file>