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C04-00CE-457C-82AE-26D0CD2C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AD5-6E82-4B97-9F25-409DA221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AAB-77BE-47D0-95AE-A73B632A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6D5-6AD4-440C-8747-E088373B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3CC-3D20-407A-B35B-F9C64877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D35-1AD4-4CD4-9EC5-2755CF68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EF4-91B7-4273-B0A1-7D9D65E8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6D3-5965-47FB-8901-66D79421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FE8-2122-4A02-B530-13EC2F7E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338-0262-4298-82E1-1656FCE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70E-039F-4F72-AEBC-F5558FC9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B2C-272F-4132-B9AD-621F7C49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711D-6523-4EE3-97C4-1D135BADD3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E75C-43B4-4F01-8AEF-81EFE255C5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0" y="1634760"/>
            <a:ext cx="518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280" y="2211120"/>
            <a:ext cx="399564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473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3840" y="507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634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117-89E0-4690-BCA9-A6E4EA2758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6560" y="206280"/>
            <a:ext cx="6419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66560" y="1200240"/>
            <a:ext cx="64198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771640" y="4227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4587840"/>
            <a:ext cx="4697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3:2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2:42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