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617-4E63-428F-B332-DE91EE7DD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E8E-80B4-4DE0-B45D-424B16DD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30BA4-0E8F-4DEA-8762-9C53ACCD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7E072-F637-4415-97C4-925033AE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522BF-2524-451C-A3A4-3B7DEBA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B6AF0-D2D2-479A-B2B1-AC00695C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20EE2-D4AE-418E-B678-7C9AC88A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E1318-C6B3-4B8C-96A4-A6C7A452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28EAF-2EDA-4A45-928E-A2520935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1524D-B211-4BA7-9D18-AB550F48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D4889-4DA3-46A4-9D8A-A30CFF12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3747E-8AB2-4C0E-8FF8-94AA00EC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D89-4DB8-4AB8-8A30-9C5EF1C9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8139A-7D8D-4FE0-8AE6-19F2F9B9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92BD0-F5EC-4489-87C7-AF1F3F48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C0E0D-486D-4A30-A1A8-6B0BD474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DD729-3C2C-4AE5-80C7-0A07D267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3123B-79F5-4579-903E-C561523C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3577A3-71F2-4D31-9FF1-AB2879C2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BD77B-A8B4-4BE1-BE83-FA95504D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84445-109E-4941-8337-435387F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473DB-99A6-48EC-A24C-88AA1318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68BD4-8DB3-41A3-A8EB-0DD2A5E6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B45-EF1E-46DC-853D-EE0264AD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3CC93-010E-4826-AFD5-EBB025164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611F1-7CA5-47FE-B82C-24A555F0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7940C-9A23-4069-8B17-16246B8A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217E8-4A20-4D9F-9E22-82A15FB7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8D943-8508-4708-993C-387F4A6B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5CD1C-2A74-4FA7-BEA6-E921FF6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DCEBD-BB06-4A7F-AFCB-5AB41599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0A4CA-B500-429F-A37B-37AC3DF1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698D1-38A4-47ED-9BAB-30D443B1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8E54F-49CC-40BB-AC53-EF2B4EBA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8FCD-272E-4CFF-88BF-7AEF1A12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E39E3-F61A-4DF9-9184-D8F39B65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A02C9-55B1-4630-8F07-8F0FD0CA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41F24-2B78-4662-8D40-9DCF7917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EF286-7A91-4724-A1E9-FB646D92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36545-BC11-44F6-9066-D9D86463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BF1B0-D4E2-4C17-AD5B-1DF9B7A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75A2D-DA94-48E0-8523-AA42551F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987485-6DBD-4A9E-8CAC-E0D9CDD9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CB59BD-6134-497B-9E0F-F269DF9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9B311-1F2A-4788-B051-CFAC7BFB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D75A-D86D-4AC6-AF10-359F72D2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A6A79-95B4-4163-A912-3D73556F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454AE3-6266-4779-84A4-637E05AC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44BD3-113E-4BA8-BD18-DBA4C5BB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7A2D4-BFCE-43EC-82C0-1A1EAD8B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E113B-AEC4-4F79-9A28-A8AE0955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D298C-E48D-4B0F-8AC1-CCBE2087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60C2E8-D618-4180-BE6E-A88586ED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2FC82-97AF-40EF-838F-74D6B250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B5901-CBA1-45F7-9D62-BD417BA2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7149A-E921-4382-934C-EBFA74A9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80C8-4FBE-49AC-BD45-B85BBF34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4CF69-D447-42E6-BA62-8ACA378E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C2B089-5A41-48B1-87A6-CF3F8D4A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B2297-84E8-4A6C-AD2E-0526687D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81E5E-FFAE-44F4-ADAC-BCFF1BEC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BDBA8-2C98-438B-AABB-B6D22788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DDBBE-0CA4-4C9E-8300-9305DB72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A0B378-49AF-4D76-9468-AE10E82A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D18E-5A6F-4725-8A86-78183CE1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B0AA-3DD3-4A03-AB65-63D5DA0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0FEF-7AB3-4B55-8213-5CEAA2F0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8815-25BD-43FC-9C71-451DC68C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BF1-5C25-40E3-9466-3C9D47BA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B008-0DF8-47F7-9BD0-773F0957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D51E-BD7A-4EC3-97A1-002ABD9F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8D13-F074-41BB-BD3F-25342A36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E23D-B66A-4F8F-88FC-37F8A6B3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66EC-2058-4495-B068-D9F1EC62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B523C-E349-4A0C-8B17-7C448776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C9DC4-9526-49D0-9985-7DF7EBA1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061D8-9123-497C-BD6A-F4546C69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6AC1-77AC-4AE2-B6B6-DF36A453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4AB70-0060-4DF1-B532-632D8689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5BC-FEC7-4DD6-B4E2-26833D1A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29581-7480-4FD8-BB95-04402A38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5ADB-878E-4832-8773-23C5C19E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9A802-5B10-4CB6-8E06-E6217421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8A5F3-FE1C-4A81-B059-64E4EC1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F062-A5E2-4DF9-9615-BDAAECCD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D8A76-F1A5-46F4-BC0C-406B8C8E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1540-5FDA-473B-B874-957EE53D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7C9E6-19CA-4886-B39C-A5D7977B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912A-4ACE-4CDA-83B0-03301C3D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A2A6-8529-423A-92D2-29298BAD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516-E319-42C3-84D2-D3AEDDA2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66288-41A6-4D01-8BD8-BF9EA1E3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95E70-1EF8-482C-8D66-69027705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CBA45-34FC-4842-B00D-C3079D30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622CF-488D-407D-B1C3-F4E2DB56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824EE-81DA-4A57-AE50-C0F7EDE8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92D9-B657-4D60-9345-B9A2902F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F872C-4513-402F-8DE5-ECA004C2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63E22-FCCD-4CD7-8411-664C4180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5C1C-E258-4744-833A-969F234C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2E1B-2DD1-4B3B-A54D-3822541A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EC8-E253-4673-B37C-3592F34E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6B2E-317B-4CC6-9789-63EC12FA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D9235-3327-4D53-B8EB-84677D65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42978-D184-484E-A58E-6138E0A6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36A5F-0306-431B-A07C-ADC9A6EC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2060-13FD-4722-BD50-5833D170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D7BE4-9B58-4349-8526-E9D0E7F3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A1D7A-379D-4F5B-BF9A-2B090A25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BAC3A-3019-43D8-B4E5-ACA0A6BD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70FFC-E992-4DBE-AAD1-5393C55C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6B206-014E-4990-AD4A-C05E0EFD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B89-F3A8-46C9-96B2-CD777EDF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894FA-94A5-43FA-B3FA-0228FD36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5F2E5-98A4-469A-B764-84D646FE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475D0-3709-43C0-B8F4-7080AF7B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7C00-1646-436E-92D1-03FAE399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85106-780A-42B4-AA09-2731DCE2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AE4B1-410C-41CB-90F9-A7576E76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1F4DD-D90F-4010-91C2-469E9DE3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DFD9-674B-4492-990D-92A9D4D8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90571-5C08-4A5D-AAA9-29979C8A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3FF2F-3257-467D-8E8C-25721F85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70F-8963-4A0A-BAB3-C8BBD6E8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EE1D8-303F-455A-8E96-49966F9C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DE8FC-E8C1-41C9-B2A8-3B644E90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62B02-B187-4CBB-9EE8-9E2F98A8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04A76-AF4A-4CAF-B624-5DEFE3995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25B9A-4086-4AC4-960E-13C73233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F098E-5728-48AE-8043-518A0897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3EF26-D0B7-4F4E-A31F-461BE46C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9EF69-9AA7-4B18-80A8-2E174E55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A21D2-1464-4898-9DE1-08F371E0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2093-D519-4D47-AF7F-73370975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3734-10D7-4FFE-8E53-9310B2F9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33926-7F40-4CF0-8D87-FBC91CE2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F36FC-0489-4571-9879-D6B0D99B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B2DA9-F6FC-4C10-95EE-87D0F4FB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FC183-0A27-4C71-B898-DC3929F64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A0DB9-6F0B-4F40-B6BE-B9857CBF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B12D7-68AD-4788-AF17-9A073CA5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408AA-254A-4AC7-A749-B17A3C6A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91498-41A0-4062-8E2A-3BBBA44B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299F-0230-48DC-82F5-ABC51401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30160-AC3B-4E04-A56E-2D897E32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E7B-9EBF-4D03-86AB-A210DD0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1CBC2-E743-4B69-A52B-6E4DBCD9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DA41E-59A2-4B0E-9DD0-56B5BBB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1E280B-AE1F-4FA0-B888-23D91FD0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E285B-71CF-46EC-AFC6-2807B430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D76F3-9A8F-4CAF-99B8-0560DB64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2947E-52B9-4E8C-8DF4-6AB1E3068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CE2CC-AD1D-448E-9EF6-71E08D92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F1C23-8584-4C9A-85D9-525A3CCC4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28DA9-04C8-4F75-96B3-D68EEED9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7E0D5-0A5E-4773-9613-DC9706C4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8D4E-AB18-4D43-A871-5AADC84FB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3204-A1B8-430F-BDD6-8DC509982B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FA03-9EE8-469A-809B-D01E4ACE8C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0F59-923C-4B06-8275-3FE06CD1FC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5F9A-6C81-4208-92CF-08DC5A9679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38ED-4078-44CD-89E0-CADF1F2B69E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7892-109A-48A8-95C9-80FB7B3F9F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B85B-2D43-4B4B-8CED-64903A6018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13BD-1C65-40A6-8F40-BCAEA361C7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47D4-4803-405C-9AD1-16A7B24EB56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9911-0D9E-476A-A870-B8078168E2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ADF6-CB90-4B3A-9DB3-6C8A8B0064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5D3F-4411-4AB7-88A8-6CA90884CC0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aike.baidu.com/view/8461.htm" TargetMode="External"/><Relationship Id="rId2" Type="http://schemas.openxmlformats.org/officeDocument/2006/relationships/hyperlink" Target="http://baike.baidu.com/view/2161.htm" TargetMode="External"/><Relationship Id="rId3" Type="http://schemas.openxmlformats.org/officeDocument/2006/relationships/hyperlink" Target="http://baike.baidu.com/view/53648.ht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aike.baidu.com/view/6510.htm" TargetMode="External"/><Relationship Id="rId2" Type="http://schemas.openxmlformats.org/officeDocument/2006/relationships/hyperlink" Target="http://baike.baidu.com/view/5902.ht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别董大2">
            <a:hlinkClick r:id="rId1" action="ppaction://hlinksldjump"/>
          </p:cNvPr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1" name="矩形 1"/>
          <p:cNvSpPr/>
          <p:nvPr/>
        </p:nvSpPr>
        <p:spPr>
          <a:xfrm>
            <a:off x="3058200" y="765000"/>
            <a:ext cx="373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送元二使安西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2" name="矩形 5"/>
          <p:cNvSpPr/>
          <p:nvPr/>
        </p:nvSpPr>
        <p:spPr>
          <a:xfrm>
            <a:off x="302400" y="645336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photo5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"/>
          <p:cNvSpPr/>
          <p:nvPr/>
        </p:nvSpPr>
        <p:spPr>
          <a:xfrm>
            <a:off x="8001000" y="342900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6389280" y="304920"/>
            <a:ext cx="275472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渭城朝雨浥轻尘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Times New Roman"/>
              </a:rPr>
              <a:t>客舍青青柳色新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43181657270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7910640" y="762120"/>
            <a:ext cx="5475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8596440" y="0"/>
            <a:ext cx="547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4572000" y="47628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渭城朝雨浥轻尘，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Times New Roman"/>
              </a:rPr>
              <a:t>客舍青青柳色新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4" name="Text Box 7"/>
          <p:cNvSpPr/>
          <p:nvPr/>
        </p:nvSpPr>
        <p:spPr>
          <a:xfrm>
            <a:off x="5405040" y="2100240"/>
            <a:ext cx="286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　　渭城清晨一场如酥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小雨，湿润了路上的尘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埃，旅店旁的棵棵绿柳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被雨水冲洗得翠色欲滴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4592880" y="4653000"/>
            <a:ext cx="452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这句诗点明了送别的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和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450072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地点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5867280" y="5157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时间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7199280" y="5157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Times New Roman"/>
              </a:rPr>
              <a:t>环境气氛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4"/>
          <p:cNvSpPr/>
          <p:nvPr/>
        </p:nvSpPr>
        <p:spPr>
          <a:xfrm>
            <a:off x="0" y="380880"/>
            <a:ext cx="9220320" cy="764280"/>
          </a:xfrm>
          <a:prstGeom prst="rect">
            <a:avLst/>
          </a:prstGeom>
          <a:noFill/>
          <a:ln w="9360">
            <a:solidFill>
              <a:srgbClr val="00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劝君更尽一杯酒，西出阳关无故人。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892440" y="1446840"/>
            <a:ext cx="7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君：指元二。</a:t>
            </a: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87120" y="3656160"/>
            <a:ext cx="4874760" cy="2104920"/>
          </a:xfrm>
          <a:prstGeom prst="rect">
            <a:avLst/>
          </a:prstGeom>
          <a:noFill/>
          <a:ln cap="rnd" w="9360">
            <a:solidFill>
              <a:srgbClr val="0033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请你再饮一杯离别的酒吧！因为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你西出阳关之后，在那里就见不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到老朋友了。</a:t>
            </a:r>
            <a:r>
              <a:rPr b="1" lang="zh-CN" sz="1800" spc="-1" strike="noStrike">
                <a:solidFill>
                  <a:srgbClr val="8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22860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更：再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3505320" y="14479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故人：老朋友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6095880" y="1447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更尽：再饮完 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457200" y="2209680"/>
            <a:ext cx="6858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阳关：汉朝设置的边关名，故址在今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1"/>
              </a:rPr>
              <a:t>甘肃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省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2"/>
              </a:rPr>
              <a:t>敦煌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县西南，古代跟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3"/>
              </a:rPr>
              <a:t>玉门关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同是出塞必经的关口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《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元和郡县志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》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云，因在玉门之南，故称阳关。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2"/>
          <p:cNvSpPr/>
          <p:nvPr/>
        </p:nvSpPr>
        <p:spPr>
          <a:xfrm>
            <a:off x="34920" y="1700280"/>
            <a:ext cx="906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清晨的细雨打湿了渭城的浮尘；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青砖绿瓦的旅店和周围的柳树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都显得格外清新明朗。请你再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饮一杯离别的酒吧；因为你西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出阳关之后，在那里就见不到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00"/>
                </a:solidFill>
                <a:latin typeface="Arial"/>
                <a:ea typeface="楷体_GB2312"/>
              </a:rPr>
              <a:t>老朋友了。</a:t>
            </a:r>
            <a:r>
              <a:rPr b="1" lang="zh-CN" sz="4800" spc="-1" strike="noStrike">
                <a:solidFill>
                  <a:srgbClr val="808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2" descr="uploadfile19594"/>
          <p:cNvPicPr/>
          <p:nvPr/>
        </p:nvPicPr>
        <p:blipFill>
          <a:blip r:embed="rId1"/>
          <a:stretch/>
        </p:blipFill>
        <p:spPr>
          <a:xfrm>
            <a:off x="0" y="-630360"/>
            <a:ext cx="9144000" cy="74883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3"/>
          <p:cNvSpPr/>
          <p:nvPr/>
        </p:nvSpPr>
        <p:spPr>
          <a:xfrm>
            <a:off x="219600" y="4245120"/>
            <a:ext cx="2023560" cy="8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劝君更进一杯酒，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cccc"/>
                </a:solidFill>
                <a:latin typeface="Times New Roman"/>
              </a:rPr>
              <a:t>西出阳关无故人。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5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6"/>
          <p:cNvSpPr/>
          <p:nvPr/>
        </p:nvSpPr>
        <p:spPr>
          <a:xfrm>
            <a:off x="5364000" y="620640"/>
            <a:ext cx="344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劝君更进一杯酒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西出阳关无故人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823360" y="1989000"/>
            <a:ext cx="252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朋友，请再喝尽这杯醇香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的美酒吧，等你西行出了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阳关之后，就再也没有一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个交情深厚的老友了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5619960" y="4057560"/>
            <a:ext cx="2930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这两行诗由写景转入送别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更”字表明酒已劝了多次、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敬了多杯，这依依惜别之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情虽只字未提，但都见于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言表。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送元二使安西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</a:rPr>
              <a:t>是关于友情的一首诗，你还知道哪些关于友情的诗句呢？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20050612181246202"/>
          <p:cNvPicPr/>
          <p:nvPr/>
        </p:nvPicPr>
        <p:blipFill>
          <a:blip r:embed="rId1"/>
          <a:stretch/>
        </p:blipFill>
        <p:spPr>
          <a:xfrm>
            <a:off x="-250920" y="0"/>
            <a:ext cx="7085160" cy="68580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3"/>
          <p:cNvSpPr/>
          <p:nvPr/>
        </p:nvSpPr>
        <p:spPr>
          <a:xfrm>
            <a:off x="6788520" y="189000"/>
            <a:ext cx="2801520" cy="76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  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远芳侵古道，晴翠接荒城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又送王孙去，萋萋满别情。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赋得古原草送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唐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白居易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zh-CN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622" name="Picture 4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5"/>
          <p:cNvSpPr/>
          <p:nvPr/>
        </p:nvSpPr>
        <p:spPr>
          <a:xfrm>
            <a:off x="1371600" y="6669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6344280" y="914400"/>
            <a:ext cx="29235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天涯若比邻。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海内存知己，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5" name="Text Box 7"/>
          <p:cNvSpPr/>
          <p:nvPr/>
        </p:nvSpPr>
        <p:spPr>
          <a:xfrm>
            <a:off x="4716360" y="60357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送杜少府之任蜀州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]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王勃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07"/>
          <p:cNvPicPr/>
          <p:nvPr/>
        </p:nvPicPr>
        <p:blipFill>
          <a:blip r:embed="rId1"/>
          <a:stretch/>
        </p:blipFill>
        <p:spPr>
          <a:xfrm>
            <a:off x="0" y="-25560"/>
            <a:ext cx="9178920" cy="688356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3"/>
          <p:cNvSpPr/>
          <p:nvPr/>
        </p:nvSpPr>
        <p:spPr>
          <a:xfrm>
            <a:off x="2103480" y="293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-647640" y="404280"/>
            <a:ext cx="8099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黄鹤楼送孟浩然之广陵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Times New Roman"/>
              </a:rPr>
              <a:t>                               </a:t>
            </a:r>
            <a:r>
              <a:rPr b="0" lang="zh-CN" sz="2800" spc="-1" strike="noStrike">
                <a:solidFill>
                  <a:srgbClr val="990000"/>
                </a:solidFill>
                <a:latin typeface="Times New Roman"/>
              </a:rPr>
              <a:t>李白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故 人 西 辞 黄 鹤 楼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烟 花 三 月 下 扬 州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孤 帆 远  影 碧 空 尽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唯 见 长 江 天 际 流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0866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3"/>
          <p:cNvSpPr/>
          <p:nvPr/>
        </p:nvSpPr>
        <p:spPr>
          <a:xfrm>
            <a:off x="7696080" y="16002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066680" y="6858000"/>
            <a:ext cx="67820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5972760" y="457200"/>
            <a:ext cx="33998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浮云游子意，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</a:t>
            </a: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楷体_GB2312"/>
              </a:rPr>
              <a:t>落日故人情</a:t>
            </a:r>
            <a:endParaRPr b="0" lang="en-US" sz="6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0" name="Text Box 6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别董大2"/>
          <p:cNvPicPr/>
          <p:nvPr/>
        </p:nvPicPr>
        <p:blipFill>
          <a:blip r:embed="rId1"/>
          <a:stretch/>
        </p:blipFill>
        <p:spPr>
          <a:xfrm>
            <a:off x="0" y="0"/>
            <a:ext cx="716292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3"/>
          <p:cNvSpPr/>
          <p:nvPr/>
        </p:nvSpPr>
        <p:spPr>
          <a:xfrm>
            <a:off x="914400" y="6019920"/>
            <a:ext cx="7620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3" name="Text Box 4"/>
          <p:cNvSpPr/>
          <p:nvPr/>
        </p:nvSpPr>
        <p:spPr>
          <a:xfrm flipH="1">
            <a:off x="6948000" y="0"/>
            <a:ext cx="34149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  <a:ea typeface="楷体_GB2312"/>
              </a:rPr>
              <a:t>       </a:t>
            </a:r>
            <a:endParaRPr b="0" lang="en-US" sz="4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莫愁前路无知己，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天下谁人不识君。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9" descr="shid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10"/>
          <p:cNvSpPr/>
          <p:nvPr/>
        </p:nvSpPr>
        <p:spPr>
          <a:xfrm>
            <a:off x="304920" y="152280"/>
            <a:ext cx="8305560" cy="6400800"/>
          </a:xfrm>
          <a:prstGeom prst="rect">
            <a:avLst/>
          </a:prstGeom>
          <a:blipFill rotWithShape="0">
            <a:blip r:embed="rId2">
              <a:alphaModFix amt="17000"/>
            </a:blip>
            <a:srcRect/>
            <a:tile tx="0" ty="0" sx="100000" sy="100000" algn="ctr"/>
          </a:blip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6" name="Text Box 4"/>
          <p:cNvSpPr/>
          <p:nvPr/>
        </p:nvSpPr>
        <p:spPr>
          <a:xfrm>
            <a:off x="1362240" y="960480"/>
            <a:ext cx="26190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黄鹤楼送孟浩然之广陵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李白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故人西辞黄鹤楼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烟花三月下扬州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孤帆远影碧空尽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唯见长江天际流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7" name="Text Box 5"/>
          <p:cNvSpPr/>
          <p:nvPr/>
        </p:nvSpPr>
        <p:spPr>
          <a:xfrm>
            <a:off x="6537240" y="2232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8" name="Rectangle 6"/>
          <p:cNvSpPr/>
          <p:nvPr/>
        </p:nvSpPr>
        <p:spPr>
          <a:xfrm>
            <a:off x="5393880" y="965160"/>
            <a:ext cx="24724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送元二使安西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唐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王维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渭城朝雨浥轻尘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客舍青青柳色新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劝君更尽一杯酒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西出阳关无故人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9" name="Text Box 7"/>
          <p:cNvSpPr/>
          <p:nvPr/>
        </p:nvSpPr>
        <p:spPr>
          <a:xfrm>
            <a:off x="779400" y="59785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矩形 10"/>
          <p:cNvSpPr/>
          <p:nvPr/>
        </p:nvSpPr>
        <p:spPr>
          <a:xfrm>
            <a:off x="5435640" y="1052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47" name="Picture 18" descr="D:\素材库\图案\按钮背景\button106.gi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763120" y="6477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5" descr="图片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549" name="TextBox 6"/>
          <p:cNvSpPr/>
          <p:nvPr/>
        </p:nvSpPr>
        <p:spPr>
          <a:xfrm>
            <a:off x="214200" y="150012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帆影已经消失了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············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0" name="TextBox 8"/>
          <p:cNvSpPr/>
          <p:nvPr/>
        </p:nvSpPr>
        <p:spPr>
          <a:xfrm>
            <a:off x="214200" y="2000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诗人还在翘首相望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1" name="TextBox 9"/>
          <p:cNvSpPr/>
          <p:nvPr/>
        </p:nvSpPr>
        <p:spPr>
          <a:xfrm>
            <a:off x="285840" y="27147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似乎要把自己对朋友的深深思念之情托付江水，陪伴行舟，将友人送到目的地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285840" y="4143240"/>
            <a:ext cx="44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此时此刻，李白在想什么呢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？？？？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5" name="Text Box 4">
            <a:hlinkClick r:id="rId1" action="ppaction://hlinksldjump"/>
          </p:cNvPr>
          <p:cNvSpPr/>
          <p:nvPr/>
        </p:nvSpPr>
        <p:spPr>
          <a:xfrm>
            <a:off x="6248520" y="304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f1f7e9"/>
                </a:solidFill>
                <a:latin typeface="Times New Roman"/>
                <a:ea typeface="华文行楷"/>
              </a:rPr>
              <a:t>送 元 二 使 安 西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556" name="Picture 5" descr="200442192926275"/>
          <p:cNvPicPr/>
          <p:nvPr/>
        </p:nvPicPr>
        <p:blipFill>
          <a:blip r:embed="rId2"/>
          <a:stretch/>
        </p:blipFill>
        <p:spPr>
          <a:xfrm>
            <a:off x="1143000" y="990720"/>
            <a:ext cx="7238880" cy="4876560"/>
          </a:xfrm>
          <a:prstGeom prst="rect">
            <a:avLst/>
          </a:prstGeom>
          <a:ln w="0">
            <a:noFill/>
          </a:ln>
        </p:spPr>
      </p:pic>
      <p:sp>
        <p:nvSpPr>
          <p:cNvPr id="557" name="Freeform 6"/>
          <p:cNvSpPr/>
          <p:nvPr/>
        </p:nvSpPr>
        <p:spPr>
          <a:xfrm>
            <a:off x="2209680" y="2133720"/>
            <a:ext cx="3108600" cy="1027080"/>
          </a:xfrm>
          <a:custGeom>
            <a:avLst/>
            <a:gdLst/>
            <a:ahLst/>
            <a:rect l="l" t="t" r="r" b="b"/>
            <a:pathLst>
              <a:path w="1958" h="647">
                <a:moveTo>
                  <a:pt x="1958" y="647"/>
                </a:moveTo>
                <a:lnTo>
                  <a:pt x="1852" y="603"/>
                </a:lnTo>
                <a:lnTo>
                  <a:pt x="1781" y="594"/>
                </a:lnTo>
                <a:lnTo>
                  <a:pt x="1666" y="585"/>
                </a:lnTo>
                <a:lnTo>
                  <a:pt x="1579" y="539"/>
                </a:lnTo>
                <a:lnTo>
                  <a:pt x="1488" y="494"/>
                </a:lnTo>
                <a:lnTo>
                  <a:pt x="1391" y="408"/>
                </a:lnTo>
                <a:lnTo>
                  <a:pt x="1311" y="346"/>
                </a:lnTo>
                <a:lnTo>
                  <a:pt x="1222" y="310"/>
                </a:lnTo>
                <a:lnTo>
                  <a:pt x="1081" y="310"/>
                </a:lnTo>
                <a:lnTo>
                  <a:pt x="974" y="319"/>
                </a:lnTo>
                <a:lnTo>
                  <a:pt x="886" y="301"/>
                </a:lnTo>
                <a:lnTo>
                  <a:pt x="833" y="186"/>
                </a:lnTo>
                <a:lnTo>
                  <a:pt x="717" y="80"/>
                </a:lnTo>
                <a:lnTo>
                  <a:pt x="619" y="110"/>
                </a:lnTo>
                <a:lnTo>
                  <a:pt x="540" y="124"/>
                </a:lnTo>
                <a:lnTo>
                  <a:pt x="469" y="98"/>
                </a:lnTo>
                <a:lnTo>
                  <a:pt x="354" y="62"/>
                </a:lnTo>
                <a:lnTo>
                  <a:pt x="265" y="36"/>
                </a:lnTo>
                <a:lnTo>
                  <a:pt x="177" y="18"/>
                </a:lnTo>
                <a:lnTo>
                  <a:pt x="106" y="0"/>
                </a:lnTo>
                <a:lnTo>
                  <a:pt x="35" y="27"/>
                </a:lnTo>
                <a:lnTo>
                  <a:pt x="0" y="53"/>
                </a:lnTo>
              </a:path>
            </a:pathLst>
          </a:custGeom>
          <a:noFill/>
          <a:ln w="3816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5410080" y="2971800"/>
            <a:ext cx="304920" cy="152280"/>
          </a:xfrm>
          <a:prstGeom prst="rect">
            <a:avLst/>
          </a:prstGeom>
          <a:solidFill>
            <a:srgbClr val="f1f7e9">
              <a:alpha val="50000"/>
            </a:srgbClr>
          </a:solidFill>
          <a:ln w="9360">
            <a:solidFill>
              <a:srgbClr val="f1f7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渭城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59" name="Rectangle 8"/>
          <p:cNvSpPr/>
          <p:nvPr/>
        </p:nvSpPr>
        <p:spPr>
          <a:xfrm>
            <a:off x="4218120" y="2971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阳关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0" name="Oval 9"/>
          <p:cNvSpPr/>
          <p:nvPr/>
        </p:nvSpPr>
        <p:spPr>
          <a:xfrm>
            <a:off x="5410080" y="3200400"/>
            <a:ext cx="76320" cy="763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1" name="Oval 10"/>
          <p:cNvSpPr/>
          <p:nvPr/>
        </p:nvSpPr>
        <p:spPr>
          <a:xfrm>
            <a:off x="4572000" y="2895480"/>
            <a:ext cx="76320" cy="763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2" name="Oval 11"/>
          <p:cNvSpPr/>
          <p:nvPr/>
        </p:nvSpPr>
        <p:spPr>
          <a:xfrm>
            <a:off x="2133720" y="2209680"/>
            <a:ext cx="75960" cy="76320"/>
          </a:xfrm>
          <a:prstGeom prst="ellipse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3" name="Rectangle 12">
            <a:hlinkClick r:id="rId3" action="ppaction://hlinksldjump"/>
          </p:cNvPr>
          <p:cNvSpPr/>
          <p:nvPr/>
        </p:nvSpPr>
        <p:spPr>
          <a:xfrm>
            <a:off x="1933560" y="22860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安西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4" name="Freeform 13"/>
          <p:cNvSpPr/>
          <p:nvPr/>
        </p:nvSpPr>
        <p:spPr>
          <a:xfrm>
            <a:off x="5326200" y="3149640"/>
            <a:ext cx="83880" cy="52200"/>
          </a:xfrm>
          <a:custGeom>
            <a:avLst/>
            <a:gdLst/>
            <a:ahLst/>
            <a:rect l="l" t="t" r="r" b="b"/>
            <a:pathLst>
              <a:path w="53" h="33">
                <a:moveTo>
                  <a:pt x="0" y="0"/>
                </a:moveTo>
                <a:lnTo>
                  <a:pt x="53" y="33"/>
                </a:lnTo>
              </a:path>
            </a:pathLst>
          </a:cu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"/>
          <p:cNvSpPr/>
          <p:nvPr/>
        </p:nvSpPr>
        <p:spPr>
          <a:xfrm>
            <a:off x="2666880" y="380880"/>
            <a:ext cx="6096240" cy="617220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3345480" y="914400"/>
            <a:ext cx="4554360" cy="48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［王维简介］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701--76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），字摩诘，唐朝著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名诗人，世称“王右丞” ，和孟浩然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并称“王孟”。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品特点：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诗中有画，画中有诗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代表作：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《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送元二使安西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鸟鸣涧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相思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《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九月九日忆山东兄弟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4"/>
          <p:cNvSpPr/>
          <p:nvPr/>
        </p:nvSpPr>
        <p:spPr>
          <a:xfrm>
            <a:off x="3733920" y="380880"/>
            <a:ext cx="350496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送元二使安西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[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唐</a:t>
            </a:r>
            <a:r>
              <a:rPr b="1" lang="en-US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王维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渭城朝雨浥轻尘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客舍青青柳色新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劝君更尽一杯酒，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西出阳关无故人。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4390200" y="4419720"/>
            <a:ext cx="5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注释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①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使：出使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②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浥：湿润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③</a:t>
            </a:r>
            <a:r>
              <a:rPr b="1" lang="zh-CN" sz="1800" spc="-1" strike="noStrike">
                <a:solidFill>
                  <a:srgbClr val="003300"/>
                </a:solidFill>
                <a:latin typeface="Arial"/>
                <a:ea typeface="Times New Roman"/>
              </a:rPr>
              <a:t>更尽：再饮完。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3303720" y="1869480"/>
            <a:ext cx="4724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宿舍 ） 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shě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依依不舍）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jūn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君子）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2192760" y="18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舍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2268720" y="4464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君</a:t>
            </a:r>
            <a:endParaRPr b="0" lang="en-US" sz="7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92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6"/>
          <p:cNvSpPr/>
          <p:nvPr/>
        </p:nvSpPr>
        <p:spPr>
          <a:xfrm>
            <a:off x="1295280" y="1371600"/>
            <a:ext cx="495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0" y="384480"/>
            <a:ext cx="9220320" cy="764280"/>
          </a:xfrm>
          <a:prstGeom prst="rect">
            <a:avLst/>
          </a:prstGeom>
          <a:noFill/>
          <a:ln w="9360">
            <a:solidFill>
              <a:srgbClr val="003300"/>
            </a:solidFill>
            <a:prstDash val="dash"/>
            <a:miter/>
          </a:ln>
          <a:effectLst>
            <a:outerShdw dist="17819" dir="2700000" blurRad="0" rotWithShape="0">
              <a:srgbClr val="366b1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渭城朝雨浥轻尘，客舍青青柳色新。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1769400" y="1344960"/>
            <a:ext cx="5484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渭城：秦置咸阳县，汉代改称渭城县，唐时属京兆府咸阳县辖区，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在今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1"/>
              </a:rPr>
              <a:t>陕西</a:t>
            </a:r>
            <a:r>
              <a:rPr b="0" lang="zh-CN" sz="2400" spc="-1" strike="noStrike" u="sng">
                <a:solidFill>
                  <a:srgbClr val="808000"/>
                </a:solidFill>
                <a:uFillTx/>
                <a:latin typeface="Arial"/>
                <a:ea typeface="楷体_GB2312"/>
                <a:hlinkClick r:id="rId2"/>
              </a:rPr>
              <a:t>咸阳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市东北，渭水北岸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552600" y="251352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浥：（</a:t>
            </a:r>
            <a:r>
              <a:rPr b="0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y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ì</a:t>
            </a:r>
            <a:r>
              <a:rPr b="0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）：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湿润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2895480" y="25146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客舍：旅店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6843960" y="251352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楷体_GB2312"/>
              </a:rPr>
              <a:t>柳色：即指初春嫩柳的颜色。</a:t>
            </a:r>
            <a:r>
              <a:rPr b="0" lang="zh-CN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9" name="Rectangle 14"/>
          <p:cNvSpPr/>
          <p:nvPr/>
        </p:nvSpPr>
        <p:spPr>
          <a:xfrm>
            <a:off x="1963080" y="3503520"/>
            <a:ext cx="4874760" cy="2104920"/>
          </a:xfrm>
          <a:prstGeom prst="rect">
            <a:avLst/>
          </a:prstGeom>
          <a:noFill/>
          <a:ln cap="rnd" w="9360">
            <a:solidFill>
              <a:srgbClr val="003300"/>
            </a:solidFill>
            <a:custDash>
              <a:ds d="100000" sp="1000"/>
            </a:custDash>
            <a:miter/>
          </a:ln>
          <a:effectLst>
            <a:outerShdw dist="17819" dir="2700000" blurRad="0" rotWithShape="0">
              <a:srgbClr val="366b1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清晨的细雨打湿了渭城的浮尘；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青砖绿瓦的旅店和周围的柳树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  <a:ea typeface="楷体_GB2312"/>
              </a:rPr>
              <a:t>都显得格外清新明朗。</a:t>
            </a: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90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解答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前两句写离别时的景色，地点是（      ），季节是（     ），从哪里可以看出？“柳”与“</a:t>
            </a: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(       )”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谐音，暗含（        ）之意，你感觉这景色如何？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6631920" y="1981080"/>
            <a:ext cx="91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城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</a:rPr>
              <a:t>渭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403280" y="23493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春季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8073720" y="25146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留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5" name="Text Box 7"/>
          <p:cNvSpPr/>
          <p:nvPr/>
        </p:nvSpPr>
        <p:spPr>
          <a:xfrm>
            <a:off x="3492000" y="292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送别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8:36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3:10:49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