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1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10.wmf" ContentType="image/x-wmf"/>
  <Override PartName="/ppt/media/image31.jpeg" ContentType="image/jpeg"/>
  <Override PartName="/ppt/media/image2.png" ContentType="image/png"/>
  <Override PartName="/ppt/media/image8.wmf" ContentType="image/x-wmf"/>
  <Override PartName="/ppt/media/image33.wmf" ContentType="image/x-wmf"/>
  <Override PartName="/ppt/media/image29.wmf" ContentType="image/x-wmf"/>
  <Override PartName="/ppt/media/image30.wmf" ContentType="image/x-wmf"/>
  <Override PartName="/ppt/media/image6.jpeg" ContentType="image/jpeg"/>
  <Override PartName="/ppt/media/image32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CAMERA.WAV" ContentType="audio/x-wav"/>
  <Override PartName="/ppt/media/image24.wmf" ContentType="image/x-wmf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26.wmf" ContentType="image/x-wmf"/>
  <Override PartName="/ppt/media/image16.jpeg" ContentType="image/jpeg"/>
  <Override PartName="/ppt/media/image17.wmf" ContentType="image/x-wmf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53F1-038D-4B05-A71F-1AE768707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7A8C-FD9D-4FEA-8B57-4A18C818F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72DC-A145-4EB9-84F5-FFFAA847D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5B3B-0451-48E3-AD1A-93E8B32201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E9CD-2820-4051-ADFE-E60D3DA470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54F1-3CB0-4CF2-AE2E-2539C7024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6508-2797-4CB0-BEC2-0DBD4A055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0CB9-7A31-42A2-876D-E188FED92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6C82-7642-4083-AA65-52A1AA347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3F17-B825-4FB7-8EC2-8194DBE30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9303-FA60-4F4C-9FAE-1DC658F57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06D9-6069-401C-B7D8-A4A08D1A9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0" y="448308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 flipV="1">
            <a:off x="152280" y="0"/>
            <a:ext cx="0" cy="6858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未知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6" descr="Untitled"/>
          <p:cNvPicPr/>
          <p:nvPr/>
        </p:nvPicPr>
        <p:blipFill>
          <a:blip r:embed="rId2"/>
          <a:stretch/>
        </p:blipFill>
        <p:spPr>
          <a:xfrm>
            <a:off x="6629400" y="6562800"/>
            <a:ext cx="2057400" cy="2952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5" name="未知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-17640"/>
            <a:ext cx="9144000" cy="167976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未知"/>
          <p:cNvSpPr/>
          <p:nvPr/>
        </p:nvSpPr>
        <p:spPr>
          <a:xfrm>
            <a:off x="0" y="-17640"/>
            <a:ext cx="8388360" cy="106524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未知"/>
          <p:cNvSpPr/>
          <p:nvPr/>
        </p:nvSpPr>
        <p:spPr>
          <a:xfrm>
            <a:off x="0" y="-17640"/>
            <a:ext cx="4578480" cy="45108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66"/>
                </a:solidFill>
                <a:uFillTx/>
                <a:latin typeface="Times New Roman"/>
              </a:rPr>
              <a:t>Click to edit the title text format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2514600" y="6553080"/>
            <a:ext cx="6629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0" y="6553080"/>
            <a:ext cx="1295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>
            <a:hlinkClick r:id="" action="ppaction://hlinkshowjump?jump=previousslide"/>
          </p:cNvPr>
          <p:cNvSpPr/>
          <p:nvPr/>
        </p:nvSpPr>
        <p:spPr>
          <a:xfrm>
            <a:off x="990720" y="6477120"/>
            <a:ext cx="533160" cy="228600"/>
          </a:xfrm>
          <a:custGeom>
            <a:avLst/>
            <a:gdLst>
              <a:gd name="textAreaLeft" fmla="*/ 14040 w 533160"/>
              <a:gd name="textAreaRight" fmla="*/ 519120 w 5331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82" y="1350"/>
                </a:lnTo>
                <a:lnTo>
                  <a:pt x="1350" y="135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82" y="20250"/>
                </a:lnTo>
                <a:lnTo>
                  <a:pt x="48982" y="135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8982" y="2025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0332" h="21600">
                <a:moveTo>
                  <a:pt x="18122" y="10800"/>
                </a:moveTo>
                <a:lnTo>
                  <a:pt x="32210" y="3756"/>
                </a:lnTo>
                <a:lnTo>
                  <a:pt x="32210" y="17844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AutoShape 17">
            <a:hlinkClick r:id="" action="ppaction://hlinkshowjump?jump=nextslide"/>
          </p:cNvPr>
          <p:cNvSpPr/>
          <p:nvPr/>
        </p:nvSpPr>
        <p:spPr>
          <a:xfrm>
            <a:off x="1523880" y="6477120"/>
            <a:ext cx="533520" cy="228600"/>
          </a:xfrm>
          <a:custGeom>
            <a:avLst/>
            <a:gdLst>
              <a:gd name="textAreaLeft" fmla="*/ 14040 w 533520"/>
              <a:gd name="textAreaRight" fmla="*/ 519480 w 5335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9016" y="1350"/>
                </a:lnTo>
                <a:lnTo>
                  <a:pt x="1350" y="135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9016" y="20250"/>
                </a:lnTo>
                <a:lnTo>
                  <a:pt x="49016" y="135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9016" y="2025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0366" h="21600">
                <a:moveTo>
                  <a:pt x="18139" y="3756"/>
                </a:moveTo>
                <a:lnTo>
                  <a:pt x="32227" y="10800"/>
                </a:lnTo>
                <a:lnTo>
                  <a:pt x="18139" y="17844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AutoShape 18"/>
          <p:cNvSpPr/>
          <p:nvPr/>
        </p:nvSpPr>
        <p:spPr>
          <a:xfrm>
            <a:off x="2057400" y="6477120"/>
            <a:ext cx="533520" cy="228600"/>
          </a:xfrm>
          <a:custGeom>
            <a:avLst/>
            <a:gdLst>
              <a:gd name="textAreaLeft" fmla="*/ 14040 w 533520"/>
              <a:gd name="textAreaRight" fmla="*/ 519480 w 5335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9016" y="1350"/>
                </a:lnTo>
                <a:lnTo>
                  <a:pt x="1350" y="135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9016" y="20250"/>
                </a:lnTo>
                <a:lnTo>
                  <a:pt x="49016" y="135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9016" y="2025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0366" h="21600">
                <a:moveTo>
                  <a:pt x="25183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50366" h="21600">
                <a:moveTo>
                  <a:pt x="26294" y="14300"/>
                </a:moveTo>
                <a:lnTo>
                  <a:pt x="26294" y="12331"/>
                </a:lnTo>
                <a:cubicBezTo>
                  <a:pt x="26294" y="11500"/>
                  <a:pt x="26627" y="10800"/>
                  <a:pt x="27231" y="10800"/>
                </a:cubicBezTo>
                <a:cubicBezTo>
                  <a:pt x="28368" y="10800"/>
                  <a:pt x="29269" y="9426"/>
                  <a:pt x="29269" y="7834"/>
                </a:cubicBezTo>
                <a:cubicBezTo>
                  <a:pt x="29269" y="5506"/>
                  <a:pt x="27406" y="3756"/>
                  <a:pt x="25183" y="3756"/>
                </a:cubicBezTo>
                <a:cubicBezTo>
                  <a:pt x="22961" y="3756"/>
                  <a:pt x="21281" y="5506"/>
                  <a:pt x="21281" y="7834"/>
                </a:cubicBezTo>
                <a:lnTo>
                  <a:pt x="23144" y="7834"/>
                </a:lnTo>
                <a:cubicBezTo>
                  <a:pt x="23144" y="6688"/>
                  <a:pt x="24072" y="5795"/>
                  <a:pt x="25183" y="5795"/>
                </a:cubicBezTo>
                <a:cubicBezTo>
                  <a:pt x="26294" y="5795"/>
                  <a:pt x="27231" y="6688"/>
                  <a:pt x="27231" y="7834"/>
                </a:cubicBezTo>
                <a:cubicBezTo>
                  <a:pt x="27231" y="8578"/>
                  <a:pt x="26758" y="9313"/>
                  <a:pt x="26294" y="9313"/>
                </a:cubicBezTo>
                <a:cubicBezTo>
                  <a:pt x="25183" y="9313"/>
                  <a:pt x="24072" y="10800"/>
                  <a:pt x="24072" y="12331"/>
                </a:cubicBezTo>
                <a:lnTo>
                  <a:pt x="24072" y="143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AutoShape 19">
            <a:hlinkClick r:id="" action="ppaction://hlinkshowjump?jump=endshow"/>
          </p:cNvPr>
          <p:cNvSpPr/>
          <p:nvPr/>
        </p:nvSpPr>
        <p:spPr>
          <a:xfrm>
            <a:off x="2590920" y="6477120"/>
            <a:ext cx="609480" cy="228600"/>
          </a:xfrm>
          <a:custGeom>
            <a:avLst/>
            <a:gdLst>
              <a:gd name="textAreaLeft" fmla="*/ 14040 w 609480"/>
              <a:gd name="textAreaRight" fmla="*/ 595440 w 60948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82" y="1350"/>
                </a:lnTo>
                <a:lnTo>
                  <a:pt x="1350" y="135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82" y="20250"/>
                </a:lnTo>
                <a:lnTo>
                  <a:pt x="56182" y="135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6182" y="2025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7532" h="21600">
                <a:moveTo>
                  <a:pt x="32284" y="10800"/>
                </a:moveTo>
                <a:lnTo>
                  <a:pt x="21722" y="17844"/>
                </a:lnTo>
                <a:lnTo>
                  <a:pt x="21722" y="3756"/>
                </a:lnTo>
                <a:close/>
              </a:path>
              <a:path fill="darken" w="57532" h="21600">
                <a:moveTo>
                  <a:pt x="34139" y="3756"/>
                </a:moveTo>
                <a:lnTo>
                  <a:pt x="34139" y="17844"/>
                </a:lnTo>
                <a:lnTo>
                  <a:pt x="35810" y="17844"/>
                </a:lnTo>
                <a:lnTo>
                  <a:pt x="35810" y="3756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Line 20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sldNum" idx="1"/>
          </p:nvPr>
        </p:nvSpPr>
        <p:spPr>
          <a:xfrm>
            <a:off x="868680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66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7675-D29A-46D8-A9B9-E1C7F6321387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22"/>
          <p:cNvSpPr/>
          <p:nvPr/>
        </p:nvSpPr>
        <p:spPr>
          <a:xfrm>
            <a:off x="6791400" y="6638760"/>
            <a:ext cx="1866960" cy="1526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商务礼仪与职业形象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" name="Picture 23" descr="Untitled"/>
          <p:cNvPicPr/>
          <p:nvPr/>
        </p:nvPicPr>
        <p:blipFill>
          <a:blip r:embed="rId3"/>
          <a:stretch/>
        </p:blipFill>
        <p:spPr>
          <a:xfrm>
            <a:off x="6753240" y="6581880"/>
            <a:ext cx="182520" cy="10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31532;&#19968;&#31456; &#31036;&#20202;&#27010;&#36848;" TargetMode="External"/><Relationship Id="rId2" Type="http://schemas.openxmlformats.org/officeDocument/2006/relationships/hyperlink" Target="263,7,&#31532;&#20108;&#31456; &#35851;&#38754;&#31036;&#20202;" TargetMode="External"/><Relationship Id="rId3" Type="http://schemas.openxmlformats.org/officeDocument/2006/relationships/hyperlink" Target="298,26,&#31532;&#22235;&#31456; &#35848;&#35805;&#31036;&#20202;" TargetMode="External"/><Relationship Id="rId4" Type="http://schemas.openxmlformats.org/officeDocument/2006/relationships/hyperlink" Target="325,63,&#31532;&#20845;&#31456; &#26381;&#39280;&#20202;&#23481;&#31036;&#20202;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0,4,&#31036;&#20202;" TargetMode="External"/><Relationship Id="rId2" Type="http://schemas.openxmlformats.org/officeDocument/2006/relationships/hyperlink" Target="261,5,&#31036;&#20202;&#30340;&#37325;&#35201;&#24615;" TargetMode="External"/><Relationship Id="rId3" Type="http://schemas.openxmlformats.org/officeDocument/2006/relationships/hyperlink" Target="262,6,&#31036;&#20202;&#30340;&#32844;&#33021;" TargetMode="External"/><Relationship Id="rId4" Type="http://schemas.openxmlformats.org/officeDocument/2006/relationships/image" Target="../media/image8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300,27,&#20132;&#35848;&#24577;&#21183;&#35821;" TargetMode="External"/><Relationship Id="rId2" Type="http://schemas.openxmlformats.org/officeDocument/2006/relationships/hyperlink" Target="256,28,&#31216;&#21628;" TargetMode="External"/><Relationship Id="rId3" Type="http://schemas.openxmlformats.org/officeDocument/2006/relationships/hyperlink" Target="418,29,&#27491;&#24335;&#22330;&#21512;" TargetMode="External"/><Relationship Id="rId4" Type="http://schemas.openxmlformats.org/officeDocument/2006/relationships/hyperlink" Target="256,30,&#38750;&#27491;&#24335;&#22330;&#21512;" TargetMode="External"/><Relationship Id="rId5" Type="http://schemas.openxmlformats.org/officeDocument/2006/relationships/hyperlink" Target="302,31,&#31216;&#21628;&#20013;&#19977;&#24524;" TargetMode="External"/><Relationship Id="rId6" Type="http://schemas.openxmlformats.org/officeDocument/2006/relationships/hyperlink" Target="256,32,&#22806;&#22269;&#20154;&#22995;&#21517;" TargetMode="External"/><Relationship Id="rId7" Type="http://schemas.openxmlformats.org/officeDocument/2006/relationships/hyperlink" Target="256,33,&#22806;&#22269;&#20154;&#31216;&#21628;" TargetMode="External"/><Relationship Id="rId8" Type="http://schemas.openxmlformats.org/officeDocument/2006/relationships/hyperlink" Target="305,35,&#35848;&#35805;&#20869;&#23481;" TargetMode="External"/><Relationship Id="rId9" Type="http://schemas.openxmlformats.org/officeDocument/2006/relationships/hyperlink" Target="306,37,&#24120;&#29992;&#30340;&#31036;&#35980;&#29992;&#35821;" TargetMode="External"/><Relationship Id="rId10" Type="http://schemas.openxmlformats.org/officeDocument/2006/relationships/hyperlink" Target="307,39,&#29992;&#35789;&#29992;&#35821;&#35201;&#25991;&#38597;" TargetMode="External"/><Relationship Id="rId11" Type="http://schemas.openxmlformats.org/officeDocument/2006/relationships/hyperlink" Target="308,41,&#35328;&#35789;&#30340;&#27807;&#36890;&#25216;&#24039;&#65288;&#35762;&#35805;&#25512;&#38144;&#31561;&#65289;" TargetMode="External"/><Relationship Id="rId12" Type="http://schemas.openxmlformats.org/officeDocument/2006/relationships/hyperlink" Target="309,43,&#20132;&#35848;&#20013;&#30340;&#33402;&#26415;" TargetMode="External"/><Relationship Id="rId13" Type="http://schemas.openxmlformats.org/officeDocument/2006/relationships/hyperlink" Target="256,45,&#38144;&#21806;&#12298;&#26032;&#22411;&#26432;&#34411;&#21058;&#12299;&#27807;&#36890;&#39034;&#24207;" TargetMode="External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327,64,TPO&#30528;&#35013;&#21407;&#21017;" TargetMode="External"/><Relationship Id="rId2" Type="http://schemas.openxmlformats.org/officeDocument/2006/relationships/hyperlink" Target="328,65,&#26381;&#39280;&#19977;&#32654;" TargetMode="External"/><Relationship Id="rId3" Type="http://schemas.openxmlformats.org/officeDocument/2006/relationships/hyperlink" Target="256,67,&#33394;&#24425;&#25645;&#37197;" TargetMode="External"/><Relationship Id="rId4" Type="http://schemas.openxmlformats.org/officeDocument/2006/relationships/hyperlink" Target="256,70,&#30007;&#22763;&#26381;&#39280;&#20202;&#23481;&#65288;&#19968;&#65289;" TargetMode="External"/><Relationship Id="rId5" Type="http://schemas.openxmlformats.org/officeDocument/2006/relationships/hyperlink" Target="256,77,&#22899;&#22763;&#26381;&#39280;&#20202;&#23481;&#65288;&#19968;&#65289;" TargetMode="External"/><Relationship Id="rId6" Type="http://schemas.openxmlformats.org/officeDocument/2006/relationships/image" Target="../media/image29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5,8,&#32422;&#20250;" TargetMode="External"/><Relationship Id="rId2" Type="http://schemas.openxmlformats.org/officeDocument/2006/relationships/hyperlink" Target="266,9,&#33268;&#24847;" TargetMode="External"/><Relationship Id="rId3" Type="http://schemas.openxmlformats.org/officeDocument/2006/relationships/hyperlink" Target="267,10,&#25569;&#25163;" TargetMode="External"/><Relationship Id="rId4" Type="http://schemas.openxmlformats.org/officeDocument/2006/relationships/hyperlink" Target="268,11,&#20171;&#32461;" TargetMode="External"/><Relationship Id="rId5" Type="http://schemas.openxmlformats.org/officeDocument/2006/relationships/hyperlink" Target="269,12,&#36882;&#25509;&#21517;&#29255;" TargetMode="External"/><Relationship Id="rId6" Type="http://schemas.openxmlformats.org/officeDocument/2006/relationships/hyperlink" Target="256,13,&#21517;&#29255;&#23427;&#29992;" TargetMode="External"/><Relationship Id="rId7" Type="http://schemas.openxmlformats.org/officeDocument/2006/relationships/image" Target="../media/image10.wm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audio" Target="../media/CAMERA.WAV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DB4D-30F9-49CA-ADE9-22DD36789CA7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br>
              <a:rPr sz="3600"/>
            </a:b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pic>
        <p:nvPicPr>
          <p:cNvPr id="61" name="Picture 4" descr="ARROW"/>
          <p:cNvPicPr/>
          <p:nvPr/>
        </p:nvPicPr>
        <p:blipFill>
          <a:blip r:embed="rId2"/>
          <a:stretch/>
        </p:blipFill>
        <p:spPr>
          <a:xfrm>
            <a:off x="32004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Untitled"/>
          <p:cNvPicPr/>
          <p:nvPr/>
        </p:nvPicPr>
        <p:blipFill>
          <a:blip r:embed="rId3"/>
          <a:stretch/>
        </p:blipFill>
        <p:spPr>
          <a:xfrm>
            <a:off x="1447920" y="2084400"/>
            <a:ext cx="838080" cy="506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193824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7080" y="117360"/>
            <a:ext cx="41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商业礼仪与形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49AE-628F-4164-8653-98111273393B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握手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握手——当今世界最通用的表示友好、祝贺、感谢、慰问的礼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站立对正，上身稍前，左手垂下，凝视对方，面带微笑，伸出右手，齐腰高度，四指并齐，握住掌心，认真一握，礼毕即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长者、职高者、主人、女士通常先伸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D52F-015D-4CA4-B2DD-7BFC830D9198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介绍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自我介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推销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自我形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价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重要方法，进入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社交圈的金钥匙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镇定有信心，微笑要自然，不同对象、场合，选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同语气、方式、内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介绍他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以</a:t>
            </a: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中介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身份介绍原本陌生的人相识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受尊重的一方优先了解对方为原则。先少后老，先低后高，先宾后主，先男后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站在之间，以手示意，面向听者，微笑有礼，口龄伶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178B-8E98-4738-9C96-38CCA04F9C7A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递接名片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递送名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表示愿意交往，主动将自己的重要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信息告诉对方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存放得当，随手可取，站立对正，上身前倾，双握前端，字朝对方，齐胸送出，清楚报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接收名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感谢对方信任，象尊重其主人一样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尊重和爱惜名片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立即起立，面向对方，双接下端，齐胸高度，认真拜读，表示感谢，存放得当，珍惜爱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0D73-71A5-4762-8650-EB260F8EF21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接待准备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环境准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空气、光线、温度、声音、色泽、设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备、布置、氛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物质准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相应桌椅、备好茶饮、电话、衣帽架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资料贺、有关资料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心理准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有一颗诚心，体谅对方，热情有礼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蔼可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仪表准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发式、容貌、服饰、姿态、言谈、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止及卫生等外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876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B5E5-CBA0-4CF1-831E-71EFB094E507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亲切迎客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亲切迎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放下工作，主动迎上，目光相 接，微笑问候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热情接待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四类访客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33"/>
                </a:solidFill>
                <a:latin typeface="Times New Roman"/>
              </a:rPr>
              <a:t>预约访客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——有所准备，记住姓名，让客户感 到来访被重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被期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33"/>
                </a:solidFill>
                <a:latin typeface="Times New Roman"/>
              </a:rPr>
              <a:t>未预约客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——热情友好，询问来意，依具体情况判断应对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33"/>
                </a:solidFill>
                <a:latin typeface="Times New Roman"/>
              </a:rPr>
              <a:t>拒绝访客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——热情坚定的回绝上司明确不接待 或无法接待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访客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33"/>
                </a:solidFill>
                <a:latin typeface="Times New Roman"/>
              </a:rPr>
              <a:t>来访团组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——充分准备，热情迎候，并根据拟订好的接待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案诸项落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4CE3-ED15-4FC7-AC2C-4C25FCC820F6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热忱待客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热忱待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作好引路、开关门、引见、 让座、上茶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挂衣帽、送书报 等工作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引路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—在客左前方，转身照顾，热情介绍，适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当手势，提供服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开关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五步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引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—先由高至低介绍客方，再逐一介绍主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让座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—引导入上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离门远的座位或同排右为上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上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—有可能时征求意愿，手、茶具要清洁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尽量用托盘轻手轻脚送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E9E9-FFEE-4909-8455-4166E081B3A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开关门五步曲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66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敲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得到允诺才可开门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、开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知道应用哪只手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（门把对左手，用右手开；门把对右手，用左手开）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明确进门顺序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（外开门，客先入，内开门，已先入）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、挡门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（侧身用手或身挡门，留出入口）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、请进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（礼貌地用语言和手势同时示意请进）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、关门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（进毕再慢慢地关门）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C9A2-C91D-4F0B-A68C-9200D85A040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会谈座位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l"/>
          <p:cNvPicPr/>
          <p:nvPr/>
        </p:nvPicPr>
        <p:blipFill>
          <a:blip r:embed="rId1"/>
          <a:stretch/>
        </p:blipFill>
        <p:spPr>
          <a:xfrm>
            <a:off x="2819520" y="1447920"/>
            <a:ext cx="563868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051D-3493-4B6F-B4C7-7C567708E5BA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谈判座位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i"/>
          <p:cNvPicPr/>
          <p:nvPr/>
        </p:nvPicPr>
        <p:blipFill>
          <a:blip r:embed="rId1"/>
          <a:stretch/>
        </p:blipFill>
        <p:spPr>
          <a:xfrm>
            <a:off x="3733920" y="914400"/>
            <a:ext cx="4425840" cy="524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F05D-4016-41AF-858E-61115545B7A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轿车座位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j"/>
          <p:cNvPicPr/>
          <p:nvPr/>
        </p:nvPicPr>
        <p:blipFill>
          <a:blip r:embed="rId1"/>
          <a:stretch/>
        </p:blipFill>
        <p:spPr>
          <a:xfrm>
            <a:off x="2971800" y="1628640"/>
            <a:ext cx="5508720" cy="465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51D3-A9C2-439B-8072-3D60EB090FF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目录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66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 u="sng">
                <a:solidFill>
                  <a:srgbClr val="3366ff"/>
                </a:solidFill>
                <a:uFillTx/>
                <a:latin typeface="宋体"/>
                <a:ea typeface="黑体"/>
                <a:hlinkClick r:id="rId1"/>
              </a:rPr>
              <a:t>第一章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礼仪概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3366ff"/>
                </a:solidFill>
                <a:uFillTx/>
                <a:latin typeface="宋体"/>
                <a:ea typeface="黑体"/>
                <a:hlinkClick r:id="rId2"/>
              </a:rPr>
              <a:t>第二章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形态礼仪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2400" spc="-1" strike="noStrike" u="sng">
                <a:solidFill>
                  <a:srgbClr val="3366ff"/>
                </a:solidFill>
                <a:uFillTx/>
                <a:latin typeface="宋体"/>
                <a:hlinkClick r:id="rId3"/>
              </a:rPr>
              <a:t>第三章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交谈礼仪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3366ff"/>
                </a:solidFill>
                <a:uFillTx/>
                <a:latin typeface="宋体"/>
                <a:ea typeface="黑体"/>
                <a:hlinkClick r:id="rId4"/>
              </a:rPr>
              <a:t>第四章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服饰礼仪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3366ff"/>
                </a:solidFill>
                <a:latin typeface="宋体"/>
              </a:rPr>
              <a:t>第五章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人际关系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4876920" y="1371600"/>
            <a:ext cx="3848040" cy="4876920"/>
            <a:chOff x="4876920" y="1371600"/>
            <a:chExt cx="3848040" cy="4876920"/>
          </a:xfrm>
        </p:grpSpPr>
        <p:pic>
          <p:nvPicPr>
            <p:cNvPr id="70" name="Picture 5" descr="Untitled"/>
            <p:cNvPicPr/>
            <p:nvPr/>
          </p:nvPicPr>
          <p:blipFill>
            <a:blip r:embed="rId5"/>
            <a:stretch/>
          </p:blipFill>
          <p:spPr>
            <a:xfrm>
              <a:off x="5486400" y="1371600"/>
              <a:ext cx="1683000" cy="19810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1" name="Picture 6" descr="Untitled"/>
            <p:cNvPicPr/>
            <p:nvPr/>
          </p:nvPicPr>
          <p:blipFill>
            <a:blip r:embed="rId6"/>
            <a:stretch/>
          </p:blipFill>
          <p:spPr>
            <a:xfrm>
              <a:off x="6705720" y="3581280"/>
              <a:ext cx="2019240" cy="2438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2" name="Picture 7" descr="Untitled"/>
            <p:cNvPicPr/>
            <p:nvPr/>
          </p:nvPicPr>
          <p:blipFill>
            <a:blip r:embed="rId7"/>
            <a:stretch/>
          </p:blipFill>
          <p:spPr>
            <a:xfrm>
              <a:off x="4876920" y="4114800"/>
              <a:ext cx="1693800" cy="21337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</p:spTree>
  </p:cSld>
  <p:transition spd="med">
    <p:random/>
    <p:sndAc>
      <p:stSnd>
        <p:snd r:embed="rId8" name="CAMERA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8213-7ED2-4548-A6C8-7A2F001D7A90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礼貌送客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礼貌送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客户表示告辞后，主方再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言语、行动送客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言语——热情的感谢语、告别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行动——周到的服务（取、穿衣帽，帮提重物等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礼貌身送（适情应对）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热情告别（握手、话语、挥手致意等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送客常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低层送到大门口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499"/>
              </a:spcBef>
              <a:buClr>
                <a:srgbClr val="ffff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高层送到电梯口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499"/>
              </a:spcBef>
              <a:buClr>
                <a:srgbClr val="ffff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有车送到车离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33D8-AFDC-45B9-98ED-6DC48979B77B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Untitled"/>
          <p:cNvPicPr/>
          <p:nvPr/>
        </p:nvPicPr>
        <p:blipFill>
          <a:blip r:embed="rId1"/>
          <a:srcRect l="0" t="0" r="4996" b="0"/>
          <a:stretch/>
        </p:blipFill>
        <p:spPr>
          <a:xfrm>
            <a:off x="5943600" y="4495680"/>
            <a:ext cx="2895480" cy="18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国际礼宾次序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指国际交往时出席活动的国家、团体、各国人士的位次按某些规则和惯例进行排列的先后次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按外宾的身份与职务的高低顺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常用在官方活动中。团体以团长的身份和职务来排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按参加国国名的字母顺序排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常用在国际会议和体育比赛中。多用英文字母顺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按派遣国通知东道主代表团组成的日期排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有时也按到达地时间先后来排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几种方法结合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字母相同，再按身份排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237A-29D8-420F-84F1-4A09D60E082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站姿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垂手站姿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身体挺拢，抬头沉肩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挺胸收腹，双腿并拢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收下颌，双目平视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d"/>
          <p:cNvPicPr/>
          <p:nvPr/>
        </p:nvPicPr>
        <p:blipFill>
          <a:blip r:embed="rId1"/>
          <a:stretch/>
        </p:blipFill>
        <p:spPr>
          <a:xfrm>
            <a:off x="4876920" y="990720"/>
            <a:ext cx="373212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64AF-0144-47B2-B3E2-4EC84012340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交手，背手站姿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前交手站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交手站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前手站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背手站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0"/>
          <p:cNvPicPr/>
          <p:nvPr/>
        </p:nvPicPr>
        <p:blipFill>
          <a:blip r:embed="rId1"/>
          <a:stretch/>
        </p:blipFill>
        <p:spPr>
          <a:xfrm>
            <a:off x="3352680" y="1828800"/>
            <a:ext cx="5410440" cy="4505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317D-32E4-4953-A572-A88924FE8D7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坐姿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坐是一种静态造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落坐要先看好位置，轻稳入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坐姿要给人安祥端庄的形象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BD07153_"/>
          <p:cNvPicPr/>
          <p:nvPr/>
        </p:nvPicPr>
        <p:blipFill>
          <a:blip r:embed="rId1"/>
          <a:stretch/>
        </p:blipFill>
        <p:spPr>
          <a:xfrm>
            <a:off x="5943600" y="2971800"/>
            <a:ext cx="2843280" cy="3111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E39D-FBD9-45F8-AB96-B593C15365B6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垂直式坐姿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腰背挺直，双肩放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女士双膝并拢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男士膝部分开不超过肩宽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a"/>
          <p:cNvPicPr/>
          <p:nvPr/>
        </p:nvPicPr>
        <p:blipFill>
          <a:blip r:embed="rId1"/>
          <a:stretch/>
        </p:blipFill>
        <p:spPr>
          <a:xfrm>
            <a:off x="5105520" y="2057400"/>
            <a:ext cx="3803400" cy="396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7AA1-0168-4EEF-82F7-98FDF5F5F568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侧坐姿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双膝并紧，双脚同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左放或右放，尤其适宜矮座位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3"/>
          <p:cNvPicPr/>
          <p:nvPr/>
        </p:nvPicPr>
        <p:blipFill>
          <a:blip r:embed="rId1"/>
          <a:stretch/>
        </p:blipFill>
        <p:spPr>
          <a:xfrm>
            <a:off x="990720" y="2895480"/>
            <a:ext cx="7554960" cy="3530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EDDC-09E5-4760-AD9B-089AFE256EC2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重叠式坐姿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膝处重迭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架起的腿不能翅起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更不能摇动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女士要尽力使架起的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腿与支地腿平行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不翅脚尖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h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4295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4C49-DF22-4803-936E-97E02E01FDA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交叉式坐姿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双脚踝交叉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或前伸或后屈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只前脚掌着地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c"/>
          <p:cNvPicPr/>
          <p:nvPr/>
        </p:nvPicPr>
        <p:blipFill>
          <a:blip r:embed="rId1"/>
          <a:stretch/>
        </p:blipFill>
        <p:spPr>
          <a:xfrm>
            <a:off x="3581280" y="2286000"/>
            <a:ext cx="5303880" cy="4060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0FF2-C5D0-40B6-8E63-D1D8B654334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开关式坐姿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女士双膝并紧，两小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前后分开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两脚在一条线上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男士可采取前后分开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也可左右分开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b"/>
          <p:cNvPicPr/>
          <p:nvPr/>
        </p:nvPicPr>
        <p:blipFill>
          <a:blip r:embed="rId1"/>
          <a:stretch/>
        </p:blipFill>
        <p:spPr>
          <a:xfrm>
            <a:off x="4648320" y="2362320"/>
            <a:ext cx="4267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849B-C5F7-4A24-9979-82E4C5D1B4A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第一章 礼仪概述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礼仪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2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礼仪的重要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3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礼仪的职能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4" descr="BS00975_"/>
          <p:cNvPicPr/>
          <p:nvPr/>
        </p:nvPicPr>
        <p:blipFill>
          <a:blip r:embed="rId4"/>
          <a:stretch/>
        </p:blipFill>
        <p:spPr>
          <a:xfrm>
            <a:off x="4038480" y="3276720"/>
            <a:ext cx="4584960" cy="282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2A6F-623B-4FA2-A52F-88B2FE5CBF76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基本手势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势是体态语言中最重要的传播媒介，是通过手和手指活动传递信息，是展示自己才华和修养的重要的外在形态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势语作用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、表示形象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、表达感情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BD05537_"/>
          <p:cNvPicPr/>
          <p:nvPr/>
        </p:nvPicPr>
        <p:blipFill>
          <a:blip r:embed="rId1"/>
          <a:stretch/>
        </p:blipFill>
        <p:spPr>
          <a:xfrm>
            <a:off x="5638680" y="2895480"/>
            <a:ext cx="2646360" cy="345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D9B0-D1C3-473F-AD32-A1039961649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基本手势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势分类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情意手势：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表达动作者的表情，使其内涵丰富，寓意深刻。如：鼓掌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2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象征手势：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表示某种抽象的信念，且他人予以理解。如：宣誓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2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形象手势：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在交往中摹拟某种状物，给人一种具体、形象的感觉。如：借钱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2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指示手势：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指示具体的某项行为和事情的手势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如：请看黑板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13EC-4944-4799-8EDF-C46B69622AC5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表情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表情是从人的面貌或姿态上表达内心的思想感情，是人们内心情绪的外在表现，是形体语言中最丰富的部分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感情的表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7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书面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38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声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55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面部表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健康的表情是自然诚恳，和蔼可亲的，是一个人优雅风度的重要组成部分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面部五官表情中又以通过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“眼神”和“微笑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传递信息为主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8710-F9A6-40A1-8A05-FF39E3B4DEFA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眼神和微笑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眼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200" spc="-1" strike="noStrike">
                <a:solidFill>
                  <a:srgbClr val="ffff00"/>
                </a:solidFill>
                <a:latin typeface="Times New Roman"/>
              </a:rPr>
              <a:t>眼睛是心灵的窗口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眼神是面部表情的核心，它不会隐瞒，更不会说谎。目光接触是交往中常见的沟通方式，眼神不同，含义无穷。应真诚、坦然、亲切、有神，目光视线应落在对方双肩和头顶所构成的区域内，不应躲闪或紧盯对方眼睛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微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是真正的世界语言，能超越文化而传播，成为</a:t>
            </a:r>
            <a:r>
              <a:rPr b="1" lang="zh-CN" sz="2200" spc="-1" strike="noStrike">
                <a:solidFill>
                  <a:srgbClr val="ffff00"/>
                </a:solidFill>
                <a:latin typeface="Times New Roman"/>
              </a:rPr>
              <a:t>世界通用的货币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。交往中的微笑是对人的尊重、理解和奉献，成为增进友谊的纽带，它如润滑剂，可以化解一切，升华一切。微笑一下并不费力，却产生无穷魅力，受惠者成为富有，施予者并不变穷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473B-94A5-46FA-A3E8-B0E5D241E419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修饰避人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可在他人面前毫无顾忌地进行“某些”自我形象的维护、修饰动作，而应避开他人耳目到“幕后”进行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i="1" lang="zh-CN" sz="2600" spc="-1" strike="noStrike">
                <a:solidFill>
                  <a:srgbClr val="ff99ff"/>
                </a:solidFill>
                <a:latin typeface="Times New Roman"/>
              </a:rPr>
              <a:t>不在他人面前整理衣服。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如解开衣扣、穿脱衣服、打领带、提裤子、整理内衣、拉提长统丝袜、脱鞋弄鞋垫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i="1" lang="zh-CN" sz="2600" spc="-1" strike="noStrike">
                <a:solidFill>
                  <a:srgbClr val="ff99ff"/>
                </a:solidFill>
                <a:latin typeface="Times New Roman"/>
              </a:rPr>
              <a:t>不在他人面前化妆打扮。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如与他人交往中梳头、抖动头皮屑；在公共场所化妆补妆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8437-0B67-44BF-AF20-E77E2D81E18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修饰避人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5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i="1" lang="zh-CN" sz="2600" spc="-1" strike="noStrike">
                <a:solidFill>
                  <a:srgbClr val="ff99ff"/>
                </a:solidFill>
                <a:latin typeface="Times New Roman"/>
              </a:rPr>
              <a:t>不在他人面前做“拾掇”自己的小动作。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如那些当众献丑的抠鼻孔、挖耳朵、搓泥垢、搔痒痒、剔牙齿、抖腿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i="1" lang="zh-CN" sz="2600" spc="-1" strike="noStrike">
                <a:solidFill>
                  <a:srgbClr val="ff99ff"/>
                </a:solidFill>
                <a:latin typeface="Times New Roman"/>
              </a:rPr>
              <a:t>礼貌处理无法控制的修饰行为。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如在打喷嚏、擤鼻涕、打哈欠、咳嗽时，用纸巾捂住口鼻，面向旁边，并说声“对不起”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2C0F-B332-40B5-8F29-E2D040EA11F2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优先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在公共场所及人际交往中，男士尊重女士、牢记“女士优先”是应有的潇洒风度。表现在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上下车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进出房门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进出电梯门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上下楼梯（下楼下方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-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个台阶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在无人行道时行走（外侧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女士进出房间（帮助穿、脱、拿、挂外衣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38F7-DD80-43A6-920C-63E2B596F44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优先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有空位或入座（先请并拉推椅子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握手（女士先伸手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介绍（先介绍男干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就餐（请先尝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购物（提重物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吸烟（征得同意）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出现紧急情况（先帮女士逃生）……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A589-3F5F-4C26-9CE9-00E78B40F5D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第三章 交谈礼仪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交谈态势语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2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称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3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正式场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4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非正式场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5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称呼中三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6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电话礼仪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7"/>
              </a:rPr>
              <a:t>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581280" y="182880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8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谈话内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9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常用的礼貌用语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0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用词用语要文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1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言词的沟通技巧（讲话推销等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2"/>
              </a:rPr>
              <a:t>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交谈中的艺术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3"/>
              </a:rPr>
              <a:t>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4" name="CAMERA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AC53-DC66-4495-AD56-39393B0A682E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交谈态势语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姿态——站、坐姿优雅，手势语清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情——目光专注、注意聆听、产生共鸣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距离——美国爱德华提出四种人际交往距离（私人空间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亲密距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&lt;50cm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父母、夫妻、情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个人距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50~120cm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熟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社交距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20~360cm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联系不多的商务、公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．公众距离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360cm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以上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演讲、难于沟通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C992-D991-49B4-AB75-A9F2221A0264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礼仪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礼仪——人们在社会交往活动中应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共同遵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行为规范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准则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要表现在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000" indent="0">
              <a:spcBef>
                <a:spcPts val="60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礼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社会居民为了维持正常的生活秩序而共同遵循   的最起码 道德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000" indent="0">
              <a:spcBef>
                <a:spcPts val="60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礼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社交中迎送往来表示致意、问候、祝颂等惯用  形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000" indent="0">
              <a:spcBef>
                <a:spcPts val="60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仪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一定场合举行的具有专门程序、规范 化的活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000" indent="0">
              <a:spcBef>
                <a:spcPts val="60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仪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指人们的容貌、服饰、姿态、风度、举止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AADE-AAC7-4C04-99A5-346D1CA014B5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正式场合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姓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职称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职务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徐教授、郭厂长，爱德华公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姓名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彭华、吴兰、大卫麦肯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泛尊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同志、先生、女士、小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．职业称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泛尊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司机同志、秘书小姐、议员先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BD04956_"/>
          <p:cNvPicPr/>
          <p:nvPr/>
        </p:nvPicPr>
        <p:blipFill>
          <a:blip r:embed="rId1"/>
          <a:stretch/>
        </p:blipFill>
        <p:spPr>
          <a:xfrm>
            <a:off x="5105520" y="2590920"/>
            <a:ext cx="3811320" cy="258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2ED0-3CB6-4865-8787-B1740D05FE64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称呼中三忌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无称呼语，如说：“那个穿红大衣的过来！”，“那个背包的别走！”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用“嗨！”、“喂！”等字称呼人，如：“嗨！靠边点！”、“喂！帮我个忙。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不用尊称叫人，如把老大爷叫“老头！”、把某某叫“秃头！”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只有在称呼上尊重对方，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                           </a:t>
            </a:r>
            <a:r>
              <a:rPr b="1" lang="zh-CN" sz="36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才能继续良好的交往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F7E8-8AA6-416F-864A-573C1E1D11B1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谈话内容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题明确，围绕中心，观点鲜明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简练、不重复、不罗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言之有据，有理、求实求是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言生动，有趣味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需要时留有余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4" descr="BD05545_"/>
          <p:cNvPicPr/>
          <p:nvPr/>
        </p:nvPicPr>
        <p:blipFill>
          <a:blip r:embed="rId1"/>
          <a:stretch/>
        </p:blipFill>
        <p:spPr>
          <a:xfrm>
            <a:off x="5257800" y="3048120"/>
            <a:ext cx="3338640" cy="328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E4E0-46F0-489E-B193-E23C2485D8E1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谈话内容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涉外谈话注意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谈论隐私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谈论荒诞离奇、黄色淫秽、疾病、死亡等不愉快事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谈论双方国家内政和民族、宗教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背面议论上司、长辈、同事，回避对方不愿触及的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用共同听懂的语言，讲大家参与的内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可谈论中性的话题（天气、艺术、体育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6D89-51AE-4C00-B8D3-B983293E9C57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常用的礼貌用语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66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问候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用于见面时的问候。如“您好！”、“早上好！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告别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用于分别时的告辞或送别。如“再见。”、“晚安。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答谢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答谢语应用的范围很广，有些表示向对方的感谢，如“非常感谢！”、“劳您费心！”。有些表示向对方的应答，如“不必客气。”、“这使我应该做的。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请托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请托语常用在向他人请求。如“请问？”、“拜托您帮我个忙。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00664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道歉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做了不当的或不对的事，应该立即向对方道歉。如说“对不起，实在抱歉。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E19B-3688-443F-AF2B-EE4FD436BE70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常用的礼貌用语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9060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征询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当要为他人服务时常用征询语。如“需要我帮忙吗？”、“我能为您做些什么吗？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9060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慰问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表示对他人的关切。如他人劳累后，可说“您辛苦了！”、“望您早日康复！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9060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祝贺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当他人取得成果或有喜事，如“恭喜！”、“祝您节日愉快！”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9060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礼赞语：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对人或事表示称颂、赞美。如太好了，美极了，讲得真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906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906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DD00448_"/>
          <p:cNvPicPr/>
          <p:nvPr/>
        </p:nvPicPr>
        <p:blipFill>
          <a:blip r:embed="rId1"/>
          <a:stretch/>
        </p:blipFill>
        <p:spPr>
          <a:xfrm>
            <a:off x="4146480" y="5181480"/>
            <a:ext cx="851040" cy="952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DD00448_"/>
          <p:cNvPicPr/>
          <p:nvPr/>
        </p:nvPicPr>
        <p:blipFill>
          <a:blip r:embed="rId2"/>
          <a:stretch/>
        </p:blipFill>
        <p:spPr>
          <a:xfrm>
            <a:off x="2666880" y="5181480"/>
            <a:ext cx="851040" cy="952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DD00448_"/>
          <p:cNvPicPr/>
          <p:nvPr/>
        </p:nvPicPr>
        <p:blipFill>
          <a:blip r:embed="rId3"/>
          <a:stretch/>
        </p:blipFill>
        <p:spPr>
          <a:xfrm>
            <a:off x="5562720" y="5181480"/>
            <a:ext cx="8506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547B-D57A-4E40-9D9B-F259CED2DF4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用词用语要文雅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人们交流中，言谈用词要文雅，杜绝蔑视语、烦燥语、斗气语。有些话，意思差不多，说法不同就给人不一样的感觉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比如，请对方让开一点儿，可以用“劳驾借光”、“先生，请让一下”、“躲开”、“靠边儿”等同一关系的概念来表达。其中第二句最体现修养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4" descr="EN00349_"/>
          <p:cNvPicPr/>
          <p:nvPr/>
        </p:nvPicPr>
        <p:blipFill>
          <a:blip r:embed="rId1"/>
          <a:stretch/>
        </p:blipFill>
        <p:spPr>
          <a:xfrm>
            <a:off x="4572000" y="4572000"/>
            <a:ext cx="3517920" cy="1987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90B0-13E2-4873-A602-F5D77B66451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用词用语要文雅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6ff33"/>
                </a:solidFill>
                <a:latin typeface="Times New Roman"/>
              </a:rPr>
              <a:t>有些话，用词文雅些，既能讨人喜欢也动听多了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你找谁？”就不如</a:t>
            </a:r>
            <a:r>
              <a:rPr b="0" i="1" lang="zh-CN" sz="2400" spc="-1" strike="noStrike">
                <a:solidFill>
                  <a:srgbClr val="ff99ff"/>
                </a:solidFill>
                <a:latin typeface="Times New Roman"/>
              </a:rPr>
              <a:t>“您找哪一位？”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好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来不了”就不如</a:t>
            </a:r>
            <a:r>
              <a:rPr b="0" i="1" lang="zh-CN" sz="2400" spc="-1" strike="noStrike">
                <a:solidFill>
                  <a:srgbClr val="ff99ff"/>
                </a:solidFill>
                <a:latin typeface="Times New Roman"/>
              </a:rPr>
              <a:t>“真对不起，我确实不能来”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诚恳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不行就算了！”就不如</a:t>
            </a:r>
            <a:r>
              <a:rPr b="0" i="1" lang="zh-CN" sz="2400" spc="-1" strike="noStrike">
                <a:solidFill>
                  <a:srgbClr val="ff99ff"/>
                </a:solidFill>
                <a:latin typeface="Times New Roman"/>
              </a:rPr>
              <a:t>“如果觉得有困难的话，那就不麻烦您了。”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妥帖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干不了”——不如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- - -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有事吗？”——不如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- - -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5FBF-41F1-4181-AF80-91604B8E698E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言词的沟通技巧（讲话推销等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声音大小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全场听得见，声音有强弱变化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讲话速度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快慢适中，约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100-120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字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分钟，重要地方放慢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音调变化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根据内容改变，有高昂、有低沉，配合面部表情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重音运用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在关键性词句上加强，时而轻松叙述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7F11-ECBE-417D-B372-A13B34FD8D4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言词的沟通技巧（讲话推销等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顿挫使用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短暂的顿挫促使听者期待或思考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措辞格调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通俗易懂，深入浅出，避免粗俗或咬文嚼字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逻辑顺序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先后成章，不颠三倒四，举例后能回到中心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．情绪修饰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要有表演者精神，依内容体现情意，吸引听众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7644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677A-7572-482D-954C-376A228A8CF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2" descr="Untitled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3657600"/>
            <a:ext cx="7391520" cy="2577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礼仪的重要性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</a:rPr>
              <a:t>一、适应对外开放的需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</a:rPr>
              <a:t>二、适应市场经济发展的需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</a:rPr>
              <a:t>三、适应交往中做现代文明人的需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BC03-FFDA-4867-919C-A0D4D7082BA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交谈中的艺术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耐心倾听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耐心、目光关注，不轻易打断，及时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予以回应，不显烦燥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善于提问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能打开僵局和沉默，善于诱导启发和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提出话题，转到中心主题上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调动气氛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用语言、语调、言词内容，个人情意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营造谈话气氛，调动对方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幽默处理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通过语言反常组合构造幽默意境，祛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除忧虑愁闷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3502-DD78-4DCC-9653-6AB02301CB5B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交谈中的艺术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委婉含蓄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用不直接提及事情不愉快的侧面言词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来替代令人不悦的内涵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模糊回避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在某些语境和环境用宽慰式、回避式、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选择式模糊语言传递信息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言行暗示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通过语言、行为或其它符号把自己的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意向传递给他人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拒绝艺术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通过沉默、转折、诱导等方法否定，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不直接说“不”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C3AA-E3C3-4E7A-B48B-5917AAD51826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电话应对基本礼仪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听到铃响，快接电话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先要问好，再报名称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姿态正确，微笑说话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语调稍高，吐字清楚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听话认真，礼貌应答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通话简练，等候要短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礼告结束，后挂轻放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Untitled"/>
          <p:cNvPicPr/>
          <p:nvPr/>
        </p:nvPicPr>
        <p:blipFill>
          <a:blip r:embed="rId1"/>
          <a:srcRect l="24708" t="0" r="17644" b="0"/>
          <a:stretch/>
        </p:blipFill>
        <p:spPr>
          <a:xfrm>
            <a:off x="5181480" y="1905120"/>
            <a:ext cx="3200400" cy="336528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870F-F2F0-44A1-91C0-1479AA2272A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打出电话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准备通话内容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W2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确定通话方向：代码、号码、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礼貌对话：称呼、应对、礼貌用语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话精炼：少影响他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礼告结束：告别用语，轻挂、后挂电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B799-5A5C-4B20-A8E6-64D9F4D9AB6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转接电话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他人、同事电话，有礼接待，礼貌转交，接电话要要礼貌地向转接人表示“谢谢”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事外出，代接处理电话并留言备忘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上司电话，先确认对方姓名和身份，再动脑判断，应对或转交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57A2-D696-45D5-A066-5BE865B6894A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电话留言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动请对方留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边备有便笺、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笔录牢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W2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对方的联络号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注意复述核查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落上自己的名字、时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放到适当位置（防丢或需保密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确认及时收到留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次提醒当事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79DE-9867-42CE-8B26-215A6626F0AB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备忘的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6W2H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7680" indent="0"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何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电人的姓名、先生、女士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7680" indent="0"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HO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找何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姓名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7680" indent="0"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HW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何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电提及的日期、时间和来电时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7680" indent="0"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HER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何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电提及的地点、场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103A-E2DC-4CA2-AB7A-112C1C40350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备忘的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6W2H 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何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电提及的内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何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电提及的因由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OW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何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法、要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OW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UC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做多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F2DD-FBF6-41D5-9FEB-9D0F7F2306C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处理不满意电话的技巧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、首先平定自己的情绪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耐心聆听，少插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平服对方情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听到恶语不急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真诚致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、解决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主动表示出解决的态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及时应对，提出办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愉快结束通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1914-E230-4AB0-AA5C-5E5C3266C2D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第四章</a:t>
            </a:r>
            <a:r>
              <a:rPr b="1" lang="en-US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服饰礼仪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TPO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着装原则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2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服饰三美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3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色彩搭配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4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男士服饰仪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5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女士服饰仪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4" descr="PE02622_"/>
          <p:cNvPicPr/>
          <p:nvPr/>
        </p:nvPicPr>
        <p:blipFill>
          <a:blip r:embed="rId6"/>
          <a:stretch/>
        </p:blipFill>
        <p:spPr>
          <a:xfrm>
            <a:off x="4572000" y="2743200"/>
            <a:ext cx="399744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7316-B643-40DB-9E93-2AEFA97A0EB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礼仪的职能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03240" indent="0">
              <a:spcBef>
                <a:spcPts val="649"/>
              </a:spcBef>
              <a:buNone/>
              <a:tabLst>
                <a:tab algn="l" pos="0"/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国家形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体现一个国家和民族文明程度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经济实力的重要标志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0"/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0"/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组织形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由为实现组织总目标而汇集的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一群人共同塑造的大窗口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0"/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0"/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个人形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显示一个人道德水准和自身修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0"/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养高低的尺度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03240" indent="0">
              <a:spcBef>
                <a:spcPts val="649"/>
              </a:spcBef>
              <a:buNone/>
              <a:tabLst>
                <a:tab algn="l" pos="208764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556E-70BA-4F8B-B1FC-EAF34D98BEA2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TPO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着装原则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T——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TIME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）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穿着要注意年代、季节和一日的各段时间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P——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PLACE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）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穿着要适宜场所、地点环境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O——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OBJECT</a:t>
            </a:r>
            <a:r>
              <a:rPr b="1" lang="zh-CN" sz="2200" spc="-1" strike="noStrike">
                <a:solidFill>
                  <a:srgbClr val="ff99ff"/>
                </a:solidFill>
                <a:latin typeface="Times New Roman"/>
              </a:rPr>
              <a:t>）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穿着要考虑此去的目的及穿衣对象的状况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因此，服装大致可分为：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Times New Roman"/>
                <a:ea typeface="隶书"/>
              </a:rPr>
              <a:t>上班型——通常恪守传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Times New Roman"/>
                <a:ea typeface="隶书"/>
              </a:rPr>
              <a:t>社交型——通常追求新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Times New Roman"/>
                <a:ea typeface="隶书"/>
              </a:rPr>
              <a:t>休闲型——通常图个舒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Times New Roman"/>
                <a:ea typeface="隶书"/>
              </a:rPr>
              <a:t>专用型——严格遵照岗位要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各类自成一体，不可混淆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3553-A4E8-4F3D-95C8-EBEE5FBF5CE8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服饰三美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8160">
              <a:spcBef>
                <a:spcPts val="55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形——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款式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造型和谐巧妙塑造人体形象美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8160">
              <a:spcBef>
                <a:spcPts val="55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色——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色彩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色彩和谐使他人产生良好的心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       理效应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8160">
              <a:spcBef>
                <a:spcPts val="55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质——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质料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面料的质感直接影响服饰造型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       与色彩的效果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4" descr="BK00030_"/>
          <p:cNvPicPr/>
          <p:nvPr/>
        </p:nvPicPr>
        <p:blipFill>
          <a:blip r:embed="rId1"/>
          <a:stretch/>
        </p:blipFill>
        <p:spPr>
          <a:xfrm>
            <a:off x="3851280" y="4419720"/>
            <a:ext cx="1440000" cy="1866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BK00030_"/>
          <p:cNvPicPr/>
          <p:nvPr/>
        </p:nvPicPr>
        <p:blipFill>
          <a:blip r:embed="rId2"/>
          <a:stretch/>
        </p:blipFill>
        <p:spPr>
          <a:xfrm>
            <a:off x="2286000" y="4419720"/>
            <a:ext cx="1440000" cy="1866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BK00030_"/>
          <p:cNvPicPr/>
          <p:nvPr/>
        </p:nvPicPr>
        <p:blipFill>
          <a:blip r:embed="rId3"/>
          <a:stretch/>
        </p:blipFill>
        <p:spPr>
          <a:xfrm>
            <a:off x="5410080" y="4419720"/>
            <a:ext cx="1440000" cy="1866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96D8-4DF1-4EC6-8B08-5F4A8C2C03E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服饰三美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办公室职业人员的服装应简洁大方，使人感到稳重、端庄，高雅无华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办公室职业人员的服装应色泽柔和，使人感到成熟可信，平易近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白领在办公室应注意不能穿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ff66"/>
                </a:solidFill>
                <a:latin typeface="Times New Roman"/>
              </a:rPr>
              <a:t>“</a:t>
            </a:r>
            <a:r>
              <a:rPr b="1" i="1" lang="zh-CN" sz="2800" spc="-1" strike="noStrike">
                <a:solidFill>
                  <a:srgbClr val="99ff66"/>
                </a:solidFill>
                <a:latin typeface="Times New Roman"/>
              </a:rPr>
              <a:t>紧”、“透”、“露”、“运”、“闲”、“牛”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5BEB-39DC-444F-BA38-01659C20D551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色彩搭配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要方法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同色搭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色彩相同，通过明度有层次变化相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搭配造成和谐效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浅蓝和深蓝；浅绿和深绿，一般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浅下深，上明下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近色搭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色环上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度以内的邻近色、相似色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配形成协调效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绿和蓝中的浅绿和深蓝，黄和绿中的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淡黄和深绿，两色的明度和纯度须错开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深一浅较和谐，鲜绿配明黄就刺眼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EAE0-5159-4613-AD41-6ABEC3A3C946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色彩搭配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主色搭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选定一种起主导作用的基调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色，配于其他色造成相互陪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衬、相映成趣之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灰色主色服装中加一道深红装饰色，就很悦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主色起决定影响，装饰色越少越鲜明，多处加色、加多种色就俗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C7C4-B4D3-47D1-BB30-3132909A8A42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男士服饰仪容（一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腰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长短适中，余下部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厘米左右，讲究些可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手表、皮鞋颜色一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袜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每日换洗，色与鞋配，黑鞋深色袜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前包后包式样，最好皮底，色与裤配，正规西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服为系带皮鞋，清洁  亮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饰物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少、内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5B69-21B8-46BC-8556-71A66DA7FC78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2" descr="Untitled"/>
          <p:cNvPicPr/>
          <p:nvPr/>
        </p:nvPicPr>
        <p:blipFill>
          <a:blip r:embed="rId1"/>
          <a:stretch/>
        </p:blipFill>
        <p:spPr>
          <a:xfrm>
            <a:off x="5148360" y="1219320"/>
            <a:ext cx="3995640" cy="53337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男士服饰仪容（二）——西装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上装——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身长过虎口，袖长达手腕（比衬衫袖短），肥瘦合体有型，穿好后，衬衫领应高过西装领口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（两露白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着西装，忌衬衫下摆外露，袖不扣紧或翻卷，内着高领衫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胸袋和两侧口袋为装饰袋，不装或很少装物，内侧两袋为实用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9FC8-A3AA-4244-8078-9400FD800664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男士服饰仪容（二）——西装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粒扣系上扣，三粒扣系上或中扣，单排扣可敝开，双排扣立式系紧，坐姿可敞开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深色西装高雅庄重，适宜各种场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保持清洁，平整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西裤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合体有型，裤脚达脚背，盖过鞋后沿，腰间以插入一手为宜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西侧袋为装饰袋，后袋为实用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色泽、质地与上装一致为好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49CD-12F1-437D-844E-7CE9457AC812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一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脸部基本比例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4" descr="k"/>
          <p:cNvPicPr/>
          <p:nvPr/>
        </p:nvPicPr>
        <p:blipFill>
          <a:blip r:embed="rId1"/>
          <a:stretch/>
        </p:blipFill>
        <p:spPr>
          <a:xfrm>
            <a:off x="4343400" y="137160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54E4-889D-4407-B7E0-47FBE6ABC8F2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二）</a:t>
            </a:r>
            <a:br>
              <a:rPr sz="4000"/>
            </a:b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美发、护肤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头发护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梳理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理顺头发，促进血液循环和皮脂分泌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清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用适宜洗发剂清除污垢，注意水质、温度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揉搓、风干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养护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补充营养，提高生理机能，如用护发素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锔油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造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通过吹、烫、或定型剂等整理成型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78DD-603F-4B8A-9809-DDE1FE74D84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第二章 形态礼仪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1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约会     姿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2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致意     手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3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握手     表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4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介绍     修饰避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5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递接名片 女士优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66ff"/>
                </a:solidFill>
                <a:uFillTx/>
                <a:latin typeface="Wingdings"/>
                <a:ea typeface="Wingdings"/>
                <a:hlinkClick r:id="rId6"/>
              </a:rPr>
              <a:t>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亲切迎客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热情待客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礼貌送客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BD05584_"/>
          <p:cNvPicPr/>
          <p:nvPr/>
        </p:nvPicPr>
        <p:blipFill>
          <a:blip r:embed="rId7"/>
          <a:stretch/>
        </p:blipFill>
        <p:spPr>
          <a:xfrm>
            <a:off x="5638680" y="2514600"/>
            <a:ext cx="258948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8" name="CAMERA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4CB6-0F72-4CFD-8837-79D31CF8E6C8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皮肤性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干性、中性、油性、混合性、过敏性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面部护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洁肤（专用洗面奶或清洁霜，用手指由内向外、由下向上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紧肤（油性）或爽肤（干性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润肤（保持滋润，防止干裂和光照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皮肤保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增加营养，保持水份，充足睡眠，减少暴晒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二）</a:t>
            </a:r>
            <a:br>
              <a:rPr sz="4000"/>
            </a:b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美发、护肤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EEF6-C8DA-408B-8466-7E6DFEF6498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三）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淡妆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职业女性上班应化淡妆，不仅对别人是一种尊重，也使自己更充满活力与信心，给生活增添光彩。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化妆要突出自然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——妆色柔和，不露化妆痕迹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化妆要扬长避短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——自我分析是前提，通过化妆巧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妙掩饰不足，突出优点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化妆要充分体现个体的气质和性格，用化妆品体现魅力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ff66"/>
                </a:solidFill>
                <a:latin typeface="Times New Roman"/>
              </a:rPr>
              <a:t>运用色彩造型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——明暗起伏，凹凸变化，引导切割，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错觉效应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29C5-7D7F-4192-AF35-4C3DC2FD7849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三）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淡妆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66"/>
                </a:solidFill>
                <a:latin typeface="Times New Roman"/>
              </a:rPr>
              <a:t>快速化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备齐化妆品，清洁面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粉底、腮红（调整和改变肤色，轻柔向上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外抹匀）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梳理、修眉、打底、描眉（注意色泽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深浅、粗细）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涂眼影（内到外眼角、注意色泽）、画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线（紧贴睫毛根、注意矫形化妆）、卷睫毛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由内向外，由下向上）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先勾唇线、后涂唇膏、加亮点、去浮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9B5B-2C3D-43FE-9B18-F419F3F4DBDB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四）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服饰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女士办公室服装选择余地极为广阔，裙装、裤装均可，其中以着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西装套裙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最宜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衣服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最好每天变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但不需很多，购衣时要考虑相互关系，让几件衣服搭配出许多花样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衣服要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平整干净，款式大方，色泽与环境相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保持</a:t>
            </a: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整体和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内、外衣；上、下装；衣与妆；衣与鞋袜，衣与饰物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9DB3-C273-41D6-AFAF-C0E66F6D9110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四）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服饰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西式套裙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裙长一般至膝上一拳，年长者，冷天可过膝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置一套单色素色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套裙或长裙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适宜严肃、正规的场合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袜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要求不露袜口，弹性好，裙装通常穿肉色无花透明丝袜，冷天也可穿与裙色相配的深色袜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D080-F2AC-453E-82D7-175EBC1756A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女士服饰仪容（四）</a:t>
            </a:r>
            <a:r>
              <a:rPr b="0" lang="zh-CN" sz="3600" spc="-1" strike="noStrike" u="sng">
                <a:solidFill>
                  <a:srgbClr val="ffcc66"/>
                </a:solidFill>
                <a:uFillTx/>
                <a:latin typeface="Times New Roman"/>
              </a:rPr>
              <a:t>——服饰</a:t>
            </a:r>
            <a:endParaRPr b="1" lang="en-US" sz="36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可穿前包后包或前包后露式样，最好穿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跟船型单色皮鞋，色与衣相配，或黑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色鞋，清洁擦亮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饰物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最多不超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件，要与服装、体貌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环境和谐和，饰物间也要相配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指甲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清洁，不涂怪色，长短方便工作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气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香气不浓不怪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9FAE-FA90-41BE-95B2-306D26F822C2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第五章  人际关系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人际关系状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同事相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上司相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8AA4-B1D6-421D-8CAF-7B8AF07D877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人际关系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人际关系是指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在社会活动中，人们相互间所结成的各种关系，也可以说是反映人与人之间心理上的距离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人际关系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Group 4"/>
          <p:cNvGrpSpPr/>
          <p:nvPr/>
        </p:nvGrpSpPr>
        <p:grpSpPr>
          <a:xfrm>
            <a:off x="2438280" y="3657600"/>
            <a:ext cx="4267080" cy="2666520"/>
            <a:chOff x="2438280" y="3657600"/>
            <a:chExt cx="4267080" cy="2666520"/>
          </a:xfrm>
        </p:grpSpPr>
        <p:sp>
          <p:nvSpPr>
            <p:cNvPr id="329" name="Oval 5"/>
            <p:cNvSpPr/>
            <p:nvPr/>
          </p:nvSpPr>
          <p:spPr>
            <a:xfrm>
              <a:off x="3981600" y="476100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Oval 6"/>
            <p:cNvSpPr/>
            <p:nvPr/>
          </p:nvSpPr>
          <p:spPr>
            <a:xfrm>
              <a:off x="3981600" y="365760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主管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Oval 7"/>
            <p:cNvSpPr/>
            <p:nvPr/>
          </p:nvSpPr>
          <p:spPr>
            <a:xfrm>
              <a:off x="3981600" y="577260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朋友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Oval 8"/>
            <p:cNvSpPr/>
            <p:nvPr/>
          </p:nvSpPr>
          <p:spPr>
            <a:xfrm>
              <a:off x="2438280" y="411696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同事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2438280" y="503676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家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616000" y="411696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客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616000" y="5036760"/>
              <a:ext cx="1089360" cy="55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Times New Roman"/>
                </a:rPr>
                <a:t>供应商</a:t>
              </a:r>
              <a:endParaRPr b="1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12"/>
            <p:cNvSpPr/>
            <p:nvPr/>
          </p:nvSpPr>
          <p:spPr>
            <a:xfrm>
              <a:off x="5162040" y="3933360"/>
              <a:ext cx="45360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Line 13"/>
            <p:cNvSpPr/>
            <p:nvPr/>
          </p:nvSpPr>
          <p:spPr>
            <a:xfrm flipH="1">
              <a:off x="3527280" y="4025520"/>
              <a:ext cx="363240" cy="183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Line 14"/>
            <p:cNvSpPr/>
            <p:nvPr/>
          </p:nvSpPr>
          <p:spPr>
            <a:xfrm>
              <a:off x="2982960" y="4668840"/>
              <a:ext cx="0" cy="36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15"/>
            <p:cNvSpPr/>
            <p:nvPr/>
          </p:nvSpPr>
          <p:spPr>
            <a:xfrm>
              <a:off x="6251760" y="4668840"/>
              <a:ext cx="0" cy="36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16"/>
            <p:cNvSpPr/>
            <p:nvPr/>
          </p:nvSpPr>
          <p:spPr>
            <a:xfrm>
              <a:off x="3346200" y="5588640"/>
              <a:ext cx="544680" cy="36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17"/>
            <p:cNvSpPr/>
            <p:nvPr/>
          </p:nvSpPr>
          <p:spPr>
            <a:xfrm flipH="1">
              <a:off x="5161680" y="5588640"/>
              <a:ext cx="635400" cy="36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Line 18"/>
            <p:cNvSpPr/>
            <p:nvPr/>
          </p:nvSpPr>
          <p:spPr>
            <a:xfrm>
              <a:off x="4526280" y="4209120"/>
              <a:ext cx="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19"/>
            <p:cNvSpPr/>
            <p:nvPr/>
          </p:nvSpPr>
          <p:spPr>
            <a:xfrm>
              <a:off x="4526280" y="5312880"/>
              <a:ext cx="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Line 20"/>
            <p:cNvSpPr/>
            <p:nvPr/>
          </p:nvSpPr>
          <p:spPr>
            <a:xfrm flipV="1">
              <a:off x="3618720" y="5128920"/>
              <a:ext cx="362880" cy="9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21"/>
            <p:cNvSpPr/>
            <p:nvPr/>
          </p:nvSpPr>
          <p:spPr>
            <a:xfrm>
              <a:off x="3527640" y="4577040"/>
              <a:ext cx="36324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22"/>
            <p:cNvSpPr/>
            <p:nvPr/>
          </p:nvSpPr>
          <p:spPr>
            <a:xfrm flipH="1">
              <a:off x="5161680" y="4577040"/>
              <a:ext cx="54468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Line 23"/>
            <p:cNvSpPr/>
            <p:nvPr/>
          </p:nvSpPr>
          <p:spPr>
            <a:xfrm>
              <a:off x="5162040" y="5128920"/>
              <a:ext cx="453600" cy="183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  <p:sndAc>
      <p:stSnd>
        <p:snd r:embed="rId1" name="CAMERA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7FFB-D8C7-45E9-BB0B-6891EFA041DE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促进人际吸引的形式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接近性吸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空间距离近，见面机会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相似性吸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处事态度相似，感情融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互补性吸引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满足需要，我无换他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报答性吸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他对你好，报之以琼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仪表性吸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仪表诱人，第一印象好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F4BE-0EF7-4F0E-AB55-909B5F89EEBE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气质类型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4"/>
          <p:cNvGrpSpPr/>
          <p:nvPr/>
        </p:nvGrpSpPr>
        <p:grpSpPr>
          <a:xfrm>
            <a:off x="1303920" y="1066680"/>
            <a:ext cx="6536160" cy="5524200"/>
            <a:chOff x="1303920" y="1066680"/>
            <a:chExt cx="6536160" cy="5524200"/>
          </a:xfrm>
        </p:grpSpPr>
        <p:grpSp>
          <p:nvGrpSpPr>
            <p:cNvPr id="355" name="Group 5"/>
            <p:cNvGrpSpPr/>
            <p:nvPr/>
          </p:nvGrpSpPr>
          <p:grpSpPr>
            <a:xfrm>
              <a:off x="1303920" y="1066680"/>
              <a:ext cx="6536160" cy="5524200"/>
              <a:chOff x="1303920" y="1066680"/>
              <a:chExt cx="6536160" cy="5524200"/>
            </a:xfrm>
          </p:grpSpPr>
          <p:grpSp>
            <p:nvGrpSpPr>
              <p:cNvPr id="356" name="Group 6"/>
              <p:cNvGrpSpPr/>
              <p:nvPr/>
            </p:nvGrpSpPr>
            <p:grpSpPr>
              <a:xfrm>
                <a:off x="2506680" y="1909800"/>
                <a:ext cx="4038480" cy="4038480"/>
                <a:chOff x="2506680" y="1909800"/>
                <a:chExt cx="4038480" cy="4038480"/>
              </a:xfrm>
            </p:grpSpPr>
            <p:sp>
              <p:nvSpPr>
                <p:cNvPr id="357" name="Oval 7"/>
                <p:cNvSpPr/>
                <p:nvPr/>
              </p:nvSpPr>
              <p:spPr>
                <a:xfrm>
                  <a:off x="2506680" y="1909800"/>
                  <a:ext cx="4038480" cy="4038480"/>
                </a:xfrm>
                <a:prstGeom prst="ellipse">
                  <a:avLst/>
                </a:prstGeom>
                <a:solidFill>
                  <a:srgbClr val="3366ff"/>
                </a:solidFill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Line 8"/>
                <p:cNvSpPr/>
                <p:nvPr/>
              </p:nvSpPr>
              <p:spPr>
                <a:xfrm>
                  <a:off x="2506680" y="3890880"/>
                  <a:ext cx="40384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Line 9"/>
                <p:cNvSpPr/>
                <p:nvPr/>
              </p:nvSpPr>
              <p:spPr>
                <a:xfrm>
                  <a:off x="4564080" y="1909800"/>
                  <a:ext cx="0" cy="40384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0"/>
              <p:cNvGrpSpPr/>
              <p:nvPr/>
            </p:nvGrpSpPr>
            <p:grpSpPr>
              <a:xfrm>
                <a:off x="1303920" y="1066680"/>
                <a:ext cx="6536160" cy="5524200"/>
                <a:chOff x="1303920" y="1066680"/>
                <a:chExt cx="6536160" cy="5524200"/>
              </a:xfrm>
            </p:grpSpPr>
            <p:sp>
              <p:nvSpPr>
                <p:cNvPr id="361" name="Text Box 11"/>
                <p:cNvSpPr/>
                <p:nvPr/>
              </p:nvSpPr>
              <p:spPr>
                <a:xfrm>
                  <a:off x="4215240" y="106668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99ff66"/>
                      </a:solidFill>
                      <a:latin typeface="Times New Roman"/>
                    </a:rPr>
                    <a:t>过敏</a:t>
                  </a:r>
                  <a:endParaRPr b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12"/>
                <p:cNvSpPr/>
                <p:nvPr/>
              </p:nvSpPr>
              <p:spPr>
                <a:xfrm>
                  <a:off x="1303920" y="358128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ff99ff"/>
                      </a:solidFill>
                      <a:latin typeface="Times New Roman"/>
                    </a:rPr>
                    <a:t>内向</a:t>
                  </a:r>
                  <a:endParaRPr b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Text Box 13"/>
                <p:cNvSpPr/>
                <p:nvPr/>
              </p:nvSpPr>
              <p:spPr>
                <a:xfrm>
                  <a:off x="7110720" y="358128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ff99ff"/>
                      </a:solidFill>
                      <a:latin typeface="Times New Roman"/>
                    </a:rPr>
                    <a:t>外向</a:t>
                  </a:r>
                  <a:endParaRPr b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Text Box 14"/>
                <p:cNvSpPr/>
                <p:nvPr/>
              </p:nvSpPr>
              <p:spPr>
                <a:xfrm>
                  <a:off x="4215240" y="594828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99ff66"/>
                      </a:solidFill>
                      <a:latin typeface="Times New Roman"/>
                    </a:rPr>
                    <a:t>稳定</a:t>
                  </a:r>
                  <a:endParaRPr b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" name="Rectangle 15"/>
            <p:cNvSpPr/>
            <p:nvPr/>
          </p:nvSpPr>
          <p:spPr>
            <a:xfrm>
              <a:off x="3268800" y="2671560"/>
              <a:ext cx="9144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抑郁质</a:t>
              </a:r>
              <a:br>
                <a:rPr sz="2400"/>
              </a:b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弱型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Rectangle 16"/>
            <p:cNvSpPr/>
            <p:nvPr/>
          </p:nvSpPr>
          <p:spPr>
            <a:xfrm>
              <a:off x="5097600" y="2747880"/>
              <a:ext cx="91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胆汁质</a:t>
              </a:r>
              <a:br>
                <a:rPr sz="2400"/>
              </a:b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不可抑制型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Rectangle 17"/>
            <p:cNvSpPr/>
            <p:nvPr/>
          </p:nvSpPr>
          <p:spPr>
            <a:xfrm>
              <a:off x="3192480" y="3967200"/>
              <a:ext cx="91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粘液质</a:t>
              </a:r>
              <a:br>
                <a:rPr sz="2400"/>
              </a:b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安静型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Rectangle 18"/>
            <p:cNvSpPr/>
            <p:nvPr/>
          </p:nvSpPr>
          <p:spPr>
            <a:xfrm>
              <a:off x="4944960" y="3967200"/>
              <a:ext cx="91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多血质</a:t>
              </a:r>
              <a:br>
                <a:rPr sz="2400"/>
              </a:b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活泼型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  <p:sndAc>
      <p:stSnd>
        <p:snd r:embed="rId1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F9D4-F3D8-4D1D-A008-1408E588A9A0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约会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见、召见——身份高的人会见身份低的人；主人会见客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拜见、拜会——身份低的人会见身份高的人；客人会见主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有约在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尊重对方，讲究时效，不做不速之客，确定约会时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守时践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既不提前，更不迟到，更改在先，赔礼道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6800-2578-4D66-8BB0-2078872483F4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约哈里窗户图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pic>
        <p:nvPicPr>
          <p:cNvPr id="371" name="Object 3" descr=""/>
          <p:cNvPicPr/>
          <p:nvPr/>
        </p:nvPicPr>
        <p:blipFill>
          <a:blip r:embed="rId1"/>
          <a:stretch/>
        </p:blipFill>
        <p:spPr>
          <a:xfrm>
            <a:off x="917640" y="1828800"/>
            <a:ext cx="7307280" cy="4114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116000" y="587700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免费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模板下载</a:t>
            </a:r>
            <a:r>
              <a:rPr b="1" lang="en-US" sz="16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AAA9-BB8F-4DFE-9135-F535944B0F07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情商（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EQ</a:t>
            </a: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测定人的情绪情感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指标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Q   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做事本领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Q 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做人表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4"/>
          <p:cNvSpPr/>
          <p:nvPr/>
        </p:nvSpPr>
        <p:spPr>
          <a:xfrm>
            <a:off x="4572000" y="586728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5"/>
          <p:cNvSpPr/>
          <p:nvPr/>
        </p:nvSpPr>
        <p:spPr>
          <a:xfrm flipV="1">
            <a:off x="4572000" y="22860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8443440" y="55054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EQ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4480920" y="1619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Q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5626440" y="2457360"/>
            <a:ext cx="255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情低智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情高智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怀才不遇） （春风得意）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情低智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情高智低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平庸一生） （贵人相助）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4800600" y="3886200"/>
            <a:ext cx="4038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6858000" y="2438280"/>
            <a:ext cx="0" cy="297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82AD-95A0-48AD-92D5-BC6C12EA4F4F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人相处之道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尊重他人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感谢他人的帮助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心他人，提供帮助、配合与支持，表现温情与爱心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强加于人，体谅他人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谦虚谨慎，戒骄戒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准确扮演自己的角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保持沟通与交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正确对待他人的成绩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E392-3BFF-4A69-AFB9-32642D550BE9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同事关系的自我评价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每天上班见了同事，你主动问好，表示致意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你能细心察觉同事的情感变化，主动询问表示关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切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与同事共同工作时，你采取：齐心协力、漫不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精心、推委、拆台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同事遇到困难，你是：热心帮助、表面应付、不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闻不问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遇到难以分清的工作，你是主动去做，还是推给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别人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5BEB-DE74-4ACC-8208-7212430ACBD6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同事关系的自我评价</a:t>
            </a:r>
            <a:br>
              <a:rPr sz="4000"/>
            </a:b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你需要同事的帮助，你能礼貌的提出请求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你认为同事帮助你是应该的，而不需要感谢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同事外出，有访客找他，你能代同事热情接待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处理事由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同事外出，有电话找他，你是怎样接应电话的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你了解工作中的信息，你在同事面前是神秘兮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兮，还是共同分享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你怎样给同事留言和写备忘条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A989-6469-4820-801C-611B0E3C210B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同事关系的自我评价</a:t>
            </a:r>
            <a:br>
              <a:rPr sz="4000"/>
            </a:b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你取得一些成绩时，你会在同事面前流露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炫耀，甚至吹嘘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待同事的缺点或毛病，你是看笑话、夸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喧扬，还是真诚帮助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看到同事取得成绩或上司表扬，你是祝贺、无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谓，还是有些嫉妒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作中，你能与同事相互切磋、共同商量、交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流体会吗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BBA5-6C98-4794-8577-0D6FDC6EAD2D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上司相处之道（一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尊重上司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上司也是人，是自然人，是普通人，不是完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上司承担的责任比你大，向家中长子，既要完成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父母交给的任务又要管理好弟妹，实属不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了解上司工作职责、侧重点，了解性格、爱好、       习惯，调整自己适应他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体谅上司苦衷，他们担子更重、工作更艰巨、竞争更激烈，也有难与苦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50CE-0F29-4D5A-ACCD-F198C9B1F7CB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上司相处之道（一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对上司的期望值要适当，你无论有多大成绩，在物质和精神方面不苛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善为上司保守工作中和私人的秘密，对他忠诚可靠是必备的素质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适时以适当方式与上司沟通、消除误会，表示敬重，加强感情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在公众中给上司留足面子，如艺术的拒绝工作、委婉的提出意见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232B-9D63-43FF-9039-B61648D8B2A1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上司相处之道（二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Times New Roman"/>
              </a:rPr>
              <a:t>提醒自己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自己是下属，认清角色和地位，上司是指挥，自己干具体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上司常有理，下属被上司斥责是理所应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服从上司，按上司指示办事，不自作主张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自觉有效地工作，不靠上司监督催促，主动汇报，争取指导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1AB4-DFB6-497C-BA6D-BCE1A6AF70B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上司相处之道（二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善待上司的批评指教，能虚心聆听，仔细分析，认真反思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努力学习，提高自己的业务水平和工作能力，作上司的得力助手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不背后议论、指责、嘲笑上司，不讲上司的闲话、怪话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 工作中的问题不到不得已的时候，不越级汇报和处理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作好工作是应当的，取得成绩也是上司领导的好，不凌驾于上司之上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FBD4-5D52-4140-8E75-802E6DB884E6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致意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招呼——已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相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人在</a:t>
            </a:r>
            <a:r>
              <a:rPr b="1" lang="zh-CN" sz="2800" spc="-1" strike="noStrike">
                <a:solidFill>
                  <a:srgbClr val="ccecff"/>
                </a:solidFill>
                <a:latin typeface="Times New Roman"/>
              </a:rPr>
              <a:t>一天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首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见面时的问候礼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早上的问候礼节是公司员工上班时的头等礼节，切莫忽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男先向女、少先向长、下先向上打招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A934-6511-4388-98E1-642853C2821A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与上司相处之道（三）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了解上司的类型与特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喜欢独断专行，不相信部属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见机行事，变化多端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总爱指责别人，不严以律己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爱管小事、闲事，唠叨不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无主见，摇摆不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草率粗心，大事小事不过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脾气暴躁，爱发牢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7D78-8AEE-4B9E-8CBB-1B930AC18DC3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YOU ARE WELL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1295280" y="1752480"/>
            <a:ext cx="6705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IF  YOU DRESS WE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YOU WILL LOOK WE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IF  YOU LOOK WE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YOU WILL ACT WE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IF  YOU ACT WE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OU ARE WE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灯片编号占位符 3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F0ED-6DA3-40D4-9346-F97CEC46E88C}" type="slidenum">
              <a:rPr b="0" lang="zh-CN" sz="1400" spc="-1" strike="noStrike">
                <a:solidFill>
                  <a:srgbClr val="ffcc66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衷心感谢</a:t>
            </a:r>
            <a:br>
              <a:rPr sz="4000"/>
            </a:b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15" name="WordArt 3"/>
          <p:cNvSpPr txBox="1"/>
          <p:nvPr/>
        </p:nvSpPr>
        <p:spPr>
          <a:xfrm>
            <a:off x="2057400" y="3657600"/>
            <a:ext cx="5486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The End</a:t>
            </a:r>
            <a:endParaRPr b="1" lang="en-US" sz="32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193824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66"/>
                </a:solidFill>
                <a:uFillTx/>
                <a:latin typeface="Times New Roman"/>
              </a:rPr>
              <a:t>使用规范说明</a:t>
            </a:r>
            <a:endParaRPr b="1" lang="en-US" sz="4000" spc="-1" strike="noStrike" u="sng">
              <a:solidFill>
                <a:srgbClr val="ffcc66"/>
              </a:solidFill>
              <a:uFillTx/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0F4B-DE2F-4589-88D3-CACEDE7C01E6}" type="slidenum">
              <a:t>93</a:t>
            </a:fld>
          </a:p>
        </p:txBody>
      </p:sp>
    </p:spTree>
  </p:cSld>
  <p:transition spd="med">
    <p:random/>
    <p:sndAc>
      <p:stSnd>
        <p:snd r:embed="rId2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01:12:1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17:34Z</dcterms:modified>
  <cp:revision>7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