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32.gif" ContentType="image/gif"/>
  <Override PartName="/ppt/media/image24.png" ContentType="image/png"/>
  <Override PartName="/ppt/media/image1.gif" ContentType="image/gif"/>
  <Override PartName="/ppt/media/image31.gif" ContentType="image/gif"/>
  <Override PartName="/ppt/media/image22.png" ContentType="image/png"/>
  <Override PartName="/ppt/media/image29.jpeg" ContentType="image/jpeg"/>
  <Override PartName="/ppt/media/image8.png" ContentType="image/png"/>
  <Override PartName="/ppt/media/image33.png" ContentType="image/png"/>
  <Override PartName="/ppt/media/image7.png" ContentType="image/png"/>
  <Override PartName="/ppt/media/image10.jpeg" ContentType="image/jpeg"/>
  <Override PartName="/ppt/media/image14.png" ContentType="image/png"/>
  <Override PartName="/ppt/media/image11.gif" ContentType="image/gif"/>
  <Override PartName="/ppt/media/image9.png" ContentType="image/png"/>
  <Override PartName="/ppt/media/image5.jpeg" ContentType="image/jpeg"/>
  <Override PartName="/ppt/media/image35.png" ContentType="image/png"/>
  <Override PartName="/ppt/media/image15.png" ContentType="image/png"/>
  <Override PartName="/ppt/media/image3.jpeg" ContentType="image/jpeg"/>
  <Override PartName="/ppt/media/image30.jpeg" ContentType="image/jpeg"/>
  <Override PartName="/ppt/media/image13.jpeg" ContentType="image/jpeg"/>
  <Override PartName="/ppt/media/image2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16.jpeg" ContentType="image/jpeg"/>
  <Override PartName="/ppt/media/image12.gif" ContentType="image/gif"/>
  <Override PartName="/ppt/media/image17.jpeg" ContentType="image/jpeg"/>
  <Override PartName="/ppt/media/image26.png" ContentType="image/png"/>
  <Override PartName="/ppt/media/image6.jpeg" ContentType="image/jpeg"/>
  <Override PartName="/ppt/media/image18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19.wmf" ContentType="image/x-wmf"/>
  <Override PartName="/ppt/media/image2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AF38-8898-4EFA-9C5D-18CA05CAA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A35E-7B5A-4B13-B0C0-FDA5F0AEE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0E1D-976C-41BF-90C7-A7270E450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D205-60B1-4177-8A9B-149A8704A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EF1C2-36F4-4AA9-9C24-5B0C01644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86F72-3DF8-47FC-B55B-97EB2B80E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80C20-F8A8-46E6-94F9-BAA76F2C5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3D279-26C6-4E04-B08C-363FB8941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304C3-D553-4EBC-814A-5D6792F3C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50BAE-3478-49FF-A515-011875E12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34FC7-FD10-4892-B205-0CA3BC9D7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AA55-6AFC-49DF-B3FF-B22325A73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EC466-B319-4DAD-9419-F6F9FF48B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FB88E-5F8A-45EC-9381-2D2958611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BAD9F-3464-4619-9176-26A6259B0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92991-F34C-4474-AED8-BC6A49725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C8EC6-C328-48A8-A030-E508153B7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DFD8-967D-4B1E-B2D1-B740376D4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C43D-0065-44CF-A8AC-D05C07745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01D8-8FA0-4EE6-B270-EDC44036F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9B76-B990-4F74-B39E-9674DA502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5935-514F-4C28-AA1E-5C327C617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298F-6879-4F1E-9C43-C33EA3D3B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99C6-B67A-44BD-90DC-EC0BF4B66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472BA-6ECE-4038-95BC-1813CBCCF7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7911E-4B2D-4569-BB3A-F21021717C5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kejianhome.com/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" descr="j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图片 2" descr="6058136f1a57b0e280cb4a3f.jpg"/>
          <p:cNvPicPr/>
          <p:nvPr/>
        </p:nvPicPr>
        <p:blipFill>
          <a:blip r:embed="rId2"/>
          <a:stretch/>
        </p:blipFill>
        <p:spPr>
          <a:xfrm>
            <a:off x="0" y="0"/>
            <a:ext cx="9182160" cy="6870600"/>
          </a:xfrm>
          <a:prstGeom prst="rect">
            <a:avLst/>
          </a:prstGeom>
          <a:ln w="0">
            <a:noFill/>
          </a:ln>
        </p:spPr>
      </p:pic>
      <p:sp>
        <p:nvSpPr>
          <p:cNvPr id="84" name="矩形 2"/>
          <p:cNvSpPr/>
          <p:nvPr/>
        </p:nvSpPr>
        <p:spPr>
          <a:xfrm>
            <a:off x="2526480" y="609480"/>
            <a:ext cx="445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文成公主进藏免费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7"/>
          <p:cNvSpPr/>
          <p:nvPr/>
        </p:nvSpPr>
        <p:spPr>
          <a:xfrm>
            <a:off x="208800" y="64533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图片 1" descr="j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TextBox 3"/>
          <p:cNvSpPr/>
          <p:nvPr/>
        </p:nvSpPr>
        <p:spPr>
          <a:xfrm>
            <a:off x="1285920" y="1428840"/>
            <a:ext cx="57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"/>
          <p:cNvSpPr/>
          <p:nvPr/>
        </p:nvSpPr>
        <p:spPr>
          <a:xfrm>
            <a:off x="5000760" y="1428840"/>
            <a:ext cx="57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5"/>
          <p:cNvSpPr/>
          <p:nvPr/>
        </p:nvSpPr>
        <p:spPr>
          <a:xfrm>
            <a:off x="1285920" y="3357720"/>
            <a:ext cx="57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5000760" y="3786120"/>
            <a:ext cx="6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7"/>
          <p:cNvSpPr/>
          <p:nvPr/>
        </p:nvSpPr>
        <p:spPr>
          <a:xfrm>
            <a:off x="1357200" y="5214960"/>
            <a:ext cx="5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左大括号 8"/>
          <p:cNvSpPr/>
          <p:nvPr/>
        </p:nvSpPr>
        <p:spPr>
          <a:xfrm>
            <a:off x="1928880" y="1285920"/>
            <a:ext cx="357120" cy="1000080"/>
          </a:xfrm>
          <a:custGeom>
            <a:avLst/>
            <a:gdLst>
              <a:gd name="textAreaLeft" fmla="*/ 228240 w 357120"/>
              <a:gd name="textAreaRight" fmla="*/ 357480 w 357120"/>
              <a:gd name="textAreaTop" fmla="*/ 9000 h 1000080"/>
              <a:gd name="textAreaBottom" fmla="*/ 991080 h 1000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2"/>
                  <a:pt x="10800" y="643"/>
                </a:cubicBezTo>
                <a:lnTo>
                  <a:pt x="10800" y="10157"/>
                </a:lnTo>
                <a:cubicBezTo>
                  <a:pt x="10800" y="10479"/>
                  <a:pt x="5400" y="10800"/>
                  <a:pt x="0" y="10800"/>
                </a:cubicBezTo>
                <a:cubicBezTo>
                  <a:pt x="5400" y="10800"/>
                  <a:pt x="10800" y="11122"/>
                  <a:pt x="10800" y="11443"/>
                </a:cubicBezTo>
                <a:lnTo>
                  <a:pt x="10800" y="20957"/>
                </a:lnTo>
                <a:cubicBezTo>
                  <a:pt x="10800" y="2127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左大括号 10"/>
          <p:cNvSpPr/>
          <p:nvPr/>
        </p:nvSpPr>
        <p:spPr>
          <a:xfrm>
            <a:off x="1857240" y="3214800"/>
            <a:ext cx="357480" cy="1000080"/>
          </a:xfrm>
          <a:custGeom>
            <a:avLst/>
            <a:gdLst>
              <a:gd name="textAreaLeft" fmla="*/ 228600 w 357480"/>
              <a:gd name="textAreaRight" fmla="*/ 357840 w 357480"/>
              <a:gd name="textAreaTop" fmla="*/ 9000 h 1000080"/>
              <a:gd name="textAreaBottom" fmla="*/ 991080 h 1000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2"/>
                  <a:pt x="10800" y="643"/>
                </a:cubicBezTo>
                <a:lnTo>
                  <a:pt x="10800" y="10157"/>
                </a:lnTo>
                <a:cubicBezTo>
                  <a:pt x="10800" y="10479"/>
                  <a:pt x="5400" y="10800"/>
                  <a:pt x="0" y="10800"/>
                </a:cubicBezTo>
                <a:cubicBezTo>
                  <a:pt x="5400" y="10800"/>
                  <a:pt x="10800" y="11122"/>
                  <a:pt x="10800" y="11443"/>
                </a:cubicBezTo>
                <a:lnTo>
                  <a:pt x="10800" y="20957"/>
                </a:lnTo>
                <a:cubicBezTo>
                  <a:pt x="10800" y="2127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左大括号 11"/>
          <p:cNvSpPr/>
          <p:nvPr/>
        </p:nvSpPr>
        <p:spPr>
          <a:xfrm>
            <a:off x="5500800" y="1285920"/>
            <a:ext cx="357120" cy="1000080"/>
          </a:xfrm>
          <a:custGeom>
            <a:avLst/>
            <a:gdLst>
              <a:gd name="textAreaLeft" fmla="*/ 228240 w 357120"/>
              <a:gd name="textAreaRight" fmla="*/ 357480 w 357120"/>
              <a:gd name="textAreaTop" fmla="*/ 9000 h 1000080"/>
              <a:gd name="textAreaBottom" fmla="*/ 991080 h 1000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2"/>
                  <a:pt x="10800" y="643"/>
                </a:cubicBezTo>
                <a:lnTo>
                  <a:pt x="10800" y="10157"/>
                </a:lnTo>
                <a:cubicBezTo>
                  <a:pt x="10800" y="10479"/>
                  <a:pt x="5400" y="10800"/>
                  <a:pt x="0" y="10800"/>
                </a:cubicBezTo>
                <a:cubicBezTo>
                  <a:pt x="5400" y="10800"/>
                  <a:pt x="10800" y="11122"/>
                  <a:pt x="10800" y="11443"/>
                </a:cubicBezTo>
                <a:lnTo>
                  <a:pt x="10800" y="20957"/>
                </a:lnTo>
                <a:cubicBezTo>
                  <a:pt x="10800" y="2127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左大括号 12"/>
          <p:cNvSpPr/>
          <p:nvPr/>
        </p:nvSpPr>
        <p:spPr>
          <a:xfrm>
            <a:off x="1928880" y="5072040"/>
            <a:ext cx="357120" cy="1000080"/>
          </a:xfrm>
          <a:custGeom>
            <a:avLst/>
            <a:gdLst>
              <a:gd name="textAreaLeft" fmla="*/ 228240 w 357120"/>
              <a:gd name="textAreaRight" fmla="*/ 357480 w 357120"/>
              <a:gd name="textAreaTop" fmla="*/ 9000 h 1000080"/>
              <a:gd name="textAreaBottom" fmla="*/ 991080 h 1000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2"/>
                  <a:pt x="10800" y="643"/>
                </a:cubicBezTo>
                <a:lnTo>
                  <a:pt x="10800" y="10157"/>
                </a:lnTo>
                <a:cubicBezTo>
                  <a:pt x="10800" y="10479"/>
                  <a:pt x="5400" y="10800"/>
                  <a:pt x="0" y="10800"/>
                </a:cubicBezTo>
                <a:cubicBezTo>
                  <a:pt x="5400" y="10800"/>
                  <a:pt x="10800" y="11122"/>
                  <a:pt x="10800" y="11443"/>
                </a:cubicBezTo>
                <a:lnTo>
                  <a:pt x="10800" y="20957"/>
                </a:lnTo>
                <a:cubicBezTo>
                  <a:pt x="10800" y="2127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左大括号 13"/>
          <p:cNvSpPr/>
          <p:nvPr/>
        </p:nvSpPr>
        <p:spPr>
          <a:xfrm>
            <a:off x="5500800" y="3143160"/>
            <a:ext cx="500040" cy="200052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000520"/>
              <a:gd name="textAreaBottom" fmla="*/ 1987560 h 2000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25"/>
                  <a:pt x="10800" y="450"/>
                </a:cubicBezTo>
                <a:lnTo>
                  <a:pt x="10800" y="10350"/>
                </a:lnTo>
                <a:cubicBezTo>
                  <a:pt x="10800" y="10575"/>
                  <a:pt x="5400" y="10800"/>
                  <a:pt x="0" y="10800"/>
                </a:cubicBezTo>
                <a:cubicBezTo>
                  <a:pt x="5400" y="10800"/>
                  <a:pt x="10800" y="11025"/>
                  <a:pt x="10800" y="11250"/>
                </a:cubicBezTo>
                <a:lnTo>
                  <a:pt x="10800" y="21150"/>
                </a:lnTo>
                <a:cubicBezTo>
                  <a:pt x="10800" y="2137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4"/>
          <p:cNvSpPr/>
          <p:nvPr/>
        </p:nvSpPr>
        <p:spPr>
          <a:xfrm>
            <a:off x="2428920" y="1214280"/>
            <a:ext cx="21430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zàng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西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cáng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隐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5"/>
          <p:cNvSpPr/>
          <p:nvPr/>
        </p:nvSpPr>
        <p:spPr>
          <a:xfrm>
            <a:off x="6000840" y="1285920"/>
            <a:ext cx="228600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Zhòng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耕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Zhǒng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种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6"/>
          <p:cNvSpPr/>
          <p:nvPr/>
        </p:nvSpPr>
        <p:spPr>
          <a:xfrm>
            <a:off x="2428920" y="3143160"/>
            <a:ext cx="200016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Bē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背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Bèi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背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7"/>
          <p:cNvSpPr/>
          <p:nvPr/>
        </p:nvSpPr>
        <p:spPr>
          <a:xfrm>
            <a:off x="2500200" y="5072040"/>
            <a:ext cx="1714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Cháo</a:t>
            </a: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唐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Zhāo</a:t>
            </a: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朝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9"/>
          <p:cNvSpPr/>
          <p:nvPr/>
        </p:nvSpPr>
        <p:spPr>
          <a:xfrm>
            <a:off x="6072120" y="3286080"/>
            <a:ext cx="1928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è        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凶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ě        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恶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wù      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可恶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20"/>
          <p:cNvSpPr/>
          <p:nvPr/>
        </p:nvSpPr>
        <p:spPr>
          <a:xfrm>
            <a:off x="357120" y="214200"/>
            <a:ext cx="207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04a7b"/>
                </a:solidFill>
                <a:latin typeface="楷体"/>
                <a:ea typeface="楷体"/>
              </a:rPr>
              <a:t>我会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5"/>
          <p:cNvGrpSpPr/>
          <p:nvPr/>
        </p:nvGrpSpPr>
        <p:grpSpPr>
          <a:xfrm>
            <a:off x="3048120" y="762120"/>
            <a:ext cx="3200400" cy="764280"/>
            <a:chOff x="3048120" y="762120"/>
            <a:chExt cx="3200400" cy="764280"/>
          </a:xfrm>
        </p:grpSpPr>
        <p:pic>
          <p:nvPicPr>
            <p:cNvPr id="129" name="Picture 6" descr="large_3526k70"/>
            <p:cNvPicPr/>
            <p:nvPr/>
          </p:nvPicPr>
          <p:blipFill>
            <a:blip r:embed="rId1"/>
            <a:srcRect l="0" t="0" r="2008" b="4337"/>
            <a:stretch/>
          </p:blipFill>
          <p:spPr>
            <a:xfrm>
              <a:off x="3048120" y="762120"/>
              <a:ext cx="320040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Text Box 7"/>
            <p:cNvSpPr/>
            <p:nvPr/>
          </p:nvSpPr>
          <p:spPr>
            <a:xfrm>
              <a:off x="3436920" y="762120"/>
              <a:ext cx="2511720" cy="764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0000"/>
                  </a:solidFill>
                  <a:latin typeface="Arial"/>
                  <a:ea typeface="华文隶书"/>
                </a:rPr>
                <a:t>词语解析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Rectangle 10"/>
          <p:cNvSpPr/>
          <p:nvPr/>
        </p:nvSpPr>
        <p:spPr>
          <a:xfrm>
            <a:off x="6858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使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碰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隆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2057400" y="18288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由一个国家派驻在另一个国家的外交代表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或由一个国派遣到另一个国家去办理事务的代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2"/>
          <p:cNvSpPr/>
          <p:nvPr/>
        </p:nvSpPr>
        <p:spPr>
          <a:xfrm>
            <a:off x="2209680" y="365760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刚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3"/>
          <p:cNvSpPr/>
          <p:nvPr/>
        </p:nvSpPr>
        <p:spPr>
          <a:xfrm>
            <a:off x="2209680" y="4800600"/>
            <a:ext cx="34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盛大庄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4" descr="png-1430"/>
          <p:cNvPicPr/>
          <p:nvPr/>
        </p:nvPicPr>
        <p:blipFill>
          <a:blip r:embed="rId2"/>
          <a:stretch/>
        </p:blipFill>
        <p:spPr>
          <a:xfrm>
            <a:off x="4267080" y="3124080"/>
            <a:ext cx="2210040" cy="20574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5" descr="png-1440"/>
          <p:cNvPicPr/>
          <p:nvPr/>
        </p:nvPicPr>
        <p:blipFill>
          <a:blip r:embed="rId3"/>
          <a:stretch/>
        </p:blipFill>
        <p:spPr>
          <a:xfrm>
            <a:off x="6095880" y="4724280"/>
            <a:ext cx="1905120" cy="16002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11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7" descr="027a45b5f36a1de736d3ca8e"/>
          <p:cNvPicPr/>
          <p:nvPr/>
        </p:nvPicPr>
        <p:blipFill>
          <a:blip r:embed="rId1"/>
          <a:stretch/>
        </p:blipFill>
        <p:spPr>
          <a:xfrm>
            <a:off x="2286000" y="609480"/>
            <a:ext cx="4267080" cy="52578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8"/>
          <p:cNvSpPr/>
          <p:nvPr/>
        </p:nvSpPr>
        <p:spPr>
          <a:xfrm>
            <a:off x="3505320" y="60958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成公主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4"/>
          <p:cNvSpPr/>
          <p:nvPr/>
        </p:nvSpPr>
        <p:spPr>
          <a:xfrm>
            <a:off x="0" y="914400"/>
            <a:ext cx="91440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楷体"/>
              </a:rPr>
              <a:t>文成公主知书达理，不畏艰险，远嫁吐蕃，为促进唐、蕃之间经济文化交流，增进汉藏两族人民亲密友好合作的关系做出了历史性贡献。藏族人民热爱美丽的文成公主，把她当成神一样崇拜，因此，民间流传着许多关于文成公主进藏的故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9" descr="0862c354d0cc9a71d1090688"/>
          <p:cNvPicPr/>
          <p:nvPr/>
        </p:nvPicPr>
        <p:blipFill>
          <a:blip r:embed="rId1"/>
          <a:stretch/>
        </p:blipFill>
        <p:spPr>
          <a:xfrm>
            <a:off x="2666880" y="838080"/>
            <a:ext cx="3959280" cy="487692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10"/>
          <p:cNvSpPr/>
          <p:nvPr/>
        </p:nvSpPr>
        <p:spPr>
          <a:xfrm>
            <a:off x="3505320" y="58672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松赞干布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5"/>
          <p:cNvSpPr/>
          <p:nvPr/>
        </p:nvSpPr>
        <p:spPr>
          <a:xfrm>
            <a:off x="0" y="2589840"/>
            <a:ext cx="914400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cc00ff"/>
                </a:solidFill>
                <a:latin typeface="Arial"/>
              </a:rPr>
              <a:t>松赞干布 ，吐蕃王朝的缔造者 。松赞干布的一生，功绩卓著。他统一了青藏高原，建立了强大的奴隶制政权，促进了吐蕃政治、经济、文化的全面发展，将藏族人民引入了团结、繁荣、富强的时代；沟通了与内地唐朝的友好关系，推动了汉藏民族文化的交流与发展。为后来西藏正式纳入祖国版图和统一多民族国家的建立，奠定了坚实的基础，做出了巨大贡献</a:t>
            </a:r>
            <a:r>
              <a:rPr b="1" lang="zh-CN" sz="4400" spc="-1" strike="noStrike">
                <a:solidFill>
                  <a:srgbClr val="cc00ff"/>
                </a:solidFill>
                <a:latin typeface="Arial"/>
              </a:rPr>
              <a:t>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549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SO02963_"/>
          <p:cNvPicPr/>
          <p:nvPr/>
        </p:nvPicPr>
        <p:blipFill>
          <a:blip r:embed="rId2"/>
          <a:stretch/>
        </p:blipFill>
        <p:spPr>
          <a:xfrm>
            <a:off x="8381880" y="6218280"/>
            <a:ext cx="762120" cy="63972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4"/>
          <p:cNvSpPr/>
          <p:nvPr/>
        </p:nvSpPr>
        <p:spPr>
          <a:xfrm>
            <a:off x="0" y="189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00200" indent="-228600"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主要人物        主要事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0" y="907920"/>
            <a:ext cx="3780000" cy="19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002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松藏干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002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002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002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2987640" y="83664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00200" indent="-228600"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派臣求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2916360" y="1557360"/>
            <a:ext cx="36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00200" indent="-228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辨认母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3203640" y="4653000"/>
            <a:ext cx="673416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00200" indent="-228600"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00200" indent="-228600"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00200" indent="-228600"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00200" indent="-228600"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00200" indent="-228600"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0" y="2060640"/>
            <a:ext cx="35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00200" indent="-228600"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使       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0" y="4221000"/>
            <a:ext cx="38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00200" indent="-228600"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文成公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1"/>
          <p:cNvSpPr/>
          <p:nvPr/>
        </p:nvSpPr>
        <p:spPr>
          <a:xfrm>
            <a:off x="2340000" y="306864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00200" indent="-228600"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搭桥、 撒羊毛（路纳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2"/>
          <p:cNvSpPr/>
          <p:nvPr/>
        </p:nvSpPr>
        <p:spPr>
          <a:xfrm>
            <a:off x="2124000" y="3789360"/>
            <a:ext cx="727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修石屋、写血书（达尤龙真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3"/>
          <p:cNvSpPr/>
          <p:nvPr/>
        </p:nvSpPr>
        <p:spPr>
          <a:xfrm>
            <a:off x="2700360" y="450864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00200" indent="-228600"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背乃巴山（乃巴山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4"/>
          <p:cNvSpPr/>
          <p:nvPr/>
        </p:nvSpPr>
        <p:spPr>
          <a:xfrm>
            <a:off x="2843280" y="5229360"/>
            <a:ext cx="54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00200" indent="-228600"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成亲（西藏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5"/>
          <p:cNvSpPr/>
          <p:nvPr/>
        </p:nvSpPr>
        <p:spPr>
          <a:xfrm>
            <a:off x="3203640" y="1700280"/>
            <a:ext cx="360360" cy="1152360"/>
          </a:xfrm>
          <a:custGeom>
            <a:avLst/>
            <a:gdLst>
              <a:gd name="textAreaLeft" fmla="*/ 230400 w 360360"/>
              <a:gd name="textAreaRight" fmla="*/ 360720 w 3603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2"/>
                  <a:pt x="10800" y="1804"/>
                </a:cubicBezTo>
                <a:lnTo>
                  <a:pt x="10800" y="8996"/>
                </a:lnTo>
                <a:cubicBezTo>
                  <a:pt x="10800" y="9898"/>
                  <a:pt x="5400" y="10800"/>
                  <a:pt x="0" y="10800"/>
                </a:cubicBezTo>
                <a:cubicBezTo>
                  <a:pt x="5400" y="10800"/>
                  <a:pt x="10800" y="11702"/>
                  <a:pt x="10800" y="12604"/>
                </a:cubicBezTo>
                <a:lnTo>
                  <a:pt x="10800" y="19796"/>
                </a:lnTo>
                <a:cubicBezTo>
                  <a:pt x="10800" y="20698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600200" indent="-228600" algn="ctr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6"/>
          <p:cNvSpPr/>
          <p:nvPr/>
        </p:nvSpPr>
        <p:spPr>
          <a:xfrm flipV="1">
            <a:off x="3419640" y="3212280"/>
            <a:ext cx="360360" cy="2592360"/>
          </a:xfrm>
          <a:custGeom>
            <a:avLst/>
            <a:gdLst>
              <a:gd name="textAreaLeft" fmla="*/ 230400 w 360360"/>
              <a:gd name="textAreaRight" fmla="*/ 360720 w 360360"/>
              <a:gd name="textAreaTop" fmla="*/ 67680 h 2592360"/>
              <a:gd name="textAreaBottom" fmla="*/ 252468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2"/>
                  <a:pt x="10800" y="1804"/>
                </a:cubicBezTo>
                <a:lnTo>
                  <a:pt x="10800" y="8996"/>
                </a:lnTo>
                <a:cubicBezTo>
                  <a:pt x="10800" y="9898"/>
                  <a:pt x="5400" y="10800"/>
                  <a:pt x="0" y="10800"/>
                </a:cubicBezTo>
                <a:cubicBezTo>
                  <a:pt x="5400" y="10800"/>
                  <a:pt x="10800" y="11702"/>
                  <a:pt x="10800" y="12604"/>
                </a:cubicBezTo>
                <a:lnTo>
                  <a:pt x="10800" y="19796"/>
                </a:lnTo>
                <a:cubicBezTo>
                  <a:pt x="10800" y="20698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marL="1600200" indent="-228600" algn="ctr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7"/>
          <p:cNvSpPr/>
          <p:nvPr/>
        </p:nvSpPr>
        <p:spPr>
          <a:xfrm>
            <a:off x="2916360" y="2276640"/>
            <a:ext cx="38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002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识 别 公 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8"/>
          <p:cNvSpPr/>
          <p:nvPr/>
        </p:nvSpPr>
        <p:spPr>
          <a:xfrm>
            <a:off x="0" y="0"/>
            <a:ext cx="16016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了解大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Line 10"/>
          <p:cNvSpPr/>
          <p:nvPr/>
        </p:nvSpPr>
        <p:spPr>
          <a:xfrm>
            <a:off x="2209680" y="3200400"/>
            <a:ext cx="865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3048120" y="2895480"/>
            <a:ext cx="37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  <a:ea typeface="楷体_GB2312"/>
              </a:rPr>
              <a:t>接见使臣考智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2"/>
          <p:cNvSpPr/>
          <p:nvPr/>
        </p:nvSpPr>
        <p:spPr>
          <a:xfrm>
            <a:off x="5638680" y="31240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3"/>
          <p:cNvSpPr/>
          <p:nvPr/>
        </p:nvSpPr>
        <p:spPr>
          <a:xfrm>
            <a:off x="6477120" y="289548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  <a:ea typeface="楷体_GB2312"/>
              </a:rPr>
              <a:t>允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4"/>
          <p:cNvSpPr/>
          <p:nvPr/>
        </p:nvSpPr>
        <p:spPr>
          <a:xfrm>
            <a:off x="7315200" y="31240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5"/>
          <p:cNvSpPr/>
          <p:nvPr/>
        </p:nvSpPr>
        <p:spPr>
          <a:xfrm>
            <a:off x="1066680" y="403848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  <a:ea typeface="楷体_GB2312"/>
              </a:rPr>
              <a:t>进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6"/>
          <p:cNvSpPr/>
          <p:nvPr/>
        </p:nvSpPr>
        <p:spPr>
          <a:xfrm>
            <a:off x="1905120" y="434340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7"/>
          <p:cNvSpPr/>
          <p:nvPr/>
        </p:nvSpPr>
        <p:spPr>
          <a:xfrm>
            <a:off x="2895480" y="403848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  <a:ea typeface="楷体_GB2312"/>
              </a:rPr>
              <a:t>给西藏带去了先进的生产技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8" descr="png-1376"/>
          <p:cNvPicPr/>
          <p:nvPr/>
        </p:nvPicPr>
        <p:blipFill>
          <a:blip r:embed="rId1"/>
          <a:stretch/>
        </p:blipFill>
        <p:spPr>
          <a:xfrm>
            <a:off x="5791320" y="502920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9" descr="png-1370"/>
          <p:cNvPicPr/>
          <p:nvPr/>
        </p:nvPicPr>
        <p:blipFill>
          <a:blip r:embed="rId2"/>
          <a:stretch/>
        </p:blipFill>
        <p:spPr>
          <a:xfrm>
            <a:off x="2514600" y="502920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20"/>
          <p:cNvSpPr/>
          <p:nvPr/>
        </p:nvSpPr>
        <p:spPr>
          <a:xfrm>
            <a:off x="0" y="1447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课文按什么顺序写文成公主进藏的</a:t>
            </a: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1"/>
          <p:cNvSpPr/>
          <p:nvPr/>
        </p:nvSpPr>
        <p:spPr>
          <a:xfrm>
            <a:off x="1517040" y="28954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  <a:ea typeface="楷体_GB2312"/>
              </a:rPr>
              <a:t>求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2"/>
          <p:cNvSpPr/>
          <p:nvPr/>
        </p:nvSpPr>
        <p:spPr>
          <a:xfrm>
            <a:off x="152280" y="228600"/>
            <a:ext cx="22100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了解顺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8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0" y="18900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marL="8002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中宋"/>
              </a:rPr>
              <a:t>概括主要内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0" y="33724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课文先写了文成公主进藏的</a:t>
            </a:r>
            <a:r>
              <a:rPr b="1" lang="en-US" sz="4000" spc="-1" strike="noStrike">
                <a:solidFill>
                  <a:srgbClr val="0000ff"/>
                </a:solidFill>
                <a:latin typeface="宋体"/>
              </a:rPr>
              <a:t>_____ ──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吐蕃年轻首领松赞干布爱慕漂亮又聪明的文成公主，派使臣到唐朝求婚，而智慧的使臣顺利通过了唐皇的考验，求亲成功；接着重点讲述了文成公主进藏途中的一系列</a:t>
            </a:r>
            <a:r>
              <a:rPr b="1" lang="en-US" sz="4000" spc="-1" strike="noStrike">
                <a:solidFill>
                  <a:srgbClr val="0000ff"/>
                </a:solidFill>
                <a:latin typeface="宋体"/>
              </a:rPr>
              <a:t>_____──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搭桥、铺路、遇到恶乌鸦和神鸟天鹅、移山等；最后点明了文成公主进藏的</a:t>
            </a:r>
            <a:r>
              <a:rPr b="1" lang="en-US" sz="4000" spc="-1" strike="noStrike">
                <a:solidFill>
                  <a:srgbClr val="0000ff"/>
                </a:solidFill>
                <a:latin typeface="宋体"/>
              </a:rPr>
              <a:t>________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。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7347240" y="15238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原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3657600" y="46483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故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5105520" y="579132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不朽功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1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4"/>
          <p:cNvSpPr/>
          <p:nvPr/>
        </p:nvSpPr>
        <p:spPr>
          <a:xfrm>
            <a:off x="2617200" y="182808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文成公主为什么会进西藏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1066680" y="2590920"/>
            <a:ext cx="68295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  <a:ea typeface="楷体_GB2312"/>
              </a:rPr>
              <a:t>为了促进唐蕃间经济文化的交流，增进汉藏两族人民亲密、友好、合作的关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6" descr="10 (1263)"/>
          <p:cNvPicPr/>
          <p:nvPr/>
        </p:nvPicPr>
        <p:blipFill>
          <a:blip r:embed="rId1"/>
          <a:stretch/>
        </p:blipFill>
        <p:spPr>
          <a:xfrm>
            <a:off x="4800600" y="4038480"/>
            <a:ext cx="2819520" cy="28195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7" descr="10 (1205)"/>
          <p:cNvPicPr/>
          <p:nvPr/>
        </p:nvPicPr>
        <p:blipFill>
          <a:blip r:embed="rId2"/>
          <a:stretch/>
        </p:blipFill>
        <p:spPr>
          <a:xfrm rot="8017200">
            <a:off x="2514240" y="380952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8" descr="10 (1205)"/>
          <p:cNvPicPr/>
          <p:nvPr/>
        </p:nvPicPr>
        <p:blipFill>
          <a:blip r:embed="rId3"/>
          <a:stretch/>
        </p:blipFill>
        <p:spPr>
          <a:xfrm rot="2464800">
            <a:off x="3809520" y="4952520"/>
            <a:ext cx="884520" cy="8845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9"/>
          <p:cNvSpPr/>
          <p:nvPr/>
        </p:nvSpPr>
        <p:spPr>
          <a:xfrm>
            <a:off x="3733920" y="304812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3"/>
          <p:cNvGrpSpPr/>
          <p:nvPr/>
        </p:nvGrpSpPr>
        <p:grpSpPr>
          <a:xfrm>
            <a:off x="3048120" y="609480"/>
            <a:ext cx="3200400" cy="764280"/>
            <a:chOff x="3048120" y="609480"/>
            <a:chExt cx="3200400" cy="764280"/>
          </a:xfrm>
        </p:grpSpPr>
        <p:pic>
          <p:nvPicPr>
            <p:cNvPr id="88" name="Picture 4" descr="large_3526k70"/>
            <p:cNvPicPr/>
            <p:nvPr/>
          </p:nvPicPr>
          <p:blipFill>
            <a:blip r:embed="rId1"/>
            <a:srcRect l="0" t="0" r="2008" b="4337"/>
            <a:stretch/>
          </p:blipFill>
          <p:spPr>
            <a:xfrm>
              <a:off x="3048120" y="609480"/>
              <a:ext cx="3200400" cy="6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5"/>
            <p:cNvSpPr/>
            <p:nvPr/>
          </p:nvSpPr>
          <p:spPr>
            <a:xfrm>
              <a:off x="3436920" y="609480"/>
              <a:ext cx="2511720" cy="764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0000"/>
                  </a:solidFill>
                  <a:latin typeface="Arial"/>
                  <a:ea typeface="华文隶书"/>
                </a:rPr>
                <a:t>导入新课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0" name="Picture 7" descr="2213355W9-9"/>
          <p:cNvPicPr/>
          <p:nvPr/>
        </p:nvPicPr>
        <p:blipFill>
          <a:blip r:embed="rId2"/>
          <a:stretch/>
        </p:blipFill>
        <p:spPr>
          <a:xfrm>
            <a:off x="762120" y="1890720"/>
            <a:ext cx="7391160" cy="4875120"/>
          </a:xfrm>
          <a:prstGeom prst="rect">
            <a:avLst/>
          </a:prstGeom>
          <a:ln w="0">
            <a:noFill/>
          </a:ln>
        </p:spPr>
      </p:pic>
      <p:sp>
        <p:nvSpPr>
          <p:cNvPr id="91" name="Text Box 8"/>
          <p:cNvSpPr/>
          <p:nvPr/>
        </p:nvSpPr>
        <p:spPr>
          <a:xfrm>
            <a:off x="1066680" y="137160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  <a:ea typeface="黑体"/>
              </a:rPr>
              <a:t>西藏美景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  <a:ea typeface="黑体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4"/>
          <p:cNvSpPr/>
          <p:nvPr/>
        </p:nvSpPr>
        <p:spPr>
          <a:xfrm>
            <a:off x="3886200" y="484200"/>
            <a:ext cx="48006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为什么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他断定这个戴鲜花的姑娘一定是文成公主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3809880" y="2881440"/>
            <a:ext cx="51818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  <a:ea typeface="楷体_GB2312"/>
              </a:rPr>
              <a:t>使臣看过每一个姑娘，发现有两只蜜蜂总是在一个姑娘的头上飞来飞去。他仔细一看，原来这个姑娘头上戴的是鲜花，其他姑娘戴的是绢花。他断定这个戴鲜花的姑娘一定是文成公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6" descr="10 (1030)"/>
          <p:cNvPicPr/>
          <p:nvPr/>
        </p:nvPicPr>
        <p:blipFill>
          <a:blip r:embed="rId1"/>
          <a:stretch/>
        </p:blipFill>
        <p:spPr>
          <a:xfrm>
            <a:off x="5867280" y="5232240"/>
            <a:ext cx="1625760" cy="16257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11787185317251198"/>
          <p:cNvPicPr/>
          <p:nvPr/>
        </p:nvPicPr>
        <p:blipFill>
          <a:blip r:embed="rId2"/>
          <a:stretch/>
        </p:blipFill>
        <p:spPr>
          <a:xfrm>
            <a:off x="0" y="0"/>
            <a:ext cx="3657600" cy="47242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9"/>
          <p:cNvSpPr/>
          <p:nvPr/>
        </p:nvSpPr>
        <p:spPr>
          <a:xfrm>
            <a:off x="0" y="5592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因为从蜜蜂追花的情景来分析，只有一人戴着鲜花，文成公主也只有一个；从“鲜花”中，他看到的是尊贵和高雅，戴鲜花对公主来说，是理所当然的，所以他断定这个戴鲜花的姑娘一定是文成公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9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1413000"/>
            <a:ext cx="9144000" cy="254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你划出内容很神奇的句子了吗？你有什么体会？（请写旁批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半路上，文成公主在一个叫路纳的地方遇到了一条河，过不去。公主找来一段树干，横在上面，搭了一座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395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文成公主过河以后，一只小鸟飞过来，说：“公主，公主，这儿是片沼泽地，不好走。”文成公主听了，剪了一把羊毛撒在地上，就走过去了。大家说，因为文成公主撒了这把羊毛，所以路纳这个地方的牛羊一直都长得又肥又壮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3" descr="01"/>
          <p:cNvPicPr/>
          <p:nvPr/>
        </p:nvPicPr>
        <p:blipFill>
          <a:blip r:embed="rId1"/>
          <a:stretch/>
        </p:blipFill>
        <p:spPr>
          <a:xfrm>
            <a:off x="6948360" y="4941720"/>
            <a:ext cx="247680" cy="2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公主心里难过，没有心思梳妆，右边的头发散了也不去理会。因此，这个地方北岸的树木稀，南岸的树木密，两边长得不一样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走着走着，乃巴山又把路挡住了，大家走起来很不方便。文成公主就把乃巴山背到旁边去。直到现在，乃巴山下还有公主的脚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4"/>
          <p:cNvSpPr/>
          <p:nvPr/>
        </p:nvSpPr>
        <p:spPr>
          <a:xfrm>
            <a:off x="2773800" y="175176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文成公主带了哪些东西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1295280" y="3283200"/>
            <a:ext cx="64771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  <a:ea typeface="楷体_GB2312"/>
              </a:rPr>
              <a:t>她从京城带上青稞、豌豆、油菜、小麦、荞麦等种子和各种耕种技术，还有许多铁匠、木匠、石匠，也跟着文成公主一起进藏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6" descr="10 (1216)"/>
          <p:cNvPicPr/>
          <p:nvPr/>
        </p:nvPicPr>
        <p:blipFill>
          <a:blip r:embed="rId1"/>
          <a:stretch/>
        </p:blipFill>
        <p:spPr>
          <a:xfrm>
            <a:off x="4191120" y="4851360"/>
            <a:ext cx="2006640" cy="2006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10 (947)"/>
          <p:cNvPicPr/>
          <p:nvPr/>
        </p:nvPicPr>
        <p:blipFill>
          <a:blip r:embed="rId2"/>
          <a:stretch/>
        </p:blipFill>
        <p:spPr>
          <a:xfrm rot="2686800">
            <a:off x="6324120" y="11430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8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10" descr="195"/>
          <p:cNvPicPr/>
          <p:nvPr/>
        </p:nvPicPr>
        <p:blipFill>
          <a:blip r:embed="rId1"/>
          <a:stretch/>
        </p:blipFill>
        <p:spPr>
          <a:xfrm>
            <a:off x="2514600" y="1066680"/>
            <a:ext cx="3963960" cy="510552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9" descr="1_092119_1"/>
          <p:cNvPicPr/>
          <p:nvPr/>
        </p:nvPicPr>
        <p:blipFill>
          <a:blip r:embed="rId1"/>
          <a:stretch/>
        </p:blipFill>
        <p:spPr>
          <a:xfrm>
            <a:off x="1600200" y="1219320"/>
            <a:ext cx="6114960" cy="480672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7" descr="31a8e6450b0f1701cefca35f"/>
          <p:cNvPicPr/>
          <p:nvPr/>
        </p:nvPicPr>
        <p:blipFill>
          <a:blip r:embed="rId1"/>
          <a:stretch/>
        </p:blipFill>
        <p:spPr>
          <a:xfrm>
            <a:off x="2971800" y="1066680"/>
            <a:ext cx="3727440" cy="5029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3" descr="200941012453975"/>
          <p:cNvPicPr/>
          <p:nvPr/>
        </p:nvPicPr>
        <p:blipFill>
          <a:blip r:embed="rId1"/>
          <a:stretch/>
        </p:blipFill>
        <p:spPr>
          <a:xfrm>
            <a:off x="0" y="-311040"/>
            <a:ext cx="9144000" cy="7475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Arial"/>
              </a:rPr>
              <a:t>文成公主    演唱：韩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雄鹰展翅翱翔在天之上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盘旋着不愿离开那个地方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雪花飘在脸上让我坚强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千山和万水送我到你身旁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爱赐予我们太多力量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还有伤还有成长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曙光若能疗思念的狂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带我去靠近太阳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拉萨缕缕桑烟飘向远方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陪伴着你执着的那份坚强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岁月如此漫长爱无法阻挡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一千年如梦一场历尽沧桑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8001000" y="5867280"/>
            <a:ext cx="914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7" descr="悠扬笛声"/>
          <p:cNvPicPr/>
          <p:nvPr/>
        </p:nvPicPr>
        <p:blipFill>
          <a:blip r:embed="rId1"/>
          <a:stretch/>
        </p:blipFill>
        <p:spPr>
          <a:xfrm>
            <a:off x="7772400" y="5486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2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2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夕阳下雪莲盛放啊</a:t>
            </a:r>
            <a:br>
              <a:rPr sz="3200"/>
            </a:b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带不去心中爱恋</a:t>
            </a:r>
            <a:br>
              <a:rPr sz="3200"/>
            </a:b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酥油灯为谁点亮</a:t>
            </a:r>
            <a:br>
              <a:rPr sz="3200"/>
            </a:b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这一生与我相伴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Wo</a:t>
            </a:r>
            <a:br>
              <a:rPr sz="3200"/>
            </a:b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如果你正牵挂着我</a:t>
            </a:r>
            <a:br>
              <a:rPr sz="3200"/>
            </a:b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听我为你唱这首古老的歌</a:t>
            </a:r>
            <a:br>
              <a:rPr sz="3200"/>
            </a:b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世间的分合再多也不能动摇</a:t>
            </a:r>
            <a:br>
              <a:rPr sz="3200"/>
            </a:b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只因为我们曾经经历太多才更执着</a:t>
            </a:r>
            <a:br>
              <a:rPr sz="3200"/>
            </a:b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日月下胡琴响彻千年</a:t>
            </a:r>
            <a:br>
              <a:rPr sz="3200"/>
            </a:b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它讲述传世姻缘</a:t>
            </a:r>
            <a:br>
              <a:rPr sz="3200"/>
            </a:b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星空中光辉永佑世间</a:t>
            </a:r>
            <a:br>
              <a:rPr sz="3200"/>
            </a:b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祝福着圣洁高原</a:t>
            </a:r>
            <a:br>
              <a:rPr sz="3200"/>
            </a:b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祝福着圣洁高原</a:t>
            </a:r>
            <a:br>
              <a:rPr sz="3200"/>
            </a:b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祝福着圣洁高原</a:t>
            </a:r>
            <a:br>
              <a:rPr sz="3200"/>
            </a:b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祝福着圣洁高原</a:t>
            </a:r>
            <a:br>
              <a:rPr sz="3200"/>
            </a:br>
            <a:br>
              <a:rPr sz="3200"/>
            </a:br>
            <a:br>
              <a:rPr sz="800"/>
            </a:br>
            <a:br>
              <a:rPr sz="800"/>
            </a:br>
            <a:r>
              <a:rPr b="1" lang="zh-CN" sz="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2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2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Arial"/>
              </a:rPr>
              <a:t>黄义达 </a:t>
            </a: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- </a:t>
            </a:r>
            <a:r>
              <a:rPr b="0" lang="zh-CN" sz="4400" spc="-1" strike="noStrike">
                <a:solidFill>
                  <a:srgbClr val="ff00ff"/>
                </a:solidFill>
                <a:latin typeface="Arial"/>
              </a:rPr>
              <a:t>文成公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明亮的月光 </a:t>
            </a:r>
            <a:br>
              <a:rPr sz="3200"/>
            </a:b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照在荒漠高原</a:t>
            </a:r>
            <a:br>
              <a:rPr sz="3200"/>
            </a:b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河流傍着山</a:t>
            </a:r>
            <a:br>
              <a:rPr sz="3200"/>
            </a:b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思念化成泪</a:t>
            </a:r>
            <a:br>
              <a:rPr sz="3200"/>
            </a:b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山的另一旁 </a:t>
            </a:r>
            <a:br>
              <a:rPr sz="3200"/>
            </a:b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悠悠梵音响 </a:t>
            </a:r>
            <a:br>
              <a:rPr sz="3200"/>
            </a:b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布达拉宫 </a:t>
            </a:r>
            <a:br>
              <a:rPr sz="3200"/>
            </a:b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穿越来世情感</a:t>
            </a:r>
            <a:br>
              <a:rPr sz="3200"/>
            </a:b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浩荡的车帐 </a:t>
            </a:r>
            <a:br>
              <a:rPr sz="3200"/>
            </a:b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正给谁做嫁妆 </a:t>
            </a:r>
            <a:br>
              <a:rPr sz="3200"/>
            </a:b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热闹地奏响 </a:t>
            </a:r>
            <a:br>
              <a:rPr sz="3200"/>
            </a:b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把孤单埋葬</a:t>
            </a:r>
            <a:br>
              <a:rPr sz="3200"/>
            </a:b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大唐的辉煌 </a:t>
            </a:r>
            <a:br>
              <a:rPr sz="3200"/>
            </a:b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吐番的蛮荒 </a:t>
            </a:r>
            <a:br>
              <a:rPr sz="3200"/>
            </a:b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丝绸之乡 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千里路的艰难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那日月宝镜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照不到长安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青海湖都点燃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踢踏马蹄声</a:t>
            </a:r>
            <a:br>
              <a:rPr sz="3200"/>
            </a:b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5" descr="灰姑娘"/>
          <p:cNvPicPr/>
          <p:nvPr/>
        </p:nvPicPr>
        <p:blipFill>
          <a:blip r:embed="rId1"/>
          <a:stretch/>
        </p:blipFill>
        <p:spPr>
          <a:xfrm>
            <a:off x="7543800" y="54100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2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2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3200040" y="228600"/>
            <a:ext cx="38862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ff3300"/>
                </a:solidFill>
                <a:latin typeface="宋体"/>
              </a:rPr>
              <a:t>随着晚风 </a:t>
            </a:r>
            <a:br>
              <a:rPr sz="2800"/>
            </a:br>
            <a:r>
              <a:rPr b="0" lang="zh-CN" sz="2800" spc="-1" strike="noStrike">
                <a:solidFill>
                  <a:srgbClr val="ff3300"/>
                </a:solidFill>
                <a:latin typeface="宋体"/>
              </a:rPr>
              <a:t>春色满山谷</a:t>
            </a:r>
            <a:br>
              <a:rPr sz="2800"/>
            </a:br>
            <a:r>
              <a:rPr b="0" lang="zh-CN" sz="2800" spc="-1" strike="noStrike">
                <a:solidFill>
                  <a:srgbClr val="ff3300"/>
                </a:solidFill>
                <a:latin typeface="宋体"/>
              </a:rPr>
              <a:t>征战的年代 </a:t>
            </a:r>
            <a:br>
              <a:rPr sz="2800"/>
            </a:br>
            <a:r>
              <a:rPr b="0" lang="zh-CN" sz="2800" spc="-1" strike="noStrike">
                <a:solidFill>
                  <a:srgbClr val="ff3300"/>
                </a:solidFill>
                <a:latin typeface="宋体"/>
              </a:rPr>
              <a:t>文成和松赞 </a:t>
            </a:r>
            <a:br>
              <a:rPr sz="2800"/>
            </a:br>
            <a:r>
              <a:rPr b="0" lang="zh-CN" sz="2800" spc="-1" strike="noStrike">
                <a:solidFill>
                  <a:srgbClr val="ff3300"/>
                </a:solidFill>
                <a:latin typeface="宋体"/>
              </a:rPr>
              <a:t>心相印的情感</a:t>
            </a:r>
            <a:br>
              <a:rPr sz="2800"/>
            </a:br>
            <a:r>
              <a:rPr b="0" lang="zh-CN" sz="2800" spc="-1" strike="noStrike">
                <a:solidFill>
                  <a:srgbClr val="ff3300"/>
                </a:solidFill>
                <a:latin typeface="宋体"/>
              </a:rPr>
              <a:t>携手长相伴 </a:t>
            </a:r>
            <a:br>
              <a:rPr sz="2800"/>
            </a:br>
            <a:r>
              <a:rPr b="0" lang="zh-CN" sz="2800" spc="-1" strike="noStrike">
                <a:solidFill>
                  <a:srgbClr val="ff3300"/>
                </a:solidFill>
                <a:latin typeface="宋体"/>
              </a:rPr>
              <a:t>千年不悔 </a:t>
            </a:r>
            <a:br>
              <a:rPr sz="2800"/>
            </a:br>
            <a:r>
              <a:rPr b="0" lang="zh-CN" sz="2800" spc="-1" strike="noStrike">
                <a:solidFill>
                  <a:srgbClr val="ff3300"/>
                </a:solidFill>
                <a:latin typeface="宋体"/>
              </a:rPr>
              <a:t>高原是故乡</a:t>
            </a:r>
            <a:br>
              <a:rPr sz="2800"/>
            </a:br>
            <a:r>
              <a:rPr b="0" lang="zh-CN" sz="2800" spc="-1" strike="noStrike">
                <a:solidFill>
                  <a:srgbClr val="ff3300"/>
                </a:solidFill>
                <a:latin typeface="宋体"/>
              </a:rPr>
              <a:t>远方的钟声 </a:t>
            </a:r>
            <a:br>
              <a:rPr sz="2800"/>
            </a:br>
            <a:r>
              <a:rPr b="0" lang="zh-CN" sz="2800" spc="-1" strike="noStrike">
                <a:solidFill>
                  <a:srgbClr val="ff3300"/>
                </a:solidFill>
                <a:latin typeface="宋体"/>
              </a:rPr>
              <a:t>回应日月星光 </a:t>
            </a:r>
            <a:br>
              <a:rPr sz="2800"/>
            </a:br>
            <a:r>
              <a:rPr b="0" lang="zh-CN" sz="2800" spc="-1" strike="noStrike">
                <a:solidFill>
                  <a:srgbClr val="ff3300"/>
                </a:solidFill>
                <a:latin typeface="宋体"/>
              </a:rPr>
              <a:t>泪滴成河宝镜成山</a:t>
            </a:r>
            <a:br>
              <a:rPr sz="2800"/>
            </a:br>
            <a:r>
              <a:rPr b="0" lang="zh-CN" sz="2800" spc="-1" strike="noStrike">
                <a:solidFill>
                  <a:srgbClr val="ff3300"/>
                </a:solidFill>
                <a:latin typeface="宋体"/>
              </a:rPr>
              <a:t>前世到今生 </a:t>
            </a:r>
            <a:br>
              <a:rPr sz="2800"/>
            </a:br>
            <a:r>
              <a:rPr b="0" lang="zh-CN" sz="2800" spc="-1" strike="noStrike">
                <a:solidFill>
                  <a:srgbClr val="ff3300"/>
                </a:solidFill>
                <a:latin typeface="宋体"/>
              </a:rPr>
              <a:t>轮回和流转 </a:t>
            </a:r>
            <a:br>
              <a:rPr sz="2800"/>
            </a:br>
            <a:r>
              <a:rPr b="0" lang="zh-CN" sz="2800" spc="-1" strike="noStrike">
                <a:solidFill>
                  <a:srgbClr val="ff3300"/>
                </a:solidFill>
                <a:latin typeface="宋体"/>
              </a:rPr>
              <a:t>隔着时空放光芒</a:t>
            </a:r>
            <a:br>
              <a:rPr sz="2800"/>
            </a:br>
            <a:r>
              <a:rPr b="0" lang="zh-CN" sz="2800" spc="-1" strike="noStrike">
                <a:solidFill>
                  <a:srgbClr val="ff3300"/>
                </a:solidFill>
                <a:latin typeface="宋体"/>
              </a:rPr>
              <a:t>浩荡的车帐 </a:t>
            </a:r>
            <a:br>
              <a:rPr sz="2800"/>
            </a:br>
            <a:r>
              <a:rPr b="0" lang="zh-CN" sz="2800" spc="-1" strike="noStrike">
                <a:solidFill>
                  <a:srgbClr val="ff3300"/>
                </a:solidFill>
                <a:latin typeface="宋体"/>
              </a:rPr>
              <a:t>正给谁做嫁妆 </a:t>
            </a:r>
            <a:br>
              <a:rPr sz="2800"/>
            </a:br>
            <a:r>
              <a:rPr b="0" lang="zh-CN" sz="2800" spc="-1" strike="noStrike">
                <a:solidFill>
                  <a:srgbClr val="ff3300"/>
                </a:solidFill>
                <a:latin typeface="宋体"/>
              </a:rPr>
              <a:t>热闹地奏响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2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2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Group 4"/>
          <p:cNvGrpSpPr/>
          <p:nvPr/>
        </p:nvGrpSpPr>
        <p:grpSpPr>
          <a:xfrm>
            <a:off x="3048120" y="990720"/>
            <a:ext cx="3200400" cy="764280"/>
            <a:chOff x="3048120" y="990720"/>
            <a:chExt cx="3200400" cy="764280"/>
          </a:xfrm>
        </p:grpSpPr>
        <p:pic>
          <p:nvPicPr>
            <p:cNvPr id="216" name="Picture 5" descr="large_3526k70"/>
            <p:cNvPicPr/>
            <p:nvPr/>
          </p:nvPicPr>
          <p:blipFill>
            <a:blip r:embed="rId1"/>
            <a:srcRect l="0" t="0" r="2008" b="4337"/>
            <a:stretch/>
          </p:blipFill>
          <p:spPr>
            <a:xfrm>
              <a:off x="3048120" y="990720"/>
              <a:ext cx="320040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Text Box 6"/>
            <p:cNvSpPr/>
            <p:nvPr/>
          </p:nvSpPr>
          <p:spPr>
            <a:xfrm>
              <a:off x="3436920" y="990720"/>
              <a:ext cx="2511720" cy="764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0000"/>
                  </a:solidFill>
                  <a:latin typeface="Arial"/>
                  <a:ea typeface="华文隶书"/>
                </a:rPr>
                <a:t>课堂小结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Text Box 9"/>
          <p:cNvSpPr/>
          <p:nvPr/>
        </p:nvSpPr>
        <p:spPr>
          <a:xfrm>
            <a:off x="1295280" y="2286000"/>
            <a:ext cx="66294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文成公主知书达礼，不畏艰险，远嫁吐蕃，为促进唐、蕃之间经济文化交流，增进汉藏两族人民亲密友好合作的关系做出了历史性贡献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10" descr="png-1379"/>
          <p:cNvPicPr/>
          <p:nvPr/>
        </p:nvPicPr>
        <p:blipFill>
          <a:blip r:embed="rId2"/>
          <a:stretch/>
        </p:blipFill>
        <p:spPr>
          <a:xfrm>
            <a:off x="3124080" y="50292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1" descr="png-1377"/>
          <p:cNvPicPr/>
          <p:nvPr/>
        </p:nvPicPr>
        <p:blipFill>
          <a:blip r:embed="rId3"/>
          <a:stretch/>
        </p:blipFill>
        <p:spPr>
          <a:xfrm>
            <a:off x="5791320" y="449568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Group 4"/>
          <p:cNvGrpSpPr/>
          <p:nvPr/>
        </p:nvGrpSpPr>
        <p:grpSpPr>
          <a:xfrm>
            <a:off x="3048120" y="1066680"/>
            <a:ext cx="3200400" cy="990720"/>
            <a:chOff x="3048120" y="1066680"/>
            <a:chExt cx="3200400" cy="990720"/>
          </a:xfrm>
        </p:grpSpPr>
        <p:pic>
          <p:nvPicPr>
            <p:cNvPr id="222" name="Picture 5" descr="large_3526k70"/>
            <p:cNvPicPr/>
            <p:nvPr/>
          </p:nvPicPr>
          <p:blipFill>
            <a:blip r:embed="rId1"/>
            <a:srcRect l="0" t="0" r="2008" b="4337"/>
            <a:stretch/>
          </p:blipFill>
          <p:spPr>
            <a:xfrm>
              <a:off x="3048120" y="1066680"/>
              <a:ext cx="3200400" cy="99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Text Box 6"/>
            <p:cNvSpPr/>
            <p:nvPr/>
          </p:nvSpPr>
          <p:spPr>
            <a:xfrm>
              <a:off x="3436920" y="1066680"/>
              <a:ext cx="2511720" cy="764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0000"/>
                  </a:solidFill>
                  <a:latin typeface="Arial"/>
                  <a:ea typeface="华文隶书"/>
                </a:rPr>
                <a:t>巩固练习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Text Box 8"/>
          <p:cNvSpPr/>
          <p:nvPr/>
        </p:nvSpPr>
        <p:spPr>
          <a:xfrm>
            <a:off x="1371600" y="213372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能看拼音写汉字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9"/>
          <p:cNvSpPr/>
          <p:nvPr/>
        </p:nvSpPr>
        <p:spPr>
          <a:xfrm>
            <a:off x="1066680" y="2895480"/>
            <a:ext cx="7848720" cy="21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xī zànɡ        zhì huì     lónɡ zhònɡ    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(      )      (       )     (        ) 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pián yì            lā sà 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(           )      (           )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0"/>
          <p:cNvSpPr/>
          <p:nvPr/>
        </p:nvSpPr>
        <p:spPr>
          <a:xfrm>
            <a:off x="1295280" y="33526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希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1"/>
          <p:cNvSpPr/>
          <p:nvPr/>
        </p:nvSpPr>
        <p:spPr>
          <a:xfrm>
            <a:off x="3886200" y="32767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智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2"/>
          <p:cNvSpPr/>
          <p:nvPr/>
        </p:nvSpPr>
        <p:spPr>
          <a:xfrm>
            <a:off x="6477120" y="33526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隆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3"/>
          <p:cNvSpPr/>
          <p:nvPr/>
        </p:nvSpPr>
        <p:spPr>
          <a:xfrm>
            <a:off x="4876920" y="4572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拉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4"/>
          <p:cNvSpPr/>
          <p:nvPr/>
        </p:nvSpPr>
        <p:spPr>
          <a:xfrm>
            <a:off x="1905120" y="45864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便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16" descr="10 (963)"/>
          <p:cNvPicPr/>
          <p:nvPr/>
        </p:nvPicPr>
        <p:blipFill>
          <a:blip r:embed="rId2"/>
          <a:stretch/>
        </p:blipFill>
        <p:spPr>
          <a:xfrm>
            <a:off x="5181480" y="4724280"/>
            <a:ext cx="2006640" cy="200664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13"/>
          <p:cNvSpPr/>
          <p:nvPr/>
        </p:nvSpPr>
        <p:spPr>
          <a:xfrm>
            <a:off x="1106640" y="6118200"/>
            <a:ext cx="675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之家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031"/>
          <p:cNvSpPr/>
          <p:nvPr/>
        </p:nvSpPr>
        <p:spPr>
          <a:xfrm>
            <a:off x="990720" y="1219320"/>
            <a:ext cx="77724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在唐朝，为了边塞安定和平，不再连年征战；朝廷采用和亲的政策。先后就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位公主为和亲嫁给吐蕃、契丹、吐谷浑、回讫等边塞小国的国王或王子。这些公主当中，最闻名于后世的当属嫁到吐蕃的文成公主。文成公主在吐蕃生活了四十年，她为汉藏两族人民的友好和藏族经济文化发展做出了贡献。直到现在，在西藏的大昭寺和布达拉宫，还供奉着松赞干布和文成公主的塑像。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032" descr="png-1475"/>
          <p:cNvPicPr/>
          <p:nvPr/>
        </p:nvPicPr>
        <p:blipFill>
          <a:blip r:embed="rId1"/>
          <a:stretch/>
        </p:blipFill>
        <p:spPr>
          <a:xfrm>
            <a:off x="5181480" y="54100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1143000" y="1447920"/>
            <a:ext cx="66294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文成公主的故事，在民间流传得很广泛。在老白姓的口口相传中，这个真实的故事增加了许多神秘的色彩。那么，在老百姓的眼里，文成公主是个怎样的人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png-1448"/>
          <p:cNvPicPr/>
          <p:nvPr/>
        </p:nvPicPr>
        <p:blipFill>
          <a:blip r:embed="rId1"/>
          <a:stretch/>
        </p:blipFill>
        <p:spPr>
          <a:xfrm>
            <a:off x="1905120" y="4038480"/>
            <a:ext cx="1523880" cy="1752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png-1441"/>
          <p:cNvPicPr/>
          <p:nvPr/>
        </p:nvPicPr>
        <p:blipFill>
          <a:blip r:embed="rId2"/>
          <a:stretch/>
        </p:blipFill>
        <p:spPr>
          <a:xfrm>
            <a:off x="4724280" y="3962520"/>
            <a:ext cx="2362320" cy="19810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79280" y="476280"/>
            <a:ext cx="850752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文成公主知书达理，不畏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险，远嫁吐蕃，为促进唐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蕃之间经济文化交流，增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汉藏两族人民亲密友好合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关系做出了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历史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性贡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藏族人民热爱美丽的文成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主，把她当成神一样崇拜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因此，民间流传着许多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于文成公主进藏的故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今天，我们要读的，是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中的一个故事。</a:t>
            </a: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11787185317251198"/>
          <p:cNvPicPr/>
          <p:nvPr/>
        </p:nvPicPr>
        <p:blipFill>
          <a:blip r:embed="rId2"/>
          <a:stretch/>
        </p:blipFill>
        <p:spPr>
          <a:xfrm>
            <a:off x="4859280" y="549360"/>
            <a:ext cx="4116600" cy="58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0" y="1844640"/>
            <a:ext cx="98283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听准字音，把课文听正确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想想课文写了哪些人和哪些事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思考：文成公主为什么会进西藏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539640" y="620640"/>
            <a:ext cx="3600720" cy="9169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cc"/>
                </a:solidFill>
                <a:latin typeface="Arial"/>
                <a:ea typeface="楷体_GB2312"/>
              </a:rPr>
              <a:t> </a:t>
            </a:r>
            <a:r>
              <a:rPr b="1" lang="zh-CN" sz="5400" spc="-1" strike="noStrike">
                <a:solidFill>
                  <a:srgbClr val="ff33cc"/>
                </a:solidFill>
                <a:latin typeface="Arial"/>
                <a:ea typeface="楷体_GB2312"/>
              </a:rPr>
              <a:t>听读自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动画星星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6877080" y="26028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line20"/>
          <p:cNvPicPr/>
          <p:nvPr/>
        </p:nvPicPr>
        <p:blipFill>
          <a:blip r:embed="rId2"/>
          <a:stretch/>
        </p:blipFill>
        <p:spPr>
          <a:xfrm>
            <a:off x="0" y="6308640"/>
            <a:ext cx="9144000" cy="3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活动策划方案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yingxiao/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免费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工业制造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ye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会议报告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交通安全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aotong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教育培训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卡通动漫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atong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体育运动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475920"/>
            <a:ext cx="869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你能读准这些词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4000"/>
          </a:bodyPr>
          <a:p>
            <a:pPr marL="18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hén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hūn   juàn    zhǎo     jíxiáng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大臣  求婚     绢花   沼泽地   吉祥如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0" y="3933720"/>
            <a:ext cx="9144000" cy="23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600200" indent="-2286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00200" indent="-2286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        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ɡān       yóu       nǎi</a:t>
            </a:r>
            <a:r>
              <a:rPr b="1" lang="en-US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600200" indent="-2286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松赞干布    达尤龙真  乃巴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0" y="2421000"/>
            <a:ext cx="914400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9000"/>
          </a:bodyPr>
          <a:p>
            <a:pPr marL="1584000" indent="-2260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ō      kē wān    qiáo       w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584000" indent="-2260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吐蕃   青稞   豌豆  荞麦   可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7T09:01:4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3:17:23Z</dcterms:modified>
  <cp:revision>0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  <property fmtid="{D5CDD505-2E9C-101B-9397-08002B2CF9AE}" pid="3" name="Version">
    <vt:r8>1</vt:r8>
  </property>
</Properties>
</file>