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F00-D7B2-4A16-BADD-59502A0D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1E7-5145-4267-BBDC-772E47C3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5B1-C4E1-442D-B613-6D47CE7B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A6D-4BDA-4504-AAA3-23CA7E51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DCA-998D-4AAA-981C-77FA034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168-37AB-4131-9C37-2CA55C9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B11-625C-45FF-AC26-FA89BC9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CB5-2D84-4B41-BAEE-1B4810DB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C7F-BDBD-46BB-9404-C644AAA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FD5-4E9E-4974-8AF4-4AA082A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0EC-FBA2-4ECB-B1D4-6541931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1C0-D55F-4BB2-A5F5-6D35AA7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CC5-2A05-4A1E-8201-70A520080F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F519-957D-459B-A3BD-D59902CA8D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"/>
          <p:cNvSpPr/>
          <p:nvPr/>
        </p:nvSpPr>
        <p:spPr>
          <a:xfrm>
            <a:off x="3967200" y="3716280"/>
            <a:ext cx="1149480" cy="115416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6"/>
          <p:cNvSpPr/>
          <p:nvPr/>
        </p:nvSpPr>
        <p:spPr>
          <a:xfrm>
            <a:off x="0" y="3716280"/>
            <a:ext cx="3995640" cy="115272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7"/>
          <p:cNvSpPr/>
          <p:nvPr/>
        </p:nvSpPr>
        <p:spPr>
          <a:xfrm>
            <a:off x="5110200" y="3719520"/>
            <a:ext cx="4033800" cy="115092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4140360" y="1700280"/>
            <a:ext cx="1584000" cy="1968480"/>
            <a:chOff x="4140360" y="1700280"/>
            <a:chExt cx="1584000" cy="1968480"/>
          </a:xfrm>
        </p:grpSpPr>
        <p:sp>
          <p:nvSpPr>
            <p:cNvPr id="84" name="AutoShape 3"/>
            <p:cNvSpPr/>
            <p:nvPr/>
          </p:nvSpPr>
          <p:spPr>
            <a:xfrm>
              <a:off x="4140360" y="1700280"/>
              <a:ext cx="1584000" cy="19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4371840" y="1787760"/>
              <a:ext cx="40680" cy="15732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62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39640" y="1159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的团队我的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BC9-E8E6-4696-BD03-6A8C9B15DF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3143160" y="1857240"/>
            <a:ext cx="5832720" cy="485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6496200" y="2068560"/>
            <a:ext cx="2152440" cy="25369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1"/>
          <p:cNvSpPr/>
          <p:nvPr/>
        </p:nvSpPr>
        <p:spPr>
          <a:xfrm>
            <a:off x="928800" y="1928880"/>
            <a:ext cx="5214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需要用业绩来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而业绩是靠能力去创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对一个企业来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员工的能力和责任都是动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1357200" y="714240"/>
            <a:ext cx="3760920" cy="858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6"/>
          <p:cNvSpPr/>
          <p:nvPr/>
        </p:nvSpPr>
        <p:spPr>
          <a:xfrm rot="18900000">
            <a:off x="63360" y="-1363680"/>
            <a:ext cx="1055880" cy="396576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-1031400" y="-175680"/>
            <a:ext cx="5357880" cy="2940840"/>
            <a:chOff x="-1031400" y="-175680"/>
            <a:chExt cx="5357880" cy="2940840"/>
          </a:xfrm>
        </p:grpSpPr>
        <p:sp>
          <p:nvSpPr>
            <p:cNvPr id="230" name="矩形 7"/>
            <p:cNvSpPr/>
            <p:nvPr/>
          </p:nvSpPr>
          <p:spPr>
            <a:xfrm rot="18900000">
              <a:off x="2227680" y="1199520"/>
              <a:ext cx="23778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8"/>
            <p:cNvSpPr/>
            <p:nvPr/>
          </p:nvSpPr>
          <p:spPr>
            <a:xfrm rot="18900000">
              <a:off x="-1542600" y="1196640"/>
              <a:ext cx="3963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6"/>
          <p:cNvGrpSpPr/>
          <p:nvPr/>
        </p:nvGrpSpPr>
        <p:grpSpPr>
          <a:xfrm>
            <a:off x="-1477440" y="-3071160"/>
            <a:ext cx="2966040" cy="5338080"/>
            <a:chOff x="-1477440" y="-3071160"/>
            <a:chExt cx="2966040" cy="5338080"/>
          </a:xfrm>
        </p:grpSpPr>
        <p:sp>
          <p:nvSpPr>
            <p:cNvPr id="233" name="矩形 12"/>
            <p:cNvSpPr/>
            <p:nvPr/>
          </p:nvSpPr>
          <p:spPr>
            <a:xfrm flipV="1" rot="18900000">
              <a:off x="-1199880" y="-2247480"/>
              <a:ext cx="240624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3"/>
            <p:cNvSpPr/>
            <p:nvPr/>
          </p:nvSpPr>
          <p:spPr>
            <a:xfrm flipV="1" rot="18900000">
              <a:off x="-1999080" y="690840"/>
              <a:ext cx="400968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矩形 14"/>
          <p:cNvSpPr/>
          <p:nvPr/>
        </p:nvSpPr>
        <p:spPr>
          <a:xfrm rot="18900000">
            <a:off x="1800" y="10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4357800" y="928800"/>
            <a:ext cx="4248000" cy="863640"/>
            <a:chOff x="4357800" y="928800"/>
            <a:chExt cx="4248000" cy="863640"/>
          </a:xfrm>
        </p:grpSpPr>
        <p:sp>
          <p:nvSpPr>
            <p:cNvPr id="237" name="圆角矩形 10"/>
            <p:cNvSpPr/>
            <p:nvPr/>
          </p:nvSpPr>
          <p:spPr>
            <a:xfrm>
              <a:off x="4357800" y="928800"/>
              <a:ext cx="42480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1"/>
            <p:cNvSpPr/>
            <p:nvPr/>
          </p:nvSpPr>
          <p:spPr>
            <a:xfrm>
              <a:off x="5691960" y="1089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上下同欲者胜！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1763640" y="2550960"/>
            <a:ext cx="5616720" cy="649440"/>
            <a:chOff x="1763640" y="2550960"/>
            <a:chExt cx="5616720" cy="649440"/>
          </a:xfrm>
        </p:grpSpPr>
        <p:grpSp>
          <p:nvGrpSpPr>
            <p:cNvPr id="240" name="Group 14"/>
            <p:cNvGrpSpPr/>
            <p:nvPr/>
          </p:nvGrpSpPr>
          <p:grpSpPr>
            <a:xfrm>
              <a:off x="1763640" y="2550960"/>
              <a:ext cx="5616720" cy="649440"/>
              <a:chOff x="1763640" y="2550960"/>
              <a:chExt cx="5616720" cy="649440"/>
            </a:xfrm>
          </p:grpSpPr>
          <p:sp>
            <p:nvSpPr>
              <p:cNvPr id="241" name="圆角矩形 18"/>
              <p:cNvSpPr/>
              <p:nvPr/>
            </p:nvSpPr>
            <p:spPr>
              <a:xfrm>
                <a:off x="1763640" y="255096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圆角矩形 19"/>
              <p:cNvSpPr/>
              <p:nvPr/>
            </p:nvSpPr>
            <p:spPr>
              <a:xfrm>
                <a:off x="1763640" y="260316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17"/>
            <p:cNvSpPr/>
            <p:nvPr/>
          </p:nvSpPr>
          <p:spPr>
            <a:xfrm>
              <a:off x="1834920" y="260316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1763640" y="5072040"/>
            <a:ext cx="5616720" cy="647640"/>
            <a:chOff x="1763640" y="5072040"/>
            <a:chExt cx="5616720" cy="647640"/>
          </a:xfrm>
        </p:grpSpPr>
        <p:grpSp>
          <p:nvGrpSpPr>
            <p:cNvPr id="245" name="Group 19"/>
            <p:cNvGrpSpPr/>
            <p:nvPr/>
          </p:nvGrpSpPr>
          <p:grpSpPr>
            <a:xfrm>
              <a:off x="1763640" y="5072040"/>
              <a:ext cx="5616720" cy="647640"/>
              <a:chOff x="1763640" y="5072040"/>
              <a:chExt cx="5616720" cy="647640"/>
            </a:xfrm>
          </p:grpSpPr>
          <p:sp>
            <p:nvSpPr>
              <p:cNvPr id="246" name="圆角矩形 23"/>
              <p:cNvSpPr/>
              <p:nvPr/>
            </p:nvSpPr>
            <p:spPr>
              <a:xfrm>
                <a:off x="1763640" y="507204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圆角矩形 24"/>
              <p:cNvSpPr/>
              <p:nvPr/>
            </p:nvSpPr>
            <p:spPr>
              <a:xfrm>
                <a:off x="1763640" y="512424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Box 22"/>
            <p:cNvSpPr/>
            <p:nvPr/>
          </p:nvSpPr>
          <p:spPr>
            <a:xfrm>
              <a:off x="1834920" y="514332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责 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1763640" y="3776760"/>
            <a:ext cx="5616720" cy="647640"/>
            <a:chOff x="1763640" y="3776760"/>
            <a:chExt cx="5616720" cy="647640"/>
          </a:xfrm>
        </p:grpSpPr>
        <p:grpSp>
          <p:nvGrpSpPr>
            <p:cNvPr id="250" name="Group 24"/>
            <p:cNvGrpSpPr/>
            <p:nvPr/>
          </p:nvGrpSpPr>
          <p:grpSpPr>
            <a:xfrm>
              <a:off x="1763640" y="3776760"/>
              <a:ext cx="5616720" cy="647640"/>
              <a:chOff x="1763640" y="3776760"/>
              <a:chExt cx="5616720" cy="647640"/>
            </a:xfrm>
          </p:grpSpPr>
          <p:sp>
            <p:nvSpPr>
              <p:cNvPr id="251" name="圆角矩形 28"/>
              <p:cNvSpPr/>
              <p:nvPr/>
            </p:nvSpPr>
            <p:spPr>
              <a:xfrm>
                <a:off x="1763640" y="377676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圆角矩形 29"/>
              <p:cNvSpPr/>
              <p:nvPr/>
            </p:nvSpPr>
            <p:spPr>
              <a:xfrm>
                <a:off x="1763640" y="382896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Box 27"/>
            <p:cNvSpPr/>
            <p:nvPr/>
          </p:nvSpPr>
          <p:spPr>
            <a:xfrm>
              <a:off x="1835640" y="3829320"/>
              <a:ext cx="54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修己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和众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安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pull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37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378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6"/>
          <p:cNvSpPr/>
          <p:nvPr/>
        </p:nvSpPr>
        <p:spPr>
          <a:xfrm rot="18900000">
            <a:off x="63360" y="-1363680"/>
            <a:ext cx="1055880" cy="396576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-1031400" y="-175680"/>
            <a:ext cx="5357880" cy="2940840"/>
            <a:chOff x="-1031400" y="-175680"/>
            <a:chExt cx="5357880" cy="2940840"/>
          </a:xfrm>
        </p:grpSpPr>
        <p:sp>
          <p:nvSpPr>
            <p:cNvPr id="256" name="矩形 7"/>
            <p:cNvSpPr/>
            <p:nvPr/>
          </p:nvSpPr>
          <p:spPr>
            <a:xfrm rot="18900000">
              <a:off x="2227680" y="1199520"/>
              <a:ext cx="23778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8"/>
            <p:cNvSpPr/>
            <p:nvPr/>
          </p:nvSpPr>
          <p:spPr>
            <a:xfrm rot="18900000">
              <a:off x="-1542600" y="1196640"/>
              <a:ext cx="3963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"/>
          <p:cNvGrpSpPr/>
          <p:nvPr/>
        </p:nvGrpSpPr>
        <p:grpSpPr>
          <a:xfrm>
            <a:off x="-1477440" y="-3071160"/>
            <a:ext cx="2966040" cy="5338080"/>
            <a:chOff x="-1477440" y="-3071160"/>
            <a:chExt cx="2966040" cy="5338080"/>
          </a:xfrm>
        </p:grpSpPr>
        <p:sp>
          <p:nvSpPr>
            <p:cNvPr id="259" name="矩形 12"/>
            <p:cNvSpPr/>
            <p:nvPr/>
          </p:nvSpPr>
          <p:spPr>
            <a:xfrm flipV="1" rot="18900000">
              <a:off x="-1199880" y="-2247480"/>
              <a:ext cx="240624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3"/>
            <p:cNvSpPr/>
            <p:nvPr/>
          </p:nvSpPr>
          <p:spPr>
            <a:xfrm flipV="1" rot="18900000">
              <a:off x="-1999080" y="690840"/>
              <a:ext cx="400968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14"/>
          <p:cNvSpPr/>
          <p:nvPr/>
        </p:nvSpPr>
        <p:spPr>
          <a:xfrm rot="18900000">
            <a:off x="1800" y="10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30" descr=""/>
          <p:cNvPicPr/>
          <p:nvPr/>
        </p:nvPicPr>
        <p:blipFill>
          <a:blip r:embed="rId1"/>
          <a:stretch/>
        </p:blipFill>
        <p:spPr>
          <a:xfrm>
            <a:off x="1892160" y="2155680"/>
            <a:ext cx="5359680" cy="25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416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A3A-2938-4F7F-9A6D-9925DC025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 rot="18900000">
            <a:off x="52560" y="-1050480"/>
            <a:ext cx="1055520" cy="396540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-1031400" y="-175680"/>
            <a:ext cx="5357880" cy="2940840"/>
            <a:chOff x="-1031400" y="-175680"/>
            <a:chExt cx="5357880" cy="2940840"/>
          </a:xfrm>
        </p:grpSpPr>
        <p:sp>
          <p:nvSpPr>
            <p:cNvPr id="90" name="矩形 7"/>
            <p:cNvSpPr/>
            <p:nvPr/>
          </p:nvSpPr>
          <p:spPr>
            <a:xfrm rot="18900000">
              <a:off x="2227680" y="1199520"/>
              <a:ext cx="23778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"/>
            <p:cNvSpPr/>
            <p:nvPr/>
          </p:nvSpPr>
          <p:spPr>
            <a:xfrm rot="18900000">
              <a:off x="-1542600" y="1196640"/>
              <a:ext cx="3963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"/>
          <p:cNvGrpSpPr/>
          <p:nvPr/>
        </p:nvGrpSpPr>
        <p:grpSpPr>
          <a:xfrm>
            <a:off x="-1282320" y="-3051360"/>
            <a:ext cx="2972520" cy="5344560"/>
            <a:chOff x="-1282320" y="-3051360"/>
            <a:chExt cx="2972520" cy="5344560"/>
          </a:xfrm>
        </p:grpSpPr>
        <p:sp>
          <p:nvSpPr>
            <p:cNvPr id="93" name="矩形 12"/>
            <p:cNvSpPr/>
            <p:nvPr/>
          </p:nvSpPr>
          <p:spPr>
            <a:xfrm flipV="1" rot="18900000">
              <a:off x="-1002600" y="-2228760"/>
              <a:ext cx="2406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3"/>
            <p:cNvSpPr/>
            <p:nvPr/>
          </p:nvSpPr>
          <p:spPr>
            <a:xfrm flipV="1" rot="18900000">
              <a:off x="-1801440" y="710280"/>
              <a:ext cx="4011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14"/>
          <p:cNvSpPr/>
          <p:nvPr/>
        </p:nvSpPr>
        <p:spPr>
          <a:xfrm rot="18900000">
            <a:off x="1800" y="10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1214280" y="2643120"/>
            <a:ext cx="6715440" cy="3071880"/>
            <a:chOff x="1214280" y="2643120"/>
            <a:chExt cx="6715440" cy="3071880"/>
          </a:xfrm>
        </p:grpSpPr>
        <p:sp>
          <p:nvSpPr>
            <p:cNvPr id="97" name="圆角矩形 17"/>
            <p:cNvSpPr/>
            <p:nvPr/>
          </p:nvSpPr>
          <p:spPr>
            <a:xfrm>
              <a:off x="1214280" y="2643120"/>
              <a:ext cx="6715440" cy="307188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圆角矩形 18"/>
            <p:cNvSpPr/>
            <p:nvPr/>
          </p:nvSpPr>
          <p:spPr>
            <a:xfrm>
              <a:off x="1214280" y="2728800"/>
              <a:ext cx="6715440" cy="29005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9"/>
          <p:cNvSpPr/>
          <p:nvPr/>
        </p:nvSpPr>
        <p:spPr>
          <a:xfrm>
            <a:off x="1579680" y="3068640"/>
            <a:ext cx="59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本次培训旨在通过讲述如何创建一个优秀的团队，及在创建团队过程中管理者和员工应该如何正确定位自己，以促进团队的健康发展。如何做到</a:t>
            </a:r>
            <a:r>
              <a:rPr b="0" lang="zh-CN" sz="2400" spc="-1" strike="noStrike">
                <a:solidFill>
                  <a:srgbClr val="244061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上下同欲者胜</a:t>
            </a:r>
            <a:r>
              <a:rPr b="0" lang="zh-CN" sz="2400" spc="-1" strike="noStrike">
                <a:solidFill>
                  <a:srgbClr val="244061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763720" y="642960"/>
            <a:ext cx="5737320" cy="1341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0" y="5084640"/>
            <a:ext cx="1359000" cy="1773360"/>
          </a:xfrm>
          <a:prstGeom prst="rect">
            <a:avLst/>
          </a:prstGeom>
          <a:ln w="0">
            <a:noFill/>
          </a:ln>
        </p:spPr>
      </p:pic>
      <p:sp>
        <p:nvSpPr>
          <p:cNvPr id="102" name="矩形 10"/>
          <p:cNvSpPr/>
          <p:nvPr/>
        </p:nvSpPr>
        <p:spPr>
          <a:xfrm>
            <a:off x="0" y="1643040"/>
            <a:ext cx="8572680" cy="17146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6848640" y="1643040"/>
            <a:ext cx="1724040" cy="17146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6856560" y="1413000"/>
            <a:ext cx="1724040" cy="122220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854760" y="1865160"/>
            <a:ext cx="1724040" cy="293220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7236000" y="1341360"/>
            <a:ext cx="101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目  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4808160" y="687600"/>
            <a:ext cx="2306880" cy="5277600"/>
            <a:chOff x="4808160" y="687600"/>
            <a:chExt cx="2306880" cy="5277600"/>
          </a:xfrm>
        </p:grpSpPr>
        <p:sp>
          <p:nvSpPr>
            <p:cNvPr id="108" name="矩形 16"/>
            <p:cNvSpPr/>
            <p:nvPr/>
          </p:nvSpPr>
          <p:spPr>
            <a:xfrm rot="5400000">
              <a:off x="3717000" y="4678560"/>
              <a:ext cx="237744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 rot="5400000">
              <a:off x="5036040" y="2571120"/>
              <a:ext cx="396252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7975440" y="831240"/>
            <a:ext cx="2307240" cy="5279040"/>
            <a:chOff x="7975440" y="831240"/>
            <a:chExt cx="2307240" cy="5279040"/>
          </a:xfrm>
        </p:grpSpPr>
        <p:sp>
          <p:nvSpPr>
            <p:cNvPr id="111" name="矩形 22"/>
            <p:cNvSpPr/>
            <p:nvPr/>
          </p:nvSpPr>
          <p:spPr>
            <a:xfrm rot="5400000">
              <a:off x="6883920" y="4823280"/>
              <a:ext cx="237852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3"/>
            <p:cNvSpPr/>
            <p:nvPr/>
          </p:nvSpPr>
          <p:spPr>
            <a:xfrm rot="5400000">
              <a:off x="8202600" y="2715480"/>
              <a:ext cx="396432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900000" y="1484280"/>
            <a:ext cx="5616720" cy="649440"/>
            <a:chOff x="900000" y="1484280"/>
            <a:chExt cx="5616720" cy="649440"/>
          </a:xfrm>
        </p:grpSpPr>
        <p:grpSp>
          <p:nvGrpSpPr>
            <p:cNvPr id="114" name="Group 15"/>
            <p:cNvGrpSpPr/>
            <p:nvPr/>
          </p:nvGrpSpPr>
          <p:grpSpPr>
            <a:xfrm>
              <a:off x="900000" y="1484280"/>
              <a:ext cx="5616720" cy="649440"/>
              <a:chOff x="900000" y="1484280"/>
              <a:chExt cx="5616720" cy="649440"/>
            </a:xfrm>
          </p:grpSpPr>
          <p:sp>
            <p:nvSpPr>
              <p:cNvPr id="115" name="圆角矩形 18"/>
              <p:cNvSpPr/>
              <p:nvPr/>
            </p:nvSpPr>
            <p:spPr>
              <a:xfrm>
                <a:off x="900000" y="148428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圆角矩形 19"/>
              <p:cNvSpPr/>
              <p:nvPr/>
            </p:nvSpPr>
            <p:spPr>
              <a:xfrm>
                <a:off x="900000" y="153648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1"/>
            <p:cNvSpPr/>
            <p:nvPr/>
          </p:nvSpPr>
          <p:spPr>
            <a:xfrm>
              <a:off x="971280" y="153648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如何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900000" y="4005360"/>
            <a:ext cx="5616720" cy="647640"/>
            <a:chOff x="900000" y="4005360"/>
            <a:chExt cx="5616720" cy="647640"/>
          </a:xfrm>
        </p:grpSpPr>
        <p:grpSp>
          <p:nvGrpSpPr>
            <p:cNvPr id="119" name="Group 20"/>
            <p:cNvGrpSpPr/>
            <p:nvPr/>
          </p:nvGrpSpPr>
          <p:grpSpPr>
            <a:xfrm>
              <a:off x="900000" y="4005360"/>
              <a:ext cx="5616720" cy="647640"/>
              <a:chOff x="900000" y="4005360"/>
              <a:chExt cx="5616720" cy="647640"/>
            </a:xfrm>
          </p:grpSpPr>
          <p:sp>
            <p:nvSpPr>
              <p:cNvPr id="120" name="圆角矩形 29"/>
              <p:cNvSpPr/>
              <p:nvPr/>
            </p:nvSpPr>
            <p:spPr>
              <a:xfrm>
                <a:off x="900000" y="400536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圆角矩形 30"/>
              <p:cNvSpPr/>
              <p:nvPr/>
            </p:nvSpPr>
            <p:spPr>
              <a:xfrm>
                <a:off x="900000" y="405756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32"/>
            <p:cNvSpPr/>
            <p:nvPr/>
          </p:nvSpPr>
          <p:spPr>
            <a:xfrm>
              <a:off x="971280" y="407664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责 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900000" y="2708280"/>
            <a:ext cx="5616720" cy="649440"/>
            <a:chOff x="900000" y="2708280"/>
            <a:chExt cx="5616720" cy="649440"/>
          </a:xfrm>
        </p:grpSpPr>
        <p:grpSp>
          <p:nvGrpSpPr>
            <p:cNvPr id="124" name="Group 25"/>
            <p:cNvGrpSpPr/>
            <p:nvPr/>
          </p:nvGrpSpPr>
          <p:grpSpPr>
            <a:xfrm>
              <a:off x="900000" y="2708280"/>
              <a:ext cx="5616720" cy="649440"/>
              <a:chOff x="900000" y="2708280"/>
              <a:chExt cx="5616720" cy="649440"/>
            </a:xfrm>
          </p:grpSpPr>
          <p:sp>
            <p:nvSpPr>
              <p:cNvPr id="125" name="圆角矩形 25"/>
              <p:cNvSpPr/>
              <p:nvPr/>
            </p:nvSpPr>
            <p:spPr>
              <a:xfrm>
                <a:off x="900000" y="270828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圆角矩形 26"/>
              <p:cNvSpPr/>
              <p:nvPr/>
            </p:nvSpPr>
            <p:spPr>
              <a:xfrm>
                <a:off x="900000" y="276048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33"/>
            <p:cNvSpPr/>
            <p:nvPr/>
          </p:nvSpPr>
          <p:spPr>
            <a:xfrm>
              <a:off x="972000" y="2761200"/>
              <a:ext cx="54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修己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和众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安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split dir="in" orient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"/>
                            </p:stCondLst>
                            <p:childTnLst>
                              <p:par>
                                <p:cTn id="5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7734E-006 L 0.34895 0.00463 E">
                                      <p:cBhvr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1642 L -0.32951 -0.01827 E">
                                      <p:cBhvr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3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8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8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4"/>
          <p:cNvSpPr/>
          <p:nvPr/>
        </p:nvSpPr>
        <p:spPr>
          <a:xfrm rot="18900000">
            <a:off x="63360" y="-1363680"/>
            <a:ext cx="1055880" cy="396576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-1606680" y="41040"/>
            <a:ext cx="5356800" cy="2939760"/>
            <a:chOff x="-1606680" y="41040"/>
            <a:chExt cx="5356800" cy="2939760"/>
          </a:xfrm>
        </p:grpSpPr>
        <p:sp>
          <p:nvSpPr>
            <p:cNvPr id="130" name="矩形 24"/>
            <p:cNvSpPr/>
            <p:nvPr/>
          </p:nvSpPr>
          <p:spPr>
            <a:xfrm rot="18900000">
              <a:off x="1651680" y="1415520"/>
              <a:ext cx="237708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5"/>
            <p:cNvSpPr/>
            <p:nvPr/>
          </p:nvSpPr>
          <p:spPr>
            <a:xfrm rot="18900000">
              <a:off x="-2117520" y="1413000"/>
              <a:ext cx="3962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7080" y="1893960"/>
            <a:ext cx="4721400" cy="434340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 8"/>
          <p:cNvSpPr/>
          <p:nvPr/>
        </p:nvSpPr>
        <p:spPr>
          <a:xfrm>
            <a:off x="468360" y="1628640"/>
            <a:ext cx="8229600" cy="4680000"/>
          </a:xfrm>
          <a:prstGeom prst="roundRect">
            <a:avLst>
              <a:gd name="adj" fmla="val 4972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4500720" y="1052640"/>
            <a:ext cx="3743280" cy="792000"/>
            <a:chOff x="4500720" y="1052640"/>
            <a:chExt cx="3743280" cy="792000"/>
          </a:xfrm>
        </p:grpSpPr>
        <p:grpSp>
          <p:nvGrpSpPr>
            <p:cNvPr id="135" name="Group 9"/>
            <p:cNvGrpSpPr/>
            <p:nvPr/>
          </p:nvGrpSpPr>
          <p:grpSpPr>
            <a:xfrm>
              <a:off x="4500720" y="1052640"/>
              <a:ext cx="3743280" cy="792000"/>
              <a:chOff x="4500720" y="1052640"/>
              <a:chExt cx="3743280" cy="792000"/>
            </a:xfrm>
          </p:grpSpPr>
          <p:sp>
            <p:nvSpPr>
              <p:cNvPr id="136" name="圆角矩形 6"/>
              <p:cNvSpPr/>
              <p:nvPr/>
            </p:nvSpPr>
            <p:spPr>
              <a:xfrm>
                <a:off x="4500720" y="1052640"/>
                <a:ext cx="3743280" cy="79200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7"/>
              <p:cNvSpPr/>
              <p:nvPr/>
            </p:nvSpPr>
            <p:spPr>
              <a:xfrm>
                <a:off x="4500720" y="1116000"/>
                <a:ext cx="3743280" cy="6652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5"/>
            <p:cNvSpPr/>
            <p:nvPr/>
          </p:nvSpPr>
          <p:spPr>
            <a:xfrm>
              <a:off x="4580280" y="1190880"/>
              <a:ext cx="364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如何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-1477440" y="-3071160"/>
            <a:ext cx="2966040" cy="5338080"/>
            <a:chOff x="-1477440" y="-3071160"/>
            <a:chExt cx="2966040" cy="5338080"/>
          </a:xfrm>
        </p:grpSpPr>
        <p:sp>
          <p:nvSpPr>
            <p:cNvPr id="140" name="矩形 19"/>
            <p:cNvSpPr/>
            <p:nvPr/>
          </p:nvSpPr>
          <p:spPr>
            <a:xfrm flipV="1" rot="18900000">
              <a:off x="-1199880" y="-2247480"/>
              <a:ext cx="240624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0"/>
            <p:cNvSpPr/>
            <p:nvPr/>
          </p:nvSpPr>
          <p:spPr>
            <a:xfrm flipV="1" rot="18900000">
              <a:off x="-1999080" y="690840"/>
              <a:ext cx="4009680" cy="1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21"/>
          <p:cNvSpPr/>
          <p:nvPr/>
        </p:nvSpPr>
        <p:spPr>
          <a:xfrm rot="18900000">
            <a:off x="1800" y="10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正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7"/>
          <p:cNvGrpSpPr/>
          <p:nvPr/>
        </p:nvGrpSpPr>
        <p:grpSpPr>
          <a:xfrm>
            <a:off x="900000" y="2565360"/>
            <a:ext cx="2259000" cy="519120"/>
            <a:chOff x="900000" y="2565360"/>
            <a:chExt cx="2259000" cy="519120"/>
          </a:xfrm>
        </p:grpSpPr>
        <p:grpSp>
          <p:nvGrpSpPr>
            <p:cNvPr id="144" name="Group 18"/>
            <p:cNvGrpSpPr/>
            <p:nvPr/>
          </p:nvGrpSpPr>
          <p:grpSpPr>
            <a:xfrm>
              <a:off x="900000" y="2565360"/>
              <a:ext cx="2259000" cy="519120"/>
              <a:chOff x="900000" y="2565360"/>
              <a:chExt cx="2259000" cy="519120"/>
            </a:xfrm>
          </p:grpSpPr>
          <p:sp>
            <p:nvSpPr>
              <p:cNvPr id="145" name="圆角矩形 29"/>
              <p:cNvSpPr/>
              <p:nvPr/>
            </p:nvSpPr>
            <p:spPr>
              <a:xfrm>
                <a:off x="900000" y="2565360"/>
                <a:ext cx="2259000" cy="5191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30"/>
              <p:cNvSpPr/>
              <p:nvPr/>
            </p:nvSpPr>
            <p:spPr>
              <a:xfrm>
                <a:off x="900000" y="2606400"/>
                <a:ext cx="2259000" cy="436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28"/>
            <p:cNvSpPr/>
            <p:nvPr/>
          </p:nvSpPr>
          <p:spPr>
            <a:xfrm>
              <a:off x="928440" y="2608200"/>
              <a:ext cx="22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12321</a:t>
              </a:r>
              <a:r>
                <a:rPr b="0" lang="zh-CN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法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圆角矩形 32"/>
          <p:cNvSpPr/>
          <p:nvPr/>
        </p:nvSpPr>
        <p:spPr>
          <a:xfrm>
            <a:off x="971640" y="3224160"/>
            <a:ext cx="2160360" cy="2725920"/>
          </a:xfrm>
          <a:custGeom>
            <a:avLst/>
            <a:gdLst>
              <a:gd name="textAreaLeft" fmla="*/ 29880 w 2160360"/>
              <a:gd name="textAreaRight" fmla="*/ 2130480 w 2160360"/>
              <a:gd name="textAreaTop" fmla="*/ 29880 h 2725920"/>
              <a:gd name="textAreaBottom" fmla="*/ 2696040 h 2725920"/>
            </a:gdLst>
            <a:ahLst/>
            <a:rect l="textAreaLeft" t="textAreaTop" r="textAreaRight" b="textAreaBottom"/>
            <a:pathLst>
              <a:path w="21600" h="27254">
                <a:moveTo>
                  <a:pt x="1024" y="0"/>
                </a:moveTo>
                <a:arcTo wR="1024" hR="1024" stAng="16200000" swAng="-5400000"/>
                <a:lnTo>
                  <a:pt x="0" y="26230"/>
                </a:lnTo>
                <a:arcTo wR="1024" hR="1024" stAng="10800000" swAng="-5400000"/>
                <a:lnTo>
                  <a:pt x="20576" y="27254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187280" y="3429000"/>
            <a:ext cx="17290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244061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一个领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两个精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三个中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两个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末位淘汰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4"/>
          <p:cNvGrpSpPr/>
          <p:nvPr/>
        </p:nvGrpSpPr>
        <p:grpSpPr>
          <a:xfrm>
            <a:off x="3422520" y="2565360"/>
            <a:ext cx="2210040" cy="520920"/>
            <a:chOff x="3422520" y="2565360"/>
            <a:chExt cx="2210040" cy="520920"/>
          </a:xfrm>
        </p:grpSpPr>
        <p:grpSp>
          <p:nvGrpSpPr>
            <p:cNvPr id="151" name="Group 25"/>
            <p:cNvGrpSpPr/>
            <p:nvPr/>
          </p:nvGrpSpPr>
          <p:grpSpPr>
            <a:xfrm>
              <a:off x="3422520" y="2565360"/>
              <a:ext cx="2210040" cy="520920"/>
              <a:chOff x="3422520" y="2565360"/>
              <a:chExt cx="2210040" cy="520920"/>
            </a:xfrm>
          </p:grpSpPr>
          <p:sp>
            <p:nvSpPr>
              <p:cNvPr id="152" name="圆角矩形 37"/>
              <p:cNvSpPr/>
              <p:nvPr/>
            </p:nvSpPr>
            <p:spPr>
              <a:xfrm>
                <a:off x="3422520" y="2565360"/>
                <a:ext cx="2210040" cy="5209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38"/>
              <p:cNvSpPr/>
              <p:nvPr/>
            </p:nvSpPr>
            <p:spPr>
              <a:xfrm>
                <a:off x="3422520" y="2606400"/>
                <a:ext cx="2210040" cy="4384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6"/>
            <p:cNvSpPr/>
            <p:nvPr/>
          </p:nvSpPr>
          <p:spPr>
            <a:xfrm>
              <a:off x="3450960" y="2608200"/>
              <a:ext cx="21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让员工影响员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圆角矩形 39"/>
          <p:cNvSpPr/>
          <p:nvPr/>
        </p:nvSpPr>
        <p:spPr>
          <a:xfrm>
            <a:off x="3492360" y="3224160"/>
            <a:ext cx="2146320" cy="2733840"/>
          </a:xfrm>
          <a:custGeom>
            <a:avLst/>
            <a:gdLst>
              <a:gd name="textAreaLeft" fmla="*/ 29520 w 2146320"/>
              <a:gd name="textAreaRight" fmla="*/ 2116800 w 2146320"/>
              <a:gd name="textAreaTop" fmla="*/ 29520 h 2733840"/>
              <a:gd name="textAreaBottom" fmla="*/ 2704320 h 2733840"/>
            </a:gdLst>
            <a:ahLst/>
            <a:rect l="textAreaLeft" t="textAreaTop" r="textAreaRight" b="textAreaBottom"/>
            <a:pathLst>
              <a:path w="21600" h="27512">
                <a:moveTo>
                  <a:pt x="1024" y="0"/>
                </a:moveTo>
                <a:arcTo wR="1024" hR="1024" stAng="16200000" swAng="-5400000"/>
                <a:lnTo>
                  <a:pt x="0" y="26488"/>
                </a:lnTo>
                <a:arcTo wR="1024" hR="1024" stAng="10800000" swAng="-5400000"/>
                <a:lnTo>
                  <a:pt x="20576" y="27512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0"/>
          <p:cNvSpPr/>
          <p:nvPr/>
        </p:nvSpPr>
        <p:spPr>
          <a:xfrm>
            <a:off x="3635280" y="372888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个人因系统而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系统成员改造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1"/>
          <p:cNvGrpSpPr/>
          <p:nvPr/>
        </p:nvGrpSpPr>
        <p:grpSpPr>
          <a:xfrm>
            <a:off x="5927760" y="2570040"/>
            <a:ext cx="2209680" cy="520920"/>
            <a:chOff x="5927760" y="2570040"/>
            <a:chExt cx="2209680" cy="520920"/>
          </a:xfrm>
        </p:grpSpPr>
        <p:grpSp>
          <p:nvGrpSpPr>
            <p:cNvPr id="158" name="Group 32"/>
            <p:cNvGrpSpPr/>
            <p:nvPr/>
          </p:nvGrpSpPr>
          <p:grpSpPr>
            <a:xfrm>
              <a:off x="5927760" y="2570040"/>
              <a:ext cx="2209680" cy="520920"/>
              <a:chOff x="5927760" y="2570040"/>
              <a:chExt cx="2209680" cy="520920"/>
            </a:xfrm>
          </p:grpSpPr>
          <p:sp>
            <p:nvSpPr>
              <p:cNvPr id="159" name="圆角矩形 44"/>
              <p:cNvSpPr/>
              <p:nvPr/>
            </p:nvSpPr>
            <p:spPr>
              <a:xfrm>
                <a:off x="5927760" y="2570040"/>
                <a:ext cx="2209680" cy="5209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45"/>
              <p:cNvSpPr/>
              <p:nvPr/>
            </p:nvSpPr>
            <p:spPr>
              <a:xfrm>
                <a:off x="5927760" y="2611080"/>
                <a:ext cx="2209680" cy="4384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Box 43"/>
            <p:cNvSpPr/>
            <p:nvPr/>
          </p:nvSpPr>
          <p:spPr>
            <a:xfrm>
              <a:off x="5956200" y="2612880"/>
              <a:ext cx="21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管理误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圆角矩形 46"/>
          <p:cNvSpPr/>
          <p:nvPr/>
        </p:nvSpPr>
        <p:spPr>
          <a:xfrm>
            <a:off x="5996160" y="3228840"/>
            <a:ext cx="2145960" cy="2733840"/>
          </a:xfrm>
          <a:custGeom>
            <a:avLst/>
            <a:gdLst>
              <a:gd name="textAreaLeft" fmla="*/ 29520 w 2145960"/>
              <a:gd name="textAreaRight" fmla="*/ 2116440 w 2145960"/>
              <a:gd name="textAreaTop" fmla="*/ 29520 h 2733840"/>
              <a:gd name="textAreaBottom" fmla="*/ 2704320 h 2733840"/>
            </a:gdLst>
            <a:ahLst/>
            <a:rect l="textAreaLeft" t="textAreaTop" r="textAreaRight" b="textAreaBottom"/>
            <a:pathLst>
              <a:path w="21600" h="27516">
                <a:moveTo>
                  <a:pt x="1024" y="0"/>
                </a:moveTo>
                <a:arcTo wR="1024" hR="1024" stAng="16200000" swAng="-5400000"/>
                <a:lnTo>
                  <a:pt x="0" y="26492"/>
                </a:lnTo>
                <a:arcTo wR="1024" hR="1024" stAng="10800000" swAng="-5400000"/>
                <a:lnTo>
                  <a:pt x="20576" y="27516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8"/>
          <p:cNvSpPr/>
          <p:nvPr/>
        </p:nvSpPr>
        <p:spPr>
          <a:xfrm>
            <a:off x="6129360" y="3425760"/>
            <a:ext cx="1944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人人是精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“</a:t>
            </a:r>
            <a:r>
              <a:rPr b="0" lang="en-US" sz="1600" spc="-1" strike="noStrike">
                <a:solidFill>
                  <a:srgbClr val="244061"/>
                </a:solidFill>
                <a:latin typeface="黑体"/>
                <a:ea typeface="黑体"/>
              </a:rPr>
              <a:t>12321</a:t>
            </a: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法则”是基于一个简单的</a:t>
            </a:r>
            <a:r>
              <a:rPr b="0" lang="en-US" sz="1600" spc="-1" strike="noStrike">
                <a:solidFill>
                  <a:srgbClr val="244061"/>
                </a:solidFill>
                <a:latin typeface="黑体"/>
                <a:ea typeface="黑体"/>
              </a:rPr>
              <a:t>9</a:t>
            </a: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人团队分析法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按照这个法则组建团队，团队的凝聚力、稳定性会得到加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1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32932E-006 L 0.43472 0.31637 E">
                                      <p:cBhvr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平行四边形 5"/>
          <p:cNvSpPr/>
          <p:nvPr/>
        </p:nvSpPr>
        <p:spPr>
          <a:xfrm>
            <a:off x="755640" y="2349360"/>
            <a:ext cx="7777080" cy="3527640"/>
          </a:xfrm>
          <a:prstGeom prst="parallelogram">
            <a:avLst>
              <a:gd name="adj" fmla="val -24699"/>
            </a:avLst>
          </a:prstGeom>
          <a:solidFill>
            <a:srgbClr val="7f7f7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4282920" y="1339920"/>
            <a:ext cx="4249800" cy="865080"/>
            <a:chOff x="4282920" y="1339920"/>
            <a:chExt cx="4249800" cy="865080"/>
          </a:xfrm>
        </p:grpSpPr>
        <p:sp>
          <p:nvSpPr>
            <p:cNvPr id="166" name="圆角矩形 10"/>
            <p:cNvSpPr/>
            <p:nvPr/>
          </p:nvSpPr>
          <p:spPr>
            <a:xfrm>
              <a:off x="4282920" y="1339920"/>
              <a:ext cx="424980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4930920" y="1500120"/>
              <a:ext cx="28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小  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流程图: 合并 13"/>
          <p:cNvSpPr/>
          <p:nvPr/>
        </p:nvSpPr>
        <p:spPr>
          <a:xfrm rot="8499000">
            <a:off x="1270800" y="2327400"/>
            <a:ext cx="1003320" cy="387360"/>
          </a:xfrm>
          <a:prstGeom prst="flowChartMerg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流程图: 合并 19"/>
          <p:cNvSpPr/>
          <p:nvPr/>
        </p:nvSpPr>
        <p:spPr>
          <a:xfrm rot="19288800">
            <a:off x="7008480" y="5495760"/>
            <a:ext cx="1001520" cy="389160"/>
          </a:xfrm>
          <a:prstGeom prst="flowChartMerg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2195640" y="25970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黑体"/>
                <a:ea typeface="黑体"/>
              </a:rPr>
              <a:t>毛泽东：政治路线确定后，干部是决定的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692360" y="3076560"/>
            <a:ext cx="61196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对于企业来讲，这个所谓干部就是我们的领导者和基层管理者，因此，这些管理者的水平、素质是制约企业发展的</a:t>
            </a:r>
            <a:r>
              <a:rPr b="0" lang="zh-CN" sz="2000" spc="-1" strike="noStrike">
                <a:solidFill>
                  <a:srgbClr val="0f243e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瓶颈</a:t>
            </a:r>
            <a:r>
              <a:rPr b="0" lang="zh-CN" sz="2000" spc="-1" strike="noStrike">
                <a:solidFill>
                  <a:srgbClr val="0f243e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f243e"/>
                </a:solidFill>
                <a:latin typeface="Calibri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一个团队的管理者从小的方面来讲是一个家长，一块磁铁；大的方面讲是一个指挥家，一个领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1"/>
          <p:cNvSpPr/>
          <p:nvPr/>
        </p:nvSpPr>
        <p:spPr>
          <a:xfrm>
            <a:off x="2296800" y="291780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9"/>
          <p:cNvSpPr/>
          <p:nvPr/>
        </p:nvSpPr>
        <p:spPr>
          <a:xfrm>
            <a:off x="2673360" y="1254240"/>
            <a:ext cx="5499000" cy="4778280"/>
          </a:xfrm>
          <a:prstGeom prst="rect">
            <a:avLst/>
          </a:prstGeom>
          <a:solidFill>
            <a:srgbClr val="7f7f7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71640" y="1844640"/>
            <a:ext cx="54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管理好自己，懂得物质利益激励及激情管理，亲和力也是领导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74880" y="1257480"/>
            <a:ext cx="1655640" cy="4751280"/>
            <a:chOff x="974880" y="1257480"/>
            <a:chExt cx="1655640" cy="4751280"/>
          </a:xfrm>
        </p:grpSpPr>
        <p:sp>
          <p:nvSpPr>
            <p:cNvPr id="177" name="矩形 6"/>
            <p:cNvSpPr/>
            <p:nvPr/>
          </p:nvSpPr>
          <p:spPr>
            <a:xfrm>
              <a:off x="974880" y="1257480"/>
              <a:ext cx="1655640" cy="4751280"/>
            </a:xfrm>
            <a:prstGeom prst="rect">
              <a:avLst/>
            </a:prstGeom>
            <a:solidFill>
              <a:srgbClr val="366092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8"/>
            <p:cNvSpPr/>
            <p:nvPr/>
          </p:nvSpPr>
          <p:spPr>
            <a:xfrm>
              <a:off x="1116000" y="1365120"/>
              <a:ext cx="1368360" cy="453384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矩形 13"/>
          <p:cNvSpPr/>
          <p:nvPr/>
        </p:nvSpPr>
        <p:spPr>
          <a:xfrm>
            <a:off x="3780000" y="260280"/>
            <a:ext cx="1728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963720" y="1244520"/>
            <a:ext cx="168120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955800" y="1400040"/>
            <a:ext cx="1687320" cy="46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6"/>
          <p:cNvSpPr/>
          <p:nvPr/>
        </p:nvSpPr>
        <p:spPr>
          <a:xfrm>
            <a:off x="1399320" y="184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修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7"/>
          <p:cNvSpPr/>
          <p:nvPr/>
        </p:nvSpPr>
        <p:spPr>
          <a:xfrm>
            <a:off x="139932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和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8"/>
          <p:cNvSpPr/>
          <p:nvPr/>
        </p:nvSpPr>
        <p:spPr>
          <a:xfrm>
            <a:off x="139932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安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内容占位符 2"/>
          <p:cNvSpPr/>
          <p:nvPr/>
        </p:nvSpPr>
        <p:spPr>
          <a:xfrm>
            <a:off x="2771640" y="3573360"/>
            <a:ext cx="54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你能发现属下的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内容占位符 2"/>
          <p:cNvSpPr/>
          <p:nvPr/>
        </p:nvSpPr>
        <p:spPr>
          <a:xfrm>
            <a:off x="2771640" y="4941720"/>
            <a:ext cx="54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你有很好的沟通能力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角三角形 22"/>
          <p:cNvSpPr/>
          <p:nvPr/>
        </p:nvSpPr>
        <p:spPr>
          <a:xfrm rot="16200000">
            <a:off x="7707240" y="5572080"/>
            <a:ext cx="432000" cy="43200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角三角形 23"/>
          <p:cNvSpPr/>
          <p:nvPr/>
        </p:nvSpPr>
        <p:spPr>
          <a:xfrm flipV="1" rot="5400000">
            <a:off x="7711920" y="1276560"/>
            <a:ext cx="431640" cy="43200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1214280" y="1143000"/>
            <a:ext cx="6143760" cy="3929040"/>
            <a:chOff x="1214280" y="1143000"/>
            <a:chExt cx="6143760" cy="3929040"/>
          </a:xfrm>
        </p:grpSpPr>
        <p:sp>
          <p:nvSpPr>
            <p:cNvPr id="192" name="圆角矩形 12"/>
            <p:cNvSpPr/>
            <p:nvPr/>
          </p:nvSpPr>
          <p:spPr>
            <a:xfrm>
              <a:off x="1214280" y="1143000"/>
              <a:ext cx="6143760" cy="392904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13"/>
            <p:cNvSpPr/>
            <p:nvPr/>
          </p:nvSpPr>
          <p:spPr>
            <a:xfrm>
              <a:off x="1214280" y="1290600"/>
              <a:ext cx="6143760" cy="37753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1"/>
          <p:cNvSpPr/>
          <p:nvPr/>
        </p:nvSpPr>
        <p:spPr>
          <a:xfrm>
            <a:off x="1293840" y="1754280"/>
            <a:ext cx="598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认为工作的意义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接受沟通的方式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自我认知的定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5643720" y="5072040"/>
            <a:ext cx="3298680" cy="151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2209320" y="324648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785880" y="1214280"/>
            <a:ext cx="7572240" cy="3929400"/>
            <a:chOff x="785880" y="1214280"/>
            <a:chExt cx="7572240" cy="3929400"/>
          </a:xfrm>
        </p:grpSpPr>
        <p:sp>
          <p:nvSpPr>
            <p:cNvPr id="199" name="圆角矩形 5"/>
            <p:cNvSpPr/>
            <p:nvPr/>
          </p:nvSpPr>
          <p:spPr>
            <a:xfrm>
              <a:off x="785880" y="1214280"/>
              <a:ext cx="7572240" cy="392940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6"/>
            <p:cNvSpPr/>
            <p:nvPr/>
          </p:nvSpPr>
          <p:spPr>
            <a:xfrm>
              <a:off x="785880" y="1323720"/>
              <a:ext cx="7572240" cy="37105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8"/>
          <p:cNvSpPr/>
          <p:nvPr/>
        </p:nvSpPr>
        <p:spPr>
          <a:xfrm>
            <a:off x="1508040" y="1500120"/>
            <a:ext cx="598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，从本质上来说，是一种与生俱来的使命，它保随着每一个生命的始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我们每一个人都在生活中饰演不同的角色，无论一个人担任何种职务，做什么样的工作，他都对他人负有责任，这是社会法则，道德法则，也是心灵法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是一种使命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7000920" y="4071960"/>
            <a:ext cx="1214280" cy="2575080"/>
            <a:chOff x="7000920" y="4071960"/>
            <a:chExt cx="1214280" cy="2575080"/>
          </a:xfrm>
        </p:grpSpPr>
        <p:sp>
          <p:nvSpPr>
            <p:cNvPr id="203" name="AutoShape 5"/>
            <p:cNvSpPr/>
            <p:nvPr/>
          </p:nvSpPr>
          <p:spPr>
            <a:xfrm>
              <a:off x="7000920" y="4071960"/>
              <a:ext cx="1214280" cy="25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37" descr=""/>
          <p:cNvPicPr/>
          <p:nvPr/>
        </p:nvPicPr>
        <p:blipFill>
          <a:blip r:embed="rId2"/>
          <a:stretch/>
        </p:blipFill>
        <p:spPr>
          <a:xfrm>
            <a:off x="5072040" y="4000680"/>
            <a:ext cx="1865160" cy="858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92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92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192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192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785960" y="785880"/>
            <a:ext cx="4973760" cy="331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-1147680" y="-1182600"/>
            <a:ext cx="3560760" cy="35607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4"/>
          <p:cNvGrpSpPr/>
          <p:nvPr/>
        </p:nvGrpSpPr>
        <p:grpSpPr>
          <a:xfrm>
            <a:off x="1552680" y="2382480"/>
            <a:ext cx="102960" cy="2367000"/>
            <a:chOff x="1552680" y="2382480"/>
            <a:chExt cx="102960" cy="2367000"/>
          </a:xfrm>
        </p:grpSpPr>
        <p:sp>
          <p:nvSpPr>
            <p:cNvPr id="208" name="直接连接符 6"/>
            <p:cNvSpPr/>
            <p:nvPr/>
          </p:nvSpPr>
          <p:spPr>
            <a:xfrm flipH="1" flipV="1">
              <a:off x="1654200" y="2382480"/>
              <a:ext cx="1440" cy="235764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9"/>
            <p:cNvSpPr/>
            <p:nvPr/>
          </p:nvSpPr>
          <p:spPr>
            <a:xfrm flipH="1" flipV="1">
              <a:off x="1552680" y="3449160"/>
              <a:ext cx="2880" cy="130032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7"/>
          <p:cNvGrpSpPr/>
          <p:nvPr/>
        </p:nvGrpSpPr>
        <p:grpSpPr>
          <a:xfrm>
            <a:off x="1133640" y="4208400"/>
            <a:ext cx="3317760" cy="102960"/>
            <a:chOff x="1133640" y="4208400"/>
            <a:chExt cx="3317760" cy="102960"/>
          </a:xfrm>
        </p:grpSpPr>
        <p:sp>
          <p:nvSpPr>
            <p:cNvPr id="211" name="直接连接符 16"/>
            <p:cNvSpPr/>
            <p:nvPr/>
          </p:nvSpPr>
          <p:spPr>
            <a:xfrm>
              <a:off x="1143000" y="4208400"/>
              <a:ext cx="3308400" cy="46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17"/>
            <p:cNvSpPr/>
            <p:nvPr/>
          </p:nvSpPr>
          <p:spPr>
            <a:xfrm>
              <a:off x="1133640" y="4308480"/>
              <a:ext cx="1299960" cy="2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0"/>
          <p:cNvGrpSpPr/>
          <p:nvPr/>
        </p:nvGrpSpPr>
        <p:grpSpPr>
          <a:xfrm>
            <a:off x="6867000" y="125280"/>
            <a:ext cx="101880" cy="2367000"/>
            <a:chOff x="6867000" y="125280"/>
            <a:chExt cx="101880" cy="2367000"/>
          </a:xfrm>
        </p:grpSpPr>
        <p:sp>
          <p:nvSpPr>
            <p:cNvPr id="214" name="直接连接符 35"/>
            <p:cNvSpPr/>
            <p:nvPr/>
          </p:nvSpPr>
          <p:spPr>
            <a:xfrm>
              <a:off x="6867000" y="134640"/>
              <a:ext cx="1440" cy="235764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36"/>
            <p:cNvSpPr/>
            <p:nvPr/>
          </p:nvSpPr>
          <p:spPr>
            <a:xfrm>
              <a:off x="6966000" y="125280"/>
              <a:ext cx="2880" cy="130032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4071600" y="563400"/>
            <a:ext cx="3318120" cy="102960"/>
            <a:chOff x="4071600" y="563400"/>
            <a:chExt cx="3318120" cy="102960"/>
          </a:xfrm>
        </p:grpSpPr>
        <p:sp>
          <p:nvSpPr>
            <p:cNvPr id="217" name="直接连接符 33"/>
            <p:cNvSpPr/>
            <p:nvPr/>
          </p:nvSpPr>
          <p:spPr>
            <a:xfrm flipH="1" flipV="1">
              <a:off x="4071600" y="661680"/>
              <a:ext cx="3311640" cy="46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34"/>
            <p:cNvSpPr/>
            <p:nvPr/>
          </p:nvSpPr>
          <p:spPr>
            <a:xfrm flipH="1" flipV="1">
              <a:off x="6088320" y="563400"/>
              <a:ext cx="1301400" cy="2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7072200" y="571680"/>
            <a:ext cx="1206720" cy="3438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9"/>
          <p:cNvSpPr/>
          <p:nvPr/>
        </p:nvSpPr>
        <p:spPr>
          <a:xfrm>
            <a:off x="1714680" y="4429080"/>
            <a:ext cx="598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工作是您可以依靠的东西，是个可以终身依赖且永远还会背弃你的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激情是工作最好的朋友，是还具备这种古老的狂热精神，决定你是否能够得到工作，是否能开发到客户，更为重要的是，你是否能保住你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2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5:4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