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86873-F101-4C38-AB27-319DC7DD09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9280" y="483408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B274B-4C0B-4F9F-BADE-D264BD8687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1384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5DD60-078A-463D-BD18-648B81BD3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9400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908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928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9400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908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8D5A8-D6DB-48A9-A933-07D7A698F47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F4E1A8-FA57-42A6-8CAC-BD9EC9506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DA9005-CCB6-4913-B236-48FD1D0B3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0B2CF6-AF25-41E9-96B3-734C226D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4A728C-545E-4291-8590-D8D70A180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3DD53B-97E0-47E4-9052-68D1E1BEC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219640" y="333000"/>
            <a:ext cx="347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981F2D-0672-4919-B55B-B0918F1C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41ECB6-7BDD-4E9A-AEDA-9D41765D8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B3C7-9618-40A0-AB12-62007420A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1384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1E5262-BFDA-4D21-96C6-D95B9798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A00B70-16A4-4A5C-9F92-15261BCE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9280" y="483408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96206E-DC69-4489-98A5-C2156068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1384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CF1C5-FAB4-4E66-ACC7-579C300B3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9400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49080" y="314172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3928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9400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49080" y="4834080"/>
            <a:ext cx="262332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A07A91-0208-43D5-8636-5E83DE9FB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90B6A-F478-439C-A915-A8CCDD9888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F7181-4A01-4EA1-831B-803AEC0BDA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A35F9-3148-4FBB-9526-DE15956285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5219640" y="333000"/>
            <a:ext cx="347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10482-2B64-4292-A8AD-5B919C2EC5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B6002-6C02-48A3-A610-25604CEE60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13840" y="483408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CA0BD-0785-43B9-9A78-D90B6FA88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840" y="3141720"/>
            <a:ext cx="397548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9280" y="4834080"/>
            <a:ext cx="8147160" cy="154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9C30E-DFC5-49B0-8CAE-AA420328AD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219640" y="333000"/>
            <a:ext cx="347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24160" indent="-203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183096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1830960" indent="-2034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597440" y="6244920"/>
            <a:ext cx="1089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ACAA4-ADC6-46EC-B626-69319C8DC4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131640" y="1052280"/>
            <a:ext cx="532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EC361-37AF-4D34-AD5A-22E97CD46CD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131640" y="1052280"/>
            <a:ext cx="53247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780000" y="2637000"/>
            <a:ext cx="4032000" cy="3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492360" y="1341360"/>
            <a:ext cx="49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小金人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27CD3-8694-4C24-8862-4CF9E076613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219280" y="333000"/>
            <a:ext cx="3476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3141720"/>
            <a:ext cx="81471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413080" y="5950080"/>
            <a:ext cx="4319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9T13:20:28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3:25:35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