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1665360" y="990720"/>
            <a:ext cx="44193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认识时间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24000" y="2205000"/>
            <a:ext cx="4111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小学数学解决问题课件下载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920" y="6453360"/>
            <a:ext cx="5079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15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引出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82" name="Group 11"/>
          <p:cNvGrpSpPr/>
          <p:nvPr/>
        </p:nvGrpSpPr>
        <p:grpSpPr>
          <a:xfrm>
            <a:off x="2195640" y="2062080"/>
            <a:ext cx="4092480" cy="3672000"/>
            <a:chOff x="2195640" y="2062080"/>
            <a:chExt cx="4092480" cy="3672000"/>
          </a:xfrm>
        </p:grpSpPr>
        <p:pic>
          <p:nvPicPr>
            <p:cNvPr id="83" name="Picture 8" descr="未标题-6"/>
            <p:cNvPicPr/>
            <p:nvPr/>
          </p:nvPicPr>
          <p:blipFill>
            <a:blip r:embed="rId2"/>
            <a:stretch/>
          </p:blipFill>
          <p:spPr>
            <a:xfrm>
              <a:off x="2845080" y="2062080"/>
              <a:ext cx="3443040" cy="36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9" descr="未标题-7"/>
            <p:cNvPicPr/>
            <p:nvPr/>
          </p:nvPicPr>
          <p:blipFill>
            <a:blip r:embed="rId3"/>
            <a:stretch/>
          </p:blipFill>
          <p:spPr>
            <a:xfrm>
              <a:off x="2195640" y="2133360"/>
              <a:ext cx="1224000" cy="120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Rectangle 3"/>
          <p:cNvSpPr/>
          <p:nvPr/>
        </p:nvSpPr>
        <p:spPr>
          <a:xfrm>
            <a:off x="857160" y="59950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通过观看动画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"/>
          <p:cNvSpPr/>
          <p:nvPr/>
        </p:nvSpPr>
        <p:spPr>
          <a:xfrm>
            <a:off x="826920" y="65556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390600" y="304920"/>
            <a:ext cx="837252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7"/>
          <p:cNvGrpSpPr/>
          <p:nvPr/>
        </p:nvGrpSpPr>
        <p:grpSpPr>
          <a:xfrm>
            <a:off x="1123920" y="2227320"/>
            <a:ext cx="3827160" cy="3433680"/>
            <a:chOff x="1123920" y="2227320"/>
            <a:chExt cx="3827160" cy="3433680"/>
          </a:xfrm>
        </p:grpSpPr>
        <p:pic>
          <p:nvPicPr>
            <p:cNvPr id="89" name="Picture 18" descr="未标题-6"/>
            <p:cNvPicPr/>
            <p:nvPr/>
          </p:nvPicPr>
          <p:blipFill>
            <a:blip r:embed="rId2"/>
            <a:stretch/>
          </p:blipFill>
          <p:spPr>
            <a:xfrm>
              <a:off x="1731240" y="2227320"/>
              <a:ext cx="3219840" cy="34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9" descr="未标题-7"/>
            <p:cNvPicPr/>
            <p:nvPr/>
          </p:nvPicPr>
          <p:blipFill>
            <a:blip r:embed="rId3"/>
            <a:stretch/>
          </p:blipFill>
          <p:spPr>
            <a:xfrm>
              <a:off x="1123920" y="2293920"/>
              <a:ext cx="1144440" cy="113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23" descr="未标题-8"/>
          <p:cNvPicPr/>
          <p:nvPr/>
        </p:nvPicPr>
        <p:blipFill>
          <a:blip r:embed="rId4"/>
          <a:stretch/>
        </p:blipFill>
        <p:spPr>
          <a:xfrm>
            <a:off x="5443560" y="1919160"/>
            <a:ext cx="2657520" cy="316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未标题-3"/>
          <p:cNvPicPr/>
          <p:nvPr/>
        </p:nvPicPr>
        <p:blipFill>
          <a:blip r:embed="rId5"/>
          <a:stretch/>
        </p:blipFill>
        <p:spPr>
          <a:xfrm>
            <a:off x="4788000" y="3718080"/>
            <a:ext cx="1079280" cy="67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41580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获取信息，掌握推理策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92040" y="1413000"/>
            <a:ext cx="72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获取信息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19200" y="569916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回忆刚才大家说的，你能完整地再说一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都知道了什么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826920" y="4044960"/>
            <a:ext cx="1852920" cy="811800"/>
          </a:xfrm>
          <a:prstGeom prst="wedgeRoundRectCallout">
            <a:avLst>
              <a:gd name="adj1" fmla="val 49296"/>
              <a:gd name="adj2" fmla="val -8771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_GB2312"/>
              </a:rPr>
              <a:t>我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</a:rPr>
              <a:t>做完作业后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_GB2312"/>
              </a:rPr>
              <a:t>才去踢球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3559320" y="4334040"/>
            <a:ext cx="2452680" cy="456840"/>
          </a:xfrm>
          <a:prstGeom prst="wedgeRoundRectCallout">
            <a:avLst>
              <a:gd name="adj1" fmla="val -35254"/>
              <a:gd name="adj2" fmla="val -12212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明明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:30</a:t>
            </a:r>
            <a:r>
              <a:rPr b="1" lang="zh-CN" sz="1800" spc="-1" strike="noStrike">
                <a:solidFill>
                  <a:srgbClr val="1c1c1c"/>
                </a:solidFill>
                <a:latin typeface="楷体_GB2312"/>
              </a:rPr>
              <a:t>我们还要一起去看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</a:rPr>
              <a:t>木偶剧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7091280" y="3359160"/>
            <a:ext cx="1782720" cy="456840"/>
          </a:xfrm>
          <a:prstGeom prst="wedgeRoundRectCallout">
            <a:avLst>
              <a:gd name="adj1" fmla="val -59064"/>
              <a:gd name="adj2" fmla="val 2960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</a:rPr>
              <a:t>做完作业啦！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1057320" y="2227320"/>
            <a:ext cx="1271520" cy="1272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椭圆 12"/>
          <p:cNvSpPr/>
          <p:nvPr/>
        </p:nvSpPr>
        <p:spPr>
          <a:xfrm>
            <a:off x="6632640" y="1878120"/>
            <a:ext cx="1271520" cy="1272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92040" y="1413000"/>
            <a:ext cx="72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应用推理策略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55560" y="609192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知道该选哪一个吗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5715000" y="3929040"/>
            <a:ext cx="714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5724360" y="3789360"/>
            <a:ext cx="7858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7143840" y="3786120"/>
            <a:ext cx="7858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矩形 18"/>
          <p:cNvSpPr/>
          <p:nvPr/>
        </p:nvSpPr>
        <p:spPr>
          <a:xfrm>
            <a:off x="5643720" y="3429000"/>
            <a:ext cx="642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7000920" y="3429000"/>
            <a:ext cx="642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2" name="Picture 16" descr="17"/>
          <p:cNvPicPr/>
          <p:nvPr/>
        </p:nvPicPr>
        <p:blipFill>
          <a:blip r:embed="rId2"/>
          <a:stretch/>
        </p:blipFill>
        <p:spPr>
          <a:xfrm>
            <a:off x="1476360" y="2133720"/>
            <a:ext cx="6662880" cy="3833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455760" y="415800"/>
            <a:ext cx="81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获取信息，掌握推理策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7" descr="17"/>
          <p:cNvPicPr/>
          <p:nvPr/>
        </p:nvPicPr>
        <p:blipFill>
          <a:blip r:embed="rId2"/>
          <a:stretch/>
        </p:blipFill>
        <p:spPr>
          <a:xfrm>
            <a:off x="1476360" y="2133720"/>
            <a:ext cx="6662880" cy="3833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392040" y="1413000"/>
            <a:ext cx="72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检查答案，反馈结果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54120" y="6091920"/>
            <a:ext cx="83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明明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去踢球的吗？我们来验证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7" name="Picture 14" descr="未标题-13"/>
          <p:cNvPicPr/>
          <p:nvPr/>
        </p:nvPicPr>
        <p:blipFill>
          <a:blip r:embed="rId3"/>
          <a:srcRect l="66047" t="0" r="7449" b="7109"/>
          <a:stretch/>
        </p:blipFill>
        <p:spPr>
          <a:xfrm>
            <a:off x="6227640" y="2781360"/>
            <a:ext cx="2173320" cy="198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未标题-13"/>
          <p:cNvPicPr/>
          <p:nvPr/>
        </p:nvPicPr>
        <p:blipFill>
          <a:blip r:embed="rId4"/>
          <a:srcRect l="0" t="0" r="33633" b="7109"/>
          <a:stretch/>
        </p:blipFill>
        <p:spPr>
          <a:xfrm>
            <a:off x="657360" y="2759040"/>
            <a:ext cx="5499000" cy="2009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455760" y="415800"/>
            <a:ext cx="81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获取信息，掌握推理策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18"/>
          <p:cNvPicPr/>
          <p:nvPr/>
        </p:nvPicPr>
        <p:blipFill>
          <a:blip r:embed="rId2"/>
          <a:stretch/>
        </p:blipFill>
        <p:spPr>
          <a:xfrm>
            <a:off x="1187280" y="1557360"/>
            <a:ext cx="7248600" cy="40892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216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应用拓展，巩固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720800" y="5672160"/>
            <a:ext cx="614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611280" y="142560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圈一圈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633920" y="4365720"/>
            <a:ext cx="1525680" cy="13762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720800" y="6121440"/>
            <a:ext cx="6143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第二幅图为什么不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216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4:20Z</dcterms:modified>
  <cp:revision>41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