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0.jpeg" ContentType="image/jpeg"/>
  <Override PartName="/ppt/media/image8.jpeg" ContentType="image/jpeg"/>
  <Override PartName="/ppt/media/image6.tif" ContentType="image/tiff"/>
  <Override PartName="/ppt/media/image15.jpeg" ContentType="image/jpeg"/>
  <Override PartName="/ppt/media/image5.jpeg" ContentType="image/jpe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C23-F59A-4244-A648-1426458A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B9AC-EC4E-4BFB-8D45-F42C4FBD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FE3B6-2F17-4E27-8297-C854B4E4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2D7A9-6861-43D9-9519-360ED960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B6138-CDA1-4803-962D-85FA9E06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F9F9A-DF5A-46B2-8D0F-F1CA227D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2E211-0166-4DE0-A3B7-0C3391C3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31CE0-B875-4387-86C7-33BAAF89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C6BFE-6E59-4E71-9755-462A6326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E1222-E2EE-45F6-A6E7-93348A22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4A77D-DB5C-4275-B038-582DAF28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93ABE-A7BA-4789-BDE7-2E2CD84B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6290-C97B-4655-B4B6-A035BE27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197DD-C328-4900-8BD0-85A5B2E1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B0B72-EA57-4D1E-A1DE-1AECEA44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16485-D77E-442D-8F33-D6530414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4EAE2-C6DB-4D97-AD80-5857E4DB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DD546-CE6E-4412-BB60-EFC76085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3D150-C45C-40AF-9912-EAF35DC4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61023-96BB-4671-A962-C29B5058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7FB37-C858-4829-80C7-925ACC1A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B04B0-EF9D-4AE5-981D-BDBFE83F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FD5DE-F395-42F4-98C6-9070AA40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C48-947F-4758-A255-C9590D3A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C07F2-29E3-4968-B9C8-375733D4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279BA-F7F8-4CEC-91FB-FD897231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AA93F-5FC8-41AA-B2DC-D489D5C8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3F460-65EE-4275-ABFF-5EC79F52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03381-1DA4-4A33-89BE-76DF5E21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36207-9441-4F84-8269-7F981FEE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73CF7-1E81-4512-A315-569EEB9C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4059D-E98C-4CC3-96E0-191F5249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FCE7B-31D2-425D-B57A-C62FC4E5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60184-903F-4D74-8FC1-C4EB724C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0C39-C9EC-464E-B145-B333A0E0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0673C-2FDE-457A-8E87-119897DC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077CB-7573-4C7A-B899-1BFEC4EB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C5995-AA43-4AE1-9799-9A7EF0A4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2AB5E-78D4-424E-8A3C-6C227856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D23CB-B0C1-4E3D-BEF3-1C71B40D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1DE97-6C9F-4E6B-B8E0-6AF3FDEC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C359A-6FC1-4063-9C38-4E0B2F40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35552-3FF6-4C8A-807B-4ABE9B7F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8F5B3-08B4-411A-95A9-847FCC6A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A795A-AA07-41A6-B59A-33B7FA46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9E34-CF54-42E1-911F-106828BE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667F9-D0B4-4527-AB38-3F2FA88E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674CB-88E1-4958-8C3A-B5BFC845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AD020-EF55-49AE-BA64-1C6A17B9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8F6E7-B929-4912-874F-5D52856C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F0C62-8D1A-4B07-AE0D-36676D7B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53BCA-5A75-498A-AF62-9ED99BAA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19403-E2ED-458F-ACA6-ED78D500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50F7BC-453B-4B47-B957-42EC3381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0252E-D2FE-4653-885C-6B6CA529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4BA6E-1215-4663-A8EE-22714E7D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8338-FFAE-42E6-B81E-86381E31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9A5804-0A6B-4520-A311-AA2CEE0A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69B109-5BFC-4051-B817-A1F07FDB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B0763-D5E9-461B-8762-F59BF7DF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C503E-DB8C-4BED-BF7A-6C573824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0D79EB-776A-4FDD-8D54-C8F4631C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F4BAE-06BA-492B-9319-CBADBCAD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94A444-5472-46C4-9747-BC164A2B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4D735D-E591-48B4-9F7F-CCBF4581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3F27DB-5924-4943-A08A-8CC98115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F18C4-D1DE-42C1-AA21-F0ADE5C7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8EE6-53A5-41A5-8299-F9CDEDB4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87D73-C41A-429B-9031-FD87C9D7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2BC418-8202-4D70-8905-4CB61ECB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32EB0-CEBA-4E5D-ACB3-2956D2DB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76D849-F3A4-49B1-A225-03C652E6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D2CE43-3E02-482D-A898-8771495B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4644B-534F-457C-BD02-7A64C4D5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966BE1-9847-4CE8-8929-7EBA7D76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2172E5-E511-4210-9BBD-B7A6F331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EE56BC-5933-4DB6-B536-8FCA859B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DA67-F1C6-4FD7-9DF4-315D492C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7A27-6DA2-4EF3-9380-A5E2B7E0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E0D8-287F-4E00-A173-9ED5A927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5E5-57AA-41F5-BCA8-C065DE9F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44E8-B166-4F09-A9A3-FBCDF747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D440-1456-45F5-93E7-B898A570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0EC8-96A3-4CD9-90E6-F04BFDB1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BF1F-0043-43B2-AB39-F22D15BA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DA37-BF6B-484A-AE40-34BF3EA9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3980D-B6E6-4815-8E63-4A1EF329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7E329-A8E7-4792-8FCB-DD38C16B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193CF-E0E2-44CE-8DA5-425A7A97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D474B-AE06-4EF4-81BC-97F0F927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BF207-520F-4C8E-B9CA-B594D8DF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ADC-9135-4E52-BE37-DADAFE58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9B89F-7AE5-4853-8CF2-215E46F3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E53C3-F1B7-4A64-A646-67B1FAFA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A2FAB-FC0B-44C0-A0B3-811F2297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C66D9-EE30-4013-AFC6-258186E2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508AD-2E4E-44D4-8566-1EFA9DDF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31A5E-BBC9-48F1-BBBA-37A4A5E6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2D658-10B9-4954-BB52-D3A2A6ED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DE76E-87CB-4A6D-AD0E-25EDB489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DEC9C-B04B-4064-B384-E511AD98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E2B42-03BE-4374-8B1F-07E25276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266-957F-4EBA-B700-1B4230A4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C3341-B21F-4726-97B5-D7346671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B06FC-9488-4FCA-82B7-54D43FA7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0FCF1-3A6B-41E5-8A69-DDB57E4D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59C6C-A464-4A0E-A7F9-A08D2CC6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1B1A5-A2AF-4951-A761-00A234E9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698E8-2BB2-4DD6-BF8B-3DB23D49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F2513-7185-487E-A73E-10C68BFD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29F33-9197-45EC-9A4E-A9B04802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65B8F-DFC1-444F-A7C2-0923A49A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05A89-B169-432C-9A35-A5F535FD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C578-8918-40B3-AFE8-A4950F29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F7ADE-3BA7-460A-B418-80A35A44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C67CF-A47B-418D-BD22-1E81DFB5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CD9DB-DF3C-4485-A0ED-8124E152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EADE0-8B22-4BA4-B6CD-2B713C00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68BE8-037D-46C9-B9C4-D3FA9AD1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53E39-5249-43A5-BE2D-3B9857E4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E34EA-F53B-44C0-8182-D748E1C2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72DEA-B253-44CA-9C1B-7B41D1CF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2A470-E641-4A03-A8E2-C03ACED7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F5A5E-695B-410A-A21B-09C2BBD3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35E-479A-40BD-87F1-1B22DB07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D6367-9EC3-43DF-BCCE-9291D408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E337F-965B-4704-A459-B79B32B1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98C70-2832-436E-BB39-7F5B7413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9264E-9774-4E02-8D0E-D05EC6CB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1689C-85A5-4A90-8CE7-89E6FF7E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C211C-EB47-493E-8165-9A8147EB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AB8EE-5363-4692-9DC5-9722AEB5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CF3E9-C2A8-49B2-8F81-FF9357EE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AC7DC-F180-4D0A-BAEA-0D7F4520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62FC0-11DB-418A-BEFE-5CBD3D48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186-F73E-4335-9723-A6B9EE2F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50D98-41EA-402B-A8AC-74898D77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192ED-BA33-41CB-A149-A20B932F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2E6FD-A9E4-48C1-9D91-5064A4B0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6A21E-2948-47B6-A1B6-6B7178F0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21EEB-E5C5-45C0-9F66-EFDE267B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50AD8-41E8-42F3-8A6B-E21DD188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518DA-E0F1-4C06-8AE7-6C4DA497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37D2A-72A0-4C93-8005-989B132A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EE3B6-A8D9-4C84-9A9A-321646F9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F2430-44BE-4199-A5BE-1BAF5156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B02-DF98-4EBA-BBA4-7424FC47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EB062-F001-42D6-AF5E-9DE22DF2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4E768-7952-409D-9573-DC5F0511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AF797-DBA4-4036-A982-E71D292E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7385F-3F61-4F12-811C-7BFFCFFF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8120B-A08A-47E5-ABD7-F55F76CE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F6C6F-94CB-4355-8FA3-F80CCEFE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421BC-C000-49D3-B581-FD6E6A11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59DEC-01AB-4AFF-B650-F2C5BDB5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7FB9F-4EB4-4AF8-8A08-D29EE101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6DB27-3F95-4AE2-BC85-5A56A450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19E-8C9C-4408-AF54-90D01385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6B292-FEB2-4AF8-AAD3-6D68A23E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ACF24-4F42-42C1-8F1A-57498D8B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4CC36-C98D-4898-BE1F-07B58853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C82D0-786C-46F3-8C70-3D42ADAF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EDAA0-7557-45E5-A5E0-43827E44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7FEEC-7D25-43AF-A991-1EE67E0E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27848-E953-4ED5-A379-72343BC3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4C726-17D3-42E3-9903-94DB6387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622D9-C666-4EBD-B66B-FBED8A4E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99734-C359-469D-B613-6ABF9513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CDE3-5356-419B-A2A0-8CF8C97E3C2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C1C1-79E9-485B-9503-51AEE37371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5CBA-B14E-4165-BEB1-403A2BCD38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E325-E235-473D-9399-0B90D02C4D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3B6C-1071-424F-9F9E-72862B86A4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0449-ACD3-46D9-8471-FE8EBE7B31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D421-0EB6-41E2-AE42-7EC6DC45F2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5F5C-44A9-4C17-93DD-37CDFED16C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FEAE-F312-4909-A909-E2939C4661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13FA-3ABA-4FBB-97D1-ED21ED2F50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AD59-78EB-4008-A787-2A58387EFA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D6B3-E64F-479E-8719-77236C7D9C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E174-2E5C-4663-99C1-27631D3A3E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31AC-4778-4B8E-98FE-E89E83F13E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t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8247240" y="2381400"/>
            <a:ext cx="291924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音乐时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Calibri"/>
              </a:rPr>
              <a:t>|The Moment of Mus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Calibri"/>
              </a:rPr>
              <a:t>|By Light_Ni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矩形 1"/>
          <p:cNvSpPr/>
          <p:nvPr/>
        </p:nvSpPr>
        <p:spPr>
          <a:xfrm>
            <a:off x="7392960" y="125280"/>
            <a:ext cx="36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音乐时刻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矩形 3"/>
          <p:cNvSpPr/>
          <p:nvPr/>
        </p:nvSpPr>
        <p:spPr>
          <a:xfrm>
            <a:off x="257400" y="6504120"/>
            <a:ext cx="288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Russell_Leng_JPAFDD803_"/>
          <p:cNvPicPr/>
          <p:nvPr/>
        </p:nvPicPr>
        <p:blipFill>
          <a:blip r:embed="rId2"/>
          <a:srcRect l="0" t="11457" r="0" b="7125"/>
          <a:stretch/>
        </p:blipFill>
        <p:spPr>
          <a:xfrm>
            <a:off x="5479920" y="0"/>
            <a:ext cx="1187640" cy="84132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3"/>
          <p:cNvSpPr/>
          <p:nvPr/>
        </p:nvSpPr>
        <p:spPr>
          <a:xfrm>
            <a:off x="5524560" y="43956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M U S I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3605040" y="1025640"/>
            <a:ext cx="50547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音乐时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THE MOMENT OF MUSIC,ENJO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1260360" y="2916360"/>
            <a:ext cx="987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-22320" y="2836800"/>
            <a:ext cx="12211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音乐是生活中最美好的一面。——恩格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2"/>
          <p:cNvGrpSpPr/>
          <p:nvPr/>
        </p:nvGrpSpPr>
        <p:grpSpPr>
          <a:xfrm>
            <a:off x="-38160" y="-20520"/>
            <a:ext cx="12271320" cy="6887880"/>
            <a:chOff x="-38160" y="-20520"/>
            <a:chExt cx="12271320" cy="6887880"/>
          </a:xfrm>
        </p:grpSpPr>
        <p:pic>
          <p:nvPicPr>
            <p:cNvPr id="583" name="Picture 3" descr="31"/>
            <p:cNvPicPr/>
            <p:nvPr/>
          </p:nvPicPr>
          <p:blipFill>
            <a:blip r:embed="rId1"/>
            <a:stretch/>
          </p:blipFill>
          <p:spPr>
            <a:xfrm>
              <a:off x="-38160" y="-20520"/>
              <a:ext cx="12242880" cy="68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 Box 4"/>
            <p:cNvSpPr/>
            <p:nvPr/>
          </p:nvSpPr>
          <p:spPr>
            <a:xfrm>
              <a:off x="6755760" y="114480"/>
              <a:ext cx="547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目    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Line 5"/>
            <p:cNvSpPr/>
            <p:nvPr/>
          </p:nvSpPr>
          <p:spPr>
            <a:xfrm>
              <a:off x="6990120" y="304920"/>
              <a:ext cx="1743120" cy="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Line 6"/>
            <p:cNvSpPr/>
            <p:nvPr/>
          </p:nvSpPr>
          <p:spPr>
            <a:xfrm>
              <a:off x="10163160" y="299880"/>
              <a:ext cx="1743120" cy="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Text Box 7"/>
            <p:cNvSpPr/>
            <p:nvPr/>
          </p:nvSpPr>
          <p:spPr>
            <a:xfrm>
              <a:off x="6741720" y="1578960"/>
              <a:ext cx="544752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-RADIOHEA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-K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-MU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-THE BEATL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-GREENDA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-COCO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-SINEAD O'CONNO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Picture 8" descr="cover"/>
          <p:cNvPicPr/>
          <p:nvPr/>
        </p:nvPicPr>
        <p:blipFill>
          <a:blip r:embed="rId2"/>
          <a:stretch/>
        </p:blipFill>
        <p:spPr>
          <a:xfrm>
            <a:off x="-50760" y="-4680"/>
            <a:ext cx="12212640" cy="687060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9"/>
          <p:cNvSpPr/>
          <p:nvPr/>
        </p:nvSpPr>
        <p:spPr>
          <a:xfrm>
            <a:off x="6769080" y="254160"/>
            <a:ext cx="546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1279440" y="-17640"/>
            <a:ext cx="4130640" cy="4002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Picture 11" descr="50044_cf006180"/>
          <p:cNvPicPr/>
          <p:nvPr/>
        </p:nvPicPr>
        <p:blipFill>
          <a:blip r:embed="rId3">
            <a:lum bright="12000"/>
          </a:blip>
          <a:srcRect l="13812" t="0" r="11616" b="0"/>
          <a:stretch/>
        </p:blipFill>
        <p:spPr>
          <a:xfrm>
            <a:off x="1465200" y="-17640"/>
            <a:ext cx="3792600" cy="3800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2" descr="contents-none"/>
          <p:cNvPicPr/>
          <p:nvPr/>
        </p:nvPicPr>
        <p:blipFill>
          <a:blip r:embed="rId4"/>
          <a:stretch/>
        </p:blipFill>
        <p:spPr>
          <a:xfrm>
            <a:off x="1547640" y="50760"/>
            <a:ext cx="1229040" cy="123048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3"/>
          <p:cNvSpPr/>
          <p:nvPr/>
        </p:nvSpPr>
        <p:spPr>
          <a:xfrm>
            <a:off x="1552680" y="476280"/>
            <a:ext cx="105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THE MO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OF MU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 flipV="1">
            <a:off x="14400" y="2349000"/>
            <a:ext cx="12163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3"/>
          <p:cNvSpPr/>
          <p:nvPr/>
        </p:nvSpPr>
        <p:spPr>
          <a:xfrm flipV="1">
            <a:off x="22320" y="4797000"/>
            <a:ext cx="1214748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4" descr="566d0fdfcc3f257a6227981a"/>
          <p:cNvPicPr/>
          <p:nvPr/>
        </p:nvPicPr>
        <p:blipFill>
          <a:blip r:embed="rId1">
            <a:grayscl/>
          </a:blip>
          <a:srcRect l="11174" t="0" r="14587" b="0"/>
          <a:stretch/>
        </p:blipFill>
        <p:spPr>
          <a:xfrm>
            <a:off x="10507680" y="2600280"/>
            <a:ext cx="1541520" cy="20750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s4020970"/>
          <p:cNvPicPr/>
          <p:nvPr/>
        </p:nvPicPr>
        <p:blipFill>
          <a:blip r:embed="rId2">
            <a:grayscl/>
          </a:blip>
          <a:srcRect l="13297" t="0" r="12557" b="0"/>
          <a:stretch/>
        </p:blipFill>
        <p:spPr>
          <a:xfrm>
            <a:off x="3651120" y="2602080"/>
            <a:ext cx="1516320" cy="20430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6" descr="10075183168489d16a"/>
          <p:cNvPicPr/>
          <p:nvPr/>
        </p:nvPicPr>
        <p:blipFill>
          <a:blip r:embed="rId3">
            <a:grayscl/>
          </a:blip>
          <a:srcRect l="0" t="6687" r="0" b="13833"/>
          <a:stretch/>
        </p:blipFill>
        <p:spPr>
          <a:xfrm>
            <a:off x="5330880" y="2602080"/>
            <a:ext cx="1536480" cy="20541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7" descr="150630.31386750_500"/>
          <p:cNvPicPr/>
          <p:nvPr/>
        </p:nvPicPr>
        <p:blipFill>
          <a:blip r:embed="rId4">
            <a:grayscl/>
          </a:blip>
          <a:srcRect l="0" t="0" r="19351" b="0"/>
          <a:stretch/>
        </p:blipFill>
        <p:spPr>
          <a:xfrm>
            <a:off x="7051680" y="2604960"/>
            <a:ext cx="1549440" cy="20732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8" descr="822469881949863477"/>
          <p:cNvPicPr/>
          <p:nvPr/>
        </p:nvPicPr>
        <p:blipFill>
          <a:blip r:embed="rId5">
            <a:grayscl/>
          </a:blip>
          <a:srcRect l="9541" t="0" r="15528" b="0"/>
          <a:stretch/>
        </p:blipFill>
        <p:spPr>
          <a:xfrm>
            <a:off x="179280" y="2579760"/>
            <a:ext cx="1581120" cy="2089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9" descr="b_large_rMo5_05bf000053a21261"/>
          <p:cNvPicPr/>
          <p:nvPr/>
        </p:nvPicPr>
        <p:blipFill>
          <a:blip r:embed="rId6">
            <a:grayscl/>
          </a:blip>
          <a:srcRect l="15034" t="0" r="16958" b="0"/>
          <a:stretch/>
        </p:blipFill>
        <p:spPr>
          <a:xfrm>
            <a:off x="8796240" y="2595600"/>
            <a:ext cx="1506600" cy="20415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0" descr="s300_4631377a5ac87881ffff6e336ec7ca31"/>
          <p:cNvPicPr/>
          <p:nvPr/>
        </p:nvPicPr>
        <p:blipFill>
          <a:blip r:embed="rId7">
            <a:grayscl/>
          </a:blip>
          <a:srcRect l="27904" t="4006" r="0" b="0"/>
          <a:stretch/>
        </p:blipFill>
        <p:spPr>
          <a:xfrm>
            <a:off x="1936800" y="2631960"/>
            <a:ext cx="1501560" cy="200052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1"/>
          <p:cNvSpPr/>
          <p:nvPr/>
        </p:nvSpPr>
        <p:spPr>
          <a:xfrm>
            <a:off x="-4680" y="1157400"/>
            <a:ext cx="1218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1.RADIOHEA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Picture 12" descr="822469881949863477"/>
          <p:cNvPicPr/>
          <p:nvPr/>
        </p:nvPicPr>
        <p:blipFill>
          <a:blip r:embed="rId8"/>
          <a:srcRect l="9541" t="0" r="15528" b="0"/>
          <a:stretch/>
        </p:blipFill>
        <p:spPr>
          <a:xfrm>
            <a:off x="174600" y="2575080"/>
            <a:ext cx="1581120" cy="2089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351000" y="1117440"/>
            <a:ext cx="6589440" cy="51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528480" y="345960"/>
            <a:ext cx="483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RADIO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Picture 4" descr="822469881949863477"/>
          <p:cNvPicPr/>
          <p:nvPr/>
        </p:nvPicPr>
        <p:blipFill>
          <a:blip r:embed="rId2"/>
          <a:srcRect l="9541" t="0" r="15528" b="0"/>
          <a:stretch/>
        </p:blipFill>
        <p:spPr>
          <a:xfrm>
            <a:off x="566640" y="1363680"/>
            <a:ext cx="3500640" cy="462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8" name="Picture 5" descr="01300000208201121662166473024"/>
          <p:cNvPicPr/>
          <p:nvPr/>
        </p:nvPicPr>
        <p:blipFill>
          <a:blip r:embed="rId3"/>
          <a:stretch/>
        </p:blipFill>
        <p:spPr>
          <a:xfrm>
            <a:off x="4253040" y="1362240"/>
            <a:ext cx="2458800" cy="19875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single02_b"/>
          <p:cNvPicPr/>
          <p:nvPr/>
        </p:nvPicPr>
        <p:blipFill>
          <a:blip r:embed="rId4"/>
          <a:stretch/>
        </p:blipFill>
        <p:spPr>
          <a:xfrm>
            <a:off x="4257720" y="3508200"/>
            <a:ext cx="2454120" cy="245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0" name="Picture 7" descr="1092P15D4"/>
          <p:cNvPicPr/>
          <p:nvPr/>
        </p:nvPicPr>
        <p:blipFill>
          <a:blip r:embed="rId5"/>
          <a:stretch/>
        </p:blipFill>
        <p:spPr>
          <a:xfrm>
            <a:off x="4863960" y="4272120"/>
            <a:ext cx="1305000" cy="13046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lable"/>
          <p:cNvPicPr/>
          <p:nvPr/>
        </p:nvPicPr>
        <p:blipFill>
          <a:blip r:embed="rId6"/>
          <a:srcRect l="0" t="13358" r="0" b="0"/>
          <a:stretch/>
        </p:blipFill>
        <p:spPr>
          <a:xfrm>
            <a:off x="9026640" y="-4680"/>
            <a:ext cx="1333440" cy="128268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9"/>
          <p:cNvSpPr/>
          <p:nvPr/>
        </p:nvSpPr>
        <p:spPr>
          <a:xfrm>
            <a:off x="9159480" y="10476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Black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10"/>
          <p:cNvSpPr/>
          <p:nvPr/>
        </p:nvSpPr>
        <p:spPr>
          <a:xfrm>
            <a:off x="7324560" y="1257480"/>
            <a:ext cx="4496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i get home from work and you're still standing in your dressing g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ell what am i to d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i know all the things around your head and what they do to yo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hat are we coming t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hat are we gonna d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blame it on the black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blame it on the falling s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blame it on the satellite that beams me ho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63188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881064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 flipV="1">
            <a:off x="14400" y="2349000"/>
            <a:ext cx="12163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3"/>
          <p:cNvSpPr/>
          <p:nvPr/>
        </p:nvSpPr>
        <p:spPr>
          <a:xfrm flipV="1">
            <a:off x="22320" y="4797000"/>
            <a:ext cx="1214748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4" descr="566d0fdfcc3f257a6227981a"/>
          <p:cNvPicPr/>
          <p:nvPr/>
        </p:nvPicPr>
        <p:blipFill>
          <a:blip r:embed="rId1">
            <a:grayscl/>
          </a:blip>
          <a:srcRect l="11174" t="0" r="14587" b="0"/>
          <a:stretch/>
        </p:blipFill>
        <p:spPr>
          <a:xfrm>
            <a:off x="10507680" y="2600280"/>
            <a:ext cx="1541520" cy="20750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" descr="s4020970"/>
          <p:cNvPicPr/>
          <p:nvPr/>
        </p:nvPicPr>
        <p:blipFill>
          <a:blip r:embed="rId2">
            <a:grayscl/>
          </a:blip>
          <a:srcRect l="13297" t="0" r="12557" b="0"/>
          <a:stretch/>
        </p:blipFill>
        <p:spPr>
          <a:xfrm>
            <a:off x="3651120" y="2602080"/>
            <a:ext cx="1516320" cy="20430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10075183168489d16a"/>
          <p:cNvPicPr/>
          <p:nvPr/>
        </p:nvPicPr>
        <p:blipFill>
          <a:blip r:embed="rId3">
            <a:grayscl/>
          </a:blip>
          <a:srcRect l="0" t="6687" r="0" b="13833"/>
          <a:stretch/>
        </p:blipFill>
        <p:spPr>
          <a:xfrm>
            <a:off x="5330880" y="2602080"/>
            <a:ext cx="1536480" cy="20541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7" descr="150630.31386750_500"/>
          <p:cNvPicPr/>
          <p:nvPr/>
        </p:nvPicPr>
        <p:blipFill>
          <a:blip r:embed="rId4">
            <a:grayscl/>
          </a:blip>
          <a:srcRect l="0" t="0" r="19351" b="0"/>
          <a:stretch/>
        </p:blipFill>
        <p:spPr>
          <a:xfrm>
            <a:off x="7051680" y="2604960"/>
            <a:ext cx="1549440" cy="20732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8" descr="822469881949863477"/>
          <p:cNvPicPr/>
          <p:nvPr/>
        </p:nvPicPr>
        <p:blipFill>
          <a:blip r:embed="rId5">
            <a:grayscl/>
          </a:blip>
          <a:srcRect l="9541" t="0" r="15528" b="0"/>
          <a:stretch/>
        </p:blipFill>
        <p:spPr>
          <a:xfrm>
            <a:off x="179280" y="2579760"/>
            <a:ext cx="1581120" cy="20890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9" descr="b_large_rMo5_05bf000053a21261"/>
          <p:cNvPicPr/>
          <p:nvPr/>
        </p:nvPicPr>
        <p:blipFill>
          <a:blip r:embed="rId6">
            <a:grayscl/>
          </a:blip>
          <a:srcRect l="15034" t="0" r="16958" b="0"/>
          <a:stretch/>
        </p:blipFill>
        <p:spPr>
          <a:xfrm>
            <a:off x="8796240" y="2595600"/>
            <a:ext cx="1506600" cy="20415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0" descr="s300_4631377a5ac87881ffff6e336ec7ca31"/>
          <p:cNvPicPr/>
          <p:nvPr/>
        </p:nvPicPr>
        <p:blipFill>
          <a:blip r:embed="rId7">
            <a:grayscl/>
          </a:blip>
          <a:srcRect l="27904" t="4006" r="0" b="0"/>
          <a:stretch/>
        </p:blipFill>
        <p:spPr>
          <a:xfrm>
            <a:off x="1936800" y="2631960"/>
            <a:ext cx="1501560" cy="200052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11"/>
          <p:cNvSpPr/>
          <p:nvPr/>
        </p:nvSpPr>
        <p:spPr>
          <a:xfrm>
            <a:off x="-4680" y="1157400"/>
            <a:ext cx="121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5.GREEN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12" descr="150630.31386750_500"/>
          <p:cNvPicPr/>
          <p:nvPr/>
        </p:nvPicPr>
        <p:blipFill>
          <a:blip r:embed="rId8"/>
          <a:srcRect l="0" t="0" r="19351" b="0"/>
          <a:stretch/>
        </p:blipFill>
        <p:spPr>
          <a:xfrm>
            <a:off x="7061040" y="2630520"/>
            <a:ext cx="1549440" cy="2073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-23760" y="-27000"/>
            <a:ext cx="12228480" cy="3305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Picture 3" descr="32[转换]"/>
          <p:cNvPicPr/>
          <p:nvPr/>
        </p:nvPicPr>
        <p:blipFill>
          <a:blip r:embed="rId1"/>
          <a:stretch/>
        </p:blipFill>
        <p:spPr>
          <a:xfrm>
            <a:off x="1085760" y="973080"/>
            <a:ext cx="2203560" cy="193680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4"/>
          <p:cNvSpPr/>
          <p:nvPr/>
        </p:nvSpPr>
        <p:spPr>
          <a:xfrm>
            <a:off x="4078440" y="44280"/>
            <a:ext cx="397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GREEN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4789440" y="4052880"/>
            <a:ext cx="3495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ere comes the rain ag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falling from the st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drenched in my pain ag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becoming who we 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as my memory r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but never forgets what I l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ake me up when september e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925920" y="3517920"/>
            <a:ext cx="34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Summer has come and pa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The innocent can never l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ake me up when september e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like my fathers come to p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seven years has gone so f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ake me up when september e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3" name="Picture 7" descr="3 3[转换]"/>
          <p:cNvPicPr/>
          <p:nvPr/>
        </p:nvPicPr>
        <p:blipFill>
          <a:blip r:embed="rId2"/>
          <a:stretch/>
        </p:blipFill>
        <p:spPr>
          <a:xfrm>
            <a:off x="5033880" y="987480"/>
            <a:ext cx="2176560" cy="19130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34[转换]"/>
          <p:cNvPicPr/>
          <p:nvPr/>
        </p:nvPicPr>
        <p:blipFill>
          <a:blip r:embed="rId3"/>
          <a:stretch/>
        </p:blipFill>
        <p:spPr>
          <a:xfrm>
            <a:off x="8840880" y="1000080"/>
            <a:ext cx="2219400" cy="195264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9"/>
          <p:cNvSpPr/>
          <p:nvPr/>
        </p:nvSpPr>
        <p:spPr>
          <a:xfrm>
            <a:off x="8566560" y="4068720"/>
            <a:ext cx="3443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summer has come and pa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the innocent can never l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ake me up when september e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ring out the bells ag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like we did when spring beg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ake me up when september e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4366440" y="338940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ake Me Up When September E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purple fade"/>
          <p:cNvPicPr/>
          <p:nvPr/>
        </p:nvPicPr>
        <p:blipFill>
          <a:blip r:embed="rId2"/>
          <a:srcRect l="0" t="0" r="0" b="24484"/>
          <a:stretch/>
        </p:blipFill>
        <p:spPr>
          <a:xfrm>
            <a:off x="3400560" y="-2104920"/>
            <a:ext cx="5391000" cy="51894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" descr="purple fade"/>
          <p:cNvPicPr/>
          <p:nvPr/>
        </p:nvPicPr>
        <p:blipFill>
          <a:blip r:embed="rId3"/>
          <a:srcRect l="0" t="24484" r="0" b="0"/>
          <a:stretch/>
        </p:blipFill>
        <p:spPr>
          <a:xfrm>
            <a:off x="3395520" y="3100320"/>
            <a:ext cx="5391360" cy="519588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4"/>
          <p:cNvSpPr/>
          <p:nvPr/>
        </p:nvSpPr>
        <p:spPr>
          <a:xfrm>
            <a:off x="4527720" y="2560680"/>
            <a:ext cx="30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Line 5"/>
          <p:cNvSpPr/>
          <p:nvPr/>
        </p:nvSpPr>
        <p:spPr>
          <a:xfrm>
            <a:off x="2944800" y="3089160"/>
            <a:ext cx="6302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4538520" y="3200400"/>
            <a:ext cx="30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f5f5f"/>
                </a:solidFill>
                <a:latin typeface="Calibri"/>
              </a:rPr>
              <a:t>THANK Y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5:56:48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