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2526" r="0" b="15460"/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H="1">
            <a:off x="0" y="6095880"/>
            <a:ext cx="9144000" cy="762120"/>
          </a:xfrm>
          <a:prstGeom prst="rect">
            <a:avLst/>
          </a:prstGeom>
          <a:gradFill rotWithShape="0">
            <a:gsLst>
              <a:gs pos="0">
                <a:srgbClr val="74c802"/>
              </a:gs>
              <a:gs pos="100000">
                <a:srgbClr val="f7f7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0" y="-720"/>
            <a:ext cx="9144000" cy="762120"/>
          </a:xfrm>
          <a:prstGeom prst="rect">
            <a:avLst/>
          </a:prstGeom>
          <a:gradFill rotWithShape="0">
            <a:gsLst>
              <a:gs pos="0">
                <a:srgbClr val="74c802"/>
              </a:gs>
              <a:gs pos="100000">
                <a:srgbClr val="f7f7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12526" r="0" b="15460"/>
          <a:stretch/>
        </p:blipFill>
        <p:spPr>
          <a:xfrm>
            <a:off x="0" y="2538360"/>
            <a:ext cx="914400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0" y="2513520"/>
            <a:ext cx="9144000" cy="4343400"/>
          </a:xfrm>
          <a:prstGeom prst="rect">
            <a:avLst/>
          </a:prstGeom>
          <a:gradFill rotWithShape="0">
            <a:gsLst>
              <a:gs pos="0">
                <a:srgbClr val="74c802"/>
              </a:gs>
              <a:gs pos="100000">
                <a:srgbClr val="f7f7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gradFill rotWithShape="0">
            <a:gsLst>
              <a:gs pos="0">
                <a:srgbClr val="74c802"/>
              </a:gs>
              <a:gs pos="100000">
                <a:srgbClr val="f7f7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523880"/>
            <a:ext cx="76964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73509"/>
                </a:solidFill>
                <a:latin typeface="Arial"/>
              </a:rPr>
              <a:t>        </a:t>
            </a:r>
            <a:r>
              <a:rPr b="1" lang="zh-CN" sz="1700" spc="-1" strike="noStrike">
                <a:solidFill>
                  <a:srgbClr val="173509"/>
                </a:solidFill>
                <a:latin typeface="Arial"/>
              </a:rPr>
              <a:t>我愿以自身判断力所及，遵守这一誓约，凡教给我医术的人，我应像尊敬自己的父母一样，尊敬他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73509"/>
                </a:solidFill>
                <a:latin typeface="Arial"/>
              </a:rPr>
              <a:t>        </a:t>
            </a:r>
            <a:r>
              <a:rPr b="1" lang="zh-CN" sz="1700" spc="-1" strike="noStrike">
                <a:solidFill>
                  <a:srgbClr val="173509"/>
                </a:solidFill>
                <a:latin typeface="Arial"/>
              </a:rPr>
              <a:t>我愿在自身判断力所及的范围内，尽我的能力，遵守一切为病人谋利益的道德原则，并杜绝一切堕落及害人的行为。我不得将有害的药物给予他人，也不指导他人服用有害药物，更不答应他人服用有害药物的请求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73509"/>
                </a:solidFill>
                <a:latin typeface="Arial"/>
              </a:rPr>
              <a:t>        </a:t>
            </a:r>
            <a:r>
              <a:rPr b="1" lang="zh-CN" sz="1700" spc="-1" strike="noStrike">
                <a:solidFill>
                  <a:srgbClr val="173509"/>
                </a:solidFill>
                <a:latin typeface="Arial"/>
              </a:rPr>
              <a:t>无论在什么地方，也无论需诊治的病人是男是女、是自由民还是奴婢，对他们我一视同仁，为他们谋幸福是我惟一的目的。我要检点自己的行为举止，我要检点自己的行为举止，不做各种害人的事，不做各种害人的事，在治病过程中，在治病过程中，凡我所见所闻，凡我所见所闻，不论与行医业务有否直接关系，不论与行医业务有否直接关系，凡我认为要保密的事项，凡我认为要保密的事项，坚决不予泄漏，坚决不予泄漏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838080"/>
            <a:ext cx="358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希波克拉底誓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0" t="12526" r="0" b="15460"/>
          <a:stretch/>
        </p:blipFill>
        <p:spPr>
          <a:xfrm>
            <a:off x="0" y="2538360"/>
            <a:ext cx="9144000" cy="431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2590920"/>
          </a:xfrm>
          <a:prstGeom prst="rect">
            <a:avLst/>
          </a:prstGeom>
          <a:gradFill rotWithShape="0">
            <a:gsLst>
              <a:gs pos="0">
                <a:srgbClr val="74c802"/>
              </a:gs>
              <a:gs pos="100000">
                <a:srgbClr val="f7f7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248520" y="7238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181480" y="7162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28800" y="990720"/>
            <a:ext cx="5486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276720"/>
            <a:ext cx="37339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73509"/>
                </a:solidFill>
                <a:latin typeface="Arial"/>
              </a:rPr>
              <a:t>某某医院医德医风推广小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73509"/>
                </a:solidFill>
                <a:latin typeface="Arial"/>
              </a:rPr>
              <a:t>20xx</a:t>
            </a:r>
            <a:r>
              <a:rPr b="0" lang="zh-CN" sz="2200" spc="-1" strike="noStrike">
                <a:solidFill>
                  <a:srgbClr val="173509"/>
                </a:solidFill>
                <a:latin typeface="Arial"/>
              </a:rPr>
              <a:t>年</a:t>
            </a:r>
            <a:r>
              <a:rPr b="0" lang="zh-CN" sz="2200" spc="-1" strike="noStrike">
                <a:solidFill>
                  <a:srgbClr val="173509"/>
                </a:solidFill>
                <a:latin typeface="Arial"/>
              </a:rPr>
              <a:t>1</a:t>
            </a:r>
            <a:r>
              <a:rPr b="0" lang="zh-CN" sz="2200" spc="-1" strike="noStrike">
                <a:solidFill>
                  <a:srgbClr val="173509"/>
                </a:solidFill>
                <a:latin typeface="Arial"/>
              </a:rPr>
              <a:t>月</a:t>
            </a:r>
            <a:r>
              <a:rPr b="0" lang="zh-CN" sz="2200" spc="-1" strike="noStrike">
                <a:solidFill>
                  <a:srgbClr val="173509"/>
                </a:solidFill>
                <a:latin typeface="Arial"/>
              </a:rPr>
              <a:t>14</a:t>
            </a:r>
            <a:r>
              <a:rPr b="0" lang="zh-CN" sz="2200" spc="-1" strike="noStrike">
                <a:solidFill>
                  <a:srgbClr val="173509"/>
                </a:solidFill>
                <a:latin typeface="Arial"/>
              </a:rPr>
              <a:t>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6640" y="2070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06668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医学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08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7:04Z</dcterms:modified>
  <cp:revision>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