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4CE-89C6-4346-B2FF-39DE9A7A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042-ED62-440D-A8D9-3AA26F11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D0EEF-99FE-4E4C-BF19-54C3C7BA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33C8F-E0F6-4992-9A7D-967FEECE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3A986-F746-4B11-B43F-E20C45A3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C7D37-9104-4CC1-9317-C4343926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A2651-41F4-4A9E-AEE4-1ED1DF27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31708-96FF-479B-94D1-6FD1D45B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9DBC0-02BC-48C0-96F9-2031269F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9BC10-E0EE-4575-9499-F9EC3A3F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8556C-5CB6-4DF4-B03D-9857FFC5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A0396-78A7-4687-812F-F825C135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8A66-5480-4999-9D9F-F19995A4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E1D0A-D722-43B6-A9C9-37A06A53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61BA7-1F6C-4F69-84A2-A43A699F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99A3E-0059-49CC-B850-26F1D90B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C32BF-F4D0-4CF4-A82A-C6947BA9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1FFF5-1E2E-4E66-9024-3F178EA2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143F9-379B-4381-B58A-A285E05C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715FA-BDCB-4617-AFDD-527701C5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38C3D-D803-4279-BAA6-4A611EA3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5AAAC-7FFF-4955-A180-5285B113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D538D-87F6-498F-AE8D-488E781B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7DC-F5AE-4512-B29A-CE65F0D9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5B81A-84C4-47C3-9DBE-FB88C859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03574-2506-449D-98ED-DD05C2DB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1BF08-6E58-4A92-B87D-E3C7FACC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B989F-9252-4C38-8F66-B07999DF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8E100-2B0D-4D7C-8886-90168E9B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7C6A8-E113-458E-81CB-2F94F896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663C5-C83D-4BDE-8D39-96B08FA0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73A60-8E0D-46BA-A5CC-A5D09A58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1E4EA-7709-4EE3-9BB2-5DEF73A1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CEEE8-B5E4-4845-951C-905A15F1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05DC-FAA9-4439-8295-C55A4DF0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BD629-1212-4E38-9CF7-856C9014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F65A7-7AB3-47CC-BDF9-08C73B68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117C5-A3D9-46B8-8CA9-3505863C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4A753-CD0E-43D6-95F5-46E5B4F7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CC19C-DC36-4FE4-932A-3257D9EE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16989-F60C-4A59-9613-3638F99A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50781-3EBE-41AA-9994-002C9707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4211F-9698-49D2-963F-92B05B8A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572F5-18FD-4501-BEA5-97C0ABFC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CC287-DD50-4BEA-A863-3022F84A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30C4-8FC3-466F-8F86-548C1EEB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6D66C-3DA2-4C08-9DE7-D793C64A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6FCDA-72C1-43A9-BB1A-E2544304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C779C-10C1-4EBD-87F2-F0C75220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8D525-F3FC-4C84-B8E7-D58AEAB5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B947F-8571-4489-8A80-D275C20C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C19EC-AD20-439C-B598-050987E6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1B2AC-18AA-4430-ABC0-CB968DCC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34CD1-4E3B-47B0-A9BD-C71D7141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78BFE-0653-462E-9D25-2BEF874F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61701-9514-46FB-AD81-4168D393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E367-D5D3-4AA5-A740-13C040C4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3F974-317E-4BFD-8C3E-588A4683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8A845-7528-49BB-B6D1-76A03DAF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36397D-D14F-43C9-90DC-C98F6737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D71E8-ED05-4BB5-A170-A01C5ABD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0C8D8-3D74-4733-9F5D-604819A9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ABF2C-59D3-48F9-AD58-125BC127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0EAAA-83F5-49FC-B768-F0DEB3AA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AA7A-4FB1-4677-A8FB-3EA13E8B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316B-5057-4FC8-9F04-D983CFFD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D840-7EC8-4FEB-8027-6F8E78D9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75FD-026A-4D9D-B3F8-1E1F97CF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60C-A140-48CC-BF3C-09BF15AD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4141-96DB-4B1F-831B-0C66CB02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67EF-ABBA-41A9-AE69-91669CE8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4FEA-6C10-43A9-B295-DD3274F4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8707-6C89-42EF-84DF-FBF7A099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A474-262E-4FFD-8033-6D6169D7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10D17-23A3-4209-A279-7D63E7CA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381A0-48C9-4063-BF35-5EAE0A8E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E867D-CA00-4D22-94F5-A7C2215E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0DA5-BAA9-4F43-8FAD-A4BBC4EE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28D68-E1D8-45E5-B4E7-23F9895C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355-A077-49DE-A2EE-3045AFAD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91C08-B394-4788-AB69-AB0B7E7B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D4840-1E4B-4C35-908E-C0550180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AF93B-9C59-402A-A757-12333A71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61A25-D329-497F-A7E2-BB9E42F1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6A941-45DE-46A4-94EF-24146FDE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7B75C-CB35-45A9-A5BD-7C9E6D77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38926-3E08-498B-889F-8F88BB9A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D4CF6-73F7-4CE2-B3C1-9CD64010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C54B3-17BB-4581-9E91-60C4C9D8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37807-02D9-460B-AF78-FDE183A6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F43-3247-47AB-AF0B-E3AFD26D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2A9AE-ED6E-40E2-BCFF-BD9F0577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4CC01-A2C9-47E2-94B7-EA137AA1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4B2DF-0C51-47B4-888C-8320D3B6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1EDAD-9D33-4A2E-857D-7372F64E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6A974-F74C-4576-86E9-A4450044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7990B-6253-4CD7-A87E-0B8F8D62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952D0-9ED7-41E5-BC9C-9FCC7568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D48FE-4116-49A4-814A-38D512D1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9B627-BF1B-40CD-99AA-7412DB4D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FD408-C8F2-42C3-A88A-96A2D36E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812-FA55-4235-BC5A-90049DC8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CDE91-F8E3-4099-A397-72456BA0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40D6A-151F-4DE2-8259-1CEA1EDF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E3DB4-468D-497C-AD43-E7FEF7D9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30917-60C8-4641-AA88-E1C4672C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602E3-788F-42B5-8694-95318B9D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236F1-B02A-4C18-B6D2-4FE445E9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BE26F-BF4B-4505-B7F4-A8890AB2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70928-36B4-41AD-813A-4C95837C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35FBA-66A1-4C1C-95B6-A375B5FE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3B0A5-9860-433E-9CC4-2A8AFD1D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269-FC7B-4E63-AB80-2B001FCE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22B3A-8BB8-40AD-9B59-4E9B4BC4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5EF1B-EAB6-429B-8D32-A97E6AA4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B45AA-BD11-439F-9783-A1718EBC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45A1A-393A-496A-BFFB-EA40C479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C8071-C64B-4511-BAB1-0693D89E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66D56-2898-428A-A4DC-8423D42F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7EC32-6207-4181-AF5B-81DDD8FC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B715B-8EC4-4CD7-8F1A-2C3C68E5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CFA73-7B55-4FEC-8981-EFC796E0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D51AE-B7A2-4C8C-9DEC-5599EEF3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85A-6391-4092-B4B6-8577ED3B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7FA83-7421-4A2D-BA13-1AF594C5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6513D-C705-4CE9-95A3-840DA36B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9708E-62F6-44A5-B07F-C56F2B20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FD42C-0B4B-481A-82D7-35538DDF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447AD-F69C-4D16-A8B0-0936FBB2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E51BA-59C3-49EC-B213-E9611AC7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72AD4-258B-4FBA-A530-EA41005C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81549-6B8C-40F1-AB43-B76677DC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41C30-7876-4062-8884-36341DA0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DEB23-FE5F-4627-ACC8-FE97AEFD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116-A54E-45FD-A0E6-355B2E94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9A5AF-9650-4076-8442-E6E54656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6C18A-892F-40AF-88CF-F2B78E29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953EE-0B06-48F6-8F1E-5073157B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17D61-AC20-4E18-A350-78F7AFBD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B17C7-9456-4482-896B-8CDBA61C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73866-CB5D-4430-9888-97AA587C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9691A-E28E-4413-BF91-0230CB3C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E8B78-3E98-41B7-8156-01F2DB70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D4FCE-6885-4BF3-8509-59BA717E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660D7-6FCD-4FCF-9290-A63F6DB7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178-C480-4C45-96A6-59D5DC61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398D8-4CFC-4AC9-9C26-F675B978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4E593-2827-481E-AD9F-F8504B14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D5864-A08E-40C5-BF6D-83655933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BD362-1EF1-45C4-8332-EFDAEC5B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C0421-536A-46C2-BA83-7A341AEE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81165-E9C2-44F0-AFB6-63CCDA1F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635D2-8173-41F5-839B-7A80EB73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79862-E297-4B28-814F-73A16554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2A3EA-5102-4306-B843-6C290C17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EB834-0FC4-4346-BF13-EEACAC05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medicine03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C94E-3B29-4916-B728-336D8602BA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"/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"/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"/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"/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"/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"/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F8BD-5C92-440F-AF99-7DB6D4ADD1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D48C-D8B5-4C07-BCFB-02DBFBDD2A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B0D6-66CB-420E-BB81-E795BB2C71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E900-B16C-4E5D-B2B8-196B8EFD9F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F900-473B-4F50-8D4B-57F71CF80F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0EAA-7FC4-461F-8575-C56579E21D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7E49-3BE2-4EAD-94F9-2D00653FD8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6922-3B83-495C-A006-4DE0172D1B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19E4-97E4-4E44-A6EF-5A5AF0DE8C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A8B9-15C9-465A-B039-CE1DD17E93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7DD5-D023-4E38-84DB-47E81E0820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A51E-9864-4B3F-A702-64A745B563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3" descr="medicine03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矩形 1"/>
          <p:cNvSpPr/>
          <p:nvPr/>
        </p:nvSpPr>
        <p:spPr>
          <a:xfrm>
            <a:off x="3129480" y="1268280"/>
            <a:ext cx="37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00b5b"/>
                </a:solidFill>
                <a:latin typeface="Times New Roman"/>
              </a:rPr>
              <a:t>医学</a:t>
            </a:r>
            <a:r>
              <a:rPr b="0" lang="zh-CN" sz="4000" spc="-1" strike="noStrike">
                <a:solidFill>
                  <a:srgbClr val="200b5b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200b5b"/>
                </a:solidFill>
                <a:latin typeface="Times New Roman"/>
              </a:rPr>
              <a:t>模板免费下载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矩形 4"/>
          <p:cNvSpPr/>
          <p:nvPr/>
        </p:nvSpPr>
        <p:spPr>
          <a:xfrm>
            <a:off x="331920" y="65199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6600cc"/>
              </a:solidFill>
              <a:latin typeface="Times New Roman"/>
              <a:ea typeface="宋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zh-CN" sz="3200" spc="-1" strike="noStrike">
              <a:solidFill>
                <a:srgbClr val="ffffcc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07:0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cp:lastPrinted>2113-01-01T00:00:00Z</cp:lastPrinted>
  <dcterms:modified xsi:type="dcterms:W3CDTF">2015-07-20T05:52:22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