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984C7-349F-4368-83E2-B66DBAB6C8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829152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9040" y="3981240"/>
            <a:ext cx="829152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E33C2-54F9-4318-A6C7-3975994869DA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404604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7760" y="1184400"/>
            <a:ext cx="404604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C328303-B01F-426F-BB5E-FEA20892F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995DA1-006A-4F90-82AF-60A257856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15800" y="253800"/>
            <a:ext cx="8291520" cy="32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DD30B3D-0653-4C75-8AD7-A120C4247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67760" y="1184400"/>
            <a:ext cx="404604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19040" y="398124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731712E-95FD-44E0-BB1B-13B572F03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404604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776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67760" y="398124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8DE65A-C07C-429A-BD7E-19A0EC42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776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19040" y="3981240"/>
            <a:ext cx="829152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E4F274A-074F-4481-ACF3-856628FE8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829152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19040" y="3981240"/>
            <a:ext cx="829152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EBB80C9-E6D3-474E-ABF8-5BA2A9FF6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6776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19040" y="398124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67760" y="398124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25E7CF9-01B5-4916-81D0-5E6189CCD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22720" y="118440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6400" y="118440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19040" y="398124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22720" y="398124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6400" y="398124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89814B-FA57-4672-834E-EC676BB91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6929305-5B7F-49B9-B968-6A41E7249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776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19040" y="398124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7760" y="398124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6F9BC-98D0-43D7-A417-BAE471C1F8AB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19040" y="1184400"/>
            <a:ext cx="82915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E0B89B-FBD1-44EA-BE4C-16D7916CB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829152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F306373-E7FB-49E2-B70F-11CC77FED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404604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7760" y="1184400"/>
            <a:ext cx="404604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73697A5-589B-4A9C-ACDE-52F5D2557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B08F3CE-1BA8-4E0A-AC7B-83CF3FE98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15800" y="253800"/>
            <a:ext cx="8291520" cy="32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E9D454-033F-4F2E-8F5A-98D129643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7760" y="1184400"/>
            <a:ext cx="404604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19040" y="398124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2806152-4B7D-4FA7-A1E3-48D4080C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404604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6776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67760" y="398124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BA6D375-0A72-4CD8-AE09-39595CFBB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6776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19040" y="3981240"/>
            <a:ext cx="829152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D84C1F0-0973-4B21-A0AC-C3589B6E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829152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19040" y="3981240"/>
            <a:ext cx="829152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63412BA-46C7-47E5-950A-CC36A4D14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6776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19040" y="398124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67760" y="398124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1148F43-89AA-4C23-8A1E-9B1EB0C7D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22720" y="118440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6400" y="118440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19040" y="398124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22720" y="398124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6400" y="398124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C2BA6-B017-4ED0-AE41-7719ED394541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22720" y="118440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26400" y="118440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19040" y="398124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22720" y="398124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26400" y="398124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8EEE9A3-9C6C-4ECE-B46F-FABF18F87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7BF44BE-4948-464A-B83C-0C269A92D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19040" y="1184400"/>
            <a:ext cx="82915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4D857F2-61A5-4C17-A18A-AF8C0A908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829152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4157312-6346-45CE-941F-8056B9543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404604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67760" y="1184400"/>
            <a:ext cx="404604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1784054-CB8F-4945-843F-9D15E2F12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2B0819A-EB29-4925-B6F4-D1D0FDF72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15800" y="253800"/>
            <a:ext cx="8291520" cy="32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BEAAE92-534F-4485-90CF-05CAA643C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7760" y="1184400"/>
            <a:ext cx="404604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19040" y="398124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B548436-4F03-48C4-9163-20AB07F89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404604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776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67760" y="398124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F30CD6C-95E3-4621-89DE-8A04D93A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776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19040" y="3981240"/>
            <a:ext cx="829152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4BDB876-5307-433B-AE6F-D16B70567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0FD550-39CE-4993-9D13-5AE8BCE62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829152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19040" y="3981240"/>
            <a:ext cx="829152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6EB3557-35F3-4A8E-AD3F-AE4B9E6AF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6776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19040" y="398124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67760" y="398124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67D3458-8F52-4556-B087-24B80B1DC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22720" y="118440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6400" y="118440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19040" y="398124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22720" y="398124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6400" y="398124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2B46D22-FF77-45E9-AF40-AA375D438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FBB0096-2EEC-455B-8170-4DD44DDF9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19040" y="1184400"/>
            <a:ext cx="82915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687535B-C928-4522-A784-FB28C666A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829152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F4BE8F1-9EA5-4B27-8BC1-972F571F1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404604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7760" y="1184400"/>
            <a:ext cx="404604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E871E6C-1C45-4644-9C96-05E914CCC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2059BD0-6949-4E28-9D66-D32FBB414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15800" y="253800"/>
            <a:ext cx="8291520" cy="32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FC2EDBE-174D-40E5-88E5-5A8FDD850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67760" y="1184400"/>
            <a:ext cx="404604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19040" y="398124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D4F6A92-F10C-4705-A7F7-9F631791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19040" y="1184400"/>
            <a:ext cx="82915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280598-08CE-4733-85F0-693198C9E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404604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6776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67760" y="398124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CB97C10-6F1C-4843-A0EA-87706523F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6776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19040" y="3981240"/>
            <a:ext cx="829152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93C550A-ACC4-42BF-B1E6-E63E95F99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829152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19040" y="3981240"/>
            <a:ext cx="829152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4FEDE9C-8BB9-413B-A151-854271409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776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19040" y="398124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67760" y="398124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C9FD3F9-1AB3-4795-87E3-7804D31C5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22720" y="118440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6400" y="118440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19040" y="398124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22720" y="398124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6400" y="398124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5AFC847-92F0-4E29-83C9-140AEA8E4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20FE952-FC93-4563-8EC5-3585A1E6F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419040" y="1184400"/>
            <a:ext cx="82915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A091177-8BF3-481D-9B90-F556C559F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829152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746C79A-B8C1-4377-989F-91BFF9539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404604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7760" y="1184400"/>
            <a:ext cx="404604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A40E062-3FE2-4B08-A72D-3822E460F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2161E5F-A5DE-4ACB-B3FD-BF6B44901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829152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8AA70B-D915-4F6C-B607-02C9D865A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415800" y="253800"/>
            <a:ext cx="8291520" cy="32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2DD7245-6D07-4760-AF2C-0A805D71E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67760" y="1184400"/>
            <a:ext cx="404604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19040" y="398124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F06CB5C-0722-4426-ABD8-B25EEE051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404604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6776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67760" y="398124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8CCB259-8340-4F6F-9CA6-25655C27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776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19040" y="3981240"/>
            <a:ext cx="829152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360D6B9-BE64-424B-B5CC-9FECACEC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829152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19040" y="3981240"/>
            <a:ext cx="829152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D9E8CF5-C9F7-4E65-8C77-328345C82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6776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19040" y="398124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67760" y="398124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053183D-3661-419A-A264-45013A559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22720" y="118440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26400" y="118440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19040" y="398124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22720" y="398124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26400" y="398124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2E55F6C-4F35-492E-8FA4-C9054E4DC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38195B4-F0C3-4BF7-9B35-D0CB2CFAE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419040" y="1184400"/>
            <a:ext cx="82915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30AB721-E786-4DE1-A7B1-F9A89CC89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829152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F5C3A2A-35E8-4042-8D00-F42C0EB64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404604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7760" y="1184400"/>
            <a:ext cx="404604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BBFE68-B265-4F41-9C81-7BF3239A5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404604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67760" y="1184400"/>
            <a:ext cx="404604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B077E8E-D2A9-4FA6-B406-DF8A0759E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4C912A8-B510-41E0-B1E0-3F313B5B4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415800" y="253800"/>
            <a:ext cx="8291520" cy="32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6EDDC45-76C6-462B-865B-554F53110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67760" y="1184400"/>
            <a:ext cx="404604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19040" y="398124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7792FCC-6C54-4AF4-84CA-636091355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404604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6776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67760" y="398124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34D1B71-503A-4F18-84ED-FE2CF4206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776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19040" y="3981240"/>
            <a:ext cx="829152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9C9696E-9799-4269-B91F-6930C2AB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829152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19040" y="3981240"/>
            <a:ext cx="829152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4E2F516-6384-4CFE-AEC0-E5AC745BE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6776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19040" y="398124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67760" y="398124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562E1C5-D500-4AFC-AE75-FC2DF9D34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22720" y="118440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26400" y="118440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19040" y="398124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22720" y="398124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026400" y="398124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78BED77-2B3A-4851-BDBF-E26311916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841C010-DA75-4D60-A79C-988597DBE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E7710F-5DBC-4D59-B8A6-7D7FBC268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ubTitle"/>
          </p:nvPr>
        </p:nvSpPr>
        <p:spPr>
          <a:xfrm>
            <a:off x="419040" y="1184400"/>
            <a:ext cx="82915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42DB0FB-0F29-43BC-BDF7-9DB13609A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829152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C078278-1271-4E82-A3E5-23103C279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404604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67760" y="1184400"/>
            <a:ext cx="404604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5D5A348-0803-44EB-AD1F-0ED5D7B42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ECE6128-9890-425E-B22D-72CBB4D4D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ubTitle"/>
          </p:nvPr>
        </p:nvSpPr>
        <p:spPr>
          <a:xfrm>
            <a:off x="415800" y="253800"/>
            <a:ext cx="8291520" cy="32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1C7037D-060B-44F2-9D8E-7E8ADA4FE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67760" y="1184400"/>
            <a:ext cx="404604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19040" y="398124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089668F-7CFE-47EE-BA7E-4587AC08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404604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6776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667760" y="398124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8250B3C-985B-45DE-93C2-261E217F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6776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19040" y="3981240"/>
            <a:ext cx="829152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60E3487-2394-450D-9784-44410532B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829152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19040" y="3981240"/>
            <a:ext cx="829152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DC9F77D-5538-47C9-AB4A-AE68C51AE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6776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19040" y="398124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667760" y="398124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0C8F062-D662-4A53-8D85-02E4E3DC6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15800" y="253800"/>
            <a:ext cx="8291520" cy="32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F2B4E7-8E86-4B55-89EE-8225CB251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3222720" y="118440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026400" y="118440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19040" y="398124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642" name="PlaceHolder 6"/>
          <p:cNvSpPr>
            <a:spLocks noGrp="1"/>
          </p:cNvSpPr>
          <p:nvPr>
            <p:ph/>
          </p:nvPr>
        </p:nvSpPr>
        <p:spPr>
          <a:xfrm>
            <a:off x="3222720" y="398124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643" name="PlaceHolder 7"/>
          <p:cNvSpPr>
            <a:spLocks noGrp="1"/>
          </p:cNvSpPr>
          <p:nvPr>
            <p:ph/>
          </p:nvPr>
        </p:nvSpPr>
        <p:spPr>
          <a:xfrm>
            <a:off x="6026400" y="398124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5254D38-3D52-4C0A-A8E8-2395D4D98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7760" y="1184400"/>
            <a:ext cx="404604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19040" y="398124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ED27AA-486E-4934-8C07-F7FBBF646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19040" y="1184400"/>
            <a:ext cx="82915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DE7E1-D317-4674-A94D-4D06AB63CA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404604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776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7760" y="398124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1F2402-BB15-42B6-B6B7-D578D254C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776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19040" y="3981240"/>
            <a:ext cx="829152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DDED87-4B3D-4478-8BB8-C89D3430C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829152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19040" y="3981240"/>
            <a:ext cx="829152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DB794A-034C-48FB-A312-A68453B48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776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19040" y="398124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7760" y="398124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325AFF-1296-46BD-8E65-04DD9E3D2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22720" y="118440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6400" y="118440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19040" y="398124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22720" y="398124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6400" y="398124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318050-56B9-4585-A3F5-2BC28223C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19040" y="1184400"/>
            <a:ext cx="82915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829152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404604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7760" y="1184400"/>
            <a:ext cx="404604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829152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BD8E2-C762-4413-B9C6-FB1A029840D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15800" y="253800"/>
            <a:ext cx="8291520" cy="32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7760" y="1184400"/>
            <a:ext cx="404604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19040" y="398124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404604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776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67760" y="398124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776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19040" y="3981240"/>
            <a:ext cx="829152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829152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19040" y="3981240"/>
            <a:ext cx="829152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776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19040" y="398124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67760" y="398124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22720" y="118440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6400" y="118440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19040" y="398124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22720" y="398124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6400" y="398124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5433D8-B863-44C5-8F5A-B5055FB30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19040" y="1184400"/>
            <a:ext cx="82915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F726B6-AC4F-4AD4-BB3F-E8778C7C4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829152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8C916E-81F3-433A-9E60-5ABBCB0C1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404604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760" y="1184400"/>
            <a:ext cx="404604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6CFF1-093F-4F94-8991-688AAA09BB8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404604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7760" y="1184400"/>
            <a:ext cx="404604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393475-3113-4D67-8C7D-DEEEA9FE4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ECCE67-0D23-4179-BB28-0A69B9A97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15800" y="253800"/>
            <a:ext cx="8291520" cy="32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3EF0F2-B1C4-4103-8045-798398B94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7760" y="1184400"/>
            <a:ext cx="404604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19040" y="398124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8AA307-9F8F-4836-BCDF-E588DFBC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404604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776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67760" y="398124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8F04D8-04B1-4A5D-AFCD-EE731C9CE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776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19040" y="3981240"/>
            <a:ext cx="829152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CB95BA-7146-4517-9D2D-F77677261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829152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19040" y="3981240"/>
            <a:ext cx="829152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2D70A7-CE6D-47B8-A48C-7A6659746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776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19040" y="398124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67760" y="398124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777B9C-8122-41EB-89FF-0A58005EB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22720" y="118440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6400" y="118440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19040" y="398124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22720" y="398124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6400" y="398124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4D83E5-9541-498B-82C0-669D6FFBE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8D017A-F2EE-422A-A66F-B84DB2705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3922A-9B3B-4CED-B385-6F3D98D1535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419040" y="1184400"/>
            <a:ext cx="82915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59583A-F017-480D-9D96-114263352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829152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3A4441-5C20-4859-B903-FF7AABE01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404604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7760" y="1184400"/>
            <a:ext cx="404604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118D28-9B7B-42F7-986E-976F5EDDB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5C7E5D-7A3A-437E-8E4D-AA0D78B5B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15800" y="253800"/>
            <a:ext cx="8291520" cy="32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3275E1-16CF-4F52-8F02-425107233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7760" y="1184400"/>
            <a:ext cx="404604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9040" y="398124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41218E-04BD-4860-9316-CF73F7D68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404604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776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67760" y="398124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CC0B57-852B-484C-BDFB-7645CA57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776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19040" y="3981240"/>
            <a:ext cx="829152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1F2E95-F670-4970-833F-97388D58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829152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19040" y="3981240"/>
            <a:ext cx="829152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DAA5B6-B672-4720-9607-5FA1A5B0C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776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19040" y="398124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67760" y="398124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731693-CA86-48E6-B982-B7A537DEF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15800" y="253800"/>
            <a:ext cx="8291520" cy="32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ACFC5-18C1-4F33-8FC7-B6F9676FE56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22720" y="118440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26400" y="118440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19040" y="398124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22720" y="398124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26400" y="398124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C1F789-40E6-4BC2-BADE-36B230276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C9F08D-B2EC-46B1-B1E1-F28731AB5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19040" y="1184400"/>
            <a:ext cx="82915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7FB406-B158-47CA-AB9E-ADE062665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829152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2D2987-F702-433B-978A-E0D2CBB1C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404604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7760" y="1184400"/>
            <a:ext cx="404604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45E8AB-A3DA-43BB-9002-90D4E7947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423B1E-2A58-4714-9D4B-1BF1E346F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15800" y="253800"/>
            <a:ext cx="8291520" cy="32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C35399-9C07-4BA0-9859-109199AE6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7760" y="1184400"/>
            <a:ext cx="404604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19040" y="398124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12E030-B3A7-4C61-A72F-5F2E686C5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404604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776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67760" y="398124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F072FD-45F6-4BB0-87C6-266051162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776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19040" y="3981240"/>
            <a:ext cx="829152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908AF2-7793-4585-9ED3-B5F7166E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184400"/>
            <a:ext cx="404604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9040" y="398124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18C51-3E13-4D9F-BEE8-AB21DA7FBDD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829152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19040" y="3981240"/>
            <a:ext cx="829152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185CB0-7A8B-4E80-93A3-75B416ECF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776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19040" y="398124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67760" y="398124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C59FEA-593C-4612-93B8-C9AAA8CEB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22720" y="118440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6400" y="118440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19040" y="398124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22720" y="398124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6400" y="398124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BDA85F-7FE9-4FD8-8B7D-EC5BD7838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0F2512-5507-453B-95D4-EE7822CE8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19040" y="1184400"/>
            <a:ext cx="82915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25C1D4-39D1-4FD2-8E28-FA9686AB7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829152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696B5F-2AE2-4CAB-96F0-74C908105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404604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7760" y="1184400"/>
            <a:ext cx="404604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A80F0C-DBED-4D84-BD72-41C17C476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2EB932-9C2D-4E62-A803-F5F45B6D9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15800" y="253800"/>
            <a:ext cx="8291520" cy="32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E5850B-5553-45F2-98B8-33E7AA2D7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7760" y="1184400"/>
            <a:ext cx="404604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19040" y="398124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3E95F5-C4FB-4734-81F9-D99B2C1FA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404604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776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7760" y="398124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9B3CE-E8A9-43F9-9BA9-B4BB6428248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404604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776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7760" y="398124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F75100-7B64-4E72-B5E7-9A4FB2F3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776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19040" y="3981240"/>
            <a:ext cx="829152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B2BDC0-01E2-4F7B-9E5B-58FE5F5A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829152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19040" y="3981240"/>
            <a:ext cx="829152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182F5F-01CA-4FE0-B51C-D6E83EBD8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776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19040" y="398124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7760" y="398124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B39443-010D-47D9-A118-58CFDC579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22720" y="118440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6400" y="118440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19040" y="398124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22720" y="398124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6400" y="398124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D7D6D3-CF90-43B2-A696-054DB9D7C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FACA46-DBC1-4C13-BBB5-84249955D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19040" y="1184400"/>
            <a:ext cx="82915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066F26-BFB0-4D09-877C-14E4118F8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829152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245C1C-AE82-4D25-AEAD-39AFF794F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404604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184400"/>
            <a:ext cx="404604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456818-D70D-422C-A43C-A1FF299D4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053ABA-90BB-4264-AF49-6F9282D1E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776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19040" y="3981240"/>
            <a:ext cx="829152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87FDB-4720-4996-8BAD-745120F0DCAD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15800" y="253800"/>
            <a:ext cx="8291520" cy="32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4ABBB8-1B64-4848-9960-6076A1707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184400"/>
            <a:ext cx="404604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19040" y="398124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0EA358-9A17-4525-990F-503A3903B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404604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398124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4FAA80-2310-4FDD-8F70-46C16E93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19040" y="3981240"/>
            <a:ext cx="829152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FCB4F2-64D0-4677-92F7-ACB69C26D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829152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19040" y="3981240"/>
            <a:ext cx="829152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636692-1EA6-4705-A088-F63687197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18440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19040" y="398124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3981240"/>
            <a:ext cx="404604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823885-2AC2-4318-8A92-DB220E080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22720" y="118440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6400" y="118440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19040" y="398124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22720" y="398124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6400" y="3981240"/>
            <a:ext cx="2669760" cy="25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CEAC4E-5874-4766-9620-5678E9300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E2F17D9-5E0D-4395-AFEB-4659883AE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19040" y="1184400"/>
            <a:ext cx="82915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AE7C6A-CF87-466C-AC18-D49357D1A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19040" y="1184400"/>
            <a:ext cx="829152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31F560-EBB3-4CF6-B891-762B1418E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2"/>
          <p:cNvGraphicFramePr/>
          <p:nvPr/>
        </p:nvGraphicFramePr>
        <p:xfrm>
          <a:off x="0" y="22320"/>
          <a:ext cx="9144000" cy="1174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2320"/>
                    <a:ext cx="9144000" cy="11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Rectangle 3"/>
          <p:cNvSpPr/>
          <p:nvPr/>
        </p:nvSpPr>
        <p:spPr>
          <a:xfrm>
            <a:off x="0" y="6453360"/>
            <a:ext cx="9109080" cy="404640"/>
          </a:xfrm>
          <a:prstGeom prst="rect">
            <a:avLst/>
          </a:prstGeom>
          <a:solidFill>
            <a:srgbClr val="225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" name="Group 4"/>
          <p:cNvGrpSpPr/>
          <p:nvPr/>
        </p:nvGrpSpPr>
        <p:grpSpPr>
          <a:xfrm>
            <a:off x="-14400" y="0"/>
            <a:ext cx="9164520" cy="6859440"/>
            <a:chOff x="-14400" y="0"/>
            <a:chExt cx="9164520" cy="6859440"/>
          </a:xfrm>
        </p:grpSpPr>
        <p:sp>
          <p:nvSpPr>
            <p:cNvPr id="4" name="AutoShape 5"/>
            <p:cNvSpPr/>
            <p:nvPr/>
          </p:nvSpPr>
          <p:spPr>
            <a:xfrm>
              <a:off x="28440" y="38160"/>
              <a:ext cx="9081720" cy="678492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" name="未知"/>
            <p:cNvSpPr/>
            <p:nvPr/>
          </p:nvSpPr>
          <p:spPr>
            <a:xfrm>
              <a:off x="-14400" y="0"/>
              <a:ext cx="457560" cy="447840"/>
            </a:xfrm>
            <a:custGeom>
              <a:avLst/>
              <a:gdLst/>
              <a:ahLst/>
              <a:rect l="l" t="t" r="r" b="b"/>
              <a:pathLst>
                <a:path w="288" h="282">
                  <a:moveTo>
                    <a:pt x="2" y="282"/>
                  </a:moveTo>
                  <a:lnTo>
                    <a:pt x="82" y="144"/>
                  </a:lnTo>
                  <a:lnTo>
                    <a:pt x="165" y="36"/>
                  </a:lnTo>
                  <a:lnTo>
                    <a:pt x="288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" name="未知"/>
            <p:cNvSpPr/>
            <p:nvPr/>
          </p:nvSpPr>
          <p:spPr>
            <a:xfrm>
              <a:off x="-6120" y="6326280"/>
              <a:ext cx="387720" cy="533160"/>
            </a:xfrm>
            <a:custGeom>
              <a:avLst/>
              <a:gdLst/>
              <a:ahLst/>
              <a:rect l="l" t="t" r="r" b="b"/>
              <a:pathLst>
                <a:path w="243" h="336">
                  <a:moveTo>
                    <a:pt x="243" y="335"/>
                  </a:moveTo>
                  <a:lnTo>
                    <a:pt x="122" y="239"/>
                  </a:lnTo>
                  <a:lnTo>
                    <a:pt x="30" y="144"/>
                  </a:lnTo>
                  <a:lnTo>
                    <a:pt x="0" y="0"/>
                  </a:lnTo>
                  <a:lnTo>
                    <a:pt x="1" y="33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" name="未知"/>
            <p:cNvSpPr/>
            <p:nvPr/>
          </p:nvSpPr>
          <p:spPr>
            <a:xfrm>
              <a:off x="8748000" y="6396120"/>
              <a:ext cx="402120" cy="460440"/>
            </a:xfrm>
            <a:custGeom>
              <a:avLst/>
              <a:gdLst/>
              <a:ahLst/>
              <a:rect l="l" t="t" r="r" b="b"/>
              <a:pathLst>
                <a:path w="232" h="290">
                  <a:moveTo>
                    <a:pt x="229" y="0"/>
                  </a:moveTo>
                  <a:lnTo>
                    <a:pt x="164" y="144"/>
                  </a:lnTo>
                  <a:lnTo>
                    <a:pt x="98" y="253"/>
                  </a:lnTo>
                  <a:lnTo>
                    <a:pt x="0" y="290"/>
                  </a:lnTo>
                  <a:lnTo>
                    <a:pt x="232" y="287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" name="未知"/>
            <p:cNvSpPr/>
            <p:nvPr/>
          </p:nvSpPr>
          <p:spPr>
            <a:xfrm>
              <a:off x="8685720" y="0"/>
              <a:ext cx="45756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0" y="0"/>
                  </a:moveTo>
                  <a:lnTo>
                    <a:pt x="144" y="82"/>
                  </a:lnTo>
                  <a:lnTo>
                    <a:pt x="252" y="165"/>
                  </a:lnTo>
                  <a:lnTo>
                    <a:pt x="288" y="288"/>
                  </a:lnTo>
                  <a:lnTo>
                    <a:pt x="28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7ab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89e8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ldNum" idx="1"/>
          </p:nvPr>
        </p:nvSpPr>
        <p:spPr>
          <a:xfrm>
            <a:off x="304560" y="655272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AB99A-D4FF-4941-9D2B-0B4824532D7E}" type="slidenum">
              <a:rPr b="1" lang="en-US" sz="1200" spc="-1" strike="noStrike">
                <a:solidFill>
                  <a:srgbClr val="ffffff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725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5943240" y="6460920"/>
            <a:ext cx="289548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图片 12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90d0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419040" y="1184400"/>
            <a:ext cx="829152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0890d0"/>
              </a:buClr>
              <a:buSzPct val="80000"/>
              <a:buFont typeface="Webdings" charset="2"/>
              <a:buChar char="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90d0"/>
                </a:solidFill>
                <a:latin typeface="幼圆"/>
              </a:rPr>
              <a:t>Click to edit the outline text format</a:t>
            </a: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70d4d7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90d0"/>
                </a:solidFill>
                <a:latin typeface="幼圆"/>
              </a:rPr>
              <a:t>Second Outline Level</a:t>
            </a: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90d0"/>
                </a:solidFill>
                <a:latin typeface="幼圆"/>
              </a:rPr>
              <a:t>Third Outline Level</a:t>
            </a: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90d0"/>
                </a:solidFill>
                <a:latin typeface="幼圆"/>
              </a:rPr>
              <a:t>Fourth Outline Level</a:t>
            </a: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90d0"/>
                </a:solidFill>
                <a:latin typeface="幼圆"/>
              </a:rPr>
              <a:t>Fifth Outline Level</a:t>
            </a: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90d0"/>
                </a:solidFill>
                <a:latin typeface="幼圆"/>
              </a:rPr>
              <a:t>Sixth Outline Level</a:t>
            </a: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90d0"/>
                </a:solidFill>
                <a:latin typeface="幼圆"/>
              </a:rPr>
              <a:t>Seventh Outline Level</a:t>
            </a: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93EDC-B302-4CDF-B872-CBEE81057ACE}" type="slidenum">
              <a:rPr b="0" lang="zh-CN" sz="1200" spc="-1" strike="noStrike">
                <a:solidFill>
                  <a:srgbClr val="9d9d9d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图片 12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90d0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419040" y="1184400"/>
            <a:ext cx="829152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0890d0"/>
              </a:buClr>
              <a:buSzPct val="80000"/>
              <a:buFont typeface="Webdings" charset="2"/>
              <a:buChar char="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90d0"/>
                </a:solidFill>
                <a:latin typeface="幼圆"/>
              </a:rPr>
              <a:t>Click to edit the outline text format</a:t>
            </a: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70d4d7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90d0"/>
                </a:solidFill>
                <a:latin typeface="幼圆"/>
              </a:rPr>
              <a:t>Second Outline Level</a:t>
            </a: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90d0"/>
                </a:solidFill>
                <a:latin typeface="幼圆"/>
              </a:rPr>
              <a:t>Third Outline Level</a:t>
            </a: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90d0"/>
                </a:solidFill>
                <a:latin typeface="幼圆"/>
              </a:rPr>
              <a:t>Fourth Outline Level</a:t>
            </a: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90d0"/>
                </a:solidFill>
                <a:latin typeface="幼圆"/>
              </a:rPr>
              <a:t>Fifth Outline Level</a:t>
            </a: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90d0"/>
                </a:solidFill>
                <a:latin typeface="幼圆"/>
              </a:rPr>
              <a:t>Sixth Outline Level</a:t>
            </a: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90d0"/>
                </a:solidFill>
                <a:latin typeface="幼圆"/>
              </a:rPr>
              <a:t>Seventh Outline Level</a:t>
            </a: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2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51B20-729B-4BD4-B18D-47D8F7D91FE5}" type="slidenum">
              <a:rPr b="0" lang="zh-CN" sz="1200" spc="-1" strike="noStrike">
                <a:solidFill>
                  <a:srgbClr val="9d9d9d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图片 12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90d0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419040" y="1184400"/>
            <a:ext cx="829152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0890d0"/>
              </a:buClr>
              <a:buSzPct val="80000"/>
              <a:buFont typeface="Webdings" charset="2"/>
              <a:buChar char="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90d0"/>
                </a:solidFill>
                <a:latin typeface="幼圆"/>
              </a:rPr>
              <a:t>Click to edit the outline text format</a:t>
            </a: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70d4d7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90d0"/>
                </a:solidFill>
                <a:latin typeface="幼圆"/>
              </a:rPr>
              <a:t>Second Outline Level</a:t>
            </a: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90d0"/>
                </a:solidFill>
                <a:latin typeface="幼圆"/>
              </a:rPr>
              <a:t>Third Outline Level</a:t>
            </a: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90d0"/>
                </a:solidFill>
                <a:latin typeface="幼圆"/>
              </a:rPr>
              <a:t>Fourth Outline Level</a:t>
            </a: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90d0"/>
                </a:solidFill>
                <a:latin typeface="幼圆"/>
              </a:rPr>
              <a:t>Fifth Outline Level</a:t>
            </a: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90d0"/>
                </a:solidFill>
                <a:latin typeface="幼圆"/>
              </a:rPr>
              <a:t>Sixth Outline Level</a:t>
            </a: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90d0"/>
                </a:solidFill>
                <a:latin typeface="幼圆"/>
              </a:rPr>
              <a:t>Seventh Outline Level</a:t>
            </a: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CCEE3-A1C4-4BCD-824B-DCBEAEE99CA4}" type="slidenum">
              <a:rPr b="0" lang="zh-CN" sz="1200" spc="-1" strike="noStrike">
                <a:solidFill>
                  <a:srgbClr val="9d9d9d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图片 12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90d0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419040" y="1184400"/>
            <a:ext cx="829152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0890d0"/>
              </a:buClr>
              <a:buSzPct val="80000"/>
              <a:buFont typeface="Webdings" charset="2"/>
              <a:buChar char="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90d0"/>
                </a:solidFill>
                <a:latin typeface="幼圆"/>
              </a:rPr>
              <a:t>Click to edit the outline text format</a:t>
            </a: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70d4d7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90d0"/>
                </a:solidFill>
                <a:latin typeface="幼圆"/>
              </a:rPr>
              <a:t>Second Outline Level</a:t>
            </a: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90d0"/>
                </a:solidFill>
                <a:latin typeface="幼圆"/>
              </a:rPr>
              <a:t>Third Outline Level</a:t>
            </a: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90d0"/>
                </a:solidFill>
                <a:latin typeface="幼圆"/>
              </a:rPr>
              <a:t>Fourth Outline Level</a:t>
            </a: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90d0"/>
                </a:solidFill>
                <a:latin typeface="幼圆"/>
              </a:rPr>
              <a:t>Fifth Outline Level</a:t>
            </a: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90d0"/>
                </a:solidFill>
                <a:latin typeface="幼圆"/>
              </a:rPr>
              <a:t>Sixth Outline Level</a:t>
            </a: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90d0"/>
                </a:solidFill>
                <a:latin typeface="幼圆"/>
              </a:rPr>
              <a:t>Seventh Outline Level</a:t>
            </a: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4188C-CA72-47C4-BBC9-9A0C39B91B25}" type="slidenum">
              <a:rPr b="0" lang="zh-CN" sz="1200" spc="-1" strike="noStrike">
                <a:solidFill>
                  <a:srgbClr val="9d9d9d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图片 12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90d0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419040" y="1184400"/>
            <a:ext cx="829152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0890d0"/>
              </a:buClr>
              <a:buSzPct val="80000"/>
              <a:buFont typeface="Webdings" charset="2"/>
              <a:buChar char="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90d0"/>
                </a:solidFill>
                <a:latin typeface="幼圆"/>
              </a:rPr>
              <a:t>Click to edit the outline text format</a:t>
            </a: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70d4d7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90d0"/>
                </a:solidFill>
                <a:latin typeface="幼圆"/>
              </a:rPr>
              <a:t>Second Outline Level</a:t>
            </a: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90d0"/>
                </a:solidFill>
                <a:latin typeface="幼圆"/>
              </a:rPr>
              <a:t>Third Outline Level</a:t>
            </a: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90d0"/>
                </a:solidFill>
                <a:latin typeface="幼圆"/>
              </a:rPr>
              <a:t>Fourth Outline Level</a:t>
            </a: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90d0"/>
                </a:solidFill>
                <a:latin typeface="幼圆"/>
              </a:rPr>
              <a:t>Fifth Outline Level</a:t>
            </a: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90d0"/>
                </a:solidFill>
                <a:latin typeface="幼圆"/>
              </a:rPr>
              <a:t>Sixth Outline Level</a:t>
            </a: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90d0"/>
                </a:solidFill>
                <a:latin typeface="幼圆"/>
              </a:rPr>
              <a:t>Seventh Outline Level</a:t>
            </a: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3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3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3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08864-CFB5-4341-AC16-FF8C66141369}" type="slidenum">
              <a:rPr b="0" lang="zh-CN" sz="1200" spc="-1" strike="noStrike">
                <a:solidFill>
                  <a:srgbClr val="9d9d9d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图片 12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90d0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419040" y="1184400"/>
            <a:ext cx="829152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0890d0"/>
              </a:buClr>
              <a:buSzPct val="80000"/>
              <a:buFont typeface="Webdings" charset="2"/>
              <a:buChar char="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90d0"/>
                </a:solidFill>
                <a:latin typeface="幼圆"/>
              </a:rPr>
              <a:t>Click to edit the outline text format</a:t>
            </a: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70d4d7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90d0"/>
                </a:solidFill>
                <a:latin typeface="幼圆"/>
              </a:rPr>
              <a:t>Second Outline Level</a:t>
            </a: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90d0"/>
                </a:solidFill>
                <a:latin typeface="幼圆"/>
              </a:rPr>
              <a:t>Third Outline Level</a:t>
            </a: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90d0"/>
                </a:solidFill>
                <a:latin typeface="幼圆"/>
              </a:rPr>
              <a:t>Fourth Outline Level</a:t>
            </a: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90d0"/>
                </a:solidFill>
                <a:latin typeface="幼圆"/>
              </a:rPr>
              <a:t>Fifth Outline Level</a:t>
            </a: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90d0"/>
                </a:solidFill>
                <a:latin typeface="幼圆"/>
              </a:rPr>
              <a:t>Sixth Outline Level</a:t>
            </a: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90d0"/>
                </a:solidFill>
                <a:latin typeface="幼圆"/>
              </a:rPr>
              <a:t>Seventh Outline Level</a:t>
            </a: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 type="dt" idx="3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 type="ftr" idx="4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 type="sldNum" idx="4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84B48-E24A-4980-88E2-E0B6D5F637AF}" type="slidenum">
              <a:rPr b="0" lang="zh-CN" sz="1200" spc="-1" strike="noStrike">
                <a:solidFill>
                  <a:srgbClr val="9d9d9d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12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dt" idx="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8DB99-DEC9-45F6-98E4-15B24B390383}" type="slidenum">
              <a:rPr b="0" lang="zh-CN" sz="1200" spc="-1" strike="noStrike">
                <a:solidFill>
                  <a:srgbClr val="9d9d9d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90d0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19040" y="1184400"/>
            <a:ext cx="829152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0890d0"/>
              </a:buClr>
              <a:buSzPct val="80000"/>
              <a:buFont typeface="Webdings" charset="2"/>
              <a:buChar char="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90d0"/>
                </a:solidFill>
                <a:latin typeface="幼圆"/>
              </a:rPr>
              <a:t>Click to edit the outline text format</a:t>
            </a: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70d4d7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90d0"/>
                </a:solidFill>
                <a:latin typeface="幼圆"/>
              </a:rPr>
              <a:t>Second Outline Level</a:t>
            </a: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90d0"/>
                </a:solidFill>
                <a:latin typeface="幼圆"/>
              </a:rPr>
              <a:t>Third Outline Level</a:t>
            </a: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90d0"/>
                </a:solidFill>
                <a:latin typeface="幼圆"/>
              </a:rPr>
              <a:t>Fourth Outline Level</a:t>
            </a: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90d0"/>
                </a:solidFill>
                <a:latin typeface="幼圆"/>
              </a:rPr>
              <a:t>Fifth Outline Level</a:t>
            </a: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90d0"/>
                </a:solidFill>
                <a:latin typeface="幼圆"/>
              </a:rPr>
              <a:t>Sixth Outline Level</a:t>
            </a: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90d0"/>
                </a:solidFill>
                <a:latin typeface="幼圆"/>
              </a:rPr>
              <a:t>Seventh Outline Level</a:t>
            </a: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Object 2"/>
          <p:cNvGraphicFramePr/>
          <p:nvPr/>
        </p:nvGraphicFramePr>
        <p:xfrm>
          <a:off x="19080" y="0"/>
          <a:ext cx="9124920" cy="6799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80" y="0"/>
                    <a:ext cx="9124920" cy="679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Rectangle 3"/>
          <p:cNvSpPr/>
          <p:nvPr/>
        </p:nvSpPr>
        <p:spPr>
          <a:xfrm>
            <a:off x="57240" y="28440"/>
            <a:ext cx="6534000" cy="2229120"/>
          </a:xfrm>
          <a:prstGeom prst="rect">
            <a:avLst/>
          </a:prstGeom>
          <a:solidFill>
            <a:srgbClr val="225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7391520" y="58816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Verdana"/>
                <a:ea typeface="宋体"/>
              </a:rPr>
              <a:t>LOG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95" name="Group 7"/>
          <p:cNvGrpSpPr/>
          <p:nvPr/>
        </p:nvGrpSpPr>
        <p:grpSpPr>
          <a:xfrm>
            <a:off x="-14400" y="0"/>
            <a:ext cx="9164520" cy="6859440"/>
            <a:chOff x="-14400" y="0"/>
            <a:chExt cx="9164520" cy="6859440"/>
          </a:xfrm>
        </p:grpSpPr>
        <p:sp>
          <p:nvSpPr>
            <p:cNvPr id="96" name="AutoShape 8"/>
            <p:cNvSpPr/>
            <p:nvPr/>
          </p:nvSpPr>
          <p:spPr>
            <a:xfrm>
              <a:off x="28440" y="38160"/>
              <a:ext cx="9081720" cy="678492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" name="未知"/>
            <p:cNvSpPr/>
            <p:nvPr/>
          </p:nvSpPr>
          <p:spPr>
            <a:xfrm>
              <a:off x="-14400" y="0"/>
              <a:ext cx="457560" cy="447840"/>
            </a:xfrm>
            <a:custGeom>
              <a:avLst/>
              <a:gdLst/>
              <a:ahLst/>
              <a:rect l="l" t="t" r="r" b="b"/>
              <a:pathLst>
                <a:path w="288" h="282">
                  <a:moveTo>
                    <a:pt x="2" y="282"/>
                  </a:moveTo>
                  <a:lnTo>
                    <a:pt x="82" y="144"/>
                  </a:lnTo>
                  <a:lnTo>
                    <a:pt x="165" y="36"/>
                  </a:lnTo>
                  <a:lnTo>
                    <a:pt x="288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" name="未知"/>
            <p:cNvSpPr/>
            <p:nvPr/>
          </p:nvSpPr>
          <p:spPr>
            <a:xfrm>
              <a:off x="-6120" y="6326280"/>
              <a:ext cx="387720" cy="533160"/>
            </a:xfrm>
            <a:custGeom>
              <a:avLst/>
              <a:gdLst/>
              <a:ahLst/>
              <a:rect l="l" t="t" r="r" b="b"/>
              <a:pathLst>
                <a:path w="243" h="336">
                  <a:moveTo>
                    <a:pt x="243" y="335"/>
                  </a:moveTo>
                  <a:lnTo>
                    <a:pt x="122" y="239"/>
                  </a:lnTo>
                  <a:lnTo>
                    <a:pt x="30" y="144"/>
                  </a:lnTo>
                  <a:lnTo>
                    <a:pt x="0" y="0"/>
                  </a:lnTo>
                  <a:lnTo>
                    <a:pt x="1" y="33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" name="未知"/>
            <p:cNvSpPr/>
            <p:nvPr/>
          </p:nvSpPr>
          <p:spPr>
            <a:xfrm>
              <a:off x="8748000" y="6396120"/>
              <a:ext cx="402120" cy="460440"/>
            </a:xfrm>
            <a:custGeom>
              <a:avLst/>
              <a:gdLst/>
              <a:ahLst/>
              <a:rect l="l" t="t" r="r" b="b"/>
              <a:pathLst>
                <a:path w="232" h="290">
                  <a:moveTo>
                    <a:pt x="229" y="0"/>
                  </a:moveTo>
                  <a:lnTo>
                    <a:pt x="164" y="144"/>
                  </a:lnTo>
                  <a:lnTo>
                    <a:pt x="98" y="253"/>
                  </a:lnTo>
                  <a:lnTo>
                    <a:pt x="0" y="290"/>
                  </a:lnTo>
                  <a:lnTo>
                    <a:pt x="232" y="287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" name="未知"/>
            <p:cNvSpPr/>
            <p:nvPr/>
          </p:nvSpPr>
          <p:spPr>
            <a:xfrm>
              <a:off x="8685720" y="0"/>
              <a:ext cx="45756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0" y="0"/>
                  </a:moveTo>
                  <a:lnTo>
                    <a:pt x="144" y="82"/>
                  </a:lnTo>
                  <a:lnTo>
                    <a:pt x="252" y="165"/>
                  </a:lnTo>
                  <a:lnTo>
                    <a:pt x="288" y="288"/>
                  </a:lnTo>
                  <a:lnTo>
                    <a:pt x="28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7ab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89e8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725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图片 7" descr=""/>
          <p:cNvPicPr/>
          <p:nvPr/>
        </p:nvPicPr>
        <p:blipFill>
          <a:blip r:embed="rId2"/>
          <a:stretch/>
        </p:blipFill>
        <p:spPr>
          <a:xfrm>
            <a:off x="0" y="56196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40" name="AutoShape 3"/>
          <p:cNvSpPr/>
          <p:nvPr/>
        </p:nvSpPr>
        <p:spPr>
          <a:xfrm>
            <a:off x="676440" y="3743280"/>
            <a:ext cx="3609720" cy="380880"/>
          </a:xfrm>
          <a:prstGeom prst="roundRect">
            <a:avLst>
              <a:gd name="adj" fmla="val 50000"/>
            </a:avLst>
          </a:prstGeom>
          <a:solidFill>
            <a:srgbClr val="80d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90d0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19040" y="1184400"/>
            <a:ext cx="829152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0890d0"/>
              </a:buClr>
              <a:buSzPct val="80000"/>
              <a:buFont typeface="Webdings" charset="2"/>
              <a:buChar char="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90d0"/>
                </a:solidFill>
                <a:latin typeface="幼圆"/>
              </a:rPr>
              <a:t>Click to edit the outline text format</a:t>
            </a: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70d4d7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90d0"/>
                </a:solidFill>
                <a:latin typeface="幼圆"/>
              </a:rPr>
              <a:t>Second Outline Level</a:t>
            </a: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90d0"/>
                </a:solidFill>
                <a:latin typeface="幼圆"/>
              </a:rPr>
              <a:t>Third Outline Level</a:t>
            </a: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90d0"/>
                </a:solidFill>
                <a:latin typeface="幼圆"/>
              </a:rPr>
              <a:t>Fourth Outline Level</a:t>
            </a: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90d0"/>
                </a:solidFill>
                <a:latin typeface="幼圆"/>
              </a:rPr>
              <a:t>Fifth Outline Level</a:t>
            </a: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90d0"/>
                </a:solidFill>
                <a:latin typeface="幼圆"/>
              </a:rPr>
              <a:t>Sixth Outline Level</a:t>
            </a: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90d0"/>
                </a:solidFill>
                <a:latin typeface="幼圆"/>
              </a:rPr>
              <a:t>Seventh Outline Level</a:t>
            </a: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FD391-2769-464B-BF6C-898985BA5598}" type="slidenum">
              <a:rPr b="0" lang="zh-CN" sz="1200" spc="-1" strike="noStrike">
                <a:solidFill>
                  <a:srgbClr val="9d9d9d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图片 12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90d0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419040" y="1184400"/>
            <a:ext cx="829152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0890d0"/>
              </a:buClr>
              <a:buSzPct val="80000"/>
              <a:buFont typeface="Webdings" charset="2"/>
              <a:buChar char="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90d0"/>
                </a:solidFill>
                <a:latin typeface="幼圆"/>
              </a:rPr>
              <a:t>Click to edit the outline text format</a:t>
            </a: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70d4d7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90d0"/>
                </a:solidFill>
                <a:latin typeface="幼圆"/>
              </a:rPr>
              <a:t>Second Outline Level</a:t>
            </a: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90d0"/>
                </a:solidFill>
                <a:latin typeface="幼圆"/>
              </a:rPr>
              <a:t>Third Outline Level</a:t>
            </a: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90d0"/>
                </a:solidFill>
                <a:latin typeface="幼圆"/>
              </a:rPr>
              <a:t>Fourth Outline Level</a:t>
            </a: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90d0"/>
                </a:solidFill>
                <a:latin typeface="幼圆"/>
              </a:rPr>
              <a:t>Fifth Outline Level</a:t>
            </a: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90d0"/>
                </a:solidFill>
                <a:latin typeface="幼圆"/>
              </a:rPr>
              <a:t>Sixth Outline Level</a:t>
            </a: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90d0"/>
                </a:solidFill>
                <a:latin typeface="幼圆"/>
              </a:rPr>
              <a:t>Seventh Outline Level</a:t>
            </a: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CE580-375C-4103-8B6D-954891383269}" type="slidenum">
              <a:rPr b="0" lang="zh-CN" sz="1200" spc="-1" strike="noStrike">
                <a:solidFill>
                  <a:srgbClr val="9d9d9d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图片 12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90d0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19040" y="1184400"/>
            <a:ext cx="829152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0890d0"/>
              </a:buClr>
              <a:buSzPct val="80000"/>
              <a:buFont typeface="Webdings" charset="2"/>
              <a:buChar char="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90d0"/>
                </a:solidFill>
                <a:latin typeface="幼圆"/>
              </a:rPr>
              <a:t>Click to edit the outline text format</a:t>
            </a: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70d4d7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90d0"/>
                </a:solidFill>
                <a:latin typeface="幼圆"/>
              </a:rPr>
              <a:t>Second Outline Level</a:t>
            </a: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90d0"/>
                </a:solidFill>
                <a:latin typeface="幼圆"/>
              </a:rPr>
              <a:t>Third Outline Level</a:t>
            </a: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90d0"/>
                </a:solidFill>
                <a:latin typeface="幼圆"/>
              </a:rPr>
              <a:t>Fourth Outline Level</a:t>
            </a: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90d0"/>
                </a:solidFill>
                <a:latin typeface="幼圆"/>
              </a:rPr>
              <a:t>Fifth Outline Level</a:t>
            </a: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90d0"/>
                </a:solidFill>
                <a:latin typeface="幼圆"/>
              </a:rPr>
              <a:t>Sixth Outline Level</a:t>
            </a: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90d0"/>
                </a:solidFill>
                <a:latin typeface="幼圆"/>
              </a:rPr>
              <a:t>Seventh Outline Level</a:t>
            </a: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FCBD9-F8CB-4756-A2E5-1A69CA34A0AE}" type="slidenum">
              <a:rPr b="0" lang="zh-CN" sz="1200" spc="-1" strike="noStrike">
                <a:solidFill>
                  <a:srgbClr val="9d9d9d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图片 12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90d0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19040" y="1184400"/>
            <a:ext cx="829152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0890d0"/>
              </a:buClr>
              <a:buSzPct val="80000"/>
              <a:buFont typeface="Webdings" charset="2"/>
              <a:buChar char="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90d0"/>
                </a:solidFill>
                <a:latin typeface="幼圆"/>
              </a:rPr>
              <a:t>Click to edit the outline text format</a:t>
            </a: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70d4d7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90d0"/>
                </a:solidFill>
                <a:latin typeface="幼圆"/>
              </a:rPr>
              <a:t>Second Outline Level</a:t>
            </a: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90d0"/>
                </a:solidFill>
                <a:latin typeface="幼圆"/>
              </a:rPr>
              <a:t>Third Outline Level</a:t>
            </a: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90d0"/>
                </a:solidFill>
                <a:latin typeface="幼圆"/>
              </a:rPr>
              <a:t>Fourth Outline Level</a:t>
            </a: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90d0"/>
                </a:solidFill>
                <a:latin typeface="幼圆"/>
              </a:rPr>
              <a:t>Fifth Outline Level</a:t>
            </a: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90d0"/>
                </a:solidFill>
                <a:latin typeface="幼圆"/>
              </a:rPr>
              <a:t>Sixth Outline Level</a:t>
            </a: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90d0"/>
                </a:solidFill>
                <a:latin typeface="幼圆"/>
              </a:rPr>
              <a:t>Seventh Outline Level</a:t>
            </a: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7BFAC-729A-4356-B8A3-4D6304AED951}" type="slidenum">
              <a:rPr b="0" lang="zh-CN" sz="1200" spc="-1" strike="noStrike">
                <a:solidFill>
                  <a:srgbClr val="9d9d9d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图片 12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90d0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19040" y="1184400"/>
            <a:ext cx="829152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0890d0"/>
              </a:buClr>
              <a:buSzPct val="80000"/>
              <a:buFont typeface="Webdings" charset="2"/>
              <a:buChar char="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90d0"/>
                </a:solidFill>
                <a:latin typeface="幼圆"/>
              </a:rPr>
              <a:t>Click to edit the outline text format</a:t>
            </a: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70d4d7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90d0"/>
                </a:solidFill>
                <a:latin typeface="幼圆"/>
              </a:rPr>
              <a:t>Second Outline Level</a:t>
            </a: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90d0"/>
                </a:solidFill>
                <a:latin typeface="幼圆"/>
              </a:rPr>
              <a:t>Third Outline Level</a:t>
            </a: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90d0"/>
                </a:solidFill>
                <a:latin typeface="幼圆"/>
              </a:rPr>
              <a:t>Fourth Outline Level</a:t>
            </a: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90d0"/>
                </a:solidFill>
                <a:latin typeface="幼圆"/>
              </a:rPr>
              <a:t>Fifth Outline Level</a:t>
            </a: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90d0"/>
                </a:solidFill>
                <a:latin typeface="幼圆"/>
              </a:rPr>
              <a:t>Sixth Outline Level</a:t>
            </a: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90d0"/>
                </a:solidFill>
                <a:latin typeface="幼圆"/>
              </a:rPr>
              <a:t>Seventh Outline Level</a:t>
            </a: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1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EEBC0-DEE7-49C7-92C7-B768C91550EB}" type="slidenum">
              <a:rPr b="0" lang="zh-CN" sz="1200" spc="-1" strike="noStrike">
                <a:solidFill>
                  <a:srgbClr val="9d9d9d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图片 12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90d0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419040" y="1184400"/>
            <a:ext cx="829152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0890d0"/>
              </a:buClr>
              <a:buSzPct val="80000"/>
              <a:buFont typeface="Webdings" charset="2"/>
              <a:buChar char="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90d0"/>
                </a:solidFill>
                <a:latin typeface="幼圆"/>
              </a:rPr>
              <a:t>Click to edit the outline text format</a:t>
            </a: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70d4d7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90d0"/>
                </a:solidFill>
                <a:latin typeface="幼圆"/>
              </a:rPr>
              <a:t>Second Outline Level</a:t>
            </a: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90d0"/>
                </a:solidFill>
                <a:latin typeface="幼圆"/>
              </a:rPr>
              <a:t>Third Outline Level</a:t>
            </a: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90d0"/>
                </a:solidFill>
                <a:latin typeface="幼圆"/>
              </a:rPr>
              <a:t>Fourth Outline Level</a:t>
            </a: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90d0"/>
                </a:solidFill>
                <a:latin typeface="幼圆"/>
              </a:rPr>
              <a:t>Fifth Outline Level</a:t>
            </a: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90d0"/>
                </a:solidFill>
                <a:latin typeface="幼圆"/>
              </a:rPr>
              <a:t>Sixth Outline Level</a:t>
            </a: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90d0"/>
                </a:solidFill>
                <a:latin typeface="幼圆"/>
              </a:rPr>
              <a:t>Seventh Outline Level</a:t>
            </a:r>
            <a:endParaRPr b="0" lang="en-US" sz="2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2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2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4FCE3-CCA8-4EE7-8197-0675675E5C76}" type="slidenum">
              <a:rPr b="0" lang="zh-CN" sz="1200" spc="-1" strike="noStrike">
                <a:solidFill>
                  <a:srgbClr val="9d9d9d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609480" y="2438280"/>
            <a:ext cx="56390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title"/>
          </p:nvPr>
        </p:nvSpPr>
        <p:spPr>
          <a:xfrm>
            <a:off x="657360" y="2130120"/>
            <a:ext cx="711504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90d0"/>
                </a:solidFill>
                <a:latin typeface="微软雅黑"/>
              </a:rPr>
              <a:t>医学</a:t>
            </a:r>
            <a:r>
              <a:rPr b="1" lang="en-US" sz="4000" spc="-1" strike="noStrike">
                <a:solidFill>
                  <a:srgbClr val="0890d0"/>
                </a:solidFill>
                <a:latin typeface="微软雅黑"/>
              </a:rPr>
              <a:t>PPT</a:t>
            </a:r>
            <a:r>
              <a:rPr b="1" lang="zh-CN" sz="4000" spc="-1" strike="noStrike">
                <a:solidFill>
                  <a:srgbClr val="0890d0"/>
                </a:solidFill>
                <a:latin typeface="微软雅黑"/>
              </a:rPr>
              <a:t>模板完整版免费下载</a:t>
            </a:r>
            <a:endParaRPr b="1" lang="en-US" sz="40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64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f5f5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890d0"/>
                </a:solidFill>
                <a:latin typeface="微软雅黑"/>
              </a:rPr>
              <a:t>Diagram</a:t>
            </a:r>
            <a:endParaRPr b="1" lang="en-US" sz="4000" spc="-1" strike="noStrike">
              <a:solidFill>
                <a:srgbClr val="0890d0"/>
              </a:solidFill>
              <a:latin typeface="微软雅黑"/>
            </a:endParaRPr>
          </a:p>
        </p:txBody>
      </p:sp>
      <p:grpSp>
        <p:nvGrpSpPr>
          <p:cNvPr id="828" name="Group 3"/>
          <p:cNvGrpSpPr/>
          <p:nvPr/>
        </p:nvGrpSpPr>
        <p:grpSpPr>
          <a:xfrm>
            <a:off x="752760" y="1828800"/>
            <a:ext cx="7282440" cy="3770280"/>
            <a:chOff x="752760" y="1828800"/>
            <a:chExt cx="7282440" cy="3770280"/>
          </a:xfrm>
        </p:grpSpPr>
        <p:sp>
          <p:nvSpPr>
            <p:cNvPr id="829" name="AutoShape 4"/>
            <p:cNvSpPr/>
            <p:nvPr/>
          </p:nvSpPr>
          <p:spPr>
            <a:xfrm rot="17973000">
              <a:off x="4558320" y="253080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089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0" name="AutoShape 5"/>
            <p:cNvSpPr/>
            <p:nvPr/>
          </p:nvSpPr>
          <p:spPr>
            <a:xfrm rot="3465600">
              <a:off x="4608720" y="464112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089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1" name="AutoShape 6"/>
            <p:cNvSpPr/>
            <p:nvPr/>
          </p:nvSpPr>
          <p:spPr>
            <a:xfrm rot="14368800">
              <a:off x="3389760" y="255312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089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2" name="AutoShape 7"/>
            <p:cNvSpPr/>
            <p:nvPr/>
          </p:nvSpPr>
          <p:spPr>
            <a:xfrm rot="7534800">
              <a:off x="3351600" y="460764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089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3" name="AutoShape 8"/>
            <p:cNvSpPr/>
            <p:nvPr/>
          </p:nvSpPr>
          <p:spPr>
            <a:xfrm>
              <a:off x="5194080" y="361152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089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4" name="AutoShape 9"/>
            <p:cNvSpPr/>
            <p:nvPr/>
          </p:nvSpPr>
          <p:spPr>
            <a:xfrm rot="10800000">
              <a:off x="2783880" y="3604680"/>
              <a:ext cx="863640" cy="289080"/>
            </a:xfrm>
            <a:prstGeom prst="rightArrow">
              <a:avLst>
                <a:gd name="adj1" fmla="val 35167"/>
                <a:gd name="adj2" fmla="val 120982"/>
              </a:avLst>
            </a:prstGeom>
            <a:solidFill>
              <a:srgbClr val="089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5" name="Oval 10"/>
            <p:cNvSpPr/>
            <p:nvPr/>
          </p:nvSpPr>
          <p:spPr>
            <a:xfrm>
              <a:off x="250488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6" name="Text Box 11"/>
            <p:cNvSpPr/>
            <p:nvPr/>
          </p:nvSpPr>
          <p:spPr>
            <a:xfrm>
              <a:off x="555624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7" name="Text Box 12"/>
            <p:cNvSpPr/>
            <p:nvPr/>
          </p:nvSpPr>
          <p:spPr>
            <a:xfrm>
              <a:off x="1667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8" name="Text Box 13"/>
            <p:cNvSpPr/>
            <p:nvPr/>
          </p:nvSpPr>
          <p:spPr>
            <a:xfrm>
              <a:off x="647064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9" name="Text Box 14"/>
            <p:cNvSpPr/>
            <p:nvPr/>
          </p:nvSpPr>
          <p:spPr>
            <a:xfrm>
              <a:off x="555624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0" name="Text Box 15"/>
            <p:cNvSpPr/>
            <p:nvPr/>
          </p:nvSpPr>
          <p:spPr>
            <a:xfrm>
              <a:off x="7527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1" name="Text Box 16"/>
            <p:cNvSpPr/>
            <p:nvPr/>
          </p:nvSpPr>
          <p:spPr>
            <a:xfrm>
              <a:off x="1590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2" name="Oval 17"/>
            <p:cNvSpPr/>
            <p:nvPr/>
          </p:nvSpPr>
          <p:spPr>
            <a:xfrm>
              <a:off x="2361960" y="3632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99cfd0"/>
                </a:gs>
                <a:gs pos="100000">
                  <a:srgbClr val="2d9c9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3" name="Oval 18"/>
            <p:cNvSpPr/>
            <p:nvPr/>
          </p:nvSpPr>
          <p:spPr>
            <a:xfrm>
              <a:off x="327636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99cfd0"/>
                </a:gs>
                <a:gs pos="100000">
                  <a:srgbClr val="2d9c9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4" name="Oval 19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99cfd0"/>
                </a:gs>
                <a:gs pos="100000">
                  <a:srgbClr val="2d9c9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5" name="Oval 20"/>
            <p:cNvSpPr/>
            <p:nvPr/>
          </p:nvSpPr>
          <p:spPr>
            <a:xfrm>
              <a:off x="320040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99cfd0"/>
                </a:gs>
                <a:gs pos="100000">
                  <a:srgbClr val="2d9c9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6" name="Oval 21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99cfd0"/>
                </a:gs>
                <a:gs pos="100000">
                  <a:srgbClr val="2d9c9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7" name="Oval 22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99cfd0"/>
                </a:gs>
                <a:gs pos="100000">
                  <a:srgbClr val="2d9c9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8" name="Oval 23"/>
            <p:cNvSpPr/>
            <p:nvPr/>
          </p:nvSpPr>
          <p:spPr>
            <a:xfrm>
              <a:off x="354492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b0f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9" name="Oval 24"/>
            <p:cNvSpPr/>
            <p:nvPr/>
          </p:nvSpPr>
          <p:spPr>
            <a:xfrm>
              <a:off x="3539880" y="2889360"/>
              <a:ext cx="1703520" cy="1687320"/>
            </a:xfrm>
            <a:prstGeom prst="ellipse">
              <a:avLst/>
            </a:prstGeom>
            <a:gradFill rotWithShape="0">
              <a:gsLst>
                <a:gs pos="0">
                  <a:srgbClr val="00b0f0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50" name="Oval 25"/>
            <p:cNvSpPr/>
            <p:nvPr/>
          </p:nvSpPr>
          <p:spPr>
            <a:xfrm>
              <a:off x="365580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005f82"/>
                </a:gs>
                <a:gs pos="50000">
                  <a:srgbClr val="00b0f0"/>
                </a:gs>
                <a:gs pos="100000">
                  <a:srgbClr val="005f8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51" name="Oval 26"/>
            <p:cNvSpPr/>
            <p:nvPr/>
          </p:nvSpPr>
          <p:spPr>
            <a:xfrm>
              <a:off x="3668400" y="297180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007098"/>
                </a:gs>
                <a:gs pos="100000">
                  <a:srgbClr val="00b0f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52" name="Oval 27"/>
            <p:cNvSpPr/>
            <p:nvPr/>
          </p:nvSpPr>
          <p:spPr>
            <a:xfrm>
              <a:off x="3730320" y="306864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853" name="Group 28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854" name="Oval 29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55" name="Oval 30"/>
              <p:cNvSpPr/>
              <p:nvPr/>
            </p:nvSpPr>
            <p:spPr>
              <a:xfrm>
                <a:off x="376776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56" name="Oval 31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57" name="Oval 32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858" name="Text Box 33"/>
            <p:cNvSpPr/>
            <p:nvPr/>
          </p:nvSpPr>
          <p:spPr>
            <a:xfrm>
              <a:off x="4014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890d0"/>
                </a:solidFill>
                <a:latin typeface="微软雅黑"/>
              </a:rPr>
              <a:t>Diagram</a:t>
            </a:r>
            <a:endParaRPr b="1" lang="en-US" sz="4000" spc="-1" strike="noStrike">
              <a:solidFill>
                <a:srgbClr val="0890d0"/>
              </a:solidFill>
              <a:latin typeface="微软雅黑"/>
            </a:endParaRPr>
          </a:p>
        </p:txBody>
      </p:sp>
      <p:grpSp>
        <p:nvGrpSpPr>
          <p:cNvPr id="860" name="Group 3"/>
          <p:cNvGrpSpPr/>
          <p:nvPr/>
        </p:nvGrpSpPr>
        <p:grpSpPr>
          <a:xfrm>
            <a:off x="0" y="1828800"/>
            <a:ext cx="9144000" cy="4188960"/>
            <a:chOff x="0" y="1828800"/>
            <a:chExt cx="9144000" cy="4188960"/>
          </a:xfrm>
        </p:grpSpPr>
        <p:grpSp>
          <p:nvGrpSpPr>
            <p:cNvPr id="861" name="Group 4"/>
            <p:cNvGrpSpPr/>
            <p:nvPr/>
          </p:nvGrpSpPr>
          <p:grpSpPr>
            <a:xfrm>
              <a:off x="0" y="3238560"/>
              <a:ext cx="9144000" cy="122040"/>
              <a:chOff x="0" y="3238560"/>
              <a:chExt cx="9144000" cy="122040"/>
            </a:xfrm>
          </p:grpSpPr>
          <p:sp>
            <p:nvSpPr>
              <p:cNvPr id="862" name="Rectangle 5"/>
              <p:cNvSpPr/>
              <p:nvPr/>
            </p:nvSpPr>
            <p:spPr>
              <a:xfrm>
                <a:off x="0" y="3238560"/>
                <a:ext cx="9144000" cy="47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cec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63" name="Rectangle 6"/>
              <p:cNvSpPr/>
              <p:nvPr/>
            </p:nvSpPr>
            <p:spPr>
              <a:xfrm>
                <a:off x="0" y="3285360"/>
                <a:ext cx="9144000" cy="75240"/>
              </a:xfrm>
              <a:prstGeom prst="rect">
                <a:avLst/>
              </a:prstGeom>
              <a:gradFill rotWithShape="0">
                <a:gsLst>
                  <a:gs pos="0">
                    <a:srgbClr val="cfcfcf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864" name="Group 7"/>
            <p:cNvGrpSpPr/>
            <p:nvPr/>
          </p:nvGrpSpPr>
          <p:grpSpPr>
            <a:xfrm>
              <a:off x="762120" y="2685960"/>
              <a:ext cx="1932120" cy="3265200"/>
              <a:chOff x="762120" y="2685960"/>
              <a:chExt cx="1932120" cy="3265200"/>
            </a:xfrm>
          </p:grpSpPr>
          <p:grpSp>
            <p:nvGrpSpPr>
              <p:cNvPr id="865" name="Group 8"/>
              <p:cNvGrpSpPr/>
              <p:nvPr/>
            </p:nvGrpSpPr>
            <p:grpSpPr>
              <a:xfrm>
                <a:off x="1166400" y="3524400"/>
                <a:ext cx="1527840" cy="2426760"/>
                <a:chOff x="1166400" y="3524400"/>
                <a:chExt cx="1527840" cy="2426760"/>
              </a:xfrm>
            </p:grpSpPr>
            <p:grpSp>
              <p:nvGrpSpPr>
                <p:cNvPr id="866" name="Group 9"/>
                <p:cNvGrpSpPr/>
                <p:nvPr/>
              </p:nvGrpSpPr>
              <p:grpSpPr>
                <a:xfrm>
                  <a:off x="1166400" y="3682080"/>
                  <a:ext cx="1422000" cy="2269080"/>
                  <a:chOff x="1166400" y="3682080"/>
                  <a:chExt cx="1422000" cy="2269080"/>
                </a:xfrm>
              </p:grpSpPr>
              <p:sp>
                <p:nvSpPr>
                  <p:cNvPr id="867" name="未知"/>
                  <p:cNvSpPr/>
                  <p:nvPr/>
                </p:nvSpPr>
                <p:spPr>
                  <a:xfrm rot="3876600">
                    <a:off x="738360" y="4569840"/>
                    <a:ext cx="2277720" cy="4928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8" name="未知"/>
                  <p:cNvSpPr/>
                  <p:nvPr/>
                </p:nvSpPr>
                <p:spPr>
                  <a:xfrm rot="3876600">
                    <a:off x="2107080" y="5449680"/>
                    <a:ext cx="357840" cy="40356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9" name="Group 12"/>
                <p:cNvGrpSpPr/>
                <p:nvPr/>
              </p:nvGrpSpPr>
              <p:grpSpPr>
                <a:xfrm>
                  <a:off x="1603080" y="3524400"/>
                  <a:ext cx="1091160" cy="1740960"/>
                  <a:chOff x="1603080" y="3524400"/>
                  <a:chExt cx="1091160" cy="1740960"/>
                </a:xfrm>
              </p:grpSpPr>
              <p:sp>
                <p:nvSpPr>
                  <p:cNvPr id="870" name="未知"/>
                  <p:cNvSpPr/>
                  <p:nvPr/>
                </p:nvSpPr>
                <p:spPr>
                  <a:xfrm flipV="1" rot="3876600">
                    <a:off x="1274400" y="4205880"/>
                    <a:ext cx="1747800" cy="37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1" name="未知"/>
                  <p:cNvSpPr/>
                  <p:nvPr/>
                </p:nvSpPr>
                <p:spPr>
                  <a:xfrm flipV="1" rot="3876600">
                    <a:off x="2309400" y="4887720"/>
                    <a:ext cx="274680" cy="3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72" name="Group 15"/>
              <p:cNvGrpSpPr/>
              <p:nvPr/>
            </p:nvGrpSpPr>
            <p:grpSpPr>
              <a:xfrm>
                <a:off x="762120" y="2685960"/>
                <a:ext cx="1272960" cy="1310760"/>
                <a:chOff x="762120" y="2685960"/>
                <a:chExt cx="1272960" cy="1310760"/>
              </a:xfrm>
            </p:grpSpPr>
            <p:sp>
              <p:nvSpPr>
                <p:cNvPr id="873" name="Oval 16"/>
                <p:cNvSpPr/>
                <p:nvPr/>
              </p:nvSpPr>
              <p:spPr>
                <a:xfrm>
                  <a:off x="762120" y="2685960"/>
                  <a:ext cx="1272960" cy="131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874" name="Oval 17"/>
                <p:cNvSpPr/>
                <p:nvPr/>
              </p:nvSpPr>
              <p:spPr>
                <a:xfrm>
                  <a:off x="762120" y="2685960"/>
                  <a:ext cx="1272960" cy="131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875" name="Oval 18"/>
                <p:cNvSpPr/>
                <p:nvPr/>
              </p:nvSpPr>
              <p:spPr>
                <a:xfrm>
                  <a:off x="846360" y="2770920"/>
                  <a:ext cx="1104120" cy="1138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876" name="Oval 19"/>
                <p:cNvSpPr/>
                <p:nvPr/>
              </p:nvSpPr>
              <p:spPr>
                <a:xfrm>
                  <a:off x="846360" y="2773800"/>
                  <a:ext cx="1104120" cy="1138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877" name="Oval 20"/>
                <p:cNvSpPr/>
                <p:nvPr/>
              </p:nvSpPr>
              <p:spPr>
                <a:xfrm>
                  <a:off x="901080" y="2828880"/>
                  <a:ext cx="994680" cy="1024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grpSp>
              <p:nvGrpSpPr>
                <p:cNvPr id="878" name="Group 21"/>
                <p:cNvGrpSpPr/>
                <p:nvPr/>
              </p:nvGrpSpPr>
              <p:grpSpPr>
                <a:xfrm>
                  <a:off x="916200" y="2844720"/>
                  <a:ext cx="964080" cy="993960"/>
                  <a:chOff x="916200" y="2844720"/>
                  <a:chExt cx="964080" cy="993960"/>
                </a:xfrm>
              </p:grpSpPr>
              <p:sp>
                <p:nvSpPr>
                  <p:cNvPr id="879" name="Oval 22"/>
                  <p:cNvSpPr/>
                  <p:nvPr/>
                </p:nvSpPr>
                <p:spPr>
                  <a:xfrm>
                    <a:off x="916200" y="2844720"/>
                    <a:ext cx="964080" cy="993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0" name="Oval 23"/>
                  <p:cNvSpPr/>
                  <p:nvPr/>
                </p:nvSpPr>
                <p:spPr>
                  <a:xfrm>
                    <a:off x="928440" y="2850120"/>
                    <a:ext cx="940680" cy="9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1" name="Oval 24"/>
                  <p:cNvSpPr/>
                  <p:nvPr/>
                </p:nvSpPr>
                <p:spPr>
                  <a:xfrm>
                    <a:off x="938520" y="2859840"/>
                    <a:ext cx="894600" cy="905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2" name="Oval 25"/>
                  <p:cNvSpPr/>
                  <p:nvPr/>
                </p:nvSpPr>
                <p:spPr>
                  <a:xfrm>
                    <a:off x="990720" y="2885040"/>
                    <a:ext cx="795240" cy="735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83" name="Text Box 26"/>
              <p:cNvSpPr/>
              <p:nvPr/>
            </p:nvSpPr>
            <p:spPr>
              <a:xfrm rot="3925800">
                <a:off x="1131120" y="45050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84" name="Text Box 27"/>
              <p:cNvSpPr/>
              <p:nvPr/>
            </p:nvSpPr>
            <p:spPr>
              <a:xfrm rot="3925800">
                <a:off x="1590120" y="422244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885" name="Group 28"/>
            <p:cNvGrpSpPr/>
            <p:nvPr/>
          </p:nvGrpSpPr>
          <p:grpSpPr>
            <a:xfrm>
              <a:off x="2509920" y="2685960"/>
              <a:ext cx="1930320" cy="3265200"/>
              <a:chOff x="2509920" y="2685960"/>
              <a:chExt cx="1930320" cy="3265200"/>
            </a:xfrm>
          </p:grpSpPr>
          <p:grpSp>
            <p:nvGrpSpPr>
              <p:cNvPr id="886" name="Group 29"/>
              <p:cNvGrpSpPr/>
              <p:nvPr/>
            </p:nvGrpSpPr>
            <p:grpSpPr>
              <a:xfrm>
                <a:off x="2912400" y="3524400"/>
                <a:ext cx="1527840" cy="2426760"/>
                <a:chOff x="2912400" y="3524400"/>
                <a:chExt cx="1527840" cy="2426760"/>
              </a:xfrm>
            </p:grpSpPr>
            <p:grpSp>
              <p:nvGrpSpPr>
                <p:cNvPr id="887" name="Group 30"/>
                <p:cNvGrpSpPr/>
                <p:nvPr/>
              </p:nvGrpSpPr>
              <p:grpSpPr>
                <a:xfrm>
                  <a:off x="2912400" y="3682080"/>
                  <a:ext cx="1422000" cy="2269080"/>
                  <a:chOff x="2912400" y="3682080"/>
                  <a:chExt cx="1422000" cy="2269080"/>
                </a:xfrm>
              </p:grpSpPr>
              <p:sp>
                <p:nvSpPr>
                  <p:cNvPr id="888" name="未知"/>
                  <p:cNvSpPr/>
                  <p:nvPr/>
                </p:nvSpPr>
                <p:spPr>
                  <a:xfrm rot="3876600">
                    <a:off x="2484360" y="4569840"/>
                    <a:ext cx="2277720" cy="4928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9" name="未知"/>
                  <p:cNvSpPr/>
                  <p:nvPr/>
                </p:nvSpPr>
                <p:spPr>
                  <a:xfrm rot="3876600">
                    <a:off x="3853080" y="5449680"/>
                    <a:ext cx="357840" cy="40356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0" name="Group 33"/>
                <p:cNvGrpSpPr/>
                <p:nvPr/>
              </p:nvGrpSpPr>
              <p:grpSpPr>
                <a:xfrm>
                  <a:off x="3349080" y="3524400"/>
                  <a:ext cx="1091160" cy="1740960"/>
                  <a:chOff x="3349080" y="3524400"/>
                  <a:chExt cx="1091160" cy="1740960"/>
                </a:xfrm>
              </p:grpSpPr>
              <p:sp>
                <p:nvSpPr>
                  <p:cNvPr id="891" name="未知"/>
                  <p:cNvSpPr/>
                  <p:nvPr/>
                </p:nvSpPr>
                <p:spPr>
                  <a:xfrm flipV="1" rot="3876600">
                    <a:off x="3020400" y="4205880"/>
                    <a:ext cx="1747800" cy="37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2" name="未知"/>
                  <p:cNvSpPr/>
                  <p:nvPr/>
                </p:nvSpPr>
                <p:spPr>
                  <a:xfrm flipV="1" rot="3876600">
                    <a:off x="4055400" y="4887720"/>
                    <a:ext cx="274680" cy="3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93" name="Group 36"/>
              <p:cNvGrpSpPr/>
              <p:nvPr/>
            </p:nvGrpSpPr>
            <p:grpSpPr>
              <a:xfrm>
                <a:off x="2509920" y="2685960"/>
                <a:ext cx="1272600" cy="1310760"/>
                <a:chOff x="2509920" y="2685960"/>
                <a:chExt cx="1272600" cy="1310760"/>
              </a:xfrm>
            </p:grpSpPr>
            <p:sp>
              <p:nvSpPr>
                <p:cNvPr id="894" name="Oval 37"/>
                <p:cNvSpPr/>
                <p:nvPr/>
              </p:nvSpPr>
              <p:spPr>
                <a:xfrm>
                  <a:off x="2509920" y="2685960"/>
                  <a:ext cx="1272600" cy="131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895" name="Oval 38"/>
                <p:cNvSpPr/>
                <p:nvPr/>
              </p:nvSpPr>
              <p:spPr>
                <a:xfrm>
                  <a:off x="2509920" y="2685960"/>
                  <a:ext cx="1272600" cy="131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896" name="Oval 39"/>
                <p:cNvSpPr/>
                <p:nvPr/>
              </p:nvSpPr>
              <p:spPr>
                <a:xfrm>
                  <a:off x="2594160" y="2770920"/>
                  <a:ext cx="1103760" cy="1138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897" name="Oval 40"/>
                <p:cNvSpPr/>
                <p:nvPr/>
              </p:nvSpPr>
              <p:spPr>
                <a:xfrm>
                  <a:off x="2594160" y="2773800"/>
                  <a:ext cx="1103760" cy="1138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898" name="Oval 41"/>
                <p:cNvSpPr/>
                <p:nvPr/>
              </p:nvSpPr>
              <p:spPr>
                <a:xfrm>
                  <a:off x="2648880" y="2828880"/>
                  <a:ext cx="994320" cy="1024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grpSp>
              <p:nvGrpSpPr>
                <p:cNvPr id="899" name="Group 42"/>
                <p:cNvGrpSpPr/>
                <p:nvPr/>
              </p:nvGrpSpPr>
              <p:grpSpPr>
                <a:xfrm>
                  <a:off x="2664000" y="2844720"/>
                  <a:ext cx="963720" cy="993960"/>
                  <a:chOff x="2664000" y="2844720"/>
                  <a:chExt cx="963720" cy="993960"/>
                </a:xfrm>
              </p:grpSpPr>
              <p:sp>
                <p:nvSpPr>
                  <p:cNvPr id="900" name="Oval 43"/>
                  <p:cNvSpPr/>
                  <p:nvPr/>
                </p:nvSpPr>
                <p:spPr>
                  <a:xfrm>
                    <a:off x="2664000" y="2844720"/>
                    <a:ext cx="963720" cy="993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1" name="Oval 44"/>
                  <p:cNvSpPr/>
                  <p:nvPr/>
                </p:nvSpPr>
                <p:spPr>
                  <a:xfrm>
                    <a:off x="2676240" y="2850120"/>
                    <a:ext cx="940680" cy="9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2" name="Oval 45"/>
                  <p:cNvSpPr/>
                  <p:nvPr/>
                </p:nvSpPr>
                <p:spPr>
                  <a:xfrm>
                    <a:off x="2686320" y="2859840"/>
                    <a:ext cx="894240" cy="905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3" name="Oval 46"/>
                  <p:cNvSpPr/>
                  <p:nvPr/>
                </p:nvSpPr>
                <p:spPr>
                  <a:xfrm>
                    <a:off x="2738520" y="2885040"/>
                    <a:ext cx="795240" cy="735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04" name="Text Box 47"/>
              <p:cNvSpPr/>
              <p:nvPr/>
            </p:nvSpPr>
            <p:spPr>
              <a:xfrm rot="3925800">
                <a:off x="2872440" y="45050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05" name="Text Box 48"/>
              <p:cNvSpPr/>
              <p:nvPr/>
            </p:nvSpPr>
            <p:spPr>
              <a:xfrm rot="3925800">
                <a:off x="3331800" y="422244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906" name="Group 49"/>
            <p:cNvGrpSpPr/>
            <p:nvPr/>
          </p:nvGrpSpPr>
          <p:grpSpPr>
            <a:xfrm>
              <a:off x="4313160" y="2685960"/>
              <a:ext cx="1932120" cy="3265200"/>
              <a:chOff x="4313160" y="2685960"/>
              <a:chExt cx="1932120" cy="3265200"/>
            </a:xfrm>
          </p:grpSpPr>
          <p:grpSp>
            <p:nvGrpSpPr>
              <p:cNvPr id="907" name="Group 50"/>
              <p:cNvGrpSpPr/>
              <p:nvPr/>
            </p:nvGrpSpPr>
            <p:grpSpPr>
              <a:xfrm>
                <a:off x="4717440" y="3524400"/>
                <a:ext cx="1527840" cy="2426760"/>
                <a:chOff x="4717440" y="3524400"/>
                <a:chExt cx="1527840" cy="2426760"/>
              </a:xfrm>
            </p:grpSpPr>
            <p:grpSp>
              <p:nvGrpSpPr>
                <p:cNvPr id="908" name="Group 51"/>
                <p:cNvGrpSpPr/>
                <p:nvPr/>
              </p:nvGrpSpPr>
              <p:grpSpPr>
                <a:xfrm>
                  <a:off x="4717440" y="3682080"/>
                  <a:ext cx="1422000" cy="2269080"/>
                  <a:chOff x="4717440" y="3682080"/>
                  <a:chExt cx="1422000" cy="2269080"/>
                </a:xfrm>
              </p:grpSpPr>
              <p:sp>
                <p:nvSpPr>
                  <p:cNvPr id="909" name="未知"/>
                  <p:cNvSpPr/>
                  <p:nvPr/>
                </p:nvSpPr>
                <p:spPr>
                  <a:xfrm rot="3876600">
                    <a:off x="4289400" y="4569840"/>
                    <a:ext cx="2277720" cy="4928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0" name="未知"/>
                  <p:cNvSpPr/>
                  <p:nvPr/>
                </p:nvSpPr>
                <p:spPr>
                  <a:xfrm rot="3876600">
                    <a:off x="5658120" y="5449680"/>
                    <a:ext cx="357840" cy="40356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1" name="Group 54"/>
                <p:cNvGrpSpPr/>
                <p:nvPr/>
              </p:nvGrpSpPr>
              <p:grpSpPr>
                <a:xfrm>
                  <a:off x="5154120" y="3524400"/>
                  <a:ext cx="1091160" cy="1740960"/>
                  <a:chOff x="5154120" y="3524400"/>
                  <a:chExt cx="1091160" cy="1740960"/>
                </a:xfrm>
              </p:grpSpPr>
              <p:sp>
                <p:nvSpPr>
                  <p:cNvPr id="912" name="未知"/>
                  <p:cNvSpPr/>
                  <p:nvPr/>
                </p:nvSpPr>
                <p:spPr>
                  <a:xfrm flipV="1" rot="3876600">
                    <a:off x="4825440" y="4205880"/>
                    <a:ext cx="1747800" cy="37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3" name="未知"/>
                  <p:cNvSpPr/>
                  <p:nvPr/>
                </p:nvSpPr>
                <p:spPr>
                  <a:xfrm flipV="1" rot="3876600">
                    <a:off x="5860440" y="4887720"/>
                    <a:ext cx="274680" cy="3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14" name="Group 57"/>
              <p:cNvGrpSpPr/>
              <p:nvPr/>
            </p:nvGrpSpPr>
            <p:grpSpPr>
              <a:xfrm>
                <a:off x="4313160" y="2685960"/>
                <a:ext cx="1274760" cy="1310760"/>
                <a:chOff x="4313160" y="2685960"/>
                <a:chExt cx="1274760" cy="1310760"/>
              </a:xfrm>
            </p:grpSpPr>
            <p:sp>
              <p:nvSpPr>
                <p:cNvPr id="915" name="Oval 58"/>
                <p:cNvSpPr/>
                <p:nvPr/>
              </p:nvSpPr>
              <p:spPr>
                <a:xfrm>
                  <a:off x="4313160" y="2685960"/>
                  <a:ext cx="1274760" cy="131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16" name="Oval 59"/>
                <p:cNvSpPr/>
                <p:nvPr/>
              </p:nvSpPr>
              <p:spPr>
                <a:xfrm>
                  <a:off x="4313160" y="2685960"/>
                  <a:ext cx="1274760" cy="131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17" name="Oval 60"/>
                <p:cNvSpPr/>
                <p:nvPr/>
              </p:nvSpPr>
              <p:spPr>
                <a:xfrm>
                  <a:off x="4397400" y="2770920"/>
                  <a:ext cx="1105560" cy="1138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18" name="Oval 61"/>
                <p:cNvSpPr/>
                <p:nvPr/>
              </p:nvSpPr>
              <p:spPr>
                <a:xfrm>
                  <a:off x="4397400" y="2773800"/>
                  <a:ext cx="1105560" cy="1138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19" name="Oval 62"/>
                <p:cNvSpPr/>
                <p:nvPr/>
              </p:nvSpPr>
              <p:spPr>
                <a:xfrm>
                  <a:off x="4452120" y="2828880"/>
                  <a:ext cx="996120" cy="1024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grpSp>
              <p:nvGrpSpPr>
                <p:cNvPr id="920" name="Group 63"/>
                <p:cNvGrpSpPr/>
                <p:nvPr/>
              </p:nvGrpSpPr>
              <p:grpSpPr>
                <a:xfrm>
                  <a:off x="4467600" y="2844720"/>
                  <a:ext cx="965520" cy="993960"/>
                  <a:chOff x="4467600" y="2844720"/>
                  <a:chExt cx="965520" cy="993960"/>
                </a:xfrm>
              </p:grpSpPr>
              <p:sp>
                <p:nvSpPr>
                  <p:cNvPr id="921" name="Oval 64"/>
                  <p:cNvSpPr/>
                  <p:nvPr/>
                </p:nvSpPr>
                <p:spPr>
                  <a:xfrm>
                    <a:off x="4467600" y="2844720"/>
                    <a:ext cx="965520" cy="993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2" name="Oval 65"/>
                  <p:cNvSpPr/>
                  <p:nvPr/>
                </p:nvSpPr>
                <p:spPr>
                  <a:xfrm>
                    <a:off x="4479840" y="2850120"/>
                    <a:ext cx="942120" cy="9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3" name="Oval 66"/>
                  <p:cNvSpPr/>
                  <p:nvPr/>
                </p:nvSpPr>
                <p:spPr>
                  <a:xfrm>
                    <a:off x="4489920" y="2859840"/>
                    <a:ext cx="896040" cy="905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4" name="Oval 67"/>
                  <p:cNvSpPr/>
                  <p:nvPr/>
                </p:nvSpPr>
                <p:spPr>
                  <a:xfrm>
                    <a:off x="4542120" y="2885040"/>
                    <a:ext cx="796680" cy="735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25" name="Text Box 68"/>
              <p:cNvSpPr/>
              <p:nvPr/>
            </p:nvSpPr>
            <p:spPr>
              <a:xfrm rot="3925800">
                <a:off x="4685400" y="45050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26" name="Text Box 69"/>
              <p:cNvSpPr/>
              <p:nvPr/>
            </p:nvSpPr>
            <p:spPr>
              <a:xfrm rot="3925800">
                <a:off x="5144400" y="422244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927" name="Group 70"/>
            <p:cNvGrpSpPr/>
            <p:nvPr/>
          </p:nvGrpSpPr>
          <p:grpSpPr>
            <a:xfrm>
              <a:off x="6089760" y="2541600"/>
              <a:ext cx="2122200" cy="3476160"/>
              <a:chOff x="6089760" y="2541600"/>
              <a:chExt cx="2122200" cy="3476160"/>
            </a:xfrm>
          </p:grpSpPr>
          <p:grpSp>
            <p:nvGrpSpPr>
              <p:cNvPr id="928" name="Group 71"/>
              <p:cNvGrpSpPr/>
              <p:nvPr/>
            </p:nvGrpSpPr>
            <p:grpSpPr>
              <a:xfrm>
                <a:off x="6684480" y="3591360"/>
                <a:ext cx="1527480" cy="2426400"/>
                <a:chOff x="6684480" y="3591360"/>
                <a:chExt cx="1527480" cy="2426400"/>
              </a:xfrm>
            </p:grpSpPr>
            <p:grpSp>
              <p:nvGrpSpPr>
                <p:cNvPr id="929" name="Group 72"/>
                <p:cNvGrpSpPr/>
                <p:nvPr/>
              </p:nvGrpSpPr>
              <p:grpSpPr>
                <a:xfrm>
                  <a:off x="6684480" y="3749040"/>
                  <a:ext cx="1421640" cy="2268720"/>
                  <a:chOff x="6684480" y="3749040"/>
                  <a:chExt cx="1421640" cy="2268720"/>
                </a:xfrm>
              </p:grpSpPr>
              <p:sp>
                <p:nvSpPr>
                  <p:cNvPr id="930" name="未知"/>
                  <p:cNvSpPr/>
                  <p:nvPr/>
                </p:nvSpPr>
                <p:spPr>
                  <a:xfrm rot="3876600">
                    <a:off x="6256440" y="4636800"/>
                    <a:ext cx="2277360" cy="4928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1" name="未知"/>
                  <p:cNvSpPr/>
                  <p:nvPr/>
                </p:nvSpPr>
                <p:spPr>
                  <a:xfrm rot="3876600">
                    <a:off x="7624800" y="5516280"/>
                    <a:ext cx="357840" cy="40356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2" name="Group 75"/>
                <p:cNvGrpSpPr/>
                <p:nvPr/>
              </p:nvGrpSpPr>
              <p:grpSpPr>
                <a:xfrm>
                  <a:off x="7121160" y="3591360"/>
                  <a:ext cx="1090800" cy="1740600"/>
                  <a:chOff x="7121160" y="3591360"/>
                  <a:chExt cx="1090800" cy="1740600"/>
                </a:xfrm>
              </p:grpSpPr>
              <p:sp>
                <p:nvSpPr>
                  <p:cNvPr id="933" name="未知"/>
                  <p:cNvSpPr/>
                  <p:nvPr/>
                </p:nvSpPr>
                <p:spPr>
                  <a:xfrm flipV="1" rot="3876600">
                    <a:off x="6792480" y="4272120"/>
                    <a:ext cx="1747440" cy="37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4" name="未知"/>
                  <p:cNvSpPr/>
                  <p:nvPr/>
                </p:nvSpPr>
                <p:spPr>
                  <a:xfrm flipV="1" rot="3876600">
                    <a:off x="7827120" y="4954680"/>
                    <a:ext cx="274680" cy="3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35" name="Oval 78"/>
              <p:cNvSpPr/>
              <p:nvPr/>
            </p:nvSpPr>
            <p:spPr>
              <a:xfrm>
                <a:off x="6089760" y="2541600"/>
                <a:ext cx="1528560" cy="1571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399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36" name="Oval 79"/>
              <p:cNvSpPr/>
              <p:nvPr/>
            </p:nvSpPr>
            <p:spPr>
              <a:xfrm>
                <a:off x="6089760" y="2541600"/>
                <a:ext cx="1528560" cy="157140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37" name="Oval 80"/>
              <p:cNvSpPr/>
              <p:nvPr/>
            </p:nvSpPr>
            <p:spPr>
              <a:xfrm>
                <a:off x="6191280" y="2644920"/>
                <a:ext cx="1328040" cy="1364400"/>
              </a:xfrm>
              <a:prstGeom prst="ellipse">
                <a:avLst/>
              </a:prstGeom>
              <a:gradFill rotWithShape="0">
                <a:gsLst>
                  <a:gs pos="0">
                    <a:srgbClr val="1c538a"/>
                  </a:gs>
                  <a:gs pos="50000">
                    <a:srgbClr val="3399ff"/>
                  </a:gs>
                  <a:gs pos="100000">
                    <a:srgbClr val="1c53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38" name="Oval 81"/>
              <p:cNvSpPr/>
              <p:nvPr/>
            </p:nvSpPr>
            <p:spPr>
              <a:xfrm>
                <a:off x="6193080" y="2647800"/>
                <a:ext cx="1327680" cy="1364760"/>
              </a:xfrm>
              <a:prstGeom prst="ellipse">
                <a:avLst/>
              </a:prstGeom>
              <a:gradFill rotWithShape="0">
                <a:gsLst>
                  <a:gs pos="0">
                    <a:srgbClr val="2061a2"/>
                  </a:gs>
                  <a:gs pos="100000">
                    <a:srgbClr val="3399ff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39" name="Oval 82"/>
              <p:cNvSpPr/>
              <p:nvPr/>
            </p:nvSpPr>
            <p:spPr>
              <a:xfrm>
                <a:off x="6256800" y="2712960"/>
                <a:ext cx="1195920" cy="12279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grpSp>
            <p:nvGrpSpPr>
              <p:cNvPr id="940" name="Group 83"/>
              <p:cNvGrpSpPr/>
              <p:nvPr/>
            </p:nvGrpSpPr>
            <p:grpSpPr>
              <a:xfrm>
                <a:off x="6275880" y="2732400"/>
                <a:ext cx="1159200" cy="1191240"/>
                <a:chOff x="6275880" y="2732400"/>
                <a:chExt cx="1159200" cy="1191240"/>
              </a:xfrm>
            </p:grpSpPr>
            <p:sp>
              <p:nvSpPr>
                <p:cNvPr id="941" name="Oval 84"/>
                <p:cNvSpPr/>
                <p:nvPr/>
              </p:nvSpPr>
              <p:spPr>
                <a:xfrm>
                  <a:off x="6275880" y="2732400"/>
                  <a:ext cx="1159200" cy="119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42" name="Oval 85"/>
                <p:cNvSpPr/>
                <p:nvPr/>
              </p:nvSpPr>
              <p:spPr>
                <a:xfrm>
                  <a:off x="6290640" y="2738880"/>
                  <a:ext cx="1131120" cy="116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43" name="Oval 86"/>
                <p:cNvSpPr/>
                <p:nvPr/>
              </p:nvSpPr>
              <p:spPr>
                <a:xfrm>
                  <a:off x="6302520" y="2750400"/>
                  <a:ext cx="1075680" cy="108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44" name="Oval 87"/>
                <p:cNvSpPr/>
                <p:nvPr/>
              </p:nvSpPr>
              <p:spPr>
                <a:xfrm>
                  <a:off x="6365520" y="2780640"/>
                  <a:ext cx="956160" cy="880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5" name="Text Box 88"/>
              <p:cNvSpPr/>
              <p:nvPr/>
            </p:nvSpPr>
            <p:spPr>
              <a:xfrm rot="3925800">
                <a:off x="6638400" y="464832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46" name="Text Box 89"/>
              <p:cNvSpPr/>
              <p:nvPr/>
            </p:nvSpPr>
            <p:spPr>
              <a:xfrm rot="3925800">
                <a:off x="7095600" y="436572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947" name="Group 90"/>
            <p:cNvGrpSpPr/>
            <p:nvPr/>
          </p:nvGrpSpPr>
          <p:grpSpPr>
            <a:xfrm>
              <a:off x="1101600" y="1828800"/>
              <a:ext cx="6056640" cy="407880"/>
              <a:chOff x="1101600" y="1828800"/>
              <a:chExt cx="6056640" cy="407880"/>
            </a:xfrm>
          </p:grpSpPr>
          <p:sp>
            <p:nvSpPr>
              <p:cNvPr id="948" name="Text Box 91"/>
              <p:cNvSpPr/>
              <p:nvPr/>
            </p:nvSpPr>
            <p:spPr>
              <a:xfrm>
                <a:off x="110160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5f5f5f"/>
                    </a:solidFill>
                    <a:latin typeface="Verdana"/>
                    <a:ea typeface="宋体"/>
                  </a:rPr>
                  <a:t>2001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49" name="Text Box 92"/>
              <p:cNvSpPr/>
              <p:nvPr/>
            </p:nvSpPr>
            <p:spPr>
              <a:xfrm>
                <a:off x="2855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5f5f5f"/>
                    </a:solidFill>
                    <a:latin typeface="Verdana"/>
                    <a:ea typeface="宋体"/>
                  </a:rPr>
                  <a:t>2002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50" name="Text Box 93"/>
              <p:cNvSpPr/>
              <p:nvPr/>
            </p:nvSpPr>
            <p:spPr>
              <a:xfrm>
                <a:off x="4601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5f5f5f"/>
                    </a:solidFill>
                    <a:latin typeface="Verdana"/>
                    <a:ea typeface="宋体"/>
                  </a:rPr>
                  <a:t>2003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51" name="Text Box 94"/>
              <p:cNvSpPr/>
              <p:nvPr/>
            </p:nvSpPr>
            <p:spPr>
              <a:xfrm>
                <a:off x="6392160" y="182880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5f5f5f"/>
                    </a:solidFill>
                    <a:latin typeface="Verdana"/>
                    <a:ea typeface="宋体"/>
                  </a:rPr>
                  <a:t>2004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cxnSp>
            <p:nvCxnSpPr>
              <p:cNvPr id="952" name="AutoShape 95"/>
              <p:cNvCxnSpPr>
                <a:stCxn id="948" idx="3"/>
                <a:endCxn id="949" idx="1"/>
              </p:cNvCxnSpPr>
              <p:nvPr/>
            </p:nvCxnSpPr>
            <p:spPr>
              <a:xfrm>
                <a:off x="1837800" y="2052360"/>
                <a:ext cx="986760" cy="1080"/>
              </a:xfrm>
              <a:prstGeom prst="straightConnector1">
                <a:avLst/>
              </a:prstGeom>
              <a:ln w="9360">
                <a:solidFill>
                  <a:srgbClr val="5f5f5f"/>
                </a:solidFill>
                <a:miter/>
                <a:tailEnd len="med" type="triangle" w="med"/>
              </a:ln>
            </p:spPr>
          </p:cxnSp>
          <p:cxnSp>
            <p:nvCxnSpPr>
              <p:cNvPr id="953" name="AutoShape 96"/>
              <p:cNvCxnSpPr>
                <a:stCxn id="949" idx="3"/>
                <a:endCxn id="950" idx="1"/>
              </p:cNvCxnSpPr>
              <p:nvPr/>
            </p:nvCxnSpPr>
            <p:spPr>
              <a:xfrm>
                <a:off x="3592440" y="2052360"/>
                <a:ext cx="978480" cy="1080"/>
              </a:xfrm>
              <a:prstGeom prst="straightConnector1">
                <a:avLst/>
              </a:prstGeom>
              <a:ln w="9360">
                <a:solidFill>
                  <a:srgbClr val="5f5f5f"/>
                </a:solidFill>
                <a:miter/>
                <a:tailEnd len="med" type="triangle" w="med"/>
              </a:ln>
            </p:spPr>
          </p:cxnSp>
          <p:cxnSp>
            <p:nvCxnSpPr>
              <p:cNvPr id="954" name="AutoShape 97"/>
              <p:cNvCxnSpPr/>
              <p:nvPr/>
            </p:nvCxnSpPr>
            <p:spPr>
              <a:xfrm>
                <a:off x="5338800" y="2057040"/>
                <a:ext cx="978480" cy="1080"/>
              </a:xfrm>
              <a:prstGeom prst="straightConnector1">
                <a:avLst/>
              </a:prstGeom>
              <a:ln w="9360">
                <a:solidFill>
                  <a:srgbClr val="5f5f5f"/>
                </a:solidFill>
                <a:miter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90d0"/>
                </a:solidFill>
                <a:latin typeface="微软雅黑"/>
              </a:rPr>
              <a:t>Block Diagram</a:t>
            </a: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956" name="AutoShape 3"/>
          <p:cNvSpPr/>
          <p:nvPr/>
        </p:nvSpPr>
        <p:spPr>
          <a:xfrm>
            <a:off x="6151680" y="328140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7" name="AutoShape 4"/>
          <p:cNvSpPr/>
          <p:nvPr/>
        </p:nvSpPr>
        <p:spPr>
          <a:xfrm>
            <a:off x="4456080" y="328140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8" name="AutoShape 5"/>
          <p:cNvSpPr/>
          <p:nvPr/>
        </p:nvSpPr>
        <p:spPr>
          <a:xfrm>
            <a:off x="2773440" y="328140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9" name="AutoShape 6"/>
          <p:cNvSpPr/>
          <p:nvPr/>
        </p:nvSpPr>
        <p:spPr>
          <a:xfrm>
            <a:off x="1066680" y="328140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960" name="Group 7"/>
          <p:cNvGrpSpPr/>
          <p:nvPr/>
        </p:nvGrpSpPr>
        <p:grpSpPr>
          <a:xfrm>
            <a:off x="1127520" y="1711080"/>
            <a:ext cx="6215400" cy="1324080"/>
            <a:chOff x="1127520" y="1711080"/>
            <a:chExt cx="6215400" cy="1324080"/>
          </a:xfrm>
        </p:grpSpPr>
        <p:sp>
          <p:nvSpPr>
            <p:cNvPr id="961" name="Rectangle 8"/>
            <p:cNvSpPr/>
            <p:nvPr/>
          </p:nvSpPr>
          <p:spPr>
            <a:xfrm rot="3418800">
              <a:off x="1335600" y="1918440"/>
              <a:ext cx="873720" cy="970920"/>
            </a:xfrm>
            <a:prstGeom prst="rect">
              <a:avLst/>
            </a:prstGeom>
            <a:gradFill rotWithShape="0">
              <a:gsLst>
                <a:gs pos="0">
                  <a:srgbClr val="00b0f0"/>
                </a:gs>
                <a:gs pos="100000">
                  <a:srgbClr val="00516f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962" name="Group 9"/>
            <p:cNvGrpSpPr/>
            <p:nvPr/>
          </p:nvGrpSpPr>
          <p:grpSpPr>
            <a:xfrm>
              <a:off x="2258280" y="2092320"/>
              <a:ext cx="901080" cy="124200"/>
              <a:chOff x="2258280" y="2092320"/>
              <a:chExt cx="901080" cy="124200"/>
            </a:xfrm>
          </p:grpSpPr>
          <p:sp>
            <p:nvSpPr>
              <p:cNvPr id="963" name="Oval 10"/>
              <p:cNvSpPr/>
              <p:nvPr/>
            </p:nvSpPr>
            <p:spPr>
              <a:xfrm>
                <a:off x="2258280" y="209232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64" name="Rectangle 11"/>
              <p:cNvSpPr/>
              <p:nvPr/>
            </p:nvSpPr>
            <p:spPr>
              <a:xfrm>
                <a:off x="2344680" y="209304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65" name="Oval 12"/>
              <p:cNvSpPr/>
              <p:nvPr/>
            </p:nvSpPr>
            <p:spPr>
              <a:xfrm>
                <a:off x="3022920" y="209412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66" name="Oval 13"/>
              <p:cNvSpPr/>
              <p:nvPr/>
            </p:nvSpPr>
            <p:spPr>
              <a:xfrm>
                <a:off x="3096000" y="213300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967" name="Rectangle 14"/>
            <p:cNvSpPr/>
            <p:nvPr/>
          </p:nvSpPr>
          <p:spPr>
            <a:xfrm rot="3418800">
              <a:off x="3000240" y="1856160"/>
              <a:ext cx="873720" cy="970920"/>
            </a:xfrm>
            <a:prstGeom prst="rect">
              <a:avLst/>
            </a:prstGeom>
            <a:solidFill>
              <a:srgbClr val="0890d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968" name="Group 15"/>
            <p:cNvGrpSpPr/>
            <p:nvPr/>
          </p:nvGrpSpPr>
          <p:grpSpPr>
            <a:xfrm>
              <a:off x="3922920" y="2092320"/>
              <a:ext cx="901080" cy="124200"/>
              <a:chOff x="3922920" y="2092320"/>
              <a:chExt cx="901080" cy="124200"/>
            </a:xfrm>
          </p:grpSpPr>
          <p:sp>
            <p:nvSpPr>
              <p:cNvPr id="969" name="Oval 16"/>
              <p:cNvSpPr/>
              <p:nvPr/>
            </p:nvSpPr>
            <p:spPr>
              <a:xfrm>
                <a:off x="3922920" y="209232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70" name="Rectangle 17"/>
              <p:cNvSpPr/>
              <p:nvPr/>
            </p:nvSpPr>
            <p:spPr>
              <a:xfrm>
                <a:off x="4009320" y="209304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71" name="Oval 18"/>
              <p:cNvSpPr/>
              <p:nvPr/>
            </p:nvSpPr>
            <p:spPr>
              <a:xfrm>
                <a:off x="4687560" y="209412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72" name="Oval 19"/>
              <p:cNvSpPr/>
              <p:nvPr/>
            </p:nvSpPr>
            <p:spPr>
              <a:xfrm>
                <a:off x="4760640" y="213300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973" name="Rectangle 20"/>
            <p:cNvSpPr/>
            <p:nvPr/>
          </p:nvSpPr>
          <p:spPr>
            <a:xfrm rot="3418800">
              <a:off x="4595760" y="1856160"/>
              <a:ext cx="873720" cy="971280"/>
            </a:xfrm>
            <a:prstGeom prst="rect">
              <a:avLst/>
            </a:prstGeom>
            <a:gradFill rotWithShape="0">
              <a:gsLst>
                <a:gs pos="0">
                  <a:srgbClr val="00b0f0"/>
                </a:gs>
                <a:gs pos="100000">
                  <a:srgbClr val="00516f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974" name="Group 21"/>
            <p:cNvGrpSpPr/>
            <p:nvPr/>
          </p:nvGrpSpPr>
          <p:grpSpPr>
            <a:xfrm>
              <a:off x="5587560" y="2092320"/>
              <a:ext cx="1178640" cy="124200"/>
              <a:chOff x="5587560" y="2092320"/>
              <a:chExt cx="1178640" cy="124200"/>
            </a:xfrm>
          </p:grpSpPr>
          <p:sp>
            <p:nvSpPr>
              <p:cNvPr id="975" name="Oval 22"/>
              <p:cNvSpPr/>
              <p:nvPr/>
            </p:nvSpPr>
            <p:spPr>
              <a:xfrm>
                <a:off x="5587560" y="209232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76" name="Rectangle 23"/>
              <p:cNvSpPr/>
              <p:nvPr/>
            </p:nvSpPr>
            <p:spPr>
              <a:xfrm>
                <a:off x="5700600" y="209304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77" name="Oval 24"/>
              <p:cNvSpPr/>
              <p:nvPr/>
            </p:nvSpPr>
            <p:spPr>
              <a:xfrm>
                <a:off x="6587640" y="209412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78" name="Oval 25"/>
              <p:cNvSpPr/>
              <p:nvPr/>
            </p:nvSpPr>
            <p:spPr>
              <a:xfrm>
                <a:off x="6683040" y="213300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979" name="Rectangle 26"/>
            <p:cNvSpPr/>
            <p:nvPr/>
          </p:nvSpPr>
          <p:spPr>
            <a:xfrm rot="3418800">
              <a:off x="6260400" y="1856160"/>
              <a:ext cx="873720" cy="971280"/>
            </a:xfrm>
            <a:prstGeom prst="rect">
              <a:avLst/>
            </a:prstGeom>
            <a:solidFill>
              <a:srgbClr val="0890d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980" name="Rectangle 27"/>
          <p:cNvSpPr/>
          <p:nvPr/>
        </p:nvSpPr>
        <p:spPr>
          <a:xfrm>
            <a:off x="1442520" y="2206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1" name="Rectangle 28"/>
          <p:cNvSpPr/>
          <p:nvPr/>
        </p:nvSpPr>
        <p:spPr>
          <a:xfrm>
            <a:off x="3138120" y="2206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2" name="Rectangle 29"/>
          <p:cNvSpPr/>
          <p:nvPr/>
        </p:nvSpPr>
        <p:spPr>
          <a:xfrm>
            <a:off x="4684320" y="2206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3" name="Rectangle 30"/>
          <p:cNvSpPr/>
          <p:nvPr/>
        </p:nvSpPr>
        <p:spPr>
          <a:xfrm>
            <a:off x="6379560" y="2206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4" name="Rectangle 31"/>
          <p:cNvSpPr/>
          <p:nvPr/>
        </p:nvSpPr>
        <p:spPr>
          <a:xfrm>
            <a:off x="1449000" y="349884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5" name="Rectangle 32"/>
          <p:cNvSpPr/>
          <p:nvPr/>
        </p:nvSpPr>
        <p:spPr>
          <a:xfrm>
            <a:off x="3142800" y="349884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6" name="Rectangle 33"/>
          <p:cNvSpPr/>
          <p:nvPr/>
        </p:nvSpPr>
        <p:spPr>
          <a:xfrm>
            <a:off x="4838040" y="349884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7" name="Rectangle 34"/>
          <p:cNvSpPr/>
          <p:nvPr/>
        </p:nvSpPr>
        <p:spPr>
          <a:xfrm>
            <a:off x="6533640" y="349884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90d0"/>
                </a:solidFill>
                <a:latin typeface="微软雅黑"/>
              </a:rPr>
              <a:t>Table</a:t>
            </a: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graphicFrame>
        <p:nvGraphicFramePr>
          <p:cNvPr id="989" name=""/>
          <p:cNvGraphicFramePr/>
          <p:nvPr/>
        </p:nvGraphicFramePr>
        <p:xfrm>
          <a:off x="700200" y="2286000"/>
          <a:ext cx="7743600" cy="3198960"/>
        </p:xfrm>
        <a:graphic>
          <a:graphicData uri="http://schemas.openxmlformats.org/drawingml/2006/table">
            <a:tbl>
              <a:tblPr/>
              <a:tblGrid>
                <a:gridCol w="1746000"/>
                <a:gridCol w="1219320"/>
                <a:gridCol w="1193760"/>
                <a:gridCol w="1192320"/>
                <a:gridCol w="1200240"/>
                <a:gridCol w="1191960"/>
              </a:tblGrid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5f5f5f"/>
                      </a:solidFill>
                    </a:lnR>
                    <a:lnT>
                      <a:noFill/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幼圆"/>
                          <a:ea typeface="幼圆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solidFill>
                      <a:srgbClr val="0890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幼圆"/>
                          <a:ea typeface="幼圆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solidFill>
                      <a:srgbClr val="0890d0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幼圆"/>
                          <a:ea typeface="幼圆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solidFill>
                      <a:srgbClr val="0890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幼圆"/>
                          <a:ea typeface="幼圆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solidFill>
                      <a:srgbClr val="0890d0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幼圆"/>
                          <a:ea typeface="幼圆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solidFill>
                      <a:srgbClr val="0890d0"/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幼圆"/>
                          <a:ea typeface="幼圆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90d0"/>
                          </a:solidFill>
                          <a:latin typeface="幼圆"/>
                          <a:ea typeface="幼圆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90d0"/>
                          </a:solidFill>
                          <a:latin typeface="幼圆"/>
                          <a:ea typeface="幼圆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solidFill>
                      <a:srgbClr val="ffff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90d0"/>
                          </a:solidFill>
                          <a:latin typeface="幼圆"/>
                          <a:ea typeface="幼圆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90d0"/>
                          </a:solidFill>
                          <a:latin typeface="幼圆"/>
                          <a:ea typeface="幼圆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solidFill>
                      <a:srgbClr val="ffff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90d0"/>
                          </a:solidFill>
                          <a:latin typeface="幼圆"/>
                          <a:ea typeface="幼圆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幼圆"/>
                          <a:ea typeface="幼圆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90d0"/>
                          </a:solidFill>
                          <a:latin typeface="幼圆"/>
                          <a:ea typeface="幼圆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solidFill>
                      <a:srgbClr val="ffffff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90d0"/>
                          </a:solidFill>
                          <a:latin typeface="幼圆"/>
                          <a:ea typeface="幼圆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90d0"/>
                          </a:solidFill>
                          <a:latin typeface="幼圆"/>
                          <a:ea typeface="幼圆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solidFill>
                      <a:srgbClr val="ffffff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90d0"/>
                          </a:solidFill>
                          <a:latin typeface="幼圆"/>
                          <a:ea typeface="幼圆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90d0"/>
                          </a:solidFill>
                          <a:latin typeface="幼圆"/>
                          <a:ea typeface="幼圆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solidFill>
                      <a:srgbClr val="ffffff">
                        <a:alpha val="48000"/>
                      </a:srgbClr>
                    </a:solidFill>
                  </a:tcPr>
                </a:tc>
              </a:tr>
              <a:tr h="45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幼圆"/>
                          <a:ea typeface="幼圆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90d0"/>
                          </a:solidFill>
                          <a:latin typeface="幼圆"/>
                          <a:ea typeface="幼圆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90d0"/>
                          </a:solidFill>
                          <a:latin typeface="幼圆"/>
                          <a:ea typeface="幼圆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solidFill>
                      <a:srgbClr val="ffff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90d0"/>
                          </a:solidFill>
                          <a:latin typeface="幼圆"/>
                          <a:ea typeface="幼圆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90d0"/>
                          </a:solidFill>
                          <a:latin typeface="幼圆"/>
                          <a:ea typeface="幼圆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solidFill>
                      <a:srgbClr val="ffff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90d0"/>
                          </a:solidFill>
                          <a:latin typeface="幼圆"/>
                          <a:ea typeface="幼圆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</a:tr>
              <a:tr h="45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幼圆"/>
                          <a:ea typeface="幼圆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90d0"/>
                          </a:solidFill>
                          <a:latin typeface="幼圆"/>
                          <a:ea typeface="幼圆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solidFill>
                      <a:srgbClr val="ffffff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90d0"/>
                          </a:solidFill>
                          <a:latin typeface="幼圆"/>
                          <a:ea typeface="幼圆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90d0"/>
                          </a:solidFill>
                          <a:latin typeface="幼圆"/>
                          <a:ea typeface="幼圆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solidFill>
                      <a:srgbClr val="ffffff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90d0"/>
                          </a:solidFill>
                          <a:latin typeface="幼圆"/>
                          <a:ea typeface="幼圆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90d0"/>
                          </a:solidFill>
                          <a:latin typeface="幼圆"/>
                          <a:ea typeface="幼圆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solidFill>
                      <a:srgbClr val="ffffff">
                        <a:alpha val="48000"/>
                      </a:srgbClr>
                    </a:solidFill>
                  </a:tcPr>
                </a:tc>
              </a:tr>
              <a:tr h="45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幼圆"/>
                          <a:ea typeface="幼圆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90d0"/>
                          </a:solidFill>
                          <a:latin typeface="幼圆"/>
                          <a:ea typeface="幼圆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90d0"/>
                          </a:solidFill>
                          <a:latin typeface="幼圆"/>
                          <a:ea typeface="幼圆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solidFill>
                      <a:srgbClr val="ffff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90d0"/>
                          </a:solidFill>
                          <a:latin typeface="幼圆"/>
                          <a:ea typeface="幼圆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90d0"/>
                          </a:solidFill>
                          <a:latin typeface="幼圆"/>
                          <a:ea typeface="幼圆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solidFill>
                      <a:srgbClr val="ffff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90d0"/>
                          </a:solidFill>
                          <a:latin typeface="幼圆"/>
                          <a:ea typeface="幼圆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</a:tr>
              <a:tr h="45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幼圆"/>
                          <a:ea typeface="幼圆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90d0"/>
                          </a:solidFill>
                          <a:latin typeface="幼圆"/>
                          <a:ea typeface="幼圆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90d0"/>
                          </a:solidFill>
                          <a:latin typeface="幼圆"/>
                          <a:ea typeface="幼圆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90d0"/>
                          </a:solidFill>
                          <a:latin typeface="幼圆"/>
                          <a:ea typeface="幼圆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90d0"/>
                          </a:solidFill>
                          <a:latin typeface="幼圆"/>
                          <a:ea typeface="幼圆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90d0"/>
                          </a:solidFill>
                          <a:latin typeface="幼圆"/>
                          <a:ea typeface="幼圆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90d0"/>
                </a:solidFill>
                <a:latin typeface="微软雅黑"/>
              </a:rPr>
              <a:t>3-D Pie Chart</a:t>
            </a: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grpSp>
        <p:nvGrpSpPr>
          <p:cNvPr id="991" name="Group 3"/>
          <p:cNvGrpSpPr/>
          <p:nvPr/>
        </p:nvGrpSpPr>
        <p:grpSpPr>
          <a:xfrm>
            <a:off x="1128600" y="1280880"/>
            <a:ext cx="6575400" cy="4665960"/>
            <a:chOff x="1128600" y="1280880"/>
            <a:chExt cx="6575400" cy="4665960"/>
          </a:xfrm>
        </p:grpSpPr>
        <p:sp>
          <p:nvSpPr>
            <p:cNvPr id="992" name="Oval 4"/>
            <p:cNvSpPr/>
            <p:nvPr/>
          </p:nvSpPr>
          <p:spPr>
            <a:xfrm>
              <a:off x="2141640" y="429120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3" name="Oval 5"/>
            <p:cNvSpPr/>
            <p:nvPr/>
          </p:nvSpPr>
          <p:spPr>
            <a:xfrm rot="20601600">
              <a:off x="1452240" y="2179440"/>
              <a:ext cx="5686560" cy="3016080"/>
            </a:xfrm>
            <a:prstGeom prst="ellipse">
              <a:avLst/>
            </a:prstGeom>
            <a:gradFill rotWithShape="0">
              <a:gsLst>
                <a:gs pos="0">
                  <a:srgbClr val="646464"/>
                </a:gs>
                <a:gs pos="50000">
                  <a:srgbClr val="ffffff"/>
                </a:gs>
                <a:gs pos="100000">
                  <a:srgbClr val="64646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4" name="Oval 6"/>
            <p:cNvSpPr/>
            <p:nvPr/>
          </p:nvSpPr>
          <p:spPr>
            <a:xfrm rot="20601600">
              <a:off x="1471320" y="2016360"/>
              <a:ext cx="5564160" cy="292248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5" name="Arc 7"/>
            <p:cNvSpPr/>
            <p:nvPr/>
          </p:nvSpPr>
          <p:spPr>
            <a:xfrm rot="20601600">
              <a:off x="4128840" y="1905120"/>
              <a:ext cx="2849400" cy="196704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00b0f0"/>
                </a:gs>
                <a:gs pos="100000">
                  <a:srgbClr val="55caf5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6" name="Arc 8"/>
            <p:cNvSpPr/>
            <p:nvPr/>
          </p:nvSpPr>
          <p:spPr>
            <a:xfrm flipH="1" rot="20602200">
              <a:off x="1716480" y="3780000"/>
              <a:ext cx="3281400" cy="147636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0890d0"/>
                </a:gs>
                <a:gs pos="100000">
                  <a:srgbClr val="05587e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7" name="Arc 9"/>
            <p:cNvSpPr/>
            <p:nvPr/>
          </p:nvSpPr>
          <p:spPr>
            <a:xfrm rot="20601600">
              <a:off x="2653920" y="1987560"/>
              <a:ext cx="3133800" cy="1417680"/>
            </a:xfrm>
            <a:custGeom>
              <a:avLst/>
              <a:gdLst/>
              <a:ahLst/>
              <a:rect l="l" t="t" r="r" b="b"/>
              <a:pathLst>
                <a:path fill="none" w="23826" h="21600">
                  <a:moveTo>
                    <a:pt x="0" y="2683"/>
                  </a:moveTo>
                  <a:cubicBezTo>
                    <a:pt x="3193" y="923"/>
                    <a:pt x="6780" y="0"/>
                    <a:pt x="10427" y="0"/>
                  </a:cubicBezTo>
                  <a:cubicBezTo>
                    <a:pt x="15290" y="0"/>
                    <a:pt x="20011" y="1641"/>
                    <a:pt x="23825" y="4658"/>
                  </a:cubicBezTo>
                </a:path>
                <a:path stroke="0" w="23826" h="21600">
                  <a:moveTo>
                    <a:pt x="0" y="2683"/>
                  </a:moveTo>
                  <a:cubicBezTo>
                    <a:pt x="3193" y="923"/>
                    <a:pt x="6780" y="0"/>
                    <a:pt x="10427" y="0"/>
                  </a:cubicBezTo>
                  <a:cubicBezTo>
                    <a:pt x="15290" y="0"/>
                    <a:pt x="20011" y="1641"/>
                    <a:pt x="23825" y="4658"/>
                  </a:cubicBezTo>
                  <a:lnTo>
                    <a:pt x="10427" y="21600"/>
                  </a:lnTo>
                  <a:lnTo>
                    <a:pt x="0" y="2683"/>
                  </a:lnTo>
                  <a:close/>
                </a:path>
              </a:pathLst>
            </a:custGeom>
            <a:gradFill rotWithShape="0">
              <a:gsLst>
                <a:gs pos="0">
                  <a:srgbClr val="5cb8ca"/>
                </a:gs>
                <a:gs pos="100000">
                  <a:srgbClr val="30616a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8" name="Arc 10"/>
            <p:cNvSpPr/>
            <p:nvPr/>
          </p:nvSpPr>
          <p:spPr>
            <a:xfrm flipH="1" rot="20602200">
              <a:off x="1370880" y="2514240"/>
              <a:ext cx="2849400" cy="2111400"/>
            </a:xfrm>
            <a:custGeom>
              <a:avLst/>
              <a:gdLst/>
              <a:ahLst/>
              <a:rect l="l" t="t" r="r" b="b"/>
              <a:pathLst>
                <a:path fill="none" w="21600" h="30685">
                  <a:moveTo>
                    <a:pt x="7749" y="-1"/>
                  </a:moveTo>
                  <a:cubicBezTo>
                    <a:pt x="16093" y="3206"/>
                    <a:pt x="21600" y="11222"/>
                    <a:pt x="21600" y="20162"/>
                  </a:cubicBezTo>
                  <a:cubicBezTo>
                    <a:pt x="21600" y="23845"/>
                    <a:pt x="20657" y="27468"/>
                    <a:pt x="18863" y="30685"/>
                  </a:cubicBezTo>
                </a:path>
                <a:path stroke="0" w="21600" h="30685">
                  <a:moveTo>
                    <a:pt x="7749" y="-1"/>
                  </a:moveTo>
                  <a:cubicBezTo>
                    <a:pt x="16093" y="3206"/>
                    <a:pt x="21600" y="11222"/>
                    <a:pt x="21600" y="20162"/>
                  </a:cubicBezTo>
                  <a:cubicBezTo>
                    <a:pt x="21600" y="23845"/>
                    <a:pt x="20657" y="27468"/>
                    <a:pt x="18863" y="30685"/>
                  </a:cubicBezTo>
                  <a:lnTo>
                    <a:pt x="0" y="20162"/>
                  </a:lnTo>
                  <a:lnTo>
                    <a:pt x="7749" y="-1"/>
                  </a:lnTo>
                  <a:close/>
                </a:path>
              </a:pathLst>
            </a:custGeom>
            <a:gradFill rotWithShape="0">
              <a:gsLst>
                <a:gs pos="0">
                  <a:srgbClr val="2d9c9f"/>
                </a:gs>
                <a:gs pos="100000">
                  <a:srgbClr val="195557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9" name="Oval 11"/>
            <p:cNvSpPr/>
            <p:nvPr/>
          </p:nvSpPr>
          <p:spPr>
            <a:xfrm rot="20601600">
              <a:off x="2933640" y="27302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0" name="Text Box 12"/>
            <p:cNvSpPr/>
            <p:nvPr/>
          </p:nvSpPr>
          <p:spPr>
            <a:xfrm>
              <a:off x="1924560" y="34099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1" name="Text Box 13"/>
            <p:cNvSpPr/>
            <p:nvPr/>
          </p:nvSpPr>
          <p:spPr>
            <a:xfrm>
              <a:off x="3829680" y="21909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2" name="Text Box 14"/>
            <p:cNvSpPr/>
            <p:nvPr/>
          </p:nvSpPr>
          <p:spPr>
            <a:xfrm>
              <a:off x="5658480" y="2495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003" name="Group 15"/>
            <p:cNvGrpSpPr/>
            <p:nvPr/>
          </p:nvGrpSpPr>
          <p:grpSpPr>
            <a:xfrm>
              <a:off x="4293720" y="2466720"/>
              <a:ext cx="3164400" cy="2769120"/>
              <a:chOff x="4293720" y="2466720"/>
              <a:chExt cx="3164400" cy="2769120"/>
            </a:xfrm>
          </p:grpSpPr>
          <p:sp>
            <p:nvSpPr>
              <p:cNvPr id="1004" name="未知"/>
              <p:cNvSpPr/>
              <p:nvPr/>
            </p:nvSpPr>
            <p:spPr>
              <a:xfrm>
                <a:off x="5448240" y="3448440"/>
                <a:ext cx="1773000" cy="1776240"/>
              </a:xfrm>
              <a:custGeom>
                <a:avLst/>
                <a:gdLst/>
                <a:ahLst/>
                <a:rect l="l" t="t" r="r" b="b"/>
                <a:pathLst>
                  <a:path w="1117" h="1119">
                    <a:moveTo>
                      <a:pt x="21" y="888"/>
                    </a:moveTo>
                    <a:lnTo>
                      <a:pt x="1117" y="0"/>
                    </a:lnTo>
                    <a:lnTo>
                      <a:pt x="1093" y="256"/>
                    </a:lnTo>
                    <a:cubicBezTo>
                      <a:pt x="1026" y="373"/>
                      <a:pt x="896" y="560"/>
                      <a:pt x="717" y="704"/>
                    </a:cubicBezTo>
                    <a:cubicBezTo>
                      <a:pt x="538" y="848"/>
                      <a:pt x="133" y="1088"/>
                      <a:pt x="17" y="1119"/>
                    </a:cubicBezTo>
                    <a:cubicBezTo>
                      <a:pt x="0" y="1037"/>
                      <a:pt x="21" y="888"/>
                      <a:pt x="21" y="88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6a6c6d"/>
                  </a:gs>
                  <a:gs pos="100000">
                    <a:srgbClr val="afb2b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005" name="Arc 17"/>
              <p:cNvSpPr/>
              <p:nvPr/>
            </p:nvSpPr>
            <p:spPr>
              <a:xfrm rot="20539200">
                <a:off x="4511520" y="2837160"/>
                <a:ext cx="2728800" cy="1859040"/>
              </a:xfrm>
              <a:custGeom>
                <a:avLst/>
                <a:gdLst/>
                <a:ahLst/>
                <a:rect l="l" t="t" r="r" b="b"/>
                <a:pathLst>
                  <a:path fill="none" w="18016" h="21282">
                    <a:moveTo>
                      <a:pt x="18016" y="11915"/>
                    </a:moveTo>
                    <a:cubicBezTo>
                      <a:pt x="14735" y="16875"/>
                      <a:pt x="9554" y="20264"/>
                      <a:pt x="3694" y="21281"/>
                    </a:cubicBezTo>
                  </a:path>
                  <a:path stroke="0" w="18016" h="21282">
                    <a:moveTo>
                      <a:pt x="18016" y="11915"/>
                    </a:moveTo>
                    <a:cubicBezTo>
                      <a:pt x="14735" y="16875"/>
                      <a:pt x="9554" y="20264"/>
                      <a:pt x="3694" y="21281"/>
                    </a:cubicBezTo>
                    <a:lnTo>
                      <a:pt x="0" y="0"/>
                    </a:lnTo>
                    <a:lnTo>
                      <a:pt x="18016" y="119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fb2b4"/>
                  </a:gs>
                  <a:gs pos="100000">
                    <a:srgbClr val="515253"/>
                  </a:gs>
                </a:gsLst>
                <a:lin ang="106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006" name="未知"/>
              <p:cNvSpPr/>
              <p:nvPr/>
            </p:nvSpPr>
            <p:spPr>
              <a:xfrm>
                <a:off x="4582800" y="3924720"/>
                <a:ext cx="924120" cy="1311120"/>
              </a:xfrm>
              <a:custGeom>
                <a:avLst/>
                <a:gdLst/>
                <a:ahLst/>
                <a:rect l="l" t="t" r="r" b="b"/>
                <a:pathLst>
                  <a:path w="582" h="826">
                    <a:moveTo>
                      <a:pt x="582" y="572"/>
                    </a:moveTo>
                    <a:lnTo>
                      <a:pt x="562" y="826"/>
                    </a:lnTo>
                    <a:lnTo>
                      <a:pt x="0" y="42"/>
                    </a:lnTo>
                    <a:lnTo>
                      <a:pt x="90" y="0"/>
                    </a:lnTo>
                    <a:lnTo>
                      <a:pt x="582" y="5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fb2b4"/>
                  </a:gs>
                  <a:gs pos="100000">
                    <a:srgbClr val="51525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007" name="Text Box 19"/>
              <p:cNvSpPr/>
              <p:nvPr/>
            </p:nvSpPr>
            <p:spPr>
              <a:xfrm>
                <a:off x="5353200" y="371520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Text4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008" name="Text Box 20"/>
            <p:cNvSpPr/>
            <p:nvPr/>
          </p:nvSpPr>
          <p:spPr>
            <a:xfrm>
              <a:off x="3143880" y="44006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9" name="未知"/>
            <p:cNvSpPr/>
            <p:nvPr/>
          </p:nvSpPr>
          <p:spPr>
            <a:xfrm>
              <a:off x="4427640" y="3990960"/>
              <a:ext cx="838080" cy="1108080"/>
            </a:xfrm>
            <a:custGeom>
              <a:avLst/>
              <a:gdLst/>
              <a:ahLst/>
              <a:rect l="l" t="t" r="r" b="b"/>
              <a:pathLst>
                <a:path w="528" h="698">
                  <a:moveTo>
                    <a:pt x="0" y="34"/>
                  </a:moveTo>
                  <a:lnTo>
                    <a:pt x="248" y="546"/>
                  </a:lnTo>
                  <a:lnTo>
                    <a:pt x="256" y="698"/>
                  </a:lnTo>
                  <a:lnTo>
                    <a:pt x="435" y="642"/>
                  </a:lnTo>
                  <a:lnTo>
                    <a:pt x="528" y="594"/>
                  </a:lnTo>
                  <a:lnTo>
                    <a:pt x="119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5f5f5f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0" name="Oval 22"/>
            <p:cNvSpPr/>
            <p:nvPr/>
          </p:nvSpPr>
          <p:spPr>
            <a:xfrm rot="20601600">
              <a:off x="3036960" y="2981520"/>
              <a:ext cx="2587680" cy="1112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90d0"/>
                </a:solidFill>
                <a:latin typeface="微软雅黑"/>
              </a:rPr>
              <a:t>Block Diagram</a:t>
            </a: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grpSp>
        <p:nvGrpSpPr>
          <p:cNvPr id="1012" name="Group 3"/>
          <p:cNvGrpSpPr/>
          <p:nvPr/>
        </p:nvGrpSpPr>
        <p:grpSpPr>
          <a:xfrm>
            <a:off x="914400" y="1447920"/>
            <a:ext cx="7391160" cy="4724280"/>
            <a:chOff x="914400" y="1447920"/>
            <a:chExt cx="7391160" cy="4724280"/>
          </a:xfrm>
        </p:grpSpPr>
        <p:sp>
          <p:nvSpPr>
            <p:cNvPr id="1013" name="AutoShape 4"/>
            <p:cNvSpPr/>
            <p:nvPr/>
          </p:nvSpPr>
          <p:spPr>
            <a:xfrm>
              <a:off x="1905120" y="2210040"/>
              <a:ext cx="5530680" cy="2743200"/>
            </a:xfrm>
            <a:prstGeom prst="upArrow">
              <a:avLst>
                <a:gd name="adj1" fmla="val 57824"/>
                <a:gd name="adj2" fmla="val 5439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4" name="AutoShape 5"/>
            <p:cNvSpPr/>
            <p:nvPr/>
          </p:nvSpPr>
          <p:spPr>
            <a:xfrm>
              <a:off x="2438280" y="1447920"/>
              <a:ext cx="4419720" cy="57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5a7b"/>
                </a:gs>
                <a:gs pos="50000">
                  <a:srgbClr val="00b0f0"/>
                </a:gs>
                <a:gs pos="100000">
                  <a:srgbClr val="005a7b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5" name="Text Box 6"/>
            <p:cNvSpPr/>
            <p:nvPr/>
          </p:nvSpPr>
          <p:spPr>
            <a:xfrm>
              <a:off x="3658320" y="2819520"/>
              <a:ext cx="191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016" name="Group 7"/>
            <p:cNvGrpSpPr/>
            <p:nvPr/>
          </p:nvGrpSpPr>
          <p:grpSpPr>
            <a:xfrm>
              <a:off x="914400" y="4083120"/>
              <a:ext cx="1486080" cy="1989000"/>
              <a:chOff x="914400" y="4083120"/>
              <a:chExt cx="1486080" cy="1989000"/>
            </a:xfrm>
          </p:grpSpPr>
          <p:grpSp>
            <p:nvGrpSpPr>
              <p:cNvPr id="1017" name="Group 8"/>
              <p:cNvGrpSpPr/>
              <p:nvPr/>
            </p:nvGrpSpPr>
            <p:grpSpPr>
              <a:xfrm>
                <a:off x="914400" y="4083120"/>
                <a:ext cx="1486080" cy="1514520"/>
                <a:chOff x="914400" y="4083120"/>
                <a:chExt cx="1486080" cy="1514520"/>
              </a:xfrm>
            </p:grpSpPr>
            <p:grpSp>
              <p:nvGrpSpPr>
                <p:cNvPr id="1018" name="Group 9"/>
                <p:cNvGrpSpPr/>
                <p:nvPr/>
              </p:nvGrpSpPr>
              <p:grpSpPr>
                <a:xfrm>
                  <a:off x="914400" y="4083120"/>
                  <a:ext cx="1486080" cy="1514520"/>
                  <a:chOff x="914400" y="4083120"/>
                  <a:chExt cx="1486080" cy="1514520"/>
                </a:xfrm>
              </p:grpSpPr>
              <p:sp>
                <p:nvSpPr>
                  <p:cNvPr id="1019" name="Oval 10"/>
                  <p:cNvSpPr/>
                  <p:nvPr/>
                </p:nvSpPr>
                <p:spPr>
                  <a:xfrm>
                    <a:off x="914400" y="4083120"/>
                    <a:ext cx="1486080" cy="1514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2d9c9f"/>
                      </a:gs>
                      <a:gs pos="100000">
                        <a:srgbClr val="1d636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0" name="未知"/>
                  <p:cNvSpPr/>
                  <p:nvPr/>
                </p:nvSpPr>
                <p:spPr>
                  <a:xfrm>
                    <a:off x="1084320" y="4107960"/>
                    <a:ext cx="1146240" cy="57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2d9c9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1" name="Text Box 12"/>
                <p:cNvSpPr/>
                <p:nvPr/>
              </p:nvSpPr>
              <p:spPr>
                <a:xfrm>
                  <a:off x="1072440" y="4854240"/>
                  <a:ext cx="1157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concept</a:t>
                  </a:r>
                  <a:endParaRPr b="0" lang="en-US" sz="20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2" name="Oval 13"/>
              <p:cNvSpPr/>
              <p:nvPr/>
            </p:nvSpPr>
            <p:spPr>
              <a:xfrm>
                <a:off x="1066680" y="5683320"/>
                <a:ext cx="1206720" cy="38880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023" name="Group 14"/>
            <p:cNvGrpSpPr/>
            <p:nvPr/>
          </p:nvGrpSpPr>
          <p:grpSpPr>
            <a:xfrm>
              <a:off x="6781680" y="4038840"/>
              <a:ext cx="1523880" cy="2066760"/>
              <a:chOff x="6781680" y="4038840"/>
              <a:chExt cx="1523880" cy="2066760"/>
            </a:xfrm>
          </p:grpSpPr>
          <p:grpSp>
            <p:nvGrpSpPr>
              <p:cNvPr id="1024" name="Group 15"/>
              <p:cNvGrpSpPr/>
              <p:nvPr/>
            </p:nvGrpSpPr>
            <p:grpSpPr>
              <a:xfrm>
                <a:off x="6781680" y="4038840"/>
                <a:ext cx="1523880" cy="1531800"/>
                <a:chOff x="6781680" y="4038840"/>
                <a:chExt cx="1523880" cy="1531800"/>
              </a:xfrm>
            </p:grpSpPr>
            <p:grpSp>
              <p:nvGrpSpPr>
                <p:cNvPr id="1025" name="Group 16"/>
                <p:cNvGrpSpPr/>
                <p:nvPr/>
              </p:nvGrpSpPr>
              <p:grpSpPr>
                <a:xfrm>
                  <a:off x="6781680" y="4038840"/>
                  <a:ext cx="1523880" cy="1531800"/>
                  <a:chOff x="6781680" y="4038840"/>
                  <a:chExt cx="1523880" cy="1531800"/>
                </a:xfrm>
              </p:grpSpPr>
              <p:sp>
                <p:nvSpPr>
                  <p:cNvPr id="1026" name="Oval 17"/>
                  <p:cNvSpPr/>
                  <p:nvPr/>
                </p:nvSpPr>
                <p:spPr>
                  <a:xfrm>
                    <a:off x="6781680" y="4038840"/>
                    <a:ext cx="1523880" cy="15318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b2b4"/>
                      </a:gs>
                      <a:gs pos="100000">
                        <a:srgbClr val="2b2b2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7" name="未知"/>
                  <p:cNvSpPr/>
                  <p:nvPr/>
                </p:nvSpPr>
                <p:spPr>
                  <a:xfrm>
                    <a:off x="6955920" y="4064040"/>
                    <a:ext cx="1175400" cy="57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afb2b4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8" name="Text Box 19"/>
                <p:cNvSpPr/>
                <p:nvPr/>
              </p:nvSpPr>
              <p:spPr>
                <a:xfrm>
                  <a:off x="6924600" y="4752720"/>
                  <a:ext cx="1200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Concept</a:t>
                  </a:r>
                  <a:endParaRPr b="0" lang="en-US" sz="20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9" name="Oval 20"/>
              <p:cNvSpPr/>
              <p:nvPr/>
            </p:nvSpPr>
            <p:spPr>
              <a:xfrm>
                <a:off x="6824520" y="5618520"/>
                <a:ext cx="1455840" cy="48708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030" name="Group 21"/>
            <p:cNvGrpSpPr/>
            <p:nvPr/>
          </p:nvGrpSpPr>
          <p:grpSpPr>
            <a:xfrm>
              <a:off x="2819520" y="4083120"/>
              <a:ext cx="1523880" cy="2089080"/>
              <a:chOff x="2819520" y="4083120"/>
              <a:chExt cx="1523880" cy="2089080"/>
            </a:xfrm>
          </p:grpSpPr>
          <p:grpSp>
            <p:nvGrpSpPr>
              <p:cNvPr id="1031" name="Group 22"/>
              <p:cNvGrpSpPr/>
              <p:nvPr/>
            </p:nvGrpSpPr>
            <p:grpSpPr>
              <a:xfrm>
                <a:off x="2819520" y="4083120"/>
                <a:ext cx="1523880" cy="1521000"/>
                <a:chOff x="2819520" y="4083120"/>
                <a:chExt cx="1523880" cy="1521000"/>
              </a:xfrm>
            </p:grpSpPr>
            <p:sp>
              <p:nvSpPr>
                <p:cNvPr id="1032" name="Oval 23"/>
                <p:cNvSpPr/>
                <p:nvPr/>
              </p:nvSpPr>
              <p:spPr>
                <a:xfrm>
                  <a:off x="2819520" y="4083120"/>
                  <a:ext cx="1523880" cy="152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b0f0"/>
                    </a:gs>
                    <a:gs pos="100000">
                      <a:srgbClr val="005a7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033" name="未知"/>
                <p:cNvSpPr/>
                <p:nvPr/>
              </p:nvSpPr>
              <p:spPr>
                <a:xfrm>
                  <a:off x="2993760" y="4108320"/>
                  <a:ext cx="1175400" cy="573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b0f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34" name="Text Box 25"/>
              <p:cNvSpPr/>
              <p:nvPr/>
            </p:nvSpPr>
            <p:spPr>
              <a:xfrm>
                <a:off x="2895840" y="481320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035" name="Oval 26"/>
              <p:cNvSpPr/>
              <p:nvPr/>
            </p:nvSpPr>
            <p:spPr>
              <a:xfrm>
                <a:off x="2819520" y="5683320"/>
                <a:ext cx="1454040" cy="48888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036" name="Group 27"/>
            <p:cNvGrpSpPr/>
            <p:nvPr/>
          </p:nvGrpSpPr>
          <p:grpSpPr>
            <a:xfrm>
              <a:off x="4876920" y="4038840"/>
              <a:ext cx="1523880" cy="2089080"/>
              <a:chOff x="4876920" y="4038840"/>
              <a:chExt cx="1523880" cy="2089080"/>
            </a:xfrm>
          </p:grpSpPr>
          <p:grpSp>
            <p:nvGrpSpPr>
              <p:cNvPr id="1037" name="Group 28"/>
              <p:cNvGrpSpPr/>
              <p:nvPr/>
            </p:nvGrpSpPr>
            <p:grpSpPr>
              <a:xfrm>
                <a:off x="4876920" y="4038840"/>
                <a:ext cx="1523880" cy="1521000"/>
                <a:chOff x="4876920" y="4038840"/>
                <a:chExt cx="1523880" cy="1521000"/>
              </a:xfrm>
            </p:grpSpPr>
            <p:grpSp>
              <p:nvGrpSpPr>
                <p:cNvPr id="1038" name="Group 29"/>
                <p:cNvGrpSpPr/>
                <p:nvPr/>
              </p:nvGrpSpPr>
              <p:grpSpPr>
                <a:xfrm>
                  <a:off x="4876920" y="4038840"/>
                  <a:ext cx="1523880" cy="1521000"/>
                  <a:chOff x="4876920" y="4038840"/>
                  <a:chExt cx="1523880" cy="1521000"/>
                </a:xfrm>
              </p:grpSpPr>
              <p:sp>
                <p:nvSpPr>
                  <p:cNvPr id="1039" name="Oval 30"/>
                  <p:cNvSpPr/>
                  <p:nvPr/>
                </p:nvSpPr>
                <p:spPr>
                  <a:xfrm>
                    <a:off x="4876920" y="4038840"/>
                    <a:ext cx="1523880" cy="1521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890d0"/>
                      </a:gs>
                      <a:gs pos="100000">
                        <a:srgbClr val="044a6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0" name="未知"/>
                  <p:cNvSpPr/>
                  <p:nvPr/>
                </p:nvSpPr>
                <p:spPr>
                  <a:xfrm>
                    <a:off x="5051160" y="4064040"/>
                    <a:ext cx="1175400" cy="57384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890d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1" name="Text Box 32"/>
                <p:cNvSpPr/>
                <p:nvPr/>
              </p:nvSpPr>
              <p:spPr>
                <a:xfrm>
                  <a:off x="4953240" y="4768920"/>
                  <a:ext cx="1371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Concept</a:t>
                  </a:r>
                  <a:endParaRPr b="0" lang="en-US" sz="20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2" name="Oval 33"/>
              <p:cNvSpPr/>
              <p:nvPr/>
            </p:nvSpPr>
            <p:spPr>
              <a:xfrm>
                <a:off x="4876920" y="5639040"/>
                <a:ext cx="1454040" cy="48888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WordArt 2"/>
          <p:cNvSpPr txBox="1"/>
          <p:nvPr/>
        </p:nvSpPr>
        <p:spPr>
          <a:xfrm>
            <a:off x="853920" y="1308240"/>
            <a:ext cx="4861080" cy="67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2d9c9f"/>
                    </a:gs>
                    <a:gs pos="100000">
                      <a:srgbClr val="0890d0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ffffff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2d9c9f"/>
                  </a:gs>
                  <a:gs pos="100000">
                    <a:srgbClr val="0890d0"/>
                  </a:gs>
                </a:gsLst>
                <a:lin ang="0"/>
              </a:gradFill>
              <a:effectLst>
                <a:outerShdw dist="53966" dir="2700000" blurRad="0" rotWithShape="0">
                  <a:srgbClr val="ffff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ubTitle"/>
          </p:nvPr>
        </p:nvSpPr>
        <p:spPr>
          <a:xfrm>
            <a:off x="1642680" y="2351520"/>
            <a:ext cx="40719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90d0"/>
                </a:solidFill>
                <a:latin typeface="微软雅黑"/>
              </a:rPr>
              <a:t>使用规范说明</a:t>
            </a: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站点介绍：</a:t>
            </a:r>
            <a:endParaRPr b="0" lang="en-US" sz="1400" spc="-1" strike="noStrike">
              <a:solidFill>
                <a:srgbClr val="0890d0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90d0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幼圆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幼圆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幼圆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幼圆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幼圆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幼圆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幼圆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890d0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90d0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90d0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特别说明：</a:t>
            </a:r>
            <a:endParaRPr b="0" lang="en-US" sz="1400" spc="-1" strike="noStrike">
              <a:solidFill>
                <a:srgbClr val="0890d0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90d0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890d0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90d0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90d0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90d0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栏目推荐：</a:t>
            </a:r>
            <a:endParaRPr b="0" lang="en-US" sz="1400" spc="-1" strike="noStrike">
              <a:solidFill>
                <a:srgbClr val="0890d0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890d0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890d0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890d0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890d0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890d0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890d0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890d0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890d0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890d0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890d0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890d0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90d0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90d0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90d0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90d0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90d0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10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f5f5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90d0"/>
                </a:solidFill>
                <a:latin typeface="微软雅黑"/>
              </a:rPr>
              <a:t>使用规范说明</a:t>
            </a: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幼圆"/>
              </a:rPr>
              <a:t>站点介绍：</a:t>
            </a:r>
            <a:endParaRPr b="0" lang="en-US" sz="1800" spc="-1" strike="noStrike">
              <a:solidFill>
                <a:srgbClr val="0890d0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90d0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幼圆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幼圆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幼圆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幼圆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幼圆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幼圆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幼圆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幼圆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幼圆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幼圆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幼圆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幼圆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幼圆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幼圆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幼圆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幼圆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幼圆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幼圆"/>
              </a:rPr>
              <a:t>模板！</a:t>
            </a:r>
            <a:endParaRPr b="0" lang="en-US" sz="1600" spc="-1" strike="noStrike">
              <a:solidFill>
                <a:srgbClr val="0890d0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90d0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90d0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幼圆"/>
              </a:rPr>
              <a:t>特别说明：</a:t>
            </a:r>
            <a:endParaRPr b="0" lang="en-US" sz="1800" spc="-1" strike="noStrike">
              <a:solidFill>
                <a:srgbClr val="0890d0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90d0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幼圆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幼圆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890d0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90d0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90d0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幼圆"/>
              </a:rPr>
              <a:t>栏目推荐：</a:t>
            </a:r>
            <a:endParaRPr b="0" lang="en-US" sz="1800" spc="-1" strike="noStrike">
              <a:solidFill>
                <a:srgbClr val="0890d0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90d0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890d0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dongtai/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sucai/</a:t>
            </a:r>
            <a:endParaRPr b="0" lang="en-US" sz="1600" spc="-1" strike="noStrike">
              <a:solidFill>
                <a:srgbClr val="0890d0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 </a:t>
            </a:r>
            <a:endParaRPr b="0" lang="en-US" sz="1600" spc="-1" strike="noStrike">
              <a:solidFill>
                <a:srgbClr val="0890d0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officejiqiao/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new.html</a:t>
            </a:r>
            <a:endParaRPr b="0" lang="en-US" sz="1600" spc="-1" strike="noStrike">
              <a:solidFill>
                <a:srgbClr val="0890d0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90d0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90d0"/>
              </a:solidFill>
              <a:latin typeface="幼圆"/>
            </a:endParaRPr>
          </a:p>
        </p:txBody>
      </p:sp>
      <p:sp>
        <p:nvSpPr>
          <p:cNvPr id="10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f5f5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1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890d0"/>
              </a:solidFill>
              <a:latin typeface="微软雅黑"/>
            </a:endParaRPr>
          </a:p>
        </p:txBody>
      </p:sp>
      <p:grpSp>
        <p:nvGrpSpPr>
          <p:cNvPr id="648" name="Group 3"/>
          <p:cNvGrpSpPr/>
          <p:nvPr/>
        </p:nvGrpSpPr>
        <p:grpSpPr>
          <a:xfrm>
            <a:off x="1828800" y="2023920"/>
            <a:ext cx="5410080" cy="665280"/>
            <a:chOff x="1828800" y="2023920"/>
            <a:chExt cx="5410080" cy="665280"/>
          </a:xfrm>
        </p:grpSpPr>
        <p:grpSp>
          <p:nvGrpSpPr>
            <p:cNvPr id="649" name="Group 4"/>
            <p:cNvGrpSpPr/>
            <p:nvPr/>
          </p:nvGrpSpPr>
          <p:grpSpPr>
            <a:xfrm>
              <a:off x="1828800" y="2023920"/>
              <a:ext cx="762120" cy="665280"/>
              <a:chOff x="1828800" y="2023920"/>
              <a:chExt cx="762120" cy="665280"/>
            </a:xfrm>
          </p:grpSpPr>
          <p:sp>
            <p:nvSpPr>
              <p:cNvPr id="650" name="AutoShape 5"/>
              <p:cNvSpPr/>
              <p:nvPr/>
            </p:nvSpPr>
            <p:spPr>
              <a:xfrm>
                <a:off x="1834920" y="2035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51" name="AutoShape 6"/>
              <p:cNvSpPr/>
              <p:nvPr/>
            </p:nvSpPr>
            <p:spPr>
              <a:xfrm>
                <a:off x="1828800" y="2023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52" name="AutoShape 7"/>
              <p:cNvSpPr/>
              <p:nvPr/>
            </p:nvSpPr>
            <p:spPr>
              <a:xfrm>
                <a:off x="1873080" y="206316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00516f"/>
                  </a:gs>
                  <a:gs pos="100000">
                    <a:srgbClr val="00b0f0"/>
                  </a:gs>
                </a:gsLst>
                <a:lin ang="2700000"/>
              </a:gradFill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653" name="Line 8"/>
            <p:cNvSpPr/>
            <p:nvPr/>
          </p:nvSpPr>
          <p:spPr>
            <a:xfrm>
              <a:off x="2438280" y="2633400"/>
              <a:ext cx="4800600" cy="0"/>
            </a:xfrm>
            <a:prstGeom prst="line">
              <a:avLst/>
            </a:prstGeom>
            <a:ln w="25560">
              <a:solidFill>
                <a:srgbClr val="5f5f5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4" name="Text Box 9"/>
            <p:cNvSpPr/>
            <p:nvPr/>
          </p:nvSpPr>
          <p:spPr>
            <a:xfrm>
              <a:off x="3432240" y="210024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f5f5f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5" name="Text Box 10"/>
            <p:cNvSpPr/>
            <p:nvPr/>
          </p:nvSpPr>
          <p:spPr>
            <a:xfrm>
              <a:off x="2027520" y="2122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656" name="Group 11"/>
          <p:cNvGrpSpPr/>
          <p:nvPr/>
        </p:nvGrpSpPr>
        <p:grpSpPr>
          <a:xfrm>
            <a:off x="1828800" y="2938320"/>
            <a:ext cx="5410080" cy="665280"/>
            <a:chOff x="1828800" y="2938320"/>
            <a:chExt cx="5410080" cy="665280"/>
          </a:xfrm>
        </p:grpSpPr>
        <p:grpSp>
          <p:nvGrpSpPr>
            <p:cNvPr id="657" name="Group 12"/>
            <p:cNvGrpSpPr/>
            <p:nvPr/>
          </p:nvGrpSpPr>
          <p:grpSpPr>
            <a:xfrm>
              <a:off x="1828800" y="2938320"/>
              <a:ext cx="762120" cy="665280"/>
              <a:chOff x="1828800" y="2938320"/>
              <a:chExt cx="762120" cy="665280"/>
            </a:xfrm>
          </p:grpSpPr>
          <p:sp>
            <p:nvSpPr>
              <p:cNvPr id="658" name="AutoShape 13"/>
              <p:cNvSpPr/>
              <p:nvPr/>
            </p:nvSpPr>
            <p:spPr>
              <a:xfrm>
                <a:off x="1834920" y="29494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59" name="AutoShape 14"/>
              <p:cNvSpPr/>
              <p:nvPr/>
            </p:nvSpPr>
            <p:spPr>
              <a:xfrm>
                <a:off x="1828800" y="29383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60" name="AutoShape 15"/>
              <p:cNvSpPr/>
              <p:nvPr/>
            </p:nvSpPr>
            <p:spPr>
              <a:xfrm>
                <a:off x="1873080" y="297756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044360"/>
                  </a:gs>
                  <a:gs pos="100000">
                    <a:srgbClr val="0890d0"/>
                  </a:gs>
                </a:gsLst>
                <a:lin ang="2700000"/>
              </a:gradFill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661" name="Line 16"/>
            <p:cNvSpPr/>
            <p:nvPr/>
          </p:nvSpPr>
          <p:spPr>
            <a:xfrm>
              <a:off x="2438280" y="3547800"/>
              <a:ext cx="4800600" cy="0"/>
            </a:xfrm>
            <a:prstGeom prst="line">
              <a:avLst/>
            </a:prstGeom>
            <a:ln w="25560">
              <a:solidFill>
                <a:srgbClr val="5f5f5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2" name="Text Box 17"/>
            <p:cNvSpPr/>
            <p:nvPr/>
          </p:nvSpPr>
          <p:spPr>
            <a:xfrm>
              <a:off x="3432240" y="301464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f5f5f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3" name="Text Box 18"/>
            <p:cNvSpPr/>
            <p:nvPr/>
          </p:nvSpPr>
          <p:spPr>
            <a:xfrm>
              <a:off x="2027520" y="3036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664" name="Group 19"/>
          <p:cNvGrpSpPr/>
          <p:nvPr/>
        </p:nvGrpSpPr>
        <p:grpSpPr>
          <a:xfrm>
            <a:off x="1828800" y="3830760"/>
            <a:ext cx="5410080" cy="664920"/>
            <a:chOff x="1828800" y="3830760"/>
            <a:chExt cx="5410080" cy="664920"/>
          </a:xfrm>
        </p:grpSpPr>
        <p:grpSp>
          <p:nvGrpSpPr>
            <p:cNvPr id="665" name="Group 20"/>
            <p:cNvGrpSpPr/>
            <p:nvPr/>
          </p:nvGrpSpPr>
          <p:grpSpPr>
            <a:xfrm>
              <a:off x="1828800" y="3830760"/>
              <a:ext cx="762120" cy="664920"/>
              <a:chOff x="1828800" y="3830760"/>
              <a:chExt cx="762120" cy="664920"/>
            </a:xfrm>
          </p:grpSpPr>
          <p:sp>
            <p:nvSpPr>
              <p:cNvPr id="666" name="AutoShape 21"/>
              <p:cNvSpPr/>
              <p:nvPr/>
            </p:nvSpPr>
            <p:spPr>
              <a:xfrm>
                <a:off x="1834920" y="384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67" name="AutoShape 22"/>
              <p:cNvSpPr/>
              <p:nvPr/>
            </p:nvSpPr>
            <p:spPr>
              <a:xfrm>
                <a:off x="1828800" y="383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68" name="AutoShape 23"/>
              <p:cNvSpPr/>
              <p:nvPr/>
            </p:nvSpPr>
            <p:spPr>
              <a:xfrm>
                <a:off x="1873080" y="387000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00516f"/>
                  </a:gs>
                  <a:gs pos="100000">
                    <a:srgbClr val="00b0f0"/>
                  </a:gs>
                </a:gsLst>
                <a:lin ang="2700000"/>
              </a:gradFill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669" name="Line 24"/>
            <p:cNvSpPr/>
            <p:nvPr/>
          </p:nvSpPr>
          <p:spPr>
            <a:xfrm>
              <a:off x="2438280" y="4439880"/>
              <a:ext cx="4800600" cy="0"/>
            </a:xfrm>
            <a:prstGeom prst="line">
              <a:avLst/>
            </a:prstGeom>
            <a:ln w="25560">
              <a:solidFill>
                <a:srgbClr val="5f5f5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0" name="Text Box 25"/>
            <p:cNvSpPr/>
            <p:nvPr/>
          </p:nvSpPr>
          <p:spPr>
            <a:xfrm>
              <a:off x="3432240" y="39067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f5f5f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1" name="Text Box 26"/>
            <p:cNvSpPr/>
            <p:nvPr/>
          </p:nvSpPr>
          <p:spPr>
            <a:xfrm>
              <a:off x="2027520" y="3928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672" name="Group 27"/>
          <p:cNvGrpSpPr/>
          <p:nvPr/>
        </p:nvGrpSpPr>
        <p:grpSpPr>
          <a:xfrm>
            <a:off x="1828800" y="4745160"/>
            <a:ext cx="5410080" cy="664920"/>
            <a:chOff x="1828800" y="4745160"/>
            <a:chExt cx="5410080" cy="664920"/>
          </a:xfrm>
        </p:grpSpPr>
        <p:grpSp>
          <p:nvGrpSpPr>
            <p:cNvPr id="673" name="Group 28"/>
            <p:cNvGrpSpPr/>
            <p:nvPr/>
          </p:nvGrpSpPr>
          <p:grpSpPr>
            <a:xfrm>
              <a:off x="1828800" y="4745160"/>
              <a:ext cx="762120" cy="664920"/>
              <a:chOff x="1828800" y="4745160"/>
              <a:chExt cx="762120" cy="664920"/>
            </a:xfrm>
          </p:grpSpPr>
          <p:sp>
            <p:nvSpPr>
              <p:cNvPr id="674" name="AutoShape 29"/>
              <p:cNvSpPr/>
              <p:nvPr/>
            </p:nvSpPr>
            <p:spPr>
              <a:xfrm>
                <a:off x="1834920" y="47563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75" name="AutoShape 30"/>
              <p:cNvSpPr/>
              <p:nvPr/>
            </p:nvSpPr>
            <p:spPr>
              <a:xfrm>
                <a:off x="1828800" y="47451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76" name="AutoShape 31"/>
              <p:cNvSpPr/>
              <p:nvPr/>
            </p:nvSpPr>
            <p:spPr>
              <a:xfrm>
                <a:off x="1873080" y="478440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044360"/>
                  </a:gs>
                  <a:gs pos="100000">
                    <a:srgbClr val="0890d0"/>
                  </a:gs>
                </a:gsLst>
                <a:lin ang="2700000"/>
              </a:gradFill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677" name="Line 32"/>
            <p:cNvSpPr/>
            <p:nvPr/>
          </p:nvSpPr>
          <p:spPr>
            <a:xfrm>
              <a:off x="2438280" y="5354280"/>
              <a:ext cx="4800600" cy="0"/>
            </a:xfrm>
            <a:prstGeom prst="line">
              <a:avLst/>
            </a:prstGeom>
            <a:ln w="25560">
              <a:solidFill>
                <a:srgbClr val="5f5f5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8" name="Text Box 33"/>
            <p:cNvSpPr/>
            <p:nvPr/>
          </p:nvSpPr>
          <p:spPr>
            <a:xfrm>
              <a:off x="3432240" y="48211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f5f5f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9" name="Text Box 34"/>
            <p:cNvSpPr/>
            <p:nvPr/>
          </p:nvSpPr>
          <p:spPr>
            <a:xfrm>
              <a:off x="2027520" y="4843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680" name="Text Box 35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890d0"/>
              </a:solidFill>
              <a:latin typeface="微软雅黑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714240" y="1434960"/>
            <a:ext cx="74757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890d0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90d0"/>
                </a:solidFill>
                <a:latin typeface="微软雅黑"/>
              </a:rPr>
              <a:t> </a:t>
            </a:r>
            <a:r>
              <a:rPr b="1" lang="en-US" sz="3200" spc="-1" strike="noStrike">
                <a:solidFill>
                  <a:srgbClr val="0890d0"/>
                </a:solidFill>
                <a:latin typeface="微软雅黑"/>
              </a:rPr>
              <a:t>Cycle Diagram</a:t>
            </a: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grpSp>
        <p:nvGrpSpPr>
          <p:cNvPr id="684" name="Group 3"/>
          <p:cNvGrpSpPr/>
          <p:nvPr/>
        </p:nvGrpSpPr>
        <p:grpSpPr>
          <a:xfrm>
            <a:off x="762120" y="1722240"/>
            <a:ext cx="6956640" cy="4583520"/>
            <a:chOff x="762120" y="1722240"/>
            <a:chExt cx="6956640" cy="4583520"/>
          </a:xfrm>
        </p:grpSpPr>
        <p:sp>
          <p:nvSpPr>
            <p:cNvPr id="685" name="未知"/>
            <p:cNvSpPr/>
            <p:nvPr/>
          </p:nvSpPr>
          <p:spPr>
            <a:xfrm rot="20241600">
              <a:off x="139212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36078"/>
                  </a:srgbClr>
                </a:gs>
                <a:gs pos="100000">
                  <a:srgbClr val="ffffff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6" name="Oval 5"/>
            <p:cNvSpPr/>
            <p:nvPr/>
          </p:nvSpPr>
          <p:spPr>
            <a:xfrm>
              <a:off x="382140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00b0f0"/>
                </a:gs>
                <a:gs pos="100000">
                  <a:srgbClr val="003d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7" name="Oval 6"/>
            <p:cNvSpPr/>
            <p:nvPr/>
          </p:nvSpPr>
          <p:spPr>
            <a:xfrm>
              <a:off x="1586160" y="3375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0890d0"/>
                </a:gs>
                <a:gs pos="100000">
                  <a:srgbClr val="032d4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8" name="Oval 7"/>
            <p:cNvSpPr/>
            <p:nvPr/>
          </p:nvSpPr>
          <p:spPr>
            <a:xfrm>
              <a:off x="2370240" y="4842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2d9c9f"/>
                </a:gs>
                <a:gs pos="100000">
                  <a:srgbClr val="10383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9" name="Oval 8"/>
            <p:cNvSpPr/>
            <p:nvPr/>
          </p:nvSpPr>
          <p:spPr>
            <a:xfrm>
              <a:off x="4838760" y="429732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b5b5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0" name="Oval 9"/>
            <p:cNvSpPr/>
            <p:nvPr/>
          </p:nvSpPr>
          <p:spPr>
            <a:xfrm>
              <a:off x="646452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afb2b4"/>
                </a:gs>
                <a:gs pos="100000">
                  <a:srgbClr val="3c3d3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1" name="Text Box 10"/>
            <p:cNvSpPr/>
            <p:nvPr/>
          </p:nvSpPr>
          <p:spPr>
            <a:xfrm>
              <a:off x="1766160" y="37418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2" name="Text Box 11"/>
            <p:cNvSpPr/>
            <p:nvPr/>
          </p:nvSpPr>
          <p:spPr>
            <a:xfrm>
              <a:off x="4069800" y="2424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3" name="Text Box 12"/>
            <p:cNvSpPr/>
            <p:nvPr/>
          </p:nvSpPr>
          <p:spPr>
            <a:xfrm>
              <a:off x="6679440" y="2664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4" name="Text Box 13"/>
            <p:cNvSpPr/>
            <p:nvPr/>
          </p:nvSpPr>
          <p:spPr>
            <a:xfrm>
              <a:off x="5087160" y="4664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5" name="Text Box 14"/>
            <p:cNvSpPr/>
            <p:nvPr/>
          </p:nvSpPr>
          <p:spPr>
            <a:xfrm>
              <a:off x="2577600" y="5202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6" name="Text Box 15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  <a:ea typeface="宋体"/>
                </a:rPr>
                <a:t>Cycle name</a:t>
              </a:r>
              <a:endParaRPr b="0" lang="en-US" sz="2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7" name="Line 16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cxnSp>
          <p:nvCxnSpPr>
            <p:cNvPr id="698" name="AutoShape 17"/>
            <p:cNvCxnSpPr/>
            <p:nvPr/>
          </p:nvCxnSpPr>
          <p:spPr>
            <a:xfrm flipH="1">
              <a:off x="887040" y="2452320"/>
              <a:ext cx="1726560" cy="1080"/>
            </a:xfrm>
            <a:prstGeom prst="straightConnector1">
              <a:avLst/>
            </a:prstGeom>
            <a:ln w="9360">
              <a:solidFill>
                <a:srgbClr val="5f5f5f"/>
              </a:solidFill>
              <a:miter/>
            </a:ln>
          </p:spPr>
        </p:cxnSp>
        <p:sp>
          <p:nvSpPr>
            <p:cNvPr id="699" name="Text Box 18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90d0"/>
                </a:solidFill>
                <a:latin typeface="微软雅黑"/>
              </a:rPr>
              <a:t>Diagram</a:t>
            </a: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grpSp>
        <p:nvGrpSpPr>
          <p:cNvPr id="701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702" name="AutoShape 4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15253"/>
                </a:gs>
                <a:gs pos="50000">
                  <a:srgbClr val="afb2b4"/>
                </a:gs>
                <a:gs pos="100000">
                  <a:srgbClr val="51525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3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15253"/>
                </a:gs>
                <a:gs pos="50000">
                  <a:srgbClr val="afb2b4"/>
                </a:gs>
                <a:gs pos="100000">
                  <a:srgbClr val="51525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4" name="AutoShape 6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15253"/>
                </a:gs>
                <a:gs pos="50000">
                  <a:srgbClr val="afb2b4"/>
                </a:gs>
                <a:gs pos="100000">
                  <a:srgbClr val="51525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5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6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7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8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9" name="AutoShape 11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10" name="Text Box 12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11" name="AutoShape 13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12" name="Text Box 14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13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767676">
                    <a:alpha val="12156"/>
                  </a:srgbClr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14" name="AutoShape 16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044360"/>
                </a:gs>
                <a:gs pos="50000">
                  <a:srgbClr val="0890d0"/>
                </a:gs>
                <a:gs pos="100000">
                  <a:srgbClr val="04436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15" name="AutoShape 17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16" name="Text Box 18"/>
            <p:cNvSpPr/>
            <p:nvPr/>
          </p:nvSpPr>
          <p:spPr>
            <a:xfrm>
              <a:off x="4201200" y="19634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17" name="AutoShape 19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00516f"/>
                </a:gs>
                <a:gs pos="50000">
                  <a:srgbClr val="00b0f0"/>
                </a:gs>
                <a:gs pos="100000">
                  <a:srgbClr val="00516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18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19" name="AutoShape 21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ffffff">
                    <a:alpha val="12156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90d0"/>
                </a:solidFill>
                <a:latin typeface="微软雅黑"/>
              </a:rPr>
              <a:t>Diagram</a:t>
            </a: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grpSp>
        <p:nvGrpSpPr>
          <p:cNvPr id="721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722" name="Group 4"/>
            <p:cNvGrpSpPr/>
            <p:nvPr/>
          </p:nvGrpSpPr>
          <p:grpSpPr>
            <a:xfrm>
              <a:off x="3008520" y="2209680"/>
              <a:ext cx="2900880" cy="2706120"/>
              <a:chOff x="3008520" y="2209680"/>
              <a:chExt cx="2900880" cy="2706120"/>
            </a:xfrm>
          </p:grpSpPr>
          <p:sp>
            <p:nvSpPr>
              <p:cNvPr id="723" name="AutoShape 5"/>
              <p:cNvSpPr/>
              <p:nvPr/>
            </p:nvSpPr>
            <p:spPr>
              <a:xfrm flipH="1" rot="16200000">
                <a:off x="2927160" y="3253680"/>
                <a:ext cx="459000" cy="297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5f5f5f"/>
                  </a:gs>
                  <a:gs pos="100000">
                    <a:srgbClr val="c0c0c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24" name="AutoShape 6"/>
              <p:cNvSpPr/>
              <p:nvPr/>
            </p:nvSpPr>
            <p:spPr>
              <a:xfrm flipH="1" rot="5400000">
                <a:off x="5531040" y="3202560"/>
                <a:ext cx="459000" cy="29736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5f5f5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25" name="AutoShape 7"/>
              <p:cNvSpPr/>
              <p:nvPr/>
            </p:nvSpPr>
            <p:spPr>
              <a:xfrm flipH="1" rot="10800000">
                <a:off x="4238640" y="4609800"/>
                <a:ext cx="444600" cy="306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5f5f5f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26" name="Oval 8"/>
              <p:cNvSpPr/>
              <p:nvPr/>
            </p:nvSpPr>
            <p:spPr>
              <a:xfrm>
                <a:off x="3306240" y="2209680"/>
                <a:ext cx="233028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27" name="Oval 9"/>
              <p:cNvSpPr/>
              <p:nvPr/>
            </p:nvSpPr>
            <p:spPr>
              <a:xfrm>
                <a:off x="3439080" y="2344680"/>
                <a:ext cx="206316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28" name="Oval 10"/>
              <p:cNvSpPr/>
              <p:nvPr/>
            </p:nvSpPr>
            <p:spPr>
              <a:xfrm>
                <a:off x="3560400" y="2471040"/>
                <a:ext cx="1820880" cy="1878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00b0f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29" name="Oval 11"/>
              <p:cNvSpPr/>
              <p:nvPr/>
            </p:nvSpPr>
            <p:spPr>
              <a:xfrm>
                <a:off x="3560400" y="2471040"/>
                <a:ext cx="1820880" cy="18784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30" name="Oval 12"/>
              <p:cNvSpPr/>
              <p:nvPr/>
            </p:nvSpPr>
            <p:spPr>
              <a:xfrm>
                <a:off x="3680280" y="2594520"/>
                <a:ext cx="1581480" cy="1631880"/>
              </a:xfrm>
              <a:prstGeom prst="ellipse">
                <a:avLst/>
              </a:prstGeom>
              <a:gradFill rotWithShape="0">
                <a:gsLst>
                  <a:gs pos="0">
                    <a:srgbClr val="005f82"/>
                  </a:gs>
                  <a:gs pos="50000">
                    <a:srgbClr val="00b0f0"/>
                  </a:gs>
                  <a:gs pos="100000">
                    <a:srgbClr val="005f8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31" name="Oval 13"/>
              <p:cNvSpPr/>
              <p:nvPr/>
            </p:nvSpPr>
            <p:spPr>
              <a:xfrm>
                <a:off x="3680280" y="2594520"/>
                <a:ext cx="1581480" cy="16318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732" name="AutoShape 14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15253"/>
                </a:gs>
                <a:gs pos="50000">
                  <a:srgbClr val="afb2b4"/>
                </a:gs>
                <a:gs pos="100000">
                  <a:srgbClr val="51525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3" name="AutoShape 15"/>
            <p:cNvSpPr/>
            <p:nvPr/>
          </p:nvSpPr>
          <p:spPr>
            <a:xfrm>
              <a:off x="1143000" y="3208320"/>
              <a:ext cx="165888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15253"/>
                </a:gs>
                <a:gs pos="50000">
                  <a:srgbClr val="afb2b4"/>
                </a:gs>
                <a:gs pos="100000">
                  <a:srgbClr val="51525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4" name="AutoShape 16"/>
            <p:cNvSpPr/>
            <p:nvPr/>
          </p:nvSpPr>
          <p:spPr>
            <a:xfrm>
              <a:off x="1143000" y="270900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15253"/>
                </a:gs>
                <a:gs pos="50000">
                  <a:srgbClr val="afb2b4"/>
                </a:gs>
                <a:gs pos="100000">
                  <a:srgbClr val="51525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5" name="AutoShape 17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44360"/>
                </a:gs>
                <a:gs pos="50000">
                  <a:srgbClr val="0890d0"/>
                </a:gs>
                <a:gs pos="100000">
                  <a:srgbClr val="04436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6" name="AutoShape 18"/>
            <p:cNvSpPr/>
            <p:nvPr/>
          </p:nvSpPr>
          <p:spPr>
            <a:xfrm>
              <a:off x="6120360" y="3208320"/>
              <a:ext cx="172836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44360"/>
                </a:gs>
                <a:gs pos="50000">
                  <a:srgbClr val="0890d0"/>
                </a:gs>
                <a:gs pos="100000">
                  <a:srgbClr val="04436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7" name="AutoShape 19"/>
            <p:cNvSpPr/>
            <p:nvPr/>
          </p:nvSpPr>
          <p:spPr>
            <a:xfrm>
              <a:off x="6120360" y="270900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44360"/>
                </a:gs>
                <a:gs pos="50000">
                  <a:srgbClr val="0890d0"/>
                </a:gs>
                <a:gs pos="100000">
                  <a:srgbClr val="04436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8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9" name="AutoShape 21"/>
            <p:cNvSpPr/>
            <p:nvPr/>
          </p:nvSpPr>
          <p:spPr>
            <a:xfrm>
              <a:off x="2702520" y="5063400"/>
              <a:ext cx="3525480" cy="498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40" name="Text Box 22"/>
            <p:cNvSpPr/>
            <p:nvPr/>
          </p:nvSpPr>
          <p:spPr>
            <a:xfrm>
              <a:off x="158832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41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42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43" name="Text Box 25"/>
            <p:cNvSpPr/>
            <p:nvPr/>
          </p:nvSpPr>
          <p:spPr>
            <a:xfrm>
              <a:off x="668520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44" name="Text Box 26"/>
            <p:cNvSpPr/>
            <p:nvPr/>
          </p:nvSpPr>
          <p:spPr>
            <a:xfrm>
              <a:off x="668520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45" name="Text Box 27"/>
            <p:cNvSpPr/>
            <p:nvPr/>
          </p:nvSpPr>
          <p:spPr>
            <a:xfrm>
              <a:off x="668520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890d0"/>
                </a:solidFill>
                <a:latin typeface="微软雅黑"/>
              </a:rPr>
              <a:t>Diagram</a:t>
            </a:r>
            <a:endParaRPr b="1" lang="en-US" sz="4000" spc="-1" strike="noStrike">
              <a:solidFill>
                <a:srgbClr val="0890d0"/>
              </a:solidFill>
              <a:latin typeface="微软雅黑"/>
            </a:endParaRPr>
          </a:p>
        </p:txBody>
      </p:sp>
      <p:grpSp>
        <p:nvGrpSpPr>
          <p:cNvPr id="747" name="Group 3"/>
          <p:cNvGrpSpPr/>
          <p:nvPr/>
        </p:nvGrpSpPr>
        <p:grpSpPr>
          <a:xfrm>
            <a:off x="872640" y="2276640"/>
            <a:ext cx="7544160" cy="3352680"/>
            <a:chOff x="872640" y="2276640"/>
            <a:chExt cx="7544160" cy="3352680"/>
          </a:xfrm>
        </p:grpSpPr>
        <p:sp>
          <p:nvSpPr>
            <p:cNvPr id="748" name="Line 4"/>
            <p:cNvSpPr/>
            <p:nvPr/>
          </p:nvSpPr>
          <p:spPr>
            <a:xfrm flipH="1">
              <a:off x="873000" y="5621400"/>
              <a:ext cx="1657440" cy="180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49" name="Line 5"/>
            <p:cNvSpPr/>
            <p:nvPr/>
          </p:nvSpPr>
          <p:spPr>
            <a:xfrm flipH="1">
              <a:off x="872640" y="4783320"/>
              <a:ext cx="2438280" cy="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0" name="Line 6"/>
            <p:cNvSpPr/>
            <p:nvPr/>
          </p:nvSpPr>
          <p:spPr>
            <a:xfrm flipH="1">
              <a:off x="872640" y="3953160"/>
              <a:ext cx="3352680" cy="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1" name="Line 7"/>
            <p:cNvSpPr/>
            <p:nvPr/>
          </p:nvSpPr>
          <p:spPr>
            <a:xfrm flipH="1">
              <a:off x="872640" y="3124440"/>
              <a:ext cx="4165560" cy="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2" name="Line 8"/>
            <p:cNvSpPr/>
            <p:nvPr/>
          </p:nvSpPr>
          <p:spPr>
            <a:xfrm flipH="1">
              <a:off x="872640" y="2283120"/>
              <a:ext cx="5033880" cy="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3" name="Line 9"/>
            <p:cNvSpPr/>
            <p:nvPr/>
          </p:nvSpPr>
          <p:spPr>
            <a:xfrm>
              <a:off x="1025280" y="2276640"/>
              <a:ext cx="0" cy="871560"/>
            </a:xfrm>
            <a:prstGeom prst="line">
              <a:avLst/>
            </a:prstGeom>
            <a:ln w="9360">
              <a:solidFill>
                <a:srgbClr val="5f5f5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4" name="Line 10"/>
            <p:cNvSpPr/>
            <p:nvPr/>
          </p:nvSpPr>
          <p:spPr>
            <a:xfrm>
              <a:off x="1025280" y="3148200"/>
              <a:ext cx="0" cy="817560"/>
            </a:xfrm>
            <a:prstGeom prst="line">
              <a:avLst/>
            </a:prstGeom>
            <a:ln w="9360">
              <a:solidFill>
                <a:srgbClr val="5f5f5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5" name="Line 11"/>
            <p:cNvSpPr/>
            <p:nvPr/>
          </p:nvSpPr>
          <p:spPr>
            <a:xfrm>
              <a:off x="1025280" y="3965760"/>
              <a:ext cx="0" cy="816120"/>
            </a:xfrm>
            <a:prstGeom prst="line">
              <a:avLst/>
            </a:prstGeom>
            <a:ln w="9360">
              <a:solidFill>
                <a:srgbClr val="5f5f5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6" name="Line 12"/>
            <p:cNvSpPr/>
            <p:nvPr/>
          </p:nvSpPr>
          <p:spPr>
            <a:xfrm>
              <a:off x="1025280" y="4783320"/>
              <a:ext cx="0" cy="816120"/>
            </a:xfrm>
            <a:prstGeom prst="line">
              <a:avLst/>
            </a:prstGeom>
            <a:ln w="9360">
              <a:solidFill>
                <a:srgbClr val="5f5f5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7" name="Text Box 13"/>
            <p:cNvSpPr/>
            <p:nvPr/>
          </p:nvSpPr>
          <p:spPr>
            <a:xfrm>
              <a:off x="1224720" y="26006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8" name="Text Box 14"/>
            <p:cNvSpPr/>
            <p:nvPr/>
          </p:nvSpPr>
          <p:spPr>
            <a:xfrm>
              <a:off x="1224720" y="34275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9" name="Text Box 15"/>
            <p:cNvSpPr/>
            <p:nvPr/>
          </p:nvSpPr>
          <p:spPr>
            <a:xfrm>
              <a:off x="1224720" y="4291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60" name="Text Box 16"/>
            <p:cNvSpPr/>
            <p:nvPr/>
          </p:nvSpPr>
          <p:spPr>
            <a:xfrm>
              <a:off x="1224720" y="5097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761" name="Group 17"/>
            <p:cNvGrpSpPr/>
            <p:nvPr/>
          </p:nvGrpSpPr>
          <p:grpSpPr>
            <a:xfrm>
              <a:off x="2590560" y="2286000"/>
              <a:ext cx="5826240" cy="3343320"/>
              <a:chOff x="2590560" y="2286000"/>
              <a:chExt cx="5826240" cy="3343320"/>
            </a:xfrm>
          </p:grpSpPr>
          <p:sp>
            <p:nvSpPr>
              <p:cNvPr id="762" name="未知"/>
              <p:cNvSpPr/>
              <p:nvPr/>
            </p:nvSpPr>
            <p:spPr>
              <a:xfrm>
                <a:off x="7833960" y="2286000"/>
                <a:ext cx="576360" cy="84600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0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5484a"/>
                  </a:gs>
                  <a:gs pos="50000">
                    <a:srgbClr val="2d9c9f"/>
                  </a:gs>
                  <a:gs pos="100000">
                    <a:srgbClr val="15484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63" name="未知"/>
              <p:cNvSpPr/>
              <p:nvPr/>
            </p:nvSpPr>
            <p:spPr>
              <a:xfrm>
                <a:off x="5073480" y="2286000"/>
                <a:ext cx="3343320" cy="541440"/>
              </a:xfrm>
              <a:custGeom>
                <a:avLst/>
                <a:gdLst/>
                <a:ahLst/>
                <a:rect l="l" t="t" r="r" b="b"/>
                <a:pathLst>
                  <a:path w="1786" h="284">
                    <a:moveTo>
                      <a:pt x="1478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786" y="0"/>
                    </a:lnTo>
                    <a:lnTo>
                      <a:pt x="1478" y="284"/>
                    </a:lnTo>
                    <a:close/>
                  </a:path>
                </a:pathLst>
              </a:custGeom>
              <a:solidFill>
                <a:srgbClr val="2d9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64" name="未知"/>
              <p:cNvSpPr/>
              <p:nvPr/>
            </p:nvSpPr>
            <p:spPr>
              <a:xfrm>
                <a:off x="7254720" y="3117960"/>
                <a:ext cx="576000" cy="841320"/>
              </a:xfrm>
              <a:custGeom>
                <a:avLst/>
                <a:gdLst/>
                <a:ahLst/>
                <a:rect l="l" t="t" r="r" b="b"/>
                <a:pathLst>
                  <a:path w="308" h="442">
                    <a:moveTo>
                      <a:pt x="308" y="120"/>
                    </a:moveTo>
                    <a:lnTo>
                      <a:pt x="0" y="442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16f"/>
                  </a:gs>
                  <a:gs pos="50000">
                    <a:srgbClr val="00b0f0"/>
                  </a:gs>
                  <a:gs pos="100000">
                    <a:srgbClr val="00516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65" name="未知"/>
              <p:cNvSpPr/>
              <p:nvPr/>
            </p:nvSpPr>
            <p:spPr>
              <a:xfrm>
                <a:off x="4243320" y="3117960"/>
                <a:ext cx="3593880" cy="539640"/>
              </a:xfrm>
              <a:custGeom>
                <a:avLst/>
                <a:gdLst/>
                <a:ahLst/>
                <a:rect l="l" t="t" r="r" b="b"/>
                <a:pathLst>
                  <a:path w="1920" h="284">
                    <a:moveTo>
                      <a:pt x="161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920" y="0"/>
                    </a:lnTo>
                    <a:lnTo>
                      <a:pt x="1612" y="284"/>
                    </a:lnTo>
                    <a:close/>
                  </a:path>
                </a:pathLst>
              </a:cu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66" name="未知"/>
              <p:cNvSpPr/>
              <p:nvPr/>
            </p:nvSpPr>
            <p:spPr>
              <a:xfrm>
                <a:off x="6673680" y="3949560"/>
                <a:ext cx="573120" cy="844560"/>
              </a:xfrm>
              <a:custGeom>
                <a:avLst/>
                <a:gdLst/>
                <a:ahLst/>
                <a:rect l="l" t="t" r="r" b="b"/>
                <a:pathLst>
                  <a:path w="306" h="444">
                    <a:moveTo>
                      <a:pt x="306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6" y="0"/>
                    </a:lnTo>
                    <a:lnTo>
                      <a:pt x="306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15253"/>
                  </a:gs>
                  <a:gs pos="50000">
                    <a:srgbClr val="afb2b4"/>
                  </a:gs>
                  <a:gs pos="100000">
                    <a:srgbClr val="51525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67" name="未知"/>
              <p:cNvSpPr/>
              <p:nvPr/>
            </p:nvSpPr>
            <p:spPr>
              <a:xfrm>
                <a:off x="6095880" y="4782960"/>
                <a:ext cx="577800" cy="84636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44360"/>
                  </a:gs>
                  <a:gs pos="50000">
                    <a:srgbClr val="0890d0"/>
                  </a:gs>
                  <a:gs pos="100000">
                    <a:srgbClr val="04436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68" name="未知"/>
              <p:cNvSpPr/>
              <p:nvPr/>
            </p:nvSpPr>
            <p:spPr>
              <a:xfrm>
                <a:off x="2592000" y="4788000"/>
                <a:ext cx="4081680" cy="539640"/>
              </a:xfrm>
              <a:custGeom>
                <a:avLst/>
                <a:gdLst/>
                <a:ahLst/>
                <a:rect l="l" t="t" r="r" b="b"/>
                <a:pathLst>
                  <a:path w="2180" h="284">
                    <a:moveTo>
                      <a:pt x="187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2180" y="0"/>
                    </a:lnTo>
                    <a:lnTo>
                      <a:pt x="1872" y="284"/>
                    </a:lnTo>
                    <a:close/>
                  </a:path>
                </a:pathLst>
              </a:custGeom>
              <a:solidFill>
                <a:srgbClr val="089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69" name="未知"/>
              <p:cNvSpPr/>
              <p:nvPr/>
            </p:nvSpPr>
            <p:spPr>
              <a:xfrm>
                <a:off x="3184200" y="2440080"/>
                <a:ext cx="1838520" cy="2722320"/>
              </a:xfrm>
              <a:custGeom>
                <a:avLst/>
                <a:gdLst/>
                <a:ahLst/>
                <a:rect l="l" t="t" r="r" b="b"/>
                <a:pathLst>
                  <a:path w="1824" h="2648">
                    <a:moveTo>
                      <a:pt x="0" y="2648"/>
                    </a:moveTo>
                    <a:lnTo>
                      <a:pt x="12" y="2464"/>
                    </a:lnTo>
                    <a:lnTo>
                      <a:pt x="32" y="2288"/>
                    </a:lnTo>
                    <a:lnTo>
                      <a:pt x="56" y="2120"/>
                    </a:lnTo>
                    <a:lnTo>
                      <a:pt x="88" y="1960"/>
                    </a:lnTo>
                    <a:lnTo>
                      <a:pt x="124" y="1808"/>
                    </a:lnTo>
                    <a:lnTo>
                      <a:pt x="166" y="1662"/>
                    </a:lnTo>
                    <a:lnTo>
                      <a:pt x="212" y="1524"/>
                    </a:lnTo>
                    <a:lnTo>
                      <a:pt x="262" y="1394"/>
                    </a:lnTo>
                    <a:lnTo>
                      <a:pt x="316" y="1270"/>
                    </a:lnTo>
                    <a:lnTo>
                      <a:pt x="372" y="1154"/>
                    </a:lnTo>
                    <a:lnTo>
                      <a:pt x="430" y="1044"/>
                    </a:lnTo>
                    <a:lnTo>
                      <a:pt x="490" y="942"/>
                    </a:lnTo>
                    <a:lnTo>
                      <a:pt x="550" y="846"/>
                    </a:lnTo>
                    <a:lnTo>
                      <a:pt x="612" y="758"/>
                    </a:lnTo>
                    <a:lnTo>
                      <a:pt x="672" y="674"/>
                    </a:lnTo>
                    <a:lnTo>
                      <a:pt x="734" y="598"/>
                    </a:lnTo>
                    <a:lnTo>
                      <a:pt x="792" y="528"/>
                    </a:lnTo>
                    <a:lnTo>
                      <a:pt x="850" y="464"/>
                    </a:lnTo>
                    <a:lnTo>
                      <a:pt x="906" y="408"/>
                    </a:lnTo>
                    <a:lnTo>
                      <a:pt x="960" y="356"/>
                    </a:lnTo>
                    <a:lnTo>
                      <a:pt x="1010" y="310"/>
                    </a:lnTo>
                    <a:lnTo>
                      <a:pt x="1056" y="270"/>
                    </a:lnTo>
                    <a:lnTo>
                      <a:pt x="1096" y="236"/>
                    </a:lnTo>
                    <a:lnTo>
                      <a:pt x="1134" y="208"/>
                    </a:lnTo>
                    <a:lnTo>
                      <a:pt x="1164" y="184"/>
                    </a:lnTo>
                    <a:lnTo>
                      <a:pt x="1190" y="166"/>
                    </a:lnTo>
                    <a:lnTo>
                      <a:pt x="1208" y="154"/>
                    </a:lnTo>
                    <a:lnTo>
                      <a:pt x="1220" y="146"/>
                    </a:lnTo>
                    <a:lnTo>
                      <a:pt x="1224" y="144"/>
                    </a:lnTo>
                    <a:lnTo>
                      <a:pt x="848" y="0"/>
                    </a:lnTo>
                    <a:lnTo>
                      <a:pt x="1728" y="56"/>
                    </a:lnTo>
                    <a:lnTo>
                      <a:pt x="1824" y="480"/>
                    </a:lnTo>
                    <a:lnTo>
                      <a:pt x="1568" y="328"/>
                    </a:lnTo>
                    <a:lnTo>
                      <a:pt x="1564" y="328"/>
                    </a:lnTo>
                    <a:lnTo>
                      <a:pt x="1554" y="332"/>
                    </a:lnTo>
                    <a:lnTo>
                      <a:pt x="1538" y="338"/>
                    </a:lnTo>
                    <a:lnTo>
                      <a:pt x="1514" y="346"/>
                    </a:lnTo>
                    <a:lnTo>
                      <a:pt x="1486" y="356"/>
                    </a:lnTo>
                    <a:lnTo>
                      <a:pt x="1452" y="370"/>
                    </a:lnTo>
                    <a:lnTo>
                      <a:pt x="1412" y="388"/>
                    </a:lnTo>
                    <a:lnTo>
                      <a:pt x="1370" y="410"/>
                    </a:lnTo>
                    <a:lnTo>
                      <a:pt x="1322" y="436"/>
                    </a:lnTo>
                    <a:lnTo>
                      <a:pt x="1270" y="466"/>
                    </a:lnTo>
                    <a:lnTo>
                      <a:pt x="1216" y="500"/>
                    </a:lnTo>
                    <a:lnTo>
                      <a:pt x="1158" y="540"/>
                    </a:lnTo>
                    <a:lnTo>
                      <a:pt x="1098" y="584"/>
                    </a:lnTo>
                    <a:lnTo>
                      <a:pt x="1034" y="636"/>
                    </a:lnTo>
                    <a:lnTo>
                      <a:pt x="970" y="692"/>
                    </a:lnTo>
                    <a:lnTo>
                      <a:pt x="904" y="756"/>
                    </a:lnTo>
                    <a:lnTo>
                      <a:pt x="836" y="824"/>
                    </a:lnTo>
                    <a:lnTo>
                      <a:pt x="770" y="900"/>
                    </a:lnTo>
                    <a:lnTo>
                      <a:pt x="700" y="984"/>
                    </a:lnTo>
                    <a:lnTo>
                      <a:pt x="632" y="1076"/>
                    </a:lnTo>
                    <a:lnTo>
                      <a:pt x="566" y="1174"/>
                    </a:lnTo>
                    <a:lnTo>
                      <a:pt x="498" y="1280"/>
                    </a:lnTo>
                    <a:lnTo>
                      <a:pt x="434" y="1394"/>
                    </a:lnTo>
                    <a:lnTo>
                      <a:pt x="370" y="1518"/>
                    </a:lnTo>
                    <a:lnTo>
                      <a:pt x="308" y="1650"/>
                    </a:lnTo>
                    <a:lnTo>
                      <a:pt x="248" y="1792"/>
                    </a:lnTo>
                    <a:lnTo>
                      <a:pt x="192" y="1944"/>
                    </a:lnTo>
                    <a:lnTo>
                      <a:pt x="138" y="2104"/>
                    </a:lnTo>
                    <a:lnTo>
                      <a:pt x="88" y="2274"/>
                    </a:lnTo>
                    <a:lnTo>
                      <a:pt x="42" y="2456"/>
                    </a:lnTo>
                    <a:lnTo>
                      <a:pt x="0" y="26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1364"/>
                  </a:gs>
                  <a:gs pos="100000">
                    <a:srgbClr val="6109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70" name="Rectangle 26"/>
              <p:cNvSpPr/>
              <p:nvPr/>
            </p:nvSpPr>
            <p:spPr>
              <a:xfrm>
                <a:off x="5079600" y="2827440"/>
                <a:ext cx="2767320" cy="304560"/>
              </a:xfrm>
              <a:prstGeom prst="rect">
                <a:avLst/>
              </a:prstGeom>
              <a:gradFill rotWithShape="0">
                <a:gsLst>
                  <a:gs pos="0">
                    <a:srgbClr val="217173"/>
                  </a:gs>
                  <a:gs pos="50000">
                    <a:srgbClr val="2d9c9f"/>
                  </a:gs>
                  <a:gs pos="100000">
                    <a:srgbClr val="21717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71" name="Rectangle 27"/>
              <p:cNvSpPr/>
              <p:nvPr/>
            </p:nvSpPr>
            <p:spPr>
              <a:xfrm>
                <a:off x="4244760" y="3657600"/>
                <a:ext cx="3016080" cy="298440"/>
              </a:xfrm>
              <a:prstGeom prst="rect">
                <a:avLst/>
              </a:prstGeom>
              <a:gradFill rotWithShape="0">
                <a:gsLst>
                  <a:gs pos="0">
                    <a:srgbClr val="0080ae"/>
                  </a:gs>
                  <a:gs pos="50000">
                    <a:srgbClr val="00b0f0"/>
                  </a:gs>
                  <a:gs pos="100000">
                    <a:srgbClr val="0080a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72" name="未知"/>
              <p:cNvSpPr/>
              <p:nvPr/>
            </p:nvSpPr>
            <p:spPr>
              <a:xfrm>
                <a:off x="3419280" y="3949560"/>
                <a:ext cx="3833640" cy="544680"/>
              </a:xfrm>
              <a:custGeom>
                <a:avLst/>
                <a:gdLst/>
                <a:ahLst/>
                <a:rect l="l" t="t" r="r" b="b"/>
                <a:pathLst>
                  <a:path w="2048" h="286">
                    <a:moveTo>
                      <a:pt x="1742" y="286"/>
                    </a:moveTo>
                    <a:lnTo>
                      <a:pt x="0" y="286"/>
                    </a:lnTo>
                    <a:lnTo>
                      <a:pt x="446" y="0"/>
                    </a:lnTo>
                    <a:lnTo>
                      <a:pt x="2048" y="0"/>
                    </a:lnTo>
                    <a:lnTo>
                      <a:pt x="1742" y="286"/>
                    </a:lnTo>
                    <a:close/>
                  </a:path>
                </a:pathLst>
              </a:custGeom>
              <a:solidFill>
                <a:srgbClr val="afb2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73" name="Rectangle 29"/>
              <p:cNvSpPr/>
              <p:nvPr/>
            </p:nvSpPr>
            <p:spPr>
              <a:xfrm>
                <a:off x="3422520" y="4492800"/>
                <a:ext cx="3263760" cy="298440"/>
              </a:xfrm>
              <a:prstGeom prst="rect">
                <a:avLst/>
              </a:prstGeom>
              <a:gradFill rotWithShape="0">
                <a:gsLst>
                  <a:gs pos="0">
                    <a:srgbClr val="7f8183"/>
                  </a:gs>
                  <a:gs pos="50000">
                    <a:srgbClr val="afb2b4"/>
                  </a:gs>
                  <a:gs pos="100000">
                    <a:srgbClr val="7f818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74" name="Rectangle 30"/>
              <p:cNvSpPr/>
              <p:nvPr/>
            </p:nvSpPr>
            <p:spPr>
              <a:xfrm>
                <a:off x="2590560" y="5329080"/>
                <a:ext cx="3513240" cy="297000"/>
              </a:xfrm>
              <a:prstGeom prst="rect">
                <a:avLst/>
              </a:prstGeom>
              <a:gradFill rotWithShape="0">
                <a:gsLst>
                  <a:gs pos="0">
                    <a:srgbClr val="066897"/>
                  </a:gs>
                  <a:gs pos="50000">
                    <a:srgbClr val="0890d0"/>
                  </a:gs>
                  <a:gs pos="100000">
                    <a:srgbClr val="0668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90d0"/>
                </a:solidFill>
                <a:latin typeface="微软雅黑"/>
              </a:rPr>
              <a:t>Diagram</a:t>
            </a: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  <p:grpSp>
        <p:nvGrpSpPr>
          <p:cNvPr id="776" name="Group 3"/>
          <p:cNvGrpSpPr/>
          <p:nvPr/>
        </p:nvGrpSpPr>
        <p:grpSpPr>
          <a:xfrm>
            <a:off x="914400" y="1219320"/>
            <a:ext cx="7315200" cy="5018760"/>
            <a:chOff x="914400" y="1219320"/>
            <a:chExt cx="7315200" cy="5018760"/>
          </a:xfrm>
        </p:grpSpPr>
        <p:sp>
          <p:nvSpPr>
            <p:cNvPr id="777" name="未知"/>
            <p:cNvSpPr/>
            <p:nvPr/>
          </p:nvSpPr>
          <p:spPr>
            <a:xfrm>
              <a:off x="5073480" y="1219320"/>
              <a:ext cx="1467000" cy="11552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17b7f1">
                    <a:alpha val="32156"/>
                  </a:srgbClr>
                </a:gs>
                <a:gs pos="100000">
                  <a:srgbClr val="00b0f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78" name="AutoShape 5"/>
            <p:cNvSpPr/>
            <p:nvPr/>
          </p:nvSpPr>
          <p:spPr>
            <a:xfrm>
              <a:off x="3424320" y="265248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2d9c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79" name="AutoShape 6"/>
            <p:cNvSpPr/>
            <p:nvPr/>
          </p:nvSpPr>
          <p:spPr>
            <a:xfrm>
              <a:off x="3657600" y="251424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5484a"/>
                </a:gs>
                <a:gs pos="50000">
                  <a:srgbClr val="2d9c9f"/>
                </a:gs>
                <a:gs pos="100000">
                  <a:srgbClr val="1548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0" name="AutoShape 7"/>
            <p:cNvSpPr/>
            <p:nvPr/>
          </p:nvSpPr>
          <p:spPr>
            <a:xfrm flipH="1">
              <a:off x="5333400" y="2590560"/>
              <a:ext cx="73080" cy="1440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1" name="AutoShape 8"/>
            <p:cNvSpPr/>
            <p:nvPr/>
          </p:nvSpPr>
          <p:spPr>
            <a:xfrm flipH="1">
              <a:off x="3742560" y="2581200"/>
              <a:ext cx="71640" cy="1440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2" name="AutoShape 9"/>
            <p:cNvSpPr/>
            <p:nvPr/>
          </p:nvSpPr>
          <p:spPr>
            <a:xfrm>
              <a:off x="5934240" y="2151000"/>
              <a:ext cx="2295360" cy="315540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400"/>
                <a:gd name="textAreaBottom" fmla="*/ 3124080 h 3155400"/>
              </a:gdLst>
              <a:ahLst/>
              <a:rect l="textAreaLeft" t="textAreaTop" r="textAreaRight" b="textAreaBottom"/>
              <a:pathLst>
                <a:path w="21600" h="29692">
                  <a:moveTo>
                    <a:pt x="1013" y="0"/>
                  </a:moveTo>
                  <a:arcTo wR="1013" hR="1013" stAng="16200000" swAng="-5400000"/>
                  <a:lnTo>
                    <a:pt x="0" y="28679"/>
                  </a:lnTo>
                  <a:arcTo wR="1013" hR="1013" stAng="10800000" swAng="-5400000"/>
                  <a:lnTo>
                    <a:pt x="20587" y="29692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3" name="AutoShape 10"/>
            <p:cNvSpPr/>
            <p:nvPr/>
          </p:nvSpPr>
          <p:spPr>
            <a:xfrm>
              <a:off x="6149880" y="200808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516f"/>
                </a:gs>
                <a:gs pos="50000">
                  <a:srgbClr val="00b0f0"/>
                </a:gs>
                <a:gs pos="100000">
                  <a:srgbClr val="0051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4" name="AutoShape 11"/>
            <p:cNvSpPr/>
            <p:nvPr/>
          </p:nvSpPr>
          <p:spPr>
            <a:xfrm flipH="1">
              <a:off x="7835040" y="2079360"/>
              <a:ext cx="71640" cy="1425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5" name="AutoShape 12"/>
            <p:cNvSpPr/>
            <p:nvPr/>
          </p:nvSpPr>
          <p:spPr>
            <a:xfrm flipH="1">
              <a:off x="6253200" y="2079360"/>
              <a:ext cx="71280" cy="1425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6" name="未知"/>
            <p:cNvSpPr/>
            <p:nvPr/>
          </p:nvSpPr>
          <p:spPr>
            <a:xfrm>
              <a:off x="2492280" y="1720440"/>
              <a:ext cx="1467000" cy="11570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d1d3d4">
                    <a:alpha val="32156"/>
                  </a:srgbClr>
                </a:gs>
                <a:gs pos="100000">
                  <a:srgbClr val="afb2b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7" name="Text Box 14"/>
            <p:cNvSpPr/>
            <p:nvPr/>
          </p:nvSpPr>
          <p:spPr>
            <a:xfrm>
              <a:off x="3913200" y="248580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8" name="Text Box 15"/>
            <p:cNvSpPr/>
            <p:nvPr/>
          </p:nvSpPr>
          <p:spPr>
            <a:xfrm>
              <a:off x="6427800" y="199044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789" name="Group 16"/>
            <p:cNvGrpSpPr/>
            <p:nvPr/>
          </p:nvGrpSpPr>
          <p:grpSpPr>
            <a:xfrm>
              <a:off x="914400" y="2914560"/>
              <a:ext cx="2295360" cy="3323520"/>
              <a:chOff x="914400" y="2914560"/>
              <a:chExt cx="2295360" cy="3323520"/>
            </a:xfrm>
          </p:grpSpPr>
          <p:sp>
            <p:nvSpPr>
              <p:cNvPr id="790" name="AutoShape 17"/>
              <p:cNvSpPr/>
              <p:nvPr/>
            </p:nvSpPr>
            <p:spPr>
              <a:xfrm>
                <a:off x="914400" y="3082320"/>
                <a:ext cx="2295360" cy="3155760"/>
              </a:xfrm>
              <a:custGeom>
                <a:avLst/>
                <a:gdLst>
                  <a:gd name="textAreaLeft" fmla="*/ 31320 w 2295360"/>
                  <a:gd name="textAreaRight" fmla="*/ 2264040 w 2295360"/>
                  <a:gd name="textAreaTop" fmla="*/ 31320 h 3155760"/>
                  <a:gd name="textAreaBottom" fmla="*/ 3124440 h 3155760"/>
                </a:gdLst>
                <a:ahLst/>
                <a:rect l="textAreaLeft" t="textAreaTop" r="textAreaRight" b="textAreaBottom"/>
                <a:pathLst>
                  <a:path w="21600" h="29695">
                    <a:moveTo>
                      <a:pt x="1013" y="0"/>
                    </a:moveTo>
                    <a:arcTo wR="1013" hR="1013" stAng="16200000" swAng="-5400000"/>
                    <a:lnTo>
                      <a:pt x="0" y="28682"/>
                    </a:lnTo>
                    <a:arcTo wR="1013" hR="1013" stAng="10800000" swAng="-5400000"/>
                    <a:lnTo>
                      <a:pt x="20587" y="29695"/>
                    </a:lnTo>
                    <a:arcTo wR="1013" hR="1013" stAng="5400000" swAng="-5400000"/>
                    <a:lnTo>
                      <a:pt x="21600" y="1013"/>
                    </a:lnTo>
                    <a:arcTo wR="1013" hR="1013" stAng="0" swAng="-5400000"/>
                    <a:close/>
                  </a:path>
                </a:pathLst>
              </a:custGeom>
              <a:noFill/>
              <a:ln w="57240">
                <a:solidFill>
                  <a:srgbClr val="afb2b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91" name="AutoShape 18"/>
              <p:cNvSpPr/>
              <p:nvPr/>
            </p:nvSpPr>
            <p:spPr>
              <a:xfrm>
                <a:off x="1130400" y="2939760"/>
                <a:ext cx="1863720" cy="286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444546"/>
                  </a:gs>
                  <a:gs pos="50000">
                    <a:srgbClr val="afb2b4"/>
                  </a:gs>
                  <a:gs pos="100000">
                    <a:srgbClr val="44454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92" name="AutoShape 19"/>
              <p:cNvSpPr/>
              <p:nvPr/>
            </p:nvSpPr>
            <p:spPr>
              <a:xfrm flipH="1">
                <a:off x="2813760" y="3011040"/>
                <a:ext cx="71640" cy="1440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93" name="AutoShape 20"/>
              <p:cNvSpPr/>
              <p:nvPr/>
            </p:nvSpPr>
            <p:spPr>
              <a:xfrm flipH="1">
                <a:off x="1231200" y="3011040"/>
                <a:ext cx="73080" cy="1440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94" name="Text Box 21"/>
              <p:cNvSpPr/>
              <p:nvPr/>
            </p:nvSpPr>
            <p:spPr>
              <a:xfrm>
                <a:off x="1398600" y="2914560"/>
                <a:ext cx="131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Add Your Title</a:t>
                </a:r>
                <a:endParaRPr b="0" lang="en-US" sz="1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95" name="Text Box 22"/>
              <p:cNvSpPr/>
              <p:nvPr/>
            </p:nvSpPr>
            <p:spPr>
              <a:xfrm>
                <a:off x="990720" y="3342960"/>
                <a:ext cx="213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is a Design Digital Content &amp; Contents mall developed by Guild Design Inc.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796" name="Text Box 23"/>
            <p:cNvSpPr/>
            <p:nvPr/>
          </p:nvSpPr>
          <p:spPr>
            <a:xfrm>
              <a:off x="3505320" y="288576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7" name="Text Box 24"/>
            <p:cNvSpPr/>
            <p:nvPr/>
          </p:nvSpPr>
          <p:spPr>
            <a:xfrm>
              <a:off x="6019920" y="235260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2"/>
          <p:cNvGrpSpPr/>
          <p:nvPr/>
        </p:nvGrpSpPr>
        <p:grpSpPr>
          <a:xfrm>
            <a:off x="1666800" y="1274760"/>
            <a:ext cx="5495760" cy="5125680"/>
            <a:chOff x="1666800" y="1274760"/>
            <a:chExt cx="5495760" cy="5125680"/>
          </a:xfrm>
        </p:grpSpPr>
        <p:sp>
          <p:nvSpPr>
            <p:cNvPr id="799" name="Rectangle 3"/>
            <p:cNvSpPr/>
            <p:nvPr/>
          </p:nvSpPr>
          <p:spPr>
            <a:xfrm rot="13770000">
              <a:off x="4868640" y="3757680"/>
              <a:ext cx="977040" cy="188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0" name="Rectangle 4"/>
            <p:cNvSpPr/>
            <p:nvPr/>
          </p:nvSpPr>
          <p:spPr>
            <a:xfrm rot="20856000">
              <a:off x="2925000" y="3299040"/>
              <a:ext cx="995760" cy="175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1" name="Rectangle 5"/>
            <p:cNvSpPr/>
            <p:nvPr/>
          </p:nvSpPr>
          <p:spPr>
            <a:xfrm rot="18394200">
              <a:off x="4998960" y="2181240"/>
              <a:ext cx="607320" cy="131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802" name="Group 6"/>
            <p:cNvGrpSpPr/>
            <p:nvPr/>
          </p:nvGrpSpPr>
          <p:grpSpPr>
            <a:xfrm>
              <a:off x="3852000" y="2219400"/>
              <a:ext cx="1589040" cy="1619280"/>
              <a:chOff x="3852000" y="2219400"/>
              <a:chExt cx="1589040" cy="1619280"/>
            </a:xfrm>
          </p:grpSpPr>
          <p:grpSp>
            <p:nvGrpSpPr>
              <p:cNvPr id="803" name="Group 7"/>
              <p:cNvGrpSpPr/>
              <p:nvPr/>
            </p:nvGrpSpPr>
            <p:grpSpPr>
              <a:xfrm>
                <a:off x="3852000" y="2219400"/>
                <a:ext cx="1589040" cy="1619280"/>
                <a:chOff x="3852000" y="2219400"/>
                <a:chExt cx="1589040" cy="1619280"/>
              </a:xfrm>
            </p:grpSpPr>
            <p:sp>
              <p:nvSpPr>
                <p:cNvPr id="804" name="Oval 8"/>
                <p:cNvSpPr/>
                <p:nvPr/>
              </p:nvSpPr>
              <p:spPr>
                <a:xfrm>
                  <a:off x="3852000" y="2219400"/>
                  <a:ext cx="1589040" cy="1619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b2b4"/>
                    </a:gs>
                    <a:gs pos="100000">
                      <a:srgbClr val="2b2b2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805" name="未知"/>
                <p:cNvSpPr/>
                <p:nvPr/>
              </p:nvSpPr>
              <p:spPr>
                <a:xfrm>
                  <a:off x="4033440" y="2246040"/>
                  <a:ext cx="1225800" cy="6109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afb2b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6" name="Text Box 10"/>
              <p:cNvSpPr/>
              <p:nvPr/>
            </p:nvSpPr>
            <p:spPr>
              <a:xfrm>
                <a:off x="3927600" y="292320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807" name="Group 11"/>
            <p:cNvGrpSpPr/>
            <p:nvPr/>
          </p:nvGrpSpPr>
          <p:grpSpPr>
            <a:xfrm>
              <a:off x="5239800" y="1274760"/>
              <a:ext cx="909360" cy="877320"/>
              <a:chOff x="5239800" y="1274760"/>
              <a:chExt cx="909360" cy="877320"/>
            </a:xfrm>
          </p:grpSpPr>
          <p:grpSp>
            <p:nvGrpSpPr>
              <p:cNvPr id="808" name="Group 12"/>
              <p:cNvGrpSpPr/>
              <p:nvPr/>
            </p:nvGrpSpPr>
            <p:grpSpPr>
              <a:xfrm>
                <a:off x="5242320" y="1274760"/>
                <a:ext cx="860400" cy="877320"/>
                <a:chOff x="5242320" y="1274760"/>
                <a:chExt cx="860400" cy="877320"/>
              </a:xfrm>
            </p:grpSpPr>
            <p:sp>
              <p:nvSpPr>
                <p:cNvPr id="809" name="Oval 13"/>
                <p:cNvSpPr/>
                <p:nvPr/>
              </p:nvSpPr>
              <p:spPr>
                <a:xfrm>
                  <a:off x="5242320" y="1274760"/>
                  <a:ext cx="860400" cy="877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890d0"/>
                    </a:gs>
                    <a:gs pos="100000">
                      <a:srgbClr val="022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810" name="未知"/>
                <p:cNvSpPr/>
                <p:nvPr/>
              </p:nvSpPr>
              <p:spPr>
                <a:xfrm>
                  <a:off x="5340600" y="1289160"/>
                  <a:ext cx="663840" cy="3312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890d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1" name="Text Box 15"/>
              <p:cNvSpPr/>
              <p:nvPr/>
            </p:nvSpPr>
            <p:spPr>
              <a:xfrm>
                <a:off x="5239800" y="1611720"/>
                <a:ext cx="909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Concept</a:t>
                </a:r>
                <a:endParaRPr b="0" lang="en-US" sz="1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812" name="Group 16"/>
            <p:cNvGrpSpPr/>
            <p:nvPr/>
          </p:nvGrpSpPr>
          <p:grpSpPr>
            <a:xfrm>
              <a:off x="1666800" y="2556720"/>
              <a:ext cx="1721520" cy="1821960"/>
              <a:chOff x="1666800" y="2556720"/>
              <a:chExt cx="1721520" cy="1821960"/>
            </a:xfrm>
          </p:grpSpPr>
          <p:grpSp>
            <p:nvGrpSpPr>
              <p:cNvPr id="813" name="Group 17"/>
              <p:cNvGrpSpPr/>
              <p:nvPr/>
            </p:nvGrpSpPr>
            <p:grpSpPr>
              <a:xfrm>
                <a:off x="1666800" y="2556720"/>
                <a:ext cx="1721520" cy="1821960"/>
                <a:chOff x="1666800" y="2556720"/>
                <a:chExt cx="1721520" cy="1821960"/>
              </a:xfrm>
            </p:grpSpPr>
            <p:sp>
              <p:nvSpPr>
                <p:cNvPr id="814" name="Oval 18"/>
                <p:cNvSpPr/>
                <p:nvPr/>
              </p:nvSpPr>
              <p:spPr>
                <a:xfrm>
                  <a:off x="1666800" y="2556720"/>
                  <a:ext cx="1721520" cy="1821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d9c9f"/>
                    </a:gs>
                    <a:gs pos="100000">
                      <a:srgbClr val="1d636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815" name="未知"/>
                <p:cNvSpPr/>
                <p:nvPr/>
              </p:nvSpPr>
              <p:spPr>
                <a:xfrm>
                  <a:off x="1863360" y="2586960"/>
                  <a:ext cx="1328040" cy="687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2d9c9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6" name="Text Box 20"/>
              <p:cNvSpPr/>
              <p:nvPr/>
            </p:nvSpPr>
            <p:spPr>
              <a:xfrm>
                <a:off x="1749960" y="336636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817" name="Group 21"/>
            <p:cNvGrpSpPr/>
            <p:nvPr/>
          </p:nvGrpSpPr>
          <p:grpSpPr>
            <a:xfrm>
              <a:off x="5176080" y="3906360"/>
              <a:ext cx="1986480" cy="2024280"/>
              <a:chOff x="5176080" y="3906360"/>
              <a:chExt cx="1986480" cy="2024280"/>
            </a:xfrm>
          </p:grpSpPr>
          <p:grpSp>
            <p:nvGrpSpPr>
              <p:cNvPr id="818" name="Group 22"/>
              <p:cNvGrpSpPr/>
              <p:nvPr/>
            </p:nvGrpSpPr>
            <p:grpSpPr>
              <a:xfrm>
                <a:off x="5176080" y="3906360"/>
                <a:ext cx="1986480" cy="2024280"/>
                <a:chOff x="5176080" y="3906360"/>
                <a:chExt cx="1986480" cy="2024280"/>
              </a:xfrm>
            </p:grpSpPr>
            <p:sp>
              <p:nvSpPr>
                <p:cNvPr id="819" name="Oval 23"/>
                <p:cNvSpPr/>
                <p:nvPr/>
              </p:nvSpPr>
              <p:spPr>
                <a:xfrm>
                  <a:off x="5176080" y="3906360"/>
                  <a:ext cx="1986480" cy="202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b0f0"/>
                    </a:gs>
                    <a:gs pos="100000">
                      <a:srgbClr val="005a7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820" name="未知"/>
                <p:cNvSpPr/>
                <p:nvPr/>
              </p:nvSpPr>
              <p:spPr>
                <a:xfrm>
                  <a:off x="5402880" y="3939840"/>
                  <a:ext cx="1532520" cy="7639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b0f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821" name="Text Box 25"/>
              <p:cNvSpPr/>
              <p:nvPr/>
            </p:nvSpPr>
            <p:spPr>
              <a:xfrm>
                <a:off x="5449320" y="478476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822" name="Oval 26"/>
            <p:cNvSpPr/>
            <p:nvPr/>
          </p:nvSpPr>
          <p:spPr>
            <a:xfrm>
              <a:off x="1865160" y="4446360"/>
              <a:ext cx="1398600" cy="4694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23" name="Oval 27"/>
            <p:cNvSpPr/>
            <p:nvPr/>
          </p:nvSpPr>
          <p:spPr>
            <a:xfrm>
              <a:off x="3984120" y="3841920"/>
              <a:ext cx="1400040" cy="4694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24" name="Oval 28"/>
            <p:cNvSpPr/>
            <p:nvPr/>
          </p:nvSpPr>
          <p:spPr>
            <a:xfrm>
              <a:off x="5507640" y="5931000"/>
              <a:ext cx="1398600" cy="4694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25" name="Oval 29"/>
            <p:cNvSpPr/>
            <p:nvPr/>
          </p:nvSpPr>
          <p:spPr>
            <a:xfrm>
              <a:off x="5374800" y="2219400"/>
              <a:ext cx="641520" cy="2347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15800" y="253800"/>
            <a:ext cx="8291520" cy="70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90d0"/>
                </a:solidFill>
                <a:latin typeface="微软雅黑"/>
              </a:rPr>
              <a:t>Marketing Diagram</a:t>
            </a:r>
            <a:endParaRPr b="1" lang="en-US" sz="3200" spc="-1" strike="noStrike">
              <a:solidFill>
                <a:srgbClr val="0890d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2:50:18Z</dcterms:modified>
  <cp:revision>71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