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150-D5FF-4808-A9A4-842F208553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3FA-D579-43CF-9D8C-6A9BF7D3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A5C-701B-466E-B89B-EF6F366A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3D1-B607-460F-ADB4-38682031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4C1-12D7-4B38-BF54-70A0A1AE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A92A-65DA-43FB-9EE3-E185E2C0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84A0-AB34-4D7A-85E6-5B7E0AA3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2641-E03F-4B24-9E7C-62B60F9B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789D-549F-4FC9-8224-64F2CDE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D618-F037-4ECB-A5AD-6A38D7EF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1E5-78D8-42CD-961A-72C5D503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B4AF-8AEA-418E-9054-C0E7398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579-F06B-40C1-B4EF-57D7DFF1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405-7BBA-4474-898A-C183EA0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541A-1445-4661-B3D4-5DE0FD47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92F8-8B45-4909-9CC9-E05B57D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C8D-0CC7-4265-A318-7DBEF7E7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81A-0F02-4976-B419-A460DF58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079-8C7E-4E3B-A258-571A07F4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6AD-4025-428D-9470-3F95325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211-6980-4E8A-816C-3F999675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ADF-EEA8-404C-A991-4033C79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484-C6DB-4531-A920-65AB3648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2F4-D10A-4F40-9057-86A9F74D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021-C833-4164-AB50-E13F4E3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B9A-25CC-45D3-BF4D-F6D512F735B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35B6-ABD5-461B-B269-5241351EFB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3.xml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封面人物"/>
          <p:cNvPicPr/>
          <p:nvPr/>
        </p:nvPicPr>
        <p:blipFill>
          <a:blip r:embed="rId2"/>
          <a:srcRect l="49639" t="0" r="0" b="0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砚台"/>
          <p:cNvPicPr/>
          <p:nvPr/>
        </p:nvPicPr>
        <p:blipFill>
          <a:blip r:embed="rId3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封面圈点"/>
          <p:cNvPicPr/>
          <p:nvPr/>
        </p:nvPicPr>
        <p:blipFill>
          <a:blip r:embed="rId4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封面竖条"/>
          <p:cNvPicPr/>
          <p:nvPr/>
        </p:nvPicPr>
        <p:blipFill>
          <a:blip r:embed="rId5"/>
          <a:srcRect l="36732" t="51280" r="58147" b="3591"/>
          <a:stretch/>
        </p:blipFill>
        <p:spPr>
          <a:xfrm>
            <a:off x="3254400" y="3598920"/>
            <a:ext cx="468360" cy="3095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183120" y="3633840"/>
            <a:ext cx="12776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主讲人：孙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边框"/>
          <p:cNvPicPr/>
          <p:nvPr/>
        </p:nvPicPr>
        <p:blipFill>
          <a:blip r:embed="rId6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目录牌子">
            <a:hlinkClick r:id="rId3" action="ppaction://hlinksldjump"/>
          </p:cNvPr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22669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目录牌子"/>
          <p:cNvPicPr/>
          <p:nvPr/>
        </p:nvPicPr>
        <p:blipFill>
          <a:blip r:embed="rId5"/>
          <a:srcRect l="45081" t="55486" r="44908" b="10721"/>
          <a:stretch/>
        </p:blipFill>
        <p:spPr>
          <a:xfrm>
            <a:off x="6116760" y="3500280"/>
            <a:ext cx="915840" cy="2318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>
            <a:hlinkClick r:id="rId6" action="ppaction://hlinksldjump"/>
          </p:cNvPr>
          <p:cNvSpPr/>
          <p:nvPr/>
        </p:nvSpPr>
        <p:spPr>
          <a:xfrm>
            <a:off x="198756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5920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84352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汉仪方隶简"/>
                <a:ea typeface="汉仪方隶简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内容返回">
            <a:hlinkClick r:id="rId2" action="ppaction://hlinksldjump"/>
          </p:cNvPr>
          <p:cNvPicPr/>
          <p:nvPr/>
        </p:nvPicPr>
        <p:blipFill>
          <a:blip r:embed="rId3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过渡圈点"/>
          <p:cNvPicPr/>
          <p:nvPr/>
        </p:nvPicPr>
        <p:blipFill>
          <a:blip r:embed="rId4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过渡横条"/>
          <p:cNvPicPr/>
          <p:nvPr/>
        </p:nvPicPr>
        <p:blipFill>
          <a:blip r:embed="rId5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         </a:t>
            </a: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边框"/>
          <p:cNvPicPr/>
          <p:nvPr/>
        </p:nvPicPr>
        <p:blipFill>
          <a:blip r:embed="rId3"/>
          <a:stretch/>
        </p:blipFill>
        <p:spPr>
          <a:xfrm>
            <a:off x="0" y="-144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结束返回"/>
          <p:cNvPicPr/>
          <p:nvPr/>
        </p:nvPicPr>
        <p:blipFill>
          <a:blip r:embed="rId6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封面竖条"/>
          <p:cNvPicPr/>
          <p:nvPr/>
        </p:nvPicPr>
        <p:blipFill>
          <a:blip r:embed="rId7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27" name="矩形 11"/>
          <p:cNvSpPr/>
          <p:nvPr/>
        </p:nvSpPr>
        <p:spPr>
          <a:xfrm>
            <a:off x="7380360" y="332424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760560" y="3573360"/>
            <a:ext cx="729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谢谢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5:41Z</dcterms:modified>
  <cp:revision>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